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FD0-3E4C-493F-B02C-99597ADF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52F-892C-4BEA-B90F-7CC744D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791-28F9-4FE8-8894-2CECC4B2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2B5-65D4-4381-BD0A-F1704230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E43-AFBD-4B80-92B1-96563124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DCD3-A301-41CC-8472-E332C02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0AD-9A7A-4111-AF97-AC8B8453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30CE-73A7-4E04-A238-60C61E4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C23-470B-40C8-8900-655DE500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106-BBD8-4AB3-87A7-AF93E092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DE7-54A3-4B40-A389-61D97934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31D-841E-4D90-9013-9479A068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4B61-BEBA-4999-BE33-4288005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19BA-DD4E-47BE-9849-8FBD1F4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09B4-FE90-4A9E-BEE9-3963EBF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DE3-1595-4416-9185-3B684BE0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A63-B0FB-4FC1-A10F-ED70E9E7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AB8-5D43-4302-9985-AF28EED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2B2-443F-47FD-892C-829BF95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8DA-82B4-40D7-A1AD-583CC9A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D48-67CD-4816-A5F1-0162153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714-09A1-4346-8BE3-29645E6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66-E3D6-4A17-8A37-8259E61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E3B-B6FA-4CFC-AEB3-2BFB6BE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F90-984A-443F-9850-394A76FCFE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CA5-A58F-49BD-813F-48BA85B40F4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914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Грудное вскармливание: трудности организации и пути преодол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352320" y="502884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Доклад подготовил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тарший фельдшер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учебно-методического кабине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БУЗОО «ДГП № 2 им. Скворцова В.Е.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валева Светлана Владимиров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7" descr="grud_vskm"/>
          <p:cNvPicPr/>
          <p:nvPr/>
        </p:nvPicPr>
        <p:blipFill>
          <a:blip r:embed="rId1"/>
          <a:stretch/>
        </p:blipFill>
        <p:spPr>
          <a:xfrm>
            <a:off x="152280" y="3352680"/>
            <a:ext cx="2830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Организационны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ннее прикладывание к груд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местное пребывание в роддом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вободное вскармливание с первых часов жизни ребен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ощь со стороны медицинского персонала родильных домов и детских поликлиник в поддержке лактации и при возникающих проблема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акторы, способствующие поддержке полноценной лакт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ричины перевода детей на смешанное и искусственное вскармливание (в %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Object 6"/>
          <p:cNvGraphicFramePr/>
          <p:nvPr/>
        </p:nvGraphicFramePr>
        <p:xfrm>
          <a:off x="304920" y="2209680"/>
          <a:ext cx="8534160" cy="383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09680"/>
                    <a:ext cx="853416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акторы, связанные с кормлением грудь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сихологические и социальные факто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изическое состояние матер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стояние здоровья ребен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52280" y="1295280"/>
            <a:ext cx="883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сновные группы причин, по которым ребенок получает недостаточное количество молок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достаточно организована работа по формированию доминанты грудного вскармли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сутствие единой программы подготовки семейных пар к рождению ребен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достаточные знания медицинскими работниками способов стимуляции лактац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сутствие помощи в поддержке грудного вскармли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ипердиагностика гипогалакт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ипердиагностика пищевой непереносимости и лактазной недостаточности у де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сновные проблемы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ведение курса обучения в области грудного вскармливания, включая практическое занятие для всех медицинских работников организ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ги преодоления проблем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6" descr="DSC06484"/>
          <p:cNvPicPr/>
          <p:nvPr/>
        </p:nvPicPr>
        <p:blipFill>
          <a:blip r:embed="rId2"/>
          <a:stretch/>
        </p:blipFill>
        <p:spPr>
          <a:xfrm>
            <a:off x="4114800" y="27432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Разработка и внедрение в работу алгоритма «Профилактика и лечение гипогалакти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152280" y="9907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ги преодоления проблем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9" name="Picture 6" descr="Медсестра показывает молодой матери, как кормить ребенка грудью"/>
          <p:cNvPicPr/>
          <p:nvPr/>
        </p:nvPicPr>
        <p:blipFill>
          <a:blip r:embed="rId2"/>
          <a:stretch/>
        </p:blipFill>
        <p:spPr>
          <a:xfrm>
            <a:off x="1066680" y="3857760"/>
            <a:ext cx="4191120" cy="2771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neonatolog"/>
          <p:cNvPicPr/>
          <p:nvPr/>
        </p:nvPicPr>
        <p:blipFill>
          <a:blip r:embed="rId3"/>
          <a:stretch/>
        </p:blipFill>
        <p:spPr>
          <a:xfrm>
            <a:off x="5867280" y="2362320"/>
            <a:ext cx="284796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Усиление профилактической работы по пропаганде грудного вскармливания в «Школе матер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ги преодоления проблем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6" descr="20140804_150109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04920" y="3581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DSC00074"/>
          <p:cNvPicPr/>
          <p:nvPr/>
        </p:nvPicPr>
        <p:blipFill>
          <a:blip r:embed="rId3"/>
          <a:stretch/>
        </p:blipFill>
        <p:spPr>
          <a:xfrm>
            <a:off x="4724280" y="3581280"/>
            <a:ext cx="4114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Профилактическая работа со старшеклассниками в образовательных учреждения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 Разработка и внедрение памяток и брошюр для сотрудников, кормящих матерей и их сем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152280" y="10666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ги преодоления проблем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1" name="Picture 9" descr="ANd9GcTrDC4YQQPPagHQdTOL0bY4EjxCaRWdFDKhiwzII6ErBrLkHkmw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005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DSC00083"/>
          <p:cNvPicPr/>
          <p:nvPr/>
        </p:nvPicPr>
        <p:blipFill>
          <a:blip r:embed="rId3"/>
          <a:stretch/>
        </p:blipFill>
        <p:spPr>
          <a:xfrm>
            <a:off x="5715000" y="43434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6. Участие в различных акциях по пропаганде грудного вскармливания с привлечением молодых матерей и их сем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5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ги преодоления проблем в организации грудного вскармлив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6" descr="DSC00076"/>
          <p:cNvPicPr/>
          <p:nvPr/>
        </p:nvPicPr>
        <p:blipFill>
          <a:blip r:embed="rId2"/>
          <a:stretch/>
        </p:blipFill>
        <p:spPr>
          <a:xfrm>
            <a:off x="76320" y="38098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SC00073"/>
          <p:cNvPicPr/>
          <p:nvPr/>
        </p:nvPicPr>
        <p:blipFill>
          <a:blip r:embed="rId3"/>
          <a:stretch/>
        </p:blipFill>
        <p:spPr>
          <a:xfrm>
            <a:off x="3048120" y="4343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DSC00070"/>
          <p:cNvPicPr/>
          <p:nvPr/>
        </p:nvPicPr>
        <p:blipFill>
          <a:blip r:embed="rId4"/>
          <a:stretch/>
        </p:blipFill>
        <p:spPr>
          <a:xfrm>
            <a:off x="6019920" y="3809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оличество детей, получающих грудное молок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о 1 года жизни (в %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Object 7"/>
          <p:cNvGraphicFramePr/>
          <p:nvPr/>
        </p:nvGraphicFramePr>
        <p:xfrm>
          <a:off x="304920" y="2338560"/>
          <a:ext cx="8534160" cy="383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338560"/>
                    <a:ext cx="853416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02960"/>
            <a:ext cx="784872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т ничего естественнее, чем грудное вскармливание, и нет пищи лучше для малыша, чем грудное молок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6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Фото Legion-Media.Ru"/>
          <p:cNvPicPr/>
          <p:nvPr/>
        </p:nvPicPr>
        <p:blipFill>
          <a:blip r:embed="rId2"/>
          <a:stretch/>
        </p:blipFill>
        <p:spPr>
          <a:xfrm>
            <a:off x="228600" y="205740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ильная грамотная позиция медицинского работника, умелое и заинтересованное консультирование матери в «Школах здоровья», при посещении кабинета здорового ребенка, при патронаже на дому оказали огромное влияние на распространение и продолжительность грудного вскармливания на территории обслуживания наш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8600" y="53337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иклин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ANd9GcRxwrXw56puly7cIAxEXh6_JKkMVAujpshj8RPVsY2y8VEOQ_3NKw"/>
          <p:cNvPicPr/>
          <p:nvPr/>
        </p:nvPicPr>
        <p:blipFill>
          <a:blip r:embed="rId2"/>
          <a:stretch/>
        </p:blipFill>
        <p:spPr>
          <a:xfrm>
            <a:off x="6095880" y="4160880"/>
            <a:ext cx="28958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518112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лагодарю за внимание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1" name="Picture 5" descr="ANd9GcRTG9phoMDmLeqaV7whcCbgTErtpIgdrOgtAVGV4BMQMCRjbYmJpA"/>
          <p:cNvPicPr/>
          <p:nvPr/>
        </p:nvPicPr>
        <p:blipFill>
          <a:blip r:embed="rId1"/>
          <a:stretch/>
        </p:blipFill>
        <p:spPr>
          <a:xfrm>
            <a:off x="1600200" y="990720"/>
            <a:ext cx="579132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динение матери и ребенка в процессе кормления грудью оказывает неизгладимое эмоциональное воздейств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pmo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18dd0bcd0b1d0bbd0b5d0bcd18b_d18ed0bdd0b8d181d0b5d184-d0b8-d0b2d0bed0b71"/>
          <p:cNvPicPr/>
          <p:nvPr/>
        </p:nvPicPr>
        <p:blipFill>
          <a:blip r:embed="rId2"/>
          <a:stretch/>
        </p:blipFill>
        <p:spPr>
          <a:xfrm>
            <a:off x="1523880" y="3886200"/>
            <a:ext cx="6181920" cy="2486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0"/>
          <p:cNvSpPr/>
          <p:nvPr/>
        </p:nvSpPr>
        <p:spPr>
          <a:xfrm>
            <a:off x="304920" y="1295280"/>
            <a:ext cx="85341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о данным ВОЗ в 70-е годы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X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века количество матерей, кормящих грудью на первом году жизни ребенка, не превышало 5%, что не могло сказаться на состоянии здоровья детей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огласно статистике ВОЗ, самый большой процент кормящих мам в Швеции – 97%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7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ANd9GcSRhnHmRZSbM-gdU92WHgycri-cyguLv72bI8wcSj1vbiaXMMbDHA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457200" y="3505320"/>
          <a:ext cx="8229600" cy="2921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од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 рождени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 6 мес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 12 мес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,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7,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5,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2,8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2,7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9,8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,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9,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,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 мес. 201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7,4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1,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0,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180"/>
          <p:cNvSpPr/>
          <p:nvPr/>
        </p:nvSpPr>
        <p:spPr>
          <a:xfrm>
            <a:off x="45720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спространенность грудного вскармлива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 территории обслужива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БУЗОО «ДГП № 2 им. Скворцова В.Е.» (в %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184"/>
          <p:cNvSpPr/>
          <p:nvPr/>
        </p:nvSpPr>
        <p:spPr>
          <a:xfrm>
            <a:off x="152280" y="114300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 статистике, в течение первых шести месяцев жизни ребенка только 40% российских мам кормят малышей грудь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бщие негативные тенденции в области грудного вскармливания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равственная деградация части населе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нденция опоры на суррогатные вариант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клама заменителей грудного моло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Психологические и социальны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тивация женщины на материнство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отовность матерей к грудному скармливан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нание способов стимуляции лактац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нание техники и практики грудного вскармлива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ддержка в семь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зитивное отношение общества к грудному вскармливан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акторы, способствующие поддержке полноценной лакт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Бюджетное учреждение здравоохранения Ом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«Детская городская поликлиника № 2 имени Скворцова В.Е.»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Медицински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родостимуляции, предлактационных кормлений, необоснованного назначения искусственных смес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нание медицинскими работниками способов стимуляции лактац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ощь медицинского персонала в поддержке грудного вскармли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4" descr="pochemu_grud_vskarm_ly4_vibor_dly_reb"/>
          <p:cNvPicPr/>
          <p:nvPr/>
        </p:nvPicPr>
        <p:blipFill>
          <a:blip r:embed="rId1"/>
          <a:stretch/>
        </p:blipFill>
        <p:spPr>
          <a:xfrm>
            <a:off x="304920" y="152280"/>
            <a:ext cx="87444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152280" y="11430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акторы, способствующие поддержке полноценной лакт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a</cp:lastModifiedBy>
  <dcterms:modified xsi:type="dcterms:W3CDTF">2014-11-07T13:25:4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