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2464-D178-40A3-ADEE-24B33E9F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65F-C337-4199-A644-816864D5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447-7EF4-42E3-8B70-98E12144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637E-EB5F-40F6-9A80-F91FE593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3E67-0005-4980-BD08-BED0DB09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C5F7-EE62-47BE-8480-D29FC8C3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9BBF-87ED-4082-8B0C-22414324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17EB-AC49-405A-8FC3-10773E24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B227-F782-4F17-8F6E-082E5AA8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67D5-C0CA-483D-A425-40E8B621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584E-9D0A-47FA-9C97-F30AE867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72C-1456-4D06-80A9-1552F651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651A-8378-4324-A524-A9AEC591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7EEF-6A92-47CC-AAFD-C42D87A9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F15B-1C3A-4299-9CC0-C927057A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62DD-AA14-4917-8CE6-A09F4691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FEF7-7905-467E-A6EC-DB2C54B7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A23-6E30-4299-914E-44FFA4DE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676-F648-4673-95F9-4E1910BA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3BD-0A86-4BE4-B7DB-2127B759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478-3B59-4EE0-AD1B-F5DD881B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407-9312-4D9D-913E-97CDEF73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BDC-68AA-4C69-A888-D7C20792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9527-42AE-4119-B5ED-7856099D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9360" y="-9360"/>
            <a:ext cx="9156600" cy="6872040"/>
          </a:xfrm>
          <a:prstGeom prst="pie">
            <a:avLst/>
          </a:prstGeom>
          <a:gradFill rotWithShape="0">
            <a:gsLst>
              <a:gs pos="0">
                <a:srgbClr val="fffefe"/>
              </a:gs>
              <a:gs pos="100000">
                <a:srgbClr val="fee9de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4680" y="5500800"/>
            <a:ext cx="1441440" cy="1358640"/>
          </a:xfrm>
          <a:prstGeom prst="pie">
            <a:avLst/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3E0A-3946-4253-AEA4-C5BE9C556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36"/>
          <p:cNvSpPr/>
          <p:nvPr/>
        </p:nvSpPr>
        <p:spPr>
          <a:xfrm>
            <a:off x="4041720" y="0"/>
            <a:ext cx="5105520" cy="739800"/>
          </a:xfrm>
          <a:prstGeom prst="pie">
            <a:avLst/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40"/>
          <p:cNvSpPr/>
          <p:nvPr/>
        </p:nvSpPr>
        <p:spPr>
          <a:xfrm>
            <a:off x="0" y="6048360"/>
            <a:ext cx="2762280" cy="809640"/>
          </a:xfrm>
          <a:prstGeom prst="pie">
            <a:avLst/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1"/>
          <p:cNvSpPr/>
          <p:nvPr/>
        </p:nvSpPr>
        <p:spPr>
          <a:xfrm>
            <a:off x="2590920" y="4705200"/>
            <a:ext cx="6400800" cy="2152800"/>
          </a:xfrm>
          <a:prstGeom prst="pie">
            <a:avLst/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2"/>
          <p:cNvSpPr/>
          <p:nvPr/>
        </p:nvSpPr>
        <p:spPr>
          <a:xfrm>
            <a:off x="4400640" y="781200"/>
            <a:ext cx="4743360" cy="5048280"/>
          </a:xfrm>
          <a:prstGeom prst="pie">
            <a:avLst/>
          </a:pr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4800600" y="0"/>
            <a:ext cx="3276720" cy="2409840"/>
          </a:xfrm>
          <a:prstGeom prst="pie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79"/>
          <p:cNvSpPr/>
          <p:nvPr/>
        </p:nvSpPr>
        <p:spPr>
          <a:xfrm>
            <a:off x="0" y="0"/>
            <a:ext cx="6583320" cy="726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5"/>
          <p:cNvSpPr/>
          <p:nvPr/>
        </p:nvSpPr>
        <p:spPr>
          <a:xfrm>
            <a:off x="0" y="0"/>
            <a:ext cx="6372360" cy="7072200"/>
          </a:xfrm>
          <a:prstGeom prst="pie">
            <a:avLst/>
          </a:prstGeom>
          <a:gradFill rotWithShape="0">
            <a:gsLst>
              <a:gs pos="0">
                <a:srgbClr val="fff9f7"/>
              </a:gs>
              <a:gs pos="100000">
                <a:srgbClr val="fee9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4"/>
          <p:cNvSpPr/>
          <p:nvPr/>
        </p:nvSpPr>
        <p:spPr>
          <a:xfrm>
            <a:off x="2365200" y="4541760"/>
            <a:ext cx="1009800" cy="1033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8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66"/>
            <p:cNvSpPr/>
            <p:nvPr/>
          </p:nvSpPr>
          <p:spPr>
            <a:xfrm>
              <a:off x="8077320" y="0"/>
              <a:ext cx="1066680" cy="111456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7"/>
            <p:cNvSpPr/>
            <p:nvPr/>
          </p:nvSpPr>
          <p:spPr>
            <a:xfrm>
              <a:off x="8893080" y="5549760"/>
              <a:ext cx="260280" cy="130824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3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FC05-39F2-48E1-A907-DC6F2560E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3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Лечебная физкультура и медицинский массаж при рецидивирующих респираторных заболеваниях»</a:t>
            </a:r>
            <a:br>
              <a:rPr sz="34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Инструктор-методист по ЛФК ОР №2</a:t>
            </a:r>
            <a:br>
              <a:rPr sz="2500"/>
            </a:br>
            <a:r>
              <a:rPr b="1" lang="ru-RU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Миллер Антонина Юрьевна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0" name="Picture 4" descr="ОПСА"/>
          <p:cNvPicPr/>
          <p:nvPr/>
        </p:nvPicPr>
        <p:blipFill>
          <a:blip r:embed="rId1"/>
          <a:stretch/>
        </p:blipFill>
        <p:spPr>
          <a:xfrm>
            <a:off x="428760" y="4143240"/>
            <a:ext cx="1143000" cy="16257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" descr="\\S01\документы\Школа массажа\ШрейдерТФ\Документация\логотип.jpg"/>
          <p:cNvPicPr/>
          <p:nvPr/>
        </p:nvPicPr>
        <p:blipFill>
          <a:blip r:embed="rId2"/>
          <a:stretch/>
        </p:blipFill>
        <p:spPr>
          <a:xfrm>
            <a:off x="7500960" y="142920"/>
            <a:ext cx="109548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onstantia"/>
              </a:rPr>
              <a:t>Занятия лечебной гимнастикой.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Используются все средства и методы ЛГ с учетом текущего периода лечебного курса. </a:t>
            </a:r>
            <a:r>
              <a:rPr b="0" lang="ru-RU" sz="3200" spc="-1" strike="noStrike" u="sng">
                <a:solidFill>
                  <a:srgbClr val="0070c0"/>
                </a:solidFill>
                <a:uFillTx/>
                <a:latin typeface="Constantia"/>
              </a:rPr>
              <a:t>Задача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– коррекция функциональных нарушений, развившихся в организме больного в результате заболевания. Применяется в условиях любой медицинской организ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Для расширения функциональных резервов дыхательной системы, тренировки дыхательной мускулатуры, активизации лимфо- и кровообращения в бронхолегочной системе используют нагрузку на дыхательный аппарат, которая может осуществляться как непосредственно, так и опосредова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Различают три типа дыхания: </a:t>
            </a:r>
            <a:r>
              <a:rPr b="1" lang="ru-RU" sz="3200" spc="-1" strike="noStrike">
                <a:solidFill>
                  <a:srgbClr val="0070c0"/>
                </a:solidFill>
                <a:latin typeface="Constantia"/>
              </a:rPr>
              <a:t>верхнегрудное, нижнегрудное и диафрагмальное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. Обычно тип дыхания зависит от половой принадлежности, особенностей осанки, от физической тренированности, а при заболеваниях он может меняться в зависимости от течения и локализации патологического про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nstantia"/>
              </a:rPr>
              <a:t>Верхнегрудное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характеризуется тем, что при максимальном напряжении дыхательного акта в легкие во время вдоха поступает наименьшее количество воздуха, полноценно вентилируются только верхние доли легк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nstantia"/>
              </a:rPr>
              <a:t>Нижнегрудное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, или реберное, сопровождается расширением грудной клетки на вдохе в стороны. Диафрагма напрягается (сокращается) и опуск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nstantia"/>
              </a:rPr>
              <a:t>Диафрагмальное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или брюшное дыхание наблюдается при более выраженном опускании диафрагмы в направлении брюшной полости. Грудная клетка расширяется лишь в нижних отделах, полноценно при этом вентилируются только нижние доли легк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Полное дыхание: в полноценном физиологическом акте дыхания участвуют одновременно грудной и брюшной (диафрагмальный) компоненты. При полном типе дыхания в процессе вдоха и выдоха участвуют все дыхательные мышцы (диафрагма, брюшной пресс, межреберные мышцы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nstantia"/>
              </a:rPr>
              <a:t>Общие дыхательные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упражнения улучшают вентиляцию легких и укрепляют основные дыхательные мышцы, применяются как при заболеваниях органов дыхания, так и при других соматических заболеваниях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nstantia"/>
              </a:rPr>
              <a:t>Специальные дыхательные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упражнения направлены на получение конкретного терапевтического эффекта в том или другом случае нарушения функции дыхательного аппа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nstantia"/>
              </a:rPr>
              <a:t>Статическими дыхательными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упражнениями считаются такие, при которых дыхание осуществляется без движений тела или его частей, при участии только дыхательных мышц. физической нагру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Одной из наиболее часто страдающих систем организма у детей является дыхательная система. При этом помимо хронической обструктивной болезни легких и бронхиальной астмы, критерием неполноценности ее функционирования являются и частые респираторные заболевания (Шестаков Д.В., 200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nstantia"/>
              </a:rPr>
              <a:t>Динамические дыхательные упражнения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осуществляются одновременно с движением конечностями или туловищем, при обязательной полной согласованности амплитуды и темпа выполняемых движений с фазой и глубиной дых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nstantia"/>
              </a:rPr>
              <a:t>Дренирующие дыхательные упражнения. 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Это сочетание динамических дыхательных упражнений с определенным положением тела. Дренирующие дыхательные упражнения способствуют оттоку отделяемого из бронхов в трахею с последующим выделением мокроты во время откашли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70c0"/>
                </a:solidFill>
                <a:uFillTx/>
                <a:latin typeface="Constantia"/>
              </a:rPr>
              <a:t>Постуральный дренаж.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Цель – улучшение выведения и усиление отхождения мокр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nstantia"/>
              </a:rPr>
              <a:t>Дренирующие гимнастические упражнения 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направлены на улучшение выведения мокроты. Для этого выполняют упражнения для различных групп мышц, используют частую смену исходных положений и приемы постурального дренаж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В методике наблюдения обязательно должны присутствов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- оценка уровня нагрузки по пульсовой кривой, получаемой в процессе заня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- оценка восстановления пульса, дыхания после занят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- оценка показателя общей моторной плотности занятия (от 60 до 80%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- оценка правильности методического построения занятия, соблюдение основных дидактических принцип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- оценка внешних признаков утомления, возникающих у ребенка в ответ на применение оздоровительных меропри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70c0"/>
                </a:solidFill>
                <a:uFillTx/>
                <a:latin typeface="Constantia"/>
              </a:rPr>
              <a:t>Закаливание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– это система мероприятий, направленных на повышение устойчивости генетически предопределенных механизмов защиты и приспособление организма ко многим факторам с тем, чтобы суточные и сезонные, периодические и внезапные изменения температуры, атмосферного давления и т.д. не вызывали резких изменений в растущем организ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nstantia"/>
              </a:rPr>
              <a:t>Специальные упражнения при рецидивирующих респираторных заболеваниях 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выполняются в сочетании с общеразвивающи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Задачи массажа при рецидивирующих респираторных заболевания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1. Улучшение функционального состояния дыхательной системы за счет увеличения подвижности ребер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2. Улучшение функции дыхательной мускулатур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3. Улучшение обменно-трофических процессов в легочной тка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4. Стимуляция защитных систем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70c0"/>
                </a:solidFill>
                <a:uFillTx/>
                <a:latin typeface="Constantia"/>
              </a:rPr>
              <a:t>Противопоказания к назначению медицинского массаж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nstantia"/>
              </a:rPr>
              <a:t>- при повышенной температуре те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nstantia"/>
              </a:rPr>
              <a:t>- острые лихорадочные состоя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nstantia"/>
              </a:rPr>
              <a:t>- кровоте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nstantia"/>
              </a:rPr>
              <a:t>- в периоде приступа бронхиальной аст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nstantia"/>
              </a:rPr>
              <a:t>- выраженная сердечнососудистая недостаточ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nstantia"/>
              </a:rPr>
              <a:t>- гнойные процессы любой локализ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nstantia"/>
              </a:rPr>
              <a:t>- воспаление лимфатических уз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nstantia"/>
              </a:rPr>
              <a:t>- доброкачественные и злокачественные опух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Нарушения функции внешнего дыхания при заболеваниях легких могут иметь разные механизмы. Важно понимать, что при любой нозологической форме наблюдается сочетание клинико-патогенетических синдро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nstantia"/>
              </a:rPr>
              <a:t>1. Грудной отдел позвоноч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nstantia"/>
              </a:rPr>
              <a:t>2. Шейный отдел позвоноч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nstantia"/>
              </a:rPr>
              <a:t>3. Со стороны груд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nstantia"/>
              </a:rPr>
              <a:t>Используемые приемы (поглаживание, выжимание, вибрация – 1,5-2 мин., разминание (финским стилем) – 2-6 мин. на рабочем сегмен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nstantia"/>
              </a:rPr>
              <a:t>Общее время массажа от 10,5 минут (минимальное) до 24 минут (максимально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nstantia"/>
              </a:rPr>
              <a:t>Возможные исходные положения для массажа – лежа, си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2285640"/>
            <a:ext cx="82296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асибо за внимание!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6" name="Picture 4" descr="ОПСА"/>
          <p:cNvPicPr/>
          <p:nvPr/>
        </p:nvPicPr>
        <p:blipFill>
          <a:blip r:embed="rId1"/>
          <a:stretch/>
        </p:blipFill>
        <p:spPr>
          <a:xfrm>
            <a:off x="428760" y="4143240"/>
            <a:ext cx="1143000" cy="16257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1" descr="\\S01\документы\Школа массажа\ШрейдерТФ\Документация\логотип.jpg"/>
          <p:cNvPicPr/>
          <p:nvPr/>
        </p:nvPicPr>
        <p:blipFill>
          <a:blip r:embed="rId2"/>
          <a:stretch/>
        </p:blipFill>
        <p:spPr>
          <a:xfrm>
            <a:off x="7500960" y="142920"/>
            <a:ext cx="109548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Физические нагрузки стимулируют функцию внешнего дыхания, поэтому общетонизирующие упражнения динамического характера в сочетании с дыхательными являются условно-рефлекторными раздражителями дыхательной системы и проприоцептивными регуляторами дыхательного рефлек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Задачи ЛФК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1. Оказание общеукрепляющего воздействия на все органы и системы организ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2. Улучшение функции внешнего дых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3. Укрепление дыхательной мускулату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4. Стимуляция иммунных процес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5. Восстановление правильной механики дых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6. Улучшение бронхиальной проводим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7. Обеспечение отделение мокроты и ее вывед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8. Стимуляция экстракардиальных факторов кровообращ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9. Увеличение экскурсии диафраг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10.Увеличение подвижности грудной кле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11. Повышение неспецифической сопротивляемости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Формы проведения занятий ЛФ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onstantia"/>
              </a:rPr>
              <a:t>Утренняя гигиеническая гимнастика.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Используются несложные динамические упражнения для разных мышечных групп, дыхательные упражнения. </a:t>
            </a:r>
            <a:r>
              <a:rPr b="0" lang="ru-RU" sz="3200" spc="-1" strike="noStrike" u="sng">
                <a:solidFill>
                  <a:srgbClr val="0070c0"/>
                </a:solidFill>
                <a:uFillTx/>
                <a:latin typeface="Constantia"/>
              </a:rPr>
              <a:t>Задача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– стимуляция физиологических процессов в органах и системах. Применяется при стационарном, домашнем и санаторно-курортном режиме ле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onstantia"/>
              </a:rPr>
              <a:t>Терренкур или дозированная ходьба.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Проводится на маршрутах стандартизованной протяженности и степени нагрузки. </a:t>
            </a:r>
            <a:r>
              <a:rPr b="0" lang="ru-RU" sz="3200" spc="-1" strike="noStrike" u="sng">
                <a:solidFill>
                  <a:srgbClr val="0070c0"/>
                </a:solidFill>
                <a:uFillTx/>
                <a:latin typeface="Constantia"/>
              </a:rPr>
              <a:t>Задача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– тренировка сердечно-сосудистой и дыхательной систем. Применяется в условиях ЛПУ, чаще – в санатор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onstantia"/>
              </a:rPr>
              <a:t>Прогулки, экскурсии, ближний туризм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– нагрузка дозируется, как и при терренкуре. </a:t>
            </a:r>
            <a:r>
              <a:rPr b="0" lang="ru-RU" sz="3200" spc="-1" strike="noStrike" u="sng">
                <a:solidFill>
                  <a:srgbClr val="0070c0"/>
                </a:solidFill>
                <a:uFillTx/>
                <a:latin typeface="Constantia"/>
              </a:rPr>
              <a:t>Задача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– расширение двигательного режима больных с полноценным использованием ландшафтных и климатических условий. Применяется преимущественно в санаторно-курортных учрежде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7T12:58:12Z</dcterms:created>
  <dc:creator>Admin</dc:creator>
  <dc:description/>
  <dc:language>en-US</dc:language>
  <cp:lastModifiedBy>Алексей Васильевич</cp:lastModifiedBy>
  <dcterms:modified xsi:type="dcterms:W3CDTF">2014-11-24T15:59:19Z</dcterms:modified>
  <cp:revision>34</cp:revision>
  <dc:subject/>
  <dc:title>ThemeGallery PowerTemplate</dc:title>
</cp:coreProperties>
</file>