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9A9-A5FF-4D71-93DB-C4C9A499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7EE-B752-4232-B7F4-806B672F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DEE-609D-4879-BDDE-3D6A308E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995-63A8-4150-9DFC-60E3A32B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5E2E-7EE8-4BC7-9C2D-85BE2B8F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48E9-3DA0-4914-B968-3A2E3E23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0CB5-8E9C-4CB2-AA59-EE4A3ED1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2B9C-A197-45FF-AD62-307131AB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F3BA-C03E-42F3-A5D2-F80EE91E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E1A4-0ACE-43F7-85F2-43C180F0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5855-BB19-4B0A-90DF-2740F534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F56-BCB9-4AD8-8280-962297E1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9358-82EA-4044-92F8-3B55E94D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7E37-CA97-47A9-B1B0-E3EAC04B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1F7A-A8F8-4CA5-833C-44E60702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CAE8-26ED-4EA3-BFCD-7E4271E0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6050-1540-4879-890A-36D6B586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443-253A-4E1B-831F-6BA256E6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5C0-7283-44CF-89F4-5273B157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D7D-484B-4828-869C-288BD9CD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F46-3339-401A-AA54-1DA97F0E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595-6E1E-462F-8954-92359AE6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19A-411A-4DE8-91E7-9E143630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EA7-F27D-47ED-82CC-5FC56595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64DF-0321-4698-A324-30B60E7658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6B35-7409-4675-9F10-4FEC61C21C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5580000" cy="2643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Bookman Old Style"/>
              </a:rPr>
              <a:t>Физиотерапия </a:t>
            </a:r>
            <a:br>
              <a:rPr sz="4000"/>
            </a:br>
            <a:r>
              <a:rPr b="1" i="1" lang="ru-RU" sz="4000" spc="-1" strike="noStrike">
                <a:solidFill>
                  <a:srgbClr val="ccecff"/>
                </a:solidFill>
                <a:latin typeface="Bookman Old Style"/>
              </a:rPr>
              <a:t>при рецидивирующем респираторном синдром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ицинская сестра физиотерапевтического от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скина Т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95280" y="4046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ЗОО «Центр восстановительной медицины и реабилитаци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6" descr="P1090117"/>
          <p:cNvPicPr/>
          <p:nvPr/>
        </p:nvPicPr>
        <p:blipFill>
          <a:blip r:embed="rId1"/>
          <a:stretch/>
        </p:blipFill>
        <p:spPr>
          <a:xfrm>
            <a:off x="5724360" y="1197000"/>
            <a:ext cx="3240360" cy="381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Bookman Old Style"/>
              </a:rPr>
              <a:t>ПРОТИВОПОКАЗАНИЯ </a:t>
            </a:r>
            <a:br>
              <a:rPr sz="4000"/>
            </a:br>
            <a:r>
              <a:rPr b="1" i="1" lang="ru-RU" sz="4000" spc="-1" strike="noStrike">
                <a:solidFill>
                  <a:srgbClr val="ccecff"/>
                </a:solidFill>
                <a:latin typeface="Bookman Old Style"/>
              </a:rPr>
              <a:t>ДЛЯ НАПРАВЛЕНИЯ</a:t>
            </a:r>
            <a:br>
              <a:rPr sz="4000"/>
            </a:br>
            <a:r>
              <a:rPr b="1" i="1" lang="ru-RU" sz="4000" spc="-1" strike="noStrike">
                <a:solidFill>
                  <a:srgbClr val="ccecff"/>
                </a:solidFill>
                <a:latin typeface="Bookman Old Style"/>
              </a:rPr>
              <a:t> НА СКЛ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Все заболевания ЛОР - органов и бронхолегочной системы в острый пери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WordArt 4"/>
          <p:cNvSpPr txBox="1"/>
          <p:nvPr/>
        </p:nvSpPr>
        <p:spPr>
          <a:xfrm rot="243600">
            <a:off x="256680" y="1914480"/>
            <a:ext cx="86360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54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пасибо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54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54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54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за внимание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54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5" name="Picture 4" descr="095a"/>
          <p:cNvPicPr/>
          <p:nvPr/>
        </p:nvPicPr>
        <p:blipFill>
          <a:blip r:embed="rId1"/>
          <a:stretch/>
        </p:blipFill>
        <p:spPr>
          <a:xfrm rot="17749800">
            <a:off x="6048000" y="4123800"/>
            <a:ext cx="1435320" cy="2441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36"/>
          <p:cNvPicPr/>
          <p:nvPr/>
        </p:nvPicPr>
        <p:blipFill>
          <a:blip r:embed="rId2"/>
          <a:stretch/>
        </p:blipFill>
        <p:spPr>
          <a:xfrm rot="20585400">
            <a:off x="5575320" y="4051080"/>
            <a:ext cx="1008000" cy="115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36"/>
          <p:cNvPicPr/>
          <p:nvPr/>
        </p:nvPicPr>
        <p:blipFill>
          <a:blip r:embed="rId3"/>
          <a:stretch/>
        </p:blipFill>
        <p:spPr>
          <a:xfrm flipH="1" rot="1260600">
            <a:off x="673200" y="1785600"/>
            <a:ext cx="1008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xit" presetID="2" presetSubtype="3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3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000" spc="-1" strike="noStrike">
                <a:solidFill>
                  <a:srgbClr val="ccecff"/>
                </a:solidFill>
                <a:latin typeface="Bookman Old Style"/>
              </a:rPr>
              <a:t>ЗАДАЧИ ФИЗИОТЕРАПИИ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повысить иммунореактивность и уровень метаболизма организм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корригировать вегетативную дисфункц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000" spc="-1" strike="noStrike">
                <a:solidFill>
                  <a:srgbClr val="ccecff"/>
                </a:solidFill>
                <a:latin typeface="Bookman Old Style"/>
              </a:rPr>
              <a:t>ФИЗИЧЕСКИЕ МЕТОДЫ ЛЕЧЕНИЯ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противовоспалитель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иммунокорригирующ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вегетокорригирующ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антигипоксическ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000" spc="-1" strike="noStrike">
                <a:solidFill>
                  <a:srgbClr val="ccecff"/>
                </a:solidFill>
                <a:latin typeface="Bookman Old Style"/>
              </a:rPr>
              <a:t>Иммунокорригирующие методы: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галотерап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аромафитотерап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неселективная хромотерап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общее СУФ - облучение в субэритемных доз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УФО стоп и нижней трети голене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высокочастотная магнитотерапия тимус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активационная терап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парафино-озокеритовые аппликации на рефлексогенные зоны.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000" spc="-1" strike="noStrike">
                <a:solidFill>
                  <a:srgbClr val="ccecff"/>
                </a:solidFill>
                <a:latin typeface="Bookman Old Style"/>
              </a:rPr>
              <a:t>Вегетокорригирующие методы: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гальванизация воротниковой области по А.Е. Щербаку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электрофорез кальция или димедрола по воротниковой методик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электрофорез магния сульфата и раствора натрия бромида по воротниковой методик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электросонтерап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СУФ - облучение воротниковой зон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Bookman Old Style"/>
              </a:rPr>
              <a:t>Вегетокорригирующие метод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местная дарсонвализация воротниковой зоны или области шейных сосудисто-нервных пучков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биоуправляемая аэроионотерап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хлоридные натриевые ванн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души, термотерап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гелиотерап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талассотерап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Bookman Old Style"/>
              </a:rPr>
              <a:t>Антигипоксические методы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нормобарическая гипокситерап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кислородные ван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000" spc="-1" strike="noStrike">
                <a:solidFill>
                  <a:srgbClr val="ccecff"/>
                </a:solidFill>
                <a:latin typeface="Bookman Old Style"/>
              </a:rPr>
              <a:t>ПРОТИВОПОКАЗАНИЯ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Индивидуальная непереносимость лечебных физических факто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000" spc="-1" strike="noStrike">
                <a:solidFill>
                  <a:srgbClr val="ccecff"/>
                </a:solidFill>
                <a:latin typeface="Bookman Old Style"/>
              </a:rPr>
              <a:t>САНАТОРНО-КУРОРТНОЕ ЛЕЧЕНИЕ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Содержимое 3" descr="&amp;Gcy;&amp;dcy;&amp;iecy; &amp;ocy;&amp;tcy;&amp;dcy;&amp;ocy;&amp;khcy;&amp;ncy;&amp;ucy;&amp;tcy;&amp;softcy; &amp;vcy; &amp;Rcy;&amp;ocy;&amp;scy;&amp;scy;&amp;icy;&amp;icy;. &amp;Mcy;&amp;iecy;&amp;scy;&amp;tcy; &amp;dcy;&amp;lcy;&amp;yacy; &amp;ocy;&amp;tcy;&amp;dcy;&amp;ycy;&amp;khcy;&amp;acy; &amp;vcy; &amp;ncy;&amp;acy;&amp;shcy;&amp;iecy;&amp;jcy; &amp;scy;&amp;tcy;&amp;rcy;&amp;acy;&amp;ncy;&amp;iecy; - &amp;ocy;&amp;chcy;&amp;iecy;&amp;ncy;&amp;softcy; &amp;mcy;&amp;ncy;&amp;ocy;&amp;gcy;&amp;ocy;. &amp;Pcy;&amp;ucy;&amp;tcy;&amp;iecy;&amp;shcy;&amp;iecy;&amp;scy;&amp;tcy;&amp;vcy;&amp;icy;&amp;yacy; &amp;icy; &amp;ocy;&amp;tcy;&amp;dcy;&amp;ycy;&amp;khcy;"/>
          <p:cNvPicPr/>
          <p:nvPr/>
        </p:nvPicPr>
        <p:blipFill>
          <a:blip r:embed="rId1"/>
          <a:stretch/>
        </p:blipFill>
        <p:spPr>
          <a:xfrm>
            <a:off x="1663560" y="1646280"/>
            <a:ext cx="62312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02:21:44Z</dcterms:created>
  <dc:creator>sss</dc:creator>
  <dc:description/>
  <dc:language>en-US</dc:language>
  <cp:lastModifiedBy>НаливайченкоОН</cp:lastModifiedBy>
  <dcterms:modified xsi:type="dcterms:W3CDTF">2014-11-21T06:53:22Z</dcterms:modified>
  <cp:revision>37</cp:revision>
  <dc:subject/>
  <dc:title>Физиотерапия в  педиатрии </dc:title>
</cp:coreProperties>
</file>