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57E-5681-494A-8055-02F61307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A27-2AE0-45EA-A1A8-672073DD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751-6669-40F8-AF44-A28C0C5F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AC0-0557-4EA5-A6E9-90A1EBDA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EF7B-9FC9-45CF-B99B-72A40E6B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8BE7-1005-467C-8B10-EEDBA065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E959-7F21-401B-A4E1-4BF54E11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AD83-7213-46EB-B1CB-263F95F0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439B-E722-43DA-8E21-98DB1A0D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A7D1-5487-492A-9C22-40943222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ABB0-58E1-4938-9A7A-469FEC4A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0BC-77FC-46F9-9985-14CBB2F5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82F4-4E43-4205-9DE2-AC7B3E7F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78EB-F7BE-43BA-8182-1381D70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2EAB-B5E4-493F-B439-C256123D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8BFC-3A71-4BD5-9224-957FA55B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C915-B539-4F38-B785-B376A4AA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BE5-85A9-4DB1-9476-A6D53037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B8C-5F23-49C6-B23D-0319E622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31F-9BA6-4802-8EB4-47473CED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8EA-6C9F-45D7-B947-24C4ABF6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027-917C-49EF-9186-37F04943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C15-6EAF-4FA2-BA40-9735E6CA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309-D7BD-43C1-ACF2-83EA89E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2680" cy="5324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prstGeom prst="pie">
            <a:avLst/>
          </a:pr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9592-C2FC-4138-9D1A-0D05D8D648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3280" y="6454800"/>
            <a:ext cx="14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1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0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4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75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6" name="Freeform 24"/>
            <p:cNvSpPr/>
            <p:nvPr/>
          </p:nvSpPr>
          <p:spPr>
            <a:xfrm>
              <a:off x="112680" y="5954760"/>
              <a:ext cx="8931240" cy="554040"/>
            </a:xfrm>
            <a:prstGeom prst="pie">
              <a:avLst/>
            </a:pr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112680" y="6032520"/>
              <a:ext cx="8931240" cy="554040"/>
            </a:xfrm>
            <a:prstGeom prst="pie">
              <a:avLst/>
            </a:pr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>
              <a:off x="6681960" y="6084720"/>
              <a:ext cx="2366640" cy="14004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6004800" y="1778040"/>
            <a:ext cx="2767680" cy="779040"/>
            <a:chOff x="6004800" y="1778040"/>
            <a:chExt cx="2767680" cy="779040"/>
          </a:xfrm>
        </p:grpSpPr>
        <p:sp>
          <p:nvSpPr>
            <p:cNvPr id="80" name="Freeform 8"/>
            <p:cNvSpPr/>
            <p:nvPr/>
          </p:nvSpPr>
          <p:spPr>
            <a:xfrm rot="10800000">
              <a:off x="8077680" y="1783800"/>
              <a:ext cx="72360" cy="221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rot="10800000">
              <a:off x="7346880" y="1781640"/>
              <a:ext cx="85680" cy="2530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rot="10800000">
              <a:off x="8112240" y="1784160"/>
              <a:ext cx="277920" cy="386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rot="10800000">
              <a:off x="6164640" y="1784160"/>
              <a:ext cx="271800" cy="386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rot="10800000">
              <a:off x="6575760" y="1784160"/>
              <a:ext cx="167400" cy="241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rot="10800000">
              <a:off x="6956280" y="1780200"/>
              <a:ext cx="167400" cy="340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rot="10800000">
              <a:off x="7794000" y="1778040"/>
              <a:ext cx="314280" cy="6523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rot="10800000">
              <a:off x="6790680" y="1782000"/>
              <a:ext cx="177120" cy="3830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 rot="10800000">
              <a:off x="8529120" y="1778040"/>
              <a:ext cx="243360" cy="5353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 rot="10800000">
              <a:off x="6678720" y="1778040"/>
              <a:ext cx="129240" cy="471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 rot="10800000">
              <a:off x="8357760" y="1778040"/>
              <a:ext cx="210960" cy="7790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 rot="10800000">
              <a:off x="7634520" y="1778040"/>
              <a:ext cx="190080" cy="417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 rot="10800000">
              <a:off x="6004800" y="1778040"/>
              <a:ext cx="190080" cy="417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 rot="10800000">
              <a:off x="7095600" y="1784160"/>
              <a:ext cx="333000" cy="7362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 rot="10800000">
              <a:off x="7457400" y="1778040"/>
              <a:ext cx="184680" cy="683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 rot="10800000">
              <a:off x="6415920" y="1778040"/>
              <a:ext cx="184320" cy="683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96" name="Freeform 27"/>
          <p:cNvSpPr/>
          <p:nvPr/>
        </p:nvSpPr>
        <p:spPr>
          <a:xfrm>
            <a:off x="85680" y="76320"/>
            <a:ext cx="8977320" cy="500040"/>
          </a:xfrm>
          <a:prstGeom prst="pie">
            <a:avLst/>
          </a:pr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98" name="Group 74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99" name="Freeform 30"/>
            <p:cNvSpPr/>
            <p:nvPr/>
          </p:nvSpPr>
          <p:spPr>
            <a:xfrm>
              <a:off x="85680" y="1168560"/>
              <a:ext cx="8982000" cy="817560"/>
            </a:xfrm>
            <a:prstGeom prst="pie">
              <a:avLst/>
            </a:pr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85680" y="853920"/>
              <a:ext cx="8982000" cy="1040040"/>
            </a:xfrm>
            <a:prstGeom prst="pie">
              <a:avLst/>
            </a:pr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85680" y="1685880"/>
              <a:ext cx="2374920" cy="155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02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3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175320" y="8431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09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7159-A0EC-425E-92E9-2596E64CDF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4280" y="2357280"/>
            <a:ext cx="77868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«Рецидивирующие респираторные заболевания. Этиология. Патогенез. Клиника. Лечение»</a:t>
            </a:r>
            <a:br>
              <a:rPr sz="2800"/>
            </a:br>
            <a:br>
              <a:rPr sz="2600"/>
            </a:br>
            <a:r>
              <a:rPr b="1" lang="ru-RU" sz="20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рач-педиатр ОР №2</a:t>
            </a:r>
            <a:br>
              <a:rPr sz="2000"/>
            </a:br>
            <a:r>
              <a:rPr b="1" lang="ru-RU" sz="20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Качанова Марина Викторовна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ОПСА"/>
          <p:cNvPicPr/>
          <p:nvPr/>
        </p:nvPicPr>
        <p:blipFill>
          <a:blip r:embed="rId1"/>
          <a:stretch/>
        </p:blipFill>
        <p:spPr>
          <a:xfrm>
            <a:off x="214200" y="142920"/>
            <a:ext cx="1143000" cy="16254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7500960" y="142920"/>
            <a:ext cx="1095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4.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Различные формы диатезов являются отражением генетической предрасположенности растущего организма к определенным заболеваниям, типам патологических реакций на обычные раздражи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5.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Аллергия как извращенная реакция на определенные факторы, внешней и внутренней среды организма сопровождается существенными иммунными наруше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Генетически детерминированные энзимопатии или транзиторная ферментативная недостаточность (например, транзиторный дефицит ингибитора альфа-1-антитрипсина) являются причиной возникновения частых ОР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Дисбактериозы различной локализации способствуют нарушению иммунологической реактивности и приводят к повышенной чувствительности организма к вирусным и бактериальным инфекция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Очаги хронической инфекции ротоносоглотки сопровождаются снижением местного иммунитета и способствуют повышенной восприимчивости бронхолегочной системы к инфекционным возбудителя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da9"/>
                </a:solidFill>
                <a:latin typeface="Constantia"/>
              </a:rPr>
              <a:t>Экзогенные факторы риска развития респираторных заболеваний у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1. Высокая контагиозность возбудителей ОРЗ. Среди этиологических факторов респираторных инфекций ведущее место занимают виру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Низкий уровень санитарной культуры населения и, как следствие этого, отсутствие понимания важности валеологии как одного из повсеместно доступных и эффективных подходов в формировании здоров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3.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Низкий уровень материального благополучия и неблагоприятные социально-бытовые условия, и, наоборот, во вполне благополучных семьях наоборот – гиперопека над ребен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4.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Раннее начало посещения детьми дошкольных учреждений. В подавляющем большинстве случаев повышенная восприимчивость детей к респираторным инфекциям индуцируется началом посещения организованных коллектив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5.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Экологические нарушения окружающей среды. Существенное повышение содержания различных ксенобиотиков в воздухе, воде, продуктах питания сопровождается накоплением их в организме, что приводит к изменениям клеточного метаболизма, нарушениям гомеостаза и извращениям иммунной защит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В течение последних десятилетий произошли значительные изменения в структуре бронхолегочной патологии детского возра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Рост техногенного загрязнения окружающей среды отразился на частоте, особенностях клинических проявлений и исхода заболе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Ятрогенное воздействие на иммунную систему при нерациональном использовании различных лекарственных средств (длительное и необоснованное применение антибиотиков, сульфаниламидов, нитрофуранов, салицилатов, противосудорожных и др. препаратов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Классификация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. На сегодняшний день не сформирована единая классификация. Существуют несколько научных мнений по данному вопро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Отечественные педиатры относят детей в группу часто болеющих детей на основании критериев, предложенных В.Ю. Альбицким и         А.А. Барановым (1986 г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8229600" cy="473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250920" y="1397160"/>
          <a:ext cx="8497440" cy="4839840"/>
        </p:xfrm>
        <a:graphic>
          <a:graphicData uri="http://schemas.openxmlformats.org/drawingml/2006/table">
            <a:tbl>
              <a:tblPr/>
              <a:tblGrid>
                <a:gridCol w="4249800"/>
                <a:gridCol w="4247640"/>
              </a:tblGrid>
              <a:tr h="108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зраст ребенка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стота эпизодов ОРЗ в год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93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 1 года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и более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93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– 3 года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и более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93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– 5 лет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и более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арше 5 лет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1368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и более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13680">
                      <a:solidFill>
                        <a:srgbClr val="9bd3e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7da9"/>
                </a:solidFill>
                <a:latin typeface="Constantia"/>
              </a:rPr>
              <a:t>По особенностям клинических проявлений </a:t>
            </a: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часто болеющих детей делят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I (около 40% детей) – ОРЗ, как правило, протекают в легкой форме, и выздоровление обычно происходит в короткие сроки. Чаще всего дети начинают болеть в конце первого или на втором году жизни. Течение ОРЗ типичное, клиника зависит от вида вирус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II (20-25%) – ОРЗ протекает с длительным выздоровлением. После выздоровления у большинства детей отмечается недомогание, снижение аппетита, нарушение ритма сон-бодрствование, бледность и др. На фоне этого возникают очередные обострения, которые превращают заболевание в волнообразный процесс без полной нормализации состояния.</a:t>
            </a: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57da9"/>
                </a:solidFill>
                <a:latin typeface="Constantia"/>
              </a:rPr>
              <a:t>III (30-35%) – отличается наличием ЛОР-патологии, как ведущего фактора развития респираторных заболеваний. Время начала повторных ОРЗ, как правило, в возрасте после 1 года, с максимальным учащением к 2-3 годам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7da9"/>
                </a:solidFill>
                <a:latin typeface="Constantia"/>
              </a:rPr>
              <a:t>По предрасполагающим механизмам выделяют 5 групп ЧБД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57da9"/>
                </a:solidFill>
                <a:latin typeface="Constantia"/>
              </a:rPr>
              <a:t>1-я – дети с преобладающими явлениями аллергии и аллергической патологией в анамнезе, как по материнской, так и по отцовской лин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57da9"/>
                </a:solidFill>
                <a:latin typeface="Constantia"/>
              </a:rPr>
              <a:t>2-я – дети преимущественно с неврологической патологи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57da9"/>
                </a:solidFill>
                <a:latin typeface="Constantia"/>
              </a:rPr>
              <a:t>3-я – дети с первичными вегетососудистыми дистониями, обусловленными наследственным характер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57da9"/>
                </a:solidFill>
                <a:latin typeface="Constantia"/>
              </a:rPr>
              <a:t>4-я – дети с преимущественным поражением лимфатической системы с рожд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57da9"/>
                </a:solidFill>
                <a:latin typeface="Constantia"/>
              </a:rPr>
              <a:t>5-я – дети с преимущественными обменно-конституционными нарушени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Лечебно-профилактические мероприятия.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 При определении эффективных профилактических мероприятий необходим поиск индивидуальных методов оздоровления и реабилитации с учетом этиологических, патогенетических механизмов заболе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1.</a:t>
            </a:r>
            <a:r>
              <a:rPr b="1" lang="ru-RU" sz="2800" spc="-1" strike="noStrike">
                <a:solidFill>
                  <a:srgbClr val="357da9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Одним из важных мероприятий комплексного оздоровления детей является организация </a:t>
            </a: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рационального режима дня.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В связи с тем, что у ЧБД часто наблюдаются функциональные нарушения со стороны центральной и вегетативной нервной системы, необходимо исключить занятия и игры, приводящие к переутомлению и перевозбуждению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2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. </a:t>
            </a: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Рациональное питание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– одно из важнейших условий сохранения и поддержания здоровья детей. В питании часто болеющих детей необходимо использовать оптимальное количество белков, жиров, углеводов, минеральных солей и витаминов. Важное значение имеет обязательное включение в ежедневный рацион свежих овощей, фруктов и ягод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Часто болеющие дети (ЧБД)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 – это собирательное понятие группы детей, у которых достоверно чаще, чем у среднестатистического ребенка возникают рецидивы респираторных заболеваний, не связанные со стойкими врожденными, наследственными или приобретенными патологическими состоя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4200" y="1438200"/>
            <a:ext cx="8715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57da9"/>
                </a:solidFill>
                <a:latin typeface="Constantia"/>
              </a:rPr>
              <a:t> </a:t>
            </a:r>
            <a:r>
              <a:rPr b="0" lang="ru-RU" sz="3400" spc="-1" strike="noStrike">
                <a:solidFill>
                  <a:srgbClr val="357da9"/>
                </a:solidFill>
                <a:latin typeface="Constantia"/>
              </a:rPr>
              <a:t>У детей из группы ЧБД, все большую значимость приобретают методы </a:t>
            </a:r>
            <a:r>
              <a:rPr b="1" lang="ru-RU" sz="3400" spc="-1" strike="noStrike">
                <a:solidFill>
                  <a:srgbClr val="357da9"/>
                </a:solidFill>
                <a:latin typeface="Constantia"/>
              </a:rPr>
              <a:t>рационального закаливания и физического воспитания</a:t>
            </a:r>
            <a:r>
              <a:rPr b="0" lang="ru-RU" sz="3400" spc="-1" strike="noStrike">
                <a:solidFill>
                  <a:srgbClr val="357da9"/>
                </a:solidFill>
                <a:latin typeface="Constanti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4.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Закаливающие процедуры необходимо сочетать с проведением </a:t>
            </a: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гимнастики и массажа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. Эти процедуры повышают функциональную эффективность дыхательной системы. Массаж проводится 2-4 раза в год, курс составляет 14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5. </a:t>
            </a: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Гигиенические мероприятия.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 У часто болеющих детей из-за дисфункции вегетативной нервной системы часто наблюдается повышенная потливость. Поэтому оправдана, особенно у детей раннего возраста, частая (2-3 раза в сутки) смена в течение дня белья. Одежду желательно носить хлопчатобумажну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Медикаментозная коррекция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 в период клинического благополучия проводится при обязательном участии ЛОР-врача, т. к. первоначально необходимо оценить объем оториноларингологической помощ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57da9"/>
                </a:solidFill>
                <a:latin typeface="Constantia"/>
              </a:rPr>
              <a:t>Препараты для лечения и неспецифической профилактики гриппа и О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57da9"/>
                </a:solidFill>
                <a:latin typeface="Constantia"/>
              </a:rPr>
              <a:t>1. Ингибиторы ре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57da9"/>
                </a:solidFill>
                <a:latin typeface="Constantia"/>
              </a:rPr>
              <a:t>2. Интерфероны 1-го поко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57da9"/>
                </a:solidFill>
                <a:latin typeface="Constantia"/>
              </a:rPr>
              <a:t>3. Индукторы интерферон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57da9"/>
                </a:solidFill>
                <a:latin typeface="Constantia"/>
              </a:rPr>
              <a:t>4. Бактериальные лиза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57da9"/>
                </a:solidFill>
                <a:latin typeface="Constantia"/>
              </a:rPr>
              <a:t>5. Биогенные иммунорегуляторные пепти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57da9"/>
                </a:solidFill>
                <a:latin typeface="Constantia"/>
              </a:rPr>
              <a:t>6. Синтетические вещ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57da9"/>
                </a:solidFill>
                <a:latin typeface="Constantia"/>
              </a:rPr>
              <a:t>7. Фитопрепараты и гомеопатические средства с биологической активност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Вакцинопрофилактика.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 Частые ОРИ не являются противопоказанием для плановой вакцинации. Иммунизация проводится в рамках Национального календаря профилактических прививок (2011 г.) по индивидуальному граф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Диспансерное наблюдение.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Дети с рецидивирующими респираторными заболеваниями относятся ко второй группе здоровья, контроль состояния здоровья осуществляется на профилактических осмотрах и ежегодно врачом-педиат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2920" y="1438200"/>
            <a:ext cx="88581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Критерии снятия с диспансерного уче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1. Урежение числа ОРИ до 3-х и менее в течение г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2. Отсутствие тяжелого и осложненного течения 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114800" y="619596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1c56"/>
                </a:solidFill>
                <a:latin typeface="Constantia"/>
                <a:ea typeface="Times New Roman"/>
              </a:rPr>
              <a:t>Спасибо за внимание!</a:t>
            </a:r>
            <a:br>
              <a:rPr sz="60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ОПСА"/>
          <p:cNvPicPr/>
          <p:nvPr/>
        </p:nvPicPr>
        <p:blipFill>
          <a:blip r:embed="rId1"/>
          <a:stretch/>
        </p:blipFill>
        <p:spPr>
          <a:xfrm>
            <a:off x="214200" y="142920"/>
            <a:ext cx="1143000" cy="16254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" descr="\\S01\документы\Школа массажа\ШрейдерТФ\Документация\логотип.jpg"/>
          <p:cNvPicPr/>
          <p:nvPr/>
        </p:nvPicPr>
        <p:blipFill>
          <a:blip r:embed="rId2"/>
          <a:stretch/>
        </p:blipFill>
        <p:spPr>
          <a:xfrm>
            <a:off x="7500960" y="142920"/>
            <a:ext cx="1095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Частые и особенно тяжело протекающие острые респираторные заболевания могут приводить к нарушению физического и нервно-психического развития детей, способствуют снижению функциональной активности иммунитета и </a:t>
            </a: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срыву компенсаторно-адаптационных механизмов организм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Рецидивирующие респираторные инфекции также могут приводить к </a:t>
            </a:r>
            <a:r>
              <a:rPr b="1" lang="ru-RU" sz="2800" spc="-1" strike="noStrike">
                <a:solidFill>
                  <a:srgbClr val="357da9"/>
                </a:solidFill>
                <a:latin typeface="Constantia"/>
              </a:rPr>
              <a:t>социальной дезадаптации</a:t>
            </a: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 ребенка из-за разобщения со сверстниками и пропусков зан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Частые и затяжные острые респираторные заболевания у детей поглощают значительные материальные ресурсы, нанося экономический ущерб, связанный как непосредственно с затратами на лечение, так и с потерей трудового времени роди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Среди всех причин можно выдел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57da9"/>
                </a:solidFill>
                <a:latin typeface="Constantia"/>
              </a:rPr>
              <a:t>эндогенные и экзогенные факторы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3840" y="1438200"/>
            <a:ext cx="86439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da9"/>
                </a:solidFill>
                <a:latin typeface="Constantia"/>
              </a:rPr>
              <a:t>Эндогенные факторы риска развития частых и длительных респираторных заболеваний у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1. Неблагоприятное анте- и/или постнатальное развитие ребенка (недоношенность, морфофункциональная незрелость, гипотрофия, анемия, рахит, раннее искусственное вскармли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2. Иммунодефицитные состояния как первичные, так и вторичные, являются одной из ведущих причин высокой заболеваемости ОРЗ и формирования хронической бронхолегочной пат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7da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7da9"/>
                </a:solidFill>
                <a:latin typeface="Constantia"/>
              </a:rPr>
              <a:t>3.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Состояние центральной нервной системы ребенка играет важную роль в формировании реактивности растущего организма. Поэтому дети с остаточными явлениями перенесенной </a:t>
            </a:r>
            <a:r>
              <a:rPr b="1" lang="ru-RU" sz="3200" spc="-1" strike="noStrike">
                <a:solidFill>
                  <a:srgbClr val="357da9"/>
                </a:solidFill>
                <a:latin typeface="Constantia"/>
              </a:rPr>
              <a:t>перинатальной гипоксии </a:t>
            </a:r>
            <a:r>
              <a:rPr b="0" lang="ru-RU" sz="3200" spc="-1" strike="noStrike">
                <a:solidFill>
                  <a:srgbClr val="357da9"/>
                </a:solidFill>
                <a:latin typeface="Constantia"/>
              </a:rPr>
              <a:t>чаще болеют вирусными и бактериальными инфекц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7T11:08:33Z</dcterms:created>
  <dc:creator>Admin</dc:creator>
  <dc:description/>
  <dc:language>en-US</dc:language>
  <cp:lastModifiedBy>Алексей Васильевич</cp:lastModifiedBy>
  <dcterms:modified xsi:type="dcterms:W3CDTF">2014-11-24T16:05:16Z</dcterms:modified>
  <cp:revision>29</cp:revision>
  <dc:subject/>
  <dc:title>«Бронхиальная астма. Этиология. Патогенез. Клиника. Лечение»  Врач-педиатр ОР №1 Луканенко Светлана Анатолбьевна </dc:title>
</cp:coreProperties>
</file>