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4.jpeg" ContentType="image/jpe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631-2821-4CF0-BAAE-A2D2D6C0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001-E5E9-4CCE-A780-5AA432A7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B1A-F6D5-4A4C-B85E-5106BBD4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246-ED76-4C45-9D22-964647E9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B1A4-0FF2-459F-A05E-158BF8B2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BC83-7DF7-40AD-B795-D69CE53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B80D-B5F2-414B-8B6A-82C221B6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C13B-81D9-45D1-AFBB-F9411AE7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66DB-5D14-4FB6-9BD7-2695F918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EB73-2E0F-42D9-B108-CA64AE6E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C405-DB4D-4E51-8C96-385CE64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C0A-D028-4565-B1F3-80245B99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1A37-CF12-4175-845E-4B77152A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7A4-7003-4EC2-B886-565D5C6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4F7-E81E-46EE-8F0A-863A391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75DE-D99D-4F85-9830-F575B9D8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806C-B941-4766-8761-CB42CEA2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C98-A04F-4746-B566-E5400F5F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A77-FF4C-4976-9BD6-21B9090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637-450E-4BAF-991E-E3CC37EC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573-E2F4-4A95-8BCB-0D488FDC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A27-307B-4BB4-BDCF-77A538A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0DD-0787-47B5-ABD9-4A6676F6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A72-311C-40AD-A560-0DDD5BD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59018 _1"/>
          <p:cNvPicPr/>
          <p:nvPr/>
        </p:nvPicPr>
        <p:blipFill>
          <a:blip r:embed="rId2"/>
          <a:stretch/>
        </p:blipFill>
        <p:spPr>
          <a:xfrm>
            <a:off x="0" y="3530520"/>
            <a:ext cx="2603520" cy="3327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4" descr="Medical Perspectives_EyeWire cop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3BA6-C163-4D28-BA0E-214FC0747D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68"/>
          <p:cNvSpPr/>
          <p:nvPr/>
        </p:nvSpPr>
        <p:spPr>
          <a:xfrm>
            <a:off x="957240" y="1103400"/>
            <a:ext cx="6543720" cy="39600"/>
          </a:xfrm>
          <a:custGeom>
            <a:avLst/>
            <a:gdLst/>
            <a:ahLst/>
            <a:rect l="l" t="t" r="r" b="b"/>
            <a:pathLst>
              <a:path w="4122" h="25">
                <a:moveTo>
                  <a:pt x="4122" y="0"/>
                </a:moveTo>
                <a:lnTo>
                  <a:pt x="0" y="3"/>
                </a:lnTo>
                <a:lnTo>
                  <a:pt x="37" y="25"/>
                </a:lnTo>
                <a:lnTo>
                  <a:pt x="4109" y="25"/>
                </a:lnTo>
                <a:lnTo>
                  <a:pt x="4122" y="0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0"/>
                </a:srgbClr>
              </a:gs>
              <a:gs pos="100000">
                <a:srgbClr val="000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" name="Picture 69" descr="artway_medical_thermomete_01"/>
          <p:cNvPicPr/>
          <p:nvPr/>
        </p:nvPicPr>
        <p:blipFill>
          <a:blip r:embed="rId4"/>
          <a:stretch/>
        </p:blipFill>
        <p:spPr>
          <a:xfrm>
            <a:off x="6535800" y="98280"/>
            <a:ext cx="1015920" cy="1079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Text Box 72"/>
          <p:cNvSpPr/>
          <p:nvPr/>
        </p:nvSpPr>
        <p:spPr>
          <a:xfrm>
            <a:off x="7642080" y="7794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2" descr="59018 copy"/>
          <p:cNvPicPr/>
          <p:nvPr/>
        </p:nvPicPr>
        <p:blipFill>
          <a:blip r:embed="rId3"/>
          <a:stretch/>
        </p:blipFill>
        <p:spPr>
          <a:xfrm>
            <a:off x="0" y="3259080"/>
            <a:ext cx="2814480" cy="359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7"/>
          <p:cNvSpPr/>
          <p:nvPr/>
        </p:nvSpPr>
        <p:spPr>
          <a:xfrm>
            <a:off x="338040" y="2952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2AB-44AC-4802-83A8-263E155F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890800"/>
            <a:ext cx="914400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«Физиотерапия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и варикозной болезни»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2448000" y="5303880"/>
            <a:ext cx="659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.И. Огарь,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цинская сестра по физиотерапии ФТО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ЗОО «ЦМР»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92" name="Picture 4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359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одержимое 3" descr="&amp;Gcy;&amp;dcy;&amp;iecy; &amp;ocy;&amp;tcy;&amp;dcy;&amp;ocy;&amp;khcy;&amp;ncy;&amp;ucy;&amp;tcy;&amp;softcy; &amp;vcy; &amp;Rcy;&amp;ocy;&amp;scy;&amp;scy;&amp;icy;&amp;icy;. &amp;Mcy;&amp;iecy;&amp;scy;&amp;tcy; &amp;dcy;&amp;lcy;&amp;yacy; &amp;ocy;&amp;tcy;&amp;dcy;&amp;ycy;&amp;khcy;&amp;acy; &amp;vcy; &amp;ncy;&amp;acy;&amp;shcy;&amp;iecy;&amp;jcy; &amp;scy;&amp;tcy;&amp;rcy;&amp;acy;&amp;ncy;&amp;iecy; - &amp;ocy;&amp;chcy;&amp;iecy;&amp;ncy;&amp;softcy; &amp;mcy;&amp;ncy;&amp;ocy;&amp;gcy;&amp;ocy;. &amp;Pcy;&amp;ucy;&amp;tcy;&amp;iecy;&amp;shcy;&amp;iecy;&amp;scy;&amp;tcy;&amp;vcy;&amp;icy;&amp;yacy; &amp;icy; &amp;ocy;&amp;tcy;&amp;dcy;&amp;ycy;&amp;khcy;"/>
          <p:cNvPicPr/>
          <p:nvPr/>
        </p:nvPicPr>
        <p:blipFill>
          <a:blip r:embed="rId1"/>
          <a:stretch/>
        </p:blipFill>
        <p:spPr>
          <a:xfrm>
            <a:off x="1670040" y="1652760"/>
            <a:ext cx="6230880" cy="4711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5440" y="-360"/>
            <a:ext cx="826128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САНАТОРНО-КУРОРТНОЕ ЛЕЧЕНИЕ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49200"/>
            <a:ext cx="85806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ротивопоказания для санаторно–курортного лечен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657360" y="2270160"/>
            <a:ext cx="70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олезни почек (нефрозы, нефриты); 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ейкопения. 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5080" y="0"/>
            <a:ext cx="8518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Физиопрофилактика направлена: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2630520" y="2038320"/>
            <a:ext cx="3895560" cy="3895920"/>
          </a:xfrm>
          <a:prstGeom prst="ellipse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197160" y="2637000"/>
            <a:ext cx="2787840" cy="2778120"/>
            <a:chOff x="3197160" y="2637000"/>
            <a:chExt cx="2787840" cy="2778120"/>
          </a:xfrm>
        </p:grpSpPr>
        <p:sp>
          <p:nvSpPr>
            <p:cNvPr id="158" name="Line 5"/>
            <p:cNvSpPr/>
            <p:nvPr/>
          </p:nvSpPr>
          <p:spPr>
            <a:xfrm>
              <a:off x="3220560" y="2637000"/>
              <a:ext cx="276156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 flipH="1">
              <a:off x="3197160" y="2637000"/>
              <a:ext cx="278784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60" name="AutoShape 8"/>
          <p:cNvSpPr/>
          <p:nvPr/>
        </p:nvSpPr>
        <p:spPr>
          <a:xfrm>
            <a:off x="6773760" y="3500280"/>
            <a:ext cx="2141640" cy="92340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нижения свертываемости кров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</a:rPr>
              <a:t>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0" y="3672000"/>
            <a:ext cx="2328840" cy="37764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32004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 предупреждение прогрессирования хронической венозной недостаточности и развитие осложнений; 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3309840" y="2747880"/>
            <a:ext cx="2489400" cy="2489400"/>
            <a:chOff x="3309840" y="2747880"/>
            <a:chExt cx="2489400" cy="2489400"/>
          </a:xfrm>
        </p:grpSpPr>
        <p:sp>
          <p:nvSpPr>
            <p:cNvPr id="164" name="Oval 12"/>
            <p:cNvSpPr/>
            <p:nvPr/>
          </p:nvSpPr>
          <p:spPr>
            <a:xfrm>
              <a:off x="3309840" y="2747880"/>
              <a:ext cx="2489400" cy="24894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165" name="Picture 13" descr="Picture2"/>
            <p:cNvPicPr/>
            <p:nvPr/>
          </p:nvPicPr>
          <p:blipFill>
            <a:blip r:embed="rId1"/>
            <a:stretch/>
          </p:blipFill>
          <p:spPr>
            <a:xfrm>
              <a:off x="3408840" y="2757600"/>
              <a:ext cx="229536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4" descr="Picture2"/>
            <p:cNvPicPr/>
            <p:nvPr/>
          </p:nvPicPr>
          <p:blipFill>
            <a:blip r:embed="rId2"/>
            <a:stretch/>
          </p:blipFill>
          <p:spPr>
            <a:xfrm flipH="1" rot="10800000">
              <a:off x="3409920" y="4007160"/>
              <a:ext cx="2295360" cy="120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AutoShape 17"/>
          <p:cNvSpPr/>
          <p:nvPr/>
        </p:nvSpPr>
        <p:spPr>
          <a:xfrm>
            <a:off x="5856120" y="3814920"/>
            <a:ext cx="371520" cy="446040"/>
          </a:xfrm>
          <a:prstGeom prst="rightArrow">
            <a:avLst>
              <a:gd name="adj1" fmla="val 54861"/>
              <a:gd name="adj2" fmla="val 59167"/>
            </a:avLst>
          </a:prstGeom>
          <a:solidFill>
            <a:srgbClr val="b639b9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2881440" y="3822840"/>
            <a:ext cx="374400" cy="439560"/>
          </a:xfrm>
          <a:prstGeom prst="leftArrow">
            <a:avLst>
              <a:gd name="adj1" fmla="val 50000"/>
              <a:gd name="adj2" fmla="val 53815"/>
            </a:avLst>
          </a:prstGeom>
          <a:solidFill>
            <a:srgbClr val="96ad23"/>
          </a:solidFill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69" name="Group 20"/>
          <p:cNvGrpSpPr/>
          <p:nvPr/>
        </p:nvGrpSpPr>
        <p:grpSpPr>
          <a:xfrm>
            <a:off x="2308320" y="3780000"/>
            <a:ext cx="542880" cy="542880"/>
            <a:chOff x="2308320" y="3780000"/>
            <a:chExt cx="542880" cy="542880"/>
          </a:xfrm>
        </p:grpSpPr>
        <p:sp>
          <p:nvSpPr>
            <p:cNvPr id="170" name="Oval 21"/>
            <p:cNvSpPr/>
            <p:nvPr/>
          </p:nvSpPr>
          <p:spPr>
            <a:xfrm>
              <a:off x="230832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4f7e9"/>
                </a:gs>
                <a:gs pos="50000">
                  <a:srgbClr val="96ad23"/>
                </a:gs>
                <a:gs pos="100000">
                  <a:srgbClr val="f4f7e9"/>
                </a:gs>
              </a:gsLst>
              <a:lin ang="5400000"/>
            </a:gradFill>
            <a:ln w="6480">
              <a:solidFill>
                <a:srgbClr val="96ad23"/>
              </a:solidFill>
              <a:miter/>
            </a:ln>
            <a:effectLst>
              <a:outerShdw dist="38160" dir="54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2323800" y="3795120"/>
              <a:ext cx="505800" cy="511920"/>
            </a:xfrm>
            <a:prstGeom prst="ellipse">
              <a:avLst/>
            </a:prstGeom>
            <a:gradFill rotWithShape="0">
              <a:gsLst>
                <a:gs pos="0">
                  <a:srgbClr val="96ad23"/>
                </a:gs>
                <a:gs pos="50000">
                  <a:srgbClr val="77891c"/>
                </a:gs>
                <a:gs pos="100000">
                  <a:srgbClr val="96ad23"/>
                </a:gs>
              </a:gsLst>
              <a:lin ang="5400000"/>
            </a:gradFill>
            <a:ln w="9360">
              <a:solidFill>
                <a:srgbClr val="96ad23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2" name="Group 23"/>
          <p:cNvGrpSpPr/>
          <p:nvPr/>
        </p:nvGrpSpPr>
        <p:grpSpPr>
          <a:xfrm>
            <a:off x="6310440" y="3780000"/>
            <a:ext cx="542880" cy="542880"/>
            <a:chOff x="6310440" y="3780000"/>
            <a:chExt cx="542880" cy="542880"/>
          </a:xfrm>
        </p:grpSpPr>
        <p:sp>
          <p:nvSpPr>
            <p:cNvPr id="173" name="Oval 24"/>
            <p:cNvSpPr/>
            <p:nvPr/>
          </p:nvSpPr>
          <p:spPr>
            <a:xfrm>
              <a:off x="631044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8ebf8"/>
                </a:gs>
                <a:gs pos="50000">
                  <a:srgbClr val="b639b9"/>
                </a:gs>
                <a:gs pos="100000">
                  <a:srgbClr val="f8ebf8"/>
                </a:gs>
              </a:gsLst>
              <a:lin ang="5400000"/>
            </a:gradFill>
            <a:ln w="6480">
              <a:solidFill>
                <a:srgbClr val="b639b9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6325920" y="3795120"/>
              <a:ext cx="505800" cy="511920"/>
            </a:xfrm>
            <a:prstGeom prst="ellipse">
              <a:avLst/>
            </a:prstGeom>
            <a:gradFill rotWithShape="0">
              <a:gsLst>
                <a:gs pos="0">
                  <a:srgbClr val="b639b9"/>
                </a:gs>
                <a:gs pos="50000">
                  <a:srgbClr val="902d93"/>
                </a:gs>
                <a:gs pos="100000">
                  <a:srgbClr val="b639b9"/>
                </a:gs>
              </a:gsLst>
              <a:lin ang="5400000"/>
            </a:gradFill>
            <a:ln w="9360">
              <a:solidFill>
                <a:srgbClr val="b639b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2352600" y="3821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6372360" y="385452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8680" y="1881000"/>
            <a:ext cx="548640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пасибо </a:t>
            </a: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за внимание</a:t>
            </a: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1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4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298440" y="0"/>
            <a:ext cx="1354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5080" y="500040"/>
            <a:ext cx="777564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Задачи физиотерапии: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86000" y="2560680"/>
            <a:ext cx="4051440" cy="4038480"/>
          </a:xfrm>
          <a:prstGeom prst="rect">
            <a:avLst/>
          </a:prstGeom>
          <a:ln w="38160">
            <a:solidFill>
              <a:srgbClr val="460c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Прямоугольник 8"/>
          <p:cNvSpPr/>
          <p:nvPr/>
        </p:nvSpPr>
        <p:spPr>
          <a:xfrm>
            <a:off x="334800" y="132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Физиотерапевтические методы лечения направлены на купирование основного синдрома заболевания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арикоза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286000"/>
            <a:ext cx="2543040" cy="339264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>
            <a:off x="2971800" y="27432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5440" y="213840"/>
            <a:ext cx="843264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ФИЗИОТЕРАПЕТИЧЕСКИЕ МЕТОДЫ ЛЕЧЕН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157560" y="23004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енотонизирующие методы;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62480" y="34290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49760" y="3014640"/>
            <a:ext cx="53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имфодренирующие методы;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3657600" y="41544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700440" y="37735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покоагулирующие методы; 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3462480" y="487692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489480" y="4495680"/>
            <a:ext cx="56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офостимулирующие методы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2869200" y="2436840"/>
            <a:ext cx="467280" cy="468360"/>
            <a:chOff x="2869200" y="2436840"/>
            <a:chExt cx="467280" cy="468360"/>
          </a:xfrm>
        </p:grpSpPr>
        <p:sp>
          <p:nvSpPr>
            <p:cNvPr id="107" name="Oval 15"/>
            <p:cNvSpPr/>
            <p:nvPr/>
          </p:nvSpPr>
          <p:spPr>
            <a:xfrm>
              <a:off x="2905200" y="24764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08" name="Group 16"/>
            <p:cNvGrpSpPr/>
            <p:nvPr/>
          </p:nvGrpSpPr>
          <p:grpSpPr>
            <a:xfrm>
              <a:off x="2869200" y="2436840"/>
              <a:ext cx="467280" cy="468360"/>
              <a:chOff x="2869200" y="2436840"/>
              <a:chExt cx="467280" cy="468360"/>
            </a:xfrm>
          </p:grpSpPr>
          <p:pic>
            <p:nvPicPr>
              <p:cNvPr id="109" name="Picture 17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937600" y="25030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Oval 18"/>
              <p:cNvSpPr/>
              <p:nvPr/>
            </p:nvSpPr>
            <p:spPr>
              <a:xfrm rot="19311000">
                <a:off x="2937960" y="25023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43c0c">
                      <a:alpha val="90196"/>
                    </a:srgbClr>
                  </a:gs>
                  <a:gs pos="50000">
                    <a:srgbClr val="96ad23">
                      <a:alpha val="75294"/>
                    </a:srgbClr>
                  </a:gs>
                  <a:gs pos="100000">
                    <a:srgbClr val="343c0c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11" name="Picture 19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905200" y="25282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Picture 20" descr=""/>
            <p:cNvPicPr/>
            <p:nvPr/>
          </p:nvPicPr>
          <p:blipFill>
            <a:blip r:embed="rId4"/>
            <a:srcRect l="12039" t="9310" r="12440" b="12600"/>
            <a:stretch/>
          </p:blipFill>
          <p:spPr>
            <a:xfrm>
              <a:off x="2930400" y="24894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1"/>
          <p:cNvGrpSpPr/>
          <p:nvPr/>
        </p:nvGrpSpPr>
        <p:grpSpPr>
          <a:xfrm>
            <a:off x="3233160" y="3152880"/>
            <a:ext cx="466920" cy="468360"/>
            <a:chOff x="3233160" y="3152880"/>
            <a:chExt cx="466920" cy="468360"/>
          </a:xfrm>
        </p:grpSpPr>
        <p:sp>
          <p:nvSpPr>
            <p:cNvPr id="114" name="Oval 22"/>
            <p:cNvSpPr/>
            <p:nvPr/>
          </p:nvSpPr>
          <p:spPr>
            <a:xfrm>
              <a:off x="3268800" y="319248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15" name="Group 23"/>
            <p:cNvGrpSpPr/>
            <p:nvPr/>
          </p:nvGrpSpPr>
          <p:grpSpPr>
            <a:xfrm>
              <a:off x="3233160" y="3152880"/>
              <a:ext cx="466920" cy="468360"/>
              <a:chOff x="3233160" y="3152880"/>
              <a:chExt cx="466920" cy="468360"/>
            </a:xfrm>
          </p:grpSpPr>
          <p:pic>
            <p:nvPicPr>
              <p:cNvPr id="116" name="Picture 24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01560" y="321912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Oval 25"/>
              <p:cNvSpPr/>
              <p:nvPr/>
            </p:nvSpPr>
            <p:spPr>
              <a:xfrm rot="19311000">
                <a:off x="3301920" y="321840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42841">
                      <a:alpha val="90196"/>
                    </a:srgbClr>
                  </a:gs>
                  <a:gs pos="50000">
                    <a:srgbClr val="3973b9">
                      <a:alpha val="75294"/>
                    </a:srgbClr>
                  </a:gs>
                  <a:gs pos="100000">
                    <a:srgbClr val="1428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18" name="Picture 26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269160" y="324432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" name="Picture 27" descr=""/>
            <p:cNvPicPr/>
            <p:nvPr/>
          </p:nvPicPr>
          <p:blipFill>
            <a:blip r:embed="rId7"/>
            <a:srcRect l="12039" t="9310" r="12440" b="12600"/>
            <a:stretch/>
          </p:blipFill>
          <p:spPr>
            <a:xfrm>
              <a:off x="3294000" y="320544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28"/>
          <p:cNvGrpSpPr/>
          <p:nvPr/>
        </p:nvGrpSpPr>
        <p:grpSpPr>
          <a:xfrm>
            <a:off x="3287160" y="3861000"/>
            <a:ext cx="466560" cy="468000"/>
            <a:chOff x="3287160" y="3861000"/>
            <a:chExt cx="466560" cy="468000"/>
          </a:xfrm>
        </p:grpSpPr>
        <p:sp>
          <p:nvSpPr>
            <p:cNvPr id="121" name="Oval 29"/>
            <p:cNvSpPr/>
            <p:nvPr/>
          </p:nvSpPr>
          <p:spPr>
            <a:xfrm>
              <a:off x="3322800" y="390060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22" name="Group 30"/>
            <p:cNvGrpSpPr/>
            <p:nvPr/>
          </p:nvGrpSpPr>
          <p:grpSpPr>
            <a:xfrm>
              <a:off x="3287160" y="3861000"/>
              <a:ext cx="466560" cy="468000"/>
              <a:chOff x="3287160" y="3861000"/>
              <a:chExt cx="466560" cy="468000"/>
            </a:xfrm>
          </p:grpSpPr>
          <p:pic>
            <p:nvPicPr>
              <p:cNvPr id="123" name="Picture 31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355560" y="39272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Oval 32"/>
              <p:cNvSpPr/>
              <p:nvPr/>
            </p:nvSpPr>
            <p:spPr>
              <a:xfrm rot="19311000">
                <a:off x="3355920" y="39265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401441">
                      <a:alpha val="90196"/>
                    </a:srgbClr>
                  </a:gs>
                  <a:gs pos="50000">
                    <a:srgbClr val="b639b9">
                      <a:alpha val="75294"/>
                    </a:srgbClr>
                  </a:gs>
                  <a:gs pos="100000">
                    <a:srgbClr val="401441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25" name="Picture 33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323160" y="39524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" name="Picture 34" descr=""/>
            <p:cNvPicPr/>
            <p:nvPr/>
          </p:nvPicPr>
          <p:blipFill>
            <a:blip r:embed="rId10"/>
            <a:srcRect l="12039" t="9310" r="12440" b="12600"/>
            <a:stretch/>
          </p:blipFill>
          <p:spPr>
            <a:xfrm>
              <a:off x="3350160" y="391356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35"/>
          <p:cNvGrpSpPr/>
          <p:nvPr/>
        </p:nvGrpSpPr>
        <p:grpSpPr>
          <a:xfrm>
            <a:off x="3083760" y="4573800"/>
            <a:ext cx="466560" cy="468000"/>
            <a:chOff x="3083760" y="4573800"/>
            <a:chExt cx="466560" cy="468000"/>
          </a:xfrm>
        </p:grpSpPr>
        <p:sp>
          <p:nvSpPr>
            <p:cNvPr id="128" name="Oval 36"/>
            <p:cNvSpPr/>
            <p:nvPr/>
          </p:nvSpPr>
          <p:spPr>
            <a:xfrm>
              <a:off x="3119400" y="46134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29" name="Group 37"/>
            <p:cNvGrpSpPr/>
            <p:nvPr/>
          </p:nvGrpSpPr>
          <p:grpSpPr>
            <a:xfrm>
              <a:off x="3083760" y="4573800"/>
              <a:ext cx="466560" cy="468000"/>
              <a:chOff x="3083760" y="4573800"/>
              <a:chExt cx="466560" cy="468000"/>
            </a:xfrm>
          </p:grpSpPr>
          <p:pic>
            <p:nvPicPr>
              <p:cNvPr id="130" name="Picture 38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152160" y="46400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Oval 39"/>
              <p:cNvSpPr/>
              <p:nvPr/>
            </p:nvSpPr>
            <p:spPr>
              <a:xfrm rot="19311000">
                <a:off x="3152520" y="46393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523600">
                      <a:alpha val="90196"/>
                    </a:srgbClr>
                  </a:gs>
                  <a:gs pos="50000">
                    <a:srgbClr val="ea9c00">
                      <a:alpha val="75294"/>
                    </a:srgbClr>
                  </a:gs>
                  <a:gs pos="100000">
                    <a:srgbClr val="5236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32" name="Picture 40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119760" y="46652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Picture 41" descr=""/>
            <p:cNvPicPr/>
            <p:nvPr/>
          </p:nvPicPr>
          <p:blipFill>
            <a:blip r:embed="rId13"/>
            <a:srcRect l="12039" t="9310" r="12440" b="12600"/>
            <a:stretch/>
          </p:blipFill>
          <p:spPr>
            <a:xfrm>
              <a:off x="3144600" y="46263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48840"/>
            <a:ext cx="8058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Венотонизирующие</a:t>
            </a:r>
            <a:r>
              <a:rPr b="1" i="1" lang="ru-RU" sz="4000" spc="-1" strike="noStrike">
                <a:solidFill>
                  <a:srgbClr val="000066"/>
                </a:solidFill>
                <a:latin typeface="Bookman Old Style"/>
              </a:rPr>
              <a:t> методы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34000" y="2639520"/>
            <a:ext cx="441000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екарственный электрофорез веното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егментарная баро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64960" y="2255760"/>
            <a:ext cx="4291200" cy="28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772632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Лимфодренирующие методы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343400" y="2072880"/>
            <a:ext cx="45561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изкочастотная магнитотерапия «бегущим» магнитным по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екарственный электрофорез протеолитических фер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198360" y="2265480"/>
            <a:ext cx="4086360" cy="272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5080" y="685440"/>
            <a:ext cx="7775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Гипокоагулирующие методы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57360" y="2428560"/>
            <a:ext cx="5586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агнитооптическая терап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екарственный электрофорез гипокоагулянтов и дезагрега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азерное облучение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01760" y="2171880"/>
            <a:ext cx="2927160" cy="37670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1732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Репаративно-регенеративные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методы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14640" y="3014640"/>
            <a:ext cx="4972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естная дарсонв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нфракрасная лазеротерап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ероводородные ва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277920" y="2343240"/>
            <a:ext cx="3614760" cy="311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Антигипоксические методы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843120" y="2390760"/>
            <a:ext cx="3827160" cy="256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8" name="Прямоугольник 5"/>
          <p:cNvSpPr/>
          <p:nvPr/>
        </p:nvSpPr>
        <p:spPr>
          <a:xfrm>
            <a:off x="5129280" y="324468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зоновые ванны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Противопоказания 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для физиотерапии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5440" y="1714680"/>
            <a:ext cx="8091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еморрагические осло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 наличии флеботромбоза в варикозных венах противопоказаны местные воздействия, способные вызвать тромбоэмболию  (диадинамотерапия, амплипульстерап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4T06:32:08Z</dcterms:created>
  <dc:creator>Admin</dc:creator>
  <dc:description/>
  <dc:language>en-US</dc:language>
  <cp:lastModifiedBy>Sveta</cp:lastModifiedBy>
  <dcterms:modified xsi:type="dcterms:W3CDTF">2015-05-08T04:41:47Z</dcterms:modified>
  <cp:revision>83</cp:revision>
  <dc:subject/>
  <dc:title>«Особенности ЛФК и массажа при рахите»</dc:title>
</cp:coreProperties>
</file>