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9F4-D005-404C-B475-8F23DF03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6DF-3242-49BA-8C25-DF78E90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DF3-7EDD-4B00-BEF5-EEDBEE19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C0C-F333-489E-8CFD-D64C404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BA8D-BC7E-4399-A933-2E4FBBAB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C93-FE8B-4564-9A55-31D46E4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DF76-584D-471D-93C9-B1A52728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B22-5C5C-41E5-957B-944BDB00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9C2F-0EE4-4913-B7D9-F63B32A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094-E7B7-4D37-BA7C-7C60B79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6E63-9B49-4110-9303-87F5B004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026-CCEF-4BE2-9CC8-ECD1429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54F7-DF68-4117-A771-5C0D6E5D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3FA-A8EA-4FCD-8CB2-C61D5AE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094-8D78-494D-A44A-0C9E14A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8E23-E8B3-4FDA-AE83-5883C699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AEE-F909-4E06-91F7-9F651ED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001E-941E-4286-B490-529FC176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D90F-90C8-4BC1-91F9-39A18C8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6496-642B-4E20-A63D-FF11464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EE97-3E98-4C31-888D-0A412F2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4793-DBF4-4AB3-9570-DD8ABED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501-9FBD-427C-B080-0CE1CE5A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BA45-A7FD-4900-895E-FF98E152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C008-4592-4B79-BC52-FFFF7B2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82EE-BBCF-4856-9522-4529FF10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0E1F-4C10-4D9C-B216-85E0A54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E509-2F2E-441F-87E1-7319CC3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D139-1803-485A-B04E-41DBFFF4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4630-E679-4197-87DC-E739F73D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E59A0-8C8A-4ACC-9BAF-AED471A0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F06E-60E2-412C-9220-74A08D80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B2B1-B625-4EDE-99C4-D27DAF0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13A-9C91-46A0-8414-38BF99D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6C99-83C7-40D8-8FDC-45E5427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B057-7B22-4B55-A74B-DFB76ED1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2407-56E3-4A49-859D-954E81E5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375B-ED9D-4850-9D01-944F75A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8E38-D24D-4418-9CE4-5339580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C8A7-FF74-414E-830E-24295DD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78B1-AB1F-4E0E-AD72-80C0D17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66D2-4D6C-4921-A422-E0349462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3B93-54E0-4715-8E2F-73669597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409-2C8C-4F31-9BC9-BC31636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5C9-C1FE-4DD7-9385-496C1F3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A2B-8547-41EC-8C9A-E4E3098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028-82B7-4E61-8783-B435268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118-F4B8-40AF-A2EA-8D3D037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D21-0719-4CC2-AA23-0BFBDFD6493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76A-A8B6-4FB3-A76B-BA28D7FA644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A19-99D8-488A-B11D-CC6C8CC9FEE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0C2-5021-458A-8942-FC9277A822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3068280"/>
            <a:ext cx="8472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Физическая реабилитация при варикозной болез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Содержимое 2"/>
          <p:cNvSpPr/>
          <p:nvPr/>
        </p:nvSpPr>
        <p:spPr>
          <a:xfrm>
            <a:off x="395280" y="4437000"/>
            <a:ext cx="84726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</a:rPr>
              <a:t>Алешова Эльмир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Инструктор-методист ЛФК ОР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БУЗОО Ц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ОПСА"/>
          <p:cNvPicPr/>
          <p:nvPr/>
        </p:nvPicPr>
        <p:blipFill>
          <a:blip r:embed="rId2"/>
          <a:stretch/>
        </p:blipFill>
        <p:spPr>
          <a:xfrm>
            <a:off x="7380360" y="907920"/>
            <a:ext cx="123192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Лечебная гимнастика в стадии компенсаци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 Увеличивается объем ОРУ и специальных упражнений, длительность занятия 30-40 минут. Увеличивается объем ОРУ и специальных упражн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У в исходных положениях – лежа, лежа с приподнятыми ногами, стоя (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инамические упражнени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). Упражнения для нижних конечностей с большим объемом движений в тазобедренных, коленных и голеностопных суставах. Упражнения с усилием для мышц голеней и бедер.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ыхательные упражнени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(динамического характер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ЛФК при хирургическом лечении ВБНК (венэктом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редоперационный период.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Упражнения в исходном положении лежа. ОРУ и ДУ в соотношении 1:3. Активные упражнения для пальцев стопы, голеностопного, коленного суставов, обучение упражнениям послеоперационного перио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отивопоказ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общее тяжелое состояние пациен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вышенная температура тел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тромбоэмболические осложн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агноение ран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ровоте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оздний послеоперационный период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 вводной части занятия - характер упражнений не меняется. В основной части занятия выполняются упражнения в исходных положениях лежа с приподнятыми ногами и коленно-локтевом. Увеличивается общая физическая нагрузка, объем движений в оперированной ноге, увеличивается количество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изометрических напряжений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(соотношение изометрических и динамических ФУ 1:1). ДУ с форсированным вдохом и выдохом, упражнения на координацию. Число повторений 6-8 раз. Продолжительность занятия 20-25 мину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Ранний послеоперационный период.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родолжительность занятия 10-15 минут,  1-3 раза в день, в И. п. лежа с горизонтальным положением ног и приподнятым ножным концом кушет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ыполняются ДУ и упражнения для здоровых конечностей. Лечебную гимнастику для оперированной конечности начинают со 2-5-го дня, вначале в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отдаленных суставах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, постепенно активизируя движения во всех суставах оперированной конечности. Ходьба только с давящей повязкой на ног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Рекомендации по профилактике застойных явлений в венах нижних конечносте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 качестве профилактики варикозного расширения вен следует избегать продолжительного сидения в одной позе и длительного стояния. Ежедневно выполнять физические упражнения для ног: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очаще подниматься на носочк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, подниматься по лестнице пешком, плавать, ходить пешком по 2—3 км. Стараться не набирать лишний вес, чтобы не провоцировать повышенную нагрузку на нижние конеч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Задачи массаж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ормализация процессов возбуждения и торможения в центральной нервной систем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устранение тканевой гипокс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тимуляция дренажно-детоксикационного комплекса нижних конечнос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активизация функции периферического кровообращения (коллатерального венозного оттока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ротивопоказания к назначению медицинского массажа: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вышение температуры тела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осложнения варикозной болезни (флебиты и тромбофлебиты)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острые лихорадочные состояния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ровотечения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ыраженная сердечно-сосудистая недостаточность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гнойные процессы любой локализации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оспаление лимфатических узлов;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оброкачественные и злокачественные опухо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Рабочие сегмент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яснично-крестцовый отдел позвоночни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тазобедренный суста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коленный суста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голеностопный сустав и стоп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Используемые приемы: поглаживание, выжимание, вибрация – 1,5-2 минуты, разминание (финским стилем) – от 2 до 6 минут на рабочем сегмен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Общее время массажа от 14 минут (минимальное) до 32 минут (максимальное). Оптимальные исходные положения для массажа – лежа на животе, лежа на спин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апомним, что к соединительнотканным структурам относятся места перехода мышц в сухожилия, места крепления мышц к костным образованиям, сумочно-связочный аппарат суставов, апоневроз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инамическая работа скелетных мышц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является одним из существенных факторов регуляции венозного кровообращения. Активное сокращение мышц, опорожняя глубокие вены, создаёт условия для перехода крови из поверхностных вен в глубокие в момент расслабления мышц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(«мышечная помпа»).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Напротив, длительное статическое напряжение, сдавливая глубокие вены, затрудняет отток крови из поверхностных вен и ведёт к их переполнени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Constant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Специальными для данного заболевания являются физические упражнения для ног,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выполняемые лёжа с горизонтальным и приподнятым положением ног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, с большим объёмом движений для тазобедренных и голеностопных суставов, дыхательные упражнения, упражнения с усилием для мышц голени и бедра: нажимание на педали, с резиновыми лентами, упражнения в ходьб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Противопоказания к назначению ЛФК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: острые тромбозы вен (тромбофлебит) с местной и общей воспалительной реакции, послеоперационные осложнения (нагноение, рожистое воспал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Задачи ЛФК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лучшение периферического кровообращения за счет ускорения венозного и лимфатического оттока и артериального прито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Активизация деятельности сердечно-сосудистой системы с использованием </a:t>
            </a: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экстракардиальных факторов</a:t>
            </a: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 кровообращения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меньшение дистрофических изменений в тканях пораженных конечност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Укрепление мускулатуры нижних конечност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f6fc6"/>
                </a:solidFill>
                <a:latin typeface="Constantia"/>
              </a:rPr>
              <a:t>Повышение работоспособности пациент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Формы ЛФК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лечебная гимнаст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дозированная ходьба с использованием эластической компресс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лавание, езда на велосипе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Особенности проведения занятий ЛФК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Занятия ЛФК не должны вызывать болезненных ощущений и увеличения отёчности ног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После занятия рекомендуется отдых в положении лежа с приподнятыми ног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Специальные упражнения для пациентов, страдающих варикозной болезнь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 исходных положениях лежа с горизонтальным и приподнятым положением ног, динамические упражнения для ног с большим объемом движений в суставах, упражнения с сопротивлением для мышц голени и бедра (нажимание на педали, упражнения с резиновыми лентами), дыхательные упражнения с акцентом на диафрагмальное дыхание, ходьб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Лечебная гимнастика в стадии декомпенсации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выполняется в И.П. лёжа, продолжительность занятия 10-20 минут 2 раза в день. При наличии трофических язв исключаются активные движения в близлежащем суставе (обычно голеностопном). Рекомендуются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ыхательные упражнения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, упражнения для мышц брюшного пресса, плавание, дозированная ходьба с использованием эластичного бинта. Продолжительность  занятия 20-25 мину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57:45Z</dcterms:created>
  <dc:creator>БУЗОО</dc:creator>
  <dc:description/>
  <dc:language>en-US</dc:language>
  <cp:lastModifiedBy>Sveta</cp:lastModifiedBy>
  <dcterms:modified xsi:type="dcterms:W3CDTF">2015-05-08T04:30:37Z</dcterms:modified>
  <cp:revision>91</cp:revision>
  <dc:subject/>
  <dc:title>   Бюджетное учреждение здравоохранения Омской области  «Центр  восстановительной медицины и реабилитации»                                                                     Адрес: Блюхера 18, а                                                                                                                   тел. 69-48-03  </dc:title>
</cp:coreProperties>
</file>