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45EF-937A-46A0-ADA4-4AE94E42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54A8-81B2-4BD5-B237-A8241640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1A17-025C-44ED-BE2B-080383CB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4C0C-286F-4D67-A085-71B047BC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625A-8CC6-419C-ADB3-D0B81508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02A9-C68B-4D73-88A6-AE2FD61C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4ADA-EADC-4A52-9B9F-54589A47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BFF5-85D1-498F-B46E-A23E1AF5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D17C-6481-414A-9956-73BE13C4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A4AD-255C-4540-A14C-CA4A0DA3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A6A9-2992-4B91-8738-405F41F8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E014-677C-4B70-AF3F-401361D6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DFCE-971A-412F-967F-69879A83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4B0D-3808-4FB1-A8D4-70822CBF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5989-635B-4B43-BF8F-95817B18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6D1A-08AC-445B-ADD0-B175D06C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17B8-67D1-4DD7-A70D-B009A049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9949A-0420-4D62-BFED-8B499E09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C4E89-793F-474E-9510-EC08AD2B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CBCB5-6EFC-453C-A0EC-F92DC864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12A5B-0984-4850-B547-E84A4116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31BA0-D9F5-4953-BACD-0A338FE8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7029-5C9E-4110-AF0D-17DFCB09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0716D-CF1A-435A-BD55-508F11F7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74576-3EBC-4D4D-B61B-FDD74F7A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95E36-C9BB-4E27-BEA6-AD9C5FAF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68E8D-E6C3-4E14-9A2E-EE2B6C1B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C4C86-4FAB-4A5D-AFAE-13D936F6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57766-00CD-4A81-95BC-37013BD9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B45CD-1E79-4B78-993C-1158ABDF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510B1-0408-40F2-B2EC-76507D4D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61DC9-0A4F-4216-9510-5E9A0EEB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3EF0A-E0EF-454E-9F79-5A2107E8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998E-09AD-47BA-9CFD-0DC64429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E07C6-6C56-44D9-B754-9C4EE9C1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62D04-36A6-4C8F-95F0-FDC72909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22CD7-705B-4A07-8E8B-C57CAF66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A03FE-F955-4984-9925-99616FCA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BB15F-2B68-453E-B949-4B9D12BB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4C801-3EC9-4F40-A229-17DB1E08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5DDC1-7F61-47ED-B2F4-BD732F6D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5FC68-FBA4-4497-A420-CDEA958A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81D82-93C0-4B6B-98E3-3E617B49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8BE8-6972-4D81-BF99-7FC7C506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07A6-F52B-45C5-90F3-C3A84615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397B-1C67-4E90-AF6D-02481E67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29A3-9F2F-4A56-AD1A-272569D6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69D0-075A-4E8A-94BA-7483FE9E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15D3-D15F-49FD-BAA0-193639D00E0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A289-3176-4BB3-926F-C6FDAEFF689F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82F3-7AFB-4857-B48B-3D0B5BBB8D66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999E-4179-4603-8414-15EB48C6293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68000" y="3068280"/>
            <a:ext cx="8472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Arial"/>
                <a:ea typeface="Arial"/>
              </a:rPr>
              <a:t>Физическая реабилитация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Arial"/>
                <a:ea typeface="Arial"/>
              </a:rPr>
              <a:t>при варикозной болезн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97" name="Содержимое 2"/>
          <p:cNvSpPr/>
          <p:nvPr/>
        </p:nvSpPr>
        <p:spPr>
          <a:xfrm>
            <a:off x="492120" y="5145120"/>
            <a:ext cx="847260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Arial"/>
                <a:ea typeface="Arial"/>
              </a:rPr>
              <a:t>О.А. Плетне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Arial"/>
                <a:ea typeface="Arial"/>
              </a:rPr>
              <a:t>врач-педиатр ОР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Arial"/>
                <a:ea typeface="Arial"/>
              </a:rPr>
              <a:t>БУЗОО «ЦМ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ОПСА"/>
          <p:cNvPicPr/>
          <p:nvPr/>
        </p:nvPicPr>
        <p:blipFill>
          <a:blip r:embed="rId2"/>
          <a:stretch/>
        </p:blipFill>
        <p:spPr>
          <a:xfrm>
            <a:off x="7380360" y="907920"/>
            <a:ext cx="1231920" cy="17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f6fc6"/>
                </a:solidFill>
                <a:uFillTx/>
                <a:latin typeface="Constantia"/>
              </a:rPr>
              <a:t>По степени хронической венозной недостаточности 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(Савельев </a:t>
            </a: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B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.</a:t>
            </a: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C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., 2001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0 степень - симптомы отсутствую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I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 степень — синдром «тяжелых ног», преходящий отек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II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 степень - стойкий отек, гипер-гипопигментация, липодерматосклероз, экзем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III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 степень - венозная трофическая язва (открытая или зажившая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0 класс. На этой стадии какие-либо заметные на глаз симптомы варикоза отсутствуют, но уже беспокоит тяжесть в ногах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1 класс. Эта стадия появления телеангиоэктазий (сосудистых звездочек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2 класс. К уже присутствующим симптомам присоединяются видимые изменения - расширенные вены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3 класс. Появление отеков на ногах, которые не проходят после отдыха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4 класс. Развивается липодерматосклероз: голени приобретают темно-коричневый оттенок, появляются дерматиты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5 класс. Для этой стадии уже характерно развитие так называемой предъязвы или зажившей язвы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6 класс. Развитие стойких трофических язв, особенно в области голен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f6fc6"/>
                </a:solidFill>
                <a:latin typeface="Constantia"/>
              </a:rPr>
              <a:t>Стадия компенсаци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f6fc6"/>
                </a:solidFill>
                <a:latin typeface="Constantia"/>
              </a:rPr>
              <a:t>А - Жалобы только на отдельные варикозно расширенные вены на голени или бедре. Никаких других симптомов варикоза человек не замечает, </a:t>
            </a:r>
            <a:r>
              <a:rPr b="1" lang="ru-RU" sz="2200" spc="-1" strike="noStrike">
                <a:solidFill>
                  <a:srgbClr val="0f6fc6"/>
                </a:solidFill>
                <a:latin typeface="Constantia"/>
              </a:rPr>
              <a:t>каких-либо нарушений венозного оттока крови нет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f6fc6"/>
                </a:solidFill>
                <a:latin typeface="Constantia"/>
              </a:rPr>
              <a:t>Б - То же самое что и А, но уже при обследовании выявляется </a:t>
            </a:r>
            <a:r>
              <a:rPr b="1" lang="ru-RU" sz="2200" spc="-1" strike="noStrike">
                <a:solidFill>
                  <a:srgbClr val="0f6fc6"/>
                </a:solidFill>
                <a:latin typeface="Constantia"/>
              </a:rPr>
              <a:t>недостаточности клапанов основных стволов и коммуникантных вен;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ctr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6fc6"/>
                </a:solidFill>
                <a:latin typeface="Constantia"/>
              </a:rPr>
              <a:t>C</a:t>
            </a:r>
            <a:r>
              <a:rPr b="0" lang="ru-RU" sz="2200" spc="-1" strike="noStrike">
                <a:solidFill>
                  <a:srgbClr val="0f6fc6"/>
                </a:solidFill>
                <a:latin typeface="Constantia"/>
              </a:rPr>
              <a:t>тадия  декомпенсации  -  признаки  застоя  крови  в  венах: ощущение тяжести в ногах, отек ног, быстрая утомляемость, тупые боли в ногах, судороги в икроножных мышцах, дерматит, зуд кожи вплоть до трофических яз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f6fc6"/>
                </a:solidFill>
                <a:uFillTx/>
                <a:latin typeface="Constantia"/>
              </a:rPr>
              <a:t>Ведущим клиническим проявлением варикозной болезни является расширение подкожных вен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. В начальных стадиях заболевания появляются немногочисленные и весьма неспецифичные симптомы. Больных беспокоят чувство тяжести и повышенной утомляемости в ногах, распирание, жжение и иногда ночные судороги в икроножных мышцах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Осложнения: 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кровотечение, тромбофлебит, трофическая язва (с указанием локализации и стадии раневого процесс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Диагностика варикозной болезни, 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как и любого другого заболевания, начинается со сбора жалоб и анамнеза (описание смотри выше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f6fc6"/>
                </a:solidFill>
                <a:uFillTx/>
                <a:latin typeface="Constantia"/>
              </a:rPr>
              <a:t>Объективный осмотр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 должен проводиться в условиях максимального кровенаполнения вен, то есть в вертикальном положении, желательно в вечернее время, когда поражённые сосуды начинают лучше контурироваться. </a:t>
            </a: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Пальпаторные свойства эктазированных вен: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 напряженность, плотность, болезненность. Выявляется наличие отёка, устанавливается протяжённость изменённых участк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f6fc6"/>
                </a:solidFill>
                <a:uFillTx/>
                <a:latin typeface="Constantia"/>
              </a:rPr>
              <a:t>Дополнительные методы диагностики.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С целью оценки степени функциональных расстройств используются различные пробы (трёхжгутовая, Пертеса, Пратта, Троянова- Тренделенбурга, Гакенбруха, Шварца, Левенберга). Температура кожи измеряется в области венозного конгломерата. Её повышение может указывать на перфорантный сброс крови из глубоких вен в поверхностны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41148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f6fc6"/>
                </a:solidFill>
                <a:latin typeface="Constantia"/>
              </a:rPr>
              <a:t>В настоящее время всё больший вес приобретает дуплексное сканирование, особенно в сложных ситуациях и при наличии каких-либо осложнений болезни. Это информативный неинвазивный метод диагностики, представляющий собой сочетание допплерографии и режима сканирования в реальном времени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5076720" y="836640"/>
            <a:ext cx="3641760" cy="34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f6fc6"/>
                </a:solidFill>
                <a:latin typeface="Constantia"/>
              </a:rPr>
              <a:t>Флебоманометрия 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позволяет измерить давление в интересующих сосудах и на основании этого судить о функционировании клапанного аппарата. Неотъемлемой частью обследования пациента с варикозной болезнью является </a:t>
            </a:r>
            <a:r>
              <a:rPr b="1" i="1" lang="ru-RU" sz="2600" spc="-1" strike="noStrike">
                <a:solidFill>
                  <a:srgbClr val="0f6fc6"/>
                </a:solidFill>
                <a:latin typeface="Constantia"/>
              </a:rPr>
              <a:t>лабораторная диагностика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, при помощи которой осуществляется контроль над показателями свёртывающей системы крови с целью их своевременной коррекции. </a:t>
            </a:r>
            <a:r>
              <a:rPr b="0" lang="ru-RU" sz="2600" spc="-1" strike="noStrike" u="sng">
                <a:solidFill>
                  <a:srgbClr val="0f6fc6"/>
                </a:solidFill>
                <a:uFillTx/>
                <a:latin typeface="Constantia"/>
              </a:rPr>
              <a:t>Данный аспект особо важен ввиду достаточно высокой вероятности тромбообразования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Варикозное расширение вен 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довольно распространенное заболевание. В наши дни варикозом страдают каждая </a:t>
            </a: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третья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 женщина и каждый </a:t>
            </a: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десятый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 мужчина, причем наиболее часто заболевание начинается в трудоспособном возрасте в 30-40 лет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Дифференциальная диагностика варикозного расширения вен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В большинстве случаев распознавание первичного варикозного расширения вен нижних конечностей не представляет больших трудностей. Следует исключить заболевания, которые по клиническим признакам напоминают варикозную болезнь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Синдром Клиппель-Треноне, обусловленный аплазией или гипоплазией глубоких вен, встречается очень редко, проявляется в раннем детстве, постепенно прогрессирует с развитием </a:t>
            </a:r>
            <a:r>
              <a:rPr b="0" lang="ru-RU" sz="2600" spc="-1" strike="noStrike" u="sng">
                <a:solidFill>
                  <a:srgbClr val="0f6fc6"/>
                </a:solidFill>
                <a:uFillTx/>
                <a:latin typeface="Constantia"/>
              </a:rPr>
              <a:t>тяжелых трофических расстройств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. Варикозное расширение вен имеет </a:t>
            </a:r>
            <a:r>
              <a:rPr b="0" lang="ru-RU" sz="2600" spc="-1" strike="noStrike" u="sng">
                <a:solidFill>
                  <a:srgbClr val="0f6fc6"/>
                </a:solidFill>
                <a:uFillTx/>
                <a:latin typeface="Constantia"/>
              </a:rPr>
              <a:t>атипичную локализацию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 на наружной поверхности конечност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На коже имеются пигментные пятна в виде "географической карты", выражен гипергидроз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Для болезни Паркса Вебера-Рубашова характерно: удлинение и утолщение конечности, атипичная локализация варикозно расширенных вен; вены часто пульсируют вследствие сброса артериальной крови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Пратт Пиулакс и Видаль-Барраке выделяют "артериальное варикозное расширение вен", при котором варикозное расширение вен является следствием функционирования множественных мелких артериовенозных свищей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Варикозное расширение вен нижних конечностей -заболевание хирургическое, поэтому радикальное его лечение возможно только хирургическими методами. Людям, имеющим факторы риска и наследственную предрасположенность к варикозной болезни необходимо один </a:t>
            </a: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раз в 2 года консультироваться у флеболога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 с обязательным ультразвуковым исследованием ве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f6fc6"/>
                </a:solidFill>
                <a:uFillTx/>
                <a:latin typeface="Constantia"/>
              </a:rPr>
              <a:t>Хирургические методы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Флебэктомия представляет собой удаление варикозно расширенных вен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Лазерная коагуляция варикозных вен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Радиочастотная коагуляция варикозных вен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Склеротерап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для подготовки больных с запущенными формами хронической венозной недостаточностью (ХВН) к оперативному лечению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когда хирургическое вмешательство по тем или иным причинам невозможно или откладывается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для скорейшей реабилитации пациентов в послеоперационном период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нивелирование признаков ХВН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профилактика рецидивов заболева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сохранение трудоспособ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повышение качества жизни пациенто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f6fc6"/>
                </a:solidFill>
                <a:latin typeface="Constantia"/>
              </a:rPr>
              <a:t>уменьшение диаметра поверхностных вен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f6fc6"/>
                </a:solidFill>
                <a:latin typeface="Constantia"/>
              </a:rPr>
              <a:t>уменьшение или исчезновение рефлюкса в них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f6fc6"/>
                </a:solidFill>
                <a:latin typeface="Constantia"/>
              </a:rPr>
              <a:t>возрастание скорости движения крови по глубоким венам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f6fc6"/>
                </a:solidFill>
                <a:latin typeface="Constantia"/>
              </a:rPr>
              <a:t>повышение эффективности работы мышечной венозной помпы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f6fc6"/>
                </a:solidFill>
                <a:latin typeface="Constantia"/>
              </a:rPr>
              <a:t>уменьшение объема «балластной» крови в нижних конечностях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f6fc6"/>
                </a:solidFill>
                <a:latin typeface="Constantia"/>
              </a:rPr>
              <a:t>уменьшение капиллярной фильтрации и увеличение резорбции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f6fc6"/>
                </a:solidFill>
                <a:latin typeface="Constantia"/>
              </a:rPr>
              <a:t>увеличение лимфатического дренаж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В клинической практике для компрессионного лечения чаще всего используют эластичные бинты и компрессионный трикотаж. </a:t>
            </a: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Бинтование производится в горизонтальном положении тела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 от пальцев стопы и выше - до коленного сустава (ни в коем случае не наоборот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Каждый тур бинта закрывает предыдущий </a:t>
            </a: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наполовину.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 Можно носить эластичные чулки или колготки, надевать которые также следует в горизонтальном положен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6840" y="836640"/>
            <a:ext cx="476244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Constantia"/>
              </a:rPr>
              <a:t>Определение понятия: </a:t>
            </a:r>
            <a:r>
              <a:rPr b="0" lang="ru-RU" sz="2400" spc="-1" strike="noStrike">
                <a:solidFill>
                  <a:srgbClr val="0f6fc6"/>
                </a:solidFill>
                <a:latin typeface="Constantia"/>
              </a:rPr>
              <a:t>Варикоз, или варикозное расширение вен (от лат. </a:t>
            </a:r>
            <a:r>
              <a:rPr b="0" i="1" lang="en-US" sz="2400" spc="-1" strike="noStrike">
                <a:solidFill>
                  <a:srgbClr val="0f6fc6"/>
                </a:solidFill>
                <a:latin typeface="Constantia"/>
              </a:rPr>
              <a:t>varix</a:t>
            </a:r>
            <a:r>
              <a:rPr b="0" i="1" lang="ru-RU" sz="2400" spc="-1" strike="noStrike">
                <a:solidFill>
                  <a:srgbClr val="0f6fc6"/>
                </a:solidFill>
                <a:latin typeface="Constantia"/>
              </a:rPr>
              <a:t> - </a:t>
            </a:r>
            <a:r>
              <a:rPr b="0" lang="ru-RU" sz="2400" spc="-1" strike="noStrike">
                <a:solidFill>
                  <a:srgbClr val="0f6fc6"/>
                </a:solidFill>
                <a:latin typeface="Constantia"/>
              </a:rPr>
              <a:t>узел, вздутие) - это стойкое и необратимое расширение и удлинение вен (сосудов, несущих кровь к сердцу) нижних конечностей с истончением венозной стенки и образование «узлов» в результате грубой патологии венозных стенок, а также недостаточности их клапанов вследствие генетического дефект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5796000" y="836640"/>
            <a:ext cx="273672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повышать тонус вен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уменьшать проницаемость капилляров и  улучшать лимфодренаж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улучшать микроциркуляцию и устранять реологические расстройства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ингибировать адгезию лейкоцитов к  венозной стенке и купировать воспаление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хорошо переноситься больны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флеботони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дезагреганты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антиоксиданты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антикоагулянты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фибринолитики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препараты, влияющие на трофические процессы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противоотечные препара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Сочетание эластической лечебной компрессии с приемом короткими курсами лекарственных средств - оптимальное решение проблемы консервативной терапии варикозной болезни. Однако приоритет в восстановлении здоровья и качества жизни у таких больных принадлежит сегодня хирургии и склеротерапи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не увлекаться горячими ваннами, сауной, длительным пребыванием на солнце. Все перечисленное снижает венозный тонус, ведет к застою крови в нижних конечностях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не носить обтягивающую одежды, чулки и носки с тугими резинками, так как это ведет к сдавлению вен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избыточная масса тела и занятия спортом, связанные с большой статической нагрузкой на ноги (теннис, тяжелая атлетика, бодибилдинг) увеличивают венозное давлени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не носить обувь на высоких каблуках (выше 4-5 см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не сидеть нога на ногу! При забрасывании одного колена на другое создаётся препятствие на пути кровоток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при тяжести в ногах вечером после рабочего дня, во время сна и отдыха ноги следует держать в приподнятом состоянии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при долгом нахождении в положении сидя за столом или стоите, следует чаще менять положение ног, шагать на месте, вращать стоп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Существуют виды спорта, которые полезны при этом заболевании - это, прежде всего плавание, а также ходьба, прогулки на велосипеде, лыж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Немаловажное значение для профилактики имеют - бинтование ног, либо ношение специального компрессионного трикотажа, применение флеботоников как во время беременности, так и после род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длительные статические нагрузки, связанные, как правило, с трудовой деятельностью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работа при высокой температуре воздуха. Если пациент занят на таком производстве (пекарни, горячие цехи заводов и т. п.), ему рекомендуют сменить вид трудовой деятельности. При проживании больных в южных регионах должна быть исключена работа в наиболее жаркие дневные час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При развитии отека поверхностных тканей следует ограничить прием пациентами жидкости, а также пищи, способствующей ее задержке в организме (диета с низким содержанием солей, острых приправ, ограничением приема жареной пищи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При ХВН, осложнившейся вторичной лимфедемой, помимо названных выше диетических мер, необходимо ограничить прием пищи, богатой белк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При лечении венозных трофических язв необходимо восполнение дефицита витаминов, который отмечается у подавляющего большинства пациентов. </a:t>
            </a: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Употребление больше зелени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 (петрушка, укроп), овощей и фруктов, в которых содержится значительное количество витамина С, оказывающего капилляропротективное действие, необходимо для стабилизации структуры коллаген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цинк необходим для транскрипции РНК. Доказано, что его дефицит значительно тормозит регенерацию мягких тканей, эпителизацию   трофической язвы и формирование полноценного рубц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ионизированное железо является кофактором гидроксилирования лизина и пролина при синтезе коллаген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медь участвует в образование перекрестных связей в молекул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Частота. 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Распространенность варикозной болезни необычайно широкая. По данным разных авторов, в той или иной степени выраженности её признаки имеют до </a:t>
            </a: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89%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 женщин и до </a:t>
            </a: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66%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 мужчин из числа жителей развитых стран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f6fc6"/>
                </a:solidFill>
                <a:latin typeface="Constantia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Варикозное расширение вен бывает не только нижних конечностей, но и существует варикозное </a:t>
            </a:r>
            <a:r>
              <a:rPr b="0" lang="ru-RU" sz="2600" spc="-1" strike="noStrike" u="sng">
                <a:solidFill>
                  <a:srgbClr val="0f6fc6"/>
                </a:solidFill>
                <a:uFillTx/>
                <a:latin typeface="Constantia"/>
              </a:rPr>
              <a:t>расширение вен желудка и пищевода, вен малого таза, вен яичка и семенного канатика - варикоцеле.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f6fc6"/>
                </a:solidFill>
                <a:uFillTx/>
                <a:latin typeface="Constantia"/>
              </a:rPr>
              <a:t>Причины развития варикозной болезни нижних конечностей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наследствен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повышение венозного давления (малоподвижный образ жизни, статические нагрузки в вертикальном положении, ожирение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профессиональные вредности (наиболее часто ВБНК встречается у врачей, продавцов, парикмахеров и др.), т.е. у специалистов, длительное время находящихся на ног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f6fc6"/>
                </a:solidFill>
                <a:uFillTx/>
                <a:latin typeface="Constantia"/>
              </a:rPr>
              <a:t>ятрогенные: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 нарушение гормонального фона в связи с неправильно подобранной гормональной терапией, в т.ч. и гормональной контрацепцие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f6fc6"/>
                </a:solidFill>
                <a:uFillTx/>
                <a:latin typeface="Constantia"/>
              </a:rPr>
              <a:t>повышение внутрибрюшного давления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 при подъеме тяжестей, кашле, чиханье, хронических запорах и т.д. также приводит к нарушению работы венозных клапан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f6fc6"/>
                </a:solidFill>
                <a:uFillTx/>
                <a:latin typeface="Constantia"/>
              </a:rPr>
              <a:t>возраст: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 у лиц  пожилого  возраста нарушения  нормальной работы вен вполне закономер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44000" cy="52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f6fc6"/>
                </a:solidFill>
                <a:uFillTx/>
                <a:latin typeface="Constantia"/>
              </a:rPr>
              <a:t>Формы варикозной болезни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Внутрикожный и сегментарный варикоз без патологического веновенозного сброс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Сегментарный варикоз с рефлюксом по поверхностным и/или перфорантным вена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Распространенный варикоз с рефлюксом по поверхностным и перфорантным вена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Варикозное расширение при наличии рефлюкса по глубоким вена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06:57:45Z</dcterms:created>
  <dc:creator>БУЗОО</dc:creator>
  <dc:description/>
  <dc:language>en-US</dc:language>
  <cp:lastModifiedBy>Sveta</cp:lastModifiedBy>
  <dcterms:modified xsi:type="dcterms:W3CDTF">2015-05-08T05:05:25Z</dcterms:modified>
  <cp:revision>96</cp:revision>
  <dc:subject/>
  <dc:title>   Бюджетное учреждение здравоохранения Омской области  «Центр  восстановительной медицины и реабилитации»                                                                     Адрес: Блюхера 18, а                                                                                                                   тел. 69-48-03  </dc:title>
</cp:coreProperties>
</file>