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4.jpeg" ContentType="image/jpeg"/>
  <Override PartName="/ppt/media/image2.png" ContentType="image/png"/>
  <Override PartName="/ppt/media/image5.png" ContentType="image/pn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9723438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C9767-C0D8-4AAF-B900-BA39DD4C0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25080" y="314280"/>
            <a:ext cx="77756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95440" y="1450440"/>
            <a:ext cx="809136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95440" y="4053960"/>
            <a:ext cx="809136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BCB19-6D49-4BC7-9177-F541B9666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25080" y="314280"/>
            <a:ext cx="77756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95440" y="1450440"/>
            <a:ext cx="394848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41560" y="1450440"/>
            <a:ext cx="394848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5440" y="4053960"/>
            <a:ext cx="394848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41560" y="4053960"/>
            <a:ext cx="394848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1FB9C-A78B-4E39-B2A8-67215C193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25080" y="314280"/>
            <a:ext cx="77756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595440" y="1450440"/>
            <a:ext cx="260532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31440" y="1450440"/>
            <a:ext cx="260532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67440" y="1450440"/>
            <a:ext cx="260532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95440" y="4053960"/>
            <a:ext cx="260532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31440" y="4053960"/>
            <a:ext cx="260532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67440" y="4053960"/>
            <a:ext cx="260532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3932D-8AB1-4FD1-935C-2095EBF87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574AF-F34F-49C8-8411-222AB2A3D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25080" y="314280"/>
            <a:ext cx="77756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95440" y="1450440"/>
            <a:ext cx="809136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A3482-C5CC-4231-80C9-51B447B9A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25080" y="314280"/>
            <a:ext cx="77756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95440" y="1450440"/>
            <a:ext cx="809136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6E689-01CD-4A50-B812-760C3AA65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25080" y="314280"/>
            <a:ext cx="77756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95440" y="1450440"/>
            <a:ext cx="394848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41560" y="1450440"/>
            <a:ext cx="394848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E792C-CBB0-42BB-ABC0-874231515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25080" y="314280"/>
            <a:ext cx="77756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C1BDC-CFFC-45A2-9969-2BA3F98C7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325080" y="349200"/>
            <a:ext cx="7775640" cy="29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E6326-A4EB-4991-B1BD-EB36AB7F9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25080" y="314280"/>
            <a:ext cx="77756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95440" y="1450440"/>
            <a:ext cx="394848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41560" y="1450440"/>
            <a:ext cx="394848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5440" y="4053960"/>
            <a:ext cx="394848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5468E-23E0-4DBA-8DC3-D20714632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25080" y="314280"/>
            <a:ext cx="77756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595440" y="1450440"/>
            <a:ext cx="809136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F279C-6EEE-41EC-81D3-0FCB2F524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25080" y="314280"/>
            <a:ext cx="77756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95440" y="1450440"/>
            <a:ext cx="394848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41560" y="1450440"/>
            <a:ext cx="394848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741560" y="4053960"/>
            <a:ext cx="394848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3684B-C847-44BF-93A1-41FE4C6D8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25080" y="314280"/>
            <a:ext cx="77756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95440" y="1450440"/>
            <a:ext cx="394848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41560" y="1450440"/>
            <a:ext cx="394848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95440" y="4053960"/>
            <a:ext cx="809136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7F5B6-956B-4279-912F-E43480508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25080" y="314280"/>
            <a:ext cx="77756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95440" y="1450440"/>
            <a:ext cx="809136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95440" y="4053960"/>
            <a:ext cx="809136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23689-3EE4-4FB9-B7CC-B46A2FA90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25080" y="314280"/>
            <a:ext cx="77756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95440" y="1450440"/>
            <a:ext cx="394848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41560" y="1450440"/>
            <a:ext cx="394848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5440" y="4053960"/>
            <a:ext cx="394848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741560" y="4053960"/>
            <a:ext cx="394848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872D5-1769-4311-A1AA-926C3CB51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25080" y="314280"/>
            <a:ext cx="77756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95440" y="1450440"/>
            <a:ext cx="260532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31440" y="1450440"/>
            <a:ext cx="260532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67440" y="1450440"/>
            <a:ext cx="260532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95440" y="4053960"/>
            <a:ext cx="260532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31440" y="4053960"/>
            <a:ext cx="260532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67440" y="4053960"/>
            <a:ext cx="260532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82145-60E2-4B30-9573-1854D84B2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25080" y="314280"/>
            <a:ext cx="77756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95440" y="1450440"/>
            <a:ext cx="809136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4812B-3F50-4533-B030-50044C6AE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25080" y="314280"/>
            <a:ext cx="77756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95440" y="1450440"/>
            <a:ext cx="394848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41560" y="1450440"/>
            <a:ext cx="394848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599BB-88B7-4F28-8D6B-68C8DA0CA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25080" y="314280"/>
            <a:ext cx="77756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0F81E-3BF9-4612-BEF6-9B486FF95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25080" y="349200"/>
            <a:ext cx="7775640" cy="29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EC496-36EE-4ACC-968B-EA594F02F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25080" y="314280"/>
            <a:ext cx="77756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95440" y="1450440"/>
            <a:ext cx="394848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41560" y="1450440"/>
            <a:ext cx="394848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5440" y="4053960"/>
            <a:ext cx="394848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23BBE-39BB-4EBD-8597-BBEEA5698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25080" y="314280"/>
            <a:ext cx="77756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95440" y="1450440"/>
            <a:ext cx="394848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41560" y="1450440"/>
            <a:ext cx="394848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741560" y="4053960"/>
            <a:ext cx="394848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92CD8-77EA-4281-8A74-DA85BF204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25080" y="314280"/>
            <a:ext cx="77756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95440" y="1450440"/>
            <a:ext cx="394848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41560" y="1450440"/>
            <a:ext cx="394848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95440" y="4053960"/>
            <a:ext cx="809136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70636-5581-4368-BE2C-49D3A9B80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5" descr="59018 _1"/>
          <p:cNvPicPr/>
          <p:nvPr/>
        </p:nvPicPr>
        <p:blipFill>
          <a:blip r:embed="rId2"/>
          <a:stretch/>
        </p:blipFill>
        <p:spPr>
          <a:xfrm>
            <a:off x="0" y="3530520"/>
            <a:ext cx="2603520" cy="3327480"/>
          </a:xfrm>
          <a:prstGeom prst="rect">
            <a:avLst/>
          </a:prstGeom>
          <a:ln w="0">
            <a:noFill/>
          </a:ln>
        </p:spPr>
      </p:pic>
      <p:pic>
        <p:nvPicPr>
          <p:cNvPr id="1" name="Picture 74" descr="Medical Perspectives_EyeWire copy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>
          <a:xfrm>
            <a:off x="297000" y="6576480"/>
            <a:ext cx="2133360" cy="2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>
          <a:xfrm>
            <a:off x="2716200" y="6566040"/>
            <a:ext cx="3649680" cy="28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>
          <a:xfrm>
            <a:off x="6730560" y="6568920"/>
            <a:ext cx="2133720" cy="2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252B9-6095-49BA-B47B-DDBE6A555B4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body"/>
          </p:nvPr>
        </p:nvSpPr>
        <p:spPr>
          <a:xfrm>
            <a:off x="595440" y="1450440"/>
            <a:ext cx="809136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Freeform 68"/>
          <p:cNvSpPr/>
          <p:nvPr/>
        </p:nvSpPr>
        <p:spPr>
          <a:xfrm>
            <a:off x="957240" y="1103400"/>
            <a:ext cx="6543720" cy="39600"/>
          </a:xfrm>
          <a:custGeom>
            <a:avLst/>
            <a:gdLst/>
            <a:ahLst/>
            <a:rect l="l" t="t" r="r" b="b"/>
            <a:pathLst>
              <a:path w="4122" h="25">
                <a:moveTo>
                  <a:pt x="4122" y="0"/>
                </a:moveTo>
                <a:lnTo>
                  <a:pt x="0" y="3"/>
                </a:lnTo>
                <a:lnTo>
                  <a:pt x="37" y="25"/>
                </a:lnTo>
                <a:lnTo>
                  <a:pt x="4109" y="25"/>
                </a:lnTo>
                <a:lnTo>
                  <a:pt x="4122" y="0"/>
                </a:lnTo>
                <a:close/>
              </a:path>
            </a:pathLst>
          </a:custGeom>
          <a:gradFill rotWithShape="0">
            <a:gsLst>
              <a:gs pos="0">
                <a:srgbClr val="000066">
                  <a:alpha val="0"/>
                </a:srgbClr>
              </a:gs>
              <a:gs pos="100000">
                <a:srgbClr val="00005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pic>
        <p:nvPicPr>
          <p:cNvPr id="7" name="Picture 69" descr="artway_medical_thermomete_01"/>
          <p:cNvPicPr/>
          <p:nvPr/>
        </p:nvPicPr>
        <p:blipFill>
          <a:blip r:embed="rId4"/>
          <a:stretch/>
        </p:blipFill>
        <p:spPr>
          <a:xfrm>
            <a:off x="6535800" y="98280"/>
            <a:ext cx="1015920" cy="107964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325080" y="349200"/>
            <a:ext cx="777564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Text Box 72"/>
          <p:cNvSpPr/>
          <p:nvPr/>
        </p:nvSpPr>
        <p:spPr>
          <a:xfrm>
            <a:off x="7642080" y="779400"/>
            <a:ext cx="12924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Verdana"/>
              </a:rPr>
              <a:t>LOGO</a:t>
            </a: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52" descr="59018 copy"/>
          <p:cNvPicPr/>
          <p:nvPr/>
        </p:nvPicPr>
        <p:blipFill>
          <a:blip r:embed="rId3"/>
          <a:stretch/>
        </p:blipFill>
        <p:spPr>
          <a:xfrm>
            <a:off x="0" y="3259080"/>
            <a:ext cx="2814480" cy="3598920"/>
          </a:xfrm>
          <a:prstGeom prst="rect">
            <a:avLst/>
          </a:prstGeom>
          <a:ln w="0">
            <a:noFill/>
          </a:ln>
        </p:spPr>
      </p:pic>
      <p:sp>
        <p:nvSpPr>
          <p:cNvPr id="47" name="Text Box 27"/>
          <p:cNvSpPr/>
          <p:nvPr/>
        </p:nvSpPr>
        <p:spPr>
          <a:xfrm>
            <a:off x="338040" y="295200"/>
            <a:ext cx="12924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LOGO</a:t>
            </a: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595440" y="1450440"/>
            <a:ext cx="809136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325080" y="349200"/>
            <a:ext cx="777564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358920" y="6394320"/>
            <a:ext cx="2133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5864040" y="6402240"/>
            <a:ext cx="278892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957040" y="6394320"/>
            <a:ext cx="443160" cy="2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FF5C1-8C6D-4A18-90D1-962C4877CC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3230640"/>
            <a:ext cx="9144000" cy="960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2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Bookman Old Style"/>
              </a:rPr>
              <a:t>«Физиотерапия                     при варикозной болезни»</a:t>
            </a: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1600200" y="456408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pic>
        <p:nvPicPr>
          <p:cNvPr id="91" name="Picture 4" descr="\\S01\документы\Школа массажа\ШрейдерТФ\Документация\логотип.jpg"/>
          <p:cNvPicPr/>
          <p:nvPr/>
        </p:nvPicPr>
        <p:blipFill>
          <a:blip r:embed="rId1"/>
          <a:stretch/>
        </p:blipFill>
        <p:spPr>
          <a:xfrm>
            <a:off x="212760" y="0"/>
            <a:ext cx="1360440" cy="1901880"/>
          </a:xfrm>
          <a:prstGeom prst="rect">
            <a:avLst/>
          </a:prstGeom>
          <a:ln w="0">
            <a:noFill/>
          </a:ln>
        </p:spPr>
      </p:pic>
      <p:sp>
        <p:nvSpPr>
          <p:cNvPr id="92" name="Text Box 47"/>
          <p:cNvSpPr/>
          <p:nvPr/>
        </p:nvSpPr>
        <p:spPr>
          <a:xfrm>
            <a:off x="2448000" y="5303880"/>
            <a:ext cx="659592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Е.И. Огарь, 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едицинская сестра по физиотерапии ФТО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УЗОО «ЦМР» 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25080" y="348840"/>
            <a:ext cx="7775640" cy="1065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Bookman Old Style"/>
              </a:rPr>
              <a:t>Местная дарсонвализация</a:t>
            </a:r>
            <a:endParaRPr b="1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15" name="Содержимое 4" descr=""/>
          <p:cNvPicPr/>
          <p:nvPr/>
        </p:nvPicPr>
        <p:blipFill>
          <a:blip r:embed="rId1"/>
          <a:stretch/>
        </p:blipFill>
        <p:spPr>
          <a:xfrm>
            <a:off x="1674720" y="1714680"/>
            <a:ext cx="5689800" cy="3709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25080" y="349200"/>
            <a:ext cx="777564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Bookman Old Style"/>
              </a:rPr>
              <a:t>Инфракрасная лазеротерапия</a:t>
            </a:r>
            <a:endParaRPr b="1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17" name="Picture 2" descr=""/>
          <p:cNvPicPr/>
          <p:nvPr/>
        </p:nvPicPr>
        <p:blipFill>
          <a:blip r:embed="rId1"/>
          <a:stretch/>
        </p:blipFill>
        <p:spPr>
          <a:xfrm>
            <a:off x="1835280" y="2036880"/>
            <a:ext cx="5056200" cy="3763800"/>
          </a:xfrm>
          <a:prstGeom prst="rect">
            <a:avLst/>
          </a:prstGeom>
          <a:ln w="38160">
            <a:solidFill>
              <a:srgbClr val="013329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25080" y="349200"/>
            <a:ext cx="7775640" cy="108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Bookman Old Style"/>
              </a:rPr>
              <a:t>Сероводородные ванны</a:t>
            </a:r>
            <a:endParaRPr b="1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19" name="Picture 4" descr=""/>
          <p:cNvPicPr/>
          <p:nvPr/>
        </p:nvPicPr>
        <p:blipFill>
          <a:blip r:embed="rId1"/>
          <a:stretch/>
        </p:blipFill>
        <p:spPr>
          <a:xfrm>
            <a:off x="1943280" y="1828800"/>
            <a:ext cx="5271840" cy="3541680"/>
          </a:xfrm>
          <a:prstGeom prst="rect">
            <a:avLst/>
          </a:prstGeom>
          <a:ln w="381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25080" y="258480"/>
            <a:ext cx="7775640" cy="123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Bookman Old Style"/>
              </a:rPr>
              <a:t>Озоновые ванны</a:t>
            </a:r>
            <a:endParaRPr b="1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21" name="Picture 6" descr=""/>
          <p:cNvPicPr/>
          <p:nvPr/>
        </p:nvPicPr>
        <p:blipFill>
          <a:blip r:embed="rId1"/>
          <a:stretch/>
        </p:blipFill>
        <p:spPr>
          <a:xfrm>
            <a:off x="1841400" y="1844640"/>
            <a:ext cx="4959360" cy="3317760"/>
          </a:xfrm>
          <a:prstGeom prst="rect">
            <a:avLst/>
          </a:prstGeom>
          <a:ln w="38160">
            <a:solidFill>
              <a:srgbClr val="01332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71080" y="2773440"/>
            <a:ext cx="6729480" cy="1722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2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000066"/>
                </a:solidFill>
                <a:latin typeface="Bookman Old Style"/>
              </a:rPr>
              <a:t>Спасибо         за внимание</a:t>
            </a:r>
            <a:r>
              <a:rPr b="1" i="1" lang="en-US" sz="6600" spc="-1" strike="noStrike">
                <a:solidFill>
                  <a:srgbClr val="000066"/>
                </a:solidFill>
                <a:latin typeface="Bookman Old Style"/>
              </a:rPr>
              <a:t>!</a:t>
            </a:r>
            <a:endParaRPr b="1" lang="en-US" sz="66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23" name="Picture 4" descr="\\S01\документы\Школа массажа\ШрейдерТФ\Документация\логотип.jpg"/>
          <p:cNvPicPr/>
          <p:nvPr/>
        </p:nvPicPr>
        <p:blipFill>
          <a:blip r:embed="rId1"/>
          <a:stretch/>
        </p:blipFill>
        <p:spPr>
          <a:xfrm>
            <a:off x="0" y="0"/>
            <a:ext cx="1359000" cy="190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258480"/>
            <a:ext cx="9144000" cy="67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66"/>
                </a:solidFill>
                <a:latin typeface="Bookman Old Style"/>
              </a:rPr>
              <a:t>Лекарственный электрофорез венотоников</a:t>
            </a: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94" name="Picture 2" descr=""/>
          <p:cNvPicPr/>
          <p:nvPr/>
        </p:nvPicPr>
        <p:blipFill>
          <a:blip r:embed="rId1"/>
          <a:stretch/>
        </p:blipFill>
        <p:spPr>
          <a:xfrm>
            <a:off x="363600" y="1722600"/>
            <a:ext cx="3819600" cy="2865240"/>
          </a:xfrm>
          <a:prstGeom prst="rect">
            <a:avLst/>
          </a:prstGeom>
          <a:ln w="38160">
            <a:solidFill>
              <a:srgbClr val="013329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95" name="Picture 3" descr=""/>
          <p:cNvPicPr/>
          <p:nvPr/>
        </p:nvPicPr>
        <p:blipFill>
          <a:blip r:embed="rId2"/>
          <a:stretch/>
        </p:blipFill>
        <p:spPr>
          <a:xfrm>
            <a:off x="4708440" y="3521160"/>
            <a:ext cx="4084560" cy="3062160"/>
          </a:xfrm>
          <a:prstGeom prst="rect">
            <a:avLst/>
          </a:prstGeom>
          <a:ln w="38160">
            <a:solidFill>
              <a:srgbClr val="013329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25080" y="328320"/>
            <a:ext cx="777564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Bookman Old Style"/>
              </a:rPr>
              <a:t>Лекарственный электрофорез венотоников</a:t>
            </a:r>
            <a:endParaRPr b="1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97" name="Picture 6" descr=""/>
          <p:cNvPicPr/>
          <p:nvPr/>
        </p:nvPicPr>
        <p:blipFill>
          <a:blip r:embed="rId1"/>
          <a:stretch/>
        </p:blipFill>
        <p:spPr>
          <a:xfrm>
            <a:off x="1930320" y="1501920"/>
            <a:ext cx="2266920" cy="449568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98" name="Picture 7" descr=""/>
          <p:cNvPicPr/>
          <p:nvPr/>
        </p:nvPicPr>
        <p:blipFill>
          <a:blip r:embed="rId2"/>
          <a:stretch/>
        </p:blipFill>
        <p:spPr>
          <a:xfrm>
            <a:off x="4591080" y="1525680"/>
            <a:ext cx="2247840" cy="44481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395280"/>
            <a:ext cx="8213760" cy="99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66"/>
                </a:solidFill>
                <a:latin typeface="Bookman Old Style"/>
              </a:rPr>
              <a:t>Сегментарная баротерапия</a:t>
            </a:r>
            <a:endParaRPr b="1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00" name="Picture 4" descr=""/>
          <p:cNvPicPr/>
          <p:nvPr/>
        </p:nvPicPr>
        <p:blipFill>
          <a:blip r:embed="rId1"/>
          <a:stretch/>
        </p:blipFill>
        <p:spPr>
          <a:xfrm>
            <a:off x="1660680" y="2011320"/>
            <a:ext cx="5360760" cy="3475080"/>
          </a:xfrm>
          <a:prstGeom prst="rect">
            <a:avLst/>
          </a:prstGeom>
          <a:ln w="381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214200" y="285840"/>
            <a:ext cx="8858160" cy="69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Bookman Old Style"/>
              </a:rPr>
              <a:t> </a:t>
            </a:r>
            <a:r>
              <a:rPr b="1" lang="ru-RU" sz="3600" spc="-1" strike="noStrike">
                <a:solidFill>
                  <a:srgbClr val="000066"/>
                </a:solidFill>
                <a:latin typeface="Bookman Old Style"/>
              </a:rPr>
              <a:t>Низкочастотная магнитотерапия «бегущим» магнитным полем</a:t>
            </a:r>
            <a:endParaRPr b="1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02" name="Picture 4" descr=""/>
          <p:cNvPicPr/>
          <p:nvPr/>
        </p:nvPicPr>
        <p:blipFill>
          <a:blip r:embed="rId1"/>
          <a:stretch/>
        </p:blipFill>
        <p:spPr>
          <a:xfrm>
            <a:off x="3081240" y="1789200"/>
            <a:ext cx="2719440" cy="4559040"/>
          </a:xfrm>
          <a:prstGeom prst="rect">
            <a:avLst/>
          </a:prstGeom>
          <a:ln w="38160">
            <a:solidFill>
              <a:srgbClr val="013329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25080" y="441360"/>
            <a:ext cx="7775640" cy="97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Bookman Old Style"/>
              </a:rPr>
              <a:t>Лекарственный электрофорез протеолитических ферментов</a:t>
            </a:r>
            <a:r>
              <a:rPr b="1" i="1" lang="ru-RU" sz="3600" spc="-1" strike="noStrike">
                <a:solidFill>
                  <a:srgbClr val="000066"/>
                </a:solidFill>
                <a:latin typeface="Bookman Old Style"/>
              </a:rPr>
              <a:t> </a:t>
            </a:r>
            <a:endParaRPr b="1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04" name="Picture 6" descr=""/>
          <p:cNvPicPr/>
          <p:nvPr/>
        </p:nvPicPr>
        <p:blipFill>
          <a:blip r:embed="rId1"/>
          <a:stretch/>
        </p:blipFill>
        <p:spPr>
          <a:xfrm>
            <a:off x="1935000" y="1938240"/>
            <a:ext cx="2267280" cy="449604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05" name="Picture 7" descr=""/>
          <p:cNvPicPr/>
          <p:nvPr/>
        </p:nvPicPr>
        <p:blipFill>
          <a:blip r:embed="rId2"/>
          <a:stretch/>
        </p:blipFill>
        <p:spPr>
          <a:xfrm>
            <a:off x="4548240" y="1946160"/>
            <a:ext cx="2247840" cy="44481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-360" y="517680"/>
            <a:ext cx="8101080" cy="73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Bookman Old Style"/>
              </a:rPr>
              <a:t>Магнитооптическая</a:t>
            </a:r>
            <a:r>
              <a:rPr b="1" i="1" lang="ru-RU" sz="3600" spc="-1" strike="noStrike">
                <a:solidFill>
                  <a:srgbClr val="000066"/>
                </a:solidFill>
                <a:latin typeface="Bookman Old Style"/>
              </a:rPr>
              <a:t> терапия </a:t>
            </a:r>
            <a:endParaRPr b="1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07" name="Picture 4" descr=""/>
          <p:cNvPicPr/>
          <p:nvPr/>
        </p:nvPicPr>
        <p:blipFill>
          <a:blip r:embed="rId1"/>
          <a:stretch/>
        </p:blipFill>
        <p:spPr>
          <a:xfrm>
            <a:off x="730080" y="1492200"/>
            <a:ext cx="2570400" cy="4257720"/>
          </a:xfrm>
          <a:prstGeom prst="rect">
            <a:avLst/>
          </a:prstGeom>
          <a:ln w="38160">
            <a:solidFill>
              <a:srgbClr val="013329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08" name="Picture 2" descr=""/>
          <p:cNvPicPr/>
          <p:nvPr/>
        </p:nvPicPr>
        <p:blipFill>
          <a:blip r:embed="rId2"/>
          <a:stretch/>
        </p:blipFill>
        <p:spPr>
          <a:xfrm>
            <a:off x="3755880" y="3071880"/>
            <a:ext cx="4703760" cy="3502080"/>
          </a:xfrm>
          <a:prstGeom prst="rect">
            <a:avLst/>
          </a:prstGeom>
          <a:ln w="38160">
            <a:solidFill>
              <a:srgbClr val="013329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25080" y="411120"/>
            <a:ext cx="777564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Bookman Old Style"/>
              </a:rPr>
              <a:t>Лекарственный электрофорез гипокоагулянтов и дезагрегантов</a:t>
            </a:r>
            <a:r>
              <a:rPr b="1" i="1" lang="ru-RU" sz="3600" spc="-1" strike="noStrike">
                <a:solidFill>
                  <a:srgbClr val="000066"/>
                </a:solidFill>
                <a:latin typeface="Bookman Old Style"/>
              </a:rPr>
              <a:t> </a:t>
            </a:r>
            <a:endParaRPr b="1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10" name="Picture 5" descr=""/>
          <p:cNvPicPr/>
          <p:nvPr/>
        </p:nvPicPr>
        <p:blipFill>
          <a:blip r:embed="rId1"/>
          <a:stretch/>
        </p:blipFill>
        <p:spPr>
          <a:xfrm>
            <a:off x="2771640" y="1808280"/>
            <a:ext cx="2643480" cy="459720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5080" y="349200"/>
            <a:ext cx="7775640" cy="109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Bookman Old Style"/>
              </a:rPr>
              <a:t>Лазерное облучение крови </a:t>
            </a:r>
            <a:endParaRPr b="1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12" name="Содержимое 3" descr=""/>
          <p:cNvPicPr/>
          <p:nvPr/>
        </p:nvPicPr>
        <p:blipFill>
          <a:blip r:embed="rId1"/>
          <a:stretch/>
        </p:blipFill>
        <p:spPr>
          <a:xfrm>
            <a:off x="500040" y="1500120"/>
            <a:ext cx="3859200" cy="2720880"/>
          </a:xfrm>
          <a:prstGeom prst="rect">
            <a:avLst/>
          </a:prstGeom>
          <a:ln w="38160">
            <a:solidFill>
              <a:srgbClr val="013329"/>
            </a:solidFill>
            <a:miter/>
          </a:ln>
        </p:spPr>
      </p:pic>
      <p:pic>
        <p:nvPicPr>
          <p:cNvPr id="113" name="Picture 2" descr=""/>
          <p:cNvPicPr/>
          <p:nvPr/>
        </p:nvPicPr>
        <p:blipFill>
          <a:blip r:embed="rId2"/>
          <a:stretch/>
        </p:blipFill>
        <p:spPr>
          <a:xfrm>
            <a:off x="4964040" y="3138480"/>
            <a:ext cx="3638520" cy="3314880"/>
          </a:xfrm>
          <a:prstGeom prst="rect">
            <a:avLst/>
          </a:prstGeom>
          <a:ln w="38160">
            <a:solidFill>
              <a:srgbClr val="013329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4T06:32:08Z</dcterms:created>
  <dc:creator>Admin</dc:creator>
  <dc:description/>
  <dc:language>en-US</dc:language>
  <cp:lastModifiedBy>Sveta</cp:lastModifiedBy>
  <dcterms:modified xsi:type="dcterms:W3CDTF">2015-05-08T05:13:47Z</dcterms:modified>
  <cp:revision>120</cp:revision>
  <dc:subject/>
  <dc:title>«Особенности ЛФК и массажа при рахите»</dc:title>
</cp:coreProperties>
</file>