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A890-DFFE-4844-9C90-A5FA05B87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ки к сл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ABFE-4373-40D9-B4E3-204D4649FD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6E6-D2F2-4F72-9EA0-5D2C869EA6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84AE-550E-489A-BA78-12C31CE48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C21A-E672-483A-B4D0-A5A11D8C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B263-C60A-4433-A7F1-444241DB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F16B-5575-4CC0-A589-2CB202AD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0F6B-50DD-4DD5-943A-68E07524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D94D-27E4-4A18-A852-AF22B162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4D4B-504F-48A2-A8F3-9BDC7641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D88-D98A-4A0C-AE75-A3EE48A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076A-025D-487A-80FD-8EDD913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96B-1C19-470E-8A0A-A6FA876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EA6A-8647-4023-8D72-AC2D173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9995-0850-4DD1-80D3-79A16138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9681-FA44-460C-A857-2A4DFCB8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082F-A4F2-4566-AB63-2F68F15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4FFD-8A8E-4253-B4D4-F538B19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6F3D-E668-4961-9CF4-4AF02FB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97D7-B955-4B25-81CC-DDD84013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537F-D46C-409D-BD7A-0FF546B0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9C28-5890-4961-85A8-739B184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AFEF-D7E1-44A5-BA75-0ED9F4DB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08A6-08E2-4308-9ED3-D622C8CA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FD3B-535F-4599-85FC-8F373082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2A1D-2A80-43BE-B708-5E90EE21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3683-1143-4FDE-95DD-3EDEC65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9016-94A4-43CE-A69D-F8D6480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0A8D-71BC-485C-A8A1-95100C9182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6823-4830-4DB3-8EB0-6F8D28438E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821844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e5ff"/>
                </a:solidFill>
                <a:latin typeface="Garamond"/>
              </a:rPr>
              <a:t>НЕОТЛОЖНАЯ РЕНТГЕНОЛОГИЯ </a:t>
            </a:r>
            <a:br>
              <a:rPr sz="3200"/>
            </a:br>
            <a:r>
              <a:rPr b="1" i="1" lang="ru-RU" sz="3200" spc="-1" strike="noStrike">
                <a:solidFill>
                  <a:srgbClr val="e5e5ff"/>
                </a:solidFill>
                <a:latin typeface="Garamond"/>
              </a:rPr>
              <a:t>В УСЛОВИЯХ  РАБОТЫ МНОГОПРОФИЛЬНОГО  СТАЦИОНАР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411280" y="4680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Ю. Мокеев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нтгенолаборант  неотложной помощи отделения лучевой диагност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ЗОО «ГКБ № 1 им. КАБАНОВА А.Н.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https://encrypted-tbn2.gstatic.com/images?q=tbn:ANd9GcQfp1UB79mbV7dMyj3dfDrE4LEyDQD23vBmxUUI0XFGRGgyqvmZlw"/>
          <p:cNvPicPr/>
          <p:nvPr/>
        </p:nvPicPr>
        <p:blipFill>
          <a:blip r:embed="rId1"/>
          <a:stretch/>
        </p:blipFill>
        <p:spPr>
          <a:xfrm>
            <a:off x="357120" y="4143240"/>
            <a:ext cx="2160720" cy="202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G:\Фото\ОГКБ №1\DSC00101.JPG"/>
          <p:cNvPicPr/>
          <p:nvPr/>
        </p:nvPicPr>
        <p:blipFill>
          <a:blip r:embed="rId2"/>
          <a:stretch/>
        </p:blipFill>
        <p:spPr>
          <a:xfrm>
            <a:off x="6429240" y="2500200"/>
            <a:ext cx="2465640" cy="185760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Содержимое 3" descr="Удивительные рентгенограммы: инородные предметы в человеческом теле (30 фото) &quot; Прикольные картинки, фото девушек, бесплатное ви"/>
          <p:cNvPicPr/>
          <p:nvPr/>
        </p:nvPicPr>
        <p:blipFill>
          <a:blip r:embed="rId1"/>
          <a:stretch/>
        </p:blipFill>
        <p:spPr>
          <a:xfrm>
            <a:off x="357120" y="1928880"/>
            <a:ext cx="2000160" cy="1785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Инородные тела желудочно-кишечного тракта"/>
          <p:cNvPicPr/>
          <p:nvPr/>
        </p:nvPicPr>
        <p:blipFill>
          <a:blip r:embed="rId2"/>
          <a:stretch/>
        </p:blipFill>
        <p:spPr>
          <a:xfrm>
            <a:off x="2714760" y="1928880"/>
            <a:ext cx="1571400" cy="199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Наташа\Desktop\фотик\Camera\IMG_20150326_230712.jpg"/>
          <p:cNvPicPr/>
          <p:nvPr/>
        </p:nvPicPr>
        <p:blipFill>
          <a:blip r:embed="rId3"/>
          <a:stretch/>
        </p:blipFill>
        <p:spPr>
          <a:xfrm>
            <a:off x="714240" y="4238640"/>
            <a:ext cx="1571760" cy="2619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Наташа\Desktop\фотик\Camera\IMG_20150326_231639.jpg"/>
          <p:cNvPicPr/>
          <p:nvPr/>
        </p:nvPicPr>
        <p:blipFill>
          <a:blip r:embed="rId4"/>
          <a:stretch/>
        </p:blipFill>
        <p:spPr>
          <a:xfrm>
            <a:off x="4786200" y="1714680"/>
            <a:ext cx="1478160" cy="2462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:\Users\Наташа\Desktop\фотик\Camera\IMG_20150326_232842.jpg"/>
          <p:cNvPicPr/>
          <p:nvPr/>
        </p:nvPicPr>
        <p:blipFill>
          <a:blip r:embed="rId5"/>
          <a:stretch/>
        </p:blipFill>
        <p:spPr>
          <a:xfrm>
            <a:off x="6715080" y="1643040"/>
            <a:ext cx="1386000" cy="2309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Users\Наташа\Desktop\фотик\Camera\IMG_20150326_233515.jpg"/>
          <p:cNvPicPr/>
          <p:nvPr/>
        </p:nvPicPr>
        <p:blipFill>
          <a:blip r:embed="rId6"/>
          <a:stretch/>
        </p:blipFill>
        <p:spPr>
          <a:xfrm>
            <a:off x="2786040" y="4214880"/>
            <a:ext cx="1500120" cy="25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:\Users\Наташа\Desktop\фотик\Camera\IMG_20150326_232250.jpg"/>
          <p:cNvPicPr/>
          <p:nvPr/>
        </p:nvPicPr>
        <p:blipFill>
          <a:blip r:embed="rId7"/>
          <a:stretch/>
        </p:blipFill>
        <p:spPr>
          <a:xfrm>
            <a:off x="6715080" y="4357800"/>
            <a:ext cx="1500120" cy="2500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:\Users\Наташа\Desktop\фотик\Camera\IMG_20150419_121231.jpg"/>
          <p:cNvPicPr/>
          <p:nvPr/>
        </p:nvPicPr>
        <p:blipFill>
          <a:blip r:embed="rId8"/>
          <a:stretch/>
        </p:blipFill>
        <p:spPr>
          <a:xfrm>
            <a:off x="4572000" y="4238640"/>
            <a:ext cx="157176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6408720" cy="3900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6360" y="-27000"/>
            <a:ext cx="9288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временный  уровень  развития  службы  лучевой диагностики  в  Омской  области  соответствует среднестатистическим  показателем  оснащения и деятельности  диагностических  служб  большинства субъектов,  расположенных  за  Урало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7" descr="P1020379"/>
          <p:cNvPicPr/>
          <p:nvPr/>
        </p:nvPicPr>
        <p:blipFill>
          <a:blip r:embed="rId2"/>
          <a:stretch/>
        </p:blipFill>
        <p:spPr>
          <a:xfrm>
            <a:off x="642960" y="2214720"/>
            <a:ext cx="1174680" cy="151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Picture 2" descr="D:\АЛЬБОМ\рабочие фото,видео\АРХИВ р-ОТД\КТ отд\DSC_1147.JPG"/>
          <p:cNvPicPr/>
          <p:nvPr/>
        </p:nvPicPr>
        <p:blipFill>
          <a:blip r:embed="rId3"/>
          <a:stretch/>
        </p:blipFill>
        <p:spPr>
          <a:xfrm>
            <a:off x="928800" y="5667480"/>
            <a:ext cx="178596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АЛЬБОМ\рабочие фото,видео\АРХИВ р-ОТД\КТ отд\DSC_1120.JPG"/>
          <p:cNvPicPr/>
          <p:nvPr/>
        </p:nvPicPr>
        <p:blipFill>
          <a:blip r:embed="rId4"/>
          <a:stretch/>
        </p:blipFill>
        <p:spPr>
          <a:xfrm>
            <a:off x="621504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3" descr="G:\Мои документы\РЕНТГЕН\IMGP4934.JPG"/>
          <p:cNvPicPr/>
          <p:nvPr/>
        </p:nvPicPr>
        <p:blipFill>
          <a:blip r:embed="rId5"/>
          <a:stretch/>
        </p:blipFill>
        <p:spPr>
          <a:xfrm>
            <a:off x="214200" y="3929040"/>
            <a:ext cx="1143000" cy="157644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  <p:pic>
        <p:nvPicPr>
          <p:cNvPr id="117" name="Рисунок 14" descr="G:\Мои документы\РЕНТГЕН\IMGP4876.JPG"/>
          <p:cNvPicPr/>
          <p:nvPr/>
        </p:nvPicPr>
        <p:blipFill>
          <a:blip r:embed="rId6"/>
          <a:stretch/>
        </p:blipFill>
        <p:spPr>
          <a:xfrm>
            <a:off x="7858080" y="3929040"/>
            <a:ext cx="1071720" cy="157176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  <p:pic>
        <p:nvPicPr>
          <p:cNvPr id="118" name="Рисунок 15" descr="G:\2011 фото\Новая папка\DSC08106.JPG"/>
          <p:cNvPicPr/>
          <p:nvPr/>
        </p:nvPicPr>
        <p:blipFill>
          <a:blip r:embed="rId7"/>
          <a:stretch/>
        </p:blipFill>
        <p:spPr>
          <a:xfrm>
            <a:off x="4643280" y="5643720"/>
            <a:ext cx="1500480" cy="121428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  <p:pic>
        <p:nvPicPr>
          <p:cNvPr id="119" name="Содержимое 3" descr="G:\2011 фото\рентген\DSC09854.JPG"/>
          <p:cNvPicPr/>
          <p:nvPr/>
        </p:nvPicPr>
        <p:blipFill>
          <a:blip r:embed="rId8"/>
          <a:stretch/>
        </p:blipFill>
        <p:spPr>
          <a:xfrm>
            <a:off x="7572240" y="2214720"/>
            <a:ext cx="1071720" cy="152856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  <p:pic>
        <p:nvPicPr>
          <p:cNvPr id="120" name="Рисунок 17" descr="G:\2011 фото\рентген\DSC08105.JPG"/>
          <p:cNvPicPr/>
          <p:nvPr/>
        </p:nvPicPr>
        <p:blipFill>
          <a:blip r:embed="rId9"/>
          <a:stretch/>
        </p:blipFill>
        <p:spPr>
          <a:xfrm>
            <a:off x="2786040" y="5643720"/>
            <a:ext cx="1714680" cy="121428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900108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БУЗ ОО «ГКБ №1 им. Кабанова А.Н.» по праву считается одной из самых крупных в г.Омск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2" descr="G:\Фото\ОГКБ №1\DSC00101.JPG"/>
          <p:cNvPicPr/>
          <p:nvPr/>
        </p:nvPicPr>
        <p:blipFill>
          <a:blip r:embed="rId1"/>
          <a:stretch/>
        </p:blipFill>
        <p:spPr>
          <a:xfrm>
            <a:off x="2000160" y="2571840"/>
            <a:ext cx="5500800" cy="414324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труктура  отделения  лучевой диагностики БУЗОО ГКБ № 1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270000" y="1500120"/>
            <a:ext cx="4016160" cy="704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4929120" y="1500120"/>
            <a:ext cx="3929040" cy="677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214200" y="2857680"/>
            <a:ext cx="4286520" cy="3429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5000760" y="4714920"/>
            <a:ext cx="1571400" cy="1643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7643880" y="2928960"/>
            <a:ext cx="1285920" cy="1444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2"/>
          <p:cNvSpPr/>
          <p:nvPr/>
        </p:nvSpPr>
        <p:spPr>
          <a:xfrm>
            <a:off x="2357280" y="2286000"/>
            <a:ext cx="428760" cy="407880"/>
          </a:xfrm>
          <a:prstGeom prst="downArrow">
            <a:avLst>
              <a:gd name="adj1" fmla="val 50000"/>
              <a:gd name="adj2" fmla="val 57481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53"/>
          <p:cNvSpPr/>
          <p:nvPr/>
        </p:nvSpPr>
        <p:spPr>
          <a:xfrm>
            <a:off x="5500800" y="2286000"/>
            <a:ext cx="428400" cy="407880"/>
          </a:xfrm>
          <a:prstGeom prst="downArrow">
            <a:avLst>
              <a:gd name="adj1" fmla="val 50000"/>
              <a:gd name="adj2" fmla="val 66764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4"/>
          <p:cNvSpPr/>
          <p:nvPr/>
        </p:nvSpPr>
        <p:spPr>
          <a:xfrm>
            <a:off x="7920000" y="2300400"/>
            <a:ext cx="468360" cy="407880"/>
          </a:xfrm>
          <a:prstGeom prst="downArrow">
            <a:avLst>
              <a:gd name="adj1" fmla="val 50000"/>
              <a:gd name="adj2" fmla="val 67227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57"/>
          <p:cNvSpPr/>
          <p:nvPr/>
        </p:nvSpPr>
        <p:spPr>
          <a:xfrm>
            <a:off x="395280" y="1571760"/>
            <a:ext cx="38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невная служб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58"/>
          <p:cNvSpPr/>
          <p:nvPr/>
        </p:nvSpPr>
        <p:spPr>
          <a:xfrm>
            <a:off x="5003640" y="1582560"/>
            <a:ext cx="37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журная служб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34920" y="3403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люорограф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7572240" y="2786040"/>
            <a:ext cx="13575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 кабинета МСК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5000760" y="4786200"/>
            <a:ext cx="150012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кабинет неотложной помощи в приемном отделе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63"/>
          <p:cNvSpPr/>
          <p:nvPr/>
        </p:nvSpPr>
        <p:spPr>
          <a:xfrm>
            <a:off x="34920" y="408132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люорография - цифрова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64"/>
          <p:cNvSpPr/>
          <p:nvPr/>
        </p:nvSpPr>
        <p:spPr>
          <a:xfrm>
            <a:off x="34920" y="47307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ммограф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34920" y="530712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нтгенография – 3 кабинет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746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бинеты УЗ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93840" y="285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абинеты 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50"/>
          <p:cNvSpPr/>
          <p:nvPr/>
        </p:nvSpPr>
        <p:spPr>
          <a:xfrm>
            <a:off x="4857840" y="2928960"/>
            <a:ext cx="1285920" cy="1444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бинет МР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AutoShape 53"/>
          <p:cNvSpPr/>
          <p:nvPr/>
        </p:nvSpPr>
        <p:spPr>
          <a:xfrm>
            <a:off x="6357960" y="2286000"/>
            <a:ext cx="428760" cy="2143080"/>
          </a:xfrm>
          <a:prstGeom prst="downArrow">
            <a:avLst>
              <a:gd name="adj1" fmla="val 50000"/>
              <a:gd name="adj2" fmla="val 66737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49"/>
          <p:cNvSpPr/>
          <p:nvPr/>
        </p:nvSpPr>
        <p:spPr>
          <a:xfrm>
            <a:off x="7143840" y="4710240"/>
            <a:ext cx="1571400" cy="1647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бинет УЗ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53"/>
          <p:cNvSpPr/>
          <p:nvPr/>
        </p:nvSpPr>
        <p:spPr>
          <a:xfrm>
            <a:off x="7072200" y="2286000"/>
            <a:ext cx="428760" cy="2143080"/>
          </a:xfrm>
          <a:prstGeom prst="downArrow">
            <a:avLst>
              <a:gd name="adj1" fmla="val 50000"/>
              <a:gd name="adj2" fmla="val 66737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2"/>
          <p:cNvSpPr/>
          <p:nvPr/>
        </p:nvSpPr>
        <p:spPr>
          <a:xfrm>
            <a:off x="179280" y="1714680"/>
            <a:ext cx="5106960" cy="21430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324000" y="47304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-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бинет  неотложной помощи в приемном отделен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14200" y="178596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круглосуточных пос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нтгенолаборант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257400" y="2867040"/>
            <a:ext cx="40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 круглосуточны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ачебный пос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3643200" y="4724280"/>
            <a:ext cx="5249880" cy="1944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3714840" y="4653000"/>
            <a:ext cx="542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10 лаборантов  7  имеют квалификационные категории (4 - высшую,          2 - первую, 1 - вторую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13" descr="D:\АЛЬБОМ\рабочие фото,видео\АРХИВ р-ОТД\Фото ОТД\IMGP4919.JPG"/>
          <p:cNvPicPr/>
          <p:nvPr/>
        </p:nvPicPr>
        <p:blipFill>
          <a:blip r:embed="rId1"/>
          <a:stretch/>
        </p:blipFill>
        <p:spPr>
          <a:xfrm>
            <a:off x="500040" y="457200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D:\АЛЬБОМ\рабочие фото,видео\АРХИВ р-ОТД\Фото ОТД\IMGP4922.JPG"/>
          <p:cNvPicPr/>
          <p:nvPr/>
        </p:nvPicPr>
        <p:blipFill>
          <a:blip r:embed="rId2"/>
          <a:stretch/>
        </p:blipFill>
        <p:spPr>
          <a:xfrm>
            <a:off x="6143760" y="1428840"/>
            <a:ext cx="2071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адачи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-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бинета неотложной помощи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285560"/>
            <a:ext cx="8893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глосуточное обеспечение неотложных и плановых рентгенологических исследовани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79280" y="214308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бследование пациентов, поступающих через реанимационный з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09520" y="2928960"/>
            <a:ext cx="8934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жедневное плановое обследование пациентов реанимационных отделени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30040" y="5634000"/>
            <a:ext cx="82296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Содержимое 6" descr="G:\Фото\рентген\рентген 003.jpg"/>
          <p:cNvPicPr/>
          <p:nvPr/>
        </p:nvPicPr>
        <p:blipFill>
          <a:blip r:embed="rId1"/>
          <a:stretch/>
        </p:blipFill>
        <p:spPr>
          <a:xfrm>
            <a:off x="4857840" y="4714920"/>
            <a:ext cx="2786040" cy="1928880"/>
          </a:xfrm>
          <a:prstGeom prst="rect">
            <a:avLst/>
          </a:prstGeom>
          <a:ln w="38160">
            <a:solidFill>
              <a:srgbClr val="6c6cff"/>
            </a:solidFill>
            <a:miter/>
          </a:ln>
        </p:spPr>
      </p:pic>
      <p:sp>
        <p:nvSpPr>
          <p:cNvPr id="159" name="Прямоугольник 9"/>
          <p:cNvSpPr/>
          <p:nvPr/>
        </p:nvSpPr>
        <p:spPr>
          <a:xfrm>
            <a:off x="214200" y="378612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одит исследования по «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пациентам стациона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7" descr="D:\АЛЬБОМ\рабочие фото,видео\АРХИВ р-ОТД\Фото ОТД\IMGP4923.JPG"/>
          <p:cNvPicPr/>
          <p:nvPr/>
        </p:nvPicPr>
        <p:blipFill>
          <a:blip r:embed="rId2"/>
          <a:stretch/>
        </p:blipFill>
        <p:spPr>
          <a:xfrm>
            <a:off x="1214280" y="47149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50004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полнено  рентгенологических исследован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неотложной помощ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2013-2014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714240"/>
          <a:ext cx="9001080" cy="5931000"/>
        </p:xfrm>
        <a:graphic>
          <a:graphicData uri="http://schemas.openxmlformats.org/drawingml/2006/table">
            <a:tbl>
              <a:tblPr/>
              <a:tblGrid>
                <a:gridCol w="4000320"/>
                <a:gridCol w="1285920"/>
                <a:gridCol w="1285920"/>
                <a:gridCol w="1214640"/>
                <a:gridCol w="121428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19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2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16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19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К (в реанимации, на мест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4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4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К (де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ВС (ОМВ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5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5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6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6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ВС (урограф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9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8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9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ВС (цистограф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9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9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7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7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0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30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84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43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СС (в реанимации, на мест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О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6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0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6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0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2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12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05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1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0</a:t>
                      </a: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7d1ff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генологические исследования /рентген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5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8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7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970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следований в отделениях реанимации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14" descr="D:\АЛЬБОМ\рабочие фото,видео\АРХИВ р-ОТД\Фото ОТД\IMGP4922.JPG"/>
          <p:cNvPicPr/>
          <p:nvPr/>
        </p:nvPicPr>
        <p:blipFill>
          <a:blip r:embed="rId1"/>
          <a:stretch/>
        </p:blipFill>
        <p:spPr>
          <a:xfrm>
            <a:off x="285840" y="1887480"/>
            <a:ext cx="1571400" cy="2095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АЛЬБОМ\рабочие фото,видео\АРХИВ р-ОТД\Фото ОТД\IMGP4876.JPG"/>
          <p:cNvPicPr/>
          <p:nvPr/>
        </p:nvPicPr>
        <p:blipFill>
          <a:blip r:embed="rId2"/>
          <a:stretch/>
        </p:blipFill>
        <p:spPr>
          <a:xfrm>
            <a:off x="6786720" y="4548240"/>
            <a:ext cx="1571400" cy="2095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 flipV="1" rot="10800000">
            <a:off x="2571840" y="2357280"/>
            <a:ext cx="5581440" cy="165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 рентгенолаборан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вляются взаимозаменяемы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ладеют  всеми метода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нтгенологических исследова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21"/>
          <p:cNvSpPr/>
          <p:nvPr/>
        </p:nvSpPr>
        <p:spPr>
          <a:xfrm flipV="1" rot="10800000">
            <a:off x="499680" y="5072040"/>
            <a:ext cx="5545080" cy="1557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 рентгенолаборан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вляются члена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мской Профессиональн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естринской Ассоци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Arial"/>
              </a:rPr>
              <a:t>Благодарю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Picture 18" descr="064"/>
          <p:cNvPicPr/>
          <p:nvPr/>
        </p:nvPicPr>
        <p:blipFill>
          <a:blip r:embed="rId1"/>
          <a:stretch/>
        </p:blipFill>
        <p:spPr>
          <a:xfrm>
            <a:off x="7667640" y="3213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064"/>
          <p:cNvPicPr/>
          <p:nvPr/>
        </p:nvPicPr>
        <p:blipFill>
          <a:blip r:embed="rId2"/>
          <a:stretch/>
        </p:blipFill>
        <p:spPr>
          <a:xfrm>
            <a:off x="6443640" y="141300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064"/>
          <p:cNvPicPr/>
          <p:nvPr/>
        </p:nvPicPr>
        <p:blipFill>
          <a:blip r:embed="rId3"/>
          <a:stretch/>
        </p:blipFill>
        <p:spPr>
          <a:xfrm>
            <a:off x="8064360" y="551664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064"/>
          <p:cNvPicPr/>
          <p:nvPr/>
        </p:nvPicPr>
        <p:blipFill>
          <a:blip r:embed="rId4"/>
          <a:stretch/>
        </p:blipFill>
        <p:spPr>
          <a:xfrm>
            <a:off x="468360" y="515772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2" descr="064"/>
          <p:cNvPicPr/>
          <p:nvPr/>
        </p:nvPicPr>
        <p:blipFill>
          <a:blip r:embed="rId5"/>
          <a:stretch/>
        </p:blipFill>
        <p:spPr>
          <a:xfrm>
            <a:off x="5580000" y="5300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064"/>
          <p:cNvPicPr/>
          <p:nvPr/>
        </p:nvPicPr>
        <p:blipFill>
          <a:blip r:embed="rId6"/>
          <a:stretch/>
        </p:blipFill>
        <p:spPr>
          <a:xfrm>
            <a:off x="900000" y="1341360"/>
            <a:ext cx="1582920" cy="1582920"/>
          </a:xfrm>
          <a:prstGeom prst="rect">
            <a:avLst/>
          </a:prstGeom>
          <a:ln w="0">
            <a:noFill/>
          </a:ln>
        </p:spPr>
      </p:pic>
      <p:sp>
        <p:nvSpPr>
          <p:cNvPr id="175" name="Oval 24"/>
          <p:cNvSpPr/>
          <p:nvPr/>
        </p:nvSpPr>
        <p:spPr>
          <a:xfrm>
            <a:off x="1619280" y="1700280"/>
            <a:ext cx="5904000" cy="4537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20:28:26Z</dcterms:created>
  <dc:creator>НАТАША</dc:creator>
  <dc:description/>
  <dc:language>en-US</dc:language>
  <cp:lastModifiedBy>Наташа</cp:lastModifiedBy>
  <dcterms:modified xsi:type="dcterms:W3CDTF">2015-04-28T07:32:15Z</dcterms:modified>
  <cp:revision>252</cp:revision>
  <dc:subject/>
  <dc:title>От традиционной рентгенологии  к новым  направлениям лучевой диагностики</dc:title>
</cp:coreProperties>
</file>