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11.png" ContentType="image/png"/>
  <Override PartName="/ppt/media/image9.jpeg" ContentType="image/jpeg"/>
  <Override PartName="/ppt/media/image30.wmf" ContentType="image/x-wmf"/>
  <Override PartName="/ppt/media/image33.jpeg" ContentType="image/jpeg"/>
  <Override PartName="/ppt/media/image8.jpeg" ContentType="image/jpeg"/>
  <Override PartName="/ppt/media/image39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31.wmf" ContentType="image/x-wmf"/>
  <Override PartName="/ppt/media/image7.jpeg" ContentType="image/jpeg"/>
  <Override PartName="/ppt/media/image3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C1E1-837E-4479-BB2D-66D43FA5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E27F-3715-4747-B65F-02B39FD8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DD3-DDD0-42B7-95FA-8E9F8FBF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C56A-748B-4B2D-B384-9A3D460D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C235-8309-4F42-982A-D4CB35A7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3A1C-9B60-4642-9EFD-886D7931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8213-EFA9-4166-A5BB-962E7219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4399-EE60-46B3-8B0A-2BEE021D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BCE6-D163-4745-B315-F7801A04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1BCC-BB31-482F-B1B8-9481B3DF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F221-408E-494B-9A4A-95ABE65C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C5B-1F40-4858-9D2A-CF3A3A94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4616-1E66-4C9B-9D9C-3FDEA0C3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A0DC-1CC1-4B2E-87B7-8206F8F1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EC6A-9F76-4E9D-9C24-C418D5ED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496E-2AEF-4B87-9695-6938417D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086B-051E-4451-BCE2-7E51D19D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BD6B-8CC9-47D9-BC4C-9A5CD032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CF06-BC8C-4A24-8153-C65B03E7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DDD6-A157-4426-AD5D-87A7CA9D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D8A0-B297-499A-99DC-757D98F3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48C5-D13D-4BE9-887E-F3DCB4C0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D2A-66B7-4C61-9515-B161DAD2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3B94-A053-4247-8C4A-97812B82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D13E-4EEA-45AB-94B6-3F3466C346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4D66-3448-4C9C-A2CA-F3E6464378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115920"/>
            <a:ext cx="8964720" cy="63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рименение МСКТ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в  диагностик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атологии сосудов </a:t>
            </a:r>
            <a:br>
              <a:rPr sz="5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.В. Васильев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нтгенолаборан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нтгенологического отдел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Аневризмы  Аор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евризмой грудной части аорты называется локальное или диффузное расширение её просвета, превышающее нормальный  диаметр   аорты в  2 и более р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•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евризмой брюшной части   аорты называется локальное или диффузное расширение её просвета более 3 см..•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(«Сердечно—сосудистая хирургия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д ред. . В..И. . Бураковского, Л..А . Бокерия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12" descr="гр аор"/>
          <p:cNvPicPr/>
          <p:nvPr/>
        </p:nvPicPr>
        <p:blipFill>
          <a:blip r:embed="rId1"/>
          <a:stretch/>
        </p:blipFill>
        <p:spPr>
          <a:xfrm>
            <a:off x="4927680" y="1600200"/>
            <a:ext cx="34797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лассификация по течению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Хронические аневризмы без рассло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расслаивающие аневриз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•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Расслаивающая   аневризма      аорты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3960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езапное образование вследствие различных причин дефекта внутренней оболочки стенки аорты с последующим проникновением потока крови в дегенеративно измененный средний слой, с образованием внутристеночной гематомы и продольным расслоением стенки аорты преимущественно в дистальном или реже в проксимальном направле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разсл1"/>
          <p:cNvPicPr/>
          <p:nvPr/>
        </p:nvPicPr>
        <p:blipFill>
          <a:blip r:embed="rId2"/>
          <a:stretch/>
        </p:blipFill>
        <p:spPr>
          <a:xfrm>
            <a:off x="4427640" y="1268280"/>
            <a:ext cx="41511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915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ассификация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невризм грудного отдела аорты по  De Bakey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ип  I –местом возникновения разрыва является восходящая аорта, а расслоение распространяется на  дугу и часто дистальнее- на грудной и брюшной отделы аор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ип  II –разрыв локализуется в восходящей части, расслоение ограничено только восходящей аорто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ип  III –разрыв интимы локализуется в нисходящей грудной аорте, распространяется чаще антеграднодистально, по нисходящей аорте на различном протяжении с вовлечением или только всего грудного отдела  и/или  и  грудного, и  брюшного  отделов и   редко - ретроградно на дугу и восходящую   аор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363160" cy="1354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ип  I   -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орако-абдоминальное расслоение  аорты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7" descr="Фото007"/>
          <p:cNvPicPr/>
          <p:nvPr/>
        </p:nvPicPr>
        <p:blipFill>
          <a:blip r:embed="rId1"/>
          <a:stretch/>
        </p:blipFill>
        <p:spPr>
          <a:xfrm>
            <a:off x="539640" y="20606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расл2"/>
          <p:cNvPicPr/>
          <p:nvPr/>
        </p:nvPicPr>
        <p:blipFill>
          <a:blip r:embed="rId2"/>
          <a:stretch/>
        </p:blipFill>
        <p:spPr>
          <a:xfrm>
            <a:off x="4932360" y="2060640"/>
            <a:ext cx="3459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евримы брюшного отдела аорты составляют  9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х аневриз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Частота заболевания 2-5 % среди мужского населения   старше 60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отношение заболеваний  среди мужчин и  женщин   примерно  4:1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7" descr="аор1"/>
          <p:cNvPicPr/>
          <p:nvPr/>
        </p:nvPicPr>
        <p:blipFill>
          <a:blip r:embed="rId1"/>
          <a:stretch/>
        </p:blipFill>
        <p:spPr>
          <a:xfrm>
            <a:off x="4937040" y="1600200"/>
            <a:ext cx="34592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невримы брюшного отдела аорт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иболее жизненно важным является осложнение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ыв аневриз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брюшной аорте риск  разрыва  возрастает на 10 % при   размерах аневризмы до 4 см 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размерах больш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 см риск повыш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 60 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8" descr="аневр"/>
          <p:cNvPicPr/>
          <p:nvPr/>
        </p:nvPicPr>
        <p:blipFill>
          <a:blip r:embed="rId1"/>
          <a:stretch/>
        </p:blipFill>
        <p:spPr>
          <a:xfrm>
            <a:off x="4932360" y="1557360"/>
            <a:ext cx="34592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Аневризмы брюшного отдела аорт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Picture 8" descr="аор3"/>
          <p:cNvPicPr/>
          <p:nvPr/>
        </p:nvPicPr>
        <p:blipFill>
          <a:blip r:embed="rId1"/>
          <a:srcRect l="0" t="-1077" r="0" b="0"/>
          <a:stretch/>
        </p:blipFill>
        <p:spPr>
          <a:xfrm>
            <a:off x="5508720" y="1557360"/>
            <a:ext cx="2519280" cy="4703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6" descr="аневр1"/>
          <p:cNvPicPr/>
          <p:nvPr/>
        </p:nvPicPr>
        <p:blipFill>
          <a:blip r:embed="rId2"/>
          <a:stretch/>
        </p:blipFill>
        <p:spPr>
          <a:xfrm>
            <a:off x="539640" y="1844640"/>
            <a:ext cx="4176720" cy="35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Аневримы брюшного отдела аорт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Picture 10" descr="аорт  1"/>
          <p:cNvPicPr/>
          <p:nvPr/>
        </p:nvPicPr>
        <p:blipFill>
          <a:blip r:embed="rId1"/>
          <a:stretch/>
        </p:blipFill>
        <p:spPr>
          <a:xfrm>
            <a:off x="179280" y="1989000"/>
            <a:ext cx="4608720" cy="3743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4" descr="аневр1"/>
          <p:cNvPicPr/>
          <p:nvPr/>
        </p:nvPicPr>
        <p:blipFill>
          <a:blip r:embed="rId2"/>
          <a:stretch/>
        </p:blipFill>
        <p:spPr>
          <a:xfrm>
            <a:off x="4716360" y="1989000"/>
            <a:ext cx="4283280" cy="37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Исследования выполняются по специально заданной программе, которая позволяет рассчитать параметры стент-графт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Picture 10" descr="Фото011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Фото009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бластной больнице велика потребность в диагностике патологии сосудов для отделений   сосудистой хирургии,  кардиохирургии, рентгенохирургии  ,  нейрохирургии , кардиологии и отделения ОНМ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открытием сосудистого центра на базе ОКБ  в настоящее время активно развиваются   инвазивные методики протезирования сосудов- стентирование и   шунтирование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ЭЛ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омбоэмболия   лёгочной артерии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трое или хроническ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окирование просвета   легоч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терии или её ветвей  эмболом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обычно сгустком крови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  тромбо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льников А.В.  1976 го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ЭЛА- третий по распространённости вид   патологий сердечно- сосудистой после ИБС и инсуль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ассификация по течению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тр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он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 объёму поражения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302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ссив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ство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главны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тв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тэла"/>
          <p:cNvPicPr/>
          <p:nvPr/>
        </p:nvPicPr>
        <p:blipFill>
          <a:blip r:embed="rId1"/>
          <a:stretch/>
        </p:blipFill>
        <p:spPr>
          <a:xfrm>
            <a:off x="3419640" y="907920"/>
            <a:ext cx="5256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фотки през 010"/>
          <p:cNvPicPr/>
          <p:nvPr/>
        </p:nvPicPr>
        <p:blipFill>
          <a:blip r:embed="rId1"/>
          <a:stretch/>
        </p:blipFill>
        <p:spPr>
          <a:xfrm>
            <a:off x="0" y="260280"/>
            <a:ext cx="4537080" cy="3600360"/>
          </a:xfrm>
          <a:prstGeom prst="rect">
            <a:avLst/>
          </a:prstGeom>
          <a:ln w="0">
            <a:noFill/>
          </a:ln>
        </p:spPr>
      </p:pic>
      <p:sp>
        <p:nvSpPr>
          <p:cNvPr id="266" name="Line 5"/>
          <p:cNvSpPr/>
          <p:nvPr/>
        </p:nvSpPr>
        <p:spPr>
          <a:xfrm>
            <a:off x="3564000" y="2205000"/>
            <a:ext cx="50328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" descr="фотки през 011"/>
          <p:cNvPicPr/>
          <p:nvPr/>
        </p:nvPicPr>
        <p:blipFill>
          <a:blip r:embed="rId2"/>
          <a:stretch/>
        </p:blipFill>
        <p:spPr>
          <a:xfrm>
            <a:off x="5003640" y="1989000"/>
            <a:ext cx="3889440" cy="46087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3"/>
          <p:cNvSpPr/>
          <p:nvPr/>
        </p:nvSpPr>
        <p:spPr>
          <a:xfrm>
            <a:off x="395280" y="5084640"/>
            <a:ext cx="3311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ссив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убмассивна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эмбол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евы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более мелк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тв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9" descr="image  тэла"/>
          <p:cNvPicPr/>
          <p:nvPr/>
        </p:nvPicPr>
        <p:blipFill>
          <a:blip r:embed="rId1"/>
          <a:stretch/>
        </p:blipFill>
        <p:spPr>
          <a:xfrm>
            <a:off x="3276720" y="2349360"/>
            <a:ext cx="539892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фотки през 014"/>
          <p:cNvPicPr/>
          <p:nvPr/>
        </p:nvPicPr>
        <p:blipFill>
          <a:blip r:embed="rId1"/>
          <a:stretch/>
        </p:blipFill>
        <p:spPr>
          <a:xfrm>
            <a:off x="179280" y="1557360"/>
            <a:ext cx="3600720" cy="3887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фотки през 015"/>
          <p:cNvPicPr/>
          <p:nvPr/>
        </p:nvPicPr>
        <p:blipFill>
          <a:blip r:embed="rId2"/>
          <a:stretch/>
        </p:blipFill>
        <p:spPr>
          <a:xfrm>
            <a:off x="4861080" y="1557360"/>
            <a:ext cx="4282920" cy="3887640"/>
          </a:xfrm>
          <a:prstGeom prst="rect">
            <a:avLst/>
          </a:prstGeom>
          <a:ln w="0">
            <a:noFill/>
          </a:ln>
        </p:spPr>
      </p:pic>
      <p:sp>
        <p:nvSpPr>
          <p:cNvPr id="274" name="Line 6"/>
          <p:cNvSpPr/>
          <p:nvPr/>
        </p:nvSpPr>
        <p:spPr>
          <a:xfrm>
            <a:off x="5796000" y="1844640"/>
            <a:ext cx="360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 flipH="1">
            <a:off x="1834920" y="4292640"/>
            <a:ext cx="43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468360" y="189000"/>
            <a:ext cx="8002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убмассив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40720" cy="165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СКТ брахиоцефальных артер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озволяет  оцени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пространённость и выраженность патологи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вень и количественную оценку стенозов 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арактер атероматозных бляшек 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ь оперативного ле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атологии сосудов ше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0" name="Picture 7" descr="брахео2"/>
          <p:cNvPicPr/>
          <p:nvPr/>
        </p:nvPicPr>
        <p:blipFill>
          <a:blip r:embed="rId1"/>
          <a:stretch/>
        </p:blipFill>
        <p:spPr>
          <a:xfrm>
            <a:off x="739800" y="1600200"/>
            <a:ext cx="3476520" cy="4525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брахео1"/>
          <p:cNvPicPr/>
          <p:nvPr/>
        </p:nvPicPr>
        <p:blipFill>
          <a:blip r:embed="rId2"/>
          <a:stretch/>
        </p:blipFill>
        <p:spPr>
          <a:xfrm>
            <a:off x="4927680" y="1600200"/>
            <a:ext cx="34797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атологии сосудов ше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3" name="Picture 7" descr="брахео5"/>
          <p:cNvPicPr/>
          <p:nvPr/>
        </p:nvPicPr>
        <p:blipFill>
          <a:blip r:embed="rId1"/>
          <a:stretch/>
        </p:blipFill>
        <p:spPr>
          <a:xfrm>
            <a:off x="0" y="1052640"/>
            <a:ext cx="3024360" cy="4321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брах1"/>
          <p:cNvPicPr/>
          <p:nvPr/>
        </p:nvPicPr>
        <p:blipFill>
          <a:blip r:embed="rId2"/>
          <a:stretch/>
        </p:blipFill>
        <p:spPr>
          <a:xfrm>
            <a:off x="2843280" y="1052640"/>
            <a:ext cx="1944720" cy="4321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брахео4"/>
          <p:cNvPicPr/>
          <p:nvPr/>
        </p:nvPicPr>
        <p:blipFill>
          <a:blip r:embed="rId3"/>
          <a:stretch/>
        </p:blipFill>
        <p:spPr>
          <a:xfrm>
            <a:off x="4572000" y="1052640"/>
            <a:ext cx="2521080" cy="4248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брах2"/>
          <p:cNvPicPr/>
          <p:nvPr/>
        </p:nvPicPr>
        <p:blipFill>
          <a:blip r:embed="rId4"/>
          <a:stretch/>
        </p:blipFill>
        <p:spPr>
          <a:xfrm>
            <a:off x="7128000" y="1052640"/>
            <a:ext cx="201600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номалии сосуд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СКТ-64    даёт возможность выявить аномалии сосудов, диагностика которых затруднена или невозможна другими метод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 например при ангиографи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Philips Brilliance 64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Рисунок 1" descr="http://www.creator-comm.pl/mainfoto/5.jpg"/>
          <p:cNvPicPr/>
          <p:nvPr/>
        </p:nvPicPr>
        <p:blipFill>
          <a:blip r:embed="rId1"/>
          <a:stretch/>
        </p:blipFill>
        <p:spPr>
          <a:xfrm>
            <a:off x="826920" y="1341360"/>
            <a:ext cx="73454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теноз почечной артер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Picture 5" descr=""/>
          <p:cNvPicPr/>
          <p:nvPr/>
        </p:nvPicPr>
        <p:blipFill>
          <a:blip r:embed="rId1"/>
          <a:srcRect l="0" t="0" r="0" b="12913"/>
          <a:stretch/>
        </p:blipFill>
        <p:spPr>
          <a:xfrm>
            <a:off x="738360" y="1600200"/>
            <a:ext cx="3477960" cy="4525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"/>
          <p:cNvPicPr/>
          <p:nvPr/>
        </p:nvPicPr>
        <p:blipFill>
          <a:blip r:embed="rId2"/>
          <a:stretch/>
        </p:blipFill>
        <p:spPr>
          <a:xfrm>
            <a:off x="5767560" y="1600200"/>
            <a:ext cx="1798560" cy="2185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"/>
          <p:cNvPicPr/>
          <p:nvPr/>
        </p:nvPicPr>
        <p:blipFill>
          <a:blip r:embed="rId3"/>
          <a:stretch/>
        </p:blipFill>
        <p:spPr>
          <a:xfrm>
            <a:off x="5398920" y="3938760"/>
            <a:ext cx="253548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Аномалии коронарных сосудов. Мышечный мостик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4" name="Picture 9" descr="сердце1"/>
          <p:cNvPicPr/>
          <p:nvPr/>
        </p:nvPicPr>
        <p:blipFill>
          <a:blip r:embed="rId1"/>
          <a:stretch/>
        </p:blipFill>
        <p:spPr>
          <a:xfrm>
            <a:off x="539640" y="1484280"/>
            <a:ext cx="4319640" cy="52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номалии сосудов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Кинкинг  сосудов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6" name="Picture 7" descr="сосуд  3"/>
          <p:cNvPicPr/>
          <p:nvPr/>
        </p:nvPicPr>
        <p:blipFill>
          <a:blip r:embed="rId1"/>
          <a:stretch/>
        </p:blipFill>
        <p:spPr>
          <a:xfrm>
            <a:off x="3995640" y="1413000"/>
            <a:ext cx="3529080" cy="32320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сосуд"/>
          <p:cNvPicPr/>
          <p:nvPr/>
        </p:nvPicPr>
        <p:blipFill>
          <a:blip r:embed="rId2"/>
          <a:stretch/>
        </p:blipFill>
        <p:spPr>
          <a:xfrm>
            <a:off x="179280" y="1413000"/>
            <a:ext cx="3600720" cy="32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суды головного мозг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след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СКТ  64 позволяют выяви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евриз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льформ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ождённые аномалии разви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0" descr="фотки през 008"/>
          <p:cNvPicPr/>
          <p:nvPr/>
        </p:nvPicPr>
        <p:blipFill>
          <a:blip r:embed="rId1"/>
          <a:stretch/>
        </p:blipFill>
        <p:spPr>
          <a:xfrm>
            <a:off x="4500720" y="1700280"/>
            <a:ext cx="424800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Аневризма внутренней сонной артерии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2" name="Picture 15" descr="фотки през 017"/>
          <p:cNvPicPr/>
          <p:nvPr/>
        </p:nvPicPr>
        <p:blipFill>
          <a:blip r:embed="rId1"/>
          <a:stretch/>
        </p:blipFill>
        <p:spPr>
          <a:xfrm>
            <a:off x="4427640" y="765000"/>
            <a:ext cx="3673440" cy="2951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6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3672000" cy="3888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фотки през 003"/>
          <p:cNvPicPr/>
          <p:nvPr/>
        </p:nvPicPr>
        <p:blipFill>
          <a:blip r:embed="rId3"/>
          <a:stretch/>
        </p:blipFill>
        <p:spPr>
          <a:xfrm>
            <a:off x="6551640" y="3689280"/>
            <a:ext cx="2592360" cy="3168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фотки през 006"/>
          <p:cNvPicPr/>
          <p:nvPr/>
        </p:nvPicPr>
        <p:blipFill>
          <a:blip r:embed="rId4"/>
          <a:stretch/>
        </p:blipFill>
        <p:spPr>
          <a:xfrm>
            <a:off x="3635280" y="3618000"/>
            <a:ext cx="3024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СКТ  с болюсным контрастным усилением  является  незаменимой диагностикой при ряде сосудистых заболеваний  и является  одной из основных методик выбора лечения паци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пасибо за внимание 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5640" y="52560"/>
            <a:ext cx="7581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окая скорость сканирования и уменьшение времени исследования  позволяет избежать многих  артефактов и способствуют точности диагностики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нтгеновская трубка , при необходимости, уменьшает до минимума   время ожидания между сериями сканиров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омпьютерном томографе Brilliance 64 самый быстрый в индустрии реконструктор – 20 изображений в секунду, обеспечивающий реконструкцию с коррекцией конического луча для получения изображений без искажений и артефактов. Система обладает возможностями объёмной визуализации и более эффективно использует их для упрощения работы благодаря спектру новых и целевых усовершенствованных технологий, таких как программное обеспечение для 3D объёмной реконструкции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352000" cy="25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тоды неинвазивной визуализации     кровеносных сосудов с использованием мультиспиральной компьютерной томографии (МСКТ- 64)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болюсного контрастного усиления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няются для диагностики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506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евризмы брюшного отдела аор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евризмы грудного отдела аор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Э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евризмы сосудов головного моз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енозы сосудов ше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омалии развития кровеносных  сосу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1565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сравнению с КТ исследованиями внутренних органов , при котором степень контрастирования паренхимы влияет на  возможности точной дифференциальной диагности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КТ- ангиографии обязательным условием  является выраженное сосудистое уси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8" descr="bdec62c29168ad8f32f85153fc8cc458"/>
          <p:cNvPicPr/>
          <p:nvPr/>
        </p:nvPicPr>
        <p:blipFill>
          <a:blip r:embed="rId1"/>
          <a:stretch/>
        </p:blipFill>
        <p:spPr>
          <a:xfrm>
            <a:off x="4572000" y="907920"/>
            <a:ext cx="35053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4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основным параметрам болюсного усиления относят концентрацию и дозу контрастного вещества, использование болюса физиологического раствора, скорость инъекции  (4-5 мл/ сек) и  выбор оптимального времени начала  сканирования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рамма слежения за болюс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 болюс-трекинг) позволяет не только отследить введение контрастного вещества , но и  выбрать индивидуально (идивидуализировать) задержку артериальной фазы скан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686800" cy="130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Двухёмкостная инъекционная система для компьютерной томографии Stellant 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27280" y="1341360"/>
            <a:ext cx="4327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надежна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лад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ширенным функционалом.      Возможн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мывки физиологическ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вором позволяет снизить расход контрастного веще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id_product_img_big" descr="&amp;Icy;&amp;ncy;&amp;hardcy;&amp;iecy;&amp;kcy;&amp;tscy;&amp;icy;&amp;ocy;&amp;ncy;&amp;ncy;&amp;acy;&amp;yacy; &amp;scy;&amp;icy;&amp;scy;&amp;tcy;&amp;iecy;&amp;mcy;&amp;acy; Stellant D"/>
          <p:cNvPicPr/>
          <p:nvPr/>
        </p:nvPicPr>
        <p:blipFill>
          <a:blip r:embed="rId1"/>
          <a:stretch/>
        </p:blipFill>
        <p:spPr>
          <a:xfrm>
            <a:off x="0" y="1628640"/>
            <a:ext cx="43704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6T12:25:30Z</dcterms:created>
  <dc:creator>str6-rentg-mckt</dc:creator>
  <dc:description/>
  <dc:language>en-US</dc:language>
  <cp:lastModifiedBy>Sveta</cp:lastModifiedBy>
  <dcterms:modified xsi:type="dcterms:W3CDTF">2015-05-14T08:00:54Z</dcterms:modified>
  <cp:revision>43</cp:revision>
  <dc:subject/>
  <dc:title>Слайд 1</dc:title>
</cp:coreProperties>
</file>