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6D7F-A21A-451A-BE9E-4D4105217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E962-953F-48A8-A530-49DF033E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35EA-D1A5-4707-9DC7-0B55BCBBE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EC2A-0E61-4854-8A13-B46F127A7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70F2-99A1-4296-B9F8-7363835BC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B49C-3BB5-4A91-9AD4-92587186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0B34-7FBB-405B-95B5-F30BC12C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8CBA-EE78-4BC6-9E3C-B9BBDC2F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DDCF-B81D-4469-A2BF-AB701185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4859-AB31-4A89-A840-92FB9429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6E56-AF00-4BFF-80EC-65BCE2C5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E755-689C-4341-A6EB-3DC7FCD4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764C-8249-43E1-BA76-C9AF2AE4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B576-501A-4EE8-8648-B49CCED1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9EEF-857A-4E1B-B570-6F63D1F1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B702-1B2D-4937-AA10-23F65CCE9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C439-7891-413B-AD5A-E9FC9B5F0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6EA50-598E-48A6-A654-6A711B3CD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EC7A0-ACF0-428E-B48C-BFEA5C1D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9D283-ABBE-4FA7-ADE3-D23E0F29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B69DA-138D-4D12-9A8F-594633B8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88CDC-1C33-4748-9E35-95A5F669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751E-455F-4B3E-A5EE-56B124FB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4EB24-2B7A-41A9-B8C8-3E1B3DA6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0156D-B623-4817-BC92-8D370475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F3400-409E-4531-8CAC-633820AF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F8150-E285-4B8D-B64E-E01747DF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32ED4-94BD-4B61-8D0B-DB73CB48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FEEA8-E5B8-4672-B078-2740A8719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E09FC-7443-4019-AA62-D843A91A7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3F9FB-973F-4F3C-83ED-AEFB09FEC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964A3-D849-4B2F-AC0B-9F4596E7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CA9D9-513D-4E0C-B2F1-47A24DCF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8584-BF78-4D5D-A1B8-D8441040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2CDA8-0A06-4DB0-9514-403BC6CC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EF081-BC6E-429A-BD61-AF039638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41A95-D54B-4B2B-94DD-C031B778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EA341-D9A4-4355-8836-73D5A01A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07978-5099-45F3-AA9D-C6CCF477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9A540-8075-4D97-9C61-29460131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8957E-CF37-4C43-8A99-9F96F8C0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AB4B7-247F-47AE-8A7F-3604213A9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82A93-21C9-478E-8FDF-AC9DA9267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92ABC-5D4F-499A-9DBA-FF2ADA779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DB80-E689-4890-B59C-7322E43A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D03F1-6300-428D-B9D1-13684698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A4269-55B8-445A-B069-0738DC3C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E1D5F-09E8-46EE-AAF6-C2E4E5E3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66CAB-CF67-4B55-AD70-166FDE85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403F7-306C-48DF-9E14-331CFBF3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88A5C-27B3-4DB7-B4CF-3BD890DF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304CB-425E-404C-812D-E97BED16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12814-8047-4E0F-8FBE-542E6541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C09E1-4CB6-4446-8EF1-28499C74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7E138-1AEC-49B3-86DE-801857ECF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6224-F62C-40EC-880D-AAF7606F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087FF-8E97-4921-814B-36E5FEB0A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81A68-E243-4CCA-AA5C-1F75ACAA2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4AE54-C30F-4F4A-B57D-48B0B97D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DFAD9-BEE7-4EEA-974E-0E3F08DD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940C1-C111-4A87-A976-FE5FE6C4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D669E-C77C-46C4-AA99-23374305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6A541-92BD-4D28-8A83-2F3EB171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71898-4A71-4967-B5AA-DFA7BAA8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76365-32C4-4C10-A3ED-4A187A61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2C0CD-9F5B-42FA-A152-C297EFDB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E12D-0676-45D8-BFF3-74FD04D0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42C18-8045-4659-A481-68FBABF1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39471-6FBB-4D91-AA62-A50B28515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E08B6-6B7A-4E28-83DC-F47E8F0DA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36B88-D7B9-48B9-B0AB-A51BA609A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926FD-EF81-49A6-ADD5-929CE1F4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6D3EA-8BDB-4D46-9174-6F76EBCC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D2F35-38F2-4745-9E41-CDA6D2F1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6865D-978E-432C-9FB2-6A31EF1F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B4FBA-4EB2-40B1-8888-6D1B6C1A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4A191-2490-454C-ADCD-842518BA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4C4A-2389-41EF-878C-4F561297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E4DC9-ADEF-4D33-A94D-E8203062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EFE8D-F761-4D27-B5AA-9682554F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C844D-FF60-4433-ABCE-C0FAB22B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FC874-3678-470C-A9A6-C7A91DD1D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4F95B-B920-4ABE-BDA9-A8A4FC5D9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8F726B-6E5A-45F5-AD43-A0D436172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2211C8-3CD1-41B5-8D27-60BAFD1D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FB8858-B355-45FB-A366-B878DB63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13B664-D3BA-48CD-B358-7EFA7559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3F5358-A96F-4D71-B301-4912D38B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9D26-A02C-4485-9782-D9413F61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6731BA-4FD6-4E3B-B263-FA19E9CA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A5B8D4-1C63-4D77-9874-9433A2FA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B17A80-1D22-45B5-843D-E504E64F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ED1455-D317-4827-B7D3-381C0046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5CC8BB-D1AD-4C86-822D-E9671F57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049C7B-E6DA-4684-B4AA-54EB14521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01E9D8-E35B-4DA4-A948-163170EC9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EF96-A64E-493C-BB5F-8EF061C4FC1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5155-5A0D-46B8-A794-C786E29878F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0110-A161-44B9-A14A-0C55B9ECBC6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2F21-7E5B-4CCA-852D-5AC275B3C28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C9D9-2AAD-4EFE-8E39-429F223EA6A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9B2D-DD58-499D-8495-869BBF078C3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33EA-9413-44B1-AEB5-CC06C5B525B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9453-0C6A-4AD5-9AF0-5ED8645B55C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ftr" idx="2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785680" y="1999800"/>
            <a:ext cx="582948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ВЫБОР МОДЕЛИ ИССЛЕДОВАНИЯ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571840" y="5143320"/>
            <a:ext cx="6400800" cy="15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17640" indent="0" algn="ct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20e04"/>
                </a:solidFill>
                <a:latin typeface="Corbel"/>
              </a:rPr>
              <a:t>Бунова С.С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orbel"/>
              </a:rPr>
              <a:t>Практика врач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142640" y="15998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Пациент И., 37 лет, инженер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St. praese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стояние удовлетворительное. Питание достаточное. Кожные покровы чистые, обычной влажности. Тоны сердца 74 в минуту. АД 125/70 мм рт ст. Дыхание везикулярное, хрипов нет. Живот при пальпации мягкий. Отделы толстой кишки чувствительны, спастичны. Печень не увеличена. Селезенка не пальпируется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orbel"/>
              </a:rPr>
              <a:t>Практика доказательной медицины</a:t>
            </a:r>
            <a:r>
              <a:rPr b="0" lang="en-US" sz="43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ru-RU" sz="4300" spc="-1" strike="noStrike">
                <a:solidFill>
                  <a:srgbClr val="000000"/>
                </a:solidFill>
                <a:latin typeface="Corbel"/>
              </a:rPr>
              <a:t>пять шаг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066320" y="19807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Шаг 1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клинический случай: формулировка проблемы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Шаг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2: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бор данных по проблеме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Шаг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3: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ритичная оценка имеющихся данных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Шаг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4: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нтеграция доказательств и данных конкретного клинического случая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Шаг 5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нятие решен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orbel"/>
              </a:rPr>
              <a:t>Цель терап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сновным критерием эффективности лечения  больного с запором является стул нормальной консистенции и частота дефекации 1 раз в 1-2 дня без затруднен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orbel"/>
              </a:rPr>
              <a:t>Практика доказательной медицины</a:t>
            </a:r>
            <a:r>
              <a:rPr b="0" lang="en-US" sz="43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ru-RU" sz="4300" spc="-1" strike="noStrike">
                <a:solidFill>
                  <a:srgbClr val="000000"/>
                </a:solidFill>
                <a:latin typeface="Corbel"/>
              </a:rPr>
              <a:t>пять шаг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071360" y="1980720"/>
            <a:ext cx="7786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Шаг 1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линический случай: формулировка проблемы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Шаг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2: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сбор данных по проблеме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Шаг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3: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критичная оценка имеющихся данных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Шаг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4: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нтеграция доказательств и данных конкретного клинического случа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Шаг 5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инятие реше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Немедикаментозные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методы терапи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071360" y="2057040"/>
            <a:ext cx="7862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одификация диет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-  Уменьшить прием триггерных продуктов (кофе, алкоголь, сорбитол, цитрусовые, сладкие сиропы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величить потребление пищевых волокон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величить объем физической нагрузк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Релаксационные методик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ROME III Gastroenterology 2006:130:1377-1390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Слабительные, содержащие пищевые волокн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356840" y="20570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рганические полимеры, удерживающие воду  в кишечном содержимом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сследования, оценивающие эффективность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 коротким периодом наблюдения, недостаточным объемом выборк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епараты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пособствуют менее твердому стулу (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уровень рекомендаций В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3195360" y="5942160"/>
            <a:ext cx="590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ill Sans MT"/>
              </a:rPr>
              <a:t>Evidence-based management of chronic constipation</a:t>
            </a:r>
            <a:br>
              <a:rPr sz="1800"/>
            </a:br>
            <a:r>
              <a:rPr b="0" i="1" lang="en-US" sz="1800" spc="-1" strike="noStrike">
                <a:solidFill>
                  <a:srgbClr val="ffffff"/>
                </a:solidFill>
                <a:latin typeface="Gill Sans MT"/>
              </a:rPr>
              <a:t>By: MARK G. GRAHAM, MD, Gregory Mokrynski, MD</a:t>
            </a:r>
            <a:br>
              <a:rPr sz="1800"/>
            </a:br>
            <a:r>
              <a:rPr b="0" i="1" lang="en-US" sz="1800" spc="-1" strike="noStrike">
                <a:solidFill>
                  <a:srgbClr val="ffffff"/>
                </a:solidFill>
                <a:latin typeface="Gill Sans MT"/>
              </a:rPr>
              <a:t>Originally published: May 1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Осмотические слабительные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071720" y="1785960"/>
            <a:ext cx="747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одержат плохо абсорбируемые ионы или молекулы, повышающие осмотический градиент: лактулоза, полиэтиленгликоль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Лактулоза и полиэтиленгликоль увеличивают частоту стула и улучшают консистенцию кала у пациентов с хроническим запором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уровень рекомендации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3195360" y="5942160"/>
            <a:ext cx="590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ill Sans MT"/>
              </a:rPr>
              <a:t>Evidence-based management of chronic constipation</a:t>
            </a:r>
            <a:br>
              <a:rPr sz="1800"/>
            </a:br>
            <a:r>
              <a:rPr b="0" i="1" lang="en-US" sz="1800" spc="-1" strike="noStrike">
                <a:solidFill>
                  <a:srgbClr val="ffffff"/>
                </a:solidFill>
                <a:latin typeface="Gill Sans MT"/>
              </a:rPr>
              <a:t>By: MARK G. GRAHAM, MD, Gregory Mokrynski, MD</a:t>
            </a:r>
            <a:br>
              <a:rPr sz="1800"/>
            </a:br>
            <a:r>
              <a:rPr b="0" i="1" lang="en-US" sz="1800" spc="-1" strike="noStrike">
                <a:solidFill>
                  <a:srgbClr val="ffffff"/>
                </a:solidFill>
                <a:latin typeface="Gill Sans MT"/>
              </a:rPr>
              <a:t>Originally published: May 1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Gill Sans MT"/>
              </a:rPr>
              <a:t>5-HT 4 </a:t>
            </a:r>
            <a:r>
              <a:rPr b="1" lang="ru-RU" sz="4300" spc="-1" strike="noStrike">
                <a:solidFill>
                  <a:srgbClr val="000000"/>
                </a:solidFill>
                <a:latin typeface="Corbel"/>
              </a:rPr>
              <a:t>- агонист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2880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Тегасерод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Zelnorm)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– агонист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5-HT 4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есинаптичексих рецепторов со стимуляцией перистальтической активности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e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гасерод улучшает консистенцию кала и способствует появлению позывов к дефекации (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уровень рекомендаций А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) у пациентов с хроническим запоро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днако согласно проведенным в 2007 году по инициативе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DA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29 рандомизированным, контролируемым исследованиям с коротким периодом наблюдения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1-3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есяц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тегасерод повышает риск кардиоваскулярных событий (в т.ч. стенокардии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Rectangle 4"/>
          <p:cNvSpPr/>
          <p:nvPr/>
        </p:nvSpPr>
        <p:spPr>
          <a:xfrm>
            <a:off x="2962800" y="5942160"/>
            <a:ext cx="590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ill Sans MT"/>
              </a:rPr>
              <a:t>Evidence-based management of chronic constipatio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By: MARK G. GRAHAM, MD, Gregory Mokrynski, MD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Originally published: May 1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3" descr=""/>
          <p:cNvPicPr/>
          <p:nvPr/>
        </p:nvPicPr>
        <p:blipFill>
          <a:blip r:embed="rId1"/>
          <a:stretch/>
        </p:blipFill>
        <p:spPr>
          <a:xfrm>
            <a:off x="684360" y="0"/>
            <a:ext cx="7164360" cy="2709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"/>
          <p:cNvPicPr/>
          <p:nvPr/>
        </p:nvPicPr>
        <p:blipFill>
          <a:blip r:embed="rId2"/>
          <a:stretch/>
        </p:blipFill>
        <p:spPr>
          <a:xfrm>
            <a:off x="1403280" y="2492280"/>
            <a:ext cx="5835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Активаторы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хлоридных каналов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1426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Любипростон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Amitiza)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– активатор 2 типа хлоридных каналов, усиливает кишечную секрецию без изменения концентрации электролитов в сыворотк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скоряет пассаж кишечного содержимого. Эффект превышает плацебо. К концу 2006 года было завершено 11 исследований, однако только 3 имели соответствующий цели исследования дизайн. Данных о серьезных побочных эффектах нет.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аиболее часто встречающиеся побочные эффекты – тошнота, рвота, головная боль,  диаре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За недостаточностью доказательных данных, уровень рекомендаций не определен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3195360" y="5942160"/>
            <a:ext cx="590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ill Sans MT"/>
              </a:rPr>
              <a:t>Evidence-based management of chronic constipation</a:t>
            </a:r>
            <a:br>
              <a:rPr sz="1800"/>
            </a:br>
            <a:r>
              <a:rPr b="0" i="1" lang="en-US" sz="1800" spc="-1" strike="noStrike">
                <a:solidFill>
                  <a:srgbClr val="ffffff"/>
                </a:solidFill>
                <a:latin typeface="Gill Sans MT"/>
              </a:rPr>
              <a:t>By: MARK G. GRAHAM, MD, Gregory Mokrynski, MD</a:t>
            </a:r>
            <a:br>
              <a:rPr sz="1800"/>
            </a:br>
            <a:r>
              <a:rPr b="0" i="1" lang="en-US" sz="1800" spc="-1" strike="noStrike">
                <a:solidFill>
                  <a:srgbClr val="ffffff"/>
                </a:solidFill>
                <a:latin typeface="Gill Sans MT"/>
              </a:rPr>
              <a:t>Originally published: May 1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00120" y="185724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Медицина, основанная на доказательствах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Стимулирующие слабительные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142640" y="1600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тимулирующие слабительные относятся к наиболее эффективным (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уровень рекомендаций В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Безопасность различных представителей этой группы неодинаков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бочные эффекты при применении в течении короткого времени - абдоминальный дискомфорт, аллергические реакции. При длительном приеме – дилатация толстой кишк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3195360" y="5942160"/>
            <a:ext cx="590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ill Sans MT"/>
              </a:rPr>
              <a:t>Evidence-based management of chronic constipation</a:t>
            </a:r>
            <a:br>
              <a:rPr sz="1800"/>
            </a:br>
            <a:r>
              <a:rPr b="0" i="1" lang="en-US" sz="1800" spc="-1" strike="noStrike">
                <a:solidFill>
                  <a:srgbClr val="ffffff"/>
                </a:solidFill>
                <a:latin typeface="Gill Sans MT"/>
              </a:rPr>
              <a:t>By: MARK G. GRAHAM, MD, Gregory Mokrynski, MD</a:t>
            </a:r>
            <a:br>
              <a:rPr sz="1800"/>
            </a:br>
            <a:r>
              <a:rPr b="0" i="1" lang="en-US" sz="1800" spc="-1" strike="noStrike">
                <a:solidFill>
                  <a:srgbClr val="ffffff"/>
                </a:solidFill>
                <a:latin typeface="Gill Sans MT"/>
              </a:rPr>
              <a:t>Originally published: May 1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orbel"/>
              </a:rPr>
              <a:t>Слабительные… А что еще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72000" y="1142640"/>
            <a:ext cx="4572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еобходимым условием для нормализации частоты стула является нормализация тонуса толстой кишки. Терапевтические возможности к настоящему времени ограничены спазмолитикам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3" name="Picture 4" descr=""/>
          <p:cNvPicPr/>
          <p:nvPr/>
        </p:nvPicPr>
        <p:blipFill>
          <a:blip r:embed="rId1"/>
          <a:stretch/>
        </p:blipFill>
        <p:spPr>
          <a:xfrm>
            <a:off x="0" y="1171440"/>
            <a:ext cx="438156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Итак, медикаментозная терапия синдрома запор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сколько групп препарато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 разным механизмом действ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 разным уровнем безопаснос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 разным уровнем доказанности данных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К ВЫБРАТЬ ПРЕПАРАТ ДЛЯ КОНКРЕТНОГО БОЛЬНОГО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57200" y="5638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7" name="Picture 3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4873680" cy="510516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4"/>
          <p:cNvSpPr/>
          <p:nvPr/>
        </p:nvSpPr>
        <p:spPr>
          <a:xfrm>
            <a:off x="2133720" y="4876920"/>
            <a:ext cx="46479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orbel"/>
              </a:rPr>
              <a:t>Практика доказательной медицины</a:t>
            </a:r>
            <a:r>
              <a:rPr b="0" lang="en-US" sz="43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ru-RU" sz="4300" spc="-1" strike="noStrike">
                <a:solidFill>
                  <a:srgbClr val="000000"/>
                </a:solidFill>
                <a:latin typeface="Corbel"/>
              </a:rPr>
              <a:t>пять шаг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066320" y="19807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Шаг 1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линический случай: формулировка проблемы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Шаг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2: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бор данных по проблеме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Шаг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3: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ритичная оценка имеющихся данных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Шаг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4: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интеграция доказательств и данных конкретного клинического случая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Шаг 5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инятие реше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Временный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(эпизодический)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запор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1357200" y="2071800"/>
            <a:ext cx="6705720" cy="761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Рекомендации по питанию, образу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4"/>
          <p:cNvSpPr/>
          <p:nvPr/>
        </p:nvSpPr>
        <p:spPr>
          <a:xfrm>
            <a:off x="1428840" y="3500280"/>
            <a:ext cx="6781680" cy="144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азначение слабительных препаратов, стимулирующих моторику (бисакодил (дульколакс), пикосульфат натрия (гутталак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4977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orbel"/>
              </a:rPr>
              <a:t>Хронический запор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5029200" y="1219320"/>
            <a:ext cx="38098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Функциональный зап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304920" y="1219320"/>
            <a:ext cx="441936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торичный  запор (как симптом органического заболева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5"/>
          <p:cNvSpPr/>
          <p:nvPr/>
        </p:nvSpPr>
        <p:spPr>
          <a:xfrm>
            <a:off x="3048120" y="2209680"/>
            <a:ext cx="53337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Рекомендации по питанию, образу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6"/>
          <p:cNvSpPr/>
          <p:nvPr/>
        </p:nvSpPr>
        <p:spPr>
          <a:xfrm>
            <a:off x="304920" y="2209680"/>
            <a:ext cx="26668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Лечение основного заболе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7"/>
          <p:cNvSpPr/>
          <p:nvPr/>
        </p:nvSpPr>
        <p:spPr>
          <a:xfrm>
            <a:off x="3581280" y="3124080"/>
            <a:ext cx="52578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и отсутствии эффекта – лактулоза 30-45 мл/сут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 оценкой эффекта на 2 сутки на период 8 нед. с последующей отме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8"/>
          <p:cNvSpPr/>
          <p:nvPr/>
        </p:nvSpPr>
        <p:spPr>
          <a:xfrm>
            <a:off x="304920" y="4952880"/>
            <a:ext cx="883908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и  отсутствии эффекта - назначение на фоне терапии лактулозой интермиттирующих курсов слабительных препаратов, стимулирующих моторику (бисакодил (дульколакс), пикосульфат натрия (гутталакс) на период 3-7 дней. В рефрактерных случаях возможно одновременное назначение 3 препар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9"/>
          <p:cNvSpPr/>
          <p:nvPr/>
        </p:nvSpPr>
        <p:spPr>
          <a:xfrm>
            <a:off x="304920" y="3200400"/>
            <a:ext cx="236196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опутствующая терапия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пазмолитики,  антидепресса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2" name="Object 2"/>
          <p:cNvGraphicFramePr/>
          <p:nvPr/>
        </p:nvGraphicFramePr>
        <p:xfrm>
          <a:off x="0" y="0"/>
          <a:ext cx="9144000" cy="692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92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orbel"/>
              </a:rPr>
              <a:t>Практика доказательной медицины</a:t>
            </a:r>
            <a:r>
              <a:rPr b="0" lang="en-US" sz="43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ru-RU" sz="4300" spc="-1" strike="noStrike">
                <a:solidFill>
                  <a:srgbClr val="000000"/>
                </a:solidFill>
                <a:latin typeface="Corbel"/>
              </a:rPr>
              <a:t>пять шаг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066320" y="19807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Шаг 1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линический случай: формулировка проблемы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Шаг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2: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бор данных по проблеме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Шаг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3: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ритичная оценка имеющихся данных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Шаг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4: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нтеграция доказательств и данных конкретного клинического случая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Шаг 5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принятие реш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Практика врача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1000080" y="1447560"/>
            <a:ext cx="8143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Пациент И., 37 ле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оответствие клинических симптомов Римским критериям функционального запор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ременный запор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тсутствие симптомов «красных флагов»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езультаты обследован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бщий и б/х анализы крови – отклонения от нормы не выявлено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ЗИ абдоминальное, ирригоскопия – структурных изменений не выявлено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опрограмма – признаков воспаления не выявлено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orbel"/>
              </a:rPr>
              <a:t>Вопрос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Зачем нужна медицина, основанная на доказательствах, для практики здравоохранения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Как формируются клинические рекомендации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Принципы медицины, основанной на доказательствах, для пациента или врача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Практика врача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1214280" y="1523880"/>
            <a:ext cx="762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Пациент И., 37 ле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екомендации – нормализация режима труда и отдыха, увеличение в рационе пищевых волокон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урация в амбулаторных условиях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онсультация психотерапевт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ульколакс 10 мг на ночь «ситуационно»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Бускопан 10 мг 3 раза в день 2 недел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8556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Дизайн исследова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1142640" y="1213920"/>
            <a:ext cx="7497720" cy="530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птимальный  путь к ответу на  исследовательский вопрос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авильность и полнота  получаемых данных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рректность выводов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, самое главное, безопасность для субъектов исследования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се это обеспечивает адекватный дизайн (схема, шаблон) исследования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42640" y="213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ИЗАЙН ТИПИЧНОГО ОТЕЧЕСТВЕННОГО МЕДИЦИНСКОГО ИССЛЕДОВАНИЯ 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3" name="Oval 3"/>
          <p:cNvSpPr/>
          <p:nvPr/>
        </p:nvSpPr>
        <p:spPr>
          <a:xfrm>
            <a:off x="380880" y="3429000"/>
            <a:ext cx="838440" cy="91440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Times New Roman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4"/>
          <p:cNvSpPr/>
          <p:nvPr/>
        </p:nvSpPr>
        <p:spPr>
          <a:xfrm>
            <a:off x="1219320" y="38862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5"/>
          <p:cNvSpPr/>
          <p:nvPr/>
        </p:nvSpPr>
        <p:spPr>
          <a:xfrm flipV="1">
            <a:off x="3809880" y="34290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6"/>
          <p:cNvSpPr/>
          <p:nvPr/>
        </p:nvSpPr>
        <p:spPr>
          <a:xfrm>
            <a:off x="3809880" y="38862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7"/>
          <p:cNvSpPr/>
          <p:nvPr/>
        </p:nvSpPr>
        <p:spPr>
          <a:xfrm>
            <a:off x="4191120" y="2819520"/>
            <a:ext cx="609480" cy="53316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Times New Roman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8"/>
          <p:cNvSpPr/>
          <p:nvPr/>
        </p:nvSpPr>
        <p:spPr>
          <a:xfrm>
            <a:off x="4191120" y="4343400"/>
            <a:ext cx="457200" cy="380880"/>
          </a:xfrm>
          <a:prstGeom prst="flowChartExtra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9"/>
          <p:cNvSpPr/>
          <p:nvPr/>
        </p:nvSpPr>
        <p:spPr>
          <a:xfrm>
            <a:off x="1676520" y="5029200"/>
            <a:ext cx="2438280" cy="609480"/>
          </a:xfrm>
          <a:prstGeom prst="rightArrow">
            <a:avLst>
              <a:gd name="adj1" fmla="val 50000"/>
              <a:gd name="adj2" fmla="val 100015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блю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838080" y="4114800"/>
            <a:ext cx="762120" cy="2590920"/>
          </a:xfrm>
          <a:prstGeom prst="upArrow">
            <a:avLst>
              <a:gd name="adj1" fmla="val 39287"/>
              <a:gd name="adj2" fmla="val 14813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1"/>
          <p:cNvSpPr/>
          <p:nvPr/>
        </p:nvSpPr>
        <p:spPr>
          <a:xfrm rot="16200000">
            <a:off x="156960" y="5415840"/>
            <a:ext cx="218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мешатель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2"/>
          <p:cNvSpPr/>
          <p:nvPr/>
        </p:nvSpPr>
        <p:spPr>
          <a:xfrm>
            <a:off x="4899240" y="2746440"/>
            <a:ext cx="370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271c"/>
                </a:solidFill>
                <a:latin typeface="Arial"/>
              </a:rPr>
              <a:t>ПОЛОЖИТЕЛЬ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271c"/>
                </a:solidFill>
                <a:latin typeface="Arial"/>
              </a:rPr>
              <a:t>ИСХ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3"/>
          <p:cNvSpPr/>
          <p:nvPr/>
        </p:nvSpPr>
        <p:spPr>
          <a:xfrm>
            <a:off x="4802400" y="4235400"/>
            <a:ext cx="357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271c"/>
                </a:solidFill>
                <a:latin typeface="Arial"/>
              </a:rPr>
              <a:t>ОТРИЦАТЕЛЬ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271c"/>
                </a:solidFill>
                <a:latin typeface="Arial"/>
              </a:rPr>
              <a:t>ИСХ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иды исследований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Наблюдение и эксперимент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  В наблюдении  исследователь лишь описывает  процесс,  в эксперименте - активно вмешивается в событ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Исследования  методом “поперечного среза” (одномоментные) и продленные исследования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 исследованиях “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поперечного среза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” каждого участника исследуют один раз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а в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продленных исследованиях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частников обследуют более одного раза, т.е. наблюдают на протяжении определенного периода времен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1071720" y="857160"/>
            <a:ext cx="746280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Поперечными, или одномоментными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азывают исследования, в которых обследование каждого пациента выполняется однократно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 результате можно описать картину болезни,  уточнить симптоматику, связать отдельные симптомы с основным диагнозом и тяжестью болезни, т.е. решить множество важных вопросов. Эти исследования применяются очень широко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 простейшем случае — это описание заболевания, но не в его развитии, а в совокупности вариантов, тяжести течения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 более сложном случае — это исследование связи некоторых признаков с вариантом течения заболевания (аналитическое)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1434960" y="928440"/>
            <a:ext cx="749952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Продольными (longitudinal, лонгитудинальными)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азывают исследования с выделением группы людей, за которыми в течение некоторого времени наблюдают и повторно (хотя бы один раз) оценивают их состояние. Длительность наблюдения не обязательно должна быть большой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ля наблюдения естественного развития острого респираторного заболевания достаточно 10 дней. В известном продольном исследовании, доказавшем тератогенные последствия краснухи, достаточным было наблюдение в течение 9 месяцев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одольные исследования могут быть проспективными и ретроспективным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1142640" y="260280"/>
            <a:ext cx="7821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Если группа больных специально формируется и целенаправленно отслеживается, то исследование называют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orbel"/>
              </a:rPr>
              <a:t>проспективным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 В ходе наблюдения фиксируются изменения, обычно — возникновение новых заболеваний, их развитие и осложнения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(исследования естественного развития заболеваний)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 Эти заболевания соотносятся с предшествовавшими им исходными особенностями изучаемых людей. Такие работы называют </a:t>
            </a: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исследованиями причинных факторов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имером могут служить популяционные исследования, выясняющие, как заболеваемость ишемической болезнью сердца зависит от концентрации холестерина в крови и артериального давления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orbel"/>
              </a:rPr>
              <a:t>Проспективные исследования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— самые продуктивные и доказательные. Они не исключают всех возможных ошибок, но ближе всего подводят к пониманию причинно-следственных отношений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Главная особенность таких работ —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полная определенность наблюдаемой группы, выявляемых состояний, методов обследования и прочих деталей до начала исследования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 Это позволяет контролировать возможные систематические ошибки (предвзятость) при анализе результатов. Проспективные исследования относятся к самым дорогостоящим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1213920" y="692280"/>
            <a:ext cx="7534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спективные исследования могут сочетаться с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преднамеренным вмешательством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в естественный ход событий. Таковы многие испытания средств лечения и профилактики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арианты их проведения — параллельное исследование двух групп, последовательное применение испытуемого лечения и контрольного, либо перекрестное исследовани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1142640" y="259920"/>
            <a:ext cx="7821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одольное исследование может быть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ретроспективным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 Это означает, что изучаемая группа больных выделяется в конечный момент — в период выявления и лечения. Одновременно определяется контрольная группа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Ретроспективно, в прошлом, можно отметить у больных какой-то общий фактор, например, курение, использование краски для волос или ультрафиолетовых ламп для загара. Если в контрольной группе этот фактор в прошлом встречался реже, то можно предположить, что заболевание связано с ним. Такая организация соответствует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исследованию типа "случай-контроль»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Виды продленных исследований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856800" y="1447560"/>
            <a:ext cx="8286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Ретроспективные и проспективные исследования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В 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ретроспективных исследованиях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ценивают прошедшие события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В 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проспективных (продленных)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исследованиях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вначале составляется план исследования и порядок сбора и обработки данных. Правильное осуществление  этого варианта дизайна позволяет проводить корректные исследования с получением результатов, заслуживающих довери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3"/>
          <p:cNvSpPr/>
          <p:nvPr/>
        </p:nvSpPr>
        <p:spPr>
          <a:xfrm>
            <a:off x="5580000" y="623736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orbel"/>
              </a:rPr>
              <a:t>Е.К. Баранская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иды исследований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Несравнительные и сравнительные исследования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несравнительном исследовании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спользуют методы описательной статистики, при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сравнительном -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равнивают две и более групп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есравнительные исследования, как  правило, относятся к “пилотным” или поисковым, а более крупные, серьезные, подтверждающие исследования, за редким исключением,  проводятся как   сравнительные продленные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иды исследований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928440" y="2057040"/>
            <a:ext cx="7862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Контролируемые исследования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онтролируемое в широком смысле означает проведение исследования  в соответствии с  протоколом и под контролем монитора, этического комитета и официальных инстанций , в узком смысле такое исследование предполагает  наличие контрольной группы пациентов.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иды исследований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434960" y="1447560"/>
            <a:ext cx="749952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Слепые исследования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а)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открытые исследования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(и врач, и пациент знают, какая проводится терапия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б)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простые слепые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(информацией о препарате располагает только исследователь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)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двойные слепые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(ни врач, ни пациент не знают назначенной терапии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г)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тройные слепые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(ни пациент, ни те, кто организуют исследования не знают назначенной терапии конкретному больному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928800" y="404280"/>
            <a:ext cx="82152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ля проведения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слепого клинического испытания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еобходим творческий подход. Например, если стандартный лекарственный препарат вводится посредством ингаляций, а новый — посредством инъекций, то стандартное лечение можно дополнить инъекциями плацебо, а новое лечение — ингаляциями плацебо. Тогда больной и персонал не смогут различать два способа лечени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ажная деталь организации клинического испытания —прекратить лечение, назначенное больному до включения в испытание, и определить сроки, когда это нужно сделать. Высококачественное сообщение должно содержать информацию о том, как часто больные в группе лечения и в контрольной группе использовали дополнительное, не назначенное в ходе испытания лечение. Это бывает почти всегда и должно учитываться при анализе результато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иды исследований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Когортные исследования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Когорта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- группа лиц, изначально объединенных каким - либо общим признаком и наблюдаемая в течение определенного периода времен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огортные исследования, как правило,  являются продленными проспективными.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 редких случаях формируют так называемую ретроспективную когорту, когда  выборку формируют ретроспективно, а  в настоящем повторно обследуют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иды исследований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1214280" y="2057040"/>
            <a:ext cx="7498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Исследования случай-контроль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тличительная особенность  этой методики состоит в том, что к моменту начала исследования  все изучаемые исходы уже наступили.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Это ретроспективные исследования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 потому они обладают меньшей степенью доказательности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928800" y="731520"/>
            <a:ext cx="82152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ажнейшее условие, обеспечивающее надежность контролируемого исследования — это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однородность групп больных по всем признакам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, которые влияют на исход заболевания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читывая наличие множества взаимосвязанных факторов, определяющих прогноз, а также "скрытых" (неизвестных в настоящее время) или неизмеряемых прогностических факторов, достичь сопоставимости групп наблюдения в наиболее полном объеме можно только при использовании метода случайного распределения пациентов на группы. Этот метод называется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рандомизацией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(random — случайный)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Такое распределение не может быть достигнуто беспорядочным отбором без предварительного научно обоснованного плана, который должен обеспечить каждому больному, включенному в исследование, равную вероятность получения альтернативного лечения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1142640" y="785520"/>
            <a:ext cx="8001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Истинная рандомизация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едполагает обязательное соблюдение двух условий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во-первых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, непредсказуемый характер распределения больных на группы (исследователь не может предугадать, в какую группу попадет следующий больной)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во-вторых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, исследователь, проводящий набор больных, не должен знать, в какие группы попадают пациенты (“слепой отбор”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етоды рандомизации (ЭТО ЛЕГКО!)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етодом конвертов, таблицы, статистические программ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1071360" y="785520"/>
            <a:ext cx="80722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еобходимо помнить, что несопоставимость групп наблюдения может возникнуть и после рандомизации, если не все больные будут в дальнейшем участвовать в исследовании, например из-за ошибок диагностики, побочных эффектов лечения, серьезных проявлений других заболеваний, отказа продолжать лечение или перехода в другую лечебную группу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дин из способов минимизации возможных ошибок — проведение анализа в группах, исходя из допущения, что все больные получили лечение, предписанное при рандомизации. Такой “консервативный” подход уменьшает вероятность ложноположительного результата, т.е. выявления эффекта лечения, когда он на самом деле отсутствует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роме того, считается, что если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более 80%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из включенных больных наблюдались до конца исследования, его результаты могут быть достаточно надежными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Oval 2"/>
          <p:cNvSpPr/>
          <p:nvPr/>
        </p:nvSpPr>
        <p:spPr>
          <a:xfrm>
            <a:off x="380880" y="2971800"/>
            <a:ext cx="1676520" cy="1752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3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rbel"/>
              </a:rPr>
              <a:t>Рандомизированное клиническое испыт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5"/>
          <p:cNvSpPr/>
          <p:nvPr/>
        </p:nvSpPr>
        <p:spPr>
          <a:xfrm>
            <a:off x="76320" y="249876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уля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6"/>
          <p:cNvSpPr/>
          <p:nvPr/>
        </p:nvSpPr>
        <p:spPr>
          <a:xfrm>
            <a:off x="5335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о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7"/>
          <p:cNvSpPr/>
          <p:nvPr/>
        </p:nvSpPr>
        <p:spPr>
          <a:xfrm>
            <a:off x="2362320" y="3124080"/>
            <a:ext cx="3657600" cy="304920"/>
          </a:xfrm>
          <a:prstGeom prst="rightArrow">
            <a:avLst>
              <a:gd name="adj1" fmla="val 50000"/>
              <a:gd name="adj2" fmla="val 299882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8"/>
          <p:cNvSpPr/>
          <p:nvPr/>
        </p:nvSpPr>
        <p:spPr>
          <a:xfrm>
            <a:off x="2362320" y="4267080"/>
            <a:ext cx="3657600" cy="304920"/>
          </a:xfrm>
          <a:prstGeom prst="rightArrow">
            <a:avLst>
              <a:gd name="adj1" fmla="val 50000"/>
              <a:gd name="adj2" fmla="val 299882"/>
            </a:avLst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9"/>
          <p:cNvSpPr/>
          <p:nvPr/>
        </p:nvSpPr>
        <p:spPr>
          <a:xfrm>
            <a:off x="2743200" y="27432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мешатель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0"/>
          <p:cNvSpPr/>
          <p:nvPr/>
        </p:nvSpPr>
        <p:spPr>
          <a:xfrm>
            <a:off x="2819520" y="457200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вмеш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1"/>
          <p:cNvSpPr/>
          <p:nvPr/>
        </p:nvSpPr>
        <p:spPr>
          <a:xfrm flipV="1">
            <a:off x="624852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2"/>
          <p:cNvSpPr/>
          <p:nvPr/>
        </p:nvSpPr>
        <p:spPr>
          <a:xfrm>
            <a:off x="6248520" y="32767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3"/>
          <p:cNvSpPr/>
          <p:nvPr/>
        </p:nvSpPr>
        <p:spPr>
          <a:xfrm>
            <a:off x="6858000" y="2286000"/>
            <a:ext cx="1828800" cy="642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лучшени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4"/>
          <p:cNvSpPr/>
          <p:nvPr/>
        </p:nvSpPr>
        <p:spPr>
          <a:xfrm>
            <a:off x="6858000" y="3048120"/>
            <a:ext cx="1447920" cy="642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лучшения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5"/>
          <p:cNvSpPr/>
          <p:nvPr/>
        </p:nvSpPr>
        <p:spPr>
          <a:xfrm>
            <a:off x="6858000" y="3962520"/>
            <a:ext cx="1447920" cy="642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лучшени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6"/>
          <p:cNvSpPr/>
          <p:nvPr/>
        </p:nvSpPr>
        <p:spPr>
          <a:xfrm>
            <a:off x="6858000" y="4724280"/>
            <a:ext cx="1676520" cy="642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лучшения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7"/>
          <p:cNvSpPr/>
          <p:nvPr/>
        </p:nvSpPr>
        <p:spPr>
          <a:xfrm flipV="1">
            <a:off x="6248520" y="4267080"/>
            <a:ext cx="5331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8"/>
          <p:cNvSpPr/>
          <p:nvPr/>
        </p:nvSpPr>
        <p:spPr>
          <a:xfrm>
            <a:off x="6248520" y="449568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19"/>
          <p:cNvSpPr/>
          <p:nvPr/>
        </p:nvSpPr>
        <p:spPr>
          <a:xfrm>
            <a:off x="2133720" y="2819520"/>
            <a:ext cx="990360" cy="91440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20"/>
          <p:cNvSpPr/>
          <p:nvPr/>
        </p:nvSpPr>
        <p:spPr>
          <a:xfrm>
            <a:off x="2133720" y="3962520"/>
            <a:ext cx="990360" cy="990360"/>
          </a:xfrm>
          <a:prstGeom prst="ellipse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21"/>
          <p:cNvSpPr/>
          <p:nvPr/>
        </p:nvSpPr>
        <p:spPr>
          <a:xfrm>
            <a:off x="1828800" y="4191120"/>
            <a:ext cx="457200" cy="228600"/>
          </a:xfrm>
          <a:prstGeom prst="line">
            <a:avLst/>
          </a:prstGeom>
          <a:ln w="3816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22"/>
          <p:cNvSpPr/>
          <p:nvPr/>
        </p:nvSpPr>
        <p:spPr>
          <a:xfrm flipV="1">
            <a:off x="1828800" y="3352680"/>
            <a:ext cx="457200" cy="152640"/>
          </a:xfrm>
          <a:prstGeom prst="line">
            <a:avLst/>
          </a:prstGeom>
          <a:ln w="3816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23"/>
          <p:cNvSpPr/>
          <p:nvPr/>
        </p:nvSpPr>
        <p:spPr>
          <a:xfrm>
            <a:off x="1828800" y="20574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ая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4"/>
          <p:cNvSpPr/>
          <p:nvPr/>
        </p:nvSpPr>
        <p:spPr>
          <a:xfrm>
            <a:off x="1676520" y="5105520"/>
            <a:ext cx="1600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ав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00080" y="142560"/>
            <a:ext cx="76867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КАК В МЕДИЦИНЕ ПРИНИМАЮТСЯ РЕШЕНИЯ?</a:t>
            </a:r>
            <a:br>
              <a:rPr sz="2200"/>
            </a:b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75" name="Object 3"/>
          <p:cNvGraphicFramePr/>
          <p:nvPr/>
        </p:nvGraphicFramePr>
        <p:xfrm>
          <a:off x="608040" y="4049640"/>
          <a:ext cx="113328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4049640"/>
                    <a:ext cx="113328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7" name="Object 5"/>
          <p:cNvGraphicFramePr/>
          <p:nvPr/>
        </p:nvGraphicFramePr>
        <p:xfrm>
          <a:off x="6176880" y="1857240"/>
          <a:ext cx="1857600" cy="399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6880" y="1857240"/>
                    <a:ext cx="1857600" cy="39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AutoShape 4"/>
          <p:cNvSpPr/>
          <p:nvPr/>
        </p:nvSpPr>
        <p:spPr>
          <a:xfrm>
            <a:off x="317520" y="863640"/>
            <a:ext cx="4406760" cy="2603520"/>
          </a:xfrm>
          <a:prstGeom prst="cloudCallout">
            <a:avLst>
              <a:gd name="adj1" fmla="val -19884"/>
              <a:gd name="adj2" fmla="val 75671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Недавно был подобный случай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Так написано в учебнике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В больнице все так делают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Я слышал что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Так требуют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6"/>
          <p:cNvSpPr/>
          <p:nvPr/>
        </p:nvSpPr>
        <p:spPr>
          <a:xfrm>
            <a:off x="5041800" y="990720"/>
            <a:ext cx="3353040" cy="1981080"/>
          </a:xfrm>
          <a:prstGeom prst="cloudCallout">
            <a:avLst>
              <a:gd name="adj1" fmla="val 6629"/>
              <a:gd name="adj2" fmla="val 103606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2129040" y="3719520"/>
            <a:ext cx="4746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Когда появляется вопрос, специал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ИЩЕТ 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в научных исследованиях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КРИТИЧЕ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ОЦЕНИ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ИНФОРМАЦ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8" descr="BS00580_"/>
          <p:cNvPicPr/>
          <p:nvPr/>
        </p:nvPicPr>
        <p:blipFill>
          <a:blip r:embed="rId5"/>
          <a:stretch/>
        </p:blipFill>
        <p:spPr>
          <a:xfrm>
            <a:off x="5738760" y="1314360"/>
            <a:ext cx="1195560" cy="13352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9" descr="BS00554_"/>
          <p:cNvPicPr/>
          <p:nvPr/>
        </p:nvPicPr>
        <p:blipFill>
          <a:blip r:embed="rId6"/>
          <a:stretch/>
        </p:blipFill>
        <p:spPr>
          <a:xfrm>
            <a:off x="6807240" y="1689120"/>
            <a:ext cx="1130400" cy="549360"/>
          </a:xfrm>
          <a:prstGeom prst="rect">
            <a:avLst/>
          </a:prstGeom>
          <a:ln w="0">
            <a:noFill/>
          </a:ln>
        </p:spPr>
      </p:pic>
      <p:sp>
        <p:nvSpPr>
          <p:cNvPr id="384" name="AutoShape 10"/>
          <p:cNvSpPr/>
          <p:nvPr/>
        </p:nvSpPr>
        <p:spPr>
          <a:xfrm>
            <a:off x="2311560" y="5676840"/>
            <a:ext cx="5332320" cy="486000"/>
          </a:xfrm>
          <a:prstGeom prst="rightArrow">
            <a:avLst>
              <a:gd name="adj1" fmla="val 50000"/>
              <a:gd name="adj2" fmla="val 274296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1"/>
          <p:cNvSpPr/>
          <p:nvPr/>
        </p:nvSpPr>
        <p:spPr>
          <a:xfrm>
            <a:off x="4800600" y="6324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orbel"/>
              </a:rPr>
              <a:t>М.В. Авксентьева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Исследование «случай-контрол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4"/>
          <p:cNvSpPr/>
          <p:nvPr/>
        </p:nvSpPr>
        <p:spPr>
          <a:xfrm>
            <a:off x="7696080" y="38098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уля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5"/>
          <p:cNvSpPr/>
          <p:nvPr/>
        </p:nvSpPr>
        <p:spPr>
          <a:xfrm>
            <a:off x="6629400" y="4267080"/>
            <a:ext cx="1981080" cy="152424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6"/>
          <p:cNvSpPr/>
          <p:nvPr/>
        </p:nvSpPr>
        <p:spPr>
          <a:xfrm>
            <a:off x="6629400" y="457200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Контроль» - заболевание отсутству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7"/>
          <p:cNvSpPr/>
          <p:nvPr/>
        </p:nvSpPr>
        <p:spPr>
          <a:xfrm>
            <a:off x="6553080" y="2286000"/>
            <a:ext cx="1828800" cy="1523880"/>
          </a:xfrm>
          <a:prstGeom prst="ellipse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8"/>
          <p:cNvSpPr/>
          <p:nvPr/>
        </p:nvSpPr>
        <p:spPr>
          <a:xfrm>
            <a:off x="6629400" y="266688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лучай» - заболевание ест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9"/>
          <p:cNvSpPr/>
          <p:nvPr/>
        </p:nvSpPr>
        <p:spPr>
          <a:xfrm>
            <a:off x="1066680" y="2362320"/>
            <a:ext cx="5257800" cy="1218960"/>
          </a:xfrm>
          <a:prstGeom prst="rightArrowCallout">
            <a:avLst>
              <a:gd name="adj1" fmla="val 7816"/>
              <a:gd name="adj2" fmla="val 11458"/>
              <a:gd name="adj3" fmla="val 70511"/>
              <a:gd name="adj4" fmla="val 18236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10"/>
          <p:cNvSpPr/>
          <p:nvPr/>
        </p:nvSpPr>
        <p:spPr>
          <a:xfrm>
            <a:off x="1066680" y="4495680"/>
            <a:ext cx="5257800" cy="1219320"/>
          </a:xfrm>
          <a:prstGeom prst="rightArrowCallout">
            <a:avLst>
              <a:gd name="adj1" fmla="val 7816"/>
              <a:gd name="adj2" fmla="val 11458"/>
              <a:gd name="adj3" fmla="val 70490"/>
              <a:gd name="adj4" fmla="val 18236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1"/>
          <p:cNvSpPr/>
          <p:nvPr/>
        </p:nvSpPr>
        <p:spPr>
          <a:xfrm>
            <a:off x="685800" y="365760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ор риска или воздей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2"/>
          <p:cNvSpPr/>
          <p:nvPr/>
        </p:nvSpPr>
        <p:spPr>
          <a:xfrm>
            <a:off x="1066680" y="2362320"/>
            <a:ext cx="914400" cy="7038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ть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3"/>
          <p:cNvSpPr/>
          <p:nvPr/>
        </p:nvSpPr>
        <p:spPr>
          <a:xfrm>
            <a:off x="1143000" y="31082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4"/>
          <p:cNvSpPr/>
          <p:nvPr/>
        </p:nvSpPr>
        <p:spPr>
          <a:xfrm>
            <a:off x="1066680" y="4419720"/>
            <a:ext cx="990720" cy="39888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5"/>
          <p:cNvSpPr/>
          <p:nvPr/>
        </p:nvSpPr>
        <p:spPr>
          <a:xfrm>
            <a:off x="1066680" y="50292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6"/>
          <p:cNvSpPr/>
          <p:nvPr/>
        </p:nvSpPr>
        <p:spPr>
          <a:xfrm>
            <a:off x="3581280" y="3809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н а м н е 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7"/>
          <p:cNvSpPr/>
          <p:nvPr/>
        </p:nvSpPr>
        <p:spPr>
          <a:xfrm rot="10800000">
            <a:off x="3200400" y="3733560"/>
            <a:ext cx="2743200" cy="68580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12" y="0"/>
                </a:lnTo>
                <a:lnTo>
                  <a:pt x="21600" y="10800"/>
                </a:lnTo>
                <a:lnTo>
                  <a:pt x="18912" y="21600"/>
                </a:lnTo>
                <a:lnTo>
                  <a:pt x="0" y="21600"/>
                </a:lnTo>
                <a:lnTo>
                  <a:pt x="2688" y="10800"/>
                </a:lnTo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8"/>
          <p:cNvSpPr/>
          <p:nvPr/>
        </p:nvSpPr>
        <p:spPr>
          <a:xfrm>
            <a:off x="7010280" y="3429000"/>
            <a:ext cx="0" cy="1143000"/>
          </a:xfrm>
          <a:prstGeom prst="line">
            <a:avLst/>
          </a:prstGeom>
          <a:ln w="9360">
            <a:solidFill>
              <a:srgbClr val="ffff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19"/>
          <p:cNvSpPr/>
          <p:nvPr/>
        </p:nvSpPr>
        <p:spPr>
          <a:xfrm>
            <a:off x="7315200" y="3581280"/>
            <a:ext cx="0" cy="914400"/>
          </a:xfrm>
          <a:prstGeom prst="line">
            <a:avLst/>
          </a:prstGeom>
          <a:ln w="9360">
            <a:solidFill>
              <a:srgbClr val="ffff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20"/>
          <p:cNvSpPr/>
          <p:nvPr/>
        </p:nvSpPr>
        <p:spPr>
          <a:xfrm>
            <a:off x="7696080" y="3581280"/>
            <a:ext cx="0" cy="838440"/>
          </a:xfrm>
          <a:prstGeom prst="line">
            <a:avLst/>
          </a:prstGeom>
          <a:ln w="9360">
            <a:solidFill>
              <a:srgbClr val="ffff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Рекомендации по выбору дизайн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0" y="21956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1000080" y="1571760"/>
          <a:ext cx="7929720" cy="4427280"/>
        </p:xfrm>
        <a:graphic>
          <a:graphicData uri="http://schemas.openxmlformats.org/drawingml/2006/table">
            <a:tbl>
              <a:tblPr/>
              <a:tblGrid>
                <a:gridCol w="2873520"/>
                <a:gridCol w="5056200"/>
              </a:tblGrid>
              <a:tr h="4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зайн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ортное исслед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ние случай-контро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омоментное исслед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ростране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омоментное исслед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ортное исслед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ние случай-контро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но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ортное исслед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ндомизированное проспективное контролируемое исслед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Выбор дизайна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ждого исследования должен быть обоснованным, т.е. исследователь должен  сам представлять и иметь возможность объяснить другим, почему для данного испытания был выбран именно этот, а не какой-нибудь другой дизайн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1285560" y="980640"/>
            <a:ext cx="7412040" cy="549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vidence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based medicine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- это добросовестное, точное и осмысленное использование лучших результатов клинических исследований  для выбора лечения 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конкретного  больного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Gill Sans MT"/>
              </a:rPr>
              <a:t>Sackett, D. et al. “Evidence based medicine: what it is and what it isn't.” BMJ 1996: 312(7023) p.71-72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2640" y="356760"/>
            <a:ext cx="7821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ОПРЕДЕЛЕНИЕ УБЕДИТЕЛЬНОСТИ ДОКАЗАТЕЛЬСТВ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(ДЛЯ МЕТОДОВ ЛЕЧЕНИЯ)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071720" y="1214280"/>
          <a:ext cx="7850160" cy="5132520"/>
        </p:xfrm>
        <a:graphic>
          <a:graphicData uri="http://schemas.openxmlformats.org/drawingml/2006/table">
            <a:tbl>
              <a:tblPr/>
              <a:tblGrid>
                <a:gridCol w="2987640"/>
                <a:gridCol w="4862520"/>
              </a:tblGrid>
              <a:tr h="15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=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Вмешательство настоятельно рекомендует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(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=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Вмешательство настоятельно не рекомендуетс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сококачественный систематический обзор, мета-анализ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ольшие РКИ с низкой вероятностью ошибок и однозначными результатам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=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Вмешательство рекомендует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=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Вмешательство не рекомендует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большие РКИ с неоднозначными результатами и средней или высокой вероятностью ошиб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ольшие проспективные сравнительные, но нерандомизированные исслед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чественные ретроспективные исследования на больших выборках больных с тщательно подобранными группами сравн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C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华文中宋"/>
                        </a:rPr>
                        <a:t>= Вмешательство возможно, но не гарантированы результ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троспективные сравнительные исследования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сследования на ограниченном числе больных или на отдельных больных без контрольной групп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формализованный опыт экспер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orbel"/>
              </a:rPr>
              <a:t>Практика доказательной медицины</a:t>
            </a:r>
            <a:r>
              <a:rPr b="0" lang="en-US" sz="43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ru-RU" sz="4300" spc="-1" strike="noStrike">
                <a:solidFill>
                  <a:srgbClr val="000000"/>
                </a:solidFill>
                <a:latin typeface="Corbel"/>
              </a:rPr>
              <a:t>пять шаг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142640" y="1980720"/>
            <a:ext cx="80010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Шаг 1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линический случай: формулировка проблемы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Шаг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2: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бор данных по проблеме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Шаг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3: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ритичная оценка имеющихся данных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Шаг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4: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нтеграция доказательств и данных конкретного клинического случая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Шаг 5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нятие решен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5181480" y="64771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orbel"/>
              </a:rPr>
              <a:t>П.А. Воробьев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orbel"/>
              </a:rPr>
              <a:t>Практика врач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213920" y="1599840"/>
            <a:ext cx="7472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Пациент И., 37 лет, инженер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Жалобы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а отсутствие стула до 4-5 дней, изменение характера стула (твердый,  в виде комочков). Патологических примесей к калу не отмечает. Аппетит сохранен, вес стабильны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ill Sans MT"/>
              </a:rPr>
              <a:t>An. morbi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имптомы беспокоят в течение 4 мес., связывает со сменой работы (командировки, нерегулярное питание, нервные переживания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аследственность в отношении колоректального рака не отягощен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2T00:53:26Z</dcterms:created>
  <dc:creator>Samsung</dc:creator>
  <dc:description/>
  <dc:language>en-US</dc:language>
  <cp:lastModifiedBy>ОПСА</cp:lastModifiedBy>
  <dcterms:modified xsi:type="dcterms:W3CDTF">2012-07-20T08:11:14Z</dcterms:modified>
  <cp:revision>6</cp:revision>
  <dc:subject/>
  <dc:title>Выбор модели исследования  Определение объема исследования   Сбор данных </dc:title>
</cp:coreProperties>
</file>