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DFC8-BAC4-49FE-AE9F-3DECD44B3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DF2-9706-4F8E-8F96-4A3A2F8F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1E1-BECA-46EB-9340-D914E1C5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EEE-4841-4EA8-AF9D-98F17D35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7DF-74F1-429B-AE0D-758A7FD0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456-EB8A-4720-A7D6-ADD22027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11B-153A-4CBF-9645-838A284B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091-61A1-4D28-B104-CF0DE27E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81FE-5795-4E49-B187-89637263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CBEC-D12C-4209-B5F7-E0E258B3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F9FB-8486-4D3E-BAB5-FE9547B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A69-E758-4DC0-B801-546D9CB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02880" y="198000"/>
            <a:ext cx="630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5D96-5076-420D-B626-3173267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AA36-C489-48C1-991B-88B31CD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077-0C22-4F9B-A599-70B6F9C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6A4-C420-487D-8A4F-C73D0D2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C58-E9A3-49B0-8F84-1700E41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254-2CF8-4152-A75B-83CDAC2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B30E-6680-467A-BD61-8D0740E9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C89-770B-4697-AC88-19749428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C49-7B01-498E-9996-B47FCE5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5CF-7AC7-4E90-BF3A-58D504F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0DC-BF69-49CD-899C-C56B16F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02880" y="198000"/>
            <a:ext cx="630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ED5-BEB3-4223-94CC-32BF3AE8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731-24AA-47EB-8D40-F11A7E3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0F0-D457-4D33-9DE5-C4DDDB9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EA5-4426-4E2E-92EB-1BBBE2A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9"/>
          <p:cNvSpPr/>
          <p:nvPr/>
        </p:nvSpPr>
        <p:spPr>
          <a:xfrm>
            <a:off x="7658280" y="0"/>
            <a:ext cx="1104840" cy="684864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6848640"/>
              <a:gd name="textAreaBottom" fmla="*/ 6849000 h 6848640"/>
            </a:gdLst>
            <a:ahLst/>
            <a:rect l="textAreaLeft" t="textAreaTop" r="textAreaRight" b="textAreaBottom"/>
            <a:pathLst>
              <a:path w="696" h="4314">
                <a:moveTo>
                  <a:pt x="312" y="0"/>
                </a:moveTo>
                <a:lnTo>
                  <a:pt x="528" y="444"/>
                </a:lnTo>
                <a:lnTo>
                  <a:pt x="696" y="960"/>
                </a:lnTo>
                <a:lnTo>
                  <a:pt x="426" y="4314"/>
                </a:lnTo>
                <a:lnTo>
                  <a:pt x="108" y="4314"/>
                </a:lnTo>
                <a:lnTo>
                  <a:pt x="648" y="960"/>
                </a:lnTo>
                <a:lnTo>
                  <a:pt x="456" y="432"/>
                </a:lnTo>
                <a:lnTo>
                  <a:pt x="0" y="0"/>
                </a:lnTo>
                <a:lnTo>
                  <a:pt x="312" y="0"/>
                </a:lnTo>
                <a:close/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0"/>
          <p:cNvSpPr/>
          <p:nvPr/>
        </p:nvSpPr>
        <p:spPr>
          <a:xfrm>
            <a:off x="1066680" y="0"/>
            <a:ext cx="7543800" cy="6858000"/>
          </a:xfrm>
          <a:custGeom>
            <a:avLst/>
            <a:gdLst>
              <a:gd name="textAreaLeft" fmla="*/ 0 w 7543800"/>
              <a:gd name="textAreaRight" fmla="*/ 7544160 w 7543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752" h="4320">
                <a:moveTo>
                  <a:pt x="0" y="0"/>
                </a:moveTo>
                <a:lnTo>
                  <a:pt x="1536" y="0"/>
                </a:lnTo>
                <a:lnTo>
                  <a:pt x="4590" y="450"/>
                </a:lnTo>
                <a:lnTo>
                  <a:pt x="4752" y="972"/>
                </a:lnTo>
                <a:lnTo>
                  <a:pt x="3600" y="4320"/>
                </a:lnTo>
                <a:lnTo>
                  <a:pt x="3312" y="4320"/>
                </a:lnTo>
                <a:lnTo>
                  <a:pt x="4712" y="994"/>
                </a:lnTo>
                <a:lnTo>
                  <a:pt x="4518" y="524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1"/>
          <p:cNvSpPr/>
          <p:nvPr/>
        </p:nvSpPr>
        <p:spPr>
          <a:xfrm>
            <a:off x="5486400" y="1657440"/>
            <a:ext cx="2990880" cy="520056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1884" h="3276">
                <a:moveTo>
                  <a:pt x="384" y="3276"/>
                </a:moveTo>
                <a:lnTo>
                  <a:pt x="1884" y="0"/>
                </a:lnTo>
                <a:lnTo>
                  <a:pt x="0" y="3276"/>
                </a:lnTo>
                <a:lnTo>
                  <a:pt x="384" y="3276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2"/>
          <p:cNvSpPr/>
          <p:nvPr/>
        </p:nvSpPr>
        <p:spPr>
          <a:xfrm>
            <a:off x="3429000" y="0"/>
            <a:ext cx="5172120" cy="6858000"/>
          </a:xfrm>
          <a:custGeom>
            <a:avLst/>
            <a:gdLst>
              <a:gd name="textAreaLeft" fmla="*/ 0 w 5172120"/>
              <a:gd name="textAreaRight" fmla="*/ 5172480 w 517212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3258" h="4320">
                <a:moveTo>
                  <a:pt x="0" y="0"/>
                </a:moveTo>
                <a:lnTo>
                  <a:pt x="3082" y="475"/>
                </a:lnTo>
                <a:lnTo>
                  <a:pt x="3210" y="936"/>
                </a:lnTo>
                <a:lnTo>
                  <a:pt x="1728" y="4320"/>
                </a:lnTo>
                <a:lnTo>
                  <a:pt x="1872" y="4320"/>
                </a:lnTo>
                <a:lnTo>
                  <a:pt x="3258" y="912"/>
                </a:lnTo>
                <a:lnTo>
                  <a:pt x="3120" y="432"/>
                </a:lnTo>
                <a:lnTo>
                  <a:pt x="1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4"/>
          <p:cNvSpPr/>
          <p:nvPr/>
        </p:nvSpPr>
        <p:spPr>
          <a:xfrm>
            <a:off x="8381880" y="0"/>
            <a:ext cx="762120" cy="1143000"/>
          </a:xfrm>
          <a:custGeom>
            <a:avLst/>
            <a:gdLst>
              <a:gd name="textAreaLeft" fmla="*/ 0 w 762120"/>
              <a:gd name="textAreaRight" fmla="*/ 762480 w 762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80" h="720">
                <a:moveTo>
                  <a:pt x="48" y="0"/>
                </a:moveTo>
                <a:lnTo>
                  <a:pt x="0" y="96"/>
                </a:lnTo>
                <a:lnTo>
                  <a:pt x="354" y="690"/>
                </a:lnTo>
                <a:lnTo>
                  <a:pt x="480" y="720"/>
                </a:lnTo>
                <a:lnTo>
                  <a:pt x="480" y="576"/>
                </a:lnTo>
                <a:lnTo>
                  <a:pt x="48" y="96"/>
                </a:lnTo>
                <a:lnTo>
                  <a:pt x="89" y="0"/>
                </a:lnTo>
                <a:lnTo>
                  <a:pt x="48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5"/>
          <p:cNvSpPr/>
          <p:nvPr/>
        </p:nvSpPr>
        <p:spPr>
          <a:xfrm>
            <a:off x="8610480" y="2286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336" y="336"/>
                </a:moveTo>
                <a:lnTo>
                  <a:pt x="0" y="0"/>
                </a:lnTo>
                <a:lnTo>
                  <a:pt x="336" y="240"/>
                </a:lnTo>
                <a:lnTo>
                  <a:pt x="336" y="336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49"/>
          <p:cNvGrpSpPr/>
          <p:nvPr/>
        </p:nvGrpSpPr>
        <p:grpSpPr>
          <a:xfrm>
            <a:off x="5562720" y="0"/>
            <a:ext cx="3267000" cy="6858000"/>
            <a:chOff x="5562720" y="0"/>
            <a:chExt cx="3267000" cy="6858000"/>
          </a:xfrm>
        </p:grpSpPr>
        <p:sp>
          <p:nvSpPr>
            <p:cNvPr id="7" name="Freeform 13"/>
            <p:cNvSpPr/>
            <p:nvPr/>
          </p:nvSpPr>
          <p:spPr>
            <a:xfrm>
              <a:off x="5562720" y="0"/>
              <a:ext cx="3267000" cy="685800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2058" h="4320">
                  <a:moveTo>
                    <a:pt x="0" y="0"/>
                  </a:moveTo>
                  <a:lnTo>
                    <a:pt x="1056" y="0"/>
                  </a:lnTo>
                  <a:lnTo>
                    <a:pt x="1854" y="402"/>
                  </a:lnTo>
                  <a:lnTo>
                    <a:pt x="2058" y="972"/>
                  </a:lnTo>
                  <a:lnTo>
                    <a:pt x="1296" y="4320"/>
                  </a:lnTo>
                  <a:lnTo>
                    <a:pt x="720" y="4320"/>
                  </a:lnTo>
                  <a:lnTo>
                    <a:pt x="1920" y="912"/>
                  </a:lnTo>
                  <a:lnTo>
                    <a:pt x="177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3"/>
            <p:cNvSpPr/>
            <p:nvPr/>
          </p:nvSpPr>
          <p:spPr>
            <a:xfrm>
              <a:off x="6694560" y="1676520"/>
              <a:ext cx="1828800" cy="51814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5181480"/>
                <a:gd name="textAreaBottom" fmla="*/ 5181840 h 5181480"/>
              </a:gdLst>
              <a:ahLst/>
              <a:rect l="textAreaLeft" t="textAreaTop" r="textAreaRight" b="textAreaBottom"/>
              <a:pathLst>
                <a:path w="1152" h="3264">
                  <a:moveTo>
                    <a:pt x="0" y="3264"/>
                  </a:moveTo>
                  <a:lnTo>
                    <a:pt x="1152" y="0"/>
                  </a:lnTo>
                  <a:lnTo>
                    <a:pt x="96" y="3264"/>
                  </a:lnTo>
                  <a:lnTo>
                    <a:pt x="0" y="3264"/>
                  </a:lnTo>
                  <a:close/>
                </a:path>
              </a:pathLst>
            </a:custGeom>
            <a:solidFill>
              <a:srgbClr val="f9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22"/>
          <p:cNvGrpSpPr/>
          <p:nvPr/>
        </p:nvGrpSpPr>
        <p:grpSpPr>
          <a:xfrm>
            <a:off x="142920" y="765000"/>
            <a:ext cx="8858160" cy="5943600"/>
            <a:chOff x="142920" y="765000"/>
            <a:chExt cx="8858160" cy="5943600"/>
          </a:xfrm>
        </p:grpSpPr>
        <p:sp>
          <p:nvSpPr>
            <p:cNvPr id="10" name="Rectangle 16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18"/>
          <p:cNvSpPr/>
          <p:nvPr/>
        </p:nvSpPr>
        <p:spPr>
          <a:xfrm>
            <a:off x="380880" y="676440"/>
            <a:ext cx="6248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9" descr="2"/>
          <p:cNvPicPr/>
          <p:nvPr/>
        </p:nvPicPr>
        <p:blipFill>
          <a:blip r:embed="rId2"/>
          <a:stretch/>
        </p:blipFill>
        <p:spPr>
          <a:xfrm>
            <a:off x="500040" y="5778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FC55-C07E-4A32-8FF9-43D832B2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12"/>
          <p:cNvSpPr/>
          <p:nvPr/>
        </p:nvSpPr>
        <p:spPr>
          <a:xfrm>
            <a:off x="-9360" y="2997360"/>
            <a:ext cx="2205000" cy="266364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2663640"/>
              <a:gd name="textAreaBottom" fmla="*/ 2663640 h 2663640"/>
            </a:gdLst>
            <a:ahLst/>
            <a:rect l="textAreaLeft" t="textAreaTop" r="textAreaRight" b="textAreaBottom"/>
            <a:pathLst>
              <a:path w="1406" h="1678">
                <a:moveTo>
                  <a:pt x="0" y="1678"/>
                </a:moveTo>
                <a:lnTo>
                  <a:pt x="0" y="1134"/>
                </a:lnTo>
                <a:lnTo>
                  <a:pt x="1406" y="0"/>
                </a:lnTo>
                <a:lnTo>
                  <a:pt x="1406" y="91"/>
                </a:lnTo>
                <a:lnTo>
                  <a:pt x="0" y="167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9"/>
          <p:cNvPicPr/>
          <p:nvPr/>
        </p:nvPicPr>
        <p:blipFill>
          <a:blip r:embed="rId2"/>
          <a:stretch/>
        </p:blipFill>
        <p:spPr>
          <a:xfrm>
            <a:off x="1447920" y="1782720"/>
            <a:ext cx="735948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Freeform 8"/>
          <p:cNvSpPr/>
          <p:nvPr/>
        </p:nvSpPr>
        <p:spPr>
          <a:xfrm>
            <a:off x="568440" y="-9360"/>
            <a:ext cx="1784160" cy="687528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6875280"/>
              <a:gd name="textAreaBottom" fmla="*/ 6875640 h 6875280"/>
            </a:gdLst>
            <a:ahLst/>
            <a:rect l="textAreaLeft" t="textAreaTop" r="textAreaRight" b="textAreaBottom"/>
            <a:pathLst>
              <a:path w="1124" h="4343">
                <a:moveTo>
                  <a:pt x="0" y="0"/>
                </a:moveTo>
                <a:lnTo>
                  <a:pt x="490" y="2"/>
                </a:lnTo>
                <a:lnTo>
                  <a:pt x="1124" y="1373"/>
                </a:lnTo>
                <a:lnTo>
                  <a:pt x="1124" y="2036"/>
                </a:lnTo>
                <a:lnTo>
                  <a:pt x="889" y="4343"/>
                </a:lnTo>
                <a:lnTo>
                  <a:pt x="526" y="4343"/>
                </a:lnTo>
                <a:lnTo>
                  <a:pt x="1079" y="2031"/>
                </a:lnTo>
                <a:lnTo>
                  <a:pt x="1079" y="1383"/>
                </a:lnTo>
                <a:lnTo>
                  <a:pt x="0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-12600" y="-9360"/>
            <a:ext cx="2392200" cy="687996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6879960"/>
              <a:gd name="textAreaBottom" fmla="*/ 6880320 h 6879960"/>
            </a:gdLst>
            <a:ahLst/>
            <a:rect l="textAreaLeft" t="textAreaTop" r="textAreaRight" b="textAreaBottom"/>
            <a:pathLst>
              <a:path w="1507" h="4334">
                <a:moveTo>
                  <a:pt x="181" y="0"/>
                </a:moveTo>
                <a:lnTo>
                  <a:pt x="1507" y="1379"/>
                </a:lnTo>
                <a:lnTo>
                  <a:pt x="1507" y="2036"/>
                </a:lnTo>
                <a:lnTo>
                  <a:pt x="727" y="4334"/>
                </a:lnTo>
                <a:lnTo>
                  <a:pt x="2" y="4334"/>
                </a:lnTo>
                <a:lnTo>
                  <a:pt x="2" y="4162"/>
                </a:lnTo>
                <a:lnTo>
                  <a:pt x="1441" y="1936"/>
                </a:lnTo>
                <a:lnTo>
                  <a:pt x="1441" y="1447"/>
                </a:lnTo>
                <a:lnTo>
                  <a:pt x="8" y="434"/>
                </a:lnTo>
                <a:lnTo>
                  <a:pt x="0" y="6"/>
                </a:lnTo>
                <a:lnTo>
                  <a:pt x="181" y="0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557440" y="0"/>
            <a:ext cx="3022560" cy="685800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6858000"/>
              <a:gd name="textAreaBottom" fmla="*/ 6858000 h 6858000"/>
            </a:gdLst>
            <a:ahLst/>
            <a:rect l="textAreaLeft" t="textAreaTop" r="textAreaRight" b="textAreaBottom"/>
            <a:pathLst>
              <a:path w="1904" h="4354">
                <a:moveTo>
                  <a:pt x="1904" y="0"/>
                </a:moveTo>
                <a:lnTo>
                  <a:pt x="1178" y="0"/>
                </a:lnTo>
                <a:lnTo>
                  <a:pt x="0" y="1342"/>
                </a:lnTo>
                <a:lnTo>
                  <a:pt x="0" y="1950"/>
                </a:lnTo>
                <a:lnTo>
                  <a:pt x="498" y="4354"/>
                </a:lnTo>
                <a:lnTo>
                  <a:pt x="1088" y="4354"/>
                </a:lnTo>
                <a:lnTo>
                  <a:pt x="44" y="1985"/>
                </a:lnTo>
                <a:lnTo>
                  <a:pt x="44" y="1361"/>
                </a:lnTo>
                <a:lnTo>
                  <a:pt x="190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959200" y="-14400"/>
            <a:ext cx="2711520" cy="1887480"/>
          </a:xfrm>
          <a:custGeom>
            <a:avLst/>
            <a:gdLst>
              <a:gd name="textAreaLeft" fmla="*/ 0 w 2711520"/>
              <a:gd name="textAreaRight" fmla="*/ 2711880 w 2711520"/>
              <a:gd name="textAreaTop" fmla="*/ 0 h 1887480"/>
              <a:gd name="textAreaBottom" fmla="*/ 1887840 h 1887480"/>
            </a:gdLst>
            <a:ahLst/>
            <a:rect l="textAreaLeft" t="textAreaTop" r="textAreaRight" b="textAreaBottom"/>
            <a:pathLst>
              <a:path w="1708" h="1189">
                <a:moveTo>
                  <a:pt x="1708" y="1"/>
                </a:moveTo>
                <a:lnTo>
                  <a:pt x="1379" y="0"/>
                </a:lnTo>
                <a:lnTo>
                  <a:pt x="0" y="1189"/>
                </a:lnTo>
                <a:lnTo>
                  <a:pt x="1708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3"/>
          <p:cNvSpPr/>
          <p:nvPr/>
        </p:nvSpPr>
        <p:spPr>
          <a:xfrm>
            <a:off x="2498760" y="-9360"/>
            <a:ext cx="6105600" cy="6867360"/>
          </a:xfrm>
          <a:custGeom>
            <a:avLst/>
            <a:gdLst>
              <a:gd name="textAreaLeft" fmla="*/ 0 w 6105600"/>
              <a:gd name="textAreaRight" fmla="*/ 6105960 w 6105600"/>
              <a:gd name="textAreaTop" fmla="*/ 0 h 6867360"/>
              <a:gd name="textAreaBottom" fmla="*/ 6867720 h 6867360"/>
            </a:gdLst>
            <a:ahLst/>
            <a:rect l="textAreaLeft" t="textAreaTop" r="textAreaRight" b="textAreaBottom"/>
            <a:pathLst>
              <a:path w="3846" h="4354">
                <a:moveTo>
                  <a:pt x="3665" y="0"/>
                </a:moveTo>
                <a:lnTo>
                  <a:pt x="2122" y="0"/>
                </a:lnTo>
                <a:lnTo>
                  <a:pt x="0" y="1339"/>
                </a:lnTo>
                <a:lnTo>
                  <a:pt x="0" y="1950"/>
                </a:lnTo>
                <a:lnTo>
                  <a:pt x="1215" y="4354"/>
                </a:lnTo>
                <a:lnTo>
                  <a:pt x="1941" y="4354"/>
                </a:lnTo>
                <a:lnTo>
                  <a:pt x="72" y="1877"/>
                </a:lnTo>
                <a:lnTo>
                  <a:pt x="72" y="1361"/>
                </a:lnTo>
                <a:lnTo>
                  <a:pt x="3846" y="0"/>
                </a:lnTo>
                <a:lnTo>
                  <a:pt x="2122" y="0"/>
                </a:lnTo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4"/>
          <p:cNvSpPr/>
          <p:nvPr/>
        </p:nvSpPr>
        <p:spPr>
          <a:xfrm>
            <a:off x="-9360" y="185760"/>
            <a:ext cx="2246040" cy="598500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5985000"/>
              <a:gd name="textAreaBottom" fmla="*/ 5985360 h 5985000"/>
            </a:gdLst>
            <a:ahLst/>
            <a:rect l="textAreaLeft" t="textAreaTop" r="textAreaRight" b="textAreaBottom"/>
            <a:pathLst>
              <a:path w="1415" h="3770">
                <a:moveTo>
                  <a:pt x="0" y="0"/>
                </a:moveTo>
                <a:lnTo>
                  <a:pt x="1415" y="1197"/>
                </a:lnTo>
                <a:lnTo>
                  <a:pt x="1415" y="1862"/>
                </a:lnTo>
                <a:lnTo>
                  <a:pt x="0" y="3770"/>
                </a:lnTo>
                <a:lnTo>
                  <a:pt x="0" y="3272"/>
                </a:lnTo>
                <a:lnTo>
                  <a:pt x="1376" y="1801"/>
                </a:lnTo>
                <a:lnTo>
                  <a:pt x="1376" y="1272"/>
                </a:lnTo>
                <a:lnTo>
                  <a:pt x="6" y="962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2608200" y="642960"/>
            <a:ext cx="6540480" cy="6215040"/>
          </a:xfrm>
          <a:custGeom>
            <a:avLst/>
            <a:gdLst>
              <a:gd name="textAreaLeft" fmla="*/ 0 w 6540480"/>
              <a:gd name="textAreaRight" fmla="*/ 6540840 w 6540480"/>
              <a:gd name="textAreaTop" fmla="*/ 0 h 6215040"/>
              <a:gd name="textAreaBottom" fmla="*/ 6215400 h 6215040"/>
            </a:gdLst>
            <a:ahLst/>
            <a:rect l="textAreaLeft" t="textAreaTop" r="textAreaRight" b="textAreaBottom"/>
            <a:pathLst>
              <a:path w="4120" h="3915">
                <a:moveTo>
                  <a:pt x="4115" y="0"/>
                </a:moveTo>
                <a:lnTo>
                  <a:pt x="4120" y="500"/>
                </a:lnTo>
                <a:lnTo>
                  <a:pt x="61" y="1059"/>
                </a:lnTo>
                <a:lnTo>
                  <a:pt x="61" y="1466"/>
                </a:lnTo>
                <a:lnTo>
                  <a:pt x="2419" y="3915"/>
                </a:lnTo>
                <a:lnTo>
                  <a:pt x="1830" y="3915"/>
                </a:lnTo>
                <a:lnTo>
                  <a:pt x="0" y="1449"/>
                </a:lnTo>
                <a:lnTo>
                  <a:pt x="0" y="967"/>
                </a:lnTo>
                <a:lnTo>
                  <a:pt x="4115" y="0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6"/>
          <p:cNvSpPr/>
          <p:nvPr/>
        </p:nvSpPr>
        <p:spPr>
          <a:xfrm>
            <a:off x="2585880" y="-17640"/>
            <a:ext cx="6558120" cy="6875640"/>
          </a:xfrm>
          <a:custGeom>
            <a:avLst/>
            <a:gdLst>
              <a:gd name="textAreaLeft" fmla="*/ 0 w 6558120"/>
              <a:gd name="textAreaRight" fmla="*/ 6558480 w 6558120"/>
              <a:gd name="textAreaTop" fmla="*/ 0 h 6875640"/>
              <a:gd name="textAreaBottom" fmla="*/ 6876000 h 6875640"/>
            </a:gdLst>
            <a:ahLst/>
            <a:rect l="textAreaLeft" t="textAreaTop" r="textAreaRight" b="textAreaBottom"/>
            <a:pathLst>
              <a:path w="4131" h="4348">
                <a:moveTo>
                  <a:pt x="4131" y="0"/>
                </a:moveTo>
                <a:lnTo>
                  <a:pt x="4126" y="494"/>
                </a:lnTo>
                <a:lnTo>
                  <a:pt x="55" y="1404"/>
                </a:lnTo>
                <a:lnTo>
                  <a:pt x="55" y="1853"/>
                </a:lnTo>
                <a:lnTo>
                  <a:pt x="3156" y="4348"/>
                </a:lnTo>
                <a:lnTo>
                  <a:pt x="2067" y="4348"/>
                </a:lnTo>
                <a:lnTo>
                  <a:pt x="0" y="1882"/>
                </a:lnTo>
                <a:lnTo>
                  <a:pt x="0" y="1355"/>
                </a:lnTo>
                <a:lnTo>
                  <a:pt x="3615" y="0"/>
                </a:lnTo>
                <a:lnTo>
                  <a:pt x="4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7"/>
          <p:cNvSpPr/>
          <p:nvPr/>
        </p:nvSpPr>
        <p:spPr>
          <a:xfrm>
            <a:off x="2771640" y="-27000"/>
            <a:ext cx="5761080" cy="208764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3629" h="1315">
                <a:moveTo>
                  <a:pt x="0" y="1315"/>
                </a:moveTo>
                <a:lnTo>
                  <a:pt x="2858" y="0"/>
                </a:lnTo>
                <a:lnTo>
                  <a:pt x="3629" y="0"/>
                </a:lnTo>
                <a:lnTo>
                  <a:pt x="0" y="131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8"/>
          <p:cNvSpPr/>
          <p:nvPr/>
        </p:nvSpPr>
        <p:spPr>
          <a:xfrm>
            <a:off x="2556000" y="2924280"/>
            <a:ext cx="3384360" cy="39448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3944880"/>
              <a:gd name="textAreaBottom" fmla="*/ 3945240 h 3944880"/>
            </a:gdLst>
            <a:ahLst/>
            <a:rect l="textAreaLeft" t="textAreaTop" r="textAreaRight" b="textAreaBottom"/>
            <a:pathLst>
              <a:path w="2132" h="2495">
                <a:moveTo>
                  <a:pt x="0" y="0"/>
                </a:moveTo>
                <a:lnTo>
                  <a:pt x="2132" y="2495"/>
                </a:lnTo>
                <a:lnTo>
                  <a:pt x="1814" y="2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4"/>
          <p:cNvSpPr/>
          <p:nvPr/>
        </p:nvSpPr>
        <p:spPr>
          <a:xfrm>
            <a:off x="-19080" y="181080"/>
            <a:ext cx="2262240" cy="1914480"/>
          </a:xfrm>
          <a:custGeom>
            <a:avLst/>
            <a:gdLst>
              <a:gd name="textAreaLeft" fmla="*/ 0 w 2262240"/>
              <a:gd name="textAreaRight" fmla="*/ 2262600 w 2262240"/>
              <a:gd name="textAreaTop" fmla="*/ 0 h 1914480"/>
              <a:gd name="textAreaBottom" fmla="*/ 1914840 h 1914480"/>
            </a:gdLst>
            <a:ahLst/>
            <a:rect l="textAreaLeft" t="textAreaTop" r="textAreaRight" b="textAreaBottom"/>
            <a:pathLst>
              <a:path w="1425" h="1206">
                <a:moveTo>
                  <a:pt x="1425" y="1206"/>
                </a:moveTo>
                <a:lnTo>
                  <a:pt x="0" y="0"/>
                </a:lnTo>
                <a:lnTo>
                  <a:pt x="0" y="186"/>
                </a:lnTo>
                <a:lnTo>
                  <a:pt x="1425" y="1206"/>
                </a:ln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5"/>
          <p:cNvSpPr/>
          <p:nvPr/>
        </p:nvSpPr>
        <p:spPr>
          <a:xfrm>
            <a:off x="-12600" y="3105000"/>
            <a:ext cx="2327040" cy="376236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3762360"/>
              <a:gd name="textAreaBottom" fmla="*/ 3762720 h 3762360"/>
            </a:gdLst>
            <a:ahLst/>
            <a:rect l="textAreaLeft" t="textAreaTop" r="textAreaRight" b="textAreaBottom"/>
            <a:pathLst>
              <a:path w="1466" h="2370">
                <a:moveTo>
                  <a:pt x="0" y="2248"/>
                </a:moveTo>
                <a:lnTo>
                  <a:pt x="1466" y="0"/>
                </a:lnTo>
                <a:lnTo>
                  <a:pt x="194" y="2370"/>
                </a:lnTo>
                <a:lnTo>
                  <a:pt x="4" y="2364"/>
                </a:lnTo>
                <a:lnTo>
                  <a:pt x="0" y="2248"/>
                </a:lnTo>
                <a:close/>
              </a:path>
            </a:pathLst>
          </a:custGeom>
          <a:solidFill>
            <a:srgbClr val="f93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6"/>
          <p:cNvSpPr/>
          <p:nvPr/>
        </p:nvSpPr>
        <p:spPr>
          <a:xfrm>
            <a:off x="-9360" y="1403280"/>
            <a:ext cx="2317680" cy="526572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5265720"/>
              <a:gd name="textAreaBottom" fmla="*/ 5266080 h 5265720"/>
            </a:gdLst>
            <a:ahLst/>
            <a:rect l="textAreaLeft" t="textAreaTop" r="textAreaRight" b="textAreaBottom"/>
            <a:pathLst>
              <a:path w="1460" h="3317">
                <a:moveTo>
                  <a:pt x="6" y="0"/>
                </a:moveTo>
                <a:lnTo>
                  <a:pt x="6" y="643"/>
                </a:lnTo>
                <a:lnTo>
                  <a:pt x="1410" y="564"/>
                </a:lnTo>
                <a:lnTo>
                  <a:pt x="1410" y="1049"/>
                </a:lnTo>
                <a:lnTo>
                  <a:pt x="0" y="2852"/>
                </a:lnTo>
                <a:lnTo>
                  <a:pt x="0" y="3317"/>
                </a:lnTo>
                <a:lnTo>
                  <a:pt x="1460" y="1062"/>
                </a:lnTo>
                <a:lnTo>
                  <a:pt x="1460" y="505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0" y="-19080"/>
            <a:ext cx="9153000" cy="6886080"/>
            <a:chOff x="0" y="-19080"/>
            <a:chExt cx="9153000" cy="6886080"/>
          </a:xfrm>
        </p:grpSpPr>
        <p:pic>
          <p:nvPicPr>
            <p:cNvPr id="71" name="Picture 35" descr="11"/>
            <p:cNvPicPr/>
            <p:nvPr/>
          </p:nvPicPr>
          <p:blipFill>
            <a:blip r:embed="rId3"/>
            <a:stretch/>
          </p:blipFill>
          <p:spPr>
            <a:xfrm>
              <a:off x="0" y="-19080"/>
              <a:ext cx="9153000" cy="68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7"/>
            <p:cNvSpPr/>
            <p:nvPr/>
          </p:nvSpPr>
          <p:spPr>
            <a:xfrm>
              <a:off x="336600" y="716040"/>
              <a:ext cx="8476200" cy="54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19" descr="2"/>
          <p:cNvPicPr/>
          <p:nvPr/>
        </p:nvPicPr>
        <p:blipFill>
          <a:blip r:embed="rId4"/>
          <a:stretch/>
        </p:blipFill>
        <p:spPr>
          <a:xfrm>
            <a:off x="4141800" y="4041720"/>
            <a:ext cx="415800" cy="41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9"/>
          <p:cNvSpPr/>
          <p:nvPr/>
        </p:nvSpPr>
        <p:spPr>
          <a:xfrm>
            <a:off x="7569360" y="547704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f00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6624000" y="578160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0"/>
          <p:cNvSpPr/>
          <p:nvPr/>
        </p:nvSpPr>
        <p:spPr>
          <a:xfrm>
            <a:off x="341280" y="722160"/>
            <a:ext cx="847872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4484-3273-4827-B47C-5725AD75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image" Target="../media/image16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920" y="2499840"/>
            <a:ext cx="52862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189180"/>
                </a:solidFill>
                <a:latin typeface="Constantia"/>
                <a:ea typeface="Times New Roman"/>
              </a:rPr>
              <a:t>Астено-невротический синдром. </a:t>
            </a:r>
            <a:br>
              <a:rPr sz="3600"/>
            </a:br>
            <a:r>
              <a:rPr b="0" lang="ru-RU" sz="3600" spc="-1" strike="noStrike">
                <a:solidFill>
                  <a:srgbClr val="189180"/>
                </a:solidFill>
                <a:latin typeface="Constantia"/>
                <a:ea typeface="Times New Roman"/>
              </a:rPr>
              <a:t>Задержка речевого развити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E:\Семинар 25.02.14\nervi.jpg"/>
          <p:cNvPicPr/>
          <p:nvPr/>
        </p:nvPicPr>
        <p:blipFill>
          <a:blip r:embed="rId1"/>
          <a:stretch/>
        </p:blipFill>
        <p:spPr>
          <a:xfrm>
            <a:off x="1357200" y="2000160"/>
            <a:ext cx="2055960" cy="2295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6"/>
          <p:cNvSpPr/>
          <p:nvPr/>
        </p:nvSpPr>
        <p:spPr>
          <a:xfrm>
            <a:off x="4214880" y="4286160"/>
            <a:ext cx="4605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89180"/>
                </a:solidFill>
                <a:latin typeface="Constantia"/>
              </a:rPr>
              <a:t>Марина Викторовна Качан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89180"/>
                </a:solidFill>
                <a:latin typeface="Constantia"/>
              </a:rPr>
              <a:t>Врач-педиатр ОР №</a:t>
            </a:r>
            <a:r>
              <a:rPr b="0" lang="ru-RU" sz="3200" spc="-1" strike="noStrike">
                <a:solidFill>
                  <a:srgbClr val="18918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ОПСА"/>
          <p:cNvPicPr/>
          <p:nvPr/>
        </p:nvPicPr>
        <p:blipFill>
          <a:blip r:embed="rId2"/>
          <a:stretch/>
        </p:blipFill>
        <p:spPr>
          <a:xfrm>
            <a:off x="214200" y="142920"/>
            <a:ext cx="785880" cy="11174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\\S01\документы\Школа массажа\ШрейдерТФ\Документация\логотип.jpg"/>
          <p:cNvPicPr/>
          <p:nvPr/>
        </p:nvPicPr>
        <p:blipFill>
          <a:blip r:embed="rId3"/>
          <a:stretch/>
        </p:blipFill>
        <p:spPr>
          <a:xfrm>
            <a:off x="8143920" y="142920"/>
            <a:ext cx="789120" cy="1106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5643720" y="5572080"/>
            <a:ext cx="3143160" cy="500040"/>
          </a:xfrm>
          <a:prstGeom prst="rect">
            <a:avLst/>
          </a:prstGeom>
          <a:solidFill>
            <a:srgbClr val="ff7f00"/>
          </a:solidFill>
          <a:ln w="25560">
            <a:solidFill>
              <a:srgbClr val="bc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ЗОО «Центр восстановительной медицины и реабилита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ОПСА"/>
          <p:cNvPicPr/>
          <p:nvPr/>
        </p:nvPicPr>
        <p:blipFill>
          <a:blip r:embed="rId4"/>
          <a:stretch/>
        </p:blipFill>
        <p:spPr>
          <a:xfrm>
            <a:off x="214200" y="142920"/>
            <a:ext cx="78588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>
            <a:off x="142920" y="1143000"/>
            <a:ext cx="2760480" cy="4917960"/>
          </a:xfrm>
          <a:prstGeom prst="rightArrow">
            <a:avLst>
              <a:gd name="adj1" fmla="val 62806"/>
              <a:gd name="adj2" fmla="val 32949"/>
            </a:avLst>
          </a:prstGeom>
          <a:gradFill rotWithShape="0">
            <a:gsLst>
              <a:gs pos="0">
                <a:srgbClr val="b4e3ee">
                  <a:alpha val="50196"/>
                </a:srgbClr>
              </a:gs>
              <a:gs pos="100000">
                <a:srgbClr val="808080">
                  <a:alpha val="50196"/>
                </a:srgbClr>
              </a:gs>
            </a:gsLst>
            <a:lin ang="0"/>
          </a:gra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2920" y="2428920"/>
            <a:ext cx="26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 данным Панченко О.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щенко Ю.В. (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214800" y="4857840"/>
            <a:ext cx="5072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  группе (11-18  лет) данные симптомы  выявляются у  45,6% подростк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214800" y="2786040"/>
            <a:ext cx="4786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средней возрастной группе (9-10 лет) с астено-невротический синдром наблюдается у 21% де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214800" y="857160"/>
            <a:ext cx="5214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реди детей младших  классов признаки астено-невротического  синдрома наблюдаются у  33,3% де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3"/>
          <p:cNvSpPr/>
          <p:nvPr/>
        </p:nvSpPr>
        <p:spPr>
          <a:xfrm>
            <a:off x="214200" y="1000080"/>
            <a:ext cx="4357800" cy="264312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"/>
          <p:cNvSpPr/>
          <p:nvPr/>
        </p:nvSpPr>
        <p:spPr>
          <a:xfrm>
            <a:off x="4643280" y="1000080"/>
            <a:ext cx="4335480" cy="2643120"/>
          </a:xfrm>
          <a:custGeom>
            <a:avLst/>
            <a:gdLst>
              <a:gd name="textAreaLeft" fmla="*/ 0 w 4335480"/>
              <a:gd name="textAreaRight" fmla="*/ 4335840 w 433548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285840" y="3786120"/>
            <a:ext cx="4214880" cy="285768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4643280" y="3714840"/>
            <a:ext cx="4302360" cy="2952720"/>
          </a:xfrm>
          <a:custGeom>
            <a:avLst/>
            <a:gdLst>
              <a:gd name="textAreaLeft" fmla="*/ 0 w 4302360"/>
              <a:gd name="textAreaRight" fmla="*/ 4302720 w 430236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57120" y="4214880"/>
            <a:ext cx="42832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 лечении учиты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озраст и степен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оявлений заболе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щее состояние и боле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б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5081760" y="4071960"/>
            <a:ext cx="3776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8918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обходимы  правильная организация режима дня, работы и отдыха, восстановление сна, регулярное и полноценное питание, прогулки на свежем воздух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285840" y="1071720"/>
            <a:ext cx="407196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 первых проявлениях признаков синдрома необходима консультация невролога и детальное обследование с исключением органической пат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4929120" y="1071720"/>
            <a:ext cx="40006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 установлении диагноз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астено-невротический синдром» необходимо проведение комплекса лечебно-оздоровительных меро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9"/>
          <p:cNvGrpSpPr/>
          <p:nvPr/>
        </p:nvGrpSpPr>
        <p:grpSpPr>
          <a:xfrm>
            <a:off x="4071600" y="3429000"/>
            <a:ext cx="447480" cy="663480"/>
            <a:chOff x="4071600" y="3429000"/>
            <a:chExt cx="447480" cy="663480"/>
          </a:xfrm>
        </p:grpSpPr>
        <p:sp>
          <p:nvSpPr>
            <p:cNvPr id="224" name="Oval 20"/>
            <p:cNvSpPr/>
            <p:nvPr/>
          </p:nvSpPr>
          <p:spPr>
            <a:xfrm flipH="1">
              <a:off x="4232880" y="3429000"/>
              <a:ext cx="120600" cy="13824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 flipH="1">
              <a:off x="4071240" y="3564000"/>
              <a:ext cx="447480" cy="52848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4857840" y="3429000"/>
            <a:ext cx="428400" cy="635040"/>
            <a:chOff x="4857840" y="3429000"/>
            <a:chExt cx="428400" cy="635040"/>
          </a:xfrm>
        </p:grpSpPr>
        <p:sp>
          <p:nvSpPr>
            <p:cNvPr id="227" name="Freeform 23"/>
            <p:cNvSpPr/>
            <p:nvPr/>
          </p:nvSpPr>
          <p:spPr>
            <a:xfrm>
              <a:off x="4857840" y="3556440"/>
              <a:ext cx="428400" cy="507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4"/>
            <p:cNvSpPr/>
            <p:nvPr/>
          </p:nvSpPr>
          <p:spPr>
            <a:xfrm>
              <a:off x="5016240" y="3429000"/>
              <a:ext cx="113040" cy="13068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3"/>
          <p:cNvSpPr/>
          <p:nvPr/>
        </p:nvSpPr>
        <p:spPr>
          <a:xfrm>
            <a:off x="214200" y="3429000"/>
            <a:ext cx="8715600" cy="2724120"/>
          </a:xfrm>
          <a:custGeom>
            <a:avLst/>
            <a:gdLst>
              <a:gd name="textAreaLeft" fmla="*/ 0 w 8715600"/>
              <a:gd name="textAreaRight" fmla="*/ 8715960 w 8715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189180"/>
              </a:gs>
              <a:gs pos="100000">
                <a:srgbClr val="d3eae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28760" y="1071720"/>
            <a:ext cx="3825720" cy="1852560"/>
          </a:xfrm>
          <a:prstGeom prst="cube">
            <a:avLst>
              <a:gd name="adj" fmla="val 243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4710240" y="1071720"/>
            <a:ext cx="4219560" cy="1857240"/>
          </a:xfrm>
          <a:prstGeom prst="cube">
            <a:avLst>
              <a:gd name="adj" fmla="val 243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572000" y="785880"/>
            <a:ext cx="4097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ссаж, водные процедуры, регулярное занятие специальными физическими упражнениями, физиотерапевтические методы, бальнеотерап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714240" y="41432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едикаментозная 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5143680" y="4000680"/>
            <a:ext cx="30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onstantia"/>
                <a:ea typeface="Arial"/>
              </a:rPr>
              <a:t>немедикаментозная 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0"/>
          <p:cNvGrpSpPr/>
          <p:nvPr/>
        </p:nvGrpSpPr>
        <p:grpSpPr>
          <a:xfrm>
            <a:off x="3352680" y="4114800"/>
            <a:ext cx="2361600" cy="2395440"/>
            <a:chOff x="3352680" y="4114800"/>
            <a:chExt cx="2361600" cy="2395440"/>
          </a:xfrm>
        </p:grpSpPr>
        <p:pic>
          <p:nvPicPr>
            <p:cNvPr id="236" name="Picture 21" descr="circuler_1"/>
            <p:cNvPicPr/>
            <p:nvPr/>
          </p:nvPicPr>
          <p:blipFill>
            <a:blip r:embed="rId1"/>
            <a:stretch/>
          </p:blipFill>
          <p:spPr>
            <a:xfrm>
              <a:off x="3357720" y="4119120"/>
              <a:ext cx="2356560" cy="226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Oval 22"/>
            <p:cNvGrpSpPr/>
            <p:nvPr/>
          </p:nvGrpSpPr>
          <p:grpSpPr>
            <a:xfrm>
              <a:off x="3352680" y="4114800"/>
              <a:ext cx="2354040" cy="2285640"/>
              <a:chOff x="3352680" y="4114800"/>
              <a:chExt cx="2354040" cy="2285640"/>
            </a:xfrm>
          </p:grpSpPr>
          <p:pic>
            <p:nvPicPr>
              <p:cNvPr id="238" name="Oval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4114800"/>
                <a:ext cx="23540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701520" y="4453560"/>
                <a:ext cx="1655640" cy="16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23"/>
            <p:cNvSpPr/>
            <p:nvPr/>
          </p:nvSpPr>
          <p:spPr>
            <a:xfrm>
              <a:off x="3601080" y="4165560"/>
              <a:ext cx="1838880" cy="788040"/>
            </a:xfrm>
            <a:custGeom>
              <a:avLst/>
              <a:gdLst>
                <a:gd name="textAreaLeft" fmla="*/ 0 w 1838880"/>
                <a:gd name="textAreaRight" fmla="*/ 1839240 w 1838880"/>
                <a:gd name="textAreaTop" fmla="*/ 0 h 788040"/>
                <a:gd name="textAreaBottom" fmla="*/ 788400 h 788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24"/>
            <p:cNvGrpSpPr/>
            <p:nvPr/>
          </p:nvGrpSpPr>
          <p:grpSpPr>
            <a:xfrm>
              <a:off x="3525840" y="5687280"/>
              <a:ext cx="2065680" cy="822960"/>
              <a:chOff x="3525840" y="5687280"/>
              <a:chExt cx="2065680" cy="822960"/>
            </a:xfrm>
          </p:grpSpPr>
          <p:grpSp>
            <p:nvGrpSpPr>
              <p:cNvPr id="242" name="Group 25"/>
              <p:cNvGrpSpPr/>
              <p:nvPr/>
            </p:nvGrpSpPr>
            <p:grpSpPr>
              <a:xfrm>
                <a:off x="3885840" y="5687280"/>
                <a:ext cx="1705680" cy="771480"/>
                <a:chOff x="3885840" y="5687280"/>
                <a:chExt cx="1705680" cy="771480"/>
              </a:xfrm>
            </p:grpSpPr>
            <p:sp>
              <p:nvSpPr>
                <p:cNvPr id="243" name="AutoShape 26"/>
                <p:cNvSpPr/>
                <p:nvPr/>
              </p:nvSpPr>
              <p:spPr>
                <a:xfrm flipH="1" flipV="1" rot="3964800">
                  <a:off x="4817520" y="5452200"/>
                  <a:ext cx="294120" cy="12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27"/>
                <p:cNvSpPr/>
                <p:nvPr/>
              </p:nvSpPr>
              <p:spPr>
                <a:xfrm flipH="1" flipV="1" rot="4780200">
                  <a:off x="4625640" y="5527800"/>
                  <a:ext cx="294120" cy="12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28"/>
                <p:cNvSpPr/>
                <p:nvPr/>
              </p:nvSpPr>
              <p:spPr>
                <a:xfrm flipH="1" flipV="1" rot="5076000">
                  <a:off x="4507560" y="5544360"/>
                  <a:ext cx="29412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29"/>
                <p:cNvSpPr/>
                <p:nvPr/>
              </p:nvSpPr>
              <p:spPr>
                <a:xfrm flipH="1" flipV="1" rot="5608200">
                  <a:off x="4366440" y="5558400"/>
                  <a:ext cx="29412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30"/>
              <p:cNvGrpSpPr/>
              <p:nvPr/>
            </p:nvGrpSpPr>
            <p:grpSpPr>
              <a:xfrm>
                <a:off x="3525840" y="5699880"/>
                <a:ext cx="1703160" cy="810360"/>
                <a:chOff x="3525840" y="5699880"/>
                <a:chExt cx="1703160" cy="810360"/>
              </a:xfrm>
            </p:grpSpPr>
            <p:sp>
              <p:nvSpPr>
                <p:cNvPr id="248" name="AutoShape 31"/>
                <p:cNvSpPr/>
                <p:nvPr/>
              </p:nvSpPr>
              <p:spPr>
                <a:xfrm flipH="1" flipV="1" rot="5317800">
                  <a:off x="4457160" y="5559120"/>
                  <a:ext cx="295920" cy="1239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32"/>
                <p:cNvSpPr/>
                <p:nvPr/>
              </p:nvSpPr>
              <p:spPr>
                <a:xfrm flipH="1" flipV="1" rot="6133800">
                  <a:off x="4250880" y="5556960"/>
                  <a:ext cx="295920" cy="1239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33"/>
                <p:cNvSpPr/>
                <p:nvPr/>
              </p:nvSpPr>
              <p:spPr>
                <a:xfrm flipH="1" flipV="1" rot="6429000">
                  <a:off x="4135680" y="5526360"/>
                  <a:ext cx="295560" cy="1239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34"/>
                <p:cNvSpPr/>
                <p:nvPr/>
              </p:nvSpPr>
              <p:spPr>
                <a:xfrm flipH="1" flipV="1" rot="6961200">
                  <a:off x="3999240" y="5484600"/>
                  <a:ext cx="295920" cy="1239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Text Box 35"/>
          <p:cNvSpPr/>
          <p:nvPr/>
        </p:nvSpPr>
        <p:spPr>
          <a:xfrm>
            <a:off x="3317760" y="4952880"/>
            <a:ext cx="247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  <a:ea typeface="Arial"/>
              </a:rPr>
              <a:t>Л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8760" y="785880"/>
            <a:ext cx="400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отропы, сосудистые препараты,  небольшие дозы антидепрессантов, седативные средства, препараты, имеющие легкое тонизирующее действие, витамины, адаптог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5"/>
          <p:cNvGrpSpPr/>
          <p:nvPr/>
        </p:nvGrpSpPr>
        <p:grpSpPr>
          <a:xfrm>
            <a:off x="896760" y="2622600"/>
            <a:ext cx="2857320" cy="466560"/>
            <a:chOff x="896760" y="2622600"/>
            <a:chExt cx="2857320" cy="466560"/>
          </a:xfrm>
        </p:grpSpPr>
        <p:sp>
          <p:nvSpPr>
            <p:cNvPr id="255" name="AutoShape 6"/>
            <p:cNvSpPr/>
            <p:nvPr/>
          </p:nvSpPr>
          <p:spPr>
            <a:xfrm>
              <a:off x="896760" y="26226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eae1f"/>
                </a:gs>
                <a:gs pos="50000">
                  <a:srgbClr val="b3dc27"/>
                </a:gs>
                <a:gs pos="100000">
                  <a:srgbClr val="8eae1f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AutoShape 7"/>
            <p:cNvGrpSpPr/>
            <p:nvPr/>
          </p:nvGrpSpPr>
          <p:grpSpPr>
            <a:xfrm>
              <a:off x="3602880" y="2687760"/>
              <a:ext cx="140040" cy="334800"/>
              <a:chOff x="3602880" y="2687760"/>
              <a:chExt cx="140040" cy="334800"/>
            </a:xfrm>
          </p:grpSpPr>
          <p:pic>
            <p:nvPicPr>
              <p:cNvPr id="257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2880" y="2687760"/>
                <a:ext cx="1400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3711240" y="279648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AutoShape 8"/>
            <p:cNvGrpSpPr/>
            <p:nvPr/>
          </p:nvGrpSpPr>
          <p:grpSpPr>
            <a:xfrm>
              <a:off x="920520" y="2687760"/>
              <a:ext cx="140040" cy="334800"/>
              <a:chOff x="920520" y="2687760"/>
              <a:chExt cx="140040" cy="334800"/>
            </a:xfrm>
          </p:grpSpPr>
          <p:pic>
            <p:nvPicPr>
              <p:cNvPr id="260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0520" y="2687760"/>
                <a:ext cx="1400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935280" y="279648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9"/>
          <p:cNvGrpSpPr/>
          <p:nvPr/>
        </p:nvGrpSpPr>
        <p:grpSpPr>
          <a:xfrm>
            <a:off x="5392800" y="2622600"/>
            <a:ext cx="2856960" cy="466560"/>
            <a:chOff x="5392800" y="2622600"/>
            <a:chExt cx="2856960" cy="466560"/>
          </a:xfrm>
        </p:grpSpPr>
        <p:sp>
          <p:nvSpPr>
            <p:cNvPr id="263" name="AutoShape 10"/>
            <p:cNvSpPr/>
            <p:nvPr/>
          </p:nvSpPr>
          <p:spPr>
            <a:xfrm>
              <a:off x="5392800" y="26226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7100"/>
                </a:gs>
                <a:gs pos="50000">
                  <a:srgbClr val="ff7f00"/>
                </a:gs>
                <a:gs pos="100000">
                  <a:srgbClr val="e37100"/>
                </a:gs>
              </a:gsLst>
              <a:lin ang="0"/>
            </a:gradFill>
            <a:ln w="12600">
              <a:solidFill>
                <a:srgbClr val="ff7f0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AutoShape 11"/>
            <p:cNvGrpSpPr/>
            <p:nvPr/>
          </p:nvGrpSpPr>
          <p:grpSpPr>
            <a:xfrm>
              <a:off x="8100360" y="2687760"/>
              <a:ext cx="140400" cy="334800"/>
              <a:chOff x="8100360" y="2687760"/>
              <a:chExt cx="140400" cy="334800"/>
            </a:xfrm>
          </p:grpSpPr>
          <p:pic>
            <p:nvPicPr>
              <p:cNvPr id="265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360" y="2687760"/>
                <a:ext cx="1404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8205840" y="279648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AutoShape 12"/>
            <p:cNvGrpSpPr/>
            <p:nvPr/>
          </p:nvGrpSpPr>
          <p:grpSpPr>
            <a:xfrm>
              <a:off x="5418720" y="2687760"/>
              <a:ext cx="140400" cy="334800"/>
              <a:chOff x="5418720" y="2687760"/>
              <a:chExt cx="140400" cy="334800"/>
            </a:xfrm>
          </p:grpSpPr>
          <p:pic>
            <p:nvPicPr>
              <p:cNvPr id="268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8720" y="2687760"/>
                <a:ext cx="1404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5430600" y="279648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AutoShape 13"/>
          <p:cNvSpPr/>
          <p:nvPr/>
        </p:nvSpPr>
        <p:spPr>
          <a:xfrm>
            <a:off x="857160" y="3214800"/>
            <a:ext cx="2849760" cy="324324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3243240"/>
              <a:gd name="textAreaBottom" fmla="*/ 3176640 h 3243240"/>
            </a:gdLst>
            <a:ahLst/>
            <a:rect l="textAreaLeft" t="textAreaTop" r="textAreaRight" b="textAreaBottom"/>
            <a:pathLst>
              <a:path w="21600" h="24582">
                <a:moveTo>
                  <a:pt x="1731" y="0"/>
                </a:moveTo>
                <a:arcTo wR="1731" hR="1731" stAng="16200000" swAng="-5400000"/>
                <a:lnTo>
                  <a:pt x="0" y="22851"/>
                </a:lnTo>
                <a:arcTo wR="1731" hR="1731" stAng="10800000" swAng="-5400000"/>
                <a:lnTo>
                  <a:pt x="19869" y="24582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b3d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1143000" y="2571840"/>
            <a:ext cx="22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импресс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5715000" y="2571840"/>
            <a:ext cx="22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кспресс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6"/>
          <p:cNvSpPr/>
          <p:nvPr/>
        </p:nvSpPr>
        <p:spPr>
          <a:xfrm flipH="1" flipV="1" rot="10806000">
            <a:off x="3828600" y="37317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3dc27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5500800" y="3357720"/>
            <a:ext cx="280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процесс высказывания) начинается с намерения или мысли, которые переходят во внутреннюю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1004760" y="3486240"/>
            <a:ext cx="27100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оцесс поним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ключает понимание устной речи и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 flipV="1" rot="10794000">
            <a:off x="3796920" y="43365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7f00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642960" y="85716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чь — это форма общения людей с помощью звуковых и зрительных знаков, высшая функция, возникающая в процессе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зличают два основных вида ре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5500800" y="3286080"/>
            <a:ext cx="2849400" cy="314316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3143160"/>
              <a:gd name="textAreaBottom" fmla="*/ 3076560 h 3143160"/>
            </a:gdLst>
            <a:ahLst/>
            <a:rect l="textAreaLeft" t="textAreaTop" r="textAreaRight" b="textAreaBottom"/>
            <a:pathLst>
              <a:path w="21600" h="23827">
                <a:moveTo>
                  <a:pt x="1731" y="0"/>
                </a:moveTo>
                <a:arcTo wR="1731" hR="1731" stAng="16200000" swAng="-5400000"/>
                <a:lnTo>
                  <a:pt x="0" y="22096"/>
                </a:lnTo>
                <a:arcTo wR="1731" hR="1731" stAng="10800000" swAng="-5400000"/>
                <a:lnTo>
                  <a:pt x="19869" y="23827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noFill/>
          <a:ln w="9360">
            <a:solidFill>
              <a:srgbClr val="b3d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"/>
          <p:cNvSpPr/>
          <p:nvPr/>
        </p:nvSpPr>
        <p:spPr>
          <a:xfrm>
            <a:off x="2857680" y="1357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ля экспрессивной речи характерен активный лепет, речевое подражание, слоговая речь; пониманием первых словесных инструкций: «дай», «где», «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857680" y="321480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ля экспрессивной речи характерны парные лепетные слова, копирование интонации взрослого, понимание разрешения, запрета и ряда других словесных и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857680" y="485784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кспрессивная речь характеризуется запасом из 8-10 слов; предметная соотнесенность слов и конкретных ситуаций, понимание обращенной речи, отдельных и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5000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тапы развития речи норм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бенка (Г.В.Козловская  и др.,200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357120" y="4929120"/>
            <a:ext cx="2295360" cy="1365480"/>
            <a:chOff x="357120" y="4929120"/>
            <a:chExt cx="2295360" cy="1365480"/>
          </a:xfrm>
        </p:grpSpPr>
        <p:sp>
          <p:nvSpPr>
            <p:cNvPr id="284" name="Oval 14"/>
            <p:cNvSpPr/>
            <p:nvPr/>
          </p:nvSpPr>
          <p:spPr>
            <a:xfrm>
              <a:off x="357120" y="59637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5"/>
            <p:cNvSpPr/>
            <p:nvPr/>
          </p:nvSpPr>
          <p:spPr>
            <a:xfrm>
              <a:off x="361080" y="492912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3b00"/>
                </a:gs>
                <a:gs pos="50000">
                  <a:srgbClr val="ff7f00">
                    <a:alpha val="50196"/>
                  </a:srgbClr>
                </a:gs>
                <a:gs pos="100000">
                  <a:srgbClr val="76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357120" y="3429000"/>
            <a:ext cx="2295360" cy="1365120"/>
            <a:chOff x="357120" y="3429000"/>
            <a:chExt cx="2295360" cy="1365120"/>
          </a:xfrm>
        </p:grpSpPr>
        <p:sp>
          <p:nvSpPr>
            <p:cNvPr id="287" name="Oval 17"/>
            <p:cNvSpPr/>
            <p:nvPr/>
          </p:nvSpPr>
          <p:spPr>
            <a:xfrm>
              <a:off x="357120" y="44632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8"/>
            <p:cNvSpPr/>
            <p:nvPr/>
          </p:nvSpPr>
          <p:spPr>
            <a:xfrm>
              <a:off x="361080" y="34290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31c0b"/>
                </a:gs>
                <a:gs pos="50000">
                  <a:srgbClr val="f93d17">
                    <a:alpha val="50196"/>
                  </a:srgbClr>
                </a:gs>
                <a:gs pos="100000">
                  <a:srgbClr val="731c0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9"/>
          <p:cNvGrpSpPr/>
          <p:nvPr/>
        </p:nvGrpSpPr>
        <p:grpSpPr>
          <a:xfrm>
            <a:off x="428760" y="1785960"/>
            <a:ext cx="2295000" cy="1365120"/>
            <a:chOff x="428760" y="1785960"/>
            <a:chExt cx="2295000" cy="1365120"/>
          </a:xfrm>
        </p:grpSpPr>
        <p:sp>
          <p:nvSpPr>
            <p:cNvPr id="290" name="Oval 20"/>
            <p:cNvSpPr/>
            <p:nvPr/>
          </p:nvSpPr>
          <p:spPr>
            <a:xfrm>
              <a:off x="428760" y="2820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1"/>
            <p:cNvSpPr/>
            <p:nvPr/>
          </p:nvSpPr>
          <p:spPr>
            <a:xfrm>
              <a:off x="432720" y="1785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6612"/>
                </a:gs>
                <a:gs pos="50000">
                  <a:srgbClr val="b3dc27">
                    <a:alpha val="50196"/>
                  </a:srgbClr>
                </a:gs>
                <a:gs pos="100000">
                  <a:srgbClr val="5366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22"/>
          <p:cNvSpPr/>
          <p:nvPr/>
        </p:nvSpPr>
        <p:spPr>
          <a:xfrm>
            <a:off x="428760" y="2286000"/>
            <a:ext cx="212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428760" y="4000680"/>
            <a:ext cx="212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0 месяц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28760" y="5500800"/>
            <a:ext cx="212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2 месяц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5"/>
          <p:cNvSpPr/>
          <p:nvPr/>
        </p:nvSpPr>
        <p:spPr>
          <a:xfrm>
            <a:off x="642960" y="235728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8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"/>
          <p:cNvSpPr/>
          <p:nvPr/>
        </p:nvSpPr>
        <p:spPr>
          <a:xfrm>
            <a:off x="2714760" y="2500200"/>
            <a:ext cx="585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апас слов увеличивается до 60, появляются первые фразы; ребенок выполняет простые инструкции, узнает предметы на карти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714760" y="4071960"/>
            <a:ext cx="56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ловарный запас 200-300 слов, появляются перв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643120" y="500076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моционально выразительная речь. Ребенок пересказывает простые стихи и сказки, употребляет в речи вопрос «почему?», понимает значение предлогов «под», «из», «на»,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3"/>
          <p:cNvGrpSpPr/>
          <p:nvPr/>
        </p:nvGrpSpPr>
        <p:grpSpPr>
          <a:xfrm>
            <a:off x="214200" y="5072040"/>
            <a:ext cx="2295360" cy="1365120"/>
            <a:chOff x="214200" y="5072040"/>
            <a:chExt cx="2295360" cy="1365120"/>
          </a:xfrm>
        </p:grpSpPr>
        <p:sp>
          <p:nvSpPr>
            <p:cNvPr id="300" name="Oval 14"/>
            <p:cNvSpPr/>
            <p:nvPr/>
          </p:nvSpPr>
          <p:spPr>
            <a:xfrm>
              <a:off x="214200" y="610632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5"/>
            <p:cNvSpPr/>
            <p:nvPr/>
          </p:nvSpPr>
          <p:spPr>
            <a:xfrm>
              <a:off x="218160" y="507204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3b00"/>
                </a:gs>
                <a:gs pos="50000">
                  <a:srgbClr val="ff7f00">
                    <a:alpha val="50196"/>
                  </a:srgbClr>
                </a:gs>
                <a:gs pos="100000">
                  <a:srgbClr val="76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14200" y="3786120"/>
            <a:ext cx="2295360" cy="1365480"/>
            <a:chOff x="214200" y="3786120"/>
            <a:chExt cx="2295360" cy="1365480"/>
          </a:xfrm>
        </p:grpSpPr>
        <p:sp>
          <p:nvSpPr>
            <p:cNvPr id="303" name="Oval 17"/>
            <p:cNvSpPr/>
            <p:nvPr/>
          </p:nvSpPr>
          <p:spPr>
            <a:xfrm>
              <a:off x="214200" y="48207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8"/>
            <p:cNvSpPr/>
            <p:nvPr/>
          </p:nvSpPr>
          <p:spPr>
            <a:xfrm>
              <a:off x="218160" y="378612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31c0b"/>
                </a:gs>
                <a:gs pos="50000">
                  <a:srgbClr val="f93d17">
                    <a:alpha val="50196"/>
                  </a:srgbClr>
                </a:gs>
                <a:gs pos="100000">
                  <a:srgbClr val="731c0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9"/>
          <p:cNvGrpSpPr/>
          <p:nvPr/>
        </p:nvGrpSpPr>
        <p:grpSpPr>
          <a:xfrm>
            <a:off x="142920" y="2500200"/>
            <a:ext cx="2295000" cy="1365480"/>
            <a:chOff x="142920" y="2500200"/>
            <a:chExt cx="2295000" cy="1365480"/>
          </a:xfrm>
        </p:grpSpPr>
        <p:sp>
          <p:nvSpPr>
            <p:cNvPr id="306" name="Oval 20"/>
            <p:cNvSpPr/>
            <p:nvPr/>
          </p:nvSpPr>
          <p:spPr>
            <a:xfrm>
              <a:off x="142920" y="35348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21"/>
            <p:cNvSpPr/>
            <p:nvPr/>
          </p:nvSpPr>
          <p:spPr>
            <a:xfrm>
              <a:off x="146880" y="250020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6612"/>
                </a:gs>
                <a:gs pos="50000">
                  <a:srgbClr val="b3dc27">
                    <a:alpha val="50196"/>
                  </a:srgbClr>
                </a:gs>
                <a:gs pos="100000">
                  <a:srgbClr val="5366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22"/>
          <p:cNvSpPr/>
          <p:nvPr/>
        </p:nvSpPr>
        <p:spPr>
          <a:xfrm>
            <a:off x="0" y="3071880"/>
            <a:ext cx="2428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 год 9 месяце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142920" y="4357800"/>
            <a:ext cx="212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"/>
              </a:rPr>
              <a:t>2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357120" y="5500800"/>
            <a:ext cx="20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"/>
              </a:rPr>
              <a:t>3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oup 19" descr=""/>
          <p:cNvPicPr/>
          <p:nvPr/>
        </p:nvPicPr>
        <p:blipFill>
          <a:blip r:embed="rId1"/>
          <a:stretch/>
        </p:blipFill>
        <p:spPr>
          <a:xfrm>
            <a:off x="133200" y="1133640"/>
            <a:ext cx="2311560" cy="1377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2"/>
          <p:cNvSpPr/>
          <p:nvPr/>
        </p:nvSpPr>
        <p:spPr>
          <a:xfrm>
            <a:off x="214200" y="1714680"/>
            <a:ext cx="21290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 год 3 меся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2643120" y="78588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кспрессивная речь характеризуется наличием запаса из 10-30 слов; характерно понимание изображения отдельных предметов и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val 3"/>
          <p:cNvSpPr/>
          <p:nvPr/>
        </p:nvSpPr>
        <p:spPr>
          <a:xfrm>
            <a:off x="2428920" y="1571760"/>
            <a:ext cx="3286080" cy="3143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2500200" y="1785960"/>
            <a:ext cx="2786040" cy="292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2706840" y="1744560"/>
            <a:ext cx="2798640" cy="27990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8535600">
            <a:off x="3012480" y="2935440"/>
            <a:ext cx="579240" cy="1638000"/>
          </a:xfrm>
          <a:custGeom>
            <a:avLst/>
            <a:gdLst>
              <a:gd name="textAreaLeft" fmla="*/ 0 w 579240"/>
              <a:gd name="textAreaRight" fmla="*/ 579600 w 57924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11" y="0"/>
                </a:lnTo>
                <a:lnTo>
                  <a:pt x="21600" y="10800"/>
                </a:lnTo>
                <a:lnTo>
                  <a:pt x="15411" y="21600"/>
                </a:lnTo>
                <a:lnTo>
                  <a:pt x="0" y="21600"/>
                </a:lnTo>
                <a:lnTo>
                  <a:pt x="6189" y="10800"/>
                </a:lnTo>
                <a:close/>
              </a:path>
            </a:pathLst>
          </a:custGeom>
          <a:solidFill>
            <a:srgbClr val="ff7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 rot="16200000">
            <a:off x="3821760" y="1750320"/>
            <a:ext cx="532080" cy="1746000"/>
          </a:xfrm>
          <a:custGeom>
            <a:avLst/>
            <a:gdLst>
              <a:gd name="textAreaLeft" fmla="*/ 0 w 532080"/>
              <a:gd name="textAreaRight" fmla="*/ 532440 w 53208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11" y="0"/>
                </a:lnTo>
                <a:lnTo>
                  <a:pt x="21600" y="10800"/>
                </a:lnTo>
                <a:lnTo>
                  <a:pt x="15411" y="21600"/>
                </a:lnTo>
                <a:lnTo>
                  <a:pt x="0" y="21600"/>
                </a:lnTo>
                <a:lnTo>
                  <a:pt x="6189" y="10800"/>
                </a:lnTo>
                <a:close/>
              </a:path>
            </a:pathLst>
          </a:cu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 rot="2300400">
            <a:off x="4535640" y="3030480"/>
            <a:ext cx="610920" cy="1476360"/>
          </a:xfrm>
          <a:custGeom>
            <a:avLst/>
            <a:gdLst>
              <a:gd name="textAreaLeft" fmla="*/ 0 w 610920"/>
              <a:gd name="textAreaRight" fmla="*/ 611280 w 6109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11" y="0"/>
                </a:lnTo>
                <a:lnTo>
                  <a:pt x="21600" y="10800"/>
                </a:lnTo>
                <a:lnTo>
                  <a:pt x="15411" y="21600"/>
                </a:lnTo>
                <a:lnTo>
                  <a:pt x="0" y="21600"/>
                </a:lnTo>
                <a:lnTo>
                  <a:pt x="6189" y="10800"/>
                </a:lnTo>
                <a:close/>
              </a:path>
            </a:pathLst>
          </a:custGeom>
          <a:solidFill>
            <a:srgbClr val="6f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5572080" y="714240"/>
            <a:ext cx="35719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3d1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93d1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адержка созревания нейрональных связей, обусловленная органическим поражением рече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он к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142920" y="857160"/>
            <a:ext cx="26431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9180"/>
                </a:solidFill>
                <a:latin typeface="Constanti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9180"/>
                </a:solidFill>
                <a:latin typeface="Constanti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едность словарного запаса, низкий уровень словесного общения, трудности развернутого речевого высказывания, аграмматиз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000760" y="4000680"/>
            <a:ext cx="386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9180"/>
                </a:solidFill>
                <a:latin typeface="Constanti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9180"/>
                </a:solidFill>
                <a:latin typeface="Constanti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щее недоразвитие речи 1-3 уровня проявляется различной тяжестью нарушений экспрессивн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3"/>
          <p:cNvSpPr/>
          <p:nvPr/>
        </p:nvSpPr>
        <p:spPr>
          <a:xfrm flipH="1" flipV="1">
            <a:off x="721800" y="4075200"/>
            <a:ext cx="7607520" cy="1944720"/>
          </a:xfrm>
          <a:custGeom>
            <a:avLst/>
            <a:gdLst>
              <a:gd name="textAreaLeft" fmla="*/ 360 w 7607520"/>
              <a:gd name="textAreaRight" fmla="*/ 7608240 w 7607520"/>
              <a:gd name="textAreaTop" fmla="*/ 360 h 1944720"/>
              <a:gd name="textAreaBottom" fmla="*/ 1945440 h 19447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3dc27"/>
              </a:gs>
              <a:gs pos="100000">
                <a:srgbClr val="536612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708120" y="1905120"/>
            <a:ext cx="7607160" cy="2117520"/>
          </a:xfrm>
          <a:custGeom>
            <a:avLst/>
            <a:gdLst>
              <a:gd name="textAreaLeft" fmla="*/ 0 w 7607160"/>
              <a:gd name="textAreaRight" fmla="*/ 7607520 w 760716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6fb9d7"/>
              </a:gs>
              <a:gs pos="100000">
                <a:srgbClr val="335663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928800" y="1071720"/>
            <a:ext cx="1643040" cy="507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571840" y="1071720"/>
            <a:ext cx="1841400" cy="507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429080" y="1071720"/>
            <a:ext cx="1814400" cy="507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6215040" y="1071720"/>
            <a:ext cx="1870200" cy="507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034440" y="27306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Constantia"/>
              </a:rPr>
              <a:t>Развитие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AutoShape 13"/>
          <p:cNvCxnSpPr>
            <a:stCxn id="325" idx="0"/>
            <a:endCxn id="329" idx="1"/>
          </p:cNvCxnSpPr>
          <p:nvPr/>
        </p:nvCxnSpPr>
        <p:spPr>
          <a:xfrm flipH="1" rot="16200000">
            <a:off x="1513800" y="1308600"/>
            <a:ext cx="1845360" cy="1370880"/>
          </a:xfrm>
          <a:prstGeom prst="bentConnector4">
            <a:avLst>
              <a:gd name="adj1" fmla="val -12390"/>
              <a:gd name="adj2" fmla="val 79957"/>
            </a:avLst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31" name="AutoShape 14"/>
          <p:cNvCxnSpPr>
            <a:stCxn id="328" idx="0"/>
            <a:endCxn id="329" idx="3"/>
          </p:cNvCxnSpPr>
          <p:nvPr/>
        </p:nvCxnSpPr>
        <p:spPr>
          <a:xfrm rot="5400000">
            <a:off x="5064120" y="831240"/>
            <a:ext cx="1845360" cy="2326320"/>
          </a:xfrm>
          <a:prstGeom prst="bentConnector4">
            <a:avLst>
              <a:gd name="adj1" fmla="val -12390"/>
              <a:gd name="adj2" fmla="val 70097"/>
            </a:avLst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32" name="Rectangle 18"/>
          <p:cNvSpPr/>
          <p:nvPr/>
        </p:nvSpPr>
        <p:spPr>
          <a:xfrm>
            <a:off x="4572000" y="785880"/>
            <a:ext cx="346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доразвитие речи тормозит развитие познавательной деятельности ребенка, что часто проявляется задержкой психического развития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928800" y="571680"/>
            <a:ext cx="3429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рмальное рече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звит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начительной сте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ндивидуализирова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тсутствие отд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лов или близких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им рече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зований к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одам или прост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раз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-3 слов к 3 г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олжно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сценено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знак за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14"/>
          <p:cNvSpPr/>
          <p:nvPr/>
        </p:nvSpPr>
        <p:spPr>
          <a:xfrm rot="10800000">
            <a:off x="5233680" y="2064960"/>
            <a:ext cx="2971800" cy="2971800"/>
          </a:xfrm>
          <a:prstGeom prst="ellipse">
            <a:avLst/>
          </a:prstGeom>
          <a:noFill/>
          <a:ln w="38160">
            <a:solidFill>
              <a:srgbClr val="f93d17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 rot="4623000">
            <a:off x="872280" y="2065320"/>
            <a:ext cx="2971800" cy="2971800"/>
          </a:xfrm>
          <a:prstGeom prst="ellipse">
            <a:avLst/>
          </a:prstGeom>
          <a:noFill/>
          <a:ln w="38160">
            <a:solidFill>
              <a:srgbClr val="b3dc27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1357200" y="3071880"/>
            <a:ext cx="20005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Соч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5"/>
          <p:cNvGrpSpPr/>
          <p:nvPr/>
        </p:nvGrpSpPr>
        <p:grpSpPr>
          <a:xfrm>
            <a:off x="2286000" y="3071880"/>
            <a:ext cx="2071080" cy="1011240"/>
            <a:chOff x="2286000" y="3071880"/>
            <a:chExt cx="2071080" cy="1011240"/>
          </a:xfrm>
        </p:grpSpPr>
        <p:grpSp>
          <p:nvGrpSpPr>
            <p:cNvPr id="338" name="Group 16"/>
            <p:cNvGrpSpPr/>
            <p:nvPr/>
          </p:nvGrpSpPr>
          <p:grpSpPr>
            <a:xfrm>
              <a:off x="2286000" y="3071880"/>
              <a:ext cx="2071080" cy="1011240"/>
              <a:chOff x="2286000" y="3071880"/>
              <a:chExt cx="2071080" cy="1011240"/>
            </a:xfrm>
          </p:grpSpPr>
          <p:pic>
            <p:nvPicPr>
              <p:cNvPr id="33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286000" y="3071880"/>
                <a:ext cx="2071080" cy="10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Oval 18"/>
              <p:cNvSpPr/>
              <p:nvPr/>
            </p:nvSpPr>
            <p:spPr>
              <a:xfrm>
                <a:off x="2286000" y="3071880"/>
                <a:ext cx="2057040" cy="1011240"/>
              </a:xfrm>
              <a:prstGeom prst="ellipse">
                <a:avLst/>
              </a:prstGeom>
              <a:gradFill rotWithShape="0">
                <a:gsLst>
                  <a:gs pos="0">
                    <a:srgbClr val="b3dc27"/>
                  </a:gs>
                  <a:gs pos="50000">
                    <a:srgbClr val="536612"/>
                  </a:gs>
                  <a:gs pos="100000">
                    <a:srgbClr val="b3dc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2492280" y="3081600"/>
              <a:ext cx="163584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 Box 30"/>
          <p:cNvSpPr/>
          <p:nvPr/>
        </p:nvSpPr>
        <p:spPr>
          <a:xfrm>
            <a:off x="2286000" y="321480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918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речевая    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572080" y="407196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Профессиональный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5"/>
          <p:cNvGrpSpPr/>
          <p:nvPr/>
        </p:nvGrpSpPr>
        <p:grpSpPr>
          <a:xfrm>
            <a:off x="4572000" y="3143160"/>
            <a:ext cx="1713960" cy="978120"/>
            <a:chOff x="4572000" y="3143160"/>
            <a:chExt cx="1713960" cy="978120"/>
          </a:xfrm>
        </p:grpSpPr>
        <p:grpSp>
          <p:nvGrpSpPr>
            <p:cNvPr id="345" name="Group 46"/>
            <p:cNvGrpSpPr/>
            <p:nvPr/>
          </p:nvGrpSpPr>
          <p:grpSpPr>
            <a:xfrm>
              <a:off x="4572000" y="3143160"/>
              <a:ext cx="1713960" cy="978120"/>
              <a:chOff x="4572000" y="3143160"/>
              <a:chExt cx="1713960" cy="978120"/>
            </a:xfrm>
          </p:grpSpPr>
          <p:pic>
            <p:nvPicPr>
              <p:cNvPr id="34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3143160"/>
                <a:ext cx="171396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Oval 48"/>
              <p:cNvSpPr/>
              <p:nvPr/>
            </p:nvSpPr>
            <p:spPr>
              <a:xfrm>
                <a:off x="4572000" y="3143160"/>
                <a:ext cx="1702440" cy="978120"/>
              </a:xfrm>
              <a:prstGeom prst="ellipse">
                <a:avLst/>
              </a:prstGeom>
              <a:gradFill rotWithShape="0">
                <a:gsLst>
                  <a:gs pos="0">
                    <a:srgbClr val="f93d17"/>
                  </a:gs>
                  <a:gs pos="50000">
                    <a:srgbClr val="87210c"/>
                  </a:gs>
                  <a:gs pos="100000">
                    <a:srgbClr val="f93d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4742640" y="3152520"/>
              <a:ext cx="135396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Text Box 50"/>
          <p:cNvSpPr/>
          <p:nvPr/>
        </p:nvSpPr>
        <p:spPr>
          <a:xfrm>
            <a:off x="4714920" y="3214800"/>
            <a:ext cx="136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Constantia"/>
              </a:rPr>
              <a:t>нев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Constantia"/>
              </a:rPr>
              <a:t>психи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5"/>
          <p:cNvGrpSpPr/>
          <p:nvPr/>
        </p:nvGrpSpPr>
        <p:grpSpPr>
          <a:xfrm>
            <a:off x="1071720" y="1357200"/>
            <a:ext cx="2427840" cy="1335240"/>
            <a:chOff x="1071720" y="1357200"/>
            <a:chExt cx="2427840" cy="1335240"/>
          </a:xfrm>
        </p:grpSpPr>
        <p:grpSp>
          <p:nvGrpSpPr>
            <p:cNvPr id="351" name="Group 16"/>
            <p:cNvGrpSpPr/>
            <p:nvPr/>
          </p:nvGrpSpPr>
          <p:grpSpPr>
            <a:xfrm>
              <a:off x="1071720" y="1357200"/>
              <a:ext cx="2427840" cy="1335240"/>
              <a:chOff x="1071720" y="1357200"/>
              <a:chExt cx="2427840" cy="1335240"/>
            </a:xfrm>
          </p:grpSpPr>
          <p:pic>
            <p:nvPicPr>
              <p:cNvPr id="35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071720" y="1357200"/>
                <a:ext cx="2427840" cy="13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Oval 18"/>
              <p:cNvSpPr/>
              <p:nvPr/>
            </p:nvSpPr>
            <p:spPr>
              <a:xfrm>
                <a:off x="1071720" y="1357200"/>
                <a:ext cx="2411640" cy="1335240"/>
              </a:xfrm>
              <a:prstGeom prst="ellipse">
                <a:avLst/>
              </a:prstGeom>
              <a:gradFill rotWithShape="0">
                <a:gsLst>
                  <a:gs pos="0">
                    <a:srgbClr val="b3dc27"/>
                  </a:gs>
                  <a:gs pos="50000">
                    <a:srgbClr val="647b16"/>
                  </a:gs>
                  <a:gs pos="100000">
                    <a:srgbClr val="b3dc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13640" y="1370160"/>
              <a:ext cx="1917720" cy="4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Text Box 30"/>
          <p:cNvSpPr/>
          <p:nvPr/>
        </p:nvSpPr>
        <p:spPr>
          <a:xfrm>
            <a:off x="1071720" y="1571760"/>
            <a:ext cx="242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массаж, ЛФК, физ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5"/>
          <p:cNvGrpSpPr/>
          <p:nvPr/>
        </p:nvGrpSpPr>
        <p:grpSpPr>
          <a:xfrm>
            <a:off x="214200" y="3133800"/>
            <a:ext cx="1928160" cy="977760"/>
            <a:chOff x="214200" y="3133800"/>
            <a:chExt cx="1928160" cy="977760"/>
          </a:xfrm>
        </p:grpSpPr>
        <p:grpSp>
          <p:nvGrpSpPr>
            <p:cNvPr id="357" name="Group 16"/>
            <p:cNvGrpSpPr/>
            <p:nvPr/>
          </p:nvGrpSpPr>
          <p:grpSpPr>
            <a:xfrm>
              <a:off x="214200" y="3133800"/>
              <a:ext cx="1928160" cy="977760"/>
              <a:chOff x="214200" y="3133800"/>
              <a:chExt cx="1928160" cy="977760"/>
            </a:xfrm>
          </p:grpSpPr>
          <p:pic>
            <p:nvPicPr>
              <p:cNvPr id="358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214200" y="3133800"/>
                <a:ext cx="192816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Oval 18"/>
              <p:cNvSpPr/>
              <p:nvPr/>
            </p:nvSpPr>
            <p:spPr>
              <a:xfrm>
                <a:off x="214200" y="3133800"/>
                <a:ext cx="1915200" cy="977760"/>
              </a:xfrm>
              <a:prstGeom prst="ellipse">
                <a:avLst/>
              </a:prstGeom>
              <a:gradFill rotWithShape="0">
                <a:gsLst>
                  <a:gs pos="0">
                    <a:srgbClr val="b3dc27"/>
                  </a:gs>
                  <a:gs pos="50000">
                    <a:srgbClr val="647b16"/>
                  </a:gs>
                  <a:gs pos="100000">
                    <a:srgbClr val="b3dc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06440" y="3143160"/>
              <a:ext cx="152316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45"/>
          <p:cNvGrpSpPr/>
          <p:nvPr/>
        </p:nvGrpSpPr>
        <p:grpSpPr>
          <a:xfrm>
            <a:off x="5643720" y="1500120"/>
            <a:ext cx="2142360" cy="1263600"/>
            <a:chOff x="5643720" y="1500120"/>
            <a:chExt cx="2142360" cy="1263600"/>
          </a:xfrm>
        </p:grpSpPr>
        <p:grpSp>
          <p:nvGrpSpPr>
            <p:cNvPr id="362" name="Group 46"/>
            <p:cNvGrpSpPr/>
            <p:nvPr/>
          </p:nvGrpSpPr>
          <p:grpSpPr>
            <a:xfrm>
              <a:off x="5643720" y="1500120"/>
              <a:ext cx="2142360" cy="1263600"/>
              <a:chOff x="5643720" y="1500120"/>
              <a:chExt cx="2142360" cy="1263600"/>
            </a:xfrm>
          </p:grpSpPr>
          <p:pic>
            <p:nvPicPr>
              <p:cNvPr id="363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643720" y="1500120"/>
                <a:ext cx="2142360" cy="12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Oval 48"/>
              <p:cNvSpPr/>
              <p:nvPr/>
            </p:nvSpPr>
            <p:spPr>
              <a:xfrm>
                <a:off x="5643720" y="1500120"/>
                <a:ext cx="2127960" cy="1263600"/>
              </a:xfrm>
              <a:prstGeom prst="ellipse">
                <a:avLst/>
              </a:prstGeom>
              <a:gradFill rotWithShape="0">
                <a:gsLst>
                  <a:gs pos="0">
                    <a:srgbClr val="f93d17"/>
                  </a:gs>
                  <a:gs pos="50000">
                    <a:srgbClr val="87210c"/>
                  </a:gs>
                  <a:gs pos="100000">
                    <a:srgbClr val="f93d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5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5857200" y="1512360"/>
              <a:ext cx="169236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50"/>
          <p:cNvSpPr/>
          <p:nvPr/>
        </p:nvSpPr>
        <p:spPr>
          <a:xfrm>
            <a:off x="5857920" y="164304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Constantia"/>
              </a:rPr>
              <a:t>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Constantia"/>
              </a:rPr>
              <a:t>дефект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5"/>
          <p:cNvGrpSpPr/>
          <p:nvPr/>
        </p:nvGrpSpPr>
        <p:grpSpPr>
          <a:xfrm>
            <a:off x="7143840" y="3078000"/>
            <a:ext cx="1713600" cy="978120"/>
            <a:chOff x="7143840" y="3078000"/>
            <a:chExt cx="1713600" cy="978120"/>
          </a:xfrm>
        </p:grpSpPr>
        <p:grpSp>
          <p:nvGrpSpPr>
            <p:cNvPr id="368" name="Group 46"/>
            <p:cNvGrpSpPr/>
            <p:nvPr/>
          </p:nvGrpSpPr>
          <p:grpSpPr>
            <a:xfrm>
              <a:off x="7143840" y="3078000"/>
              <a:ext cx="1713600" cy="978120"/>
              <a:chOff x="7143840" y="3078000"/>
              <a:chExt cx="1713600" cy="978120"/>
            </a:xfrm>
          </p:grpSpPr>
          <p:pic>
            <p:nvPicPr>
              <p:cNvPr id="369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143840" y="3078000"/>
                <a:ext cx="171360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Oval 48"/>
              <p:cNvSpPr/>
              <p:nvPr/>
            </p:nvSpPr>
            <p:spPr>
              <a:xfrm>
                <a:off x="7143840" y="3078000"/>
                <a:ext cx="1702080" cy="978120"/>
              </a:xfrm>
              <a:prstGeom prst="ellipse">
                <a:avLst/>
              </a:prstGeom>
              <a:gradFill rotWithShape="0">
                <a:gsLst>
                  <a:gs pos="0">
                    <a:srgbClr val="f93d17"/>
                  </a:gs>
                  <a:gs pos="50000">
                    <a:srgbClr val="87210c"/>
                  </a:gs>
                  <a:gs pos="100000">
                    <a:srgbClr val="f93d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314480" y="3087360"/>
              <a:ext cx="135360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Text Box 50"/>
          <p:cNvSpPr/>
          <p:nvPr/>
        </p:nvSpPr>
        <p:spPr>
          <a:xfrm>
            <a:off x="7500960" y="335772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Constantia"/>
              </a:rPr>
              <a:t>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5"/>
          <p:cNvSpPr/>
          <p:nvPr/>
        </p:nvSpPr>
        <p:spPr>
          <a:xfrm>
            <a:off x="142920" y="3357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сих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0"/>
          <p:cNvSpPr/>
          <p:nvPr/>
        </p:nvSpPr>
        <p:spPr>
          <a:xfrm>
            <a:off x="4572000" y="54291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ррекция специфических расстройств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0"/>
          <p:cNvSpPr/>
          <p:nvPr/>
        </p:nvSpPr>
        <p:spPr>
          <a:xfrm>
            <a:off x="357120" y="5286240"/>
            <a:ext cx="385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мплекс лечебно-реабилитационных меро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70c0"/>
                </a:solidFill>
                <a:latin typeface="Constantia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80726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детском возрасте  неврозоподобные cостоя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оявляются в виде следующих синдромов: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600" y="435744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 также их сочет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неврот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депресси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прессивно-ипохондр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571400"/>
            <a:ext cx="404028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ерофор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енестопе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похондр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9180"/>
                </a:solidFill>
                <a:latin typeface="Constanti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18918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3280" y="1643040"/>
            <a:ext cx="404208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об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пресс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мато-вегетат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icture1"/>
          <p:cNvPicPr/>
          <p:nvPr/>
        </p:nvPicPr>
        <p:blipFill>
          <a:blip r:embed="rId1"/>
          <a:srcRect l="2378" t="19761" r="2509" b="9009"/>
          <a:stretch/>
        </p:blipFill>
        <p:spPr>
          <a:xfrm rot="5400000">
            <a:off x="19440" y="1622880"/>
            <a:ext cx="346536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Picture1"/>
          <p:cNvPicPr/>
          <p:nvPr/>
        </p:nvPicPr>
        <p:blipFill>
          <a:blip r:embed="rId2"/>
          <a:srcRect l="2378" t="19761" r="2509" b="2674"/>
          <a:stretch/>
        </p:blipFill>
        <p:spPr>
          <a:xfrm rot="5400000">
            <a:off x="3036960" y="391680"/>
            <a:ext cx="5813280" cy="6400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28760" y="2214720"/>
            <a:ext cx="307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Астено-невротически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357720" y="857160"/>
            <a:ext cx="55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  АНС понимают  сочетание нескольких неврозоподобных состо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429000" y="2357280"/>
            <a:ext cx="55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арактеризуется  быстрой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щаемостью нервных 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9000" y="3143160"/>
            <a:ext cx="5715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 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тей АНС обычно протекает  с  преобладанием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едпочтительных  для  этого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озраста моторных нару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ипердинамический  вариан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иподинамический  вариан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3"/>
          <p:cNvSpPr/>
          <p:nvPr/>
        </p:nvSpPr>
        <p:spPr>
          <a:xfrm>
            <a:off x="2714760" y="221472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93d1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643120" y="43578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b3dc2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334120" y="2714760"/>
            <a:ext cx="380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Астено-невротический синдром и задержка речевого развит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часто являются проявл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зднего восстанов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ери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и исхода  перинаталь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ражения Ц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857160" y="264312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чиной  нарушения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ведения  будет  не плохое  воспитание, не «тяжелый характер» ребенка, не  семья и не  шк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42960" y="485784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ительное пребывание организма в состоянии </a:t>
            </a:r>
            <a:r>
              <a:rPr b="1" i="1" lang="ru-RU" sz="2200" spc="-1" strike="noStrike">
                <a:solidFill>
                  <a:srgbClr val="ec2c06"/>
                </a:solidFill>
                <a:latin typeface="Constantia"/>
                <a:ea typeface="Times New Roman"/>
              </a:rPr>
              <a:t>стресса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психического, иммунн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оксического, инфекционн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равматическог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6000840" y="1000080"/>
            <a:ext cx="2545200" cy="1642680"/>
            <a:chOff x="6000840" y="1000080"/>
            <a:chExt cx="2545200" cy="1642680"/>
          </a:xfrm>
        </p:grpSpPr>
        <p:sp>
          <p:nvSpPr>
            <p:cNvPr id="148" name="Freeform 19"/>
            <p:cNvSpPr/>
            <p:nvPr/>
          </p:nvSpPr>
          <p:spPr>
            <a:xfrm flipH="1">
              <a:off x="7140600" y="2149200"/>
              <a:ext cx="1199880" cy="474120"/>
            </a:xfrm>
            <a:custGeom>
              <a:avLst/>
              <a:gdLst>
                <a:gd name="textAreaLeft" fmla="*/ -360 w 1199880"/>
                <a:gd name="textAreaRight" fmla="*/ 1199880 w 11998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6437520" y="2031840"/>
              <a:ext cx="1258560" cy="45864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6000840" y="2254320"/>
              <a:ext cx="1067760" cy="388440"/>
            </a:xfrm>
            <a:custGeom>
              <a:avLst/>
              <a:gdLst>
                <a:gd name="textAreaLeft" fmla="*/ 0 w 1067760"/>
                <a:gd name="textAreaRight" fmla="*/ 1068120 w 1067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22"/>
            <p:cNvGrpSpPr/>
            <p:nvPr/>
          </p:nvGrpSpPr>
          <p:grpSpPr>
            <a:xfrm>
              <a:off x="6671520" y="1000080"/>
              <a:ext cx="1874520" cy="1634760"/>
              <a:chOff x="6671520" y="1000080"/>
              <a:chExt cx="1874520" cy="1634760"/>
            </a:xfrm>
          </p:grpSpPr>
          <p:sp>
            <p:nvSpPr>
              <p:cNvPr id="152" name="Freeform 23"/>
              <p:cNvSpPr/>
              <p:nvPr/>
            </p:nvSpPr>
            <p:spPr>
              <a:xfrm flipH="1">
                <a:off x="7944120" y="1441440"/>
                <a:ext cx="601560" cy="1168920"/>
              </a:xfrm>
              <a:custGeom>
                <a:avLst/>
                <a:gdLst>
                  <a:gd name="textAreaLeft" fmla="*/ -360 w 601560"/>
                  <a:gd name="textAreaRight" fmla="*/ 601560 w 601560"/>
                  <a:gd name="textAreaTop" fmla="*/ 0 h 1168920"/>
                  <a:gd name="textAreaBottom" fmla="*/ 1169280 h 11689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4"/>
              <p:cNvSpPr/>
              <p:nvPr/>
            </p:nvSpPr>
            <p:spPr>
              <a:xfrm flipH="1">
                <a:off x="7209360" y="1000080"/>
                <a:ext cx="757440" cy="1470960"/>
              </a:xfrm>
              <a:custGeom>
                <a:avLst/>
                <a:gdLst>
                  <a:gd name="textAreaLeft" fmla="*/ 360 w 757440"/>
                  <a:gd name="textAreaRight" fmla="*/ 758160 w 757440"/>
                  <a:gd name="textAreaTop" fmla="*/ 0 h 1470960"/>
                  <a:gd name="textAreaBottom" fmla="*/ 1470960 h 147096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4a4a4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5"/>
              <p:cNvSpPr/>
              <p:nvPr/>
            </p:nvSpPr>
            <p:spPr>
              <a:xfrm flipH="1">
                <a:off x="6671520" y="1465560"/>
                <a:ext cx="601920" cy="1169280"/>
              </a:xfrm>
              <a:custGeom>
                <a:avLst/>
                <a:gdLst>
                  <a:gd name="textAreaLeft" fmla="*/ 360 w 601920"/>
                  <a:gd name="textAreaRight" fmla="*/ 602640 w 601920"/>
                  <a:gd name="textAreaTop" fmla="*/ 0 h 1169280"/>
                  <a:gd name="textAreaBottom" fmla="*/ 1169640 h 1169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30"/>
          <p:cNvSpPr/>
          <p:nvPr/>
        </p:nvSpPr>
        <p:spPr>
          <a:xfrm>
            <a:off x="928800" y="571680"/>
            <a:ext cx="400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невротическое  состояние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жет  развиться у  любого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бенка  в  любом  возра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тиологические факто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ипоксия (асфикси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равма (кроме внутричерепной  родовой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нфек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нтоксик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рушения метаболиз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ндокринные и гормональные воздейств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утоиммунный конфли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трессовые воздейств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уточненные и неклассифицированные факто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ровни пора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олочки мозга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икворопроводящие пу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ра головного моз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корковые структу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твол моз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зжеч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оболочки.jpg"/>
          <p:cNvPicPr/>
          <p:nvPr/>
        </p:nvPicPr>
        <p:blipFill>
          <a:blip r:embed="rId1"/>
          <a:stretch/>
        </p:blipFill>
        <p:spPr>
          <a:xfrm>
            <a:off x="5005440" y="1714680"/>
            <a:ext cx="38322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индромы восстановительного пери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инатального поражения ЦН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невротический (церебрастенический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егетативно-висцеральных дисфункц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вигательных нарушений (центральные и периферические парезы, параличи, гиперкинезы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удорожны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идроцефальны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адержка психомоторного развития (ЗПМР), задержка психического развития (ЗПР), задержка моторного развития (ЗМР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адержка предречевого и речевого развития, нарушения реч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рушения психик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Group 29" descr=""/>
          <p:cNvPicPr/>
          <p:nvPr/>
        </p:nvPicPr>
        <p:blipFill>
          <a:blip r:embed="rId1"/>
          <a:stretch/>
        </p:blipFill>
        <p:spPr>
          <a:xfrm>
            <a:off x="633240" y="781200"/>
            <a:ext cx="822960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34"/>
          <p:cNvGrpSpPr/>
          <p:nvPr/>
        </p:nvGrpSpPr>
        <p:grpSpPr>
          <a:xfrm>
            <a:off x="785880" y="857160"/>
            <a:ext cx="611280" cy="608040"/>
            <a:chOff x="785880" y="857160"/>
            <a:chExt cx="611280" cy="608040"/>
          </a:xfrm>
        </p:grpSpPr>
        <p:sp>
          <p:nvSpPr>
            <p:cNvPr id="162" name="Oval 35"/>
            <p:cNvSpPr/>
            <p:nvPr/>
          </p:nvSpPr>
          <p:spPr>
            <a:xfrm>
              <a:off x="785880" y="8571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6"/>
            <p:cNvGrpSpPr/>
            <p:nvPr/>
          </p:nvGrpSpPr>
          <p:grpSpPr>
            <a:xfrm>
              <a:off x="798840" y="866520"/>
              <a:ext cx="585720" cy="586080"/>
              <a:chOff x="798840" y="866520"/>
              <a:chExt cx="585720" cy="586080"/>
            </a:xfrm>
          </p:grpSpPr>
          <p:sp>
            <p:nvSpPr>
              <p:cNvPr id="164" name="Oval 37"/>
              <p:cNvSpPr/>
              <p:nvPr/>
            </p:nvSpPr>
            <p:spPr>
              <a:xfrm>
                <a:off x="798840" y="86652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8"/>
              <p:cNvSpPr/>
              <p:nvPr/>
            </p:nvSpPr>
            <p:spPr>
              <a:xfrm>
                <a:off x="806760" y="86976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9"/>
              <p:cNvSpPr/>
              <p:nvPr/>
            </p:nvSpPr>
            <p:spPr>
              <a:xfrm>
                <a:off x="812880" y="8744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40"/>
              <p:cNvSpPr/>
              <p:nvPr/>
            </p:nvSpPr>
            <p:spPr>
              <a:xfrm>
                <a:off x="843120" y="8902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Text Box 41"/>
          <p:cNvSpPr/>
          <p:nvPr/>
        </p:nvSpPr>
        <p:spPr>
          <a:xfrm>
            <a:off x="85716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oup 55" descr=""/>
          <p:cNvPicPr/>
          <p:nvPr/>
        </p:nvPicPr>
        <p:blipFill>
          <a:blip r:embed="rId2"/>
          <a:stretch/>
        </p:blipFill>
        <p:spPr>
          <a:xfrm>
            <a:off x="768240" y="3767040"/>
            <a:ext cx="8101080" cy="260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0"/>
          <p:cNvGrpSpPr/>
          <p:nvPr/>
        </p:nvGrpSpPr>
        <p:grpSpPr>
          <a:xfrm>
            <a:off x="785880" y="3929040"/>
            <a:ext cx="611280" cy="608040"/>
            <a:chOff x="785880" y="3929040"/>
            <a:chExt cx="611280" cy="608040"/>
          </a:xfrm>
        </p:grpSpPr>
        <p:sp>
          <p:nvSpPr>
            <p:cNvPr id="171" name="Oval 61"/>
            <p:cNvSpPr/>
            <p:nvPr/>
          </p:nvSpPr>
          <p:spPr>
            <a:xfrm>
              <a:off x="785880" y="39290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2"/>
            <p:cNvGrpSpPr/>
            <p:nvPr/>
          </p:nvGrpSpPr>
          <p:grpSpPr>
            <a:xfrm>
              <a:off x="798840" y="3938400"/>
              <a:ext cx="585720" cy="586080"/>
              <a:chOff x="798840" y="3938400"/>
              <a:chExt cx="585720" cy="586080"/>
            </a:xfrm>
          </p:grpSpPr>
          <p:sp>
            <p:nvSpPr>
              <p:cNvPr id="173" name="Oval 63"/>
              <p:cNvSpPr/>
              <p:nvPr/>
            </p:nvSpPr>
            <p:spPr>
              <a:xfrm>
                <a:off x="798840" y="393840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64"/>
              <p:cNvSpPr/>
              <p:nvPr/>
            </p:nvSpPr>
            <p:spPr>
              <a:xfrm>
                <a:off x="806760" y="394164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65"/>
              <p:cNvSpPr/>
              <p:nvPr/>
            </p:nvSpPr>
            <p:spPr>
              <a:xfrm>
                <a:off x="812880" y="39463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66"/>
              <p:cNvSpPr/>
              <p:nvPr/>
            </p:nvSpPr>
            <p:spPr>
              <a:xfrm>
                <a:off x="843120" y="39621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67"/>
          <p:cNvSpPr/>
          <p:nvPr/>
        </p:nvSpPr>
        <p:spPr>
          <a:xfrm>
            <a:off x="857160" y="4000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8"/>
          <p:cNvSpPr/>
          <p:nvPr/>
        </p:nvSpPr>
        <p:spPr>
          <a:xfrm>
            <a:off x="1428840" y="928800"/>
            <a:ext cx="72864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невротический синдром  в восстановительном периоде перинатального поражения  преимущественно наблюдается у детей, имевших легкую форму поражения центральной нервной систем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1428840" y="4000680"/>
            <a:ext cx="7358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стено-невротический синдром, как последствие перенесенного перинатального поражения ЦНС, проявляется у более  старших детей повышенной утомляемостью и истощаемость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8"/>
          <p:cNvGrpSpPr/>
          <p:nvPr/>
        </p:nvGrpSpPr>
        <p:grpSpPr>
          <a:xfrm>
            <a:off x="214200" y="1000080"/>
            <a:ext cx="8429400" cy="5509080"/>
            <a:chOff x="214200" y="1000080"/>
            <a:chExt cx="8429400" cy="5509080"/>
          </a:xfrm>
        </p:grpSpPr>
        <p:sp>
          <p:nvSpPr>
            <p:cNvPr id="181" name="Oval 10"/>
            <p:cNvSpPr/>
            <p:nvPr/>
          </p:nvSpPr>
          <p:spPr>
            <a:xfrm>
              <a:off x="513000" y="2019600"/>
              <a:ext cx="2414520" cy="35492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499680" y="2501280"/>
              <a:ext cx="2429280" cy="2500920"/>
              <a:chOff x="499680" y="2501280"/>
              <a:chExt cx="2429280" cy="2500920"/>
            </a:xfrm>
          </p:grpSpPr>
          <p:sp>
            <p:nvSpPr>
              <p:cNvPr id="183" name="Oval 12"/>
              <p:cNvSpPr/>
              <p:nvPr/>
            </p:nvSpPr>
            <p:spPr>
              <a:xfrm>
                <a:off x="499680" y="2501280"/>
                <a:ext cx="2429280" cy="2500920"/>
              </a:xfrm>
              <a:prstGeom prst="ellipse">
                <a:avLst/>
              </a:prstGeom>
              <a:gradFill rotWithShape="0">
                <a:gsLst>
                  <a:gs pos="0">
                    <a:srgbClr val="e6f3f1"/>
                  </a:gs>
                  <a:gs pos="100000">
                    <a:srgbClr val="189180"/>
                  </a:gs>
                </a:gsLst>
                <a:lin ang="2700000"/>
              </a:gradFill>
              <a:ln w="38160">
                <a:solidFill>
                  <a:srgbClr val="f8f8f8"/>
                </a:solidFill>
                <a:miter/>
              </a:ln>
              <a:effectLst>
                <a:outerShdw dist="40186" dir="4303641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3"/>
              <p:cNvSpPr/>
              <p:nvPr/>
            </p:nvSpPr>
            <p:spPr>
              <a:xfrm>
                <a:off x="789120" y="2713320"/>
                <a:ext cx="1851120" cy="221364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ba76"/>
                  </a:gs>
                </a:gsLst>
                <a:lin ang="27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4"/>
              <p:cNvSpPr/>
              <p:nvPr/>
            </p:nvSpPr>
            <p:spPr>
              <a:xfrm>
                <a:off x="1130760" y="2972160"/>
                <a:ext cx="1184040" cy="1764720"/>
              </a:xfrm>
              <a:prstGeom prst="ellipse">
                <a:avLst/>
              </a:prstGeom>
              <a:gradFill rotWithShape="0">
                <a:gsLst>
                  <a:gs pos="0">
                    <a:srgbClr val="b25900"/>
                  </a:gs>
                  <a:gs pos="100000">
                    <a:srgbClr val="ff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15"/>
            <p:cNvSpPr/>
            <p:nvPr/>
          </p:nvSpPr>
          <p:spPr>
            <a:xfrm>
              <a:off x="363600" y="1791720"/>
              <a:ext cx="2729880" cy="401904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214200" y="3810240"/>
              <a:ext cx="3015360" cy="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1721880" y="1495080"/>
              <a:ext cx="0" cy="462600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"/>
            <p:cNvGrpSpPr/>
            <p:nvPr/>
          </p:nvGrpSpPr>
          <p:grpSpPr>
            <a:xfrm>
              <a:off x="2205360" y="1770120"/>
              <a:ext cx="288360" cy="420120"/>
              <a:chOff x="2205360" y="1770120"/>
              <a:chExt cx="288360" cy="420120"/>
            </a:xfrm>
          </p:grpSpPr>
          <p:sp>
            <p:nvSpPr>
              <p:cNvPr id="190" name="Oval 19"/>
              <p:cNvSpPr/>
              <p:nvPr/>
            </p:nvSpPr>
            <p:spPr>
              <a:xfrm>
                <a:off x="2205360" y="1770120"/>
                <a:ext cx="288360" cy="420120"/>
              </a:xfrm>
              <a:prstGeom prst="ellipse">
                <a:avLst/>
              </a:prstGeom>
              <a:gradFill rotWithShape="0">
                <a:gsLst>
                  <a:gs pos="0">
                    <a:srgbClr val="bde0db"/>
                  </a:gs>
                  <a:gs pos="100000">
                    <a:srgbClr val="189180"/>
                  </a:gs>
                </a:gsLst>
                <a:lin ang="27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0"/>
              <p:cNvSpPr/>
              <p:nvPr/>
            </p:nvSpPr>
            <p:spPr>
              <a:xfrm>
                <a:off x="2227680" y="1805400"/>
                <a:ext cx="238320" cy="35280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ae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21"/>
            <p:cNvSpPr/>
            <p:nvPr/>
          </p:nvSpPr>
          <p:spPr>
            <a:xfrm>
              <a:off x="2525040" y="1000080"/>
              <a:ext cx="6032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раздражительность, склонность к переживаниям, перепады настроения, нарушения сна и аппетита, сниженная работоспособность, головокружения, головные бо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2"/>
            <p:cNvSpPr/>
            <p:nvPr/>
          </p:nvSpPr>
          <p:spPr>
            <a:xfrm>
              <a:off x="3340080" y="3377520"/>
              <a:ext cx="53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фобии - страх толпы, страх закрытого помещения или большого пространства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"/>
            <p:cNvSpPr/>
            <p:nvPr/>
          </p:nvSpPr>
          <p:spPr>
            <a:xfrm>
              <a:off x="3067920" y="2387160"/>
              <a:ext cx="5575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тахикардия, ощущение нехватки воздуха, а также острые боли в области серд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4"/>
            <p:cNvSpPr/>
            <p:nvPr/>
          </p:nvSpPr>
          <p:spPr>
            <a:xfrm>
              <a:off x="3067920" y="4468680"/>
              <a:ext cx="5572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боли в шее, могут быть нервные тики, судороги в руках и ногах, нарушена чувствительность и 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5"/>
            <p:cNvSpPr/>
            <p:nvPr/>
          </p:nvSpPr>
          <p:spPr>
            <a:xfrm>
              <a:off x="2572200" y="5500440"/>
              <a:ext cx="543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дети могут причинять себе боль, бьются головой и падают на землю, крич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570960" y="3000600"/>
              <a:ext cx="22867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b3dc27"/>
                  </a:solidFill>
                  <a:latin typeface="Constantia"/>
                  <a:ea typeface="Times New Roman"/>
                </a:rPr>
                <a:t>Проявления астено-невротического синдром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2809080" y="2642760"/>
              <a:ext cx="288360" cy="420120"/>
              <a:chOff x="2809080" y="2642760"/>
              <a:chExt cx="288360" cy="420120"/>
            </a:xfrm>
          </p:grpSpPr>
          <p:sp>
            <p:nvSpPr>
              <p:cNvPr id="199" name="Oval 28"/>
              <p:cNvSpPr/>
              <p:nvPr/>
            </p:nvSpPr>
            <p:spPr>
              <a:xfrm>
                <a:off x="2809080" y="2642760"/>
                <a:ext cx="288360" cy="420120"/>
              </a:xfrm>
              <a:prstGeom prst="ellipse">
                <a:avLst/>
              </a:prstGeom>
              <a:gradFill rotWithShape="0">
                <a:gsLst>
                  <a:gs pos="0">
                    <a:srgbClr val="bde0db"/>
                  </a:gs>
                  <a:gs pos="100000">
                    <a:srgbClr val="189180"/>
                  </a:gs>
                </a:gsLst>
                <a:lin ang="27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9"/>
              <p:cNvSpPr/>
              <p:nvPr/>
            </p:nvSpPr>
            <p:spPr>
              <a:xfrm>
                <a:off x="2833200" y="2678040"/>
                <a:ext cx="238320" cy="35280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ae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0"/>
            <p:cNvGrpSpPr/>
            <p:nvPr/>
          </p:nvGrpSpPr>
          <p:grpSpPr>
            <a:xfrm>
              <a:off x="3006000" y="3594240"/>
              <a:ext cx="288360" cy="419760"/>
              <a:chOff x="3006000" y="3594240"/>
              <a:chExt cx="288360" cy="419760"/>
            </a:xfrm>
          </p:grpSpPr>
          <p:sp>
            <p:nvSpPr>
              <p:cNvPr id="202" name="Oval 31"/>
              <p:cNvSpPr/>
              <p:nvPr/>
            </p:nvSpPr>
            <p:spPr>
              <a:xfrm>
                <a:off x="3006000" y="3594240"/>
                <a:ext cx="288360" cy="419760"/>
              </a:xfrm>
              <a:prstGeom prst="ellipse">
                <a:avLst/>
              </a:prstGeom>
              <a:gradFill rotWithShape="0">
                <a:gsLst>
                  <a:gs pos="0">
                    <a:srgbClr val="bde0db"/>
                  </a:gs>
                  <a:gs pos="100000">
                    <a:srgbClr val="189180"/>
                  </a:gs>
                </a:gsLst>
                <a:lin ang="27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2"/>
              <p:cNvSpPr/>
              <p:nvPr/>
            </p:nvSpPr>
            <p:spPr>
              <a:xfrm>
                <a:off x="3031560" y="3629520"/>
                <a:ext cx="237240" cy="35244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ae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3"/>
            <p:cNvGrpSpPr/>
            <p:nvPr/>
          </p:nvGrpSpPr>
          <p:grpSpPr>
            <a:xfrm>
              <a:off x="2801160" y="4604040"/>
              <a:ext cx="288000" cy="420120"/>
              <a:chOff x="2801160" y="4604040"/>
              <a:chExt cx="288000" cy="420120"/>
            </a:xfrm>
          </p:grpSpPr>
          <p:sp>
            <p:nvSpPr>
              <p:cNvPr id="205" name="Oval 34"/>
              <p:cNvSpPr/>
              <p:nvPr/>
            </p:nvSpPr>
            <p:spPr>
              <a:xfrm>
                <a:off x="2801160" y="4604040"/>
                <a:ext cx="288000" cy="420120"/>
              </a:xfrm>
              <a:prstGeom prst="ellipse">
                <a:avLst/>
              </a:prstGeom>
              <a:gradFill rotWithShape="0">
                <a:gsLst>
                  <a:gs pos="0">
                    <a:srgbClr val="bde0db"/>
                  </a:gs>
                  <a:gs pos="100000">
                    <a:srgbClr val="189180"/>
                  </a:gs>
                </a:gsLst>
                <a:lin ang="27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5"/>
              <p:cNvSpPr/>
              <p:nvPr/>
            </p:nvSpPr>
            <p:spPr>
              <a:xfrm>
                <a:off x="2825280" y="4635720"/>
                <a:ext cx="238320" cy="35280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ae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6"/>
            <p:cNvGrpSpPr/>
            <p:nvPr/>
          </p:nvGrpSpPr>
          <p:grpSpPr>
            <a:xfrm>
              <a:off x="2270160" y="5374440"/>
              <a:ext cx="288360" cy="419760"/>
              <a:chOff x="2270160" y="5374440"/>
              <a:chExt cx="288360" cy="419760"/>
            </a:xfrm>
          </p:grpSpPr>
          <p:sp>
            <p:nvSpPr>
              <p:cNvPr id="208" name="Oval 37"/>
              <p:cNvSpPr/>
              <p:nvPr/>
            </p:nvSpPr>
            <p:spPr>
              <a:xfrm>
                <a:off x="2270160" y="5374440"/>
                <a:ext cx="288360" cy="419760"/>
              </a:xfrm>
              <a:prstGeom prst="ellipse">
                <a:avLst/>
              </a:prstGeom>
              <a:gradFill rotWithShape="0">
                <a:gsLst>
                  <a:gs pos="0">
                    <a:srgbClr val="bde0db"/>
                  </a:gs>
                  <a:gs pos="100000">
                    <a:srgbClr val="189180"/>
                  </a:gs>
                </a:gsLst>
                <a:lin ang="27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38"/>
              <p:cNvSpPr/>
              <p:nvPr/>
            </p:nvSpPr>
            <p:spPr>
              <a:xfrm>
                <a:off x="2291760" y="5409720"/>
                <a:ext cx="237960" cy="352080"/>
              </a:xfrm>
              <a:prstGeom prst="ellipse">
                <a:avLst/>
              </a:prstGeom>
              <a:gradFill rotWithShape="0">
                <a:gsLst>
                  <a:gs pos="0">
                    <a:srgbClr val="ff7f00"/>
                  </a:gs>
                  <a:gs pos="100000">
                    <a:srgbClr val="ffae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1:41:50Z</dcterms:created>
  <dc:creator>Admin</dc:creator>
  <dc:description/>
  <dc:language>en-US</dc:language>
  <cp:lastModifiedBy>Admin</cp:lastModifiedBy>
  <dcterms:modified xsi:type="dcterms:W3CDTF">2014-02-24T14:39:06Z</dcterms:modified>
  <cp:revision>77</cp:revision>
  <dc:subject/>
  <dc:title>Астено-невротический синдром.  Задержка речевого развития.</dc:title>
</cp:coreProperties>
</file>