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AA7-BC26-4751-97F0-3E29DAAA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18BF-C3D8-4D4E-9326-B5F3DA9F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4140-0938-49B9-8359-32F6F76F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276-D352-4A5B-B6D8-999EEC39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0B89-A28A-49EE-8157-0398C952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D423-B98E-46A5-89F9-6B73CBBD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42F1-7D82-4BDC-AA5D-380BEB2F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D773-5638-47AF-B4F7-512A9198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3B57-7175-4CE5-ABF1-5F319B0A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CA06-A903-43D8-85EF-05822BE3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9E9A-2C29-4424-968A-1A6CB4BE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E88-51D2-4885-986F-9C10A26D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F681-063E-43A7-B158-E4602232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1C1D-A54D-47D6-8DC5-BE4EBDB3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8CFF-43E8-4100-8117-4FA8563C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16B1-58EC-4E9B-BBB4-7639F4C9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3C7E-1019-4348-A374-02004284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31F7-AAC8-41B3-B893-778C1C0F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826-B9CE-4A77-B43E-CCBAD8C7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9A04-8AEF-4270-8A7E-3A897FCC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37AA-7996-4391-8B6D-61930B18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DFBD-AA39-48A3-8BF1-84E801E4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6D8F-6542-4D93-B637-A5312B2A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7FF-228D-42B5-8E09-D7EAF4BD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efe"/>
              </a:gs>
              <a:gs pos="100000">
                <a:srgbClr val="fee9de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FC00-3FC9-4AD9-9EB7-E6D2BDF6F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43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9f7"/>
              </a:gs>
              <a:gs pos="100000">
                <a:srgbClr val="fee9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7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1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8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66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7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3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CBA5-AD6B-48DE-951C-56AA01EB0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82296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3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Лечебная физкультура и медицинский массаж при бронхиальной астме»</a:t>
            </a:r>
            <a:br>
              <a:rPr sz="34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Инструктор-методист по ЛФК ОР №1</a:t>
            </a:r>
            <a:br>
              <a:rPr sz="2500"/>
            </a:br>
            <a:r>
              <a:rPr b="1" lang="ru-RU" sz="2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Бушина Екатерина Александровна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0" name="Picture 4" descr="ОПСА"/>
          <p:cNvPicPr/>
          <p:nvPr/>
        </p:nvPicPr>
        <p:blipFill>
          <a:blip r:embed="rId1"/>
          <a:stretch/>
        </p:blipFill>
        <p:spPr>
          <a:xfrm>
            <a:off x="428760" y="4143240"/>
            <a:ext cx="1143000" cy="16257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" descr="\\S01\документы\Школа массажа\ШрейдерТФ\Документация\логотип.jpg"/>
          <p:cNvPicPr/>
          <p:nvPr/>
        </p:nvPicPr>
        <p:blipFill>
          <a:blip r:embed="rId2"/>
          <a:stretch/>
        </p:blipFill>
        <p:spPr>
          <a:xfrm>
            <a:off x="7500960" y="142920"/>
            <a:ext cx="109548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Диафрагмальное дыхание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42560" y="1214280"/>
            <a:ext cx="50007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полняется в исходном положении сидя на стуле, с опущенными вдоль туловища руками и расслабленными мышцами шеи и плечевого пояса. Во время выдоха брюшная стенка втягивается, а во время вдоха выпячивается, верхние отделы грудной клетки остаются неподвиж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http://img0.liveinternet.ru/images/attach/c/3/74/969/74969930_img_004.jpg"/>
          <p:cNvPicPr/>
          <p:nvPr/>
        </p:nvPicPr>
        <p:blipFill>
          <a:blip r:embed="rId1"/>
          <a:stretch/>
        </p:blipFill>
        <p:spPr>
          <a:xfrm>
            <a:off x="5000760" y="1911240"/>
            <a:ext cx="38574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ренировки с волевой регуляцией дыхания пациенту рекомендуется проводить 4-6 раз в день по 5-10 мин. Продолжительность вдоха и выдоха зависит от состояния больного. По мере улучшения состояния и овладения навыками расслабления мышц рекомендуется удлинять выдох и апноэ после н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отношение времени вдоха к выдоху доводится до 1:2, 1:2,5. Оптимальной частотой дыхания является 9-12 в 1 минуту (1,5-2 с – вдох, 3-3,5 с – выдох, 1-2 с – пауз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стизометрическая релаксация мышц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ствует расслаблению ротаторов шеи, верхних порций трапециевидных мышц, разгибателей шейного отдела позвоночника, подостных мыш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ледствием расслабления основной и вспомогательной дыхательной мускулатуры является повышение подвижности грудной клетки, способствующее пассивному выдоху и расслаблению гладких мышц бронхов (моторно-висцеральный рефлекс), облегчение выведения мокроты и уменьшение энергетических затрат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дренирующие упражнения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5" name="Содержимое 3" descr="d5bf98e078de.gif"/>
          <p:cNvPicPr/>
          <p:nvPr/>
        </p:nvPicPr>
        <p:blipFill>
          <a:blip r:embed="rId1"/>
          <a:stretch/>
        </p:blipFill>
        <p:spPr>
          <a:xfrm>
            <a:off x="1428840" y="1357200"/>
            <a:ext cx="569124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ля поддержания и улучшения деятельности сердечнососудистой системы, кроме упражнений в расслаблении мышц и дыхательных упражнений, применяются упражнения для дистальных отделов конечностей и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ренировки на велоэргометре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аэробном режиме с нагрузкой 0,5 Вт/кг в течение 5-10 мин. (60 об./мин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СС может возрастать не более, чем на 8-10 уд./мин. Критерием правильности выполнения упражнений является отсутствие или значительное уменьшение бронхоспаз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итерием перевода пациентов на 2-й этап является улучшение общего состояния, урежение приступов, увеличение односекундного объема форсированного выдоха (ОФВ</a:t>
            </a:r>
            <a:r>
              <a:rPr b="0" lang="ru-RU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– до 70-75% от должной величи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пробы Тиффно – до 50-55%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пробы Генчи – до 20 с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повышение насыщения крови кислородом до 92-93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840" y="785880"/>
            <a:ext cx="847260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ми задачами этого этапа являются: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альнейшее улучшение вентиляции легких и деятельности сердечно-сосудистой системы путем устранения мышечного дисбаланс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лучшения дренирования бронхов, увеличения подвижности грудной клет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ренировки кардиальных и экстракардиальных факторов кровообра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 3-й этап переводятся пациенты при значительном уменьшении мышечного дисбаланса, при увеличении ОФВ</a:t>
            </a:r>
            <a:r>
              <a:rPr b="0" lang="ru-RU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до 75-80% от должн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бы Генчи - до 25-30 с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ндекса Тиффно – до 60-65%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сыщения крови кислородом – до 93-96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3 этап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дачами этого этапа лечения являются повышение функции внешнего дыхания, сердечнососудистой системы, толерантности к физической нагрузке и максимально возможного устранения мышечного дисбалан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32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критерии перевода больных на 4-й период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 Удовлетворительное состояние, отсутствие приступов удушь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Хорошая переносимость привычных физических нагруз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 Увеличение ОФВ</a:t>
            </a:r>
            <a:r>
              <a:rPr b="0" lang="ru-RU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– более 80% от долж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Увеличение индекса Тиффно – более 65%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. Удлинение времени задержки дыхания (пробы Генчи) – более 30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лечебные задачи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 Обучение пациента купированию или облегчению приступа удушья путем расслабления напряженных мышц рук, плечевого пояса и ше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волевой регуляции дыхания (короткий и поверхностный вдох, медленный пассивный выдох с последующей задержкой дыхания до первого желания вдохнуть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тренировка нижнегрудного и брюшного дыхания; дренирования бронх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задачи 4 этапа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тренировка функций органов дыхания и кровообра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устранение мышечного дисбаланс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повышение толерантности к физическим нагруз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5840" y="92844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после курса массажа отмечаются следующие эффекты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сстанавливается бронхиальная проходим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начительно уменьшаются или проходят признаки экспираторного сужения дыхательных пут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стояние аппарата вентиляции становится в пределах норм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жизненная емкость легких устанавливается в пределах условной но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5840" y="78552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адачи массажа при бронхиальной астме: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 Улучшение функционального состояния дыхательной системы за счет увеличения подвижности реб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Улучшение функции дыхательной мускул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 Улучшение обменно-трофических процессов в легочной тка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ровень истинного функционального состояния пациента с бронхиальной астмой проявляется в следующ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в ЦНС преобладание процессов возбуж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в ВНС (автономная система) преобладание симпатического отде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в дыхательной системе увеличение частоты дыхания, бронхообструк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в нервно-мышечном аппарате гипертонус мышечных групп плечевого пояса, спины, груди, дыхательной мускул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сходя из уровня истинного функционального состояния пациента,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правленность массажа будет релаксирующая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читывая места концентрации рефлекторных изменений и принцип «не навреди», выбираем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ариант работы второй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преимущественное воздействие на соединительнотканные структуры плечевого пояса, грудного отдела позвоночника, груд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 работе первым или третьим вариантом существует так называемый </a:t>
            </a:r>
            <a:r>
              <a:rPr b="0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«тонизирующий компонент»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релаксирующей направл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н связан с разминанием мышечных групп в интервале от 2 до 6 мин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 больного бронхиальной астмой это может спровоцировать приступ удушья, поэтому как наиболее безопасный вариант мы выбираем вто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абочие сегменты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 Грудной отдел позвоноч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Шейный отдел позвоноч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 Со стороны груд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спользуемые приемы: поглаживание, выжимание, вибрация – 1,5-2 мин., разминание (финским стилем) – 2-6 мин. на рабочем сегмен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щее время массажа от 10,5 (минимальное) до 24 минут (максимально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5840" y="2285640"/>
            <a:ext cx="82296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асибо за внимание!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1" name="Picture 4" descr="ОПСА"/>
          <p:cNvPicPr/>
          <p:nvPr/>
        </p:nvPicPr>
        <p:blipFill>
          <a:blip r:embed="rId1"/>
          <a:stretch/>
        </p:blipFill>
        <p:spPr>
          <a:xfrm>
            <a:off x="428760" y="4143240"/>
            <a:ext cx="1143000" cy="162576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" descr="\\S01\документы\Школа массажа\ШрейдерТФ\Документация\логотип.jpg"/>
          <p:cNvPicPr/>
          <p:nvPr/>
        </p:nvPicPr>
        <p:blipFill>
          <a:blip r:embed="rId2"/>
          <a:stretch/>
        </p:blipFill>
        <p:spPr>
          <a:xfrm>
            <a:off x="7500960" y="142920"/>
            <a:ext cx="109548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лечебные задачи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71320" y="1143000"/>
            <a:ext cx="84294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Обучение пациента произвольной регуляции дыхания в межприступном периоде путем расслабления напряженных мышц рук, плечевого пояса, шеи, лица, туловища, ног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волевой регуляции дыхания; развития ритмичного дыхания сначала с постепенным углублением и удлинением выдоха, а затем, по мере устранения признаков обструкции бронхов, восстановления нормального соотношения фаз вдоха и выдох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увеличения дыхательных экскурсий диафрагмы; устранения эмоциональной напряж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лечебные задачи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 Развитие компенсаторных возможностей дыхательной системы пациента, обеспечивающих вентиляцию легких и нормализацию газообмена путем укрепления дыхательной мускулатуры и тренировки вялых и ослабленных мышц туловища и конечност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увеличения экскурсии грудной клетки и подвижности позвоночника; коррекции оса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лечебные задачи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Улучшение функционального состояния сердечнососудистой системы пациента путем увеличения кровотока в мышцах и повышения утилизации кислорода тканя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снижения общего периферического сосудистого сопротивл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тренировки кардиальных и экстракардиальных факторов кровообра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лечебные задачи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. Повышение защитных свойств организма с помощью закали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. Повышение толерантности к физическим нагрузкам и выносливости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85816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ротивопоказания к назначению лечебной физкультуры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трый период заболевания бронхолегоч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исте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 высокая температура те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 при кровотеч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 легочно-сердечная недостаточность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I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II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тепе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 «легочном сердце» с симптом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екомпенс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 онкологические заболе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325080"/>
            <a:ext cx="8686800" cy="5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с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редства лечебной физкультуры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928440"/>
            <a:ext cx="871524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ыхательные упражнения с удлиненным и ступенчат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длиненным выдохом, так называем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саккадированное дыхание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ыхательные упражнения с произнесением на выдох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яда дрожащих, шипящих и свистящих звук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ыхательные упражнения с урежением и задерж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ыхания на выдох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изические упражнения для мышц верх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ечностей и грудной клет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ренажные упражнения; корригирующие упражн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основные задачи 1-го этапа: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учение пациента поведению во время приступа и волевой регуляции дыхания, повышение альвеолярной вентиляции путем снижения напряжения дыхательных мышц, улучшения проходимости ВДП и вентиляции нижних отделов легки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нижение мышечного дисбаланса за счет релаксации напряженных мышц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лучшение деятельности сердечно-сосудистой системы и уменьшение эмоционального напря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7T12:58:12Z</dcterms:created>
  <dc:creator>Admin</dc:creator>
  <dc:description/>
  <dc:language>en-US</dc:language>
  <cp:lastModifiedBy>Sveta</cp:lastModifiedBy>
  <dcterms:modified xsi:type="dcterms:W3CDTF">2014-05-27T14:39:42Z</dcterms:modified>
  <cp:revision>21</cp:revision>
  <dc:subject/>
  <dc:title>ThemeGallery PowerTemplate</dc:title>
</cp:coreProperties>
</file>