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8F25-9BCD-41F9-9193-02599289C5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8A48-DDFD-4AF2-831A-968BE6347B9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48A-9F65-4DF7-8CDD-9C9328A5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9A7-5CBA-41BA-9AA7-17AC57D0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2B1-AC4C-47A7-B277-03C2D2A3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2BD-6B4E-4FD6-B9BC-635377C1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52B8-DCEE-4037-8B77-A3B39FA8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8686-9C38-439F-B7C0-C125A6C4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6318-EA6E-4C79-8646-D1634546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7170-8C51-4EC2-94BB-F1CA10BC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CA1A-101A-4A57-8EE0-61FF6751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9E31-C7F0-4BA4-AFF8-06272501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AE52-D988-452B-995F-9F5D3D55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8BF-1BB7-4504-8617-9348A2EE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527A-C2F3-4F03-A607-0095D48D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A530-86E4-4520-8C70-7DAFD71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DE27-BD7D-415D-84FF-F567985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4DCC-758B-4ACE-9EF0-308D1461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2FB8-8B78-4ADD-B1E1-6B9F0830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537-C41B-4A82-AF34-ABF96CE4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CE4-1E56-4D2D-A601-844873CF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8C2-C1DB-4D6F-83EE-F892CD27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B30-858A-47D1-9587-AB0DEB98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540-5CB8-4833-93FA-C35206B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05E-E93A-4DE1-A006-C74E56E6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F43-23FB-4B3C-A635-129284C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190D-1723-4448-A9BF-10C0BB17120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1D12-82FF-41E7-B1E1-D004C37FD13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86;&#1088;&#1089;&#1082;&#1080;&#1077;%20&#1082;&#1091;&#1088;&#1086;&#1088;&#1090;&#1099;%20&#1088;&#1086;&#1089;&#1089;&#1080;&#1080;&amp;img_url=http://cs309530.userapi.com/v309530321/6e2/_OrDrZNwuFE.jpg&amp;pos=6&amp;uinfo=ww-1008-wh-637-fw-783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160" y="2786040"/>
            <a:ext cx="42562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Bookman Old Style"/>
              </a:rPr>
              <a:t>Медицинская сест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Bookman Old Style"/>
              </a:rPr>
              <a:t>по физиотерапии </a:t>
            </a:r>
            <a:r>
              <a:rPr b="1" lang="ru-RU" sz="2400" spc="-1" strike="noStrike">
                <a:solidFill>
                  <a:srgbClr val="006666"/>
                </a:solidFill>
                <a:latin typeface="Bookman Old Style"/>
              </a:rPr>
              <a:t>Евлантьев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Bookman Old Style"/>
              </a:rPr>
              <a:t>Ольга Викторо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Bookman Old Style"/>
              </a:rPr>
              <a:t>Физиотерапия </a:t>
            </a:r>
            <a:br>
              <a:rPr sz="4000"/>
            </a:br>
            <a:r>
              <a:rPr b="1" i="1" lang="ru-RU" sz="4000" spc="-1" strike="noStrike">
                <a:solidFill>
                  <a:srgbClr val="003366"/>
                </a:solidFill>
                <a:latin typeface="Bookman Old Style"/>
              </a:rPr>
              <a:t>при бронхиальной астм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2" descr="C:\Users\НаливайченкоОН\Pictures\Новая папка\Евлантьева.JPG"/>
          <p:cNvPicPr/>
          <p:nvPr/>
        </p:nvPicPr>
        <p:blipFill>
          <a:blip r:embed="rId1"/>
          <a:stretch/>
        </p:blipFill>
        <p:spPr>
          <a:xfrm>
            <a:off x="357120" y="3071880"/>
            <a:ext cx="402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Муколитические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Содержимое 3" descr="http://cvmromsk.ru/site/images/Design/%D1%847.JPG"/>
          <p:cNvPicPr/>
          <p:nvPr/>
        </p:nvPicPr>
        <p:blipFill>
          <a:blip r:embed="rId1"/>
          <a:stretch/>
        </p:blipFill>
        <p:spPr>
          <a:xfrm>
            <a:off x="2000160" y="2714760"/>
            <a:ext cx="5173920" cy="33717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Противовоспалительные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Содержимое 3" descr="http://www.vashezdorovie.com/Image/big/object_11691217_16016.jpg"/>
          <p:cNvPicPr/>
          <p:nvPr/>
        </p:nvPicPr>
        <p:blipFill>
          <a:blip r:embed="rId1"/>
          <a:stretch/>
        </p:blipFill>
        <p:spPr>
          <a:xfrm>
            <a:off x="1143000" y="2428920"/>
            <a:ext cx="3624120" cy="27147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27" name="Содержимое 5" descr="http://medarticle.moslek.ru/images/18380.jpg"/>
          <p:cNvPicPr/>
          <p:nvPr/>
        </p:nvPicPr>
        <p:blipFill>
          <a:blip r:embed="rId2"/>
          <a:stretch/>
        </p:blipFill>
        <p:spPr>
          <a:xfrm>
            <a:off x="5143680" y="3643200"/>
            <a:ext cx="3689280" cy="28720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Противовоспалительные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4" descr="SDC10307"/>
          <p:cNvPicPr/>
          <p:nvPr/>
        </p:nvPicPr>
        <p:blipFill>
          <a:blip r:embed="rId1"/>
          <a:stretch/>
        </p:blipFill>
        <p:spPr>
          <a:xfrm>
            <a:off x="2786040" y="2428920"/>
            <a:ext cx="3227400" cy="41511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Антигипоксические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13880" y="2362320"/>
            <a:ext cx="7929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Рисунок 3" descr="http://ua.convdocs.org/pars_docs/refs/158/157353/157353_html_m28ffac4e.jpg"/>
          <p:cNvPicPr/>
          <p:nvPr/>
        </p:nvPicPr>
        <p:blipFill>
          <a:blip r:embed="rId1"/>
          <a:stretch/>
        </p:blipFill>
        <p:spPr>
          <a:xfrm>
            <a:off x="3071880" y="2428920"/>
            <a:ext cx="3047760" cy="38862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Гормонстимулирующие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 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Picture 14" descr=""/>
          <p:cNvPicPr/>
          <p:nvPr/>
        </p:nvPicPr>
        <p:blipFill>
          <a:blip r:embed="rId1"/>
          <a:stretch/>
        </p:blipFill>
        <p:spPr>
          <a:xfrm>
            <a:off x="1285920" y="2500200"/>
            <a:ext cx="4214880" cy="37245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35" name="Содержимое 3" descr="http://mmgazeta.ru/03.08.2010/pages/img.aspx?ps=../photos/792-photo.jpg&amp;sW=300"/>
          <p:cNvPicPr/>
          <p:nvPr/>
        </p:nvPicPr>
        <p:blipFill>
          <a:blip r:embed="rId2"/>
          <a:stretch/>
        </p:blipFill>
        <p:spPr>
          <a:xfrm>
            <a:off x="6072120" y="2500200"/>
            <a:ext cx="2500560" cy="371484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Миостимулирующие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Содержимое 3" descr="IMGP8097"/>
          <p:cNvPicPr/>
          <p:nvPr/>
        </p:nvPicPr>
        <p:blipFill>
          <a:blip r:embed="rId1"/>
          <a:stretch/>
        </p:blipFill>
        <p:spPr>
          <a:xfrm>
            <a:off x="2571840" y="2857680"/>
            <a:ext cx="3984480" cy="298584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Гипосенсибилизирующие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Рисунок 4" descr="http://med-yug.ru/upload/shop_1/1/6/5/item_1651/shop_items_catalog_image1651.jpg"/>
          <p:cNvPicPr/>
          <p:nvPr/>
        </p:nvPicPr>
        <p:blipFill>
          <a:blip r:embed="rId1"/>
          <a:stretch/>
        </p:blipFill>
        <p:spPr>
          <a:xfrm>
            <a:off x="2757600" y="2362320"/>
            <a:ext cx="3854160" cy="37242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Иммуномодулирующие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Picture 4" descr="C:\Users\НаливайченкоОН\Pictures\Новая папка\Биоптрон -2.JPG"/>
          <p:cNvPicPr/>
          <p:nvPr/>
        </p:nvPicPr>
        <p:blipFill>
          <a:blip r:embed="rId1"/>
          <a:stretch/>
        </p:blipFill>
        <p:spPr>
          <a:xfrm>
            <a:off x="2571840" y="2714760"/>
            <a:ext cx="4306680" cy="322884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Иммуномодулирующие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Picture 7" descr="krioter1"/>
          <p:cNvPicPr/>
          <p:nvPr/>
        </p:nvPicPr>
        <p:blipFill>
          <a:blip r:embed="rId1"/>
          <a:stretch/>
        </p:blipFill>
        <p:spPr>
          <a:xfrm>
            <a:off x="2786040" y="2428920"/>
            <a:ext cx="3724200" cy="37242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000" spc="-1" strike="noStrike">
                <a:solidFill>
                  <a:srgbClr val="003366"/>
                </a:solidFill>
                <a:latin typeface="Bookman Old Style"/>
              </a:rPr>
              <a:t>Вегетокорригирующие методы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5" descr="http://www.turfoto.by/images/users/1/426/33666_medium.jpg"/>
          <p:cNvPicPr/>
          <p:nvPr/>
        </p:nvPicPr>
        <p:blipFill>
          <a:blip r:embed="rId1"/>
          <a:stretch/>
        </p:blipFill>
        <p:spPr>
          <a:xfrm>
            <a:off x="1928880" y="2786040"/>
            <a:ext cx="4898880" cy="325764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Бронхиальная астма -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роническое воспалительное заболе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ыхательных путей, в котором приним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астие ряд клеток, особенно тучные клетк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озинофилы, макрофаги, Т- лимфоци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Седативные 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9" descr="sleep"/>
          <p:cNvPicPr/>
          <p:nvPr/>
        </p:nvPicPr>
        <p:blipFill>
          <a:blip r:embed="rId1"/>
          <a:stretch/>
        </p:blipFill>
        <p:spPr>
          <a:xfrm>
            <a:off x="884160" y="2968560"/>
            <a:ext cx="3730680" cy="496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P1150999"/>
          <p:cNvPicPr/>
          <p:nvPr/>
        </p:nvPicPr>
        <p:blipFill>
          <a:blip r:embed="rId2"/>
          <a:stretch/>
        </p:blipFill>
        <p:spPr>
          <a:xfrm>
            <a:off x="5029200" y="2968560"/>
            <a:ext cx="3859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Противопоказания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 для назначения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иальная астма с часто повторяющимися и тяжелыми приступам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иальная астма с купируемыми приступами средней тяжести, без стойкой стабилизации процесс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онтанный пневмоторакс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трые гнойные заболевания легки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Противопоказания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 для назначения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омбоэмболия легочной артер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литарные кисты большой величины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ронический абсцесс легких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щие противопоказания к назначению физических методов ле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Санаторно-курортное лечени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Содержимое 4" descr="http://im1-tub-ru.yandex.net/i?id=335333347-3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2928960"/>
            <a:ext cx="4779720" cy="293832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Санаторно-курортное лечени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Содержимое 3" descr="http://img0.liveinternet.ru/images/attach/c/4/81/368/81368280_21024x736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83280" cy="37242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Противопоказания            к санаторно-курортному лечению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иальная астма с часто повторяющими и тяжелыми приступами, а также купируемыми приступами средней тяжести без стойкой стабилизации процесса даже на фоне базисной терап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Противопоказания к санаторно-курортному лечению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иальная астма  с часто повторяющимися и тяжелыми приступами, а также купируемыми приступами средней тяжести, без стойкой стабилизации процесса даже на фоне гормональной терап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Физиопрофилактика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направлена на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2362320"/>
            <a:ext cx="76932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упреждение обострений бронхиальной астм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ышение защитных сил организма путем нормализации вегетативной регуля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меньшение сенсибилизации организма; улучшение дренажной функции бронх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лучшение гормональной функции и состояния Ц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4" descr="095a"/>
          <p:cNvPicPr/>
          <p:nvPr/>
        </p:nvPicPr>
        <p:blipFill>
          <a:blip r:embed="rId1"/>
          <a:stretch/>
        </p:blipFill>
        <p:spPr>
          <a:xfrm rot="17749800">
            <a:off x="6319080" y="4056840"/>
            <a:ext cx="1300320" cy="223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36"/>
          <p:cNvPicPr/>
          <p:nvPr/>
        </p:nvPicPr>
        <p:blipFill>
          <a:blip r:embed="rId2"/>
          <a:stretch/>
        </p:blipFill>
        <p:spPr>
          <a:xfrm rot="20585400">
            <a:off x="5866920" y="4005000"/>
            <a:ext cx="1008360" cy="115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36"/>
          <p:cNvPicPr/>
          <p:nvPr/>
        </p:nvPicPr>
        <p:blipFill>
          <a:blip r:embed="rId3"/>
          <a:stretch/>
        </p:blipFill>
        <p:spPr>
          <a:xfrm flipH="1" rot="1260600">
            <a:off x="1476000" y="2491920"/>
            <a:ext cx="1008000" cy="1152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1835280" y="3141720"/>
            <a:ext cx="65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Bookman Old Style"/>
              </a:rPr>
              <a:t>Благодарю за внимание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xit" presetID="2" presetSubtype="3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3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Основные 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клинические синдромы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оспастическ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спалительны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скриническ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ообтурационны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сгормональны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зиммунны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нсибилизирующ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Основные 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клинические синдромы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14240" y="2349360"/>
            <a:ext cx="791064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сметаболическ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ипоксическ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равномерности вентиляции легки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ышение работы дыхания и утомление дыхательной мускула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86600" y="834120"/>
            <a:ext cx="78278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Задачи физиотерапи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2362320"/>
            <a:ext cx="70916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лиминация причинно-значимых факторов внешней среды и уменьшение последствий их действия в респираторном тракт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имуляция механизмов мукоцилиарного транспорта и неспецифической противоинфекционной защиты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ышение толерантности дыхательных путей к действию экзогенных фактор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43680" y="857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Задачи физиотерапи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214360"/>
            <a:ext cx="7805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нировка  и восстановление собственных компенсаторных возможностей бронхолегочной системы и организма в цело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меньшение выраженности и контроль респираторных симптом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отвращение обострений и достижение максимально полноценной  и длительной ремисс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Задачи физиотерапи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держание функции легких на индивидуальных максимальных величинах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отвращение развития необратимой бронхиальной обструкции и прогрессирования заболе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57880" y="857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Бронхолитические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Содержимое 3" descr="http://www.neboleem.net/images/stories/news1/berodual_h.jpg"/>
          <p:cNvPicPr/>
          <p:nvPr/>
        </p:nvPicPr>
        <p:blipFill>
          <a:blip r:embed="rId1"/>
          <a:stretch/>
        </p:blipFill>
        <p:spPr>
          <a:xfrm>
            <a:off x="1071720" y="2428920"/>
            <a:ext cx="3929040" cy="237492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19" name="Picture 4" descr="SDC10642"/>
          <p:cNvPicPr/>
          <p:nvPr/>
        </p:nvPicPr>
        <p:blipFill>
          <a:blip r:embed="rId2"/>
          <a:stretch/>
        </p:blipFill>
        <p:spPr>
          <a:xfrm>
            <a:off x="5143680" y="3714840"/>
            <a:ext cx="3727440" cy="27954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  <a:ea typeface="Times New Roman"/>
              </a:rPr>
              <a:t>Муколитические </a:t>
            </a:r>
            <a:r>
              <a:rPr b="1" i="1" lang="ru-RU" sz="4000" spc="-1" strike="noStrike">
                <a:solidFill>
                  <a:srgbClr val="006666"/>
                </a:solidFill>
                <a:latin typeface="Bookman Old Style"/>
              </a:rPr>
              <a:t>метод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5" descr="68a8ef2e5edf"/>
          <p:cNvPicPr/>
          <p:nvPr/>
        </p:nvPicPr>
        <p:blipFill>
          <a:blip r:embed="rId1"/>
          <a:stretch/>
        </p:blipFill>
        <p:spPr>
          <a:xfrm>
            <a:off x="1000080" y="2643120"/>
            <a:ext cx="3786120" cy="385776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3" descr="http://www.thietbiytehaison.com/image/cache/data/Omron/may-xong-mui-hong1-e1300781466792-500x500.jpg"/>
          <p:cNvPicPr/>
          <p:nvPr/>
        </p:nvPicPr>
        <p:blipFill>
          <a:blip r:embed="rId2"/>
          <a:stretch/>
        </p:blipFill>
        <p:spPr>
          <a:xfrm>
            <a:off x="4714920" y="2571840"/>
            <a:ext cx="37242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8:06:08Z</dcterms:created>
  <dc:creator>sss</dc:creator>
  <dc:description/>
  <dc:language>en-US</dc:language>
  <cp:lastModifiedBy>НаливайченкоОН</cp:lastModifiedBy>
  <dcterms:modified xsi:type="dcterms:W3CDTF">2014-04-28T02:28:32Z</dcterms:modified>
  <cp:revision>77</cp:revision>
  <dc:subject/>
  <dc:title>Безопасная производственная среда в совершенствовании сестринской помощи пациентам</dc:title>
</cp:coreProperties>
</file>