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7DF-A338-4649-A74C-AE3DB679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240-3EE9-4967-B24A-DACF8E1A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217-B7C5-476C-83EC-BB723127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0B1-D277-48D7-AC94-F9C53846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677A-8CFB-4BF5-9831-E1934B66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760A-C680-4CF1-B212-6A7E4B5A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CB14-2D39-4252-882C-20D5D92B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90C7-54FF-465D-A6E8-38680276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1B70-F0E5-4FB8-9F3E-FB55BA96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845F-A333-4E21-BFEC-A90CF5ED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760B-4201-4BA2-8A78-9E248AB1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3BF-EBD6-40C4-B4E0-D244C14A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DCE6-5DA5-4C9D-A5AD-16A098B5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780B-B514-4A24-ADFB-0CABB9A7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D005-F2DC-41AD-9CDA-6BE01B20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0DB4-FCF5-4831-A6A2-24D02F4E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3165-A073-4F20-B5DE-62547326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8F4-DB14-4FAB-AC8C-26AF571D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90D-3BD4-424B-AB39-81D10220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BCC-3046-41FB-B124-BE1EE881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298-C140-40CC-80DC-21AA5668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849-A8BC-4A24-BE8E-46FC7C40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416-5ACE-460A-9A9C-FBAA8E63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F2E-6448-4882-8C54-F8EA73AD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2720" cy="30096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89080" cy="5324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>
              <a:gd name="textAreaLeft" fmla="*/ 0 w 8970840"/>
              <a:gd name="textAreaRight" fmla="*/ 8971200 w 89708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>
              <a:gd name="textAreaLeft" fmla="*/ 0 w 8975520"/>
              <a:gd name="textAreaRight" fmla="*/ 8975880 w 8975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>
              <a:gd name="textAreaLeft" fmla="*/ 0 w 8956440"/>
              <a:gd name="textAreaRight" fmla="*/ 8956800 w 895644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938520"/>
              <a:gd name="textAreaBottom" fmla="*/ 938880 h 93852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0783-DCE8-4976-A48E-F6A5C34A72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Text Box 37"/>
          <p:cNvSpPr/>
          <p:nvPr/>
        </p:nvSpPr>
        <p:spPr>
          <a:xfrm>
            <a:off x="143280" y="6454800"/>
            <a:ext cx="14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1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" name="Rectangle 30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1" name="Rectangle 31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3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" name="Rectangle 44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5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4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4" name="Rectangle 56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75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76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>
                <a:gd name="textAreaLeft" fmla="*/ 0 w 8931240"/>
                <a:gd name="textAreaRight" fmla="*/ 8931600 w 89312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7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>
                <a:gd name="textAreaLeft" fmla="*/ 0 w 8931240"/>
                <a:gd name="textAreaRight" fmla="*/ 8931600 w 89312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8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>
                <a:gd name="textAreaLeft" fmla="*/ 0 w 2366640"/>
                <a:gd name="textAreaRight" fmla="*/ 2367000 w 23666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6004800" y="1778040"/>
            <a:ext cx="2767680" cy="779040"/>
            <a:chOff x="6004800" y="1778040"/>
            <a:chExt cx="2767680" cy="779040"/>
          </a:xfrm>
        </p:grpSpPr>
        <p:sp>
          <p:nvSpPr>
            <p:cNvPr id="80" name="Freeform 8"/>
            <p:cNvSpPr/>
            <p:nvPr/>
          </p:nvSpPr>
          <p:spPr>
            <a:xfrm rot="10800000">
              <a:off x="8081640" y="1780200"/>
              <a:ext cx="72360" cy="221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1" name="Freeform 9"/>
            <p:cNvSpPr/>
            <p:nvPr/>
          </p:nvSpPr>
          <p:spPr>
            <a:xfrm rot="10800000">
              <a:off x="7346880" y="1778040"/>
              <a:ext cx="85680" cy="2548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2" name="Freeform 10"/>
            <p:cNvSpPr/>
            <p:nvPr/>
          </p:nvSpPr>
          <p:spPr>
            <a:xfrm rot="10800000">
              <a:off x="8116200" y="1780200"/>
              <a:ext cx="277560" cy="38664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3" name="Freeform 11"/>
            <p:cNvSpPr/>
            <p:nvPr/>
          </p:nvSpPr>
          <p:spPr>
            <a:xfrm rot="10800000">
              <a:off x="6168240" y="1780200"/>
              <a:ext cx="272160" cy="3866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 rot="10800000">
              <a:off x="6579360" y="1780200"/>
              <a:ext cx="167400" cy="2419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 rot="10800000">
              <a:off x="6960240" y="1778040"/>
              <a:ext cx="167400" cy="3409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 rot="10800000">
              <a:off x="7794360" y="1778040"/>
              <a:ext cx="315720" cy="65268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 rot="10800000">
              <a:off x="6790680" y="1778040"/>
              <a:ext cx="177120" cy="3848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 rot="10800000">
              <a:off x="8529120" y="1778400"/>
              <a:ext cx="243360" cy="53532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535320"/>
                <a:gd name="textAreaBottom" fmla="*/ 535680 h 535320"/>
              </a:gdLst>
              <a:ahLst/>
              <a:rect l="textAreaLeft" t="textAreaTop" r="textAreaRight" b="textAreaBottom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 rot="10800000">
              <a:off x="6682320" y="1778400"/>
              <a:ext cx="129240" cy="4712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 rot="10800000">
              <a:off x="8359560" y="1778040"/>
              <a:ext cx="211320" cy="779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779040"/>
                <a:gd name="textAreaBottom" fmla="*/ 779400 h 779040"/>
              </a:gdLst>
              <a:ahLst/>
              <a:rect l="textAreaLeft" t="textAreaTop" r="textAreaRight" b="textAreaBottom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 rot="10800000">
              <a:off x="7634520" y="1778040"/>
              <a:ext cx="190080" cy="4183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2" name="Freeform 20"/>
            <p:cNvSpPr/>
            <p:nvPr/>
          </p:nvSpPr>
          <p:spPr>
            <a:xfrm rot="10800000">
              <a:off x="6004800" y="1778040"/>
              <a:ext cx="190080" cy="4183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3" name="Freeform 21"/>
            <p:cNvSpPr/>
            <p:nvPr/>
          </p:nvSpPr>
          <p:spPr>
            <a:xfrm rot="10800000">
              <a:off x="7095600" y="1779840"/>
              <a:ext cx="333000" cy="73692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 rot="10800000">
              <a:off x="7457400" y="1778040"/>
              <a:ext cx="184680" cy="68400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5" name="Freeform 23"/>
            <p:cNvSpPr/>
            <p:nvPr/>
          </p:nvSpPr>
          <p:spPr>
            <a:xfrm rot="10800000">
              <a:off x="6415920" y="1778040"/>
              <a:ext cx="184320" cy="68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96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>
              <a:gd name="textAreaLeft" fmla="*/ 0 w 8977320"/>
              <a:gd name="textAreaRight" fmla="*/ 8977320 w 897732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4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97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98" name="Group 74"/>
          <p:cNvGrpSpPr/>
          <p:nvPr/>
        </p:nvGrpSpPr>
        <p:grpSpPr>
          <a:xfrm>
            <a:off x="85680" y="853920"/>
            <a:ext cx="8982000" cy="1132200"/>
            <a:chOff x="85680" y="853920"/>
            <a:chExt cx="8982000" cy="1132200"/>
          </a:xfrm>
        </p:grpSpPr>
        <p:sp>
          <p:nvSpPr>
            <p:cNvPr id="99" name="Freeform 30"/>
            <p:cNvSpPr/>
            <p:nvPr/>
          </p:nvSpPr>
          <p:spPr>
            <a:xfrm>
              <a:off x="85680" y="1168560"/>
              <a:ext cx="8982000" cy="817560"/>
            </a:xfrm>
            <a:custGeom>
              <a:avLst/>
              <a:gdLst>
                <a:gd name="textAreaLeft" fmla="*/ 0 w 8982000"/>
                <a:gd name="textAreaRight" fmla="*/ 8982360 w 89820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85680" y="853920"/>
              <a:ext cx="8982000" cy="1040040"/>
            </a:xfrm>
            <a:custGeom>
              <a:avLst/>
              <a:gdLst>
                <a:gd name="textAreaLeft" fmla="*/ 0 w 8982000"/>
                <a:gd name="textAreaRight" fmla="*/ 8982360 w 898200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85680" y="1685880"/>
              <a:ext cx="2374920" cy="15552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02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3" name="Rectangle 38"/>
          <p:cNvSpPr/>
          <p:nvPr/>
        </p:nvSpPr>
        <p:spPr>
          <a:xfrm>
            <a:off x="4067280" y="4497480"/>
            <a:ext cx="741240" cy="742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5" name="Rectangle 42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7" name="Text Box 45"/>
          <p:cNvSpPr/>
          <p:nvPr/>
        </p:nvSpPr>
        <p:spPr>
          <a:xfrm>
            <a:off x="175320" y="8431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09" name="Picture 43" descr="1"/>
          <p:cNvPicPr/>
          <p:nvPr/>
        </p:nvPicPr>
        <p:blipFill>
          <a:blip r:embed="rId8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0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62AE-E022-49DA-A295-A31F70B3C5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vse-dlya-vseh.ucoz.ru/zabLegkix/1.gif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edprep.info/img/ail/1377_1377_3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4280" y="2357280"/>
            <a:ext cx="77868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«Бронхиальная астма. Этиология. Патогенез. Клиника. Лечение»</a:t>
            </a:r>
            <a:br>
              <a:rPr sz="2800"/>
            </a:br>
            <a:br>
              <a:rPr sz="2600"/>
            </a:br>
            <a:r>
              <a:rPr b="1" lang="ru-RU" sz="20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Врач-педиатр ОР №1</a:t>
            </a:r>
            <a:br>
              <a:rPr sz="2000"/>
            </a:br>
            <a:r>
              <a:rPr b="1" lang="ru-RU" sz="20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Луканенко Светлана Анатольевна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ОПСА"/>
          <p:cNvPicPr/>
          <p:nvPr/>
        </p:nvPicPr>
        <p:blipFill>
          <a:blip r:embed="rId1"/>
          <a:stretch/>
        </p:blipFill>
        <p:spPr>
          <a:xfrm>
            <a:off x="214200" y="142920"/>
            <a:ext cx="1143000" cy="16254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" descr="\\S01\документы\Школа массажа\ШрейдерТФ\Документация\логотип.jpg"/>
          <p:cNvPicPr/>
          <p:nvPr/>
        </p:nvPicPr>
        <p:blipFill>
          <a:blip r:embed="rId2"/>
          <a:stretch/>
        </p:blipFill>
        <p:spPr>
          <a:xfrm>
            <a:off x="7500960" y="142920"/>
            <a:ext cx="10954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64771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моменты патогенеза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2" descr="http://vse-dlya-vseh.ucoz.ru/zabLegkix/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357200"/>
            <a:ext cx="695484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99800"/>
            <a:ext cx="8229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 u="sng">
                <a:solidFill>
                  <a:srgbClr val="101c56"/>
                </a:solidFill>
                <a:uFillTx/>
                <a:latin typeface="Times New Roman"/>
                <a:ea typeface="Times New Roman"/>
              </a:rPr>
              <a:t>Основным симптомом бронхиальной астмы является приступ удушья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, который возникает как при воздействии на организм </a:t>
            </a:r>
            <a:r>
              <a:rPr b="1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аллергена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, так и при раздражении рецепторов трахеи и бронхов каким-нибудь </a:t>
            </a:r>
            <a:r>
              <a:rPr b="1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неаллергическим фактором 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(холод, резкий запа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риступу предшествует </a:t>
            </a:r>
            <a:r>
              <a:rPr b="0" lang="ru-RU" sz="2800" spc="-1" strike="noStrike" u="sng">
                <a:solidFill>
                  <a:srgbClr val="101c56"/>
                </a:solidFill>
                <a:uFillTx/>
                <a:latin typeface="Times New Roman"/>
                <a:ea typeface="Times New Roman"/>
              </a:rPr>
              <a:t>предастматическая аура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, которая длится от 2-3 часов до 2-3 су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Для нее характер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заложенность но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першение в горл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беспокойство, возбужд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у некоторых угнетение, нарушение с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блеск в глазах, головная бо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тяжесть в гру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42920" y="1438200"/>
            <a:ext cx="38577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Во время приступа больной принимает вынужденное положение – сидя, опираясь на руки, при этом плечи немного подняты и сдвинуты вперед, голова втянута в плечи, грудная клетка расшир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medprep.info/img/ail/1377_1377_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4880" y="2428920"/>
            <a:ext cx="47624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855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ри легкой степени течения заболевания – частота приступов не чаще 1 раза в месяц. Приступы эпизодические, быстро исчезающие, лег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ри средней степени тяжести – частота приступов 3-4 раза в месяц, протекают с отчетливыми нарушениями функции внешнего дых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ри тяжелой степени – частота приступов несколько раз в неделю или ежедневно, тяжелые приступы, астматические состоя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дии астматического статус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1 стадия – приступ удушья не купируется 12 часов и более, общее состояние больного тяжел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2 стадия – формируется «немое легкое», что связано с прогрессированием нарушения дренажной функции бронхов (просвет заполнен слизь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3 стадия – характеризуется резким нарушением деятельности центральной нервной системы с развитием гиперкапнической и гипоксемической ко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647712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ы диагностики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78596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Сбор жалоб и анамне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Объективное обслед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Лабораторные и инструментальные методы диагностики (спирометрия, пикфлоуметрия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37600"/>
            <a:ext cx="67914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цели терапии бронхиальной астмы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78596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ликвидация или смягчение клинических проявлений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уменьшение частоты и выраженности обостр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редотвращение угрожающих жизни состояний и летальных исх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нормализация или улучшение показателей внешнего дых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2560" y="237600"/>
            <a:ext cx="67914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цели терапии бронхиальной астмы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восстановление и поддержание жизненной активности (соответствующей возрасту), включая переносимость физических нагруз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отмена или снижение потребности в бронхолитической терап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редупреждение инвалид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8572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 u="sng">
                <a:solidFill>
                  <a:srgbClr val="101c56"/>
                </a:solidFill>
                <a:uFillTx/>
                <a:latin typeface="Times New Roman"/>
                <a:ea typeface="Times New Roman"/>
              </a:rPr>
              <a:t>Медикаментозное лечение 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складывается из терапии обострения заболевания, направленной на купирование уже возникших симптомов, и базисной терапии, проводимой с целью предупреждения возникновения обострений и облегчения течения заболе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о определению ВОЗ</a:t>
            </a:r>
            <a:r>
              <a:rPr b="1" lang="ru-RU" sz="30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бронхиальная астма</a:t>
            </a:r>
            <a:r>
              <a:rPr b="0" lang="ru-RU" sz="30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– это заболевание, в основе которого лежит хроническое аллергическое воспаление и гиперреактивность бронхов, проявляющееся приступами затрудненного дыхания (преимущественно на выдохе) в результате диффузной обструкции, обусловленной спазмом гладкой мускулатуры бронхов, гиперсекрецией слизи, отеком стенки бронх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8596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01c56"/>
                </a:solidFill>
                <a:uFillTx/>
                <a:latin typeface="Times New Roman"/>
                <a:ea typeface="Times New Roman"/>
              </a:rPr>
              <a:t>Немедикаментозная терапия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патогенетически обоснована, хорошо сочетается с базисной фармакологической терапией, позволяет в ряде случаев уменьшить дозу и длительность курсов лекарственных препара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К немедикаментозным методам лечения относятся: лечебная физкультура, медицинский массаж и физиотера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647712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ичная профилактика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13840" y="1438200"/>
            <a:ext cx="86439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исключение профессиональных вредностей и заболеваний матери во время беременности, полноценное ее питание с ограничением облигатных аллергенов во время беременности, отказ от ку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редупреждение повторных респираторных инфекций у ребенка, грудное вскармливание, питание с ограничением облигатных аллергенов, организация гипоаллергенного быта и уменьшение контакта с химическими агентами в бы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ичная профилактик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855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максимально часто проветривать пом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удалить из квартиры ковры, тяжелые портьеры, ограничить количество мягкой меб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содержать книги в закрытых полк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заменить перьевые подушки (у всех членов семьи) на синтетическ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омещать подушки, матрасы и одеяла в чехлы из материала, который не пропускает аллерге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стирать постельное белье в горячей (не ниже 70%) воде не реже 2 раз в недел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ичная профилактик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214280"/>
            <a:ext cx="854388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оддерживать в квартире влажность не выше 50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регулярно проветривать постельные принадлежности в летнее время на солнце и в зимнее время на мороз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роводить влажную уборку квартиры, использовать пылесосы с водными фильтрами или фильтрами НЕРА, задерживающими аллерге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не убирать квартиру и не перестилать постели в присутствии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использовать в быту очистители и ионизаторы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рьба со спорами плесневых грибов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14200" y="1143000"/>
            <a:ext cx="8786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исключить источники избыточной влаж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не принимать участие в садовых работах осенью и вес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рименять порошок буры для обработки мест скопления плесени в кварти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оддерживать влажность в квартире не выше 50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не употреблять в пищу продуктов, содержащих грибы (сыры, сдобное тесто, копченое мясо, рыб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не разводить дома комнатные цветы (земля в горшках служит местом роста некоторых видов плесневых гриб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560" y="1214280"/>
            <a:ext cx="900108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ограничить время пребывания вне помещени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ограничить или исключить выезды на природу, дачу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носить солнцезащитные очк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мыть лицо, волосы после возвращения с прогулк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завесить форточку тканью, которую следует регулярн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смачивать водо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не открывать окна при поездке в автомобил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ежедневно проводить в квартире влажную уборку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101c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исключить употребление в пищу растительных пищевых продуктов, имеющих сходную антигенную структуру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ичная профилактик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143080"/>
            <a:ext cx="822960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рофилактика утяжеления течения БА, инвалидизации и смерти предусматривает проведение комплекса мероприятий вторичной профилактики, эффективное лечение приступов заболевания и адекватную базисную терап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114800" y="6195960"/>
            <a:ext cx="4811760" cy="4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819160" y="28191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60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4" descr="ОПСА"/>
          <p:cNvPicPr/>
          <p:nvPr/>
        </p:nvPicPr>
        <p:blipFill>
          <a:blip r:embed="rId1"/>
          <a:stretch/>
        </p:blipFill>
        <p:spPr>
          <a:xfrm>
            <a:off x="214200" y="142920"/>
            <a:ext cx="1143000" cy="16254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" descr="\\S01\документы\Школа массажа\ШрейдерТФ\Документация\логотип.jpg"/>
          <p:cNvPicPr/>
          <p:nvPr/>
        </p:nvPicPr>
        <p:blipFill>
          <a:blip r:embed="rId2"/>
          <a:stretch/>
        </p:blipFill>
        <p:spPr>
          <a:xfrm>
            <a:off x="7500960" y="142920"/>
            <a:ext cx="10954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214360"/>
            <a:ext cx="82296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Легкое течение болезни наблюдается у 70% детей, среднетяжелое – у 20-25% и тяжелое течение болезни – у 5-8%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величение распространенности бронхиальной астмы у детей влияет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28760" y="1999800"/>
            <a:ext cx="8229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01c56"/>
                </a:solidFill>
                <a:uFillTx/>
                <a:latin typeface="Times New Roman"/>
                <a:ea typeface="Times New Roman"/>
              </a:rPr>
              <a:t>Экологический фа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01c56"/>
                </a:solidFill>
                <a:uFillTx/>
                <a:latin typeface="Times New Roman"/>
                <a:ea typeface="Times New Roman"/>
              </a:rPr>
              <a:t>Климатический фа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01c56"/>
                </a:solidFill>
                <a:uFillTx/>
                <a:latin typeface="Times New Roman"/>
                <a:ea typeface="Times New Roman"/>
              </a:rPr>
              <a:t>Экологии жилых поме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01c56"/>
                </a:solidFill>
                <a:uFillTx/>
                <a:latin typeface="Times New Roman"/>
                <a:ea typeface="Times New Roman"/>
              </a:rPr>
              <a:t>Пищево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01c56"/>
                </a:solidFill>
                <a:uFillTx/>
                <a:latin typeface="Times New Roman"/>
                <a:ea typeface="Times New Roman"/>
              </a:rPr>
              <a:t>Фактор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1. По форме различ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1.1. Атопическ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1.2. Неатопичес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2. По степени тяже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2.1. Легк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2.2. Средней тяже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2.3. Тяжел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3. Периоды болез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3.1. Обостр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7140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3.2. Ремисс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4. Осложнения заболе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4.1. Ателектаз легк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4.2. Пневмоторак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4.3. Подкожная медиастинальная эмфизе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4.4. «Легочное сердце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4.5. Эмфизема лег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ры повышающие вероятность развития заболева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21428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01c56"/>
                </a:solidFill>
                <a:uFillTx/>
                <a:latin typeface="Times New Roman"/>
                <a:ea typeface="Times New Roman"/>
              </a:rPr>
              <a:t>Неуправляемые факто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1. Наследствен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Гиперреактивность бронх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Атоп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2. Биологическ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Вирусные инфек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Осложненное течение беременности у матери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Недонош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Изменение метео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ры повышающие вероятность развития заболева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428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01c56"/>
                </a:solidFill>
                <a:uFillTx/>
                <a:latin typeface="Times New Roman"/>
                <a:ea typeface="Times New Roman"/>
              </a:rPr>
              <a:t>Управляемые факто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1. Аллерге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Бытовые (домашняя пыль, клещи домашней пыл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Эпидермальные (аллергены животных, птиц, тараканов и др. насекомы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Грибков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Пыль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Пищев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ры повышающие вероятность развития заболева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714680"/>
            <a:ext cx="82296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2. Вирусы и вакц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3. Ятрогенное воздейств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Лекарственные сред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 Химически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4. Экологические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5. Нерациональное пи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6. Физическая и психоэмоциональная нагру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c5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7T11:08:33Z</dcterms:created>
  <dc:creator>Admin</dc:creator>
  <dc:description/>
  <dc:language>en-US</dc:language>
  <cp:lastModifiedBy>Admin</cp:lastModifiedBy>
  <dcterms:modified xsi:type="dcterms:W3CDTF">2014-04-27T12:55:04Z</dcterms:modified>
  <cp:revision>21</cp:revision>
  <dc:subject/>
  <dc:title>«Бронхиальная астма. Этиология. Патогенез. Клиника. Лечение»  Врач-педиатр ОР №1 Луканенко Светлана Анатолбьевна </dc:title>
</cp:coreProperties>
</file>