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НаливайченкоОН" initials="Н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14-02-20T11:06:14.288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3F38-8F84-4E81-A4C4-12048DFB7A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2D5B-02AE-4427-821E-E4DCCFFC5C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D7F3-8674-4E39-9AD7-D1DB07C6D1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941-BCCB-4177-83C5-0A011DB6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BCD-D879-4C34-8905-31B848E6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B26-65FB-4970-B662-131BCD4B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965-8DBD-43F2-B46C-9456B38C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DBD2-6F27-4C87-981B-F3E4C222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E450-139B-4EAA-B7B8-BB32EDBF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5610-60F7-4E27-A0D6-25EDB441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689C-8F66-40A2-AA15-4DD99D19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9F17-4080-42B8-A97F-81CEE280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FC89-29F8-471B-9368-53140097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F0E7-7B46-475B-AFBE-110040BF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D13-7125-4E4D-B506-77857267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45DB-29D6-405F-9BD8-35DFB83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EC36-91AD-4061-A46F-53CB7553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8D3C-EA9D-410F-B7AC-19A6C9C4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4D33-1773-4639-AB3D-1EC0AD8C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1C6E-F451-4ED7-AE69-47977716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572-00FB-4F97-B5DB-7F50EF24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B16-17F7-4733-BFD4-C9A2B915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114-DF1A-40C9-B042-01A60A98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10B-C2B7-41FF-9DA7-1B12B5A8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39C-63A5-4303-9B77-E11BDED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444-302F-4F16-9ADB-7F7AE26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310-D408-4809-8FEF-7D26EDEB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0E77-152B-495E-A8AD-CB3C2435B7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D5D5-F255-4FB9-96BA-DAEA3DF117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4;&#1086;&#1088;&#1089;&#1082;&#1080;&#1077;%20&#1082;&#1091;&#1088;&#1086;&#1088;&#1090;&#1099;%20&#1088;&#1086;&#1089;&#1089;&#1080;&#1080;&amp;img_url=http://cs309530.userapi.com/v309530321/6e2/_OrDrZNwuFE.jpg&amp;pos=6&amp;uinfo=ww-1008-wh-637-fw-783-fh-44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0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357200"/>
            <a:ext cx="5786280" cy="250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Физиотерапия нейропатии лицевого нерв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5105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ладчикова Елена Валер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цинская сестра физиотерапевтического отд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14200" y="40464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БУЗОО « Центр восстановительной медицины и реабилитаци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Трофостимулирующие методы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143080"/>
            <a:ext cx="82296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естная дарсонвализ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Гипокоагулирующие методы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зкочастотная магнитотерап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азерное облучение кро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Нейростимулирующие методы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998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иорегулируемая электростимуля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мпульсная магнитотерап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йроэлектростимуля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иадинамотерап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мплипульстерап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Методы, раздражающие свободные нервные окончания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кипидар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шалфей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рчичные ван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В острый период заболевания  применяют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285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нальгетические и анестезирующие методы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для ослабления болевого синдро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нтиэкссудативные и репаративно-регенеративные методы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– для купирования воспаления или от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осудорасширяющие методы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– для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улучшения микроциркуля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714240" y="1857240"/>
            <a:ext cx="80726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раннем восстановительном периоде  (3-6 неделя от начала заболева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водят дифференцированную физиотерапию с учетом и под контролем данных электродиагностик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57132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Bookman Old Style"/>
              </a:rPr>
              <a:t>При ранних клинических признаках контрактуры  физиотерапию назначают для: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3285720"/>
            <a:ext cx="822960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рмализации тонической активности мышц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ньшения степени пареза мускулатур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Санаторно – курортное лече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Содержимое 4" descr="http://im1-tub-ru.yandex.net/i?id=335333347-3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2643120"/>
            <a:ext cx="5452920" cy="2905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Противопоказания для санаторно-курортного лечения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вропатия лицевого нерва в остром перио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раженные нарушения двигательных функций (контрактур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Физиопрофилактика</a:t>
            </a:r>
            <a:r>
              <a:rPr b="1" lang="ru-RU" sz="4000" spc="-1" strike="noStrike">
                <a:solidFill>
                  <a:srgbClr val="ffffcc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направлена н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0040" y="2214360"/>
            <a:ext cx="84297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едупреждение рецидивов патологического процесса путем усиления микроциркуляции и метаболизма нервной тка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сстановление функции нервно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ышечного аппара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Задачи физиотерапии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285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упирование воспаления и болевого синдро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силение трофики и метаболизма нервных проводник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сстановление функции мимических мышц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филактика развития контракту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2492280"/>
            <a:ext cx="7027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Противопоказания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 для физиотерапии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трый период заболе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раженные вегето-сосудист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офические и двигательные наруш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Физиотерапевтические методы лечения применяют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ля ослабления болевого синдро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упирование воспаления и от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лучшения микроциркуляции и метаболиз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лучшения функции нервно-мышечного волок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Bookman Old Style"/>
              </a:rPr>
              <a:t>Анальгетические методы</a:t>
            </a:r>
            <a:r>
              <a:rPr b="1" lang="ru-RU" sz="4400" spc="-1" strike="noStrike">
                <a:solidFill>
                  <a:srgbClr val="ffffcc"/>
                </a:solidFill>
                <a:latin typeface="Bookman Old Style"/>
              </a:rPr>
              <a:t>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143080"/>
            <a:ext cx="82296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анскраниальная электроаналгез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иадинамотерап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МТ-терапия по точкам выхода нерв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роткоимпульсная электроаналгез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Bookman Old Style"/>
              </a:rPr>
              <a:t>Анестезирующие методы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екарственный электрофорез анестети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люктуоризация по точкам выхода нерв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Антиэкссудативные методы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зкоинтенсивная УВЧ-терап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МВ-терап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Репаративно-регенеративные методы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нфракрасная лазеротерап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льтразвуковая терап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нфракрасное облуч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Bookman Old Style"/>
              </a:rPr>
              <a:t>Сосудорасширяющие методы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14360"/>
            <a:ext cx="8229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екарственный электрофорез дилататор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льтратонотерап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асная лазеротерап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арафинотерап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2:21:44Z</dcterms:created>
  <dc:creator>sss</dc:creator>
  <dc:description/>
  <dc:language>en-US</dc:language>
  <cp:lastModifiedBy>Admin</cp:lastModifiedBy>
  <dcterms:modified xsi:type="dcterms:W3CDTF">2014-06-23T16:39:19Z</dcterms:modified>
  <cp:revision>72</cp:revision>
  <dc:subject/>
  <dc:title>Физиотерапия в  педиатрии</dc:title>
</cp:coreProperties>
</file>