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812-2169-4173-A287-CFF1C6244F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F54-74B6-49E5-A25B-88987035EF9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549-4C46-4059-BFBE-C2BD4863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FE5-7A99-4795-A52A-B2FD3FE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B6F-AC1E-4EC1-89A8-4C972ED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1CA-94FC-489F-918E-4D8BAF1B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875E-2201-41CE-AB29-A222D7B2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A57-1C18-4018-9B66-B43D78BA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18AC-F5CE-4810-89D1-60061653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94B2-6D6D-4222-9494-B39F50A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BA4-701A-4605-9262-86BBD128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AE65-E42F-4D19-BF97-38EB114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EB3-3E63-42A1-ABF4-83D6D92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DB3-CC1D-40F2-90F8-57B4A53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7D8E-C8FF-4D68-9009-5BFAC18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3DCB-AF49-4EE0-83F0-60EE36B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8E72-8918-4003-8F81-3714F54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7532-D38A-48E6-8B6E-CE06C332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BBB5-F2E0-4873-A396-25AC6FF7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6D6-6DB0-4E71-B8F8-9B769ADC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A04-C003-40EA-AAC9-8E6C37BA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C53-2F51-4E6D-88B1-6CA2CB8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6E8-94C8-4C55-905D-2222BA1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FED-8616-4F9D-9B2C-B4466DD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498-CAEE-4A7A-AD28-435D60B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6F5-7E3C-438F-9AFE-E4DFAC3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C44C-2CDD-4C2C-BF80-E80ED024B1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34C-DE09-4BC3-8F21-D3A089F956A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УЗОО «Центр восстановительной медицины и реабилитаци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«Физиотерапевтические методы лечени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черепно-мозговой травмы»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Карцева Е.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Медицинская сестра по физиотерап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8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Санаторно-курортное лечение при отсутствии противопоказаний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2514240"/>
            <a:ext cx="4038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 бальнеолечебны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 грязелечебных курорт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Рисунок 4" descr="&amp;Ocy;&amp;mcy;&amp;scy;&amp;kcy;-&amp;Bcy;&amp;icy;&amp;shcy;&amp;kcy;&amp;iecy;&amp;kcy; &amp;Bcy;&amp;icy;&amp;shcy;&amp;kcy;&amp;iecy;&amp;kcy;-&amp;Ocy;&amp;mcy;&amp;scy;&amp;kcy; &amp;Vcy;&amp;Kcy;&amp;ocy;&amp;ncy;&amp;tcy;&amp;acy;&amp;kcy;&amp;tcy;&amp;iecy;"/>
          <p:cNvPicPr/>
          <p:nvPr/>
        </p:nvPicPr>
        <p:blipFill>
          <a:blip r:embed="rId1"/>
          <a:stretch/>
        </p:blipFill>
        <p:spPr>
          <a:xfrm>
            <a:off x="698400" y="2514600"/>
            <a:ext cx="37972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Противопоказания для санаторно-курортного лечения:</a:t>
            </a:r>
            <a:br>
              <a:rPr sz="28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значительные нарушения двигательных функци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эпилептические припадк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сихические наруш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Физиопрофилактика </a:t>
            </a: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  <a:ea typeface="Tahoma"/>
              </a:rPr>
              <a:t>направлена на: 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2514240"/>
            <a:ext cx="876312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граничение дальнейшего прогрессирования клинических синдромов травм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378000" y="1719360"/>
            <a:ext cx="80103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Цель физиотерапии при травматическом поражении головного мозга: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казать противовоспалительное, рассасывающее действие в зоне локализации травматического очаг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улучшение метаболизма и кровоснабжения мозг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купирование стрессовой реак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казание седативного и транквилизирующего действия на ЦНС;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осстановление функциональных нейродинамических отношений и нарушенных функци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Противопоказания для физиотерапевтического лечения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стрый период травмы, требующий неотложной помощ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личие гемато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рушение созн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сихические наруше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рушение ликвородинамики в стадии декомпенса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ыраженная вегетативная дисфункц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эпилептические припад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бщие противопоказания для физиотерап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В остром периоде заболевания при сотрясении и ушибах головного мозга физиотерапевтическое лечение назначают: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8095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и общем удовлетворительном состоян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с конца 2-3 недели от начала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В остром периоде заболевания назначают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1920" y="1828800"/>
            <a:ext cx="8991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сон или центральную электроаналгези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ультрафиолетовое облучение воротниковой зо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дарсонвализацию  головы и воротниковой зо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форез лекарственных вещ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гальванический воротник по Щербак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дождевой, циркулярный душ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лечебные ван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При  пирамидных моно- и гемипарезах применяют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еМП на область проекции травмы головного мозг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стимуляцию СМТ  антагонистов спастических мышц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арафиновые, озокеритовые, грязевые аппликации на паретичные конеч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066680" y="685800"/>
            <a:ext cx="7162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и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  <a:ea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гипоталамическ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и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вегетативно-сосудистом синдрома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травматического генеза шире используют сегментарно-рефлекторные и общие воздействия, улучшающие нейровегетативный фон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При астеноневротическом синдроме </a:t>
            </a:r>
            <a:br>
              <a:rPr sz="3600"/>
            </a:br>
            <a:r>
              <a:rPr b="1" i="1" lang="ru-RU" sz="3600" spc="-1" strike="noStrike">
                <a:solidFill>
                  <a:srgbClr val="ffff99"/>
                </a:solidFill>
                <a:latin typeface="Bookman Old Style"/>
              </a:rPr>
              <a:t>используются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2895120"/>
            <a:ext cx="40384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се виды душ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есные, хвойные, соляные, морские ванны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IMG_1777"/>
          <p:cNvPicPr/>
          <p:nvPr/>
        </p:nvPicPr>
        <p:blipFill>
          <a:blip r:embed="rId2"/>
          <a:stretch/>
        </p:blipFill>
        <p:spPr>
          <a:xfrm>
            <a:off x="380880" y="23623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и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  <a:ea typeface="Tahoma"/>
              </a:rPr>
              <a:t>синдроме травматической эпилепси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физиотерапевтические воздействия проводят на фоне противосудорожной медикаментозной терапии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 Васильевич</cp:lastModifiedBy>
  <dcterms:modified xsi:type="dcterms:W3CDTF">2014-09-29T14:11:0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