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B13-72D6-4ED3-BDC9-EE39D997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388584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145-9E69-4E55-A220-1F2FA168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708-D186-4662-AC1C-6CADBEB7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244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7120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244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7120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14F-5168-4CD4-A600-10B9EF1C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8EF1-84BB-4947-A5AF-FE6959CD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B3FE-741A-4EF6-832C-A0ECE4BE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066C-1525-4339-B57C-A2B96D24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D160-9BE3-4A72-A234-66D963A7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FAF6-31FB-44CE-95D8-2C2F1500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7845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1660-B9A9-4B88-B05B-689FE1E1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8339-61B5-4E01-B3B0-4E59E252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72C-21B3-4A60-B6D0-633FB4FB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7340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A1F8-3257-4A71-AD48-BAE4C348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8662-7C22-4A00-918E-24A6306E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388584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3072-734A-4144-B8CA-DF07A5C8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7340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BB35-3420-4EF1-B211-E314B378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9244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7120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9244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7120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AA70-B2E8-4A06-ABF8-E5328B7B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754-878C-4DC2-8B27-78B4FD4A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527-9926-449C-80AA-D7EE0B14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43C-1B4B-4EB7-8FAA-4AC516D7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7845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BC0-8993-40E9-9295-D7B49A7C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F83-44C0-4236-8461-136BD5C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FD5-0A32-4015-8E78-2C39B5C3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392-6FBE-48DA-87C2-9BE4623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741240" cy="6858000"/>
          </a:xfrm>
          <a:prstGeom prst="rect">
            <a:avLst/>
          </a:prstGeom>
          <a:gradFill rotWithShape="0">
            <a:gsLst>
              <a:gs pos="0">
                <a:srgbClr val="294758"/>
              </a:gs>
              <a:gs pos="100000">
                <a:srgbClr val="41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234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5320" y="6461280"/>
            <a:ext cx="609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B20A-DB0C-4E12-A337-92F419691C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0"/>
            <a:ext cx="743040" cy="1066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1143000"/>
            <a:ext cx="743040" cy="1069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0" y="2209680"/>
            <a:ext cx="743040" cy="1069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8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4964040"/>
            <a:ext cx="9144000" cy="1893960"/>
          </a:xfrm>
          <a:prstGeom prst="rect">
            <a:avLst/>
          </a:prstGeom>
          <a:gradFill rotWithShape="0">
            <a:gsLst>
              <a:gs pos="0">
                <a:srgbClr val="294758"/>
              </a:gs>
              <a:gs pos="100000">
                <a:srgbClr val="41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 flipV="1">
            <a:off x="0" y="495252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0" y="380880"/>
            <a:ext cx="3052800" cy="458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3048120" y="380880"/>
            <a:ext cx="3052800" cy="4594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6091200" y="380880"/>
            <a:ext cx="3052800" cy="458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"/>
          <p:cNvSpPr/>
          <p:nvPr/>
        </p:nvSpPr>
        <p:spPr>
          <a:xfrm>
            <a:off x="7925040" y="626256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9A5A-9540-4A6D-8E3C-92023DCB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собенности применения медицинского массажа и лечебной физкультуры при Ч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Екатерина Александровна Голендяе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нструктор-методист по ЛФК, отделение реабилитации № 1 БУЗОО ЦВМ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В позднем период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черепно-мозговой травмы большое внимание уделяют предупреждению и устранению непроизвольных содружественных движений, которые часто возникают у больных. Борьбу с этим дефектом ведут с помощью фиксации (пассивной) неработающей конечности, активным волевым противодействием со стороны больного, специальными противосодружественными движениями в разных исходных положениях и, наконец, воссозданием нормальных содружественных дви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Вестибулярная гимнастика,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оторая включает в себя глазодвигательные упражнения в сочетании с поворотами и наклонами голо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Рефлекторные упражнения,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которые строятся на основе содружественного включения различных мышечных групп в определенный двигательный а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ротивоатактические упражнени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заключаются в тренировке на выполнение одной и той же двигательной задачи различными мето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собое место в комплексе лечебно-восстановительных мероприятий занимает обучение стоянию и ходьб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. Проведение лечебно-тренировочных занятий на специальном вращающемся столе – первый этап восстановления функций статики и поход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В резидуальном период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– проводятся лечебно-восстановительные мероприятия, начатые в предыдущий период. Кроме того, осуществляется направленная компенсация утраченных двигательных функций с целью обучения необходимым бытовым и трудовым навыкам, самообслуживанию и передвижению, трудовым процессам, что способствует социальной реабилитации бо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няют упражнения с использованием шейно-тонических и реципрокных рефлекторных связей, сочетающиеся с пассивными и полупассивными движениями, лечение полож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В более поздние периоды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при обучении стоянию и ходьбе применяют комбинированные методы, необходимые для лечения и компенсации пирамидной, экстрапирамидной и мозжечковой недостаточ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ормализация процессов возбуждения и торможения в центральной нервной сис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- устранение тканевой гипо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- стимуляция дренажно-детоксикационного комплекса головы и ше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- активизация функции периферического кровообращения челюстно-лицевой об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- поддержание и улучшение функциональных возможностей челюстно-лицев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рудной отдел позвоно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шейный отдел позвоно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о стороны гру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бласть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спользуемые приемы: поглаживание, выжимание, вибрация – 1,5-2 минуты, разминание (финским стилем) – от 2 до 6 минут на рабочем сегм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бщее время массажа от 14 минут (минимальное) до 32 минут (максимальное). Оптимальное исходное положение для массажа – сид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) стимуляция защитных механизмов орган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б) воздействие на гемодинамику и ликвидацию расстройств ликвородинамики и отека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) воздействие дозированной тренировкой на улучшение подвижности, увеличение силы и уравновешенности нерв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ажную роль в восстановлении двигательных функций играют проприорецепторы, заложенные в мышцах, сухожилиях, связочном аппара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истематические физические упражнения способствуют организации двигательной доминанты, влияющей тормозящим образом на патологическую доминанту с ее застойным очагом возбуждения и тормозными фазными состоян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аннее начало применения ЛФ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цельное использование средств и методов ЛФК для восстановления утраченных фун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аправленное действие на высшие корковые функции с целью обучения и переобучения движен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дбор специальных упражнений по патогенетическому принципу в сочетании с общеукрепляющим действием ЛФ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трогая адекватность и динамическая изменчивость в зависимости от возможностей больн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активное расширение двигательного реж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. увеличивающие мышечную си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 направленные на получение строго дозированных мышечных напря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 позволяющие достичь дифференцированных мышечных напря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 противоатактические упраж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антиспастические и противоригид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. противосодружественные упраж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7. рефлекторные и идеомоторные упраж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8. пассивные движения, в т.ч. мануальная 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В раннем период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(I – 2-5-е сутки) применяют специальные дыхательные упражнения, общее и локальное лечение положением. При благоприятном течении травматической болезни уже в конце раннего периода начинают занятия специальной лечебной гимнастикой. Используют в основном пассивные и полупассивные упражнения. Упражнения выполняются в исходном положении лежа на сп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В промежуточном период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(II – 5-30-е сутки) стойкие поражения мозговых функций приобретают специфические для данной локализации травмы черты. В двигательной сфере – это гемипарезы или гемиплегии (в некоторых случаях тетрапарезы), нарушения координации движений, парезы черепных нервов, в психической сфере – астенический синдром, нарушение памяти, другие расстройства высших корковых фун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В позднем восстановительном периоде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(III – 4-5-я неделя после тяжёлой травмы) при полном восстановлении здоровья решается задача тренировки всех опорно-двигательных навыков. Упражнения выполняются в разных исходных положениях, в разном темпе, соотношение ДУ и ОРУ 1:3, 1:4. В занятия включаются упражнения на координацию, с предметами, в положении вниз головой – в висе, на кольцах, гимнастической стенке, подвижные игры. Прыжки, подскоки и бег разрешаются врачом в каждом случае индивидуа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4"/>
          <p:cNvSpPr/>
          <p:nvPr/>
        </p:nvSpPr>
        <p:spPr>
          <a:xfrm>
            <a:off x="5943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 компенсаторной активизации больных после черепно-мозговой травмы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эффективны занятия на специальном стол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, конструкция которого позволяет изменять угол наклона его плоскости к горизонтали. Осторожная ортостатическая нагрузка способствует адекватной тренировке сердечной мышцы, нормализует центральный и периферический сосудистый тону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13:30:48Z</dcterms:created>
  <dc:creator>Алексей Васильевич</dc:creator>
  <dc:description/>
  <dc:language>en-US</dc:language>
  <cp:lastModifiedBy>Алексей Васильевич</cp:lastModifiedBy>
  <dcterms:modified xsi:type="dcterms:W3CDTF">2014-09-29T14:08:31Z</dcterms:modified>
  <cp:revision>6</cp:revision>
  <dc:subject/>
  <dc:title>Слайд 1</dc:title>
</cp:coreProperties>
</file>