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565-326F-4F8F-9E45-5FD633B4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0720" y="3672720"/>
            <a:ext cx="7696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6CA-055A-4B48-9C56-5B7723E8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345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90720" y="367272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34520" y="367272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CBC-24E0-4B77-99A2-A0B6AA05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2800" y="99036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94880" y="99036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90720" y="367272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2800" y="367272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94880" y="367272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B750-8427-493C-847E-D5965BB4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8DD1-01EF-4876-A773-625A4758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A6CB-F716-4517-819F-C245BBC7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B9BA-83E4-4B77-B540-AB655D1A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37555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4520" y="990360"/>
            <a:ext cx="37555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87D2-0F6F-43C1-97E4-5602CD22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1CE3-D528-4A19-988C-6908B38A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14400" y="107640"/>
            <a:ext cx="7315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B87A-AFBD-4FE9-9855-AA9A4D37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34520" y="990360"/>
            <a:ext cx="37555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367272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F08E-C291-4CB1-BC77-E179A9A9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0644-1257-4A77-88A5-F75E1F35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37555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45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34520" y="367272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2750-C6D5-43B4-916B-19459E57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45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90720" y="3672720"/>
            <a:ext cx="7696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3A51-2C65-4707-B3EC-7E034687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990720" y="3672720"/>
            <a:ext cx="7696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F3C0-6484-40B5-847D-A348D959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45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90720" y="367272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34520" y="367272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9DE1-41B4-417D-9500-93191E7A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2800" y="99036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94880" y="99036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990720" y="367272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2800" y="367272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94880" y="367272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416E-3404-49A6-B585-55CAE92E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1AE-FBCF-42B8-893F-C2B7CC5C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37555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4520" y="990360"/>
            <a:ext cx="37555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819-5435-4589-B179-00B8DC37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7B24-37E4-442F-A926-ECF3B536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400" y="107640"/>
            <a:ext cx="7315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DC64-179A-4D52-9B11-9EA7AA44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990360"/>
            <a:ext cx="37555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67272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4048-9F77-485C-855F-271C9B7A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37555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45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34520" y="367272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173-ECD9-48B1-BCB2-C5AA9DA2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45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672720"/>
            <a:ext cx="7696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D5A-B77E-48E5-B99D-2A53A30F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8080" y="0"/>
            <a:ext cx="8305920" cy="7905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64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64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7057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22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4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4372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2000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8154-DE15-422A-9080-AED49C6A25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838080" cy="787320"/>
          </a:xfrm>
          <a:prstGeom prst="rect">
            <a:avLst/>
          </a:prstGeom>
          <a:solidFill>
            <a:srgbClr val="1c4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87320"/>
            <a:ext cx="838080" cy="787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563840"/>
            <a:ext cx="838080" cy="787320"/>
          </a:xfrm>
          <a:prstGeom prst="rect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647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-4680" y="1557360"/>
            <a:ext cx="839880" cy="797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272440" y="0"/>
            <a:ext cx="871560" cy="79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0" y="0"/>
            <a:ext cx="839880" cy="78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8120" y="2209680"/>
            <a:ext cx="1523880" cy="144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657600"/>
            <a:ext cx="1523880" cy="14479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657600"/>
            <a:ext cx="1523880" cy="14479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209680"/>
            <a:ext cx="1523880" cy="1447920"/>
          </a:xfrm>
          <a:prstGeom prst="rect">
            <a:avLst/>
          </a:prstGeom>
          <a:solidFill>
            <a:srgbClr val="1c4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2209680"/>
            <a:ext cx="3047760" cy="2900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09680"/>
            <a:ext cx="152388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2209680"/>
            <a:ext cx="1524240" cy="1447920"/>
          </a:xfrm>
          <a:prstGeom prst="rect">
            <a:avLst/>
          </a:prstGeom>
          <a:solidFill>
            <a:srgbClr val="1c4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3657600"/>
            <a:ext cx="1524240" cy="14479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866D-EA73-4003-90E0-AD316C2B63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3657600"/>
            <a:ext cx="1523880" cy="1447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211480"/>
            <a:ext cx="1523880" cy="14461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07160" y="3651120"/>
            <a:ext cx="1541520" cy="1457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657600"/>
            <a:ext cx="1524240" cy="144792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ЧМТ. Клиника. Этиология. Патогенез. Леч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ахолкова Елена Юрьевна, врач педиатр, отделение реабилитации № 1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БУЗОО ЦВМР</a:t>
            </a:r>
            <a:r>
              <a:rPr b="0" lang="ru-RU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64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о восстановлении сознания типичны жалобы на головную боль, головокружение, слабость, шум в ушах, приливы крови к лицу, потливость и другие вегетативные явления, чувство дискомфорта и нарушение сна. Отмечаются боли при движении глаз, расхождение глазных яблок при попытке чтения, вестибулярная гиперестез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64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У детей грудного и раннего возраста сотрясение мозга часто протекает без нарушения сознания и клинически характеризуется появлением вегетативно-сосудистых и соматических симптомов. В момент травмы – резкая бледность кожных покровов (прежде всего, лица), тахикардия, затем вялость, сонливость. Возникают срыгивания при кормлении, рвота, отмечаются беспокойство, расстройства сна, диспептические явления. Все симптомы проходят через 2-3 сут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64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У пожилых пациентов первичная утрата сознания при сотрясении головного мозга наблюдается значительно реже, чем в молодом и среднем возрасте. Вместе с тем нередко проявляется выраженная дезориентировка в месте и времени, особенно у пострадавших с сопутствующим атеросклерозом мозговых сосудов, гипертонической болезнью. Ретро- и конградная амнезия обнаруживается чаще у пожилых пациен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64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Различают ушибы головного мозга легкой, средней и тяжелой степе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64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Ушиб головного мозга легкой степени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отмечается у 10-15% больных с ЧМТ. Характеризуется выключением сознания после травмы длительностью от нескольких до десятков минут. После восстановления сознания типичны жалобы на головную боль, головокружение, тошноту и др. Как правило, отмечается ретро-, кон-, антероградная амнезия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64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Распознавание сотрясения головного мозга и ушиба головного мозга легкой степени часто представляет непростую задачу, ибо в отличие от более тяжелых форм ЧМТ основано преимущественно на субъективной симптоматике при отсутствии объективных данны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8598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64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Объективизации в остром периоде легкой ЧМТ могут косвенно способствовать различные функциональные исследования (электроэнцефалография, офтальмоскопия, ультразвуковая интракраниальная допплерография и др.). Наиболее информативным является отоневрологическое исследование (желательно с использованием электрогустометрии, аудиометрии, электронистагмографии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64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ри легкой ЧМТ переломы костей черепа обычно отсутствуют. Давление и состав ЦСЖ без отклонений. М-эхо не смещено. Компьютерная томография (КТ) у больных с сотрясением не обнаруживает травматических отклонений в состоянии вещества мозга (плотность серого и белого вещества остается в пределах нормы) и ликворосодержащих внутричерепных пространст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64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Если получивший ЧМТ продолжает находиться в бессознательном состоянии, предпочтительней так называемое спасительное положение (recovery positiоn) – на правом боку, голова запрокинута, лицо повернуто к земле, левая рука и нога согнуты под прямым углом в локтевом и коленном суставах (предварительно надо исключить переломы конечностей и позвоночника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7570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64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Медикаментозное лечение при ЗЧМТ не должно быть агрессивным. Оно направлено, главным образом, на нормализацию функционального состояния головного мозга, снятие головной боли, головокружения, беспокойства, бессонницы и других жалоб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85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64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рогностические факторы и исходы.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Сотрясение головного мозга и ушиб головного мозга легкой степени является преимущественно обратимой клинической формой ЧМТ. Поэтому 80-97% наблюдений при адекватном соблюдении режима в остром периоде и отсутствии отягощающих травму обстоятельств завершается выздоровлением пострадавших с полным восстановлением трудоспособности.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64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Черепно-мозговая травма (ЧМТ) – механическое повреждение черепа и (или) внутричерепных образований (головного мозга, мозговых оболочек, сосудов, черепных нервов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64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Среди получивших ЧМТ много детей и молодых людей, которые часто склонны к несоблюдению рекомендуемого режима лечения и поведения. Это может привести к удлинению периода восстановления и возникновению различных последствий: астенического синдрома, вегето-сосудистой дистонии, диссомнии, когнитивных, эмоциональных, поведенческих и других наруш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8064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64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ударная волна, распространяющаяся от места приложения травмирующего агента к голове через мозг к противоположному полюсу с быстрыми перепадами давления в местах удара и противоудар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64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ударный эффект костно-черепной деформации, а также резонансная кавитация, гидродинамический толчок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64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еремещение и ротация больших полушарий относительно более фиксированного ствола мозга при травме ускорения – замедления с натяжением и разрывом аксон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. По тяжест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.1. Легкая – это сотрясение мозга и ушибы мозга легкой степени (частота 80-90%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.2. Средняя степень тяжести – ушибы мозга средней степени (частота 5-12%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.3. Тяжелая – ушибы мозга тяжелой степени, диффузное аксональное повреждение и сдавление мозга (частота 3-5%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.1. Очаговые (возникающие главным образом при ударнопротивоударной биомеханике травмы голов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.2. Диффузные (возникающие главным образом при травме ускорения – замедления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.3. Сочетанные поврежд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3. По локализаци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3.1. Закрытая – отсутствует нарушение целости покровов головы, либо имеются раны мягких тканей без повреждения апоневроз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3.2. Открытая – переломы костей свода череп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7786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4.1. Изолированная – внечерепные повреждения отсутствую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4.2. Сочетанная – одновременно имеются повреждения костей скелета и внутренних орган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4.3. Комбинированная – одновременно воздействуют различные виды энергии – механическая, термическая, лучевая, химическая и д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5. По особенностям возникновен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5.1. Первична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5.2. Вторична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6000" y="990360"/>
            <a:ext cx="721044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.1. Остры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.2. Промежуточны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.3. Отдаленны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64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Основными клиническими формами черепно-мозговой травмы являются сотрясение мозга, ушибы мозга (легкой, средней и тяжелой степени), диффузное аксональное повреждение мозга и сдавление мозг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64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Сотрясение головного мозга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о частоте встречаемости занимает первое место в структуре черепно-мозгового травматизма. Сотрясение головного мозга характеризуется кратковременным угнетением сознания – от нескольких секунд до нескольких минут, чаще в пределах оглушения – сопора. Порой нарушения сознания трудноуловимы или даже отсутствуют. Ретро-, кон- и антероградная амнезия выявляется только на очень узкий период событ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9T13:52:23Z</dcterms:created>
  <dc:creator>Алексей Васильевич</dc:creator>
  <dc:description/>
  <dc:language>en-US</dc:language>
  <cp:lastModifiedBy>Алексей Васильевич</cp:lastModifiedBy>
  <dcterms:modified xsi:type="dcterms:W3CDTF">2014-09-29T14:00:53Z</dcterms:modified>
  <cp:revision>1</cp:revision>
  <dc:subject/>
  <dc:title>Слайд 1</dc:title>
</cp:coreProperties>
</file>