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8AD-DAE5-4E09-A354-4D99F5BE9A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E1D-4B4E-4337-9DA9-66F3BFCC7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3C9-0D8B-4646-B1AA-C774F47461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3B0-650A-41D4-AB32-5FEFD4D7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A0E-1165-4912-A868-A213721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013-3453-4BB3-8BFF-B2B8EAFE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FDB-4584-466E-BBDF-F19838B8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F14A-675C-4A6C-AD01-F3F86F9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145C-AA70-40BB-B160-4D26AC4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782D-EBFD-4F2D-8764-71859559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A1EE-6857-4CE0-9755-FC800EE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2CAA-95B2-4180-9A3C-439F18D7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14EB-898D-4CEF-9324-0945144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12F3-A761-42FB-8A4D-04A1C35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8AA-D859-428A-B73D-E6A17BD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2FD1-B578-4EF1-A88A-124B654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721-84CC-47E9-8D11-4E36328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C716-9F2D-4335-BE01-25F3298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CC9-EF09-466F-900E-DAB51F33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95B-B320-4B8B-B1E9-D8252DC2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289-0A76-4DE4-AA13-0CE562C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963-839F-4255-9EDF-2B840CD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95F-CE22-41FD-B24B-84CA44C2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136-D394-4A74-BF94-7FCDDDA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7CB-6E36-4E46-A95F-AEAA430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DB7-DFDB-47D6-9FC3-C0A9871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3C4-E65C-4A62-AC4B-DBF14F6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7067-AE23-4308-AE5A-91F725B2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CE8-7977-479A-BFD6-964C0410A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5493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571680" y="1474920"/>
            <a:ext cx="82152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9ac"/>
                </a:solidFill>
                <a:latin typeface="Arial Black"/>
              </a:rPr>
              <a:t>Информация о первом Всероссийском форуме медицинских раб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28960" y="569916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.В. Саито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ая акушер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УЗОО «Областная клиническая больниц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Овал 6" descr=""/>
          <p:cNvPicPr/>
          <p:nvPr/>
        </p:nvPicPr>
        <p:blipFill>
          <a:blip r:embed="rId2"/>
          <a:stretch/>
        </p:blipFill>
        <p:spPr>
          <a:xfrm>
            <a:off x="195120" y="480960"/>
            <a:ext cx="1584360" cy="16718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 flipV="1">
            <a:off x="395280" y="1511280"/>
            <a:ext cx="115236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>
            <a:off x="0" y="428760"/>
            <a:ext cx="9144000" cy="537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700280"/>
            <a:ext cx="9144000" cy="4425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изготовления порошковых лекарственных средств,  используемых в неонатологи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смотр тарифа территориального фонда социального страхования оплаты койко – дня для акушерских отделен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и юридическая  защита медицинских работников от средств массовой информаци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Прямоугольник с двумя скругленными противолежащими углами 6"/>
          <p:cNvGrpSpPr/>
          <p:nvPr/>
        </p:nvGrpSpPr>
        <p:grpSpPr>
          <a:xfrm>
            <a:off x="1627200" y="554040"/>
            <a:ext cx="6316560" cy="598320"/>
            <a:chOff x="1627200" y="554040"/>
            <a:chExt cx="6316560" cy="598320"/>
          </a:xfrm>
        </p:grpSpPr>
        <p:pic>
          <p:nvPicPr>
            <p:cNvPr id="14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627200" y="554040"/>
              <a:ext cx="63165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671480" y="600120"/>
              <a:ext cx="6229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391160" cy="6966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бсуждаемые вопросы: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32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50" name="Овал 5" descr=""/>
          <p:cNvPicPr/>
          <p:nvPr/>
        </p:nvPicPr>
        <p:blipFill>
          <a:blip r:embed="rId5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8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0" y="428760"/>
            <a:ext cx="9144000" cy="566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58560" y="1125000"/>
            <a:ext cx="87850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обновления нормативной базы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З РФ № 345 от 26.11.1997 г. «О совершенствовании мероприятий по профилактике внутрибольничных инфекций в акушерских стационарах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 МЗ СССР № 55 от 09.01.1986 г. Об организации работы родильных домов(отделений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З СССР № 440 от 20.04.1983 г. «О дополнительных мерах по совершенствованию медицинской помощи новорожденным детям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 algn="just">
              <a:lnSpc>
                <a:spcPct val="90000"/>
              </a:lnSpc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ов о проведении торгов, электронных аукционов, приобретении лекарственных препаратов, предметов медицинского назначе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4" name="Прямоугольник с двумя скругленными противолежащими углами 6"/>
          <p:cNvGrpSpPr/>
          <p:nvPr/>
        </p:nvGrpSpPr>
        <p:grpSpPr>
          <a:xfrm>
            <a:off x="1627200" y="554040"/>
            <a:ext cx="6316560" cy="598320"/>
            <a:chOff x="1627200" y="554040"/>
            <a:chExt cx="6316560" cy="598320"/>
          </a:xfrm>
        </p:grpSpPr>
        <p:pic>
          <p:nvPicPr>
            <p:cNvPr id="155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627200" y="554040"/>
              <a:ext cx="63165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71480" y="600120"/>
              <a:ext cx="6229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0009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бсуждаемые вопросы: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32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58" name="Овал 5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8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667640" cy="952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96edf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Главная стратегия МЗ РФ –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профилактика заболеваний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32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9280" y="1773000"/>
            <a:ext cx="878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планомерной  работы  по снижению аборт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центров здоровь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репление малых городов и населённых пунктов сельской местности, так в них проживает 27% населе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репление смотровых кабинетов в учреждениях первичного  звен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Овал 4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0" y="5805360"/>
            <a:ext cx="896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езерв рождаемости – профилактика абортов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В.В. Пут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с двумя вырезанными соседними углами 15"/>
          <p:cNvSpPr/>
          <p:nvPr/>
        </p:nvSpPr>
        <p:spPr>
          <a:xfrm>
            <a:off x="1020600" y="1916280"/>
            <a:ext cx="7051680" cy="1008000"/>
          </a:xfrm>
          <a:prstGeom prst="pie">
            <a:avLst/>
          </a:prstGeom>
          <a:solidFill>
            <a:srgbClr val="ccecff">
              <a:alpha val="6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перв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едико – санитарн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Скругленный прямоугольник 16"/>
          <p:cNvSpPr/>
          <p:nvPr/>
        </p:nvSpPr>
        <p:spPr>
          <a:xfrm>
            <a:off x="2571840" y="3068640"/>
            <a:ext cx="3871800" cy="647640"/>
          </a:xfrm>
          <a:prstGeom prst="roundRect">
            <a:avLst>
              <a:gd name="adj" fmla="val 16667"/>
            </a:avLst>
          </a:prstGeom>
          <a:solidFill>
            <a:srgbClr val="ccecff">
              <a:alpha val="56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ы пробле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Овал 17"/>
          <p:cNvSpPr/>
          <p:nvPr/>
        </p:nvSpPr>
        <p:spPr>
          <a:xfrm>
            <a:off x="539640" y="4365720"/>
            <a:ext cx="3859200" cy="1439640"/>
          </a:xfrm>
          <a:prstGeom prst="ellipse">
            <a:avLst/>
          </a:prstGeom>
          <a:solidFill>
            <a:srgbClr val="ccecff">
              <a:alpha val="5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ельского здравоохра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Овал 18"/>
          <p:cNvSpPr/>
          <p:nvPr/>
        </p:nvSpPr>
        <p:spPr>
          <a:xfrm>
            <a:off x="4788000" y="4365720"/>
            <a:ext cx="4070160" cy="1439640"/>
          </a:xfrm>
          <a:prstGeom prst="ellipse">
            <a:avLst/>
          </a:prstGeom>
          <a:solidFill>
            <a:srgbClr val="ccecff">
              <a:alpha val="54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еобходимости реструктуризации амбулаторно – поликлинической сети по трём уровн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Стрелка вниз 19"/>
          <p:cNvSpPr/>
          <p:nvPr/>
        </p:nvSpPr>
        <p:spPr>
          <a:xfrm flipH="1">
            <a:off x="4426920" y="1268280"/>
            <a:ext cx="215640" cy="648000"/>
          </a:xfrm>
          <a:prstGeom prst="downArrow">
            <a:avLst>
              <a:gd name="adj1" fmla="val 50000"/>
              <a:gd name="adj2" fmla="val 46703"/>
            </a:avLst>
          </a:prstGeom>
          <a:solidFill>
            <a:srgbClr val="96edfe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Арка 20"/>
          <p:cNvSpPr/>
          <p:nvPr/>
        </p:nvSpPr>
        <p:spPr>
          <a:xfrm>
            <a:off x="3357720" y="4149720"/>
            <a:ext cx="2438280" cy="4316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431640"/>
              <a:gd name="textAreaBottom" fmla="*/ 216000 h 431640"/>
            </a:gdLst>
            <a:ahLst/>
            <a:rect l="textAreaLeft" t="textAreaTop" r="textAreaRight" b="textAreaBottom"/>
            <a:pathLst>
              <a:path w="2438400" h="431800">
                <a:moveTo>
                  <a:pt x="0" y="215899"/>
                </a:moveTo>
                <a:lnTo>
                  <a:pt x="0" y="215899"/>
                </a:lnTo>
                <a:arcTo wR="1219200" hR="215900" stAng="-10799997" swAng="10800006"/>
                <a:lnTo>
                  <a:pt x="2330450" y="215900"/>
                </a:lnTo>
                <a:lnTo>
                  <a:pt x="2330450" y="215900"/>
                </a:lnTo>
                <a:arcTo wR="1111250" hR="107950" stAng="0" swAng="-10800003"/>
                <a:close/>
              </a:path>
            </a:pathLst>
          </a:custGeom>
          <a:solidFill>
            <a:srgbClr val="ccecff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Прямоугольник с двумя скругленными противолежащими углами 22"/>
          <p:cNvGrpSpPr/>
          <p:nvPr/>
        </p:nvGrpSpPr>
        <p:grpSpPr>
          <a:xfrm>
            <a:off x="622440" y="341280"/>
            <a:ext cx="7961040" cy="811080"/>
            <a:chOff x="622440" y="341280"/>
            <a:chExt cx="7961040" cy="811080"/>
          </a:xfrm>
        </p:grpSpPr>
        <p:pic>
          <p:nvPicPr>
            <p:cNvPr id="174" name="Прямоугольник с двумя скругленными противолежащими углами 22" descr=""/>
            <p:cNvPicPr/>
            <p:nvPr/>
          </p:nvPicPr>
          <p:blipFill>
            <a:blip r:embed="rId2"/>
            <a:stretch/>
          </p:blipFill>
          <p:spPr>
            <a:xfrm>
              <a:off x="622440" y="341280"/>
              <a:ext cx="7961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120" y="395280"/>
              <a:ext cx="7853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846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005d7e"/>
                </a:solidFill>
                <a:latin typeface="Hemi Head 426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оритетное направление модернизации здравоохранения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0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77" name="Стрелка вниз 13"/>
          <p:cNvSpPr/>
          <p:nvPr/>
        </p:nvSpPr>
        <p:spPr>
          <a:xfrm>
            <a:off x="4500720" y="3716280"/>
            <a:ext cx="215640" cy="4334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7596360" cy="936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Hemi Head 426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материально – технической базы 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8560" y="1483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сети учреждений ,  коечного фонда, приведение его в соответствие с потребностью населения в медицинской помощи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 Снижение показателей по «лидерам» в структуре смертности и заболеваемости(в порядке убывания  мест в структуре смертности)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рдечно – сосудистые заболевания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кологические заболевания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нешние причины смерти (самоубийства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авмы и отравления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болевания органов дыхания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болевания органов кровообращения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Овал 5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6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0" y="428760"/>
            <a:ext cx="9144000" cy="544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438120"/>
            <a:ext cx="7667640" cy="75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материально – технической базы: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9240" y="1341360"/>
            <a:ext cx="849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Рациональность формирования штатных расписаний: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и кадр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я врачей составляет  -  17%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ого персонала -  42,4%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ладшего персонала      -  19,4%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его персонала          - 19,6%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врачей и медицинских сестер по анестезиологии и реанимаци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6" name="Овал 5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3"/>
          <p:cNvSpPr/>
          <p:nvPr/>
        </p:nvSpPr>
        <p:spPr>
          <a:xfrm>
            <a:off x="0" y="428760"/>
            <a:ext cx="9144000" cy="544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525080" cy="809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материально – технической базы: 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28412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вышение профессионального уровня медицинских работников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сены изменения в государственный образовательный стандарт высшего, среднего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на аккредитацию специалист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квалификационных характеристик фельдшера, расширение его функциональных обязанност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Овал 4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2920" y="356760"/>
            <a:ext cx="72550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тандартизация  - одно из направлений модернизации</a:t>
            </a:r>
            <a:br>
              <a:rPr sz="2800"/>
            </a:br>
            <a:br>
              <a:rPr sz="2200"/>
            </a:br>
            <a:br>
              <a:rPr sz="20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4360" y="1557360"/>
            <a:ext cx="87854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Порядков оказания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Федеральных стандарт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ринят ФЗ № 323 от 29.11.2010 г. «Об обязательном медицинском страховании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азработан законопроект «Об основах здоровья граждан в Российской Федерации»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57120" y="5657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642"/>
                </a:solidFill>
                <a:latin typeface="Arial"/>
                <a:ea typeface="Arial"/>
              </a:rPr>
              <a:t>В.В. Путин предложил на сайте Минздрава России публиковать рейтинги медицинских учреждений и страховых комп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Овал 5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6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476280"/>
            <a:ext cx="9144000" cy="57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6000" y="692280"/>
            <a:ext cx="4176720" cy="57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5d7e"/>
                </a:solidFill>
                <a:latin typeface="Hemi Head 426"/>
              </a:rPr>
              <a:t> </a:t>
            </a: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012 года 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01" name="Блок-схема: альтернативный процесс 4"/>
          <p:cNvSpPr/>
          <p:nvPr/>
        </p:nvSpPr>
        <p:spPr>
          <a:xfrm>
            <a:off x="324000" y="1628640"/>
            <a:ext cx="3600360" cy="93672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лномочия по оказанию медицинской помо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Блок-схема: альтернативный процесс 5"/>
          <p:cNvSpPr/>
          <p:nvPr/>
        </p:nvSpPr>
        <p:spPr>
          <a:xfrm>
            <a:off x="395280" y="2982960"/>
            <a:ext cx="3529080" cy="863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уницип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Блок-схема: альтернативный процесс 6"/>
          <p:cNvSpPr/>
          <p:nvPr/>
        </p:nvSpPr>
        <p:spPr>
          <a:xfrm>
            <a:off x="395280" y="4365720"/>
            <a:ext cx="3529080" cy="79200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гиональ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Стрелка вниз 7"/>
          <p:cNvSpPr/>
          <p:nvPr/>
        </p:nvSpPr>
        <p:spPr>
          <a:xfrm>
            <a:off x="1908000" y="2565360"/>
            <a:ext cx="287640" cy="432000"/>
          </a:xfrm>
          <a:prstGeom prst="downArrow">
            <a:avLst>
              <a:gd name="adj1" fmla="val 50000"/>
              <a:gd name="adj2" fmla="val 49972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Стрелка вниз 8"/>
          <p:cNvSpPr/>
          <p:nvPr/>
        </p:nvSpPr>
        <p:spPr>
          <a:xfrm flipH="1">
            <a:off x="1979640" y="3860640"/>
            <a:ext cx="288720" cy="505080"/>
          </a:xfrm>
          <a:prstGeom prst="downArrow">
            <a:avLst>
              <a:gd name="adj1" fmla="val 50000"/>
              <a:gd name="adj2" fmla="val 42398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Блок-схема: альтернативный процесс 9"/>
          <p:cNvSpPr/>
          <p:nvPr/>
        </p:nvSpPr>
        <p:spPr>
          <a:xfrm>
            <a:off x="4960800" y="1614600"/>
            <a:ext cx="3672000" cy="86508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лномочия по обязательному медицинскому страхован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Блок-схема: альтернативный процесс 10"/>
          <p:cNvSpPr/>
          <p:nvPr/>
        </p:nvSpPr>
        <p:spPr>
          <a:xfrm>
            <a:off x="4960800" y="2997360"/>
            <a:ext cx="3672000" cy="93636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лномочия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Блок-схема: альтернативный процесс 11"/>
          <p:cNvSpPr/>
          <p:nvPr/>
        </p:nvSpPr>
        <p:spPr>
          <a:xfrm>
            <a:off x="5105520" y="4437000"/>
            <a:ext cx="3527280" cy="792360"/>
          </a:xfrm>
          <a:prstGeom prst="flowChartAlternateProcess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гионы Р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Стрелка вниз 12"/>
          <p:cNvSpPr/>
          <p:nvPr/>
        </p:nvSpPr>
        <p:spPr>
          <a:xfrm>
            <a:off x="6689880" y="2492280"/>
            <a:ext cx="330120" cy="490680"/>
          </a:xfrm>
          <a:prstGeom prst="downArrow">
            <a:avLst>
              <a:gd name="adj1" fmla="val 50000"/>
              <a:gd name="adj2" fmla="val 50027"/>
            </a:avLst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Стрелка вниз 13"/>
          <p:cNvSpPr/>
          <p:nvPr/>
        </p:nvSpPr>
        <p:spPr>
          <a:xfrm>
            <a:off x="6659640" y="3933720"/>
            <a:ext cx="360360" cy="505080"/>
          </a:xfrm>
          <a:prstGeom prst="downArrow">
            <a:avLst>
              <a:gd name="adj1" fmla="val 50000"/>
              <a:gd name="adj2" fmla="val 50022"/>
            </a:avLst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4"/>
          <p:cNvSpPr/>
          <p:nvPr/>
        </p:nvSpPr>
        <p:spPr>
          <a:xfrm>
            <a:off x="2643120" y="1285920"/>
            <a:ext cx="4286160" cy="144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Прямая со стрелкой 15"/>
          <p:cNvCxnSpPr/>
          <p:nvPr/>
        </p:nvCxnSpPr>
        <p:spPr>
          <a:xfrm flipH="1">
            <a:off x="6903720" y="1285560"/>
            <a:ext cx="25920" cy="330840"/>
          </a:xfrm>
          <a:prstGeom prst="straightConnector1">
            <a:avLst/>
          </a:prstGeom>
          <a:ln w="4140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13" name="Прямая со стрелкой 16"/>
          <p:cNvCxnSpPr/>
          <p:nvPr/>
        </p:nvCxnSpPr>
        <p:spPr>
          <a:xfrm>
            <a:off x="2642040" y="1285560"/>
            <a:ext cx="13320" cy="330840"/>
          </a:xfrm>
          <a:prstGeom prst="straightConnector1">
            <a:avLst/>
          </a:prstGeom>
          <a:ln w="41400">
            <a:solidFill>
              <a:srgbClr val="00cc98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3"/>
          <p:cNvSpPr/>
          <p:nvPr/>
        </p:nvSpPr>
        <p:spPr>
          <a:xfrm>
            <a:off x="0" y="428760"/>
            <a:ext cx="9144000" cy="537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740720" cy="952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жидаемый результат  программ модернизации:</a:t>
            </a:r>
            <a:br>
              <a:rPr sz="2800"/>
            </a:br>
            <a:br>
              <a:rPr sz="2800"/>
            </a:br>
            <a:br>
              <a:rPr sz="2200"/>
            </a:br>
            <a:br>
              <a:rPr sz="2200"/>
            </a:br>
            <a:br>
              <a:rPr sz="20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341000"/>
            <a:ext cx="89647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овышение заработной  платы медицинских работни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Добиться укомплектованности став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Увеличения объёмов амбулаторной помощи, рост числа посещений на 22,9%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ерераспределение объёмов медицинской помощи в сторону стационаразамещающих технологи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Уменьшение средней длительности лечения в стационаре  с 12.8 до 11.8 дне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Овал 4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5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00240" y="1500120"/>
            <a:ext cx="5865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Состоялся  с  12.04. - 13.04.2011 г.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 г. Москве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Цель - обсуждение направлений развития, вопросов повышения социального статуса медицинских работников, оснащенности учреждений здравоохранения современным оборудованием и других актуальных проблем в отрасли в рамках модернизации здравоохранения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14200" y="4287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ac"/>
                </a:solidFill>
                <a:latin typeface="Arial"/>
                <a:ea typeface="Arial"/>
              </a:rPr>
              <a:t>Первый Всероссийский фору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ac"/>
                </a:solidFill>
                <a:latin typeface="Arial"/>
                <a:ea typeface="Arial"/>
              </a:rPr>
              <a:t>медицинских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C:\Users\Home\Desktop\фото г. Москва 2011г\DSC00151.JPG"/>
          <p:cNvPicPr/>
          <p:nvPr/>
        </p:nvPicPr>
        <p:blipFill>
          <a:blip r:embed="rId2"/>
          <a:stretch/>
        </p:blipFill>
        <p:spPr>
          <a:xfrm>
            <a:off x="0" y="1665360"/>
            <a:ext cx="3000240" cy="36925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14200" y="574200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рганизатор  -  Министерство здравоохранения и социального развития 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41264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Повышение интенсивности работы койки  с 325 до 335 дней в год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Снижение общей смертности на 12.7%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Снижение младенческой смертности на 7.5%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Изменение структуры заболеваемости в пользу более ранних стад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Повышение доступности оказания медицинской помощ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565200"/>
            <a:ext cx="8626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800"/>
            </a:br>
            <a:br>
              <a:rPr sz="2800"/>
            </a:br>
            <a:br>
              <a:rPr sz="2200"/>
            </a:br>
            <a:br>
              <a:rPr sz="2200"/>
            </a:br>
            <a:br>
              <a:rPr sz="2000"/>
            </a:br>
            <a:br>
              <a:rPr sz="2800"/>
            </a:br>
            <a:br>
              <a:rPr sz="3600"/>
            </a:br>
            <a:endParaRPr b="0" lang="en-US" sz="22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222" name="Овал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1476360" y="476280"/>
            <a:ext cx="7667640" cy="11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жидаемый результат  программ модерниз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Овал 2"/>
          <p:cNvGrpSpPr/>
          <p:nvPr/>
        </p:nvGrpSpPr>
        <p:grpSpPr>
          <a:xfrm>
            <a:off x="407880" y="695160"/>
            <a:ext cx="8175600" cy="4602240"/>
            <a:chOff x="407880" y="695160"/>
            <a:chExt cx="8175600" cy="4602240"/>
          </a:xfrm>
        </p:grpSpPr>
        <p:pic>
          <p:nvPicPr>
            <p:cNvPr id="227" name="Овал 2" descr=""/>
            <p:cNvPicPr/>
            <p:nvPr/>
          </p:nvPicPr>
          <p:blipFill>
            <a:blip r:embed="rId2"/>
            <a:stretch/>
          </p:blipFill>
          <p:spPr>
            <a:xfrm>
              <a:off x="407880" y="695160"/>
              <a:ext cx="817560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620720" y="1384200"/>
              <a:ext cx="575964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 txBox="1"/>
          <p:nvPr/>
        </p:nvSpPr>
        <p:spPr>
          <a:xfrm>
            <a:off x="500040" y="185688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 Black"/>
              </a:rPr>
              <a:t>Спасибо за внимание!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0" y="476280"/>
            <a:ext cx="9144000" cy="5232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250920" y="2060640"/>
            <a:ext cx="86788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 Организация медицинской профилактики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й помощи и развит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дравоохранения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. Развитие медицинской помощи детям 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ужбы родовспоможения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. Образование и развитие кадровых ресурсов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 Медицинское страхование </a:t>
            </a:r>
            <a:br>
              <a:rPr sz="31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1763640" y="6429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Calibri"/>
              </a:rPr>
              <a:t>Направления тематических екц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вал 6" descr=""/>
          <p:cNvPicPr/>
          <p:nvPr/>
        </p:nvPicPr>
        <p:blipFill>
          <a:blip r:embed="rId2"/>
          <a:stretch/>
        </p:blipFill>
        <p:spPr>
          <a:xfrm>
            <a:off x="-19080" y="457200"/>
            <a:ext cx="1463760" cy="1335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0920" y="1239840"/>
            <a:ext cx="93636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476360" y="620640"/>
            <a:ext cx="76676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Calibri"/>
              </a:rPr>
              <a:t>Направления тематических секц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0" y="62064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179280" y="1413000"/>
            <a:ext cx="8640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.Результаты работы тематических  секций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2. Доклад Председателя Правительства РФ В.В. Путина </a:t>
            </a:r>
            <a:br>
              <a:rPr sz="2300"/>
            </a:b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3. Доклад Министра здравоохранения и социального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 РФ Т.А. Голиковой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4. Награждение  правительственными наградам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ов  ликвидации последствий чрезвычайны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итуаций в регионах, пострадавших в 2010  году  о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лесных пожаров, террористических актов</a:t>
            </a:r>
            <a:r>
              <a:rPr b="1" lang="ru-RU" sz="2300" spc="-1" strike="noStrike">
                <a:solidFill>
                  <a:srgbClr val="005d7e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Овал 5" descr=""/>
          <p:cNvPicPr/>
          <p:nvPr/>
        </p:nvPicPr>
        <p:blipFill>
          <a:blip r:embed="rId2"/>
          <a:stretch/>
        </p:blipFill>
        <p:spPr>
          <a:xfrm>
            <a:off x="-19080" y="426960"/>
            <a:ext cx="1440000" cy="1425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 flipV="1">
            <a:off x="357120" y="1239840"/>
            <a:ext cx="68580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476360" y="620640"/>
            <a:ext cx="766764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Calibri"/>
              </a:rPr>
              <a:t>Пленарное засе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0" y="428760"/>
            <a:ext cx="9144000" cy="559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Текст 13"/>
          <p:cNvSpPr/>
          <p:nvPr/>
        </p:nvSpPr>
        <p:spPr>
          <a:xfrm>
            <a:off x="214200" y="4500720"/>
            <a:ext cx="316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айбарина  Елена Никола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заместитель директора НИИ детства имени в.и.Кулакова, главный специалист неонатолог Минздравсоцразвития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92000" y="1773360"/>
            <a:ext cx="5651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живаемость детей,  родившихся с весом менее 1000 грамм  увеличилась по сравнению с  1991 годом в два раз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ая динамика идет по всем весовым категория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ертность уменьшилась среди детей с массой тела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- 1, 5 кг  - в 2,8 раз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ссой 1,5 - 2 кг -   в 3 раз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сом 2 - 2,5 кг  - в 4 раз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комплекса мер по выхаживанию новорожденных с низкой и экстрема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изкой массой те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214200" y="1643040"/>
            <a:ext cx="3278160" cy="27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0" y="428760"/>
            <a:ext cx="9144000" cy="566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Текст 13"/>
          <p:cNvSpPr/>
          <p:nvPr/>
        </p:nvSpPr>
        <p:spPr>
          <a:xfrm>
            <a:off x="0" y="4143240"/>
            <a:ext cx="3214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айбарина  Елена Никола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заместитель директора НИИ детства имени В.И. Кулакова, главный специалист неонатолог Минздравсоцразвития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комплекса мер по выхаживанию новорожденных с низкой и экстрема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изкой массой те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1571760"/>
            <a:ext cx="302436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5"/>
          <p:cNvSpPr/>
          <p:nvPr/>
        </p:nvSpPr>
        <p:spPr>
          <a:xfrm>
            <a:off x="3071880" y="1700280"/>
            <a:ext cx="607212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ход  на новую систему регистрации рождения новорожденных, родившихся с экстремально низкой массой тел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медицинской помощи роженицам  с преждевременными  родами  в  медицинских учреждениях, где их детям можно будет оказать наиболее квалифицированную помощь с первых минут жиз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еонатальной хирург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920" y="1773000"/>
            <a:ext cx="8929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испансеризации детей первых 3 лет жизни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испансеризация   подростков (14 лет)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истемы паллиативной помощи тяжело больным детям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Прямоугольник с двумя скругленными противолежащими углами 5"/>
          <p:cNvGrpSpPr/>
          <p:nvPr/>
        </p:nvGrpSpPr>
        <p:grpSpPr>
          <a:xfrm>
            <a:off x="2036880" y="554040"/>
            <a:ext cx="6869160" cy="725400"/>
            <a:chOff x="2036880" y="554040"/>
            <a:chExt cx="6869160" cy="725400"/>
          </a:xfrm>
        </p:grpSpPr>
        <p:pic>
          <p:nvPicPr>
            <p:cNvPr id="123" name="Прямоугольник с двумя скругленными противолежащими углами 5" descr=""/>
            <p:cNvPicPr/>
            <p:nvPr/>
          </p:nvPicPr>
          <p:blipFill>
            <a:blip r:embed="rId2"/>
            <a:stretch/>
          </p:blipFill>
          <p:spPr>
            <a:xfrm>
              <a:off x="2036880" y="554040"/>
              <a:ext cx="6869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85840" y="604800"/>
              <a:ext cx="67723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667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бсуждаемые вопросы: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32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26" name="Овал 6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0920" y="1412640"/>
            <a:ext cx="8929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новление и приобретение современного медицинского оборудования для  отделений выхаживания недоношенных детей, родильных зал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оборудования возмож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УСЛОВ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азания медицинским  учреждением определённого вида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личия специалистов, обученных работе на приобретённом оборудовании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его простаив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ажно исключить фирмы – однодневки в его поставке  и иметь кроме сложного оборудования портативно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0" name="Прямоугольник с двумя скругленными противолежащими углами 5"/>
          <p:cNvGrpSpPr/>
          <p:nvPr/>
        </p:nvGrpSpPr>
        <p:grpSpPr>
          <a:xfrm>
            <a:off x="2036880" y="554040"/>
            <a:ext cx="6869160" cy="725400"/>
            <a:chOff x="2036880" y="554040"/>
            <a:chExt cx="6869160" cy="725400"/>
          </a:xfrm>
        </p:grpSpPr>
        <p:pic>
          <p:nvPicPr>
            <p:cNvPr id="131" name="Прямоугольник с двумя скругленными противолежащими углами 5" descr=""/>
            <p:cNvPicPr/>
            <p:nvPr/>
          </p:nvPicPr>
          <p:blipFill>
            <a:blip r:embed="rId2"/>
            <a:stretch/>
          </p:blipFill>
          <p:spPr>
            <a:xfrm>
              <a:off x="2036880" y="554040"/>
              <a:ext cx="6869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85840" y="604800"/>
              <a:ext cx="67723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667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бсуждаемые вопросы: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500"/>
            </a:br>
            <a:br>
              <a:rPr sz="3200"/>
            </a:br>
            <a:endParaRPr b="0" lang="en-US" sz="32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34" name="Овал 6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7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0" y="428760"/>
            <a:ext cx="9144000" cy="5143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4200" y="1484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 пансионатов для размещения родителей, дети, которых  находятся на лечении при крупных федеральных перинатальных центра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ключение  понятия ответственного родительства в ФЗ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 защите здоровья граждан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 укрепления социальной службы  и её взаимосвязи  с акушерской и педиатрическ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расширения  национального календаря привив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8" name="Прямоугольник с двумя скругленными противолежащими углами 5"/>
          <p:cNvGrpSpPr/>
          <p:nvPr/>
        </p:nvGrpSpPr>
        <p:grpSpPr>
          <a:xfrm>
            <a:off x="1627200" y="554040"/>
            <a:ext cx="6316560" cy="598320"/>
            <a:chOff x="1627200" y="554040"/>
            <a:chExt cx="6316560" cy="598320"/>
          </a:xfrm>
        </p:grpSpPr>
        <p:pic>
          <p:nvPicPr>
            <p:cNvPr id="139" name="Прямоугольник с двумя скругленными противолежащими углами 5" descr=""/>
            <p:cNvPicPr/>
            <p:nvPr/>
          </p:nvPicPr>
          <p:blipFill>
            <a:blip r:embed="rId2"/>
            <a:stretch/>
          </p:blipFill>
          <p:spPr>
            <a:xfrm>
              <a:off x="1627200" y="554040"/>
              <a:ext cx="63165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671480" y="600120"/>
              <a:ext cx="6229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Заголовок 1"/>
          <p:cNvSpPr/>
          <p:nvPr/>
        </p:nvSpPr>
        <p:spPr>
          <a:xfrm>
            <a:off x="1476360" y="476280"/>
            <a:ext cx="7667640" cy="799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br>
              <a:rPr sz="600"/>
            </a:br>
            <a:br>
              <a:rPr sz="600"/>
            </a:br>
            <a:br>
              <a:rPr sz="600"/>
            </a:br>
            <a:br>
              <a:rPr sz="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бсуждаемые вопросы: </a:t>
            </a:r>
            <a:br>
              <a:rPr sz="3200"/>
            </a:br>
            <a:br>
              <a:rPr sz="600"/>
            </a:br>
            <a:br>
              <a:rPr sz="600"/>
            </a:br>
            <a:br>
              <a:rPr sz="500"/>
            </a:br>
            <a:br>
              <a:rPr sz="700"/>
            </a:br>
            <a:br>
              <a:rPr sz="9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Овал 7" descr=""/>
          <p:cNvPicPr/>
          <p:nvPr/>
        </p:nvPicPr>
        <p:blipFill>
          <a:blip r:embed="rId4"/>
          <a:stretch/>
        </p:blipFill>
        <p:spPr>
          <a:xfrm>
            <a:off x="-19080" y="-19080"/>
            <a:ext cx="1513080" cy="1378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8"/>
          <p:cNvSpPr/>
          <p:nvPr/>
        </p:nvSpPr>
        <p:spPr>
          <a:xfrm flipV="1">
            <a:off x="324000" y="691920"/>
            <a:ext cx="863280" cy="46080"/>
          </a:xfrm>
          <a:prstGeom prst="rect">
            <a:avLst/>
          </a:prstGeom>
          <a:solidFill>
            <a:srgbClr val="002e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25:52Z</dcterms:created>
  <dc:creator>Домашний компьютер</dc:creator>
  <dc:description/>
  <dc:language>en-US</dc:language>
  <cp:lastModifiedBy>ОПСА</cp:lastModifiedBy>
  <dcterms:modified xsi:type="dcterms:W3CDTF">2011-06-03T05:10:03Z</dcterms:modified>
  <cp:revision>58</cp:revision>
  <dc:subject/>
  <dc:title>Слайд 1</dc:title>
</cp:coreProperties>
</file>