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179-47A8-4EEF-8B3E-864C63E05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422E-BB72-4955-AFCB-EB2A5D5E6A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465-130E-403D-AC25-473BF7E7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3E0-FF0D-494F-B625-F6A233B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5B1-3EB7-48D9-87B1-0E2C9E5D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B61-EFB3-4677-ADA4-E2F47320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130-49BE-4883-B368-43A65294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FF2-FFDA-4700-8984-AF61298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734-F5D9-42D2-9EFE-F6557441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CAD-7349-49D8-988B-2A1168BA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A49-274C-408B-B3FC-D90C4D9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7ED-93EF-4EDC-9565-BB3BEF3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336-8C3C-4D18-A963-92E6748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531-F23A-4871-A1B3-CD4E2B7A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291-29A4-43AC-BEAA-CD0C2BCE5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Desktop\Untitled-1.gif"/>
          <p:cNvPicPr/>
          <p:nvPr/>
        </p:nvPicPr>
        <p:blipFill>
          <a:blip r:embed="rId3"/>
          <a:stretch/>
        </p:blipFill>
        <p:spPr>
          <a:xfrm>
            <a:off x="-96840" y="49320"/>
            <a:ext cx="108432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4"/>
          <a:stretch/>
        </p:blipFill>
        <p:spPr>
          <a:xfrm>
            <a:off x="1620720" y="3206880"/>
            <a:ext cx="662796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1224000" y="6254640"/>
            <a:ext cx="738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4d4d4d"/>
                </a:solidFill>
                <a:latin typeface="Calibri"/>
              </a:rPr>
              <a:t>31 мая 2011 г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3"/>
          <p:cNvSpPr/>
          <p:nvPr/>
        </p:nvSpPr>
        <p:spPr>
          <a:xfrm>
            <a:off x="1728720" y="1268280"/>
            <a:ext cx="6515280" cy="0"/>
          </a:xfrm>
          <a:prstGeom prst="line">
            <a:avLst/>
          </a:prstGeom>
          <a:ln w="15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826920" y="1409760"/>
            <a:ext cx="8245800" cy="77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Calibri"/>
              </a:rPr>
              <a:t>Семина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971640" y="2050920"/>
            <a:ext cx="8243640" cy="2837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Calibri"/>
              </a:rPr>
              <a:t>«Мир нуждается в акушерках          и медицинских сестрах сегодня более, чем когда-либо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00000" y="-27000"/>
            <a:ext cx="82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d4d4d"/>
                </a:solidFill>
                <a:latin typeface="Calibri"/>
              </a:rPr>
              <a:t>Министерство здравоохранения Омской обла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900000" y="333360"/>
            <a:ext cx="82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d4d4d"/>
                </a:solidFill>
                <a:latin typeface="Calibri"/>
              </a:rPr>
              <a:t>Омская профессиональная сестринская ассоци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900000" y="719280"/>
            <a:ext cx="82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d4d4d"/>
                </a:solidFill>
                <a:latin typeface="Calibri"/>
              </a:rPr>
              <a:t>Клинический родильный дом № 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4:38:19Z</dcterms:created>
  <dc:creator>User</dc:creator>
  <dc:description/>
  <dc:language>en-US</dc:language>
  <cp:lastModifiedBy>ОПСА</cp:lastModifiedBy>
  <dcterms:modified xsi:type="dcterms:W3CDTF">2011-06-03T04:50:44Z</dcterms:modified>
  <cp:revision>17</cp:revision>
  <dc:subject/>
  <dc:title>Слайд 1</dc:title>
</cp:coreProperties>
</file>