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B52-EEA6-45A8-8881-948ED3A7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330-624F-4D21-B504-0763D3C7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A4D-FFB0-40AC-870B-2F84C2B4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40A-F3A1-4382-8980-44EBFB08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5A2-5E9B-4E5D-AD50-2CE8DEF0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DA2-D558-4DF0-883A-FCC0FD7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AA3-DC2B-49C5-A8AA-AEC953CF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124-2F6D-45D9-BC6F-6F6FDFF9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B16-E893-43E7-AC05-66DAD4A0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23A-2DEB-4251-BFF6-77EFCD43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FB5-D2B9-4C06-9ACC-E1280016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6CA-E819-4309-8961-7E4D18D0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F468-8BB3-49BF-A4D2-8A254187F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378720" y="674640"/>
            <a:ext cx="84560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Есть древняя профессия на све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И она прошла через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Знает каждый житель на планете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Это медицинская сес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Под белыми халатами незр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Бьётся сердце жарко, как ко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В борьбе за жизнь стоит неутом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Армия российских медсе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43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46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109080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4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53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6600" y="606240"/>
            <a:ext cx="8958960" cy="58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Они пришли работать по призванью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Забыв подчас про собственный недуг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В любое время суток, днём и ночью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С собою ласку и покой несут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А если завтра позовет Отчизна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Невзгоды мы поделим вместе с ней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И преданных защитников Росси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Готовы грудью заслонить своей.</a:t>
            </a: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0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8"/>
          <p:cNvSpPr/>
          <p:nvPr/>
        </p:nvSpPr>
        <p:spPr>
          <a:xfrm>
            <a:off x="0" y="109116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5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7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49840" y="1405440"/>
            <a:ext cx="881568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И пока живут на свете люди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Было, есть и будет так всегда: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Скромная почётная профессия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Знаем, не исчезнет никогда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74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708120"/>
            <a:ext cx="91440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81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0-11-26T04:54:1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