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6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E16-8BF0-484D-87EC-2E8B8766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794-5A7E-48E8-9980-5FE8B724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3E4-F668-4795-81DE-4E1E78D1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1D0-1BAF-43B0-9487-A42705BC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59E-FC4F-4417-8F48-CD144C23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1F0-5DD6-4753-8A26-022D5E82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F3E-EF2D-445B-AB7D-5B8E4072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DB7-4069-4EDB-B5F3-9C842E01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DED-3CC9-4A3B-B055-20DB3549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016-0EF6-4F6E-99FA-F089F36F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6C9-08F2-4DFE-A430-6062C04A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ED1-0748-4824-BA1D-F6E146A8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D068-DBD7-4F03-82C5-AC189D71538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6572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488b"/>
                </a:solidFill>
                <a:latin typeface="Calibri"/>
              </a:rPr>
              <a:t>Конференция медицинских сест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2999880"/>
            <a:ext cx="7929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льга Николаевна Степанова</a:t>
            </a:r>
            <a:r>
              <a:rPr b="0" lang="ru-RU" sz="23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, главный внештатный психиатр Омской области, заместитель главного врача, к.м.</a:t>
            </a:r>
            <a:r>
              <a:rPr b="0" lang="ru-RU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8064-2520-4420-9D95-237222D7FB6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857160" y="1143000"/>
            <a:ext cx="760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стояние и перспективы развития психиатрической службы 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7286760" y="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3735"/>
                </a:solidFill>
                <a:latin typeface="Calibri"/>
              </a:rPr>
              <a:t>г. Омск, 14 октября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5678640" y="4357800"/>
            <a:ext cx="3251160" cy="230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DSC_4982"/>
          <p:cNvPicPr/>
          <p:nvPr/>
        </p:nvPicPr>
        <p:blipFill>
          <a:blip r:embed="rId2"/>
          <a:stretch/>
        </p:blipFill>
        <p:spPr>
          <a:xfrm>
            <a:off x="214200" y="4429080"/>
            <a:ext cx="342900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небольничная помощ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ые стациона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 303 мест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6 в КПБ им. Н.Н.Солодник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стационара на дому на базе диспансерных отделений психиатрической боль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E331-CC28-45DC-976D-DC7FC86450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4438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ятельность скорой психиатрической помощ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28800" y="1785960"/>
          <a:ext cx="7476840" cy="3535200"/>
        </p:xfrm>
        <a:graphic>
          <a:graphicData uri="http://schemas.openxmlformats.org/drawingml/2006/table">
            <a:tbl>
              <a:tblPr/>
              <a:tblGrid>
                <a:gridCol w="3128760"/>
                <a:gridCol w="1449360"/>
                <a:gridCol w="1420920"/>
                <a:gridCol w="1477800"/>
              </a:tblGrid>
              <a:tr h="91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вызов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9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 1000 состоящих под наблюдени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,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,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51C0-404C-41D9-A2E6-D30C330CA9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психиатрической службе Омской области организовано наблюдение и лечение психически больных, склонных к совершению общественно опасных действ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од активным диспансерным наблюдением в 2010г. находилось 833 больны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6625-8671-492D-A7FD-F92C11DBFB7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4438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недобровольной и принудительной госпитал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28760" y="1571760"/>
          <a:ext cx="8429400" cy="4276440"/>
        </p:xfrm>
        <a:graphic>
          <a:graphicData uri="http://schemas.openxmlformats.org/drawingml/2006/table">
            <a:tbl>
              <a:tblPr/>
              <a:tblGrid>
                <a:gridCol w="5172120"/>
                <a:gridCol w="1104840"/>
                <a:gridCol w="1110960"/>
                <a:gridCol w="1041480"/>
              </a:tblGrid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бровольная госпитализа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. 29 Закона о психиатричес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бровольная госпитализа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. 35  Закона о психиатричес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(по  решению суд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ходящихся 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удительном лечен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3460-74AB-4330-B283-7047C0BE8E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9BEB-266B-412A-8B89-621BDAF4F92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14240" y="35712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тапы оптимизации психиатрической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7120" y="1071720"/>
            <a:ext cx="8572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пределены проблемы в работе психиатрической службы. Для нас это перегруженность отделений, длительные и частые госпитализации определенных контингентов больных,  госпитализации по социальным показателям, нечеткая дифференциация помощи и т.п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оисходило знакомство с инновационным отечественным и зарубежным опытом оказания психиатрической по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оводился анализ электронных данных. Конкретизация выявленных в службе проблем благодаря определению проблемных групп больных,  дифференциация потоков паци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зработана концепция преобразований, поставлены цели и задачи по усовершенствованию деятельности психиатрической сл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8577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нновационные стационарные и амбулаторные пилотные форм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680" y="1447560"/>
            <a:ext cx="8643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Первый психотический эпизод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билитационный комплекс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е интенсивного лечения в сообществ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Жилье с поддержкой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НЛ с кабинетом АДН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ризисная служ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C8A2-999D-446E-8786-7B4F607E7D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92972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тапы оптимизации психиатрической служб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400" y="999720"/>
            <a:ext cx="8715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Совершенствовались автоматизированные системы управления (программный комплекс «Пациент»), развивались технологии статистики. Кроме того, разрабатывались программы, позволяющие учитывать реабилитационную деятельность специалистов немедицинского профиля (автоматизированные рабочие места «Социальная работа», «Медицинский психолог»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Конкретизировались требования больницы к специалистам, занимающихся психосоциальной реабилитацией пациентов, накапливался методический инструментарий для выполнения данной деятельност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Развивалась система непрерывного профессионального образования на базе больницы при взаимодействиями со средне-специальными и высшими учебными заведениями для обучения представителей всех специалистов больницы – врачей, медицинских сестер, специалистов по социальной работе. Развивались студенческие практики на базе больницы, привлекались к реабилитационной деятельности волонтер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В процесс усовершенствования вовлекались традиционные подразделения, формировалась преемственность между служба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C3F6-D47F-4423-BF99-BB29F0C6347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втоматизированное рабочее место в психиатрической службе как инструмент для сбора информации, статистической обработки и анализа данны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447560"/>
            <a:ext cx="8577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ый учет объема и качества психиатрической помощи в стационарах и диспансерных отделениях больниц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тегрированного коэффициента трудового участия каждого врач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усредненных показателей стоимости лечения различных категорий пациен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возможности получения данных по статистическим формам для ЦРБ Омской обла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медицинского и другого персонала работам в рамках поставленных и реализуемых програм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нференций, рабочих семинаров, издание соответствующих рекомендаций, учебно-методических пособий по вопросам работы автоматизированных систем в медиц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3C5A-32B0-4B67-B17A-E206CE2B84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85010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Данные о психиатрической службе, получаемые с помощью АС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8400" y="1071720"/>
            <a:ext cx="85057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обеспечения населения стационарной помощью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больничной койк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качества стационарной помощ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объёмов амбулаторно-поликлинической помощ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заболеваемости психическими расстройствам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инвалид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нагрузки персона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D4CF-B097-444D-A54E-DB0D4D1DB1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9720" y="142560"/>
            <a:ext cx="78627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втоматизированные рабочие мест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A259-8127-446E-876D-48BE579BD5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57120" y="714240"/>
          <a:ext cx="8429760" cy="61880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61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корая психиатрическая помощ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Приемное отдел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правочная система больницы (круглосуточно для скорой помощи и приемного отделени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тационарные отдел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Военн</a:t>
                      </a:r>
                      <a:r>
                        <a:rPr b="0" lang="en-US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ая</a:t>
                      </a: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 экспертиза призывни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Военная экспертиза военнослужащ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оматическая патолог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Мониторинг смерт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Диспансерное отделение для взрослого насел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Диспансерное отделение для детского насел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Учет детей-инвали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Учет федеральных льготни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Пенсионный фон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Выдача справо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Выписка рецеп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оциальная раб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Психолог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Принудительное леч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уицидолог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Психиатрические кабинеты ЦР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Глобус – Омск (связь с УВД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адр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Тарификац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татистическая обработ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Медста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Рисунок1"/>
          <p:cNvPicPr/>
          <p:nvPr/>
        </p:nvPicPr>
        <p:blipFill>
          <a:blip r:embed="rId1"/>
          <a:stretch/>
        </p:blipFill>
        <p:spPr>
          <a:xfrm>
            <a:off x="179280" y="189000"/>
            <a:ext cx="8777520" cy="648648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0545-A15C-4D87-8B1D-F4379FEA96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56760" y="1071720"/>
            <a:ext cx="6015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ый реабилитационный комплекс (Отделение внебольничной реабилитации.) Открыт в 200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первого психотического эпизода. Открыт в 2003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Жилье с поддержкой» (Общежитие, квартиры с поддержкой при Загородном реабилитационном отделении, арендованное и др.жилье с поддержкой). Открыта в 2003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интенсивного лечения в сообществе (ОИЛС для взрослых и детей) Открыто в 2005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ризисная служба преобразована в 2009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Активного диспансерного наблюдения работает с 2002 год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8361-F194-40B8-95EB-19600D8C8BA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IMG_0369"/>
          <p:cNvPicPr/>
          <p:nvPr/>
        </p:nvPicPr>
        <p:blipFill>
          <a:blip r:embed="rId1"/>
          <a:stretch/>
        </p:blipFill>
        <p:spPr>
          <a:xfrm>
            <a:off x="6516720" y="4653000"/>
            <a:ext cx="2448000" cy="1663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Общежитие для больных в Загородной зоне"/>
          <p:cNvPicPr/>
          <p:nvPr/>
        </p:nvPicPr>
        <p:blipFill>
          <a:blip r:embed="rId2"/>
          <a:stretch/>
        </p:blipFill>
        <p:spPr>
          <a:xfrm>
            <a:off x="6516720" y="907920"/>
            <a:ext cx="2444760" cy="1625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DSCN2900"/>
          <p:cNvPicPr/>
          <p:nvPr/>
        </p:nvPicPr>
        <p:blipFill>
          <a:blip r:embed="rId3"/>
          <a:stretch/>
        </p:blipFill>
        <p:spPr>
          <a:xfrm>
            <a:off x="6516720" y="2817720"/>
            <a:ext cx="2448000" cy="1521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500040" y="142920"/>
            <a:ext cx="864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новные прогрессивные формы оказания психиатрической помощи в регионе</a:t>
            </a:r>
            <a:r>
              <a:rPr b="1" lang="ru-RU" sz="2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Амбулаторный реабилитационный комплекс </a:t>
            </a:r>
            <a:br>
              <a:rPr sz="2300"/>
            </a:br>
            <a:r>
              <a:rPr b="1" lang="ru-RU" sz="23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Отделение внебольничной реабилитации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7120" y="1125360"/>
            <a:ext cx="61581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 внедрение новых форм психосоциальной работ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 хронических заболеваний в наименее стигматизирующих условиях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метод работы полипрофессиональной бригады – «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management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с охватом 100% пациентов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е психосоциальных методов лечения и психофармакотерапи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эмоциональной и инструментальной поддержки пациентам и их родственника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психообразовательных и психосоциальных программ для пациентов и их родственник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с родственниками пациентов, общественными, бюджетными и коммерческими организациями го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7627-C0D3-40F2-9351-68862D43E24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занятия лечебной физкультурой в подростковом отделении"/>
          <p:cNvPicPr/>
          <p:nvPr/>
        </p:nvPicPr>
        <p:blipFill>
          <a:blip r:embed="rId1"/>
          <a:stretch/>
        </p:blipFill>
        <p:spPr>
          <a:xfrm>
            <a:off x="6588000" y="4941720"/>
            <a:ext cx="2556000" cy="191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09160014"/>
          <p:cNvPicPr/>
          <p:nvPr/>
        </p:nvPicPr>
        <p:blipFill>
          <a:blip r:embed="rId2"/>
          <a:stretch/>
        </p:blipFill>
        <p:spPr>
          <a:xfrm>
            <a:off x="6588000" y="2997360"/>
            <a:ext cx="2556000" cy="170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газета июнь 2008"/>
          <p:cNvPicPr/>
          <p:nvPr/>
        </p:nvPicPr>
        <p:blipFill>
          <a:blip r:embed="rId3"/>
          <a:stretch/>
        </p:blipFill>
        <p:spPr>
          <a:xfrm>
            <a:off x="6516720" y="981000"/>
            <a:ext cx="26272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тделение первого психотического эпизод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571320"/>
            <a:ext cx="63021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преемственность стационарных и амбулаторных подразделений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ность современными препаратам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неблагоприятного течения шизофрении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скорения наступления ремиссии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социальных потерь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на инициальном этапе болезни терапевтического воздействия н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когнитивный дефицит у больных шизофренией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е восстановление больных, улучшение долгосрочного прогноза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ая профилактика повторных обострений и хронификации заболевания с уменьшением в дальнейшем числа и длительности госпитализаций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шевление помощи в долгосрочной перспектив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3DF8-1BA4-45BC-8F4F-1B430F6155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08280037"/>
          <p:cNvPicPr/>
          <p:nvPr/>
        </p:nvPicPr>
        <p:blipFill>
          <a:blip r:embed="rId1"/>
          <a:stretch/>
        </p:blipFill>
        <p:spPr>
          <a:xfrm>
            <a:off x="6372360" y="4916520"/>
            <a:ext cx="2643120" cy="1760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P5070005"/>
          <p:cNvPicPr/>
          <p:nvPr/>
        </p:nvPicPr>
        <p:blipFill>
          <a:blip r:embed="rId2"/>
          <a:stretch/>
        </p:blipFill>
        <p:spPr>
          <a:xfrm>
            <a:off x="6372360" y="7650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P4020032"/>
          <p:cNvPicPr/>
          <p:nvPr/>
        </p:nvPicPr>
        <p:blipFill>
          <a:blip r:embed="rId3"/>
          <a:stretch/>
        </p:blipFill>
        <p:spPr>
          <a:xfrm>
            <a:off x="6372360" y="2924280"/>
            <a:ext cx="260640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рограмма «Жилье с поддержкой»</a:t>
            </a:r>
            <a:r>
              <a:rPr b="1" lang="ru-RU" sz="2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785880"/>
            <a:ext cx="6041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ая часть психиатрической помощи, «промежуточное» учреждение на этапе реабилитации от стационара к возвращению больных к самостоятельному проживанию в обще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жилья с поддержк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житие при Загородном отделен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иры с поддержкой при Загородном реабилитационном отделен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дованное у администрации поселков городского типа жилье с поддерж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ное за собственные средства пациентов жилье с поддержк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29F0-6738-4146-A3D3-97DC51EFF36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G_0069"/>
          <p:cNvPicPr/>
          <p:nvPr/>
        </p:nvPicPr>
        <p:blipFill>
          <a:blip r:embed="rId1"/>
          <a:stretch/>
        </p:blipFill>
        <p:spPr>
          <a:xfrm>
            <a:off x="6588000" y="76500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PA110029"/>
          <p:cNvPicPr/>
          <p:nvPr/>
        </p:nvPicPr>
        <p:blipFill>
          <a:blip r:embed="rId2"/>
          <a:stretch/>
        </p:blipFill>
        <p:spPr>
          <a:xfrm>
            <a:off x="6588000" y="2781360"/>
            <a:ext cx="2556000" cy="1922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MG_0070"/>
          <p:cNvPicPr/>
          <p:nvPr/>
        </p:nvPicPr>
        <p:blipFill>
          <a:blip r:embed="rId3"/>
          <a:stretch/>
        </p:blipFill>
        <p:spPr>
          <a:xfrm>
            <a:off x="6588000" y="479736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4294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Цель жилья с поддержкой - восстановление пациента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о уровня, определяющего его независимое проживание при минимальной профессиональной поддерж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1500120"/>
            <a:ext cx="8353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зличных форм «промежуточного жилья»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в них поддерживающей фармакотерапии и программы психосоциальных вмешательств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терапевтического сообщества в каждой из них для развития социальных связей, положительных установок и форм поведения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реабилитация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олезного досуга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интересов и защита прав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медицинская помощь;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восстановлению социальных связей и определению путей достижения независимого прожива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A39D-61AE-48A3-9FD3-98474FD215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5840" y="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рограмма «Интенсивное лечение в сообществе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68000" y="2707920"/>
            <a:ext cx="47516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17375e"/>
                </a:solidFill>
                <a:latin typeface="Book Antiqua"/>
              </a:rPr>
              <a:t>Полипрофессиональные бригад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E225-C564-40E7-8C72-CC96CE14AD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j0301252"/>
          <p:cNvPicPr/>
          <p:nvPr/>
        </p:nvPicPr>
        <p:blipFill>
          <a:blip r:embed="rId1"/>
          <a:stretch/>
        </p:blipFill>
        <p:spPr>
          <a:xfrm>
            <a:off x="179280" y="4941720"/>
            <a:ext cx="2089080" cy="1785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765000"/>
            <a:ext cx="8064720" cy="935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сихиатрическое диспансерное отде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для взрослого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03280" y="2060640"/>
            <a:ext cx="6120000" cy="64764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Отделение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интенсивного лечения в со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042920" y="3213000"/>
            <a:ext cx="6840720" cy="79236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5 полипрофессиональных брига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ля первого психотического эпиз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для пациентов с хроническим течением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258920" y="4292640"/>
            <a:ext cx="6769080" cy="720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Участки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отделения интенсивного лечения в со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(по количеству округов г. Ом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5007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161928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730872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4500720" y="29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692360" y="400536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>
            <a:off x="6948000" y="400536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457200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2916360" y="5229360"/>
            <a:ext cx="3384360" cy="1295280"/>
          </a:xfrm>
          <a:prstGeom prst="rect">
            <a:avLst/>
          </a:prstGeom>
          <a:solidFill>
            <a:srgbClr val="3185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Состав полипрофессиональной брига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</a:rPr>
              <a:t>Врач-психиа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</a:rPr>
              <a:t>Психотерапе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</a:rPr>
              <a:t>Психол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</a:rPr>
              <a:t>Специалист по соц.рабо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</a:rPr>
              <a:t>Мед.сес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</a:rPr>
              <a:t>Соц.работ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9840" y="0"/>
            <a:ext cx="87138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реобразование антикризисной помощи КП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250920" y="873000"/>
            <a:ext cx="8642160" cy="5257800"/>
          </a:xfrm>
          <a:prstGeom prst="rect">
            <a:avLst/>
          </a:prstGeom>
          <a:ln w="0">
            <a:noFill/>
          </a:ln>
        </p:spPr>
      </p:pic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0090-7D6C-4805-9766-1E12A1D2E18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508720" y="5661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стадии реш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236000" y="5661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стадии реш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91440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Бесплатные мобильные телефоны доверия суицидологической служб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1AB-0E14-40E2-9D6B-D7172E22875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G:\Documents and Settings\Администратор\Рабочий стол\ПРЕЗЕНТАЦИЯ в Министерство\IMG_2729.jpg"/>
          <p:cNvPicPr/>
          <p:nvPr/>
        </p:nvPicPr>
        <p:blipFill>
          <a:blip r:embed="rId1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6000840" y="1643040"/>
            <a:ext cx="2808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руглосуточно, бесплатно, анонимно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G:\Documents and Settings\Администратор\Рабочий стол\ПРЕЗЕНТАЦИЯ в Министерство\О-353-_3.jpg"/>
          <p:cNvPicPr/>
          <p:nvPr/>
        </p:nvPicPr>
        <p:blipFill>
          <a:blip r:embed="rId2"/>
          <a:stretch/>
        </p:blipFill>
        <p:spPr>
          <a:xfrm>
            <a:off x="0" y="1125360"/>
            <a:ext cx="48592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154A-40C1-4CB5-8B8E-7F26174BF78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95280" y="260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хема взаимодействия суицидологического отделения с учреждениями г. Омска и Ом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7920" y="1400040"/>
            <a:ext cx="913608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D3C1-451D-48C7-A6B6-193795AC7E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E:\36. статьи и доклады\КОНФЕРЕНЦИЯ 2011\доклады\паспорт.jpg"/>
          <p:cNvPicPr/>
          <p:nvPr/>
        </p:nvPicPr>
        <p:blipFill>
          <a:blip r:embed="rId1"/>
          <a:stretch/>
        </p:blipFill>
        <p:spPr>
          <a:xfrm>
            <a:off x="2357280" y="285840"/>
            <a:ext cx="4643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мбулаторная служ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ые отделения для детей и взрослого насе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терапевтическое отде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ицид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ы врачей-психиатров и психотерапевтов в поликлиниках города Ом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ы врачей-психиатров поликлиник ЦРБ 32 сельских районов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FF44-C0EB-4060-8F81-DBC5BA21BBA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убликации специалистов КПБ</a:t>
            </a:r>
            <a:r>
              <a:rPr b="0" lang="ru-RU" sz="40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67FD-4FC6-420B-A267-1F33570704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НОС РДС2"/>
          <p:cNvPicPr/>
          <p:nvPr/>
        </p:nvPicPr>
        <p:blipFill>
          <a:blip r:embed="rId1"/>
          <a:stretch/>
        </p:blipFill>
        <p:spPr>
          <a:xfrm rot="2924400">
            <a:off x="5925960" y="2866680"/>
            <a:ext cx="2330280" cy="331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НОС РДС"/>
          <p:cNvPicPr/>
          <p:nvPr/>
        </p:nvPicPr>
        <p:blipFill>
          <a:blip r:embed="rId2"/>
          <a:stretch/>
        </p:blipFill>
        <p:spPr>
          <a:xfrm rot="4482600">
            <a:off x="486000" y="1033920"/>
            <a:ext cx="2122560" cy="2737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КП защитить реб от стресса"/>
          <p:cNvPicPr/>
          <p:nvPr/>
        </p:nvPicPr>
        <p:blipFill>
          <a:blip r:embed="rId3"/>
          <a:stretch/>
        </p:blipFill>
        <p:spPr>
          <a:xfrm flipH="1" rot="13413000">
            <a:off x="684360" y="3141720"/>
            <a:ext cx="2039760" cy="2922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КП нарушения сна"/>
          <p:cNvPicPr/>
          <p:nvPr/>
        </p:nvPicPr>
        <p:blipFill>
          <a:blip r:embed="rId4"/>
          <a:stretch/>
        </p:blipFill>
        <p:spPr>
          <a:xfrm rot="7103400">
            <a:off x="3173760" y="1081800"/>
            <a:ext cx="2147760" cy="295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МК в Омске"/>
          <p:cNvPicPr/>
          <p:nvPr/>
        </p:nvPicPr>
        <p:blipFill>
          <a:blip r:embed="rId5"/>
          <a:stretch/>
        </p:blipFill>
        <p:spPr>
          <a:xfrm rot="6662400">
            <a:off x="3458880" y="2957400"/>
            <a:ext cx="2514600" cy="3457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КП первый эпизод"/>
          <p:cNvPicPr/>
          <p:nvPr/>
        </p:nvPicPr>
        <p:blipFill>
          <a:blip r:embed="rId6"/>
          <a:stretch/>
        </p:blipFill>
        <p:spPr>
          <a:xfrm rot="3724200">
            <a:off x="6453360" y="1044360"/>
            <a:ext cx="1998360" cy="273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гуров"/>
          <p:cNvPicPr/>
          <p:nvPr/>
        </p:nvPicPr>
        <p:blipFill>
          <a:blip r:embed="rId7"/>
          <a:stretch/>
        </p:blipFill>
        <p:spPr>
          <a:xfrm>
            <a:off x="2411280" y="1197000"/>
            <a:ext cx="1228680" cy="1724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лиманкин"/>
          <p:cNvPicPr/>
          <p:nvPr/>
        </p:nvPicPr>
        <p:blipFill>
          <a:blip r:embed="rId8"/>
          <a:stretch/>
        </p:blipFill>
        <p:spPr>
          <a:xfrm>
            <a:off x="1908000" y="4653000"/>
            <a:ext cx="1457640" cy="1952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обложка сиб вестника"/>
          <p:cNvPicPr/>
          <p:nvPr/>
        </p:nvPicPr>
        <p:blipFill>
          <a:blip r:embed="rId9"/>
          <a:stretch/>
        </p:blipFill>
        <p:spPr>
          <a:xfrm>
            <a:off x="5364000" y="1484280"/>
            <a:ext cx="1152720" cy="194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омский научн вестник"/>
          <p:cNvPicPr/>
          <p:nvPr/>
        </p:nvPicPr>
        <p:blipFill>
          <a:blip r:embed="rId10"/>
          <a:stretch/>
        </p:blipFill>
        <p:spPr>
          <a:xfrm>
            <a:off x="7308720" y="4653000"/>
            <a:ext cx="14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рос конф"/>
          <p:cNvPicPr/>
          <p:nvPr/>
        </p:nvPicPr>
        <p:blipFill>
          <a:blip r:embed="rId11"/>
          <a:stretch/>
        </p:blipFill>
        <p:spPr>
          <a:xfrm>
            <a:off x="179280" y="5445000"/>
            <a:ext cx="800280" cy="1133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5"/>
          <p:cNvSpPr/>
          <p:nvPr/>
        </p:nvSpPr>
        <p:spPr>
          <a:xfrm>
            <a:off x="0" y="-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080" y="194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1080" y="2451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1080" y="46994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1080" y="6947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2D80-7694-4E2D-83C2-3FC21DCA9A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8" name="Rectangle 3"/>
          <p:cNvSpPr/>
          <p:nvPr/>
        </p:nvSpPr>
        <p:spPr>
          <a:xfrm>
            <a:off x="0" y="620640"/>
            <a:ext cx="46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00" y="277560"/>
            <a:ext cx="82580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езультаты преобразований психиатрической служ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28400" y="1052640"/>
            <a:ext cx="87152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ы на 5% койки круглосуточного пребывания в 2010 году (с момента преобразования службы – на 17%) и расширены стационарзамещающие, в том числе, инновационные, формы оказания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 полипрофессиональный подход к оказанию специализированной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ся высокий уровень профессиональных знаний у специалистов благодаря интенсивному процессу непрерывного образования на рабочем месте и творческому подходу к де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о бесперебойное обеспечение пациентов необходимыми им лекарственными препаратами, в том числе современн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успешное взаимодействие с административными структурами, позволяющее решать не только медицинские, но и социальные проблемы паци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9AB8-3C61-4106-B1CD-CC4C33D99B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807228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езультаты преобразований психиатрической служ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85840" y="1143000"/>
            <a:ext cx="8678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а возможной выписка пациентов, годами находящихся в психиатрической клинике благодаря решению различных социальных вопросов, в том числе с трудоустройством и с жильем (за 5 лет более 100 человек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стойкое снижение % регоспитализаций (14% против 22% по РФ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ется высокий уровень дифференцированности оказываемой помощи разным контингентам психически больных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ы материально-бытовые условия пребывания пациент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ы волонтеры из числа родственников и выписанных пациентов для работы в рамках различных социальных проект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гнуты успехи в области психопросвещения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8A08-9EB6-40B3-9627-28019F6DCB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ерспективы развития психиатрической служ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785880"/>
            <a:ext cx="8643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а базе психиатрической больницы Центра социальной, правовой и психологической помощи людям, страдающим психическими расстройствами. Обращение больных за помощью к юристу, самостоятельное ведение дел в суде и другие формы защиты своих прав большинству находящимся на лечении гражданам малодоступны. В этом центре может осуществляться инструментальная поддержка, проводиться психологическое консультирование, а служба защиты прав пациентов может стать эффективным механизмом, стоящим на страже их законных прав и интересов. Нами начата разработка организационных документов по данной служб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рофилизация стационарных отделений в зависимости от потребности населения. В первую очередь это касается развития геронтологической службы в структуре больницы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4BE2-12F2-43A6-9A72-7E338A16484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4344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ерспективы развития психиатрической служ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9680" y="1071720"/>
            <a:ext cx="8186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ее развитие стационарзамещающих технологий: планируется дальнейшее сокращение круглосуточных коек с переводом их в места дневного пребывания во всех общепсихиатрических отделениях больниц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и совершенствование реабилитационных, в том числе, клубных программ, вне стен психиатрической клини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ее развитие системы непрерывного образования специалистов больницы будет способствовать удовлетворению потребности в подготовленных квалифицированных кадрах, оказанию полипрофессиональной помощи в больниц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9C9A-70D9-412A-AB6E-A2EFFD8B87E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6572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488b"/>
                </a:solidFill>
                <a:latin typeface="Calibri"/>
              </a:rPr>
              <a:t>Конференция медицинских сест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85880" y="2999880"/>
            <a:ext cx="7929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льга Николаевна Степанова</a:t>
            </a:r>
            <a:r>
              <a:rPr b="0" lang="ru-RU" sz="23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, главный внештатный психиатр Омской области, заместитель главного врача, к.м.</a:t>
            </a:r>
            <a:r>
              <a:rPr b="0" lang="ru-RU" sz="2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D2FC-9E2A-47A7-8A18-844703E7979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857160" y="1143000"/>
            <a:ext cx="760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стояние и перспективы развития психиатрической службы 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7286760" y="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3735"/>
                </a:solidFill>
                <a:latin typeface="Calibri"/>
              </a:rPr>
              <a:t>г. Омск, 14 октября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5678640" y="4357800"/>
            <a:ext cx="3251160" cy="2305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DSC_4982"/>
          <p:cNvPicPr/>
          <p:nvPr/>
        </p:nvPicPr>
        <p:blipFill>
          <a:blip r:embed="rId2"/>
          <a:stretch/>
        </p:blipFill>
        <p:spPr>
          <a:xfrm>
            <a:off x="214200" y="4429080"/>
            <a:ext cx="342900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Благодарю </a:t>
            </a:r>
            <a:br>
              <a:rPr sz="6000"/>
            </a:br>
            <a:r>
              <a:rPr b="1" lang="ru-RU" sz="6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а внимание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6E96-91B5-41E1-B9AC-F636836F77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труктура психических расстройств у наблюдаемых контингентов в Омской области в 2008-2010 гг. 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(на 100 тыс. чел. насел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14240" y="1785960"/>
          <a:ext cx="7772400" cy="4459320"/>
        </p:xfrm>
        <a:graphic>
          <a:graphicData uri="http://schemas.openxmlformats.org/drawingml/2006/table">
            <a:tbl>
              <a:tblPr/>
              <a:tblGrid>
                <a:gridCol w="2952720"/>
                <a:gridCol w="1204920"/>
                <a:gridCol w="1204920"/>
                <a:gridCol w="1204920"/>
                <a:gridCol w="12049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зологичес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1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3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7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шизоф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сихо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7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ал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5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7BAF-2BFA-47C5-9632-D1CCCB356A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казатели заболеваемости психическими расстройствами в Омской области 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2008-2010 гг. (на 100 тыс. чел. насел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57160" y="1857240"/>
          <a:ext cx="7772400" cy="4114800"/>
        </p:xfrm>
        <a:graphic>
          <a:graphicData uri="http://schemas.openxmlformats.org/drawingml/2006/table">
            <a:tbl>
              <a:tblPr/>
              <a:tblGrid>
                <a:gridCol w="3567240"/>
                <a:gridCol w="1050840"/>
                <a:gridCol w="1050840"/>
                <a:gridCol w="1052640"/>
                <a:gridCol w="1050840"/>
              </a:tblGrid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ая заболеваем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забол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8C19-0CA0-4B87-A00E-63DAF7669C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казатели инвалидности у лиц с психическими расстройствами в Омской области в 2007-2009 гг. 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(на 100 тыс. чел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85880" y="1857240"/>
          <a:ext cx="7772400" cy="4114800"/>
        </p:xfrm>
        <a:graphic>
          <a:graphicData uri="http://schemas.openxmlformats.org/drawingml/2006/table">
            <a:tbl>
              <a:tblPr/>
              <a:tblGrid>
                <a:gridCol w="3566880"/>
                <a:gridCol w="1051200"/>
                <a:gridCol w="1050840"/>
                <a:gridCol w="1052640"/>
                <a:gridCol w="1050840"/>
              </a:tblGrid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впервые признанных инвалидам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имеющих группу инвалидност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69A8-BD13-46D6-8510-9192BAC75B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тационарная помощ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условиях стационара круглосуточного пребывания. На 1 января 2011 года число коек для взрослого населения составило 1625, для детей-245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круглосуточного пребывания в области доведено до потребности насел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AFC1-46E9-4BAD-BA83-B29C0C5EC7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исло госпитализированных больных в стационар психиатрической  службы Омской области в 2008-2010г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5840" y="1857240"/>
          <a:ext cx="8572320" cy="4114800"/>
        </p:xfrm>
        <a:graphic>
          <a:graphicData uri="http://schemas.openxmlformats.org/drawingml/2006/table">
            <a:tbl>
              <a:tblPr/>
              <a:tblGrid>
                <a:gridCol w="2700360"/>
                <a:gridCol w="1585800"/>
                <a:gridCol w="2143080"/>
                <a:gridCol w="2143080"/>
              </a:tblGrid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золог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лог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е 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о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98DB-A631-4FE8-84D4-642DE1F9068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тационарная помощ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 поступают пациен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острением хронических заболев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елыми психотическими состоя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раженными дефицитарными расстройств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число пациентов пожилого возраста с тяжелыми сопутствующими заболеваниями, потерявших родственные связи, отказом от опекунства и выпис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E545-3C11-4777-949A-284CA19957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9:31:53Z</dcterms:created>
  <dc:creator>Customer</dc:creator>
  <dc:description/>
  <dc:language>en-US</dc:language>
  <cp:lastModifiedBy>ОПСА</cp:lastModifiedBy>
  <dcterms:modified xsi:type="dcterms:W3CDTF">2011-10-20T10:04:40Z</dcterms:modified>
  <cp:revision>130</cp:revision>
  <dc:subject/>
  <dc:title>БУЗ ОО «Клиническая психиатрическая больница имени Н.Н. Солодникова» г. Омск  Состояние, проблемы и перспективы развития областной психиатрической службы  </dc:title>
</cp:coreProperties>
</file>