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9A7-0A31-4406-BEDC-042B55E3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051D-9AF0-49DB-95B5-816043A0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770-F6F6-47C9-B1F6-D667C9BB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D5F-D238-42B8-A02D-1871EDA9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C6B-ABF5-44E7-ABB3-4460CA4E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B10-E012-4A0D-A63D-27D2C0B2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EC55-A969-44FA-A504-28E5F3A8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188-E453-4551-9E33-8DD54A1A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73E-CABB-4C70-AADD-25699F89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CB7-4A70-43D5-B8CE-9E62FBC4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17DF-A635-459B-A81A-42433236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2F7-1E22-4E3C-BB02-0E8BB4BA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0D93-1693-4F26-808C-0836B19D86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1"/>
          <p:cNvSpPr/>
          <p:nvPr/>
        </p:nvSpPr>
        <p:spPr>
          <a:xfrm>
            <a:off x="378720" y="674640"/>
            <a:ext cx="84560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Есть древняя профессия на свет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И она прошла через 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Знает каждый житель на планете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Это медицинская сест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Под белыми халатами незри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Бьётся сердце жарко, как костё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В борьбе за жизнь стоит неутоми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Армия российских медсестё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6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43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46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1090800"/>
            <a:ext cx="91440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ного не ищут пу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4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53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6600" y="606240"/>
            <a:ext cx="8958960" cy="58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Они пришли работать по призванью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Забыв подчас про собственный недуг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В любое время суток, днём и ночью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С собою ласку и покой несут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А если завтра позовет Отчизна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Невзгоды мы поделим вместе с ней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И преданных защитников России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Готовы грудью заслонить своей.</a:t>
            </a: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2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57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60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8"/>
          <p:cNvSpPr/>
          <p:nvPr/>
        </p:nvSpPr>
        <p:spPr>
          <a:xfrm>
            <a:off x="0" y="1091160"/>
            <a:ext cx="91440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ного не ищут пу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5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67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249840" y="1405440"/>
            <a:ext cx="881568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И пока живут на свете люди,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Было, есть и будет так всегда: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Скромная почётная профессия,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Знаем, не исчезнет никогда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2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71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74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0" y="708120"/>
            <a:ext cx="914400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ного не ищут пу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2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78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81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0-11-26T04:54:17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