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4A7-91C2-4F4B-A9F8-1ECD298E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4039-B660-4B08-9046-C0660C98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E0B6-0E99-4A99-A4BF-A09A6F56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44A1-B491-4001-BD20-F180B978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55A6-9D81-4B6A-BEE0-AFD897D3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A2AD-C987-4790-AAAD-3CE5FC6B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B487-3627-4DC3-8DB7-156AA48C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029D-16C5-4F62-A534-577351B3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4F81-C2CF-48FD-83AF-69012EB4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4E0C-BDA1-4BE2-A787-FBB262DD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C90E-1300-4962-94E5-E6B6E6B7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A621-AD42-43E3-A454-500D500E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740B-7EC9-4E47-B887-6A40588157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1"/>
          <p:cNvSpPr/>
          <p:nvPr/>
        </p:nvSpPr>
        <p:spPr>
          <a:xfrm>
            <a:off x="216000" y="2243160"/>
            <a:ext cx="8748720" cy="253188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00"/>
                </a:solidFill>
                <a:latin typeface="Calibri"/>
              </a:rPr>
              <a:t>Координационный сове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187280" y="44280"/>
            <a:ext cx="7705800" cy="82548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мская региональная общественная орга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«Омская профессиональная сестринская ассоциац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84360" y="5950080"/>
            <a:ext cx="7704000" cy="70344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Calibri"/>
              </a:rPr>
              <a:t>2</a:t>
            </a:r>
            <a:r>
              <a:rPr b="1" i="1" lang="en-US" sz="4000" spc="-1" strike="noStrike">
                <a:solidFill>
                  <a:srgbClr val="006600"/>
                </a:solidFill>
                <a:latin typeface="Calibri"/>
              </a:rPr>
              <a:t>9</a:t>
            </a:r>
            <a:r>
              <a:rPr b="1" i="1" lang="ru-RU" sz="4000" spc="-1" strike="noStrike">
                <a:solidFill>
                  <a:srgbClr val="006600"/>
                </a:solidFill>
                <a:latin typeface="Calibri"/>
              </a:rPr>
              <a:t> марта 2013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04:51:45Z</dcterms:created>
  <dc:creator>User</dc:creator>
  <dc:description/>
  <dc:language>en-US</dc:language>
  <cp:lastModifiedBy>Sveta</cp:lastModifiedBy>
  <dcterms:modified xsi:type="dcterms:W3CDTF">2013-03-25T16:01:46Z</dcterms:modified>
  <cp:revision>11</cp:revision>
  <dc:subject/>
  <dc:title>Слайд 1</dc:title>
</cp:coreProperties>
</file>