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426D-C554-4814-BC1B-4F32F5B4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E9F2-A035-4645-87E4-0A647A1E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5243-B036-4E8B-9330-3ED4E8C3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C395-D208-453B-9971-91BF235C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8475-B787-4BE3-AF39-91C41980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5692-73BF-45E2-BD3A-8A5B2FE1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440E-2272-46EF-BC94-BE80EDB7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37DF-2651-4F1B-A4D0-ADF7E9BE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6066-B73A-4D41-806F-1423A957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69EF-421C-4A68-A9B7-21829FEF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1CCC-1A95-495B-9974-78670239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68BE-1A9B-4A0E-98CA-4434DC67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4573-7545-4CB4-BB0C-63D4B2DE10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1"/>
          <p:cNvSpPr/>
          <p:nvPr/>
        </p:nvSpPr>
        <p:spPr>
          <a:xfrm>
            <a:off x="1258920" y="-106200"/>
            <a:ext cx="7880400" cy="100764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Приветству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новых членов Координационного совета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Users\Sveta\Documents\My\ОПСА\Координац. совет\Члены КС\ДЛТС Ст. медсестра Колмагорова П.Р..jpg"/>
          <p:cNvPicPr/>
          <p:nvPr/>
        </p:nvPicPr>
        <p:blipFill>
          <a:blip r:embed="rId1"/>
          <a:stretch/>
        </p:blipFill>
        <p:spPr>
          <a:xfrm>
            <a:off x="585720" y="1682640"/>
            <a:ext cx="1898640" cy="1946520"/>
          </a:xfrm>
          <a:prstGeom prst="rect">
            <a:avLst/>
          </a:prstGeom>
          <a:ln w="34920">
            <a:solidFill>
              <a:srgbClr val="0066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3" name="TextBox 4"/>
          <p:cNvSpPr/>
          <p:nvPr/>
        </p:nvSpPr>
        <p:spPr>
          <a:xfrm>
            <a:off x="108000" y="367812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Колмогорова П.Р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ДЛТ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:\Users\Sveta\Documents\My\ОПСА\Координац. совет\Члены КС\ДГП № 1 Гл. медсестра Руденок С.В..jpg"/>
          <p:cNvPicPr/>
          <p:nvPr/>
        </p:nvPicPr>
        <p:blipFill>
          <a:blip r:embed="rId2"/>
          <a:stretch/>
        </p:blipFill>
        <p:spPr>
          <a:xfrm>
            <a:off x="3532320" y="1682640"/>
            <a:ext cx="1898640" cy="1946520"/>
          </a:xfrm>
          <a:prstGeom prst="rect">
            <a:avLst/>
          </a:prstGeom>
          <a:ln w="34920">
            <a:solidFill>
              <a:srgbClr val="0066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5" name="TextBox 6"/>
          <p:cNvSpPr/>
          <p:nvPr/>
        </p:nvSpPr>
        <p:spPr>
          <a:xfrm>
            <a:off x="2967120" y="366084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Руденок С.В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ДГП №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Users\Sveta\Documents\My\ОПСА\Координац. совет\Члены КС\ГСП № 3 Гл. медсестра Строгонова Н.В..jpg"/>
          <p:cNvPicPr/>
          <p:nvPr/>
        </p:nvPicPr>
        <p:blipFill>
          <a:blip r:embed="rId3"/>
          <a:stretch/>
        </p:blipFill>
        <p:spPr>
          <a:xfrm>
            <a:off x="6516720" y="1657440"/>
            <a:ext cx="1897200" cy="1971720"/>
          </a:xfrm>
          <a:prstGeom prst="rect">
            <a:avLst/>
          </a:prstGeom>
          <a:ln w="34920">
            <a:solidFill>
              <a:srgbClr val="0066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7" name="TextBox 8"/>
          <p:cNvSpPr/>
          <p:nvPr/>
        </p:nvSpPr>
        <p:spPr>
          <a:xfrm>
            <a:off x="6012000" y="366084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Строгонова Н.В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ГСП №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C:\Users\Sveta\Documents\My\ОПСА\Координац. совет\Члены КС\Госпиталь МСЧ Гл. медсестра Кутьмина Е.А..jpg"/>
          <p:cNvPicPr/>
          <p:nvPr/>
        </p:nvPicPr>
        <p:blipFill>
          <a:blip r:embed="rId4"/>
          <a:stretch/>
        </p:blipFill>
        <p:spPr>
          <a:xfrm>
            <a:off x="2022480" y="4653000"/>
            <a:ext cx="1752480" cy="1979640"/>
          </a:xfrm>
          <a:prstGeom prst="rect">
            <a:avLst/>
          </a:prstGeom>
          <a:ln w="34920">
            <a:solidFill>
              <a:srgbClr val="0066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9" name="TextBox 10"/>
          <p:cNvSpPr/>
          <p:nvPr/>
        </p:nvSpPr>
        <p:spPr>
          <a:xfrm>
            <a:off x="3990960" y="5334120"/>
            <a:ext cx="418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Кутьмина Е.А., Госпиталь МСЧ МВД Омской области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04:51:45Z</dcterms:created>
  <dc:creator>User</dc:creator>
  <dc:description/>
  <dc:language>en-US</dc:language>
  <cp:lastModifiedBy>ОПСА</cp:lastModifiedBy>
  <dcterms:modified xsi:type="dcterms:W3CDTF">2013-03-30T05:16:05Z</dcterms:modified>
  <cp:revision>21</cp:revision>
  <dc:subject/>
  <dc:title>Слайд 1</dc:title>
</cp:coreProperties>
</file>