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52E-4369-4C4A-A2AB-D997D903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8FB-7BEB-42A6-B692-95214966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3A8-7BBE-48C1-8AAA-40681F79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9CB-53D7-4C0C-AA04-D400077E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564-9EDE-402A-B844-CC9FC58E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A6D-E7B8-47A0-9B46-AD42C99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AFD-E460-4925-8A3A-590CFE5A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A39-7F6B-4BBC-8710-D7C12C56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E1E-ADEF-45E0-87AA-42562475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BCE-FA82-4DB1-A0C1-A1D5645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E9E-8531-4858-8811-74268BD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BE0-1FCE-4F1F-8A4E-6024549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90E-54A0-4942-95F5-9A0F41018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-4680" y="191628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cc0000"/>
                </a:solidFill>
                <a:latin typeface="Calibri"/>
              </a:rPr>
              <a:t>Вручение знак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5500" spc="-1" strike="noStrike">
                <a:solidFill>
                  <a:srgbClr val="cc0000"/>
                </a:solidFill>
                <a:latin typeface="Calibri"/>
              </a:rPr>
              <a:t>«Почетный член Омской профессиональной сестринской ассоциации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187280" y="44280"/>
            <a:ext cx="7705800" cy="8254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ординацион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мской профессиональной сестринской 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1"/>
          <p:cNvSpPr/>
          <p:nvPr/>
        </p:nvSpPr>
        <p:spPr>
          <a:xfrm>
            <a:off x="1258920" y="-106200"/>
            <a:ext cx="7880400" cy="10076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оздравляем с вруч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знака «Почетный член ОПСА»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9640" y="4759200"/>
            <a:ext cx="4032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Адырбаев Марат Шакенович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00"/>
                </a:solidFill>
                <a:latin typeface="Calibri"/>
              </a:rPr>
              <a:t>главный врач ОД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5343480" y="4759200"/>
            <a:ext cx="318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Титов Сергей Сергеевич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00"/>
                </a:solidFill>
                <a:latin typeface="Calibri"/>
              </a:rPr>
              <a:t>главный врач Н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http://deputat55.ru/sites/default/files/imagecache/Photo_180x240/photo/ADIRBAEV1.jpg"/>
          <p:cNvPicPr/>
          <p:nvPr/>
        </p:nvPicPr>
        <p:blipFill>
          <a:blip r:embed="rId1"/>
          <a:stretch/>
        </p:blipFill>
        <p:spPr>
          <a:xfrm>
            <a:off x="1330200" y="1312920"/>
            <a:ext cx="2490840" cy="3319560"/>
          </a:xfrm>
          <a:prstGeom prst="rect">
            <a:avLst/>
          </a:prstGeom>
          <a:ln w="3492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Picture 14" descr="http://www.ktovmedicine.ru/img/images/sergey-titov-glavnyy-vrach-guz-oo-narkologicheskiy-dispanser-omskaya-oblast.jpg"/>
          <p:cNvPicPr/>
          <p:nvPr/>
        </p:nvPicPr>
        <p:blipFill>
          <a:blip r:embed="rId2"/>
          <a:stretch/>
        </p:blipFill>
        <p:spPr>
          <a:xfrm>
            <a:off x="5651640" y="1314360"/>
            <a:ext cx="2520720" cy="3338640"/>
          </a:xfrm>
          <a:prstGeom prst="rect">
            <a:avLst/>
          </a:prstGeom>
          <a:ln w="3492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ОПСА</cp:lastModifiedBy>
  <dcterms:modified xsi:type="dcterms:W3CDTF">2013-03-30T05:16:22Z</dcterms:modified>
  <cp:revision>27</cp:revision>
  <dc:subject/>
  <dc:title>Слайд 1</dc:title>
</cp:coreProperties>
</file>