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F92-D6A0-48B9-B072-FF8B4AEA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B1D-D1DE-49C7-9653-37E02E1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AB8-62B0-497E-9C07-F4532CFC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3DC-FEBC-4E48-806A-A8585D28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F6E7-6F8F-412A-A10F-3451DE26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9CC6-798E-4842-8E0B-9878E32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54E-80E8-412D-A965-7789E4F1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D7C-0164-437E-A75C-E696AC2B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B50-2D9C-4631-83FE-F940E11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1501-CF04-44FB-BB33-F1DB15EC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1C2-8BCF-418C-BB85-4B56B7D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36F-A557-414F-8174-8C386CA7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D2F1-BD27-4EFF-83D0-CDD5DB5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160-A1A1-47C0-AF9F-38CA5F6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B577-9C55-4763-A091-5A4E3E8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186-7B17-4A96-8D99-2402D185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3EEA-DF39-44F2-9C69-585E8417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CEFB-49EC-41CA-BCFD-4A819901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5D2A-A76D-4532-A164-DBEAA51E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C1C2-AD7F-49A9-B3FE-C2B3DBA1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178F-B887-4F74-97F3-698A6246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FD4C-5644-4EE1-B420-67FF0FE8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4A-B021-4A0F-8A8A-C4BB5982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F11A-3F2C-4B46-87D7-47503E9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E3F2-5504-47DF-B14B-BF15112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E06D-A4F9-4482-BB64-24C4B98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D0C3-31B4-4805-B069-1246FE3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1521-4A3A-4642-B594-2302006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11F0-3A67-4490-A2C8-143669D3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C5DC-AE04-4839-B01D-689A0C1B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9423-CF7F-4A45-A0F0-29CF7DCF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1CD0-7F11-4A7E-9F26-B2CB9A7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890D-41ED-4825-889E-BB786D81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5EC-E0A9-492B-BCE5-FD8C621C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F8DA-A744-49BC-946E-49A00811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557A-8C6D-42A7-8F71-E80EBD4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CC28-4A90-493C-812A-842ACFAC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9DB2-9B9D-4545-8F75-2CF21CA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F8BA-8FA3-4D68-8689-37EC964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A63C-983E-48A1-8118-29F0F03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34DA-A349-4A0D-B557-92575A59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A5C0-943C-4086-9E42-203DA69E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E094-E8AB-472E-93F0-BB412708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5C4-3852-45E2-9FC8-056E4016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645-0C01-49C7-A942-5C164CC0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E54-FC6D-41D4-A423-25316EB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B94-6EB2-4FF6-AA34-BA5DC7F3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235-F54F-4975-8348-0A87D61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8566-AB0A-404F-A4D0-169CAE48EB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10D-3BB9-4210-B5D6-24470A3B43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986-140F-4DE6-A677-CFA37808B29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9B4-130E-4E54-B392-00223EB055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я\Desktop\2219_example.jpg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"/>
          <p:cNvSpPr/>
          <p:nvPr/>
        </p:nvSpPr>
        <p:spPr>
          <a:xfrm>
            <a:off x="4286160" y="2928960"/>
            <a:ext cx="392904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498600" y="2205000"/>
            <a:ext cx="8501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нижение риска возникновения пролежней у тяжелобольных пациентов с помощью сестринских вмешательств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дзаголовок 2"/>
          <p:cNvSpPr/>
          <p:nvPr/>
        </p:nvSpPr>
        <p:spPr>
          <a:xfrm>
            <a:off x="392040" y="567072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щенко М.А. медицинская сестра-исследова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аршая медицинская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лопроктологического отделения БУЗОО «ОКБ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36360" y="246240"/>
            <a:ext cx="91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проект Омской профессиональной сестринской 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Исследования в сестринском деле 2013 – 2014 г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Объект 2"/>
          <p:cNvGraphicFramePr/>
          <p:nvPr/>
        </p:nvGraphicFramePr>
        <p:xfrm>
          <a:off x="250920" y="1628640"/>
          <a:ext cx="861840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184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Заголовок 1"/>
          <p:cNvSpPr/>
          <p:nvPr/>
        </p:nvSpPr>
        <p:spPr>
          <a:xfrm>
            <a:off x="457200" y="461880"/>
            <a:ext cx="84358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Результаты инновацио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етода у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2" descr=""/>
          <p:cNvPicPr/>
          <p:nvPr/>
        </p:nvPicPr>
        <p:blipFill>
          <a:blip r:embed="rId1"/>
          <a:stretch/>
        </p:blipFill>
        <p:spPr>
          <a:xfrm>
            <a:off x="200160" y="498600"/>
            <a:ext cx="881532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Трудозатраты персонала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о уходу за пациентами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Объект 4" descr=""/>
          <p:cNvPicPr/>
          <p:nvPr/>
        </p:nvPicPr>
        <p:blipFill>
          <a:blip r:embed="rId1"/>
          <a:stretch/>
        </p:blipFill>
        <p:spPr>
          <a:xfrm>
            <a:off x="128520" y="1433520"/>
            <a:ext cx="8836200" cy="52149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125892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716360" y="15876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3635280" y="300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235584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ривлечение дополнительных ресурсов в уходе за пациента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Объект 2" descr=""/>
          <p:cNvPicPr/>
          <p:nvPr/>
        </p:nvPicPr>
        <p:blipFill>
          <a:blip r:embed="rId1"/>
          <a:stretch/>
        </p:blipFill>
        <p:spPr>
          <a:xfrm>
            <a:off x="57240" y="1666800"/>
            <a:ext cx="8958240" cy="52135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7308720" y="19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6227640" y="25272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8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50036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1"/>
          <p:cNvSpPr/>
          <p:nvPr/>
        </p:nvSpPr>
        <p:spPr>
          <a:xfrm>
            <a:off x="399564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8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2"/>
          <p:cNvSpPr/>
          <p:nvPr/>
        </p:nvSpPr>
        <p:spPr>
          <a:xfrm>
            <a:off x="28526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8000" y="1213920"/>
            <a:ext cx="885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инические проявления обездвиженности пациентов сопровождаются трофическими изменениями кожи с формированием пролежней. Сопутствующий диабет усугубляет трофические нарушения и повышает риск развития пролежней в 2 раза. Проведение противопролежневых инновационных мероприятий в 3 раза сокращают риск развития пролежн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ение противопролежневых инновационных технологий у пациентов с ограничением двигательной активности в 1.8 раза эффективнее обычных средств ухода и позволяет улучшить качество жизни паци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ение инновационных технологий снижает трудозатраты по уходу на 11 минут 13 секунд за один сеанс и сокращаются в 4 раза. Нагрузка на медицинский персонал снижается в 2,5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дрение в практику  программы «Правильный уход за тяжелобольным пациентом» используемой в школе здоровья позволило повысить качество ухода, снизить трудозатраты по уходу и улучшить качество жизни пациен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1"/>
          <a:stretch/>
        </p:blipFill>
        <p:spPr>
          <a:xfrm>
            <a:off x="128520" y="1290600"/>
            <a:ext cx="895824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биться снижение риска возникновения пролежней у   пациентов путем внедрения и практического применения нового комплекса мероприятий профилактики пролежней с использованием лечебно-профилактической профессиональной косметики и повысить уровень качества жизни пациен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чи исследования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56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учить клинические проявления кожных покровов у пациентов с ограничением двигательной активности при проведении различных видов противопролежневых мероприятий и в том числе на фоне течения  диабе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ценить трудозатраты медицинского персонала по уходу за пациентами с ограничением двигательной активности при применении отраслевого стандарта «Протокол ведения больных. Пролежни» и иннов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сравнительную оценку используемых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тимизировать программу « Правильный уход за тяжелобольным пациентом» и внедрить ее в практи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8040" y="2828880"/>
            <a:ext cx="144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Ященко М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таршая 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колопротологии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исследова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>
            <a:lum contrast="14000"/>
          </a:blip>
          <a:srcRect l="-1086" t="238" r="3064" b="0"/>
          <a:stretch/>
        </p:blipFill>
        <p:spPr>
          <a:xfrm>
            <a:off x="608040" y="1100160"/>
            <a:ext cx="1442880" cy="170172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08" name="Рисунок 3" descr=""/>
          <p:cNvPicPr/>
          <p:nvPr/>
        </p:nvPicPr>
        <p:blipFill>
          <a:blip r:embed="rId2"/>
          <a:stretch/>
        </p:blipFill>
        <p:spPr>
          <a:xfrm>
            <a:off x="7159680" y="1114560"/>
            <a:ext cx="1219320" cy="152388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09" name="Picture 28" descr=""/>
          <p:cNvPicPr/>
          <p:nvPr/>
        </p:nvPicPr>
        <p:blipFill>
          <a:blip r:embed="rId3"/>
          <a:stretch/>
        </p:blipFill>
        <p:spPr>
          <a:xfrm>
            <a:off x="3776760" y="3705120"/>
            <a:ext cx="137160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0" name="Picture 27" descr=""/>
          <p:cNvPicPr/>
          <p:nvPr/>
        </p:nvPicPr>
        <p:blipFill>
          <a:blip r:embed="rId4"/>
          <a:srcRect l="15752" t="10493" r="15752" b="0"/>
          <a:stretch/>
        </p:blipFill>
        <p:spPr>
          <a:xfrm>
            <a:off x="1895400" y="3738600"/>
            <a:ext cx="152424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1" name="Picture 29" descr=""/>
          <p:cNvPicPr/>
          <p:nvPr/>
        </p:nvPicPr>
        <p:blipFill>
          <a:blip r:embed="rId5"/>
          <a:stretch/>
        </p:blipFill>
        <p:spPr>
          <a:xfrm>
            <a:off x="271440" y="387180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2" name="Picture 30" descr=""/>
          <p:cNvPicPr/>
          <p:nvPr/>
        </p:nvPicPr>
        <p:blipFill>
          <a:blip r:embed="rId6"/>
          <a:stretch/>
        </p:blipFill>
        <p:spPr>
          <a:xfrm>
            <a:off x="2816280" y="111456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3" name="Picture 32" descr=""/>
          <p:cNvPicPr/>
          <p:nvPr/>
        </p:nvPicPr>
        <p:blipFill>
          <a:blip r:embed="rId7"/>
          <a:stretch/>
        </p:blipFill>
        <p:spPr>
          <a:xfrm>
            <a:off x="7210440" y="3743280"/>
            <a:ext cx="1393920" cy="168444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4" name="Picture 33" descr=""/>
          <p:cNvPicPr/>
          <p:nvPr/>
        </p:nvPicPr>
        <p:blipFill>
          <a:blip r:embed="rId8"/>
          <a:srcRect l="0" t="0" r="0" b="12273"/>
          <a:stretch/>
        </p:blipFill>
        <p:spPr>
          <a:xfrm>
            <a:off x="5605560" y="370512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sp>
        <p:nvSpPr>
          <p:cNvPr id="215" name="Rectangle 4"/>
          <p:cNvSpPr/>
          <p:nvPr/>
        </p:nvSpPr>
        <p:spPr>
          <a:xfrm>
            <a:off x="468360" y="31104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Georgia"/>
              </a:rPr>
              <a:t>Исследовательск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778800" y="2790720"/>
            <a:ext cx="2133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Гаврик Е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таршая медсестра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 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ля больных с 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ордин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332320" y="5425920"/>
            <a:ext cx="22100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Филиппова Н. 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лопроктоло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ввод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210440" y="5533920"/>
            <a:ext cx="18288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алашева А.Д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лопроктоло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по анализ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2320" y="5533920"/>
            <a:ext cx="2028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Абрамова О.В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 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ля больных с 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319560" y="5533920"/>
            <a:ext cx="2476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Бармотина Е.П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отд. для больных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06480" y="559908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алтанова К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йрохирур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511360" y="279072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оисеева Т.Ф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Главная 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БУЗОО «ОКБ»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ур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5" descr=""/>
          <p:cNvPicPr/>
          <p:nvPr/>
        </p:nvPicPr>
        <p:blipFill>
          <a:blip r:embed="rId9"/>
          <a:stretch/>
        </p:blipFill>
        <p:spPr>
          <a:xfrm>
            <a:off x="5102280" y="1114560"/>
            <a:ext cx="1289160" cy="152388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sp>
        <p:nvSpPr>
          <p:cNvPr id="224" name="Rectangle 4"/>
          <p:cNvSpPr/>
          <p:nvPr/>
        </p:nvSpPr>
        <p:spPr>
          <a:xfrm>
            <a:off x="4645080" y="273528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Ларькин В.И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.м.н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зав. кафедрой неврологии и нейрохирургии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реценз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азмер выборки категории пациентов для исследования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989000"/>
          <a:ext cx="5761080" cy="4467240"/>
        </p:xfrm>
        <a:graphic>
          <a:graphicData uri="http://schemas.openxmlformats.org/drawingml/2006/table">
            <a:tbl>
              <a:tblPr/>
              <a:tblGrid>
                <a:gridCol w="960480"/>
                <a:gridCol w="958680"/>
                <a:gridCol w="960480"/>
                <a:gridCol w="960480"/>
                <a:gridCol w="958680"/>
                <a:gridCol w="962280"/>
              </a:tblGrid>
              <a:tr h="70164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олеченных пациентов по возра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-5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-6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-7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-8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-9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умерших пациентов по возра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84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056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умерших на количество пролеченных пац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3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7" name="Схема 3" descr=""/>
          <p:cNvPicPr/>
          <p:nvPr/>
        </p:nvPicPr>
        <p:blipFill>
          <a:blip r:embed="rId1"/>
          <a:stretch/>
        </p:blipFill>
        <p:spPr>
          <a:xfrm>
            <a:off x="6278400" y="1908000"/>
            <a:ext cx="24876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37"/>
          <p:cNvSpPr/>
          <p:nvPr/>
        </p:nvSpPr>
        <p:spPr>
          <a:xfrm>
            <a:off x="338040" y="1133640"/>
            <a:ext cx="1800360" cy="1120680"/>
          </a:xfrm>
          <a:prstGeom prst="roundRect">
            <a:avLst>
              <a:gd name="adj" fmla="val 17269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 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татистический анализ подбора категории пациентов для исслед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2649600" y="1104840"/>
            <a:ext cx="1792080" cy="11098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I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Изучение клинических проявл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5"/>
          <p:cNvSpPr/>
          <p:nvPr/>
        </p:nvSpPr>
        <p:spPr>
          <a:xfrm>
            <a:off x="4908600" y="1104840"/>
            <a:ext cx="175104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II 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Занятия по программе в школе здоровья (хронометраж мероприяти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7093080" y="1152360"/>
            <a:ext cx="1774800" cy="1095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V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равнительная оценка методов, опрос персон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33"/>
          <p:cNvCxnSpPr/>
          <p:nvPr/>
        </p:nvCxnSpPr>
        <p:spPr>
          <a:xfrm flipH="1">
            <a:off x="1186920" y="3771720"/>
            <a:ext cx="48816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32"/>
          <p:cNvCxnSpPr/>
          <p:nvPr/>
        </p:nvCxnSpPr>
        <p:spPr>
          <a:xfrm>
            <a:off x="5793840" y="2306520"/>
            <a:ext cx="108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1"/>
          <p:cNvCxnSpPr/>
          <p:nvPr/>
        </p:nvCxnSpPr>
        <p:spPr>
          <a:xfrm>
            <a:off x="3746160" y="225396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30"/>
          <p:cNvCxnSpPr/>
          <p:nvPr/>
        </p:nvCxnSpPr>
        <p:spPr>
          <a:xfrm>
            <a:off x="7691400" y="3646080"/>
            <a:ext cx="38664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AutoShape 29"/>
          <p:cNvSpPr/>
          <p:nvPr/>
        </p:nvSpPr>
        <p:spPr>
          <a:xfrm>
            <a:off x="2616120" y="2617920"/>
            <a:ext cx="39243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ротивопролежневые мероприят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60  паци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28"/>
          <p:cNvGrpSpPr/>
          <p:nvPr/>
        </p:nvGrpSpPr>
        <p:grpSpPr>
          <a:xfrm>
            <a:off x="1689120" y="3371760"/>
            <a:ext cx="2876400" cy="657360"/>
            <a:chOff x="1689120" y="3371760"/>
            <a:chExt cx="2876400" cy="657360"/>
          </a:xfrm>
        </p:grpSpPr>
        <p:pic>
          <p:nvPicPr>
            <p:cNvPr id="238" name="AutoShape 28" descr=""/>
            <p:cNvPicPr/>
            <p:nvPr/>
          </p:nvPicPr>
          <p:blipFill>
            <a:blip r:embed="rId1"/>
            <a:stretch/>
          </p:blipFill>
          <p:spPr>
            <a:xfrm>
              <a:off x="1689120" y="3371760"/>
              <a:ext cx="28764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789200" y="3432240"/>
              <a:ext cx="2682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Основная группа А (</a:t>
              </a:r>
              <a:r>
                <a:rPr b="1" lang="en-US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n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1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30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Инновационные техноло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27"/>
          <p:cNvSpPr/>
          <p:nvPr/>
        </p:nvSpPr>
        <p:spPr>
          <a:xfrm>
            <a:off x="4621320" y="3406680"/>
            <a:ext cx="2990880" cy="5158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Группа сравнения В (</a:t>
            </a:r>
            <a:r>
              <a:rPr b="1" lang="en-US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n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2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30) «Протокол ведения больных. Пролежн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Oval 26"/>
          <p:cNvGrpSpPr/>
          <p:nvPr/>
        </p:nvGrpSpPr>
        <p:grpSpPr>
          <a:xfrm>
            <a:off x="201600" y="4091040"/>
            <a:ext cx="1407960" cy="1103400"/>
            <a:chOff x="201600" y="4091040"/>
            <a:chExt cx="1407960" cy="1103400"/>
          </a:xfrm>
        </p:grpSpPr>
        <p:pic>
          <p:nvPicPr>
            <p:cNvPr id="242" name="Oval 26" descr=""/>
            <p:cNvPicPr/>
            <p:nvPr/>
          </p:nvPicPr>
          <p:blipFill>
            <a:blip r:embed="rId2"/>
            <a:stretch/>
          </p:blipFill>
          <p:spPr>
            <a:xfrm>
              <a:off x="201600" y="4091040"/>
              <a:ext cx="140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8640" y="4265640"/>
              <a:ext cx="8971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1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Сахарный диаб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val 25"/>
          <p:cNvGrpSpPr/>
          <p:nvPr/>
        </p:nvGrpSpPr>
        <p:grpSpPr>
          <a:xfrm>
            <a:off x="1620720" y="4091040"/>
            <a:ext cx="1463760" cy="1103400"/>
            <a:chOff x="1620720" y="4091040"/>
            <a:chExt cx="1463760" cy="1103400"/>
          </a:xfrm>
        </p:grpSpPr>
        <p:pic>
          <p:nvPicPr>
            <p:cNvPr id="245" name="Oval 25" descr=""/>
            <p:cNvPicPr/>
            <p:nvPr/>
          </p:nvPicPr>
          <p:blipFill>
            <a:blip r:embed="rId3"/>
            <a:stretch/>
          </p:blipFill>
          <p:spPr>
            <a:xfrm>
              <a:off x="1620720" y="4091040"/>
              <a:ext cx="14637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886040" y="4265640"/>
              <a:ext cx="9381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2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 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без сахарного диабе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val 5"/>
          <p:cNvGrpSpPr/>
          <p:nvPr/>
        </p:nvGrpSpPr>
        <p:grpSpPr>
          <a:xfrm>
            <a:off x="743040" y="5248440"/>
            <a:ext cx="1592280" cy="1292040"/>
            <a:chOff x="743040" y="5248440"/>
            <a:chExt cx="1592280" cy="1292040"/>
          </a:xfrm>
        </p:grpSpPr>
        <p:pic>
          <p:nvPicPr>
            <p:cNvPr id="248" name="Oval 5" descr=""/>
            <p:cNvPicPr/>
            <p:nvPr/>
          </p:nvPicPr>
          <p:blipFill>
            <a:blip r:embed="rId4"/>
            <a:stretch/>
          </p:blipFill>
          <p:spPr>
            <a:xfrm>
              <a:off x="743040" y="5248440"/>
              <a:ext cx="15922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030320" y="5454720"/>
              <a:ext cx="102240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3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с пролежнями 1 стад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24"/>
          <p:cNvSpPr/>
          <p:nvPr/>
        </p:nvSpPr>
        <p:spPr>
          <a:xfrm>
            <a:off x="5651640" y="4125960"/>
            <a:ext cx="1441440" cy="968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1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11 Сахарный диаб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7164360" y="4125960"/>
            <a:ext cx="1440000" cy="960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2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без сахарного диаб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6537240" y="5288040"/>
            <a:ext cx="1419480" cy="1143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3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с пролежнями 1 стад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22"/>
          <p:cNvCxnSpPr/>
          <p:nvPr/>
        </p:nvCxnSpPr>
        <p:spPr>
          <a:xfrm>
            <a:off x="1846440" y="2268000"/>
            <a:ext cx="58464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1"/>
          <p:cNvCxnSpPr/>
          <p:nvPr/>
        </p:nvCxnSpPr>
        <p:spPr>
          <a:xfrm flipH="1">
            <a:off x="7092720" y="2306160"/>
            <a:ext cx="5212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20"/>
          <p:cNvCxnSpPr/>
          <p:nvPr/>
        </p:nvCxnSpPr>
        <p:spPr>
          <a:xfrm flipH="1">
            <a:off x="2821680" y="3922560"/>
            <a:ext cx="1962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19"/>
          <p:cNvCxnSpPr/>
          <p:nvPr/>
        </p:nvCxnSpPr>
        <p:spPr>
          <a:xfrm>
            <a:off x="5492520" y="3981600"/>
            <a:ext cx="337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8"/>
          <p:cNvCxnSpPr/>
          <p:nvPr/>
        </p:nvCxnSpPr>
        <p:spPr>
          <a:xfrm flipH="1">
            <a:off x="3017520" y="3065040"/>
            <a:ext cx="5054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17"/>
          <p:cNvCxnSpPr/>
          <p:nvPr/>
        </p:nvCxnSpPr>
        <p:spPr>
          <a:xfrm>
            <a:off x="5492520" y="3084120"/>
            <a:ext cx="62460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16"/>
          <p:cNvCxnSpPr/>
          <p:nvPr/>
        </p:nvCxnSpPr>
        <p:spPr>
          <a:xfrm flipH="1">
            <a:off x="2264760" y="5094360"/>
            <a:ext cx="261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15"/>
          <p:cNvCxnSpPr/>
          <p:nvPr/>
        </p:nvCxnSpPr>
        <p:spPr>
          <a:xfrm>
            <a:off x="611280" y="5094000"/>
            <a:ext cx="29556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14"/>
          <p:cNvCxnSpPr>
            <a:endCxn id="262" idx="7"/>
          </p:cNvCxnSpPr>
          <p:nvPr/>
        </p:nvCxnSpPr>
        <p:spPr>
          <a:xfrm flipH="1">
            <a:off x="5017320" y="3933360"/>
            <a:ext cx="2372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13"/>
          <p:cNvCxnSpPr/>
          <p:nvPr/>
        </p:nvCxnSpPr>
        <p:spPr>
          <a:xfrm>
            <a:off x="6316560" y="5137200"/>
            <a:ext cx="3247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Oval 6"/>
          <p:cNvSpPr/>
          <p:nvPr/>
        </p:nvSpPr>
        <p:spPr>
          <a:xfrm>
            <a:off x="3419640" y="4125960"/>
            <a:ext cx="1873080" cy="826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798f32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татистическая обработка матери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678040" y="5761080"/>
            <a:ext cx="3638520" cy="836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798f32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V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 </a:t>
            </a: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Разработка рекомендаций. Оптимизация программы по обучению родственников и медицинского персонала в школе здоров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2"/>
          <p:cNvCxnSpPr/>
          <p:nvPr/>
        </p:nvCxnSpPr>
        <p:spPr>
          <a:xfrm>
            <a:off x="4686480" y="4952520"/>
            <a:ext cx="56880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11"/>
          <p:cNvCxnSpPr/>
          <p:nvPr/>
        </p:nvCxnSpPr>
        <p:spPr>
          <a:xfrm flipH="1">
            <a:off x="3393360" y="4929120"/>
            <a:ext cx="49428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"/>
          <p:cNvCxnSpPr/>
          <p:nvPr/>
        </p:nvCxnSpPr>
        <p:spPr>
          <a:xfrm flipH="1">
            <a:off x="7884360" y="5141520"/>
            <a:ext cx="2926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"/>
          <p:cNvCxnSpPr/>
          <p:nvPr/>
        </p:nvCxnSpPr>
        <p:spPr>
          <a:xfrm>
            <a:off x="3546360" y="3933720"/>
            <a:ext cx="20088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39"/>
          <p:cNvSpPr/>
          <p:nvPr/>
        </p:nvSpPr>
        <p:spPr>
          <a:xfrm>
            <a:off x="817560" y="55080"/>
            <a:ext cx="76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  <a:ea typeface="Times New Roman"/>
              </a:rPr>
              <a:t>Дизайн исследо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2"/>
          <p:cNvSpPr/>
          <p:nvPr/>
        </p:nvSpPr>
        <p:spPr>
          <a:xfrm>
            <a:off x="4633920" y="357120"/>
            <a:ext cx="1807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8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43588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ценка риска возникновения пролежней по шкале Норто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Объект 4" descr=""/>
          <p:cNvPicPr/>
          <p:nvPr/>
        </p:nvPicPr>
        <p:blipFill>
          <a:blip r:embed="rId1"/>
          <a:stretch/>
        </p:blipFill>
        <p:spPr>
          <a:xfrm>
            <a:off x="344520" y="1938240"/>
            <a:ext cx="85993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Объект 1" descr=""/>
          <p:cNvPicPr/>
          <p:nvPr/>
        </p:nvPicPr>
        <p:blipFill>
          <a:blip r:embed="rId1"/>
          <a:stretch/>
        </p:blipFill>
        <p:spPr>
          <a:xfrm>
            <a:off x="406440" y="1884240"/>
            <a:ext cx="8331120" cy="4491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4362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  <a:ea typeface="Times New Roman"/>
              </a:rPr>
              <a:t>Исследование сложной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  <a:ea typeface="Times New Roman"/>
              </a:rPr>
              <a:t>категории паци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1330200" y="3830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4932360" y="4653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4643280" y="27874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2738520" y="2781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2:51:46Z</dcterms:created>
  <dc:creator>я</dc:creator>
  <dc:description/>
  <dc:language>en-US</dc:language>
  <cp:lastModifiedBy>ОПСА</cp:lastModifiedBy>
  <dcterms:modified xsi:type="dcterms:W3CDTF">2014-03-12T13:57:05Z</dcterms:modified>
  <cp:revision>93</cp:revision>
  <dc:subject/>
  <dc:title>Слайд 1</dc:title>
</cp:coreProperties>
</file>