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18.png" ContentType="image/png"/>
  <Override PartName="/ppt/media/image58.jpeg" ContentType="image/jpeg"/>
  <Override PartName="/ppt/media/image57.jpeg" ContentType="image/jpeg"/>
  <Override PartName="/ppt/media/image56.png" ContentType="image/png"/>
  <Override PartName="/ppt/media/image40.jpeg" ContentType="image/jpeg"/>
  <Override PartName="/ppt/media/image55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2.png" ContentType="image/png"/>
  <Override PartName="/ppt/media/image36.jpeg" ContentType="image/jpeg"/>
  <Override PartName="/ppt/media/image2.jpeg" ContentType="image/jpeg"/>
  <Override PartName="/ppt/media/image50.jpeg" ContentType="image/jpeg"/>
  <Override PartName="/ppt/media/image20.png" ContentType="image/png"/>
  <Override PartName="/ppt/media/image37.jpeg" ContentType="image/jpeg"/>
  <Override PartName="/ppt/media/image3.jpeg" ContentType="image/jpeg"/>
  <Override PartName="/ppt/media/image60.jpeg" ContentType="image/jpeg"/>
  <Override PartName="/ppt/media/image23.jpeg" ContentType="image/jpeg"/>
  <Override PartName="/ppt/media/image12.png" ContentType="image/png"/>
  <Override PartName="/ppt/media/image24.jpeg" ContentType="image/jpeg"/>
  <Override PartName="/ppt/media/image41.jpeg" ContentType="image/jpeg"/>
  <Override PartName="/ppt/media/image14.jpeg" ContentType="image/jpeg"/>
  <Override PartName="/ppt/media/image67.jpeg" ContentType="image/jpeg"/>
  <Override PartName="/ppt/media/image21.png" ContentType="image/png"/>
  <Override PartName="/ppt/media/image66.jpeg" ContentType="image/jpeg"/>
  <Override PartName="/ppt/media/image9.jpeg" ContentType="image/jpeg"/>
  <Override PartName="/ppt/media/image22.jpeg" ContentType="image/jpeg"/>
  <Override PartName="/ppt/media/image65.jpeg" ContentType="image/jpeg"/>
  <Override PartName="/ppt/media/image8.jpeg" ContentType="image/jpeg"/>
  <Override PartName="/ppt/media/image49.jpeg" ContentType="image/jpeg"/>
  <Override PartName="/ppt/media/image15.jpeg" ContentType="image/jpeg"/>
  <Override PartName="/ppt/media/image63.jpeg" ContentType="image/jpeg"/>
  <Override PartName="/ppt/media/image6.jpeg" ContentType="image/jpeg"/>
  <Override PartName="/ppt/media/image64.jpeg" ContentType="image/jpeg"/>
  <Override PartName="/ppt/media/image16.png" ContentType="image/png"/>
  <Override PartName="/ppt/media/image7.jpeg" ContentType="image/jpeg"/>
  <Override PartName="/ppt/media/image38.jpeg" ContentType="image/jpeg"/>
  <Override PartName="/ppt/media/image62.jpeg" ContentType="image/jpeg"/>
  <Override PartName="/ppt/media/image19.png" ContentType="image/png"/>
  <Override PartName="/ppt/media/image51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27.jpeg" ContentType="image/jpeg"/>
  <Override PartName="/ppt/media/image10.jpeg" ContentType="image/jpeg"/>
  <Override PartName="/ppt/media/image39.jpeg" ContentType="image/jpeg"/>
  <Override PartName="/ppt/media/image17.png" ContentType="image/png"/>
  <Override PartName="/ppt/media/image13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43.jpeg" ContentType="image/jpeg"/>
  <Override PartName="/ppt/media/image44.jpeg" ContentType="image/jpeg"/>
  <Override PartName="/ppt/media/image45.png" ContentType="image/pn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5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1240" y="556920"/>
            <a:ext cx="85996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59968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1240" y="4583880"/>
            <a:ext cx="859968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1240" y="556920"/>
            <a:ext cx="85996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652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8000" y="2101320"/>
            <a:ext cx="419652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1240" y="4583880"/>
            <a:ext cx="419652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8000" y="4583880"/>
            <a:ext cx="419652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1240" y="556920"/>
            <a:ext cx="85996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6876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8960" y="2101320"/>
            <a:ext cx="276876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6320" y="2101320"/>
            <a:ext cx="276876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1240" y="4583880"/>
            <a:ext cx="276876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8960" y="4583880"/>
            <a:ext cx="276876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6320" y="4583880"/>
            <a:ext cx="276876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556920"/>
            <a:ext cx="85996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5996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1240" y="556920"/>
            <a:ext cx="85996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5996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240" y="556920"/>
            <a:ext cx="85996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65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8000" y="2101320"/>
            <a:ext cx="41965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1240" y="556920"/>
            <a:ext cx="85996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1240" y="556920"/>
            <a:ext cx="859968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1240" y="556920"/>
            <a:ext cx="85996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652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8000" y="2101320"/>
            <a:ext cx="41965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1240" y="4583880"/>
            <a:ext cx="419652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1240" y="556920"/>
            <a:ext cx="85996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65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8000" y="2101320"/>
            <a:ext cx="419652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8000" y="4583880"/>
            <a:ext cx="419652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1240" y="556920"/>
            <a:ext cx="85996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652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8000" y="2101320"/>
            <a:ext cx="419652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1240" y="4583880"/>
            <a:ext cx="859968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1240" y="556920"/>
            <a:ext cx="85996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5996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png"/><Relationship Id="rId6" Type="http://schemas.openxmlformats.org/officeDocument/2006/relationships/image" Target="../media/image57.jpeg"/><Relationship Id="rId7" Type="http://schemas.openxmlformats.org/officeDocument/2006/relationships/image" Target="../media/image58.jpeg"/><Relationship Id="rId8" Type="http://schemas.openxmlformats.org/officeDocument/2006/relationships/image" Target="../media/image59.jpeg"/><Relationship Id="rId9" Type="http://schemas.openxmlformats.org/officeDocument/2006/relationships/image" Target="../media/image60.jpeg"/><Relationship Id="rId10" Type="http://schemas.openxmlformats.org/officeDocument/2006/relationships/image" Target="../media/image61.jpeg"/><Relationship Id="rId11" Type="http://schemas.openxmlformats.org/officeDocument/2006/relationships/image" Target="../media/image62.jpeg"/><Relationship Id="rId12" Type="http://schemas.openxmlformats.org/officeDocument/2006/relationships/image" Target="../media/image63.jpeg"/><Relationship Id="rId13" Type="http://schemas.openxmlformats.org/officeDocument/2006/relationships/image" Target="../media/image64.jpe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8"/>
          <p:cNvSpPr/>
          <p:nvPr/>
        </p:nvSpPr>
        <p:spPr>
          <a:xfrm>
            <a:off x="719280" y="2266920"/>
            <a:ext cx="8929440" cy="23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КЛАД СПЕЦИАЛИЗИРОВАННОЙ СЕКЦИИ ОПСА «АКУШЕРСКОЕ ДЕЛО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 РАЗВИТИЕ ОМСКОЙ ПРОФЕССИОНАЛЬНОЙ СЕСТРИНСКОЙ АССОЦИ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19"/>
          <p:cNvSpPr/>
          <p:nvPr/>
        </p:nvSpPr>
        <p:spPr>
          <a:xfrm>
            <a:off x="4464000" y="5796000"/>
            <a:ext cx="503892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.В. Хомченк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седатель  секции ОП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Акушерское дело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21" descr="C:\Users\Sveta\Desktop\Новый рисунок.bmp"/>
          <p:cNvPicPr/>
          <p:nvPr/>
        </p:nvPicPr>
        <p:blipFill>
          <a:blip r:embed="rId1"/>
          <a:stretch/>
        </p:blipFill>
        <p:spPr>
          <a:xfrm>
            <a:off x="166680" y="0"/>
            <a:ext cx="9914040" cy="13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741240" y="181080"/>
            <a:ext cx="860904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мпетентность акушерки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741240" y="2101680"/>
            <a:ext cx="42004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423720" indent="-318960">
              <a:lnSpc>
                <a:spcPct val="93000"/>
              </a:lnSpc>
              <a:buClr>
                <a:srgbClr val="0e594d"/>
              </a:buClr>
              <a:buFont typeface="Wingdings" charset="2"/>
              <a:buChar char=""/>
              <a:tabLst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кушерке необходимо разбираться в сложном медицинском оборудован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buClr>
                <a:srgbClr val="0e594d"/>
              </a:buClr>
              <a:buFont typeface="Wingdings" charset="2"/>
              <a:buChar char=""/>
              <a:tabLst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казывать экстренную помощ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buClr>
                <a:srgbClr val="0e594d"/>
              </a:buClr>
              <a:buFont typeface="Wingdings" charset="2"/>
              <a:buChar char=""/>
              <a:tabLst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могать врачу во всех операция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buClr>
                <a:srgbClr val="0e594d"/>
              </a:buClr>
              <a:buFont typeface="Wingdings" charset="2"/>
              <a:buChar char=""/>
              <a:tabLst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существлять уход за младенц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5761080" y="1619280"/>
            <a:ext cx="2448000" cy="2592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6985080" y="4211640"/>
            <a:ext cx="2828880" cy="1800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3"/>
          <a:stretch/>
        </p:blipFill>
        <p:spPr>
          <a:xfrm>
            <a:off x="4753080" y="5364000"/>
            <a:ext cx="2519280" cy="18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741240" y="181080"/>
            <a:ext cx="8609040" cy="16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вышение уровня квалификации акушер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741240" y="2101680"/>
            <a:ext cx="494676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423720" indent="-318960">
              <a:lnSpc>
                <a:spcPct val="93000"/>
              </a:lnSpc>
              <a:buClr>
                <a:srgbClr val="0e594d"/>
              </a:buClr>
              <a:buFont typeface="Wingdings" charset="2"/>
              <a:buChar char=""/>
              <a:tabLst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сего акушерок- 1004 че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комплектованность - 88,4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buClr>
                <a:srgbClr val="0e594d"/>
              </a:buClr>
              <a:buFont typeface="Wingdings" charset="2"/>
              <a:buChar char=""/>
              <a:tabLst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меют квалификационну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атегорию-  737чел. (74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6149880" y="1692360"/>
            <a:ext cx="2386080" cy="2592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2"/>
          <a:stretch/>
        </p:blipFill>
        <p:spPr>
          <a:xfrm>
            <a:off x="1079640" y="5435640"/>
            <a:ext cx="1798560" cy="1871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3"/>
          <a:stretch/>
        </p:blipFill>
        <p:spPr>
          <a:xfrm>
            <a:off x="6089760" y="5580000"/>
            <a:ext cx="2982960" cy="1798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4"/>
          <a:stretch/>
        </p:blipFill>
        <p:spPr>
          <a:xfrm>
            <a:off x="3060720" y="5508720"/>
            <a:ext cx="2841480" cy="1860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5"/>
          <a:stretch/>
        </p:blipFill>
        <p:spPr>
          <a:xfrm>
            <a:off x="7343640" y="3924360"/>
            <a:ext cx="2328840" cy="169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741240" y="181080"/>
            <a:ext cx="860904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астие акушерок в мероприятиях ОПС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741240" y="4589640"/>
            <a:ext cx="8609040" cy="22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15720">
              <a:lnSpc>
                <a:spcPct val="93000"/>
              </a:lnSpc>
              <a:tabLst>
                <a:tab algn="l" pos="0"/>
                <a:tab algn="l" pos="431640"/>
                <a:tab algn="l" pos="533520"/>
                <a:tab algn="l" pos="982800"/>
                <a:tab algn="l" pos="1432080"/>
                <a:tab algn="l" pos="1881360"/>
                <a:tab algn="l" pos="2328840"/>
                <a:tab algn="l" pos="2779560"/>
                <a:tab algn="l" pos="3228840"/>
                <a:tab algn="l" pos="3678120"/>
                <a:tab algn="l" pos="4125960"/>
                <a:tab algn="l" pos="4576680"/>
                <a:tab algn="l" pos="5025960"/>
                <a:tab algn="l" pos="5473800"/>
                <a:tab algn="l" pos="5923080"/>
                <a:tab algn="l" pos="6375240"/>
                <a:tab algn="l" pos="6823080"/>
                <a:tab algn="l" pos="7270920"/>
                <a:tab algn="l" pos="7721640"/>
                <a:tab algn="l" pos="8170920"/>
                <a:tab algn="l" pos="8618400"/>
                <a:tab algn="l" pos="906768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реди акушерок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15720">
              <a:lnSpc>
                <a:spcPct val="93000"/>
              </a:lnSpc>
              <a:tabLst>
                <a:tab algn="l" pos="0"/>
                <a:tab algn="l" pos="431640"/>
                <a:tab algn="l" pos="533520"/>
                <a:tab algn="l" pos="982800"/>
                <a:tab algn="l" pos="1432080"/>
                <a:tab algn="l" pos="1881360"/>
                <a:tab algn="l" pos="2328840"/>
                <a:tab algn="l" pos="2779560"/>
                <a:tab algn="l" pos="3228840"/>
                <a:tab algn="l" pos="3678120"/>
                <a:tab algn="l" pos="4125960"/>
                <a:tab algn="l" pos="4576680"/>
                <a:tab algn="l" pos="5025960"/>
                <a:tab algn="l" pos="5473800"/>
                <a:tab algn="l" pos="5923080"/>
                <a:tab algn="l" pos="6375240"/>
                <a:tab algn="l" pos="6823080"/>
                <a:tab algn="l" pos="7270920"/>
                <a:tab algn="l" pos="7721640"/>
                <a:tab algn="l" pos="8170920"/>
                <a:tab algn="l" pos="8618400"/>
                <a:tab algn="l" pos="906768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15720">
              <a:lnSpc>
                <a:spcPct val="93000"/>
              </a:lnSpc>
              <a:buClr>
                <a:srgbClr val="0e594d"/>
              </a:buClr>
              <a:buFont typeface="Wingdings" charset="2"/>
              <a:buChar char=""/>
              <a:tabLst>
                <a:tab algn="l" pos="431640"/>
                <a:tab algn="l" pos="533520"/>
                <a:tab algn="l" pos="982800"/>
                <a:tab algn="l" pos="1432080"/>
                <a:tab algn="l" pos="1881360"/>
                <a:tab algn="l" pos="2328840"/>
                <a:tab algn="l" pos="2779560"/>
                <a:tab algn="l" pos="3228840"/>
                <a:tab algn="l" pos="3678120"/>
                <a:tab algn="l" pos="4125960"/>
                <a:tab algn="l" pos="4576680"/>
                <a:tab algn="l" pos="5025960"/>
                <a:tab algn="l" pos="5473800"/>
                <a:tab algn="l" pos="5923080"/>
                <a:tab algn="l" pos="6375240"/>
                <a:tab algn="l" pos="6823080"/>
                <a:tab algn="l" pos="7270920"/>
                <a:tab algn="l" pos="7721640"/>
                <a:tab algn="l" pos="8170920"/>
                <a:tab algn="l" pos="8618400"/>
                <a:tab algn="l" pos="906768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лены ОПСА - 724 че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15720">
              <a:lnSpc>
                <a:spcPct val="93000"/>
              </a:lnSpc>
              <a:tabLst>
                <a:tab algn="l" pos="0"/>
                <a:tab algn="l" pos="431640"/>
                <a:tab algn="l" pos="533520"/>
                <a:tab algn="l" pos="982800"/>
                <a:tab algn="l" pos="1432080"/>
                <a:tab algn="l" pos="1881360"/>
                <a:tab algn="l" pos="2328840"/>
                <a:tab algn="l" pos="2779560"/>
                <a:tab algn="l" pos="3228840"/>
                <a:tab algn="l" pos="3678120"/>
                <a:tab algn="l" pos="4125960"/>
                <a:tab algn="l" pos="4576680"/>
                <a:tab algn="l" pos="5025960"/>
                <a:tab algn="l" pos="5473800"/>
                <a:tab algn="l" pos="5923080"/>
                <a:tab algn="l" pos="6375240"/>
                <a:tab algn="l" pos="6823080"/>
                <a:tab algn="l" pos="7270920"/>
                <a:tab algn="l" pos="7721640"/>
                <a:tab algn="l" pos="8170920"/>
                <a:tab algn="l" pos="8618400"/>
                <a:tab algn="l" pos="906768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15720">
              <a:lnSpc>
                <a:spcPct val="93000"/>
              </a:lnSpc>
              <a:buClr>
                <a:srgbClr val="0e594d"/>
              </a:buClr>
              <a:buFont typeface="Wingdings" charset="2"/>
              <a:buChar char=""/>
              <a:tabLst>
                <a:tab algn="l" pos="431640"/>
                <a:tab algn="l" pos="533520"/>
                <a:tab algn="l" pos="982800"/>
                <a:tab algn="l" pos="1432080"/>
                <a:tab algn="l" pos="1881360"/>
                <a:tab algn="l" pos="2328840"/>
                <a:tab algn="l" pos="2779560"/>
                <a:tab algn="l" pos="3228840"/>
                <a:tab algn="l" pos="3678120"/>
                <a:tab algn="l" pos="4125960"/>
                <a:tab algn="l" pos="4576680"/>
                <a:tab algn="l" pos="5025960"/>
                <a:tab algn="l" pos="5473800"/>
                <a:tab algn="l" pos="5923080"/>
                <a:tab algn="l" pos="6375240"/>
                <a:tab algn="l" pos="6823080"/>
                <a:tab algn="l" pos="7270920"/>
                <a:tab algn="l" pos="7721640"/>
                <a:tab algn="l" pos="8170920"/>
                <a:tab algn="l" pos="8618400"/>
                <a:tab algn="l" pos="906768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оставляет 72 % от общего числа акушер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576360" y="2050920"/>
            <a:ext cx="2857320" cy="2233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3816360" y="2050920"/>
            <a:ext cx="2959200" cy="2233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3"/>
          <a:stretch/>
        </p:blipFill>
        <p:spPr>
          <a:xfrm>
            <a:off x="7128000" y="3708360"/>
            <a:ext cx="2239920" cy="250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741240" y="181080"/>
            <a:ext cx="860904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работка методических рекомендаций для акушер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741240" y="2101680"/>
            <a:ext cx="86090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423720" indent="-318960">
              <a:lnSpc>
                <a:spcPct val="93000"/>
              </a:lnSpc>
              <a:buClr>
                <a:srgbClr val="0e594d"/>
              </a:buClr>
              <a:buFont typeface="Wingdings" charset="2"/>
              <a:buChar char=""/>
              <a:tabLst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казание неотложной помощи при акушерских кровотечения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buClr>
                <a:srgbClr val="0e594d"/>
              </a:buClr>
              <a:buFont typeface="Wingdings" charset="2"/>
              <a:buChar char=""/>
              <a:tabLst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отокол по технике синхронной записи сердцебиений плода и маточных сокращений (КТГ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buClr>
                <a:srgbClr val="0e594d"/>
              </a:buClr>
              <a:buFont typeface="Wingdings" charset="2"/>
              <a:buChar char=""/>
              <a:tabLst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Лечебная физкультура в акушерско-гинекологической практи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buClr>
                <a:srgbClr val="0e594d"/>
              </a:buClr>
              <a:buFont typeface="Wingdings" charset="2"/>
              <a:buChar char=""/>
              <a:tabLst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казание реанимационных мероприятий новорожденному ребенку в условиях родильного за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"/>
          <p:cNvSpPr/>
          <p:nvPr/>
        </p:nvSpPr>
        <p:spPr>
          <a:xfrm>
            <a:off x="741240" y="181080"/>
            <a:ext cx="860904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работка методических рекомендаций для акушер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5149800" y="2101680"/>
            <a:ext cx="4202280" cy="57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15720">
              <a:lnSpc>
                <a:spcPct val="93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борник методических рекомендаций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Организация работы акушерок родового блок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15720">
              <a:lnSpc>
                <a:spcPct val="93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15720">
              <a:lnSpc>
                <a:spcPct val="93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15720">
              <a:lnSpc>
                <a:spcPct val="93000"/>
              </a:lnSpc>
              <a:buClr>
                <a:srgbClr val="0e594d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ПСА - 300 эк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15720">
              <a:lnSpc>
                <a:spcPct val="93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15720">
              <a:lnSpc>
                <a:spcPct val="93000"/>
              </a:lnSpc>
              <a:buClr>
                <a:srgbClr val="0e594d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МС - 500 эк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15720">
              <a:lnSpc>
                <a:spcPct val="93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15720">
              <a:lnSpc>
                <a:spcPct val="93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1104840" y="4794120"/>
            <a:ext cx="3035520" cy="2276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2"/>
          <a:stretch/>
        </p:blipFill>
        <p:spPr>
          <a:xfrm>
            <a:off x="1200240" y="2160720"/>
            <a:ext cx="263988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741240" y="181080"/>
            <a:ext cx="860904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астие секции в Форум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Здоровые дети - здоровая нация»</a:t>
            </a:r>
            <a:br>
              <a:rPr sz="3200"/>
            </a:b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7- 8 октября 2014 г. в г. Санкт - Петербур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741240" y="2101680"/>
            <a:ext cx="420048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5149800" y="2101680"/>
            <a:ext cx="420228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5149800" y="4589640"/>
            <a:ext cx="4202280" cy="22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741240" y="4589640"/>
            <a:ext cx="4200480" cy="22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900000" y="511488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2"/>
          <a:stretch/>
        </p:blipFill>
        <p:spPr>
          <a:xfrm>
            <a:off x="5827680" y="2147760"/>
            <a:ext cx="2857680" cy="1903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"/>
          <p:cNvPicPr/>
          <p:nvPr/>
        </p:nvPicPr>
        <p:blipFill>
          <a:blip r:embed="rId3"/>
          <a:stretch/>
        </p:blipFill>
        <p:spPr>
          <a:xfrm>
            <a:off x="922320" y="2160720"/>
            <a:ext cx="2857680" cy="1904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"/>
          <p:cNvPicPr/>
          <p:nvPr/>
        </p:nvPicPr>
        <p:blipFill>
          <a:blip r:embed="rId4"/>
          <a:stretch/>
        </p:blipFill>
        <p:spPr>
          <a:xfrm>
            <a:off x="6143760" y="4935600"/>
            <a:ext cx="2855880" cy="1904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"/>
          <p:cNvPicPr/>
          <p:nvPr/>
        </p:nvPicPr>
        <p:blipFill>
          <a:blip r:embed="rId5"/>
          <a:stretch/>
        </p:blipFill>
        <p:spPr>
          <a:xfrm>
            <a:off x="3600360" y="3960720"/>
            <a:ext cx="2857680" cy="19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741240" y="181080"/>
            <a:ext cx="8609040" cy="17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20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Награждение коллектива специализированной секции ОПСА «Акушерское дело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741240" y="2101680"/>
            <a:ext cx="42004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t">
            <a:noAutofit/>
          </a:bodyPr>
          <a:p>
            <a:pPr marL="431640" indent="-315720" algn="ctr">
              <a:lnSpc>
                <a:spcPct val="93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31640" indent="-315720" algn="ctr">
              <a:lnSpc>
                <a:spcPct val="93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мест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31640" indent="-315720" algn="ctr">
              <a:lnSpc>
                <a:spcPct val="93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профессиональном конкурсе РАМ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15720" algn="ctr">
              <a:lnSpc>
                <a:spcPct val="93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номин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15720" algn="ctr">
              <a:lnSpc>
                <a:spcPct val="93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рофессиональная книг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6480000" y="2519280"/>
            <a:ext cx="2856240" cy="1905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2"/>
          <a:stretch/>
        </p:blipFill>
        <p:spPr>
          <a:xfrm>
            <a:off x="6502320" y="5114880"/>
            <a:ext cx="285768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741240" y="181080"/>
            <a:ext cx="8609040" cy="16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убликация в СМ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741240" y="2101680"/>
            <a:ext cx="4200480" cy="48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431640" indent="-315720" algn="ctr">
              <a:lnSpc>
                <a:spcPct val="93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14 год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15720">
              <a:lnSpc>
                <a:spcPct val="93000"/>
              </a:lnSpc>
              <a:buClr>
                <a:srgbClr val="0e594d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Журнал «Фельдшер-акушерк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15720">
              <a:lnSpc>
                <a:spcPct val="93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15720">
              <a:lnSpc>
                <a:spcPct val="93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Роль акушерки в процессе сохранения беременности при заболеваниях сердечно-сосудистой системы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15720">
              <a:lnSpc>
                <a:spcPct val="93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15720">
              <a:lnSpc>
                <a:spcPct val="93000"/>
              </a:lnSpc>
              <a:buClr>
                <a:srgbClr val="0e594d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вторы: Саитова Т.В, Дружинина Е.В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5580000" y="2306520"/>
            <a:ext cx="3959280" cy="2227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2"/>
          <a:stretch/>
        </p:blipFill>
        <p:spPr>
          <a:xfrm>
            <a:off x="7559640" y="4694400"/>
            <a:ext cx="2160720" cy="2492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3"/>
          <a:stretch/>
        </p:blipFill>
        <p:spPr>
          <a:xfrm>
            <a:off x="5040360" y="4035600"/>
            <a:ext cx="285732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741240" y="181080"/>
            <a:ext cx="860904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астие акушерок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в профилактической работ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720720" y="2124000"/>
            <a:ext cx="2855880" cy="2303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6912000" y="4788000"/>
            <a:ext cx="2259000" cy="2448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"/>
          <p:cNvPicPr/>
          <p:nvPr/>
        </p:nvPicPr>
        <p:blipFill>
          <a:blip r:embed="rId3"/>
          <a:stretch/>
        </p:blipFill>
        <p:spPr>
          <a:xfrm>
            <a:off x="719280" y="4788000"/>
            <a:ext cx="2879640" cy="2305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4"/>
          <a:stretch/>
        </p:blipFill>
        <p:spPr>
          <a:xfrm>
            <a:off x="6912000" y="2195640"/>
            <a:ext cx="2521080" cy="2303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5"/>
          <a:stretch/>
        </p:blipFill>
        <p:spPr>
          <a:xfrm>
            <a:off x="3456000" y="3274920"/>
            <a:ext cx="350820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741240" y="557280"/>
            <a:ext cx="8602920" cy="12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Group 2"/>
          <p:cNvGrpSpPr/>
          <p:nvPr/>
        </p:nvGrpSpPr>
        <p:grpSpPr>
          <a:xfrm>
            <a:off x="792000" y="3274920"/>
            <a:ext cx="3711600" cy="2092320"/>
            <a:chOff x="792000" y="3274920"/>
            <a:chExt cx="3711600" cy="2092320"/>
          </a:xfrm>
        </p:grpSpPr>
        <p:pic>
          <p:nvPicPr>
            <p:cNvPr id="145" name="Picture 3" descr=""/>
            <p:cNvPicPr/>
            <p:nvPr/>
          </p:nvPicPr>
          <p:blipFill>
            <a:blip r:embed="rId1"/>
            <a:stretch/>
          </p:blipFill>
          <p:spPr>
            <a:xfrm>
              <a:off x="792000" y="3274920"/>
              <a:ext cx="3711600" cy="20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4"/>
            <p:cNvSpPr/>
            <p:nvPr/>
          </p:nvSpPr>
          <p:spPr>
            <a:xfrm>
              <a:off x="792000" y="3274920"/>
              <a:ext cx="3711600" cy="20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Group 5"/>
          <p:cNvGrpSpPr/>
          <p:nvPr/>
        </p:nvGrpSpPr>
        <p:grpSpPr>
          <a:xfrm>
            <a:off x="5472000" y="3348000"/>
            <a:ext cx="3713400" cy="2092320"/>
            <a:chOff x="5472000" y="3348000"/>
            <a:chExt cx="3713400" cy="2092320"/>
          </a:xfrm>
        </p:grpSpPr>
        <p:pic>
          <p:nvPicPr>
            <p:cNvPr id="148" name="Picture 6" descr=""/>
            <p:cNvPicPr/>
            <p:nvPr/>
          </p:nvPicPr>
          <p:blipFill>
            <a:blip r:embed="rId2"/>
            <a:stretch/>
          </p:blipFill>
          <p:spPr>
            <a:xfrm>
              <a:off x="5472000" y="3348000"/>
              <a:ext cx="3713400" cy="20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7"/>
            <p:cNvSpPr/>
            <p:nvPr/>
          </p:nvSpPr>
          <p:spPr>
            <a:xfrm>
              <a:off x="5472000" y="3348000"/>
              <a:ext cx="3713400" cy="20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Group 8"/>
          <p:cNvGrpSpPr/>
          <p:nvPr/>
        </p:nvGrpSpPr>
        <p:grpSpPr>
          <a:xfrm>
            <a:off x="3311640" y="5580000"/>
            <a:ext cx="3711600" cy="1797120"/>
            <a:chOff x="3311640" y="5580000"/>
            <a:chExt cx="3711600" cy="1797120"/>
          </a:xfrm>
        </p:grpSpPr>
        <p:pic>
          <p:nvPicPr>
            <p:cNvPr id="151" name="Picture 9" descr=""/>
            <p:cNvPicPr/>
            <p:nvPr/>
          </p:nvPicPr>
          <p:blipFill>
            <a:blip r:embed="rId3"/>
            <a:stretch/>
          </p:blipFill>
          <p:spPr>
            <a:xfrm>
              <a:off x="3311640" y="5580000"/>
              <a:ext cx="3711600" cy="17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0"/>
            <p:cNvSpPr/>
            <p:nvPr/>
          </p:nvSpPr>
          <p:spPr>
            <a:xfrm>
              <a:off x="3311640" y="5580000"/>
              <a:ext cx="3711600" cy="179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" name="Group 11"/>
          <p:cNvGrpSpPr/>
          <p:nvPr/>
        </p:nvGrpSpPr>
        <p:grpSpPr>
          <a:xfrm>
            <a:off x="360360" y="179280"/>
            <a:ext cx="9354960" cy="1759320"/>
            <a:chOff x="360360" y="179280"/>
            <a:chExt cx="9354960" cy="1759320"/>
          </a:xfrm>
        </p:grpSpPr>
        <p:grpSp>
          <p:nvGrpSpPr>
            <p:cNvPr id="154" name="Group 12"/>
            <p:cNvGrpSpPr/>
            <p:nvPr/>
          </p:nvGrpSpPr>
          <p:grpSpPr>
            <a:xfrm>
              <a:off x="393840" y="217440"/>
              <a:ext cx="9321480" cy="1721160"/>
              <a:chOff x="393840" y="217440"/>
              <a:chExt cx="9321480" cy="1721160"/>
            </a:xfrm>
          </p:grpSpPr>
          <p:pic>
            <p:nvPicPr>
              <p:cNvPr id="155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360" y="217440"/>
                <a:ext cx="9318960" cy="171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" name="Rectangle 14"/>
              <p:cNvSpPr/>
              <p:nvPr/>
            </p:nvSpPr>
            <p:spPr>
              <a:xfrm>
                <a:off x="4542840" y="217440"/>
                <a:ext cx="1024920" cy="1618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57" name="Pictur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4666680" y="277560"/>
                <a:ext cx="804240" cy="1507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Pictur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393840" y="1511280"/>
                <a:ext cx="3278880" cy="420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Picture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6377400" y="1511280"/>
                <a:ext cx="3314160" cy="42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Rectangle 18"/>
              <p:cNvSpPr/>
              <p:nvPr/>
            </p:nvSpPr>
            <p:spPr>
              <a:xfrm>
                <a:off x="2634840" y="1336680"/>
                <a:ext cx="1331640" cy="59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3000" spc="-1" strike="noStrike">
                    <a:solidFill>
                      <a:srgbClr val="ffffff"/>
                    </a:solidFill>
                    <a:latin typeface="Arial"/>
                  </a:rPr>
                  <a:t>2000</a:t>
                </a:r>
                <a:endParaRPr b="0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Rectangle 19"/>
              <p:cNvSpPr/>
              <p:nvPr/>
            </p:nvSpPr>
            <p:spPr>
              <a:xfrm>
                <a:off x="6336360" y="1343160"/>
                <a:ext cx="1333080" cy="59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3000" spc="-1" strike="noStrike">
                    <a:solidFill>
                      <a:srgbClr val="ffffff"/>
                    </a:solidFill>
                    <a:latin typeface="Arial"/>
                  </a:rPr>
                  <a:t>2015</a:t>
                </a:r>
                <a:endParaRPr b="0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62" name="Picture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434520" y="217440"/>
                <a:ext cx="1904760" cy="1251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" name="Picture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7772400" y="217440"/>
                <a:ext cx="1942920" cy="1265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Picture 22" descr=""/>
              <p:cNvPicPr/>
              <p:nvPr/>
            </p:nvPicPr>
            <p:blipFill>
              <a:blip r:embed="rId10"/>
              <a:stretch/>
            </p:blipFill>
            <p:spPr>
              <a:xfrm>
                <a:off x="7038000" y="766080"/>
                <a:ext cx="2090160" cy="68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Picture 23" descr=""/>
              <p:cNvPicPr/>
              <p:nvPr/>
            </p:nvPicPr>
            <p:blipFill>
              <a:blip r:embed="rId11"/>
              <a:stretch/>
            </p:blipFill>
            <p:spPr>
              <a:xfrm>
                <a:off x="6782400" y="1046520"/>
                <a:ext cx="1134720" cy="397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Picture 24" descr=""/>
              <p:cNvPicPr/>
              <p:nvPr/>
            </p:nvPicPr>
            <p:blipFill>
              <a:blip r:embed="rId12"/>
              <a:stretch/>
            </p:blipFill>
            <p:spPr>
              <a:xfrm>
                <a:off x="6710760" y="1119600"/>
                <a:ext cx="1134720" cy="22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" name="Rectangle 25"/>
              <p:cNvSpPr/>
              <p:nvPr/>
            </p:nvSpPr>
            <p:spPr>
              <a:xfrm>
                <a:off x="6671160" y="277560"/>
                <a:ext cx="3044160" cy="117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ru-RU" sz="1700" spc="-1" strike="noStrike">
                    <a:solidFill>
                      <a:srgbClr val="ffffff"/>
                    </a:solidFill>
                    <a:latin typeface="Arial"/>
                  </a:rPr>
                  <a:t>Омской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ru-RU" sz="1700" spc="-1" strike="noStrike">
                    <a:solidFill>
                      <a:srgbClr val="ffffff"/>
                    </a:solidFill>
                    <a:latin typeface="Arial"/>
                  </a:rPr>
                  <a:t>профессиональной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ru-RU" sz="1700" spc="-1" strike="noStrike">
                    <a:solidFill>
                      <a:srgbClr val="ffffff"/>
                    </a:solidFill>
                    <a:latin typeface="Arial"/>
                  </a:rPr>
                  <a:t>сестринской ассоциации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68" name="Picture 26" descr=""/>
              <p:cNvPicPr/>
              <p:nvPr/>
            </p:nvPicPr>
            <p:blipFill>
              <a:blip r:embed="rId13"/>
              <a:stretch/>
            </p:blipFill>
            <p:spPr>
              <a:xfrm>
                <a:off x="1169640" y="577080"/>
                <a:ext cx="1831680" cy="702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9" name="Rectangle 27"/>
            <p:cNvSpPr/>
            <p:nvPr/>
          </p:nvSpPr>
          <p:spPr>
            <a:xfrm>
              <a:off x="360360" y="179280"/>
              <a:ext cx="440388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6000" spc="-1" strike="noStrike">
                  <a:solidFill>
                    <a:srgbClr val="ffffff"/>
                  </a:solidFill>
                  <a:latin typeface="Edwardian Script ITC"/>
                </a:rPr>
                <a:t>15</a:t>
              </a:r>
              <a:r>
                <a:rPr b="0" i="1" lang="ru-RU" sz="6000" spc="-1" strike="noStrike">
                  <a:solidFill>
                    <a:srgbClr val="ffffff"/>
                  </a:solidFill>
                  <a:latin typeface="Monotype Corsiva"/>
                </a:rPr>
                <a:t>  лет!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Rectangle 28"/>
          <p:cNvSpPr/>
          <p:nvPr/>
        </p:nvSpPr>
        <p:spPr>
          <a:xfrm>
            <a:off x="1800360" y="2124000"/>
            <a:ext cx="66974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сследования в акушерском деле чрезвычайно важны для улучшения качества акушерской помощ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"/>
          <p:cNvSpPr/>
          <p:nvPr/>
        </p:nvSpPr>
        <p:spPr>
          <a:xfrm>
            <a:off x="720720" y="360360"/>
            <a:ext cx="860904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5 МАЯ -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Международный день акушер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741240" y="2101680"/>
            <a:ext cx="42004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431640" indent="-315720">
              <a:lnSpc>
                <a:spcPct val="93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15720">
              <a:lnSpc>
                <a:spcPct val="93000"/>
              </a:lnSpc>
              <a:buClr>
                <a:srgbClr val="0e594d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80099"/>
                </a:solidFill>
                <a:latin typeface="Times New Roman"/>
              </a:rPr>
              <a:t>Этот день утвержден Международной Конфедерацией акушерок в 1992 год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15720">
              <a:lnSpc>
                <a:spcPct val="93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15720">
              <a:lnSpc>
                <a:spcPct val="93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15720">
              <a:lnSpc>
                <a:spcPct val="93000"/>
              </a:lnSpc>
              <a:buClr>
                <a:srgbClr val="0e594d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80099"/>
                </a:solidFill>
                <a:latin typeface="Times New Roman"/>
              </a:rPr>
              <a:t>Международная Конфедерация основана в 1919 год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15720">
              <a:lnSpc>
                <a:spcPct val="93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5645160" y="2519280"/>
            <a:ext cx="3714840" cy="43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"/>
          <p:cNvSpPr/>
          <p:nvPr/>
        </p:nvSpPr>
        <p:spPr>
          <a:xfrm>
            <a:off x="741240" y="557280"/>
            <a:ext cx="8602920" cy="12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овышение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 качества акушерской помощ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Group 2"/>
          <p:cNvGrpSpPr/>
          <p:nvPr/>
        </p:nvGrpSpPr>
        <p:grpSpPr>
          <a:xfrm>
            <a:off x="5040360" y="4716360"/>
            <a:ext cx="3522600" cy="2300400"/>
            <a:chOff x="5040360" y="4716360"/>
            <a:chExt cx="3522600" cy="2300400"/>
          </a:xfrm>
        </p:grpSpPr>
        <p:pic>
          <p:nvPicPr>
            <p:cNvPr id="173" name="Picture 3" descr=""/>
            <p:cNvPicPr/>
            <p:nvPr/>
          </p:nvPicPr>
          <p:blipFill>
            <a:blip r:embed="rId1"/>
            <a:stretch/>
          </p:blipFill>
          <p:spPr>
            <a:xfrm>
              <a:off x="5040360" y="4716360"/>
              <a:ext cx="3522600" cy="23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4"/>
            <p:cNvSpPr/>
            <p:nvPr/>
          </p:nvSpPr>
          <p:spPr>
            <a:xfrm>
              <a:off x="5040360" y="4716360"/>
              <a:ext cx="3522600" cy="23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" name="Text Box 5"/>
          <p:cNvSpPr/>
          <p:nvPr/>
        </p:nvSpPr>
        <p:spPr>
          <a:xfrm>
            <a:off x="5111640" y="2411280"/>
            <a:ext cx="42260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Lucida Sans Unicode"/>
              </a:rPr>
              <a:t>•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Используя исследования, акушерки достигнут признания как специалисты, достойные самого глубокого ува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2"/>
          <a:stretch/>
        </p:blipFill>
        <p:spPr>
          <a:xfrm>
            <a:off x="576360" y="2124000"/>
            <a:ext cx="3485880" cy="197964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7"/>
          <p:cNvGrpSpPr/>
          <p:nvPr/>
        </p:nvGrpSpPr>
        <p:grpSpPr>
          <a:xfrm>
            <a:off x="1166760" y="4643280"/>
            <a:ext cx="2305080" cy="2381400"/>
            <a:chOff x="1166760" y="4643280"/>
            <a:chExt cx="2305080" cy="2381400"/>
          </a:xfrm>
        </p:grpSpPr>
        <p:pic>
          <p:nvPicPr>
            <p:cNvPr id="178" name="Picture 8" descr=""/>
            <p:cNvPicPr/>
            <p:nvPr/>
          </p:nvPicPr>
          <p:blipFill>
            <a:blip r:embed="rId3"/>
            <a:stretch/>
          </p:blipFill>
          <p:spPr>
            <a:xfrm>
              <a:off x="1166760" y="4643280"/>
              <a:ext cx="2305080" cy="238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9"/>
            <p:cNvSpPr/>
            <p:nvPr/>
          </p:nvSpPr>
          <p:spPr>
            <a:xfrm>
              <a:off x="1166760" y="4643280"/>
              <a:ext cx="2305080" cy="23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741240" y="181080"/>
            <a:ext cx="860904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ука и практика - понятия тесно связаны друг с друго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741240" y="2147760"/>
            <a:ext cx="8609040" cy="46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ctr">
            <a:noAutofit/>
          </a:bodyPr>
          <a:p>
            <a:pPr marL="343080" indent="-335160" algn="ctr">
              <a:lnSpc>
                <a:spcPct val="9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ИННОВАЦИИ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 не зависят от того, какими средствами вы располагае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9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9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Инновации определяются не деньгами, а теми людьми, с которыми вы работаете, как вы руководите и какой вклад вносите в свое дел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9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                           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(Стив Джобс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"/>
          <p:cNvSpPr/>
          <p:nvPr/>
        </p:nvSpPr>
        <p:spPr>
          <a:xfrm>
            <a:off x="741240" y="600120"/>
            <a:ext cx="8609040" cy="62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20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БЛАГОДАРЮ ЗА ВНИМАНИЕ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741240" y="406440"/>
            <a:ext cx="860904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фессия акушерки - профессия,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которую нельзя приходить без призва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020600" y="1979640"/>
            <a:ext cx="3359160" cy="2519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5310360" y="1979640"/>
            <a:ext cx="3778200" cy="2519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1020600" y="4680000"/>
            <a:ext cx="3359160" cy="2519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4"/>
          <a:stretch/>
        </p:blipFill>
        <p:spPr>
          <a:xfrm>
            <a:off x="5554800" y="4680000"/>
            <a:ext cx="3289320" cy="24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741240" y="173160"/>
            <a:ext cx="86090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направления инновационного процесса в сфере акушерской деятельно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792000" y="2147760"/>
            <a:ext cx="8558280" cy="50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>
            <a:noAutofit/>
          </a:bodyPr>
          <a:p>
            <a:pPr marL="343080" indent="-335160">
              <a:lnSpc>
                <a:spcPct val="9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- разработка и внедрение системы управл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9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качеством сестринской помощ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9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9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- внедрение новых сестринских технолог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9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9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- разработка и внедрение профессиональны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9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стандартов качества акушерской помощ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9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741240" y="406440"/>
            <a:ext cx="860904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направления инновационного процесса в сфере акушерской деятель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741240" y="2147760"/>
            <a:ext cx="8609040" cy="46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>
            <a:noAutofit/>
          </a:bodyPr>
          <a:p>
            <a:pPr marL="343080" indent="-335160">
              <a:lnSpc>
                <a:spcPct val="9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- проведение научно-исследовательской работ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9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в сфере сестринской помощи в акушерств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9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9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- подготовка кадрового соста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9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9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- повышение профессионального уровн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95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акушер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741240" y="557280"/>
            <a:ext cx="8602920" cy="12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2"/>
          <p:cNvGrpSpPr/>
          <p:nvPr/>
        </p:nvGrpSpPr>
        <p:grpSpPr>
          <a:xfrm>
            <a:off x="6692760" y="1744560"/>
            <a:ext cx="3067200" cy="2017440"/>
            <a:chOff x="6692760" y="1744560"/>
            <a:chExt cx="3067200" cy="2017440"/>
          </a:xfrm>
        </p:grpSpPr>
        <p:pic>
          <p:nvPicPr>
            <p:cNvPr id="59" name="Picture 3" descr=""/>
            <p:cNvPicPr/>
            <p:nvPr/>
          </p:nvPicPr>
          <p:blipFill>
            <a:blip r:embed="rId1"/>
            <a:stretch/>
          </p:blipFill>
          <p:spPr>
            <a:xfrm>
              <a:off x="6692760" y="1744560"/>
              <a:ext cx="3067200" cy="201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4"/>
            <p:cNvSpPr/>
            <p:nvPr/>
          </p:nvSpPr>
          <p:spPr>
            <a:xfrm>
              <a:off x="6692760" y="1744560"/>
              <a:ext cx="3067200" cy="20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" name="Group 5"/>
          <p:cNvGrpSpPr/>
          <p:nvPr/>
        </p:nvGrpSpPr>
        <p:grpSpPr>
          <a:xfrm>
            <a:off x="503280" y="4356000"/>
            <a:ext cx="3306600" cy="2157480"/>
            <a:chOff x="503280" y="4356000"/>
            <a:chExt cx="3306600" cy="2157480"/>
          </a:xfrm>
        </p:grpSpPr>
        <p:pic>
          <p:nvPicPr>
            <p:cNvPr id="62" name="Picture 6" descr=""/>
            <p:cNvPicPr/>
            <p:nvPr/>
          </p:nvPicPr>
          <p:blipFill>
            <a:blip r:embed="rId2"/>
            <a:stretch/>
          </p:blipFill>
          <p:spPr>
            <a:xfrm>
              <a:off x="503280" y="4356000"/>
              <a:ext cx="3306600" cy="21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7"/>
            <p:cNvSpPr/>
            <p:nvPr/>
          </p:nvSpPr>
          <p:spPr>
            <a:xfrm>
              <a:off x="503280" y="4356000"/>
              <a:ext cx="3306600" cy="21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" name="Group 8"/>
          <p:cNvGrpSpPr/>
          <p:nvPr/>
        </p:nvGrpSpPr>
        <p:grpSpPr>
          <a:xfrm>
            <a:off x="6696000" y="4356000"/>
            <a:ext cx="2863800" cy="2156040"/>
            <a:chOff x="6696000" y="4356000"/>
            <a:chExt cx="2863800" cy="2156040"/>
          </a:xfrm>
        </p:grpSpPr>
        <p:pic>
          <p:nvPicPr>
            <p:cNvPr id="65" name="Picture 9" descr=""/>
            <p:cNvPicPr/>
            <p:nvPr/>
          </p:nvPicPr>
          <p:blipFill>
            <a:blip r:embed="rId3"/>
            <a:stretch/>
          </p:blipFill>
          <p:spPr>
            <a:xfrm>
              <a:off x="6696000" y="4356000"/>
              <a:ext cx="2863800" cy="21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10"/>
            <p:cNvSpPr/>
            <p:nvPr/>
          </p:nvSpPr>
          <p:spPr>
            <a:xfrm>
              <a:off x="6696000" y="4356000"/>
              <a:ext cx="2863800" cy="21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7" name="Picture 11" descr=""/>
          <p:cNvPicPr/>
          <p:nvPr/>
        </p:nvPicPr>
        <p:blipFill>
          <a:blip r:embed="rId4"/>
          <a:stretch/>
        </p:blipFill>
        <p:spPr>
          <a:xfrm>
            <a:off x="633240" y="1782720"/>
            <a:ext cx="2953080" cy="1943280"/>
          </a:xfrm>
          <a:prstGeom prst="rect">
            <a:avLst/>
          </a:prstGeom>
          <a:ln w="0">
            <a:noFill/>
          </a:ln>
        </p:spPr>
      </p:pic>
      <p:grpSp>
        <p:nvGrpSpPr>
          <p:cNvPr id="68" name="Group 29"/>
          <p:cNvGrpSpPr/>
          <p:nvPr/>
        </p:nvGrpSpPr>
        <p:grpSpPr>
          <a:xfrm>
            <a:off x="3529080" y="2484360"/>
            <a:ext cx="3249720" cy="2085840"/>
            <a:chOff x="3529080" y="2484360"/>
            <a:chExt cx="3249720" cy="2085840"/>
          </a:xfrm>
        </p:grpSpPr>
        <p:pic>
          <p:nvPicPr>
            <p:cNvPr id="69" name="Picture 30" descr=""/>
            <p:cNvPicPr/>
            <p:nvPr/>
          </p:nvPicPr>
          <p:blipFill>
            <a:blip r:embed="rId5"/>
            <a:stretch/>
          </p:blipFill>
          <p:spPr>
            <a:xfrm>
              <a:off x="3529080" y="2484360"/>
              <a:ext cx="3249720" cy="20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31"/>
            <p:cNvSpPr/>
            <p:nvPr/>
          </p:nvSpPr>
          <p:spPr>
            <a:xfrm>
              <a:off x="3529080" y="2484360"/>
              <a:ext cx="3249720" cy="20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1" name="Picture 32" descr=""/>
          <p:cNvPicPr/>
          <p:nvPr/>
        </p:nvPicPr>
        <p:blipFill>
          <a:blip r:embed="rId6"/>
          <a:stretch/>
        </p:blipFill>
        <p:spPr>
          <a:xfrm>
            <a:off x="3529080" y="4859280"/>
            <a:ext cx="3251160" cy="2484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1" descr="C:\Users\Sveta\Desktop\Новый рисунок.bmp"/>
          <p:cNvPicPr/>
          <p:nvPr/>
        </p:nvPicPr>
        <p:blipFill>
          <a:blip r:embed="rId7"/>
          <a:stretch/>
        </p:blipFill>
        <p:spPr>
          <a:xfrm>
            <a:off x="166680" y="0"/>
            <a:ext cx="9914040" cy="13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741240" y="360360"/>
            <a:ext cx="860904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Мир нуждается в акушерках сегодня более, чем когда-либо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741240" y="4589640"/>
            <a:ext cx="8609040" cy="21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15720" algn="ctr">
              <a:lnSpc>
                <a:spcPct val="93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1 мая 2011 год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15720" algn="ctr">
              <a:lnSpc>
                <a:spcPct val="93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оздана специализированная секция ОПСА «Акушерское дело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539640" y="2219400"/>
            <a:ext cx="3060720" cy="2039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3780000" y="2219400"/>
            <a:ext cx="3060360" cy="2039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3"/>
          <a:stretch/>
        </p:blipFill>
        <p:spPr>
          <a:xfrm>
            <a:off x="7020000" y="2338560"/>
            <a:ext cx="2700360" cy="18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"/>
          <p:cNvSpPr/>
          <p:nvPr/>
        </p:nvSpPr>
        <p:spPr>
          <a:xfrm>
            <a:off x="741240" y="34920"/>
            <a:ext cx="860904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став специализированной секции ОПСА «Акушерское дело»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368360" y="1835280"/>
            <a:ext cx="1635120" cy="22334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360360" y="4119480"/>
            <a:ext cx="28796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ружинина Елена Викторовна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4444920" y="1835280"/>
            <a:ext cx="1577880" cy="2233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3"/>
          <a:stretch/>
        </p:blipFill>
        <p:spPr>
          <a:xfrm>
            <a:off x="7610400" y="1835280"/>
            <a:ext cx="2013120" cy="22334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6624720" y="4140360"/>
            <a:ext cx="3456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иднева Ирина Станиславовна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3240000" y="3960720"/>
            <a:ext cx="352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омченко Ольга Василь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4"/>
          <a:stretch/>
        </p:blipFill>
        <p:spPr>
          <a:xfrm>
            <a:off x="1305000" y="4708440"/>
            <a:ext cx="1581120" cy="21607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9"/>
          <p:cNvSpPr/>
          <p:nvPr/>
        </p:nvSpPr>
        <p:spPr>
          <a:xfrm>
            <a:off x="539640" y="6908760"/>
            <a:ext cx="30607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лезнева Ирина Борисовна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10" descr=""/>
          <p:cNvPicPr/>
          <p:nvPr/>
        </p:nvPicPr>
        <p:blipFill>
          <a:blip r:embed="rId5"/>
          <a:stretch/>
        </p:blipFill>
        <p:spPr>
          <a:xfrm>
            <a:off x="4427640" y="4708440"/>
            <a:ext cx="1595160" cy="21607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1"/>
          <p:cNvSpPr/>
          <p:nvPr/>
        </p:nvSpPr>
        <p:spPr>
          <a:xfrm>
            <a:off x="3384720" y="6840360"/>
            <a:ext cx="309528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убакина Вера Витальевна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12" descr=""/>
          <p:cNvPicPr/>
          <p:nvPr/>
        </p:nvPicPr>
        <p:blipFill>
          <a:blip r:embed="rId6"/>
          <a:stretch/>
        </p:blipFill>
        <p:spPr>
          <a:xfrm>
            <a:off x="7632720" y="4708440"/>
            <a:ext cx="1714320" cy="21607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3"/>
          <p:cNvSpPr/>
          <p:nvPr/>
        </p:nvSpPr>
        <p:spPr>
          <a:xfrm>
            <a:off x="6696000" y="6840360"/>
            <a:ext cx="30243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оргашева Елена Петровна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741240" y="360360"/>
            <a:ext cx="860904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900" spc="-1" strike="noStrike">
                <a:solidFill>
                  <a:srgbClr val="ff0000"/>
                </a:solidFill>
                <a:latin typeface="Times New Roman"/>
              </a:rPr>
              <a:t>Задачи секции: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74124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23720" indent="-318960">
              <a:lnSpc>
                <a:spcPct val="93000"/>
              </a:lnSpc>
              <a:buClr>
                <a:srgbClr val="0e594d"/>
              </a:buClr>
              <a:buFont typeface="Wingdings" charset="2"/>
              <a:buChar char=""/>
              <a:tabLst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частие в разработке и внедрении профессиональных стандар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buClr>
                <a:srgbClr val="0e594d"/>
              </a:buClr>
              <a:buFont typeface="Wingdings" charset="2"/>
              <a:buChar char=""/>
              <a:tabLst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звитие сестринских технологи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buClr>
                <a:srgbClr val="0e594d"/>
              </a:buClr>
              <a:buFont typeface="Wingdings" charset="2"/>
              <a:buChar char=""/>
              <a:tabLst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спространение передового опы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5716440" y="1979640"/>
            <a:ext cx="3357720" cy="2519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5819760" y="4859280"/>
            <a:ext cx="3119400" cy="234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8T05:58:56Z</dcterms:created>
  <dc:creator>User</dc:creator>
  <dc:description/>
  <dc:language>en-US</dc:language>
  <cp:lastModifiedBy>Sveta</cp:lastModifiedBy>
  <cp:lastPrinted>2015-04-28T14:04:42Z</cp:lastPrinted>
  <dcterms:modified xsi:type="dcterms:W3CDTF">2015-05-16T16:54:58Z</dcterms:modified>
  <cp:revision>12</cp:revision>
  <dc:subject/>
  <dc:title>Слайд 1</dc:title>
</cp:coreProperties>
</file>