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F9A-35DF-47DC-B36F-EBD127A5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DF6-5A63-4EEE-AB74-3F34DE33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A89-218D-4AF4-B92C-2F0A9649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715-2968-4C8A-897E-0866007C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E4C-6913-41EB-AC11-01E1865C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FC7-3968-42CD-8618-6256B0C4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2F4-354B-4919-B69D-4105D01E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0E6-B133-4B59-9056-03884EEF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61E-6AB0-4356-B0D8-C6648026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EEB-87BC-4150-A9A3-9D47A44E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10A-09D7-4D28-B0EF-5E4C9011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4C4-1247-4A28-A383-AFEFA42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D01B-EFFE-4E7E-8683-A6D6D318F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378720" y="674640"/>
            <a:ext cx="84560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Есть древняя профессия на свет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И она прошла через 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Знает каждый житель на планете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Это медицинская сес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Под белыми халатами незр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Бьётся сердце жарко, как ко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В борьбе за жизнь стоит неутом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Армия российских медсе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6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43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46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109080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4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53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6600" y="606240"/>
            <a:ext cx="8958960" cy="58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Они пришли работать по призванью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Забыв подчас про собственный недуг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В любое время суток, днём и ночью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С собою ласку и покой несут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А если завтра позовет Отчизна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Невзгоды мы поделим вместе с ней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И преданных защитников Росси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Готовы грудью заслонить своей.</a:t>
            </a: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0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8"/>
          <p:cNvSpPr/>
          <p:nvPr/>
        </p:nvSpPr>
        <p:spPr>
          <a:xfrm>
            <a:off x="0" y="109116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5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7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49840" y="1405440"/>
            <a:ext cx="881568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И пока живут на свете люди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Было, есть и будет так всегда: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Скромная почётная профессия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Знаем, не исчезнет никогда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1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74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708120"/>
            <a:ext cx="91440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81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0-11-26T04:54:1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