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3CF5-61F9-49FF-9ACD-C12DECD33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579F-EB94-4285-9A75-48A25346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определить тип учреждения, если функционирует лишь отделения дневного пребы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о выхода на досрочную профессиональную пенс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уктура определяет функцию – реабилитационное отделение – автономное или в составе клинических от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инский медицинский колледж – медицинская сестра по массажу. Инструктор ЛФ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3BD-4528-4FF2-80F4-7B95580D2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определить тип учреждения, если функционирует лишь отделения дневного пребы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о выхода на досрочную профессиональную пенс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уктура определяет функцию – реабилитационное отделение – автономное или в составе клинических от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инский медицинский колледж – медицинская сестра по массажу. Инструктор ЛФ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335E-1F44-4AA0-8D55-C265F921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определить тип учреждения, если функционирует лишь отделения дневного пребы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о выхода на досрочную профессиональную пенс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уктура определяет функцию – реабилитационное отделение – автономное или в составе клинических от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инский медицинский колледж – медицинская сестра по массажу. Инструктор ЛФ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0BE-BC86-4543-85B1-C2D08E7D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63F-6DE5-460E-9D0F-4A3858FA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62F-6F2A-4165-B1A9-3F23EC93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665-3484-415F-B5B4-75516B72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99EC-F991-40B5-AE6C-DF2D185C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5BF0-EE84-4E7C-919F-06FE4285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AAFA-A2A8-4B38-9EB9-0EC29303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5709-F330-4D19-A6EF-7529D230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0FD9-0D92-4413-B3D6-3D4D4E9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6784-DBE6-4680-AE4D-A038DE29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56E6-6EC3-44A4-9A2A-2A7BE7D0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C18-2C67-40E2-90B1-99C62EFB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763-E106-4B6A-AC6D-CFA060C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7365-4470-4D63-B2F7-D555A6F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85F1-C338-42D2-832A-93F82908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447-BBA8-4BC9-97D6-5CC162F7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38F8-1B9B-4CA4-A651-081B4A11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5B3-A079-4FC3-A07F-B1873D1A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CAD-9407-4C45-9151-09CBCED9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3BB-9BFE-4D40-95D0-291C1188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FF8-E547-4BA1-9470-1CDC33A5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4C0-F9A4-4072-A6C3-510A49B4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982-A43D-4CE1-9431-6C81FEE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275-AC4F-47C8-BED7-D187ACFA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C905-99AB-4EFE-AF6D-046289CD1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8EB5-91A5-42E0-8274-95DC7D2A5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28520" y="620280"/>
            <a:ext cx="7653240" cy="18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entury Gothic"/>
              </a:rPr>
              <a:t>ОРГАНИЗАЦИОННО-МЕТОДИЧЕСКИЙ ЦЕНТР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Century Gothic"/>
              </a:rPr>
              <a:t>ПО ПРИМЕНЕНИЮ ФИЗИЧЕСКИХ СРЕДСТВ РЕАБИЛИТАЦИИ НА БАЗЕ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Century Gothic"/>
              </a:rPr>
              <a:t>БУЗОО «ЦЕНТР МЕДИЦИНСКОЙ РЕАБИЛИТАЦИИ»</a:t>
            </a:r>
            <a:endParaRPr b="0" lang="en-US" sz="24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69600" y="2441160"/>
            <a:ext cx="72392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Century Gothic"/>
              </a:rPr>
              <a:t>Заведующая организационно-методическим отделом БУЗОО ЦМР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Century Gothic"/>
              </a:rPr>
              <a:t>Найденова Ирина Викто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Century Gothic"/>
              </a:rPr>
              <a:t>Омск 2015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66"/>
                </a:solidFill>
                <a:latin typeface="Century Gothic"/>
              </a:rPr>
              <a:t>«ИННОВАЦИОННЫЙ ПОИСК И АПРОБАЦИЯ МЕТОДИЧЕСКИХ ТРАДИЦИЙ КАК РАЗВИТИЕ ВСЕХ СОСТАВЛЯЮЩИХ ОРГАНИЗАЦИИ СЛУЖБЫ МЕДИЦИНСКОЙ РЕАБИЛИТАЦ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9520" y="26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ff"/>
                </a:solidFill>
                <a:latin typeface="Century Gothic"/>
              </a:rPr>
              <a:t>Задачи:</a:t>
            </a:r>
            <a:endParaRPr b="0" lang="en-US" sz="24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Оказание специализированной реабилитационной помощи детям и взрослым г. Омска и Омской обла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Организационно-методическое руководство и контроль за использованием физических средств реабилитации в восстановительном лечении на территории Омской обла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Обучение, повышение квалификации и переподготовка специалистов здравоохранения Омской области по вопросам реабилит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Внедрение в практику здравоохранения современных форм деятельности лечебно-профилактических учреждений; методик физической реабилитации и медицинской профилак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Участие в координации деятельности учреждений здравоохранения по вопросам реабилитационной помощи населению по своему профил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76360" y="6381720"/>
            <a:ext cx="70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ff"/>
                </a:solidFill>
                <a:latin typeface="Century Gothic"/>
              </a:rPr>
              <a:t>Проблемы </a:t>
            </a:r>
            <a:endParaRPr b="0" lang="en-US" sz="24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056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Этапы реабилитации- номенклатура организаций  здравоохранения (моно- и многопрофильность, койки дневного пребывания, этап как номенклатурная единица, соответствие профильности классу заболевани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Прогнозирование первичной инвалидности на основе эпидемиологических данных, уровня младенческой смертности и динамики демографических показа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Слабая материально-техническая ба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Недостаточная кадровая обеспеченность (количественная и качественна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Недостаточные протоколы реабилит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Стандартизация в обучении и использовании метод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Недостаточный контроль эффективности реабилит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Отсутствие  регистров по основным инвалидизирующим заболевания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Недостаточный уровень межведомственного взаимодейств</a:t>
            </a:r>
            <a:r>
              <a:rPr b="0" i="1" lang="en-US" sz="1400" spc="-1" strike="noStrike">
                <a:solidFill>
                  <a:srgbClr val="000000"/>
                </a:solidFill>
                <a:latin typeface="Century Gothic"/>
              </a:rPr>
              <a:t>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5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1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476360" y="6381720"/>
            <a:ext cx="70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Century Gothic"/>
              </a:rPr>
              <a:t>Структура </a:t>
            </a:r>
            <a:endParaRPr b="0" lang="en-US" sz="2400" spc="-1" strike="noStrike">
              <a:solidFill>
                <a:srgbClr val="333366"/>
              </a:solidFill>
              <a:latin typeface="Calibri"/>
            </a:endParaRPr>
          </a:p>
        </p:txBody>
      </p:sp>
      <p:pic>
        <p:nvPicPr>
          <p:cNvPr id="107" name="Содержимое 3" descr=""/>
          <p:cNvPicPr/>
          <p:nvPr/>
        </p:nvPicPr>
        <p:blipFill>
          <a:blip r:embed="rId1"/>
          <a:stretch/>
        </p:blipFill>
        <p:spPr>
          <a:xfrm>
            <a:off x="890640" y="1822320"/>
            <a:ext cx="77961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ff"/>
                </a:solidFill>
                <a:latin typeface="Century Gothic"/>
              </a:rPr>
              <a:t>Перспективы </a:t>
            </a:r>
            <a:endParaRPr b="0" lang="en-US" sz="24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476360" y="6381720"/>
            <a:ext cx="705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85560" y="1827360"/>
            <a:ext cx="739764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Организационно-методическая и практическая помощь специалистам медицинских учреждений Омского региона по вопросам применения физических средств реабилит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Обеспечение методического руководства,  технологий применения физических средств реабилитации, как одного из составляющих лечебного проц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Научно-методическая и исследовательская работа в области применения физических средств реабилит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Century Gothic"/>
              </a:rPr>
              <a:t>Подготовка специалистов реабилитационного профиля </a:t>
            </a:r>
            <a:endParaRPr b="0" lang="en-US" sz="24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- аттестация специалистов БУЗОО ЦМР на рабочем месте (периодичность 1 раз в 5 лет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- аттестационная комиссия по присвоению, подтверждению и продлению квалификационных категорий по специальностям: массаж, лечебная физкультура, физиотерап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- бюджетное образовательное учреждение Омской области «Центр повышения квалификации работников здравоохранения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- специализированная секция «Сестринское дело в реабилитации» (совместный проект «БУЗОО ЦМР и ОПСА»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Gothic"/>
              </a:rPr>
              <a:t>- иные учреждения дополнительного высшего и среднего  профессионального образования, имеющие право выдачи дипломов, сертификатов, удостовер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Century Gothic"/>
              </a:rPr>
              <a:t>Результат:</a:t>
            </a:r>
            <a:endParaRPr b="0" lang="en-US" sz="24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69800" y="1827360"/>
            <a:ext cx="73134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entury Gothic"/>
              </a:rPr>
              <a:t>- Оказывать профессиональную узкоспециализированную медицинскую помощь с преимущественным применение физических средств реабилитац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entury Gothic"/>
              </a:rPr>
              <a:t>-Оказывать лечебно-профилактическим учреждениям организационно-методическую помощь по вопросам организации службы медицинской реабилитац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entury Gothic"/>
              </a:rPr>
              <a:t>- Осуществлять совместно с образовательными учреждениями подготовку высококвалифицированных специалистов реабилитационного профиля (специализация, повышение квалификации, стажировка на рабочем месте и т.п.) с высшим и средним профессиональным образованием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entury Gothic"/>
              </a:rPr>
              <a:t>- Разрабатывать, внедрять и применять новые современные методики и методы применения физических средств реабилитац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entury Gothic"/>
              </a:rPr>
              <a:t>- Создавать современно-оснащенную материально-техническую базу как для лечебного, так и для образовательного процессов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entury Gothic"/>
              </a:rPr>
              <a:t>- Накапливать практический опыт, отраженный в монографиях, практических руководствах, стандартах деятельности и др. печатных и информационных изданиях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Century Gothic"/>
              </a:rPr>
              <a:t>Спасибо за внимание</a:t>
            </a:r>
            <a:r>
              <a:rPr b="1" i="1" lang="en-US" sz="2400" spc="-1" strike="noStrike">
                <a:solidFill>
                  <a:srgbClr val="cc99ff"/>
                </a:solidFill>
                <a:latin typeface="Century Gothic"/>
              </a:rPr>
              <a:t>!</a:t>
            </a:r>
            <a:endParaRPr b="0" lang="en-US" sz="2400" spc="-1" strike="noStrike">
              <a:solidFill>
                <a:srgbClr val="333366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71640" y="6381720"/>
            <a:ext cx="756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9" descr="j0284916"/>
          <p:cNvPicPr/>
          <p:nvPr/>
        </p:nvPicPr>
        <p:blipFill>
          <a:blip r:embed="rId1"/>
          <a:stretch/>
        </p:blipFill>
        <p:spPr>
          <a:xfrm>
            <a:off x="2320920" y="2084400"/>
            <a:ext cx="488484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3:22:36Z</dcterms:created>
  <dc:creator>NewUser</dc:creator>
  <dc:description/>
  <dc:language>en-US</dc:language>
  <cp:lastModifiedBy>НайденоваИВ</cp:lastModifiedBy>
  <dcterms:modified xsi:type="dcterms:W3CDTF">2015-09-17T05:12:16Z</dcterms:modified>
  <cp:revision>50</cp:revision>
  <dc:subject/>
  <dc:title>Минский городской центр медицинской реабилитации детей с психоневрологическими заболеваниями</dc:title>
</cp:coreProperties>
</file>