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03A-D515-4F8E-9532-4E41176C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7DE-0A31-451E-AD3D-E3BC4D7E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FD3-21B0-4E75-B47F-F9462758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BDB-6C26-4EBD-81DF-E8E80403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987-9ADA-49B2-A617-D714F496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5EC-9CE2-43AF-A05A-30D24D76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B92-D57A-4936-B218-BDF3B070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FA8-4E35-4518-9427-2502F8A6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48D-E5DA-44B7-986C-99F3537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2FC-0D7A-4D3E-9478-244157B7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2DA-A75F-4245-B369-99EF9F61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1DB-ACC0-434F-A6AB-5648C560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FA2B-F471-4902-B3A0-81C79F01B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4400" y="1628640"/>
            <a:ext cx="727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тоги мини-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«Болезнь, не знающая границ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82200" y="624852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Куратор: Ларькова Т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99160" y="4832280"/>
            <a:ext cx="50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Руководитель: Поспелова В.В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главная медицинская сес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ГУЗОО «СДТК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4120" y="2909880"/>
            <a:ext cx="72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 10 октября 2007 г. по 25 января 200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2000" y="72000"/>
            <a:ext cx="1303560" cy="1303560"/>
            <a:chOff x="72000" y="72000"/>
            <a:chExt cx="1303560" cy="130356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 rot="525000">
              <a:off x="152280" y="152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52280" y="152280"/>
              <a:ext cx="1143000" cy="11430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2000" y="72000"/>
            <a:ext cx="1303560" cy="1303560"/>
            <a:chOff x="72000" y="72000"/>
            <a:chExt cx="1303560" cy="130356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 rot="525000">
              <a:off x="152280" y="152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52280" y="152280"/>
              <a:ext cx="1143000" cy="11430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600200" y="228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Задачи на 2008 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9907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55"/>
                </a:solidFill>
                <a:latin typeface="Arial"/>
              </a:rPr>
              <a:t>в апреле провести конференцию на тему: «Болезнь, не знающая границ» с приглашением врачебного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93955"/>
                </a:solidFill>
                <a:latin typeface="Arial"/>
              </a:rPr>
              <a:t>сестринского персонала ГУЗОО «СДТКБ» и туберкулезного санатория в с. Краснояр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52480" y="1143000"/>
            <a:ext cx="181080" cy="171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1080" y="3368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подготовить памятки для родителей и детей по профилактике туберкуле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676520" y="3578400"/>
            <a:ext cx="180720" cy="171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81080" y="4724280"/>
            <a:ext cx="6934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продолжить обучение медицинских сестер детского отделения по мини-проекту «Болезнь, не знающая границ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676520" y="4869000"/>
            <a:ext cx="180720" cy="171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72000" y="72000"/>
            <a:ext cx="1303560" cy="1303560"/>
            <a:chOff x="72000" y="72000"/>
            <a:chExt cx="1303560" cy="130356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 rot="525000">
              <a:off x="152280" y="152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52280" y="152280"/>
              <a:ext cx="1143000" cy="11430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209680" y="225432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66"/>
                </a:solidFill>
                <a:latin typeface="Arial"/>
              </a:rPr>
              <a:t>Благодарю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66"/>
                </a:solidFill>
                <a:latin typeface="Arial"/>
              </a:rPr>
              <a:t>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2000" y="72000"/>
            <a:ext cx="1303560" cy="1303560"/>
            <a:chOff x="72000" y="72000"/>
            <a:chExt cx="1303560" cy="13035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 rot="525000">
              <a:off x="152280" y="152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52280" y="152280"/>
              <a:ext cx="1143000" cy="11430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675160" y="179280"/>
            <a:ext cx="492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Цели мини-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1219320"/>
            <a:ext cx="69343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повышение уровня знаний и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медицинских сестер в выполнен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профессиональных обязанностей и понятии значения туберкулеза как фактора профессиональной вред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809880"/>
            <a:ext cx="67820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усиление внимания к помощи больным туберкулез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800" y="5106960"/>
            <a:ext cx="6986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обеспечение реального решения пробл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социального отторжения и дискримин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55"/>
                </a:solidFill>
                <a:latin typeface="Arial"/>
              </a:rPr>
              <a:t>связанных с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76520" y="14288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676520" y="401940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676520" y="5315040"/>
            <a:ext cx="180720" cy="171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72000" y="72000"/>
            <a:ext cx="1303560" cy="1303560"/>
            <a:chOff x="72000" y="72000"/>
            <a:chExt cx="1303560" cy="130356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 rot="525000">
              <a:off x="152280" y="152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52280" y="152280"/>
              <a:ext cx="1143000" cy="11430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506320" y="730080"/>
            <a:ext cx="58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Ожидаемый результа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1870200"/>
            <a:ext cx="693432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955"/>
                </a:solidFill>
                <a:latin typeface="Arial"/>
              </a:rPr>
              <a:t>повышение внимания                         медицинских сестер к детям, их  родителей и родственников, что будет способствовать снижению заболеваемости туберкуле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72000" y="72000"/>
            <a:ext cx="1303560" cy="1303560"/>
            <a:chOff x="72000" y="72000"/>
            <a:chExt cx="1303560" cy="130356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 rot="525000">
              <a:off x="152280" y="152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52280" y="152280"/>
              <a:ext cx="1143000" cy="11430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853360" y="380880"/>
            <a:ext cx="49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Работа на семин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057400" y="1219320"/>
            <a:ext cx="6400800" cy="4610160"/>
          </a:xfrm>
          <a:prstGeom prst="rect">
            <a:avLst/>
          </a:prstGeom>
          <a:ln w="12600">
            <a:solidFill>
              <a:srgbClr val="006666"/>
            </a:solidFill>
            <a:miter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72000" y="72000"/>
            <a:ext cx="1303560" cy="1303560"/>
            <a:chOff x="72000" y="72000"/>
            <a:chExt cx="1303560" cy="130356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 rot="525000">
              <a:off x="152280" y="152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52280" y="152280"/>
              <a:ext cx="1143000" cy="11430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981080" y="152280"/>
            <a:ext cx="6789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Тестирование участник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мини-проек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87480" y="896760"/>
          <a:ext cx="8156520" cy="611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7480" y="896760"/>
                    <a:ext cx="8156520" cy="61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676520" y="540720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3955"/>
                </a:solidFill>
                <a:latin typeface="Arial"/>
              </a:rPr>
              <a:t>Эпидемиология Т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54198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3955"/>
                </a:solidFill>
                <a:latin typeface="Arial"/>
              </a:rPr>
              <a:t>Пути передачи Т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4072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3955"/>
                </a:solidFill>
                <a:latin typeface="Arial"/>
              </a:rPr>
              <a:t>Факторы р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54072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3955"/>
                </a:solidFill>
                <a:latin typeface="Arial"/>
              </a:rPr>
              <a:t>Сочетанная инфе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407200"/>
            <a:ext cx="1219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3955"/>
                </a:solidFill>
                <a:latin typeface="Arial"/>
              </a:rPr>
              <a:t>Соц. клеймо и дискримин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54072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3955"/>
                </a:solidFill>
                <a:latin typeface="Arial"/>
              </a:rPr>
              <a:t>Устойчивые лекарств. формы Т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72000" y="72000"/>
            <a:ext cx="1303560" cy="1303560"/>
            <a:chOff x="72000" y="72000"/>
            <a:chExt cx="1303560" cy="130356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rot="525000">
              <a:off x="152280" y="152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52280" y="152280"/>
              <a:ext cx="1143000" cy="11430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715760" y="333360"/>
            <a:ext cx="7358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66"/>
                </a:solidFill>
                <a:latin typeface="Arial"/>
              </a:rPr>
              <a:t>Динамика заболеваемости туберкулез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66"/>
                </a:solidFill>
                <a:latin typeface="Arial"/>
              </a:rPr>
              <a:t>на 100 тыс. детского насе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Содержимое 3"/>
          <p:cNvGraphicFramePr/>
          <p:nvPr/>
        </p:nvGraphicFramePr>
        <p:xfrm>
          <a:off x="1779480" y="1243080"/>
          <a:ext cx="6880320" cy="5064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Содержимое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9480" y="1243080"/>
                    <a:ext cx="688032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72000" y="72000"/>
            <a:ext cx="1303560" cy="1303560"/>
            <a:chOff x="72000" y="72000"/>
            <a:chExt cx="1303560" cy="13035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 rot="525000">
              <a:off x="152280" y="152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52280" y="152280"/>
              <a:ext cx="1143000" cy="11430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600200" y="1522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Распределение болезненности туберкулезом населения по административным территориям Омской области (среднемноголетние показ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за 2000 – 2006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666880" y="1981080"/>
            <a:ext cx="423252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2000" y="72000"/>
            <a:ext cx="1303560" cy="1303560"/>
            <a:chOff x="72000" y="72000"/>
            <a:chExt cx="1303560" cy="13035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 rot="525000">
              <a:off x="152280" y="152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52280" y="152280"/>
              <a:ext cx="1143000" cy="11430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44792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Arial"/>
              </a:rPr>
              <a:t>Лекарственно устойчивые формы туберкулез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Arial"/>
              </a:rPr>
              <a:t>у детей за 2006 – 2007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38280" y="914400"/>
          <a:ext cx="7191360" cy="27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8280" y="914400"/>
                    <a:ext cx="71913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447920" y="3505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Arial"/>
              </a:rPr>
              <a:t>Лекарственно устойчивые формы туберкулез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Arial"/>
              </a:rPr>
              <a:t>у подростков за 2006 – 2007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8480" y="4189320"/>
          <a:ext cx="7772400" cy="3318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8480" y="4189320"/>
                    <a:ext cx="777240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2000" y="72000"/>
            <a:ext cx="1303560" cy="1303560"/>
            <a:chOff x="72000" y="72000"/>
            <a:chExt cx="1303560" cy="130356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 rot="525000">
              <a:off x="152280" y="152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2280" y="152280"/>
              <a:ext cx="1143000" cy="11430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600200" y="152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Социальная структура источников туберкулезной инфекции у детей с локальными формами туберку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7680" y="1279440"/>
          <a:ext cx="7953480" cy="4692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1279440"/>
                    <a:ext cx="79534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3-31T14:32:4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