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3F1-F1F8-4F5F-8B13-4FC3D996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720108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42560" y="4649760"/>
            <a:ext cx="720108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609-9533-4428-B159-36CA2848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3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42560" y="464976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32560" y="464976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35F-790D-441A-AED5-82C475CF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77240" y="306828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11920" y="306828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42560" y="464976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77240" y="464976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11920" y="464976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F74-8A50-4E2B-A271-1F08D547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42560" y="3068280"/>
            <a:ext cx="720108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720108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351396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2560" y="3068280"/>
            <a:ext cx="351396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9880" y="1780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2560" y="3068280"/>
            <a:ext cx="351396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42560" y="464976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42560" y="3068280"/>
            <a:ext cx="720108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446-2E2D-4193-A932-B23A4266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351396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32560" y="464976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42560" y="4649760"/>
            <a:ext cx="720108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720108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42560" y="4649760"/>
            <a:ext cx="720108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3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42560" y="464976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32560" y="464976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77240" y="306828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11920" y="306828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42560" y="464976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77240" y="464976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11920" y="4649760"/>
            <a:ext cx="23184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720108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2AD-D0AE-499F-9111-36D38D68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351396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560" y="3068280"/>
            <a:ext cx="351396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D30-9BB2-4919-8F55-74DF6093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166-0117-4624-929E-5558063D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9880" y="1780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659-9641-4DBA-8C04-0D8F8BFD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2560" y="3068280"/>
            <a:ext cx="351396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464976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D1A-151D-4E66-833C-9B0ACE27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351396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32560" y="464976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E94-75D4-464A-A92E-2294132A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2560" y="3068280"/>
            <a:ext cx="35139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4649760"/>
            <a:ext cx="720108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640-9DFF-4728-A19E-B875889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87200"/>
            <a:ext cx="9144000" cy="790560"/>
            <a:chOff x="0" y="187200"/>
            <a:chExt cx="9144000" cy="790560"/>
          </a:xfrm>
        </p:grpSpPr>
        <p:sp>
          <p:nvSpPr>
            <p:cNvPr id="1" name=""/>
            <p:cNvSpPr/>
            <p:nvPr/>
          </p:nvSpPr>
          <p:spPr>
            <a:xfrm>
              <a:off x="0" y="907920"/>
              <a:ext cx="9144000" cy="698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818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2419" t="0" r="0" b="0"/>
            <a:stretch/>
          </p:blipFill>
          <p:spPr>
            <a:xfrm>
              <a:off x="179280" y="189000"/>
              <a:ext cx="29527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3"/>
            <a:srcRect l="88108" t="0" r="151" b="-151"/>
            <a:stretch/>
          </p:blipFill>
          <p:spPr>
            <a:xfrm rot="10800000">
              <a:off x="3132000" y="186840"/>
              <a:ext cx="583272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"/>
          <p:cNvSpPr/>
          <p:nvPr/>
        </p:nvSpPr>
        <p:spPr>
          <a:xfrm>
            <a:off x="0" y="6645240"/>
            <a:ext cx="9144000" cy="21276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818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gradFill rotWithShape="0">
            <a:gsLst>
              <a:gs pos="0">
                <a:srgbClr val="8181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5638320" y="3316320"/>
            <a:ext cx="6858000" cy="22536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21600 h 225360"/>
              <a:gd name="textAreaBottom" fmla="*/ 20376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8181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9880" y="1780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42560" y="3068280"/>
            <a:ext cx="720108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2e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  <a:p>
            <a:pPr lvl="1" marL="542160" indent="-2084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2e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  <a:p>
            <a:pPr lvl="2" marL="834120" indent="-1666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2e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  <a:p>
            <a:pPr lvl="3" marL="1167840" indent="-1666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2e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  <a:p>
            <a:pPr lvl="4" marL="1501560" indent="-1666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2e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  <a:p>
            <a:pPr lvl="5" marL="1501560" indent="-1666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2e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  <a:p>
            <a:pPr lvl="6" marL="1501560" indent="-1666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2e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2e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B742-0435-4A21-82CB-A87E8E3366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-3352320" y="3316320"/>
            <a:ext cx="6858000" cy="22536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21600 h 225360"/>
              <a:gd name="textAreaBottom" fmla="*/ 20376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8181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87200"/>
            <a:ext cx="9144000" cy="790560"/>
            <a:chOff x="0" y="187200"/>
            <a:chExt cx="9144000" cy="790560"/>
          </a:xfrm>
        </p:grpSpPr>
        <p:sp>
          <p:nvSpPr>
            <p:cNvPr id="50" name=""/>
            <p:cNvSpPr/>
            <p:nvPr/>
          </p:nvSpPr>
          <p:spPr>
            <a:xfrm>
              <a:off x="0" y="907920"/>
              <a:ext cx="9144000" cy="698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818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rcRect l="2419" t="0" r="0" b="0"/>
            <a:stretch/>
          </p:blipFill>
          <p:spPr>
            <a:xfrm>
              <a:off x="179280" y="189000"/>
              <a:ext cx="29527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rcRect l="88108" t="0" r="151" b="-151"/>
            <a:stretch/>
          </p:blipFill>
          <p:spPr>
            <a:xfrm rot="10800000">
              <a:off x="3132000" y="186840"/>
              <a:ext cx="583272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0" y="6645240"/>
            <a:ext cx="9180360" cy="21276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818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80360" cy="189000"/>
          </a:xfrm>
          <a:prstGeom prst="rect">
            <a:avLst/>
          </a:prstGeom>
          <a:gradFill rotWithShape="0">
            <a:gsLst>
              <a:gs pos="0">
                <a:srgbClr val="8181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638320" y="3316320"/>
            <a:ext cx="6858000" cy="22536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21600 h 225360"/>
              <a:gd name="textAreaBottom" fmla="*/ 20376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8181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3357360" y="3321000"/>
            <a:ext cx="6858000" cy="21564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20520 h 215640"/>
              <a:gd name="textAreaBottom" fmla="*/ 1951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8181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2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2e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2e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2e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e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2e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2e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e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2e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2e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e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2e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e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2e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e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2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773000"/>
            <a:ext cx="8713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ИТОГИ МИНИ-ПРОЕКТА </a:t>
            </a:r>
            <a:br>
              <a:rPr sz="2200"/>
            </a:b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«РАННЕЕ ВЫЯВЛЕНИЕ БОЛЬНЫХ ТУБЕРКУЛЕЗОМ </a:t>
            </a:r>
            <a:br>
              <a:rPr sz="2200"/>
            </a:b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В АМБУЛАТОРНО-ПОЛИКЛИНИЧЕСКИХ </a:t>
            </a:r>
            <a:br>
              <a:rPr sz="2200"/>
            </a:b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И БОЛЬНИЧНЫХ УЧРЕЖДЕНИЯХ </a:t>
            </a:r>
            <a:br>
              <a:rPr sz="2200"/>
            </a:b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МАРЬЯНОВСКОГО РАЙОНА»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с 9 октября 2007 г. по 24 января 2008 г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720" y="4797360"/>
            <a:ext cx="849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Руководитель: Андреева Н.В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медицинская сестра поликлиник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МУЗ «Марьяновская ЦРБ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Кураторы: Чикирева О.Г., Гузова Н.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2560" y="134136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Что предстоит сделать в 2008 г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916280"/>
            <a:ext cx="835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9800" indent="-1998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с 1 апреля по 1 июня всем участникам мини-проекта провести семинары с медицинскими сестрами в своих подразделениях по раннему выявлению больных туберкулез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3789360"/>
            <a:ext cx="835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14200" indent="-214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каждому участнику обучить 10 медицинских сестер, работающих с пациентами и населением, вопросам профилактики туберкуле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229360"/>
            <a:ext cx="835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14200" indent="-214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подготовить и опубликовать статью в местную газету «Авангард» о значимости проведенного проекта и перспективах его реал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2560" y="1484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Что предстоит сделать в 2008 г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2205000"/>
            <a:ext cx="84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10600" indent="-2106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провести в ноябре общебольничную сестринскую конференцию, посвященную проблемам туберкулеза, с привлечением участников мини-проек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148280"/>
            <a:ext cx="8497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42560" indent="-14256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провести разъяснительную работу среди сестринского персонала Марьяновского района по роли и значимости Омской профессиональной сестринской ассоциации в развитии сестринского дела и увеличить численность членов Ассоциации до 8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360" y="134136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Arial"/>
              </a:rPr>
              <a:t>Благодарность за методическую и практическую помощь в реализации мини-проект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349360"/>
            <a:ext cx="84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О.А. Бучко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, вице-президенту ОПСА, координатору международного проекта по Омской обла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3500280"/>
            <a:ext cx="77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О.Г. Чикирево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, главной медицинской сестре МУЗ «Марьяновская ЦРБ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458136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Н.И. Гузовой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, главной медицинской сестре МУЗ «Русско-Полянская ЦРБ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 rot="1221000">
            <a:off x="6732360" y="4076640"/>
            <a:ext cx="1861920" cy="2490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00000" y="321300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4360" y="1916280"/>
          <a:ext cx="8137440" cy="41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813744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79280" y="141300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Основные показатели работы Марьяновского противотуберкулезного кабин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66244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Заболеваемость ТБ на 100 тыс. на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566244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Смертность от активного ТБ на 100 тыс. на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566244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Уд. вес больных ТБ, выявленных при профилакт. осмотр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71640" y="5661000"/>
            <a:ext cx="187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Болезненность ТБ на 100 тыс. на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42920" y="1628640"/>
            <a:ext cx="69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0033"/>
                </a:solidFill>
                <a:latin typeface="Arial"/>
              </a:rPr>
              <a:t>Цель мини-проекта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494080"/>
            <a:ext cx="8064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Повышение уровня знаний         специалистов сестринского дела                 по раннему выявлению больных туберкулезом для дальнейшего улучшения профилактической работы среди населения Марьяновского рай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5877000"/>
            <a:ext cx="4608360" cy="6490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>
                  <a:alpha val="13333"/>
                </a:srgbClr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079880"/>
            <a:ext cx="4608360" cy="64944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>
                  <a:alpha val="13333"/>
                </a:srgbClr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1413000"/>
            <a:ext cx="691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33"/>
                </a:solidFill>
                <a:latin typeface="Arial"/>
              </a:rPr>
              <a:t>Участники мини-проект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2060640"/>
            <a:ext cx="4608360" cy="6490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>
                  <a:alpha val="13333"/>
                </a:srgbClr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2168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МУЗ «Марьяновская ЦРБ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42228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Заринская амбулат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3280" y="2060640"/>
            <a:ext cx="2268720" cy="6490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>
                  <a:alpha val="13333"/>
                </a:srgbClr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216684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5 медсес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2997360"/>
            <a:ext cx="4608360" cy="792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>
                  <a:alpha val="13333"/>
                </a:srgbClr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2997360"/>
            <a:ext cx="2268720" cy="6490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>
                  <a:alpha val="13333"/>
                </a:srgbClr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302724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Москаленская и Боголюбовская участковые больн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9640" y="4078440"/>
            <a:ext cx="2268720" cy="6490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>
                  <a:alpha val="13333"/>
                </a:srgbClr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14972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1 медс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5013360"/>
            <a:ext cx="2268720" cy="6490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>
                  <a:alpha val="13333"/>
                </a:srgbClr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877000"/>
            <a:ext cx="2268720" cy="6490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>
                  <a:alpha val="13333"/>
                </a:srgbClr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597708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Школы № 1 и №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5013360"/>
            <a:ext cx="4608360" cy="6490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>
                  <a:alpha val="13333"/>
                </a:srgbClr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512136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Марьяновский дом-интерн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3139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2 медсест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9640" y="515772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10 медсес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6021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2 медсест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0" y="2349360"/>
            <a:ext cx="72072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64000" y="3286080"/>
            <a:ext cx="72072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4365720"/>
            <a:ext cx="72072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64000" y="5302080"/>
            <a:ext cx="72072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6165720"/>
            <a:ext cx="72072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3968640"/>
            <a:ext cx="3311640" cy="24847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311640" cy="242568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3311640" cy="24829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2560" y="1484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Сильные стороны мини-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276640"/>
            <a:ext cx="842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оддержка администрации Марьяновской ЦРБ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321300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96200" indent="-196200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позитивная мотивация участников мини-проекта к получению теоретических знаний и практических навыков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2360" y="4869000"/>
            <a:ext cx="835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96200" indent="-196200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высокая активность участников мини-проекта по  обсуждаемым проблемам туберкулез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54200" y="1700280"/>
            <a:ext cx="77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Слабые стороны мини-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56536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96200" indent="-196200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низкая информированность сестринского персонала по вопросам диагностики, лечения и профилактики туберкулез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429264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96200" indent="-196200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недостаток технических ресурсов для проведения семинарских занятий на современном уровн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2560" y="134136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Участники мини-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360" y="2565360"/>
            <a:ext cx="86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35440" indent="-235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смогли ближе познакомиться с вопросами туберкулеза, его возбудителями и путями пере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916280"/>
            <a:ext cx="835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повысили свой профессиональный уровен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357336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35440" indent="-235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научились определять ранние симптомы туберкулеза и тактику по отношению к пациент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4581360"/>
            <a:ext cx="90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74960" indent="-174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познакомились с организацией профилактической работы среди различных социальных групп населения и необходимостью флюорографического обследования и его значения в проведении диспансеризации насе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03280" y="1501920"/>
            <a:ext cx="6553440" cy="487980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4600" y="182520"/>
            <a:ext cx="87901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4:33:29Z</dcterms:created>
  <dc:creator>Лиза</dc:creator>
  <dc:description/>
  <dc:language>en-US</dc:language>
  <cp:lastModifiedBy>1</cp:lastModifiedBy>
  <dcterms:modified xsi:type="dcterms:W3CDTF">2010-03-31T14:34:31Z</dcterms:modified>
  <cp:revision>71</cp:revision>
  <dc:subject/>
  <dc:title>Тема проекта:</dc:title>
</cp:coreProperties>
</file>