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EE1-F119-4E5D-B97D-F8A650E5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FA68-6603-485E-80F6-A436A70B8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структивные формы ТОД диагностированы у 48,9% в/в выявленных больных (в 2003 г. – 49,7%). В разрезе территорий показатель варьирует от 36,0% в Р. Алтай и 38,1% в Омской обл. до 57,3% в Р. Хакасия и 55,6% в Томской области. Доля больных ФКТ в формировании данного показателя в последние 3 года снижается: в 2001 г. - 9,2%, в 2002 г. – 8,0%. Высокий показатель отмечен в Омской области и Р. Алтай – 15,0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ктериовыделение установлено у 45,9% в/в больных ТОД (в 2003 г. – 46,4%). Самый высокий показатель отмечен в Томской (75,5%) и Кемеровской (56,5%), самый низкий – в Алтайском крае (30,4%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7EE-6E5F-416F-9020-323BCE1E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DAA-5A7F-4505-B012-7472A7C5F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исленность населения СФО составляет всего 1/7 часть населения России (13,9%), а влияние на эпидемическую обстановку в стране  оказывается большое, формируя основные показатели по туберкулезу примерно на четверть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E74B-80FC-40DD-87D1-8711FFCA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683-951D-4C54-8948-142CD61F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2480" y="74124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88480" y="471780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8AB-ABE3-465C-B1BA-5A5F3E5D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F80-9C22-43E1-9E6B-060F43C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302-72B7-4E65-9ED5-451AC40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FC1-4A1B-482B-9349-7C673066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990-DDAE-449C-B728-5278FD9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024-2C98-49A6-8BAF-FF8F3685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D7F-79A8-4F8B-A132-5C89A0D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A49-B7BE-4F35-8B58-48A70CD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051-B201-4EA1-9268-FCB3153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A0D-02FC-4698-A8D6-E1D9192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181-928D-4827-8960-9662B93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38C-E177-4AFD-8323-48AB048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3C0-F4E0-4662-BC4C-775E92763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пидемиологическая ситуация по туберкулезу в Омской области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за 2007 г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9520" y="330048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b26c2"/>
                </a:solidFill>
                <a:latin typeface="Times New Roman"/>
              </a:rPr>
              <a:t>Заместитель главного вра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b26c2"/>
                </a:solidFill>
                <a:latin typeface="Times New Roman"/>
              </a:rPr>
              <a:t>ГУЗОО КПТ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6c2"/>
                </a:solidFill>
                <a:latin typeface="Times New Roman"/>
              </a:rPr>
              <a:t>Руднева Светлана Николае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6c2"/>
                </a:solidFill>
                <a:latin typeface="Times New Roman"/>
              </a:rPr>
              <a:t>Конферен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6c2"/>
                </a:solidFill>
                <a:latin typeface="Times New Roman"/>
              </a:rPr>
              <a:t>«Медицинские сестры против туберкулеза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6c2"/>
                </a:solidFill>
                <a:latin typeface="Times New Roman"/>
              </a:rPr>
              <a:t>21 марта 2008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Заболеваемость туберкулезом на 100 тыс. населения в Омской области, СФ и РФ 2004-2007 г.г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628640"/>
          <a:ext cx="914400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За 2007 г. наблюдается улучшение клинической структуры заболеваемости туберкулезом населения Ом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дельный вес запущенных случаев туберкулеза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низился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на 2,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по области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7 г. – 8,6 %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6 г. – 10,8 %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по районам области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7 г. – 11,7%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6 г. – 13,6%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по г. Омску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7 г. – 6,6%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2006 г. – 7,7%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66"/>
                </a:solidFill>
                <a:latin typeface="Times New Roman"/>
              </a:rPr>
              <a:t>Районы с высоким показателем запущенных форм туберкулеза за 2007г.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600" y="1280520"/>
            <a:ext cx="69436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Знамен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2,2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Колосов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5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Крутин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5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Марьянов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5,8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Москален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5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ижнеом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5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Полтав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0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Саргат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29,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Тарский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 18,9%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Центр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АО г. Омска 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-17,1%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2867040"/>
            <a:ext cx="28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редне областной показатель – 8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3200" y="259920"/>
            <a:ext cx="799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cc"/>
                </a:solidFill>
                <a:latin typeface="Times New Roman"/>
              </a:rPr>
              <a:t>Заболеваемость туберкулезом  детей за 2004-2007гг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220760"/>
          <a:ext cx="914400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076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cc"/>
                </a:solidFill>
                <a:latin typeface="Times New Roman"/>
              </a:rPr>
              <a:t>Заболеваемость туберкулезом подростков за 2004-  2007 гг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341360"/>
          <a:ext cx="916164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616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Смертность от туберкулеза в Омской области, СФО и РФ за 2003-2007 г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68280"/>
          <a:ext cx="898992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9899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0644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хват населения всеми видами профилактических осмотров на туберкулез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 2004 - 2007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840" y="1333440"/>
          <a:ext cx="915984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1333440"/>
                    <a:ext cx="9159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600" y="202680"/>
            <a:ext cx="88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Результаты активного выявления больных туберкулезом на территории Омской области за 2004-2007г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473120"/>
          <a:ext cx="91155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73120"/>
                    <a:ext cx="91155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cc"/>
                </a:solidFill>
                <a:latin typeface="Times New Roman"/>
              </a:rPr>
              <a:t>Выявляемость больных туберкулезом при профосмотрах в (%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-15840" y="1628640"/>
          <a:ext cx="915984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1628640"/>
                    <a:ext cx="915984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тоды активного выявления больных туберкулезом органов дыхания в Омской области в 2007г. и РФ в 2006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700280"/>
          <a:ext cx="8713800" cy="4835520"/>
        </p:xfrm>
        <a:graphic>
          <a:graphicData uri="http://schemas.openxmlformats.org/drawingml/2006/table">
            <a:tbl>
              <a:tblPr/>
              <a:tblGrid>
                <a:gridCol w="4726080"/>
                <a:gridCol w="2235240"/>
                <a:gridCol w="1752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ская область 2007г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Ф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г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взято на учет (абс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35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выявлено активно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7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методом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юорографии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4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ва мокроты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скопии мокроты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беркулинодиагностики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528b19"/>
                      </a:solidFill>
                    </a:lnL>
                    <a:lnR w="18720">
                      <a:solidFill>
                        <a:srgbClr val="528b19"/>
                      </a:solidFill>
                    </a:lnR>
                    <a:lnT w="18720">
                      <a:solidFill>
                        <a:srgbClr val="528b19"/>
                      </a:solidFill>
                    </a:lnT>
                    <a:lnB w="18720">
                      <a:solidFill>
                        <a:srgbClr val="528b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820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Arial"/>
              </a:rPr>
              <a:t>Туберкулез</a:t>
            </a:r>
            <a:r>
              <a:rPr b="1" lang="en-GB" sz="6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Arial"/>
              </a:rPr>
              <a:t>становится глобальной угрозой общественному здравоохранени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86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82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649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- 14 -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Алгоритм регистрации случаев туберкулеза в Омской области с 2007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9000" y="2236680"/>
            <a:ext cx="136692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ЗОО СДТК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8440" y="2235240"/>
            <a:ext cx="151128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ЗОО КПТД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52760" y="2208240"/>
            <a:ext cx="132228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ЗОО Т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51680" y="2019240"/>
            <a:ext cx="188928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отдел УФСИН РФ по Ом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35480" y="2043000"/>
            <a:ext cx="14241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ПУ Ом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0840" y="4441680"/>
            <a:ext cx="3497400" cy="109224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ГУЗОО   КПТ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138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8480" y="3090960"/>
            <a:ext cx="1668600" cy="135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8840" y="3062160"/>
            <a:ext cx="41040" cy="1306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9960" y="3048120"/>
            <a:ext cx="0" cy="1363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746240" y="3265560"/>
            <a:ext cx="1103400" cy="1176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11440" y="3570120"/>
            <a:ext cx="2539800" cy="857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2600" y="35434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4520" y="323676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95520" y="32367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59560" y="38019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3720" y="5892840"/>
            <a:ext cx="1843200" cy="233280"/>
          </a:xfrm>
          <a:prstGeom prst="leftRightArrow">
            <a:avLst>
              <a:gd name="adj1" fmla="val 50000"/>
              <a:gd name="adj2" fmla="val 1572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19680" y="5545080"/>
            <a:ext cx="14436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120" y="593568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82 – форма №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35680" y="59342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82 – форма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41680" y="33228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(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Социально-экономический статус впервые выявленных больных туберкулезом в Омской области и РФ, 2007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7840" y="2401920"/>
          <a:ext cx="60577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401920"/>
                    <a:ext cx="60577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995640" y="2276640"/>
          <a:ext cx="5599080" cy="38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276640"/>
                    <a:ext cx="559908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18414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184464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мская обл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Times New Roman"/>
              </a:rPr>
              <a:t>Распределение гендерного показателя заболеваемости туберкулезом по возрастным группам  за 2007г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549440"/>
          <a:ext cx="84963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49440"/>
                    <a:ext cx="84963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16700400">
            <a:off x="2071440" y="3827160"/>
            <a:ext cx="2852640" cy="146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0760" y="2419200"/>
            <a:ext cx="909360" cy="744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631320" y="3148920"/>
            <a:ext cx="4051440" cy="14428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645160" y="1474920"/>
            <a:ext cx="1208160" cy="338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76480" y="1873080"/>
            <a:ext cx="203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Женщины возраста 12-25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35680" y="1189080"/>
            <a:ext cx="203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Мужчины возраста 34-54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458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Доля летальных исходов от туберкулеза в зависимости от путей  выявлении туберкулеза, 2007г. (%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0440" y="1978200"/>
          <a:ext cx="835020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978200"/>
                    <a:ext cx="835020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77360"/>
            <a:ext cx="9144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66"/>
                </a:solidFill>
                <a:latin typeface="Bodoni MT"/>
              </a:rPr>
              <a:t>Вклад муниципальных районов (исилькульского, Калачинского, Марьяновского, Называевского, Тарского) в формирование основных эпидемических показателей по Омской области в 2006 - 2007 гг.</a:t>
            </a:r>
            <a:r>
              <a:rPr b="1" lang="ru-RU" sz="2600" spc="-1" strike="noStrike">
                <a:solidFill>
                  <a:srgbClr val="993366"/>
                </a:solidFill>
                <a:latin typeface="Bodoni MT"/>
              </a:rPr>
              <a:t> (в %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1887480"/>
          <a:ext cx="8497800" cy="4611600"/>
        </p:xfrm>
        <a:graphic>
          <a:graphicData uri="http://schemas.openxmlformats.org/drawingml/2006/table">
            <a:tbl>
              <a:tblPr/>
              <a:tblGrid>
                <a:gridCol w="4400640"/>
                <a:gridCol w="1442880"/>
                <a:gridCol w="2654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2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емость Ф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емость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0,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т.ч. 28% из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емость подрост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р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до 1 года 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4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Показатель выявляемости туберкулеза методом флюорографии в 5 муниципальных районах Омской области в 2006-2007гг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646280"/>
          <a:ext cx="882180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6280"/>
                    <a:ext cx="882180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74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Показатель заболеваемости туберкулеза в 5 муниципальных районах Омской области в 2006-2007гг. (на 100 тысяч населения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346040"/>
          <a:ext cx="91440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ФЕДЕРАЛЬНЫЙ ЗАК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 ПРЕДУПРЕЖДЕНИИ РАСПРОСТ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УБЕРКУЛЕЗА В РОССИЙСКОЙ ФЕДЕРАЦИИ №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484280"/>
            <a:ext cx="914400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атья 10. Обязательные обследование и лечение больных туберкулез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Больные заразными формами туберкулеза, неоднократно нарушающие санитарно-противоэпидемический режим, а также </a:t>
            </a:r>
            <a:r>
              <a:rPr b="1" i="1" lang="ru-RU" sz="3000" spc="-1" strike="noStrike" u="sng">
                <a:solidFill>
                  <a:srgbClr val="333399"/>
                </a:solidFill>
                <a:uFillTx/>
                <a:latin typeface="Times New Roman"/>
              </a:rPr>
              <a:t>умышленно уклоняющиеся от обследования в целях выявления</a:t>
            </a: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 туберкулеза</a:t>
            </a: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 или от лечения туберкулеза, на основании решений суда госпитализируются в специализированные медицинские противотуберкулезные организации для обязательных обследования и леч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00080"/>
                </a:solidFill>
                <a:latin typeface="Times New Roman"/>
              </a:rPr>
              <a:t>Экономическое обоснование  эффективности своевременного выявления туберкулеза</a:t>
            </a:r>
            <a:r>
              <a:rPr b="1" lang="en-US" sz="38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572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66"/>
                </a:solidFill>
                <a:latin typeface="Times New Roman"/>
              </a:rPr>
              <a:t>6 – ти  месячного  стандартного курса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евременно выявленного случая туберкулез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2492280"/>
            <a:ext cx="45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66"/>
                </a:solidFill>
                <a:latin typeface="Times New Roman"/>
              </a:rPr>
              <a:t>1 дня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ущенного случ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уберкулез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1844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то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551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1 488,28</a:t>
            </a: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уб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1 528,6</a:t>
            </a:r>
            <a:r>
              <a:rPr b="1" i="1" lang="ru-RU" sz="2800" spc="-1" strike="noStrike">
                <a:solidFill>
                  <a:srgbClr val="ff00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уб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773360"/>
            <a:ext cx="871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43360"/>
            <a:ext cx="91440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Туберкуле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можно предотвратить</a:t>
            </a:r>
            <a:r>
              <a:rPr b="1" lang="ru-RU" sz="4200" spc="-1" strike="noStrike">
                <a:solidFill>
                  <a:srgbClr val="ff0066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 проведении профилактических мероприят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Туберкулез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можно полностью излечить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 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 своевременном выявлении и правильном лечении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765000"/>
            <a:ext cx="4356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8 февраля 2008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Заседание Совета по национальным про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«Мы должны повысить мотивацию населения к ведению здорового образа жизни и внимательному отношению к своему здоровью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57400" y="685800"/>
            <a:ext cx="4648320" cy="79488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Times New Roman"/>
              </a:rPr>
              <a:t>Приоритеты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3124440" cy="794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Для ОЛС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2438280"/>
            <a:ext cx="4648320" cy="794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Для фтизиатрии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133360" y="1523880"/>
            <a:ext cx="99036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91440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809880"/>
            <a:ext cx="3124440" cy="1921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</a:rPr>
              <a:t>Профилактика и раннее выявление туберкулез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343400"/>
            <a:ext cx="4495680" cy="100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</a:rPr>
              <a:t>Диагностика и лечение больных туберкулез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27672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27672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7672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27672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27672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276720"/>
            <a:ext cx="137160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4600" y="-360"/>
            <a:ext cx="876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Times New Roman"/>
              </a:rPr>
              <a:t>В оказании противотуберкулезной помощи крайне важны лечебные учреждения первичной медико-социальной помощ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3040" y="1949760"/>
            <a:ext cx="8940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 странах, где туберкулез широко распростра-нен, нельзя добиться быстрого улучшения ситуации без включения противотуберкулезных мероприятий в деятельность работников ПМСП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Интеграция противотуберкулезной помощи в мероприятия ПМСП может повысить качество выявления и ведения больных, а в дальнейшем –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ru-RU" sz="3000" spc="-1" strike="noStrike">
                <a:solidFill>
                  <a:srgbClr val="0000ff"/>
                </a:solidFill>
                <a:latin typeface="Times New Roman"/>
              </a:rPr>
              <a:t>улучшить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эпидемическую ситуацию в цело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Задачи для предупреждения распространения туберкулеза в Омской области на 2008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5760" y="1717560"/>
            <a:ext cx="886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Максимальное выявление больных туберкулезо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Своевременная и полная регистрация впервые выявленных больных туберкулезо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100% госпитализация впервые выявленных больных ТОД с МБТ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Контролируемое непрерывное лечение больных туберкулезо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Совершенствование лабораторной диагностики туберкулез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Работа в очагах туберкулезной инфек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Совершенствование ОМР и эпидмониторинга туберкулез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836640"/>
            <a:ext cx="428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Times New Roman"/>
              </a:rPr>
              <a:t>Всемирная организация здравоохранения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предлагает провести Всемирный день борьбы с туберкулезом в 2008 году под девиз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 am stopping TB!</a:t>
            </a: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»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- «Я борюсь с туберкулезом!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782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73080" y="1814400"/>
            <a:ext cx="708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3924360" y="4581360"/>
            <a:ext cx="64764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5300640"/>
            <a:ext cx="417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Омская область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    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26,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на 100 тысяч населения)        Доля области в общем количестве выявленных больных –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артограмма распределения заболеваемости туберкулезом на территориях Российской Федерации,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2006г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5157720"/>
            <a:ext cx="360360" cy="142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734080"/>
            <a:ext cx="360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5084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00 на 100 тысяч нас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566100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50  на 100 тысяч нас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049040" y="2658960"/>
            <a:ext cx="1485720" cy="52020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doni MT"/>
              </a:rPr>
              <a:t>Министерство соцразв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Bodoni MT"/>
              </a:rPr>
              <a:t>Организация оказания противотуберкулезной помощи населению Омской обла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341360"/>
            <a:ext cx="4319640" cy="33732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Bodoni MT"/>
              </a:rPr>
              <a:t>ПРАВИТЕЛЬСТВО ОМСКОЙ ОБЛ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773360"/>
            <a:ext cx="4321440" cy="642600"/>
          </a:xfrm>
          <a:prstGeom prst="rect">
            <a:avLst/>
          </a:prstGeom>
          <a:solidFill>
            <a:srgbClr val="0066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doni MT"/>
              </a:rPr>
              <a:t>Противоэпидемическая коми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125360"/>
            <a:ext cx="3456000" cy="368280"/>
          </a:xfrm>
          <a:prstGeom prst="rect">
            <a:avLst/>
          </a:prstGeom>
          <a:solidFill>
            <a:srgbClr val="66ff99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doni MT"/>
              </a:rPr>
              <a:t>ФГУЗ Новосибирский НИ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692280"/>
            <a:ext cx="4176720" cy="612360"/>
          </a:xfrm>
          <a:prstGeom prst="rect">
            <a:avLst/>
          </a:prstGeom>
          <a:solidFill>
            <a:srgbClr val="66ff99"/>
          </a:solidFill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doni MT"/>
              </a:rPr>
              <a:t>Координационный Совет СФО и ДФО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637000"/>
            <a:ext cx="1871640" cy="52020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doni MT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40920" y="2651040"/>
            <a:ext cx="1441440" cy="52020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doni MT"/>
              </a:rPr>
              <a:t>Министерство финан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046240" y="2436480"/>
            <a:ext cx="1441440" cy="94644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doni MT"/>
              </a:rPr>
              <a:t>Министерство образования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213000"/>
            <a:ext cx="1871640" cy="520200"/>
          </a:xfrm>
          <a:prstGeom prst="rect">
            <a:avLst/>
          </a:prstGeom>
          <a:solidFill>
            <a:srgbClr val="0066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Bodoni MT"/>
              </a:rPr>
              <a:t>Противотуберку-лезная комисс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205000"/>
            <a:ext cx="0" cy="432000"/>
          </a:xfrm>
          <a:prstGeom prst="line">
            <a:avLst/>
          </a:prstGeom>
          <a:ln w="284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48360" y="292428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1557000"/>
            <a:ext cx="0" cy="1366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1844640"/>
            <a:ext cx="2738520" cy="1892520"/>
          </a:xfrm>
          <a:prstGeom prst="rect">
            <a:avLst/>
          </a:prstGeom>
          <a:solidFill>
            <a:srgbClr val="ccff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Bodoni MT"/>
              </a:rPr>
              <a:t>Федеральные учреждения РФ по ОО</a:t>
            </a:r>
            <a:r>
              <a:rPr b="1" lang="ru-RU" sz="2000" spc="-1" strike="noStrike">
                <a:solidFill>
                  <a:srgbClr val="0000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Bodoni MT"/>
              </a:rPr>
              <a:t>Роспотребнадзор Росздравнадзор ФСИН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2565360"/>
            <a:ext cx="2736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2852640"/>
            <a:ext cx="2736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3141720"/>
            <a:ext cx="2736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4076640"/>
            <a:ext cx="2089440" cy="7038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doni MT"/>
              </a:rPr>
              <a:t>ГУЗОО  КПТД </a:t>
            </a:r>
            <a:r>
              <a:rPr b="1" lang="ru-RU" sz="2000" spc="-1" strike="noStrike">
                <a:solidFill>
                  <a:srgbClr val="6600cc"/>
                </a:solidFill>
                <a:latin typeface="Bodoni MT"/>
              </a:rPr>
              <a:t>Э  М  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4437000"/>
            <a:ext cx="2089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3716280"/>
            <a:ext cx="0" cy="360360"/>
          </a:xfrm>
          <a:prstGeom prst="line">
            <a:avLst/>
          </a:prstGeom>
          <a:ln w="284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076640"/>
            <a:ext cx="1657440" cy="10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doni MT"/>
              </a:rPr>
              <a:t>ГУЗОО              в т.ч. П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84000" y="4437000"/>
            <a:ext cx="64764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4437000"/>
            <a:ext cx="1657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229360"/>
            <a:ext cx="4248360" cy="100872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doni MT"/>
              </a:rPr>
              <a:t>Органы здравоохранения г.Омска  и муниципальных районов О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941720"/>
            <a:ext cx="3097440" cy="196452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Bodoni MT"/>
              </a:rPr>
              <a:t>Муниципальные учреждения здравоохранения 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Bodoni MT"/>
              </a:rPr>
              <a:t>31 тубкабине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Bodoni MT"/>
              </a:rPr>
              <a:t>180 туберкулезных коек в 7 района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6021360"/>
            <a:ext cx="3097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589720"/>
            <a:ext cx="3097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4869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5589720"/>
            <a:ext cx="718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19640" y="2852280"/>
            <a:ext cx="936720" cy="1513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4581360"/>
            <a:ext cx="649440" cy="792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6308640"/>
            <a:ext cx="4248360" cy="368280"/>
          </a:xfrm>
          <a:prstGeom prst="rect">
            <a:avLst/>
          </a:prstGeom>
          <a:solidFill>
            <a:srgbClr val="ffcccc"/>
          </a:solidFill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doni MT"/>
              </a:rPr>
              <a:t>ЛПУ  ОЛС  г.Омска  и   МУЗ 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48360" y="5876640"/>
            <a:ext cx="718920" cy="6476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595008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434880" y="128088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434880" y="317952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гиональн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507960" y="5575320"/>
            <a:ext cx="15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3716280"/>
            <a:ext cx="2592360" cy="916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Bodoni MT"/>
              </a:rPr>
              <a:t>Общественные организации (ОРРКК, </a:t>
            </a:r>
            <a:r>
              <a:rPr b="1" lang="ru-RU" sz="1800" spc="-1" strike="noStrike">
                <a:solidFill>
                  <a:srgbClr val="ff0066"/>
                </a:solidFill>
                <a:latin typeface="Bodoni MT"/>
              </a:rPr>
              <a:t>ОМСА</a:t>
            </a:r>
            <a:r>
              <a:rPr b="1" lang="ru-RU" sz="1800" spc="-1" strike="noStrike">
                <a:solidFill>
                  <a:srgbClr val="0000ff"/>
                </a:solidFill>
                <a:latin typeface="Bodoni MT"/>
              </a:rPr>
              <a:t> и д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4437000"/>
            <a:ext cx="93672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53040" y="2989440"/>
            <a:ext cx="985680" cy="1074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195880" y="4078080"/>
            <a:ext cx="985680" cy="2377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43720" y="4743360"/>
            <a:ext cx="14400" cy="2206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5040" y="3508200"/>
            <a:ext cx="14400" cy="2206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00720" y="6308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оябрь, 2005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1320"/>
            <a:ext cx="91440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В  2007 году проделана большая организационная работа по улучшению оказания противотуберкулезной помощи населению в Омской области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Разработана и утверждена концепция развития фтизиатрической службы Омской области на 2008-2011гг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ппаратное совещание Министерства здравоохранения Омской области «Об эпидемиологической ситуации по туберкулезу в Омской области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 Выездные заседания противотуберкулезной комиссии МЗОО в г.Калачинск, рп. Русская Поляна с участием глав администрации и главных врачей ЦРБ по раннему выявлению туберкулеза в муниципальных образованиях восточной и южной зон Омской обла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Заседание Межведомственной комиссии при Правительстве Омской области  «Об организации выявления, диагностики и лечения туберкулеза у лиц без определенного места жительства на территории Омской области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-262800"/>
            <a:ext cx="914400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В  2007 году проделана большая организационная работа по улучшению оказания противотуберкулезной помощи населению в Омской области: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2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ллегия Министерства социальной защиты населения Омской области рассмотрены вопросы эффективности профилактических мероприятий по предупреждению заболевания туберкулезом в стационарных учреждениях социальной защит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6.   Заседание противоэпидемической комиссии при Правительстве Омской области «О раннем выявлении туберкулеза и состоянии материально-технической базы государственных противотуберкулезных учреждений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7. Утверждена ведомственная целевая программа «Первоочередные мероприятия по улучшению санитарно-технического состояния государственных противотуберкулезных учреждений области на 2007-2011гг.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9144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00"/>
                </a:solidFill>
                <a:latin typeface="Times New Roman"/>
              </a:rPr>
              <a:t>Финансирование противотуберкулезных мероприятий в Омской области в 2007 году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51520" y="2982960"/>
            <a:ext cx="3635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 Федеральной программе получе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,2 млн. ру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7840" y="1270080"/>
            <a:ext cx="455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делено по областной целевой программ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6,0 млн. ру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981160"/>
            <a:ext cx="3635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онд «Российское здравоохранение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4 млн. ру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081760"/>
            <a:ext cx="363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лобаль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3 млн. ру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05440" y="5043600"/>
            <a:ext cx="503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«Российский Красный крест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6 млн. ру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25520"/>
            <a:ext cx="40784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ластной бюдж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456,2 млн. руб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3-31T14:31:40Z</dcterms:modified>
  <cp:revision>198</cp:revision>
  <dc:subject/>
  <dc:title>  ПРАКТИЧЕСКОЕ ПРИМЕНЕНИЕ КВАРТАЛЬНОГО КОГОРТНОГО АНАЛИЗА</dc:title>
</cp:coreProperties>
</file>