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1.png" ContentType="image/png"/>
  <Override PartName="/ppt/media/image25.png" ContentType="image/png"/>
  <Override PartName="/ppt/media/image42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34.wmf" ContentType="image/x-wmf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jpeg" ContentType="image/jpeg"/>
  <Override PartName="/ppt/media/image36.wmf" ContentType="image/x-wmf"/>
  <Override PartName="/ppt/media/image3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43.jpeg" ContentType="image/jpeg"/>
  <Override PartName="/ppt/media/image5.png" ContentType="image/png"/>
  <Override PartName="/ppt/media/image2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29B0-AEFE-4E6D-B9BC-3406DB152A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2040-0B97-432D-B840-1573AD0E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2307-DA96-4AE8-929C-90347A3D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526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480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526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480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0615-82A9-4D21-8134-E65C73E92E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0EE37-423C-47AC-ABBA-7F83289C99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31DB9-C376-4862-B3F5-D78D5B7D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23217-A2B5-46A7-B07E-C0DEE182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B9AE5-496F-430A-BED1-0239F19D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A63B5-1FCD-443D-B3C2-14A7123E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0199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BB411-F452-4E72-ABF4-B4712EAF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3A042-2CF2-4411-865F-74DB5D2A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B460-9DC4-4D2B-A07F-067B0EA5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F5D90-414D-457F-BACB-207452A4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A3844-08FE-4D35-A1EB-6989D90D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85073-787D-46E9-8D22-250B43D6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7C8CD-5380-4E24-B3CD-26910D5F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526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480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526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480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2ECD6-766D-4830-A156-A6E24515EF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CE38-04A5-4BE4-8F79-6C8023D9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E955-9770-46C6-B0AF-18244FBC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1E4B-57E8-42B8-BE76-13F919B6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0199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2818-B0B9-4DB8-AF15-C7895184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8BB2-B64F-41EC-B277-696D913D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F4EA-3543-466B-AB2D-35F6A9E9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C01B-D2AA-450C-928D-EF0E61E1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c0c0c0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ddddd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333360"/>
            <a:ext cx="1152720" cy="11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45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6ca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0ba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4191120" y="653400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78B0-D036-441A-B917-525B709AE3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79280" y="357120"/>
            <a:ext cx="1152720" cy="11271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7310520" y="150840"/>
            <a:ext cx="790560" cy="8301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dddddd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308720" y="18900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4"/>
          <a:stretch/>
        </p:blipFill>
        <p:spPr>
          <a:xfrm>
            <a:off x="8244000" y="26028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124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5"/>
          <a:stretch/>
        </p:blipFill>
        <p:spPr>
          <a:xfrm>
            <a:off x="1116000" y="115920"/>
            <a:ext cx="863640" cy="79200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6"/>
          <a:stretch/>
        </p:blipFill>
        <p:spPr>
          <a:xfrm>
            <a:off x="0" y="549360"/>
            <a:ext cx="914400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4920" y="450720"/>
            <a:ext cx="9144000" cy="241560"/>
          </a:xfrm>
          <a:prstGeom prst="rect">
            <a:avLst/>
          </a:prstGeom>
          <a:solidFill>
            <a:srgbClr val="76c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765000"/>
            <a:ext cx="6191280" cy="6120000"/>
          </a:xfrm>
          <a:prstGeom prst="ellipse">
            <a:avLst/>
          </a:prstGeom>
          <a:gradFill rotWithShape="0">
            <a:gsLst>
              <a:gs pos="0">
                <a:srgbClr val="fefefe">
                  <a:alpha val="80392"/>
                </a:srgbClr>
              </a:gs>
              <a:gs pos="100000">
                <a:srgbClr val="c0c0c0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346720"/>
            <a:ext cx="9144000" cy="169920"/>
          </a:xfrm>
          <a:prstGeom prst="rect">
            <a:avLst/>
          </a:prstGeom>
          <a:solidFill>
            <a:srgbClr val="76c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dt" idx="3"/>
          </p:nvPr>
        </p:nvSpPr>
        <p:spPr>
          <a:xfrm>
            <a:off x="3580920" y="6400440"/>
            <a:ext cx="2210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3805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8A27-59C0-4F35-85DD-38EDE3602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title"/>
          </p:nvPr>
        </p:nvSpPr>
        <p:spPr>
          <a:xfrm>
            <a:off x="4266720" y="121932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458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24458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2781360"/>
            <a:ext cx="2808360" cy="2735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ddddd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816120" y="2852640"/>
            <a:ext cx="2676240" cy="2592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348000" y="3718080"/>
            <a:ext cx="1079640" cy="1079280"/>
          </a:xfrm>
          <a:prstGeom prst="ellipse">
            <a:avLst/>
          </a:prstGeom>
          <a:solidFill>
            <a:srgbClr val="1bab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4437000"/>
            <a:ext cx="1368360" cy="144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0c0c0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0" y="2060640"/>
            <a:ext cx="1438200" cy="1511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4920" y="2058840"/>
            <a:ext cx="1440000" cy="15130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1042920" y="1050840"/>
            <a:ext cx="934920" cy="936720"/>
            <a:chOff x="1042920" y="1050840"/>
            <a:chExt cx="934920" cy="936720"/>
          </a:xfrm>
        </p:grpSpPr>
        <p:sp>
          <p:nvSpPr>
            <p:cNvPr id="64" name=""/>
            <p:cNvSpPr/>
            <p:nvPr/>
          </p:nvSpPr>
          <p:spPr>
            <a:xfrm>
              <a:off x="1042920" y="1050840"/>
              <a:ext cx="934920" cy="936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c0c0c0"/>
              </a:solidFill>
              <a:miter/>
            </a:ln>
            <a:effectLst>
              <a:outerShdw dist="89604" dir="2700000" blurRad="0" rotWithShape="0">
                <a:srgbClr val="000000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1187280" y="1195200"/>
              <a:ext cx="647640" cy="64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124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203640" y="4508640"/>
            <a:ext cx="1363680" cy="136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9144000" cy="576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0" y="5445000"/>
            <a:ext cx="9144000" cy="1440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40bad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916360" y="1557360"/>
            <a:ext cx="590364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Итоги международного проект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708360" y="2349360"/>
            <a:ext cx="518472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Обучение по каскадному принципу. 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920" y="5734080"/>
            <a:ext cx="4537080" cy="790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Бучко О.А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вице-президент ОПС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координатор проекта в Омской области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76720" y="2852640"/>
            <a:ext cx="3672000" cy="72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Оказание помощи больным и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борьба с туберкулезом и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788000" y="3645000"/>
            <a:ext cx="3986280" cy="1079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туберкулезом с множественной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лекарственной устойчивостью 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в ЛПУ Омской области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219640" y="4941720"/>
            <a:ext cx="3770280" cy="28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с 1 октября 2007 г. по 26 февраля 2008 г.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990720" y="5319720"/>
            <a:ext cx="609480" cy="609480"/>
            <a:chOff x="990720" y="5319720"/>
            <a:chExt cx="609480" cy="609480"/>
          </a:xfrm>
        </p:grpSpPr>
        <p:sp>
          <p:nvSpPr>
            <p:cNvPr id="242" name=""/>
            <p:cNvSpPr/>
            <p:nvPr/>
          </p:nvSpPr>
          <p:spPr>
            <a:xfrm>
              <a:off x="990720" y="531972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0bad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90720" y="531972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0bad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30320" y="5359320"/>
              <a:ext cx="529560" cy="530280"/>
            </a:xfrm>
            <a:prstGeom prst="ellipse">
              <a:avLst/>
            </a:prstGeom>
            <a:gradFill rotWithShape="0">
              <a:gsLst>
                <a:gs pos="0">
                  <a:srgbClr val="226471"/>
                </a:gs>
                <a:gs pos="50000">
                  <a:srgbClr val="40bad2"/>
                </a:gs>
                <a:gs pos="100000">
                  <a:srgbClr val="2264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9920" y="5398920"/>
              <a:ext cx="529920" cy="530280"/>
            </a:xfrm>
            <a:prstGeom prst="ellipse">
              <a:avLst/>
            </a:prstGeom>
            <a:gradFill rotWithShape="0">
              <a:gsLst>
                <a:gs pos="0">
                  <a:srgbClr val="40bad2">
                    <a:alpha val="0"/>
                  </a:srgbClr>
                </a:gs>
                <a:gs pos="100000">
                  <a:srgbClr val="2875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58760" y="5386320"/>
              <a:ext cx="47592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66680" y="5394240"/>
              <a:ext cx="461520" cy="46188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73160" y="5397480"/>
              <a:ext cx="44892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77840" y="5400720"/>
              <a:ext cx="428040" cy="4204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01600" y="5413320"/>
              <a:ext cx="380520" cy="34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71640" y="2997360"/>
            <a:ext cx="609480" cy="609480"/>
            <a:chOff x="971640" y="2997360"/>
            <a:chExt cx="609480" cy="609480"/>
          </a:xfrm>
        </p:grpSpPr>
        <p:sp>
          <p:nvSpPr>
            <p:cNvPr id="252" name=""/>
            <p:cNvSpPr/>
            <p:nvPr/>
          </p:nvSpPr>
          <p:spPr>
            <a:xfrm>
              <a:off x="971640" y="299736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0bad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71640" y="299736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0bad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11240" y="3036960"/>
              <a:ext cx="529560" cy="530280"/>
            </a:xfrm>
            <a:prstGeom prst="ellipse">
              <a:avLst/>
            </a:prstGeom>
            <a:gradFill rotWithShape="0">
              <a:gsLst>
                <a:gs pos="0">
                  <a:srgbClr val="226471"/>
                </a:gs>
                <a:gs pos="50000">
                  <a:srgbClr val="40bad2"/>
                </a:gs>
                <a:gs pos="100000">
                  <a:srgbClr val="2264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50840" y="3076560"/>
              <a:ext cx="529920" cy="530280"/>
            </a:xfrm>
            <a:prstGeom prst="ellipse">
              <a:avLst/>
            </a:prstGeom>
            <a:gradFill rotWithShape="0">
              <a:gsLst>
                <a:gs pos="0">
                  <a:srgbClr val="40bad2">
                    <a:alpha val="0"/>
                  </a:srgbClr>
                </a:gs>
                <a:gs pos="100000">
                  <a:srgbClr val="2875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39680" y="3063960"/>
              <a:ext cx="47592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47600" y="3071880"/>
              <a:ext cx="461520" cy="46188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54080" y="3075120"/>
              <a:ext cx="44892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58760" y="3078360"/>
              <a:ext cx="428040" cy="4204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2520" y="3090960"/>
              <a:ext cx="380520" cy="34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859040" y="2633760"/>
            <a:ext cx="6026040" cy="3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63640" y="1844640"/>
            <a:ext cx="67690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ж работы в здравоохранении не менее 4 лет, возраст участников – не старше 48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59040" y="3645000"/>
            <a:ext cx="6026040" cy="25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859040" y="5060520"/>
            <a:ext cx="6026040" cy="3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859040" y="5950080"/>
            <a:ext cx="6026040" cy="54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971640" y="1882800"/>
            <a:ext cx="609480" cy="609480"/>
            <a:chOff x="971640" y="1882800"/>
            <a:chExt cx="609480" cy="609480"/>
          </a:xfrm>
        </p:grpSpPr>
        <p:sp>
          <p:nvSpPr>
            <p:cNvPr id="267" name=""/>
            <p:cNvSpPr/>
            <p:nvPr/>
          </p:nvSpPr>
          <p:spPr>
            <a:xfrm>
              <a:off x="971640" y="1882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71640" y="1882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6ca2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11240" y="19224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3f6c16"/>
                </a:gs>
                <a:gs pos="50000">
                  <a:srgbClr val="76ca2a"/>
                </a:gs>
                <a:gs pos="100000">
                  <a:srgbClr val="3f6c1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11240" y="19242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76ca2a">
                    <a:alpha val="0"/>
                  </a:srgbClr>
                </a:gs>
                <a:gs pos="100000">
                  <a:srgbClr val="4a7f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39680" y="1949400"/>
              <a:ext cx="47628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47600" y="195732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54080" y="196056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58760" y="1963800"/>
              <a:ext cx="428760" cy="4204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82520" y="1976400"/>
              <a:ext cx="381240" cy="34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94040" y="19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094040" y="307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22840" y="5381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87480" y="4259160"/>
            <a:ext cx="609480" cy="609480"/>
            <a:chOff x="987480" y="4259160"/>
            <a:chExt cx="609480" cy="609480"/>
          </a:xfrm>
        </p:grpSpPr>
        <p:grpSp>
          <p:nvGrpSpPr>
            <p:cNvPr id="280" name=""/>
            <p:cNvGrpSpPr/>
            <p:nvPr/>
          </p:nvGrpSpPr>
          <p:grpSpPr>
            <a:xfrm>
              <a:off x="987480" y="4259160"/>
              <a:ext cx="609480" cy="609480"/>
              <a:chOff x="987480" y="4259160"/>
              <a:chExt cx="609480" cy="609480"/>
            </a:xfrm>
          </p:grpSpPr>
          <p:sp>
            <p:nvSpPr>
              <p:cNvPr id="281" name=""/>
              <p:cNvSpPr/>
              <p:nvPr/>
            </p:nvSpPr>
            <p:spPr>
              <a:xfrm>
                <a:off x="1113120" y="43351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87480" y="425916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cc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987480" y="425916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76ca2a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027080" y="42987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3f6c16"/>
                  </a:gs>
                  <a:gs pos="50000">
                    <a:srgbClr val="76ca2a"/>
                  </a:gs>
                  <a:gs pos="100000">
                    <a:srgbClr val="3f6c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027080" y="43002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76ca2a">
                      <a:alpha val="0"/>
                    </a:srgbClr>
                  </a:gs>
                  <a:gs pos="100000">
                    <a:srgbClr val="4a7f1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055520" y="432576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063440" y="4333680"/>
                <a:ext cx="46224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069920" y="433692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074600" y="4340160"/>
                <a:ext cx="42876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098360" y="4352760"/>
                <a:ext cx="38124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108440" y="4335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763640" y="3102120"/>
            <a:ext cx="705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личие лидерских качеств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63640" y="4221000"/>
            <a:ext cx="70581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ность обучаться и вести обучение других медицинских сестер программам ТБ/МЛУ-Т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63640" y="5464080"/>
            <a:ext cx="7058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ладание ясным видением цели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627280" y="692280"/>
            <a:ext cx="403236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Критерии отбора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990720" y="5051520"/>
            <a:ext cx="609480" cy="609480"/>
            <a:chOff x="990720" y="5051520"/>
            <a:chExt cx="609480" cy="609480"/>
          </a:xfrm>
        </p:grpSpPr>
        <p:sp>
          <p:nvSpPr>
            <p:cNvPr id="297" name=""/>
            <p:cNvSpPr/>
            <p:nvPr/>
          </p:nvSpPr>
          <p:spPr>
            <a:xfrm>
              <a:off x="990720" y="505152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0bad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90720" y="505152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0bad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30320" y="5091120"/>
              <a:ext cx="529560" cy="530280"/>
            </a:xfrm>
            <a:prstGeom prst="ellipse">
              <a:avLst/>
            </a:prstGeom>
            <a:gradFill rotWithShape="0">
              <a:gsLst>
                <a:gs pos="0">
                  <a:srgbClr val="226471"/>
                </a:gs>
                <a:gs pos="50000">
                  <a:srgbClr val="40bad2"/>
                </a:gs>
                <a:gs pos="100000">
                  <a:srgbClr val="2264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69920" y="5130720"/>
              <a:ext cx="529920" cy="530280"/>
            </a:xfrm>
            <a:prstGeom prst="ellipse">
              <a:avLst/>
            </a:prstGeom>
            <a:gradFill rotWithShape="0">
              <a:gsLst>
                <a:gs pos="0">
                  <a:srgbClr val="40bad2">
                    <a:alpha val="0"/>
                  </a:srgbClr>
                </a:gs>
                <a:gs pos="100000">
                  <a:srgbClr val="2875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58760" y="5118120"/>
              <a:ext cx="47592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66680" y="5126040"/>
              <a:ext cx="461520" cy="46188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73160" y="5129280"/>
              <a:ext cx="44892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77840" y="5132520"/>
              <a:ext cx="428040" cy="4204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01600" y="5145120"/>
              <a:ext cx="380520" cy="34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971640" y="2890800"/>
            <a:ext cx="609480" cy="609480"/>
            <a:chOff x="971640" y="2890800"/>
            <a:chExt cx="609480" cy="609480"/>
          </a:xfrm>
        </p:grpSpPr>
        <p:sp>
          <p:nvSpPr>
            <p:cNvPr id="307" name=""/>
            <p:cNvSpPr/>
            <p:nvPr/>
          </p:nvSpPr>
          <p:spPr>
            <a:xfrm>
              <a:off x="971640" y="2890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0bad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71640" y="2890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0bad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11240" y="2930400"/>
              <a:ext cx="529560" cy="530280"/>
            </a:xfrm>
            <a:prstGeom prst="ellipse">
              <a:avLst/>
            </a:prstGeom>
            <a:gradFill rotWithShape="0">
              <a:gsLst>
                <a:gs pos="0">
                  <a:srgbClr val="226471"/>
                </a:gs>
                <a:gs pos="50000">
                  <a:srgbClr val="40bad2"/>
                </a:gs>
                <a:gs pos="100000">
                  <a:srgbClr val="2264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050840" y="2970000"/>
              <a:ext cx="529920" cy="530280"/>
            </a:xfrm>
            <a:prstGeom prst="ellipse">
              <a:avLst/>
            </a:prstGeom>
            <a:gradFill rotWithShape="0">
              <a:gsLst>
                <a:gs pos="0">
                  <a:srgbClr val="40bad2">
                    <a:alpha val="0"/>
                  </a:srgbClr>
                </a:gs>
                <a:gs pos="100000">
                  <a:srgbClr val="2875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39680" y="2957400"/>
              <a:ext cx="47592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47600" y="2965320"/>
              <a:ext cx="461520" cy="46188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54080" y="2968560"/>
              <a:ext cx="44892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58760" y="2971800"/>
              <a:ext cx="428040" cy="4204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82520" y="2984400"/>
              <a:ext cx="380520" cy="34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859040" y="2633760"/>
            <a:ext cx="6026040" cy="3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63640" y="1844640"/>
            <a:ext cx="70563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такое туберкулез ТБ/МЛУ-ТБ и каково его воздействи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59040" y="3548160"/>
            <a:ext cx="6026040" cy="25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859040" y="4508640"/>
            <a:ext cx="6026040" cy="2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859040" y="5751360"/>
            <a:ext cx="6026040" cy="54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971640" y="1882800"/>
            <a:ext cx="609480" cy="609480"/>
            <a:chOff x="971640" y="1882800"/>
            <a:chExt cx="609480" cy="609480"/>
          </a:xfrm>
        </p:grpSpPr>
        <p:sp>
          <p:nvSpPr>
            <p:cNvPr id="322" name=""/>
            <p:cNvSpPr/>
            <p:nvPr/>
          </p:nvSpPr>
          <p:spPr>
            <a:xfrm>
              <a:off x="971640" y="1882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71640" y="1882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6ca2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11240" y="19224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3f6c16"/>
                </a:gs>
                <a:gs pos="50000">
                  <a:srgbClr val="76ca2a"/>
                </a:gs>
                <a:gs pos="100000">
                  <a:srgbClr val="3f6c1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11240" y="19242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76ca2a">
                    <a:alpha val="0"/>
                  </a:srgbClr>
                </a:gs>
                <a:gs pos="100000">
                  <a:srgbClr val="4a7f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39680" y="1949400"/>
              <a:ext cx="47628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47600" y="195732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54080" y="196056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58760" y="1963800"/>
              <a:ext cx="428760" cy="4204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82520" y="1976400"/>
              <a:ext cx="381240" cy="34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94040" y="19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10940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22840" y="5132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987480" y="3898800"/>
            <a:ext cx="609480" cy="609480"/>
            <a:chOff x="987480" y="3898800"/>
            <a:chExt cx="609480" cy="609480"/>
          </a:xfrm>
        </p:grpSpPr>
        <p:grpSp>
          <p:nvGrpSpPr>
            <p:cNvPr id="335" name=""/>
            <p:cNvGrpSpPr/>
            <p:nvPr/>
          </p:nvGrpSpPr>
          <p:grpSpPr>
            <a:xfrm>
              <a:off x="987480" y="3898800"/>
              <a:ext cx="609480" cy="609480"/>
              <a:chOff x="987480" y="3898800"/>
              <a:chExt cx="609480" cy="609480"/>
            </a:xfrm>
          </p:grpSpPr>
          <p:sp>
            <p:nvSpPr>
              <p:cNvPr id="336" name=""/>
              <p:cNvSpPr/>
              <p:nvPr/>
            </p:nvSpPr>
            <p:spPr>
              <a:xfrm>
                <a:off x="1113120" y="39747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987480" y="38988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cc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987480" y="38988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76ca2a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027080" y="3938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3f6c16"/>
                  </a:gs>
                  <a:gs pos="50000">
                    <a:srgbClr val="76ca2a"/>
                  </a:gs>
                  <a:gs pos="100000">
                    <a:srgbClr val="3f6c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027080" y="393984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76ca2a">
                      <a:alpha val="0"/>
                    </a:srgbClr>
                  </a:gs>
                  <a:gs pos="100000">
                    <a:srgbClr val="4a7f1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055520" y="39654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63440" y="3973320"/>
                <a:ext cx="46224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069920" y="39765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074600" y="3979800"/>
                <a:ext cx="42876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098360" y="3992400"/>
                <a:ext cx="38124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1108440" y="3975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763640" y="3002040"/>
            <a:ext cx="705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рьба с ТБ/МЛУ-ТБ и его леч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63640" y="3976560"/>
            <a:ext cx="7058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лементы стратеги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TS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63640" y="5032440"/>
            <a:ext cx="62643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циальное клеймо и дискриминация, связанные     с туберкулез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2052720" y="692280"/>
            <a:ext cx="525600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Темы международного семинар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971640" y="3027240"/>
            <a:ext cx="609480" cy="609480"/>
            <a:chOff x="971640" y="3027240"/>
            <a:chExt cx="609480" cy="609480"/>
          </a:xfrm>
        </p:grpSpPr>
        <p:sp>
          <p:nvSpPr>
            <p:cNvPr id="352" name=""/>
            <p:cNvSpPr/>
            <p:nvPr/>
          </p:nvSpPr>
          <p:spPr>
            <a:xfrm>
              <a:off x="971640" y="302724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0bad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71640" y="302724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0bad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11240" y="3066840"/>
              <a:ext cx="529560" cy="530280"/>
            </a:xfrm>
            <a:prstGeom prst="ellipse">
              <a:avLst/>
            </a:prstGeom>
            <a:gradFill rotWithShape="0">
              <a:gsLst>
                <a:gs pos="0">
                  <a:srgbClr val="226471"/>
                </a:gs>
                <a:gs pos="50000">
                  <a:srgbClr val="40bad2"/>
                </a:gs>
                <a:gs pos="100000">
                  <a:srgbClr val="2264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50840" y="3106440"/>
              <a:ext cx="529920" cy="530280"/>
            </a:xfrm>
            <a:prstGeom prst="ellipse">
              <a:avLst/>
            </a:prstGeom>
            <a:gradFill rotWithShape="0">
              <a:gsLst>
                <a:gs pos="0">
                  <a:srgbClr val="40bad2">
                    <a:alpha val="0"/>
                  </a:srgbClr>
                </a:gs>
                <a:gs pos="100000">
                  <a:srgbClr val="2875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39680" y="3093840"/>
              <a:ext cx="47592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47600" y="3101760"/>
              <a:ext cx="461520" cy="46188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54080" y="3105000"/>
              <a:ext cx="44892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58760" y="3108240"/>
              <a:ext cx="428040" cy="4204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82520" y="3120840"/>
              <a:ext cx="380520" cy="34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859040" y="2633760"/>
            <a:ext cx="6026040" cy="3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63640" y="1844640"/>
            <a:ext cx="70563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иболее перспективные методы оказания помощи больным туберкулез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59040" y="3860640"/>
            <a:ext cx="6026040" cy="25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859040" y="5013000"/>
            <a:ext cx="6026040" cy="3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971640" y="1882800"/>
            <a:ext cx="609480" cy="609480"/>
            <a:chOff x="971640" y="1882800"/>
            <a:chExt cx="609480" cy="609480"/>
          </a:xfrm>
        </p:grpSpPr>
        <p:sp>
          <p:nvSpPr>
            <p:cNvPr id="366" name=""/>
            <p:cNvSpPr/>
            <p:nvPr/>
          </p:nvSpPr>
          <p:spPr>
            <a:xfrm>
              <a:off x="971640" y="1882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71640" y="1882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6ca2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011240" y="19224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3f6c16"/>
                </a:gs>
                <a:gs pos="50000">
                  <a:srgbClr val="76ca2a"/>
                </a:gs>
                <a:gs pos="100000">
                  <a:srgbClr val="3f6c1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11240" y="19242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76ca2a">
                    <a:alpha val="0"/>
                  </a:srgbClr>
                </a:gs>
                <a:gs pos="100000">
                  <a:srgbClr val="4a7f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39680" y="1949400"/>
              <a:ext cx="47628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47600" y="195732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54080" y="196056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58760" y="1963800"/>
              <a:ext cx="428760" cy="4204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82520" y="1976400"/>
              <a:ext cx="381240" cy="34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94040" y="19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094040" y="310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987480" y="4319640"/>
            <a:ext cx="609480" cy="609480"/>
            <a:chOff x="987480" y="4319640"/>
            <a:chExt cx="609480" cy="609480"/>
          </a:xfrm>
        </p:grpSpPr>
        <p:grpSp>
          <p:nvGrpSpPr>
            <p:cNvPr id="378" name=""/>
            <p:cNvGrpSpPr/>
            <p:nvPr/>
          </p:nvGrpSpPr>
          <p:grpSpPr>
            <a:xfrm>
              <a:off x="987480" y="4319640"/>
              <a:ext cx="609480" cy="609480"/>
              <a:chOff x="987480" y="4319640"/>
              <a:chExt cx="609480" cy="609480"/>
            </a:xfrm>
          </p:grpSpPr>
          <p:sp>
            <p:nvSpPr>
              <p:cNvPr id="379" name=""/>
              <p:cNvSpPr/>
              <p:nvPr/>
            </p:nvSpPr>
            <p:spPr>
              <a:xfrm>
                <a:off x="1113120" y="43956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987480" y="431964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cc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987480" y="431964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76ca2a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027080" y="435924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3f6c16"/>
                  </a:gs>
                  <a:gs pos="50000">
                    <a:srgbClr val="76ca2a"/>
                  </a:gs>
                  <a:gs pos="100000">
                    <a:srgbClr val="3f6c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027080" y="436068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76ca2a">
                      <a:alpha val="0"/>
                    </a:srgbClr>
                  </a:gs>
                  <a:gs pos="100000">
                    <a:srgbClr val="4a7f1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055520" y="438624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063440" y="4394160"/>
                <a:ext cx="46224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069920" y="439740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74600" y="4400640"/>
                <a:ext cx="42876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098360" y="4413240"/>
                <a:ext cx="38124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1108440" y="4395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763640" y="3027240"/>
            <a:ext cx="61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ганизационно-кадровые вопросы, методы обучения взросл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63640" y="4506840"/>
            <a:ext cx="7058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уководство и лидер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052720" y="692280"/>
            <a:ext cx="525600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Темы международного семинар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5346720"/>
            <a:ext cx="9144000" cy="169920"/>
          </a:xfrm>
          <a:prstGeom prst="rect">
            <a:avLst/>
          </a:prstGeom>
          <a:solidFill>
            <a:srgbClr val="76c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908000" y="692280"/>
            <a:ext cx="532800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Участники международного проект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081320" cy="30542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102200" cy="30704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5346720"/>
            <a:ext cx="9144000" cy="169920"/>
          </a:xfrm>
          <a:prstGeom prst="rect">
            <a:avLst/>
          </a:prstGeom>
          <a:solidFill>
            <a:srgbClr val="76c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908000" y="692280"/>
            <a:ext cx="540072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Итоги международного семинар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103640" cy="27352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716360" y="2060640"/>
            <a:ext cx="4105440" cy="2736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2411280" y="5950080"/>
            <a:ext cx="45370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Встреча с Министром здравоохранения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Омской области С.В. Моисеенко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121440" cy="431964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sp>
        <p:nvSpPr>
          <p:cNvPr id="405" name=""/>
          <p:cNvSpPr txBox="1"/>
          <p:nvPr/>
        </p:nvSpPr>
        <p:spPr>
          <a:xfrm>
            <a:off x="2700360" y="692280"/>
            <a:ext cx="381636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еждународный семинар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755640" y="4869000"/>
            <a:ext cx="36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Знакомство с деятельностью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сестринского персонала ГУЗОО "КПТД №4"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755640" y="1987560"/>
            <a:ext cx="3887640" cy="273672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sp>
        <p:nvSpPr>
          <p:cNvPr id="408" name=""/>
          <p:cNvSpPr txBox="1"/>
          <p:nvPr/>
        </p:nvSpPr>
        <p:spPr>
          <a:xfrm>
            <a:off x="2700360" y="692280"/>
            <a:ext cx="381636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еждународный семинар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788000" y="1987560"/>
            <a:ext cx="3887640" cy="273672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sp>
        <p:nvSpPr>
          <p:cNvPr id="410" name=""/>
          <p:cNvSpPr txBox="1"/>
          <p:nvPr/>
        </p:nvSpPr>
        <p:spPr>
          <a:xfrm>
            <a:off x="4788000" y="4940280"/>
            <a:ext cx="3816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Знакомство с деятельностью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сестринского персонала ГУЗОО "СДТКБ"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908000" y="5661000"/>
            <a:ext cx="568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Знакомство с деятельностью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Омской профессиональной сестринской ассоциации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264360" cy="424836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sp>
        <p:nvSpPr>
          <p:cNvPr id="413" name=""/>
          <p:cNvSpPr txBox="1"/>
          <p:nvPr/>
        </p:nvSpPr>
        <p:spPr>
          <a:xfrm>
            <a:off x="2700360" y="692280"/>
            <a:ext cx="381636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еждународный семинар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917800" y="6093000"/>
            <a:ext cx="3382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О.А. Бучко-координатор проектов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624720" cy="457992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sp>
        <p:nvSpPr>
          <p:cNvPr id="416" name=""/>
          <p:cNvSpPr txBox="1"/>
          <p:nvPr/>
        </p:nvSpPr>
        <p:spPr>
          <a:xfrm>
            <a:off x="2700360" y="692280"/>
            <a:ext cx="381636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Реализация мини-проект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2411280" y="692280"/>
            <a:ext cx="424836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Методическое обеспечени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313440" cy="424980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3313080" cy="424800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900000" y="3357720"/>
            <a:ext cx="609840" cy="609480"/>
            <a:chOff x="900000" y="3357720"/>
            <a:chExt cx="609840" cy="609480"/>
          </a:xfrm>
        </p:grpSpPr>
        <p:sp>
          <p:nvSpPr>
            <p:cNvPr id="114" name=""/>
            <p:cNvSpPr/>
            <p:nvPr/>
          </p:nvSpPr>
          <p:spPr>
            <a:xfrm>
              <a:off x="900000" y="33577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0bad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00000" y="33577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0bad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39960" y="3397320"/>
              <a:ext cx="529920" cy="530280"/>
            </a:xfrm>
            <a:prstGeom prst="ellipse">
              <a:avLst/>
            </a:prstGeom>
            <a:gradFill rotWithShape="0">
              <a:gsLst>
                <a:gs pos="0">
                  <a:srgbClr val="226471"/>
                </a:gs>
                <a:gs pos="50000">
                  <a:srgbClr val="40bad2"/>
                </a:gs>
                <a:gs pos="100000">
                  <a:srgbClr val="2264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79560" y="343692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40bad2">
                    <a:alpha val="0"/>
                  </a:srgbClr>
                </a:gs>
                <a:gs pos="100000">
                  <a:srgbClr val="2875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8400" y="3424320"/>
              <a:ext cx="47628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76320" y="343224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82800" y="343548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87480" y="3438720"/>
              <a:ext cx="428400" cy="4204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11240" y="3451320"/>
              <a:ext cx="380880" cy="34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859040" y="2849400"/>
            <a:ext cx="6026040" cy="3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1770120"/>
            <a:ext cx="6121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едеральный закон № 77 от 18.06.01 г.               «О предупреждении распространения туберкулеза в Российской Федерации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87400" y="4437000"/>
            <a:ext cx="6026400" cy="25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859040" y="5946480"/>
            <a:ext cx="6026040" cy="3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00000" y="1841400"/>
            <a:ext cx="609480" cy="609480"/>
            <a:chOff x="900000" y="1841400"/>
            <a:chExt cx="609480" cy="609480"/>
          </a:xfrm>
        </p:grpSpPr>
        <p:sp>
          <p:nvSpPr>
            <p:cNvPr id="128" name=""/>
            <p:cNvSpPr/>
            <p:nvPr/>
          </p:nvSpPr>
          <p:spPr>
            <a:xfrm>
              <a:off x="900000" y="1841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00000" y="1841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6ca2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39600" y="18810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3f6c16"/>
                </a:gs>
                <a:gs pos="50000">
                  <a:srgbClr val="76ca2a"/>
                </a:gs>
                <a:gs pos="100000">
                  <a:srgbClr val="3f6c1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39600" y="18828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76ca2a">
                    <a:alpha val="0"/>
                  </a:srgbClr>
                </a:gs>
                <a:gs pos="100000">
                  <a:srgbClr val="4a7f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68040" y="1908000"/>
              <a:ext cx="47628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75960" y="191592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82440" y="191916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87120" y="1922400"/>
              <a:ext cx="428760" cy="4204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10880" y="1935000"/>
              <a:ext cx="381240" cy="34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895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02276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987480" y="4976640"/>
            <a:ext cx="609480" cy="609480"/>
            <a:chOff x="987480" y="4976640"/>
            <a:chExt cx="609480" cy="609480"/>
          </a:xfrm>
        </p:grpSpPr>
        <p:grpSp>
          <p:nvGrpSpPr>
            <p:cNvPr id="140" name=""/>
            <p:cNvGrpSpPr/>
            <p:nvPr/>
          </p:nvGrpSpPr>
          <p:grpSpPr>
            <a:xfrm>
              <a:off x="987480" y="4976640"/>
              <a:ext cx="609480" cy="609480"/>
              <a:chOff x="987480" y="4976640"/>
              <a:chExt cx="609480" cy="609480"/>
            </a:xfrm>
          </p:grpSpPr>
          <p:sp>
            <p:nvSpPr>
              <p:cNvPr id="141" name=""/>
              <p:cNvSpPr/>
              <p:nvPr/>
            </p:nvSpPr>
            <p:spPr>
              <a:xfrm>
                <a:off x="1113120" y="50526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87480" y="497664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cc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87480" y="497664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76ca2a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27080" y="501624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3f6c16"/>
                  </a:gs>
                  <a:gs pos="50000">
                    <a:srgbClr val="76ca2a"/>
                  </a:gs>
                  <a:gs pos="100000">
                    <a:srgbClr val="3f6c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27080" y="501768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76ca2a">
                      <a:alpha val="0"/>
                    </a:srgbClr>
                  </a:gs>
                  <a:gs pos="100000">
                    <a:srgbClr val="4a7f1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055520" y="504324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63440" y="5051160"/>
                <a:ext cx="46224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69920" y="505440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074600" y="5057640"/>
                <a:ext cx="42876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098360" y="5070240"/>
                <a:ext cx="38124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108440" y="505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 txBox="1"/>
          <p:nvPr/>
        </p:nvSpPr>
        <p:spPr>
          <a:xfrm>
            <a:off x="2340000" y="692280"/>
            <a:ext cx="453708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Законодательная баз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3284640"/>
            <a:ext cx="70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№ 892 от 25.12.01 г. «О реализации ФЗ «О предупреждении распространения туберкулеза в РФ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3640" y="4867200"/>
            <a:ext cx="705816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каз МЗ  РФ № 109 от 21.03.03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О совершенствовании противотуберкулезных мероприятий в РФ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2411280" y="692280"/>
            <a:ext cx="424836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Методическое обеспечени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 rot="1090200">
            <a:off x="3564000" y="1916280"/>
            <a:ext cx="2519280" cy="25128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2952720" cy="410508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7020000" y="1413000"/>
            <a:ext cx="1911240" cy="264924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5940360" y="4005360"/>
            <a:ext cx="1870200" cy="266364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</p:spTree>
  </p:cSld>
  <p:transition spd="med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24000" y="1700280"/>
            <a:ext cx="4066920" cy="304956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pic>
        <p:nvPicPr>
          <p:cNvPr id="42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643280" y="3357720"/>
            <a:ext cx="4102200" cy="307800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sp>
        <p:nvSpPr>
          <p:cNvPr id="427" name=""/>
          <p:cNvSpPr txBox="1"/>
          <p:nvPr/>
        </p:nvSpPr>
        <p:spPr>
          <a:xfrm>
            <a:off x="2556000" y="692280"/>
            <a:ext cx="417672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Реализация мини-проект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2268360" y="5229360"/>
            <a:ext cx="525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Вручение свидетельств о прохождении курса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9640" y="1916280"/>
            <a:ext cx="3745080" cy="280188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sp>
        <p:nvSpPr>
          <p:cNvPr id="430" name=""/>
          <p:cNvSpPr txBox="1"/>
          <p:nvPr/>
        </p:nvSpPr>
        <p:spPr>
          <a:xfrm>
            <a:off x="2556000" y="692280"/>
            <a:ext cx="417672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Реализация мини-проект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716360" y="1916280"/>
            <a:ext cx="3743280" cy="280800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</p:spTree>
  </p:cSld>
  <p:transition spd="med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24000" y="1700280"/>
            <a:ext cx="4103640" cy="307656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sp>
        <p:nvSpPr>
          <p:cNvPr id="433" name=""/>
          <p:cNvSpPr txBox="1"/>
          <p:nvPr/>
        </p:nvSpPr>
        <p:spPr>
          <a:xfrm>
            <a:off x="2556000" y="692280"/>
            <a:ext cx="417672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Реализация мини-проект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716360" y="3141720"/>
            <a:ext cx="4103640" cy="307980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</p:spTree>
  </p:cSld>
  <p:transition spd="med"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 rot="20241600">
            <a:off x="1565280" y="2668320"/>
            <a:ext cx="6353280" cy="252720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3e3e3">
                  <a:alpha val="36078"/>
                </a:srgbClr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20056200">
            <a:off x="4721400" y="2526840"/>
            <a:ext cx="1112760" cy="317520"/>
          </a:xfrm>
          <a:prstGeom prst="ellipse">
            <a:avLst/>
          </a:prstGeom>
          <a:gradFill rotWithShape="0">
            <a:gsLst>
              <a:gs pos="0">
                <a:srgbClr val="84a5ca"/>
              </a:gs>
              <a:gs pos="100000">
                <a:srgbClr val="5f5f5f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20056200">
            <a:off x="7421400" y="2765160"/>
            <a:ext cx="1113120" cy="318960"/>
          </a:xfrm>
          <a:prstGeom prst="ellipse">
            <a:avLst/>
          </a:prstGeom>
          <a:gradFill rotWithShape="0">
            <a:gsLst>
              <a:gs pos="0">
                <a:srgbClr val="84a5ca"/>
              </a:gs>
              <a:gs pos="100000">
                <a:srgbClr val="5f5f5f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20056200">
            <a:off x="3211560" y="5466960"/>
            <a:ext cx="1112760" cy="317520"/>
          </a:xfrm>
          <a:prstGeom prst="ellipse">
            <a:avLst/>
          </a:prstGeom>
          <a:gradFill rotWithShape="0">
            <a:gsLst>
              <a:gs pos="0">
                <a:srgbClr val="84a5ca"/>
              </a:gs>
              <a:gs pos="100000">
                <a:srgbClr val="5f5f5f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20056200">
            <a:off x="5834160" y="4884840"/>
            <a:ext cx="1111320" cy="317520"/>
          </a:xfrm>
          <a:prstGeom prst="ellipse">
            <a:avLst/>
          </a:prstGeom>
          <a:gradFill rotWithShape="0">
            <a:gsLst>
              <a:gs pos="0">
                <a:srgbClr val="84a5ca"/>
              </a:gs>
              <a:gs pos="100000">
                <a:srgbClr val="5f5f5f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20056200">
            <a:off x="2338560" y="3957480"/>
            <a:ext cx="1110960" cy="317520"/>
          </a:xfrm>
          <a:prstGeom prst="ellipse">
            <a:avLst/>
          </a:prstGeom>
          <a:gradFill rotWithShape="0">
            <a:gsLst>
              <a:gs pos="0">
                <a:srgbClr val="84a5ca"/>
              </a:gs>
              <a:gs pos="100000">
                <a:srgbClr val="5f5f5f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097160" y="1892160"/>
            <a:ext cx="1192320" cy="1148040"/>
          </a:xfrm>
          <a:prstGeom prst="ellipse">
            <a:avLst/>
          </a:prstGeom>
          <a:gradFill rotWithShape="0">
            <a:gsLst>
              <a:gs pos="0">
                <a:srgbClr val="715ee6"/>
              </a:gs>
              <a:gs pos="100000">
                <a:srgbClr val="26204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766880" y="3265560"/>
            <a:ext cx="1190520" cy="1149120"/>
          </a:xfrm>
          <a:prstGeom prst="ellipse">
            <a:avLst/>
          </a:prstGeom>
          <a:gradFill rotWithShape="0">
            <a:gsLst>
              <a:gs pos="0">
                <a:srgbClr val="76ca2a"/>
              </a:gs>
              <a:gs pos="100000">
                <a:srgbClr val="243f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84440" y="4795920"/>
            <a:ext cx="1190520" cy="1147680"/>
          </a:xfrm>
          <a:prstGeom prst="ellipse">
            <a:avLst/>
          </a:prstGeom>
          <a:gradFill rotWithShape="0">
            <a:gsLst>
              <a:gs pos="0">
                <a:srgbClr val="40bad2"/>
              </a:gs>
              <a:gs pos="100000">
                <a:srgbClr val="16424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157720" y="4227480"/>
            <a:ext cx="1190520" cy="11476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4444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853320" y="2097000"/>
            <a:ext cx="1125360" cy="1150920"/>
          </a:xfrm>
          <a:prstGeom prst="ellipse">
            <a:avLst/>
          </a:prstGeom>
          <a:gradFill rotWithShape="0">
            <a:gsLst>
              <a:gs pos="0">
                <a:srgbClr val="238dd5"/>
              </a:gs>
              <a:gs pos="100000">
                <a:srgbClr val="0c304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25440" y="3448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498920" y="20415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230960" y="2290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10160" y="4437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982600" y="50324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203640" y="1341360"/>
            <a:ext cx="2808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Омская област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708360" y="3429000"/>
            <a:ext cx="2016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Всего участвовали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27 ЛПУ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08000" y="3357720"/>
            <a:ext cx="158436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МУЗ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Омской области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268360" y="2205000"/>
            <a:ext cx="172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ГУЗ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Омской области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258920" y="5805360"/>
            <a:ext cx="165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МУЗ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города Омска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5075280" y="5516640"/>
            <a:ext cx="165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Оразовательное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медицинское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учреждение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7596360" y="3357720"/>
            <a:ext cx="1368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Социальные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службы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556000" y="692280"/>
            <a:ext cx="417672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Реализация мини-проект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2052720" y="1413000"/>
            <a:ext cx="525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Стаж работы в ЛПУ участников проект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187280" y="1916280"/>
          <a:ext cx="7056720" cy="45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1916280"/>
                    <a:ext cx="705672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 txBox="1"/>
          <p:nvPr/>
        </p:nvSpPr>
        <p:spPr>
          <a:xfrm>
            <a:off x="2556000" y="692280"/>
            <a:ext cx="417672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Реализация мини-проект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1476360" y="1484280"/>
            <a:ext cx="648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Распределение участников проекта по службам ЛПУ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1187280" y="1916280"/>
          <a:ext cx="7056720" cy="45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1916280"/>
                    <a:ext cx="705672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 txBox="1"/>
          <p:nvPr/>
        </p:nvSpPr>
        <p:spPr>
          <a:xfrm>
            <a:off x="2556000" y="692280"/>
            <a:ext cx="417672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Реализация мини-проект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 rot="5400000">
            <a:off x="4105080" y="2384280"/>
            <a:ext cx="718920" cy="217440"/>
          </a:xfrm>
          <a:prstGeom prst="rightArrow">
            <a:avLst>
              <a:gd name="adj1" fmla="val 35167"/>
              <a:gd name="adj2" fmla="val 133889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124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474" name="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40bad2"/>
                </a:gs>
                <a:gs pos="100000">
                  <a:srgbClr val="308c9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de6ee"/>
                </a:gs>
                <a:gs pos="100000">
                  <a:srgbClr val="40bad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15ee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42b6a"/>
              </a:gs>
              <a:gs pos="100000">
                <a:srgbClr val="715ee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c327b"/>
              </a:gs>
              <a:gs pos="50000">
                <a:srgbClr val="715ee6"/>
              </a:gs>
              <a:gs pos="100000">
                <a:srgbClr val="3c327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15ee6">
                  <a:alpha val="0"/>
                </a:srgbClr>
              </a:gs>
              <a:gs pos="100000">
                <a:srgbClr val="473b9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956760" y="354348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373800" y="36291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6067440" y="3781440"/>
            <a:ext cx="360360" cy="360360"/>
            <a:chOff x="6067440" y="3781440"/>
            <a:chExt cx="360360" cy="360360"/>
          </a:xfrm>
        </p:grpSpPr>
        <p:sp>
          <p:nvSpPr>
            <p:cNvPr id="488" name=""/>
            <p:cNvSpPr/>
            <p:nvPr/>
          </p:nvSpPr>
          <p:spPr>
            <a:xfrm>
              <a:off x="6067440" y="3781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40bad2"/>
                </a:gs>
                <a:gs pos="100000">
                  <a:srgbClr val="308c9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83280" y="3811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de6ee"/>
                </a:gs>
                <a:gs pos="100000">
                  <a:srgbClr val="40bad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284720" y="1916280"/>
            <a:ext cx="360360" cy="360360"/>
            <a:chOff x="4284720" y="1916280"/>
            <a:chExt cx="360360" cy="360360"/>
          </a:xfrm>
        </p:grpSpPr>
        <p:sp>
          <p:nvSpPr>
            <p:cNvPr id="491" name=""/>
            <p:cNvSpPr/>
            <p:nvPr/>
          </p:nvSpPr>
          <p:spPr>
            <a:xfrm>
              <a:off x="4284720" y="1916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40bad2"/>
                </a:gs>
                <a:gs pos="100000">
                  <a:srgbClr val="308c9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00560" y="194616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de6ee"/>
                </a:gs>
                <a:gs pos="100000">
                  <a:srgbClr val="40bad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314440" y="3781440"/>
            <a:ext cx="360360" cy="360360"/>
            <a:chOff x="2314440" y="3781440"/>
            <a:chExt cx="360360" cy="360360"/>
          </a:xfrm>
        </p:grpSpPr>
        <p:sp>
          <p:nvSpPr>
            <p:cNvPr id="494" name=""/>
            <p:cNvSpPr/>
            <p:nvPr/>
          </p:nvSpPr>
          <p:spPr>
            <a:xfrm>
              <a:off x="2314440" y="3781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40bad2"/>
                </a:gs>
                <a:gs pos="100000">
                  <a:srgbClr val="308c9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30280" y="3811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de6ee"/>
                </a:gs>
                <a:gs pos="100000">
                  <a:srgbClr val="40bad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124080" y="5276880"/>
            <a:ext cx="360360" cy="360360"/>
            <a:chOff x="3124080" y="5276880"/>
            <a:chExt cx="360360" cy="360360"/>
          </a:xfrm>
        </p:grpSpPr>
        <p:sp>
          <p:nvSpPr>
            <p:cNvPr id="497" name=""/>
            <p:cNvSpPr/>
            <p:nvPr/>
          </p:nvSpPr>
          <p:spPr>
            <a:xfrm>
              <a:off x="3124080" y="52768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40bad2"/>
                </a:gs>
                <a:gs pos="100000">
                  <a:srgbClr val="308c9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39920" y="530676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de6ee"/>
                </a:gs>
                <a:gs pos="100000">
                  <a:srgbClr val="40bad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 txBox="1"/>
          <p:nvPr/>
        </p:nvSpPr>
        <p:spPr>
          <a:xfrm>
            <a:off x="1403280" y="1341360"/>
            <a:ext cx="648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Распределение участников мини-проектов по должностям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5291280" y="1844640"/>
            <a:ext cx="2520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Общелечебная сеть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7164360" y="3573360"/>
            <a:ext cx="144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Участковые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медицинские 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сестры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65440" y="56451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6300720" y="5589720"/>
            <a:ext cx="14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Палатные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медицинские 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сестры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57440" y="5661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971640" y="5589720"/>
            <a:ext cx="143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Медицинские 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сестры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поликлиник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93800" y="36417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250920" y="3141720"/>
            <a:ext cx="158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Старшие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медицинские 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сестры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2556000" y="692280"/>
            <a:ext cx="417672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Реализация мини-проект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rot="5400000">
            <a:off x="4105080" y="2384280"/>
            <a:ext cx="718920" cy="217440"/>
          </a:xfrm>
          <a:prstGeom prst="rightArrow">
            <a:avLst>
              <a:gd name="adj1" fmla="val 35167"/>
              <a:gd name="adj2" fmla="val 133889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124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15ee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42b6a"/>
              </a:gs>
              <a:gs pos="100000">
                <a:srgbClr val="715ee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c327b"/>
              </a:gs>
              <a:gs pos="50000">
                <a:srgbClr val="715ee6"/>
              </a:gs>
              <a:gs pos="100000">
                <a:srgbClr val="3c327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15ee6">
                  <a:alpha val="0"/>
                </a:srgbClr>
              </a:gs>
              <a:gs pos="100000">
                <a:srgbClr val="473b9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56760" y="354348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373800" y="36291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067440" y="3781440"/>
            <a:ext cx="360360" cy="360360"/>
            <a:chOff x="6067440" y="3781440"/>
            <a:chExt cx="360360" cy="360360"/>
          </a:xfrm>
        </p:grpSpPr>
        <p:sp>
          <p:nvSpPr>
            <p:cNvPr id="525" name=""/>
            <p:cNvSpPr/>
            <p:nvPr/>
          </p:nvSpPr>
          <p:spPr>
            <a:xfrm>
              <a:off x="6067440" y="3781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40bad2"/>
                </a:gs>
                <a:gs pos="100000">
                  <a:srgbClr val="308c9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083280" y="3811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de6ee"/>
                </a:gs>
                <a:gs pos="100000">
                  <a:srgbClr val="40bad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4284720" y="1916280"/>
            <a:ext cx="360360" cy="360360"/>
            <a:chOff x="4284720" y="1916280"/>
            <a:chExt cx="360360" cy="360360"/>
          </a:xfrm>
        </p:grpSpPr>
        <p:sp>
          <p:nvSpPr>
            <p:cNvPr id="528" name=""/>
            <p:cNvSpPr/>
            <p:nvPr/>
          </p:nvSpPr>
          <p:spPr>
            <a:xfrm>
              <a:off x="4284720" y="1916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40bad2"/>
                </a:gs>
                <a:gs pos="100000">
                  <a:srgbClr val="308c9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00560" y="194616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de6ee"/>
                </a:gs>
                <a:gs pos="100000">
                  <a:srgbClr val="40bad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314440" y="3781440"/>
            <a:ext cx="360360" cy="360360"/>
            <a:chOff x="2314440" y="3781440"/>
            <a:chExt cx="360360" cy="360360"/>
          </a:xfrm>
        </p:grpSpPr>
        <p:sp>
          <p:nvSpPr>
            <p:cNvPr id="531" name=""/>
            <p:cNvSpPr/>
            <p:nvPr/>
          </p:nvSpPr>
          <p:spPr>
            <a:xfrm>
              <a:off x="2314440" y="3781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40bad2"/>
                </a:gs>
                <a:gs pos="100000">
                  <a:srgbClr val="308c9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330280" y="3811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de6ee"/>
                </a:gs>
                <a:gs pos="100000">
                  <a:srgbClr val="40bad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 txBox="1"/>
          <p:nvPr/>
        </p:nvSpPr>
        <p:spPr>
          <a:xfrm>
            <a:off x="1403280" y="1341360"/>
            <a:ext cx="648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Распределение участников мини-проектов по должностям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5148360" y="1844640"/>
            <a:ext cx="266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Фтизиатрическая служба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020000" y="3573360"/>
            <a:ext cx="143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Участковые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медицинские 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сестры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68720" y="59500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79280" y="3573360"/>
            <a:ext cx="144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Палатные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медицинские 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сестры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481040" y="36417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2700360" y="5950080"/>
            <a:ext cx="12952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Медицинские 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сестры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4105080" y="5048280"/>
            <a:ext cx="719280" cy="217440"/>
          </a:xfrm>
          <a:prstGeom prst="rightArrow">
            <a:avLst>
              <a:gd name="adj1" fmla="val 35167"/>
              <a:gd name="adj2" fmla="val 133956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4284720" y="5589720"/>
            <a:ext cx="360360" cy="360360"/>
            <a:chOff x="4284720" y="5589720"/>
            <a:chExt cx="360360" cy="360360"/>
          </a:xfrm>
        </p:grpSpPr>
        <p:sp>
          <p:nvSpPr>
            <p:cNvPr id="542" name=""/>
            <p:cNvSpPr/>
            <p:nvPr/>
          </p:nvSpPr>
          <p:spPr>
            <a:xfrm>
              <a:off x="4284720" y="5589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40bad2"/>
                </a:gs>
                <a:gs pos="100000">
                  <a:srgbClr val="308c9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300560" y="56196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de6ee"/>
                </a:gs>
                <a:gs pos="100000">
                  <a:srgbClr val="40bad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 txBox="1"/>
          <p:nvPr/>
        </p:nvSpPr>
        <p:spPr>
          <a:xfrm>
            <a:off x="4932360" y="5950080"/>
            <a:ext cx="1440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детских отделений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и поликлиник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2556000" y="692280"/>
            <a:ext cx="417672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Реализация мини-проект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 rot="5400000">
            <a:off x="4105080" y="2384280"/>
            <a:ext cx="718920" cy="217440"/>
          </a:xfrm>
          <a:prstGeom prst="rightArrow">
            <a:avLst>
              <a:gd name="adj1" fmla="val 35167"/>
              <a:gd name="adj2" fmla="val 133889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124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553" name="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40bad2"/>
                </a:gs>
                <a:gs pos="100000">
                  <a:srgbClr val="308c9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de6ee"/>
                </a:gs>
                <a:gs pos="100000">
                  <a:srgbClr val="40bad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15ee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42b6a"/>
              </a:gs>
              <a:gs pos="100000">
                <a:srgbClr val="715ee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c327b"/>
              </a:gs>
              <a:gs pos="50000">
                <a:srgbClr val="715ee6"/>
              </a:gs>
              <a:gs pos="100000">
                <a:srgbClr val="3c327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15ee6">
                  <a:alpha val="0"/>
                </a:srgbClr>
              </a:gs>
              <a:gs pos="100000">
                <a:srgbClr val="473b9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084200" y="35434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067440" y="3781440"/>
            <a:ext cx="360360" cy="360360"/>
            <a:chOff x="6067440" y="3781440"/>
            <a:chExt cx="360360" cy="360360"/>
          </a:xfrm>
        </p:grpSpPr>
        <p:sp>
          <p:nvSpPr>
            <p:cNvPr id="566" name=""/>
            <p:cNvSpPr/>
            <p:nvPr/>
          </p:nvSpPr>
          <p:spPr>
            <a:xfrm>
              <a:off x="6067440" y="3781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40bad2"/>
                </a:gs>
                <a:gs pos="100000">
                  <a:srgbClr val="308c9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083280" y="3811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de6ee"/>
                </a:gs>
                <a:gs pos="100000">
                  <a:srgbClr val="40bad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4284720" y="1916280"/>
            <a:ext cx="360360" cy="360360"/>
            <a:chOff x="4284720" y="1916280"/>
            <a:chExt cx="360360" cy="360360"/>
          </a:xfrm>
        </p:grpSpPr>
        <p:sp>
          <p:nvSpPr>
            <p:cNvPr id="569" name=""/>
            <p:cNvSpPr/>
            <p:nvPr/>
          </p:nvSpPr>
          <p:spPr>
            <a:xfrm>
              <a:off x="4284720" y="1916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40bad2"/>
                </a:gs>
                <a:gs pos="100000">
                  <a:srgbClr val="308c9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300560" y="194616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de6ee"/>
                </a:gs>
                <a:gs pos="100000">
                  <a:srgbClr val="40bad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314440" y="3781440"/>
            <a:ext cx="360360" cy="360360"/>
            <a:chOff x="2314440" y="3781440"/>
            <a:chExt cx="360360" cy="360360"/>
          </a:xfrm>
        </p:grpSpPr>
        <p:sp>
          <p:nvSpPr>
            <p:cNvPr id="572" name=""/>
            <p:cNvSpPr/>
            <p:nvPr/>
          </p:nvSpPr>
          <p:spPr>
            <a:xfrm>
              <a:off x="2314440" y="3781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40bad2"/>
                </a:gs>
                <a:gs pos="100000">
                  <a:srgbClr val="308c9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330280" y="3811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de6ee"/>
                </a:gs>
                <a:gs pos="100000">
                  <a:srgbClr val="40bad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3124080" y="5276880"/>
            <a:ext cx="360360" cy="360360"/>
            <a:chOff x="3124080" y="5276880"/>
            <a:chExt cx="360360" cy="360360"/>
          </a:xfrm>
        </p:grpSpPr>
        <p:sp>
          <p:nvSpPr>
            <p:cNvPr id="575" name=""/>
            <p:cNvSpPr/>
            <p:nvPr/>
          </p:nvSpPr>
          <p:spPr>
            <a:xfrm>
              <a:off x="3124080" y="52768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40bad2"/>
                </a:gs>
                <a:gs pos="100000">
                  <a:srgbClr val="308c9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139920" y="530676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de6ee"/>
                </a:gs>
                <a:gs pos="100000">
                  <a:srgbClr val="40bad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 txBox="1"/>
          <p:nvPr/>
        </p:nvSpPr>
        <p:spPr>
          <a:xfrm>
            <a:off x="1403280" y="1341360"/>
            <a:ext cx="648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Распределение участников мини-проектов по должностям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5291280" y="1844640"/>
            <a:ext cx="23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Социальная служба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516720" y="3500280"/>
            <a:ext cx="1871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Нежинский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геронтологический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центр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508720" y="5516640"/>
            <a:ext cx="144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Тарский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дом-интернат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476360" y="5589720"/>
            <a:ext cx="144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Марьяновский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дом-интернат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11280" y="3645000"/>
            <a:ext cx="144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Калачинский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дом-интернат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2556000" y="692280"/>
            <a:ext cx="417672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Реализация мини-проект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346720"/>
            <a:ext cx="9144000" cy="169920"/>
          </a:xfrm>
          <a:prstGeom prst="rect">
            <a:avLst/>
          </a:prstGeom>
          <a:solidFill>
            <a:srgbClr val="76c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-2406240" y="2086560"/>
            <a:ext cx="4824360" cy="380340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76ca2a"/>
              </a:gs>
              <a:gs pos="50000">
                <a:srgbClr val="ffffff"/>
              </a:gs>
              <a:gs pos="100000">
                <a:srgbClr val="76ca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38360" y="3681360"/>
            <a:ext cx="482400" cy="480960"/>
          </a:xfrm>
          <a:prstGeom prst="ellipse">
            <a:avLst/>
          </a:prstGeom>
          <a:gradFill rotWithShape="0">
            <a:gsLst>
              <a:gs pos="0">
                <a:srgbClr val="40bad2"/>
              </a:gs>
              <a:gs pos="100000">
                <a:srgbClr val="102f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08080" y="3573360"/>
            <a:ext cx="4640400" cy="673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100000">
                <a:srgbClr val="40ba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17560" y="3745080"/>
            <a:ext cx="335160" cy="334800"/>
          </a:xfrm>
          <a:prstGeom prst="ellipse">
            <a:avLst/>
          </a:prstGeom>
          <a:gradFill rotWithShape="0">
            <a:gsLst>
              <a:gs pos="0">
                <a:srgbClr val="715ee6"/>
              </a:gs>
              <a:gs pos="100000">
                <a:srgbClr val="19143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1244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24040" y="3732120"/>
            <a:ext cx="241200" cy="243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e9940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463760" y="2801880"/>
            <a:ext cx="5009760" cy="507960"/>
            <a:chOff x="1463760" y="2801880"/>
            <a:chExt cx="5009760" cy="507960"/>
          </a:xfrm>
        </p:grpSpPr>
        <p:sp>
          <p:nvSpPr>
            <p:cNvPr id="163" name=""/>
            <p:cNvSpPr/>
            <p:nvPr/>
          </p:nvSpPr>
          <p:spPr>
            <a:xfrm>
              <a:off x="1463760" y="2817720"/>
              <a:ext cx="482400" cy="480960"/>
            </a:xfrm>
            <a:prstGeom prst="ellipse">
              <a:avLst/>
            </a:prstGeom>
            <a:gradFill rotWithShape="0">
              <a:gsLst>
                <a:gs pos="0">
                  <a:srgbClr val="76ca2a"/>
                </a:gs>
                <a:gs pos="100000">
                  <a:srgbClr val="365d1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33480" y="2801880"/>
              <a:ext cx="4640040" cy="507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76ca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42960" y="2887560"/>
            <a:ext cx="335160" cy="335160"/>
          </a:xfrm>
          <a:prstGeom prst="ellipse">
            <a:avLst/>
          </a:prstGeom>
          <a:gradFill rotWithShape="0">
            <a:gsLst>
              <a:gs pos="0">
                <a:srgbClr val="40bad2"/>
              </a:gs>
              <a:gs pos="100000">
                <a:srgbClr val="246a7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1244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65280" y="2874960"/>
            <a:ext cx="241200" cy="243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e9940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042920" y="2030400"/>
            <a:ext cx="5009760" cy="507960"/>
            <a:chOff x="1042920" y="2030400"/>
            <a:chExt cx="5009760" cy="507960"/>
          </a:xfrm>
        </p:grpSpPr>
        <p:grpSp>
          <p:nvGrpSpPr>
            <p:cNvPr id="168" name=""/>
            <p:cNvGrpSpPr/>
            <p:nvPr/>
          </p:nvGrpSpPr>
          <p:grpSpPr>
            <a:xfrm>
              <a:off x="1042920" y="2030400"/>
              <a:ext cx="5009760" cy="507960"/>
              <a:chOff x="1042920" y="2030400"/>
              <a:chExt cx="5009760" cy="507960"/>
            </a:xfrm>
          </p:grpSpPr>
          <p:sp>
            <p:nvSpPr>
              <p:cNvPr id="169" name=""/>
              <p:cNvSpPr/>
              <p:nvPr/>
            </p:nvSpPr>
            <p:spPr>
              <a:xfrm>
                <a:off x="1042920" y="2046240"/>
                <a:ext cx="482400" cy="480960"/>
              </a:xfrm>
              <a:prstGeom prst="ellipse">
                <a:avLst/>
              </a:prstGeom>
              <a:gradFill rotWithShape="0">
                <a:gsLst>
                  <a:gs pos="0">
                    <a:srgbClr val="40bad2"/>
                  </a:gs>
                  <a:gs pos="100000">
                    <a:srgbClr val="102f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12640" y="2030400"/>
                <a:ext cx="464004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40bad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1122480" y="2109600"/>
              <a:ext cx="334800" cy="334440"/>
            </a:xfrm>
            <a:prstGeom prst="ellipse">
              <a:avLst/>
            </a:prstGeom>
            <a:gradFill rotWithShape="0">
              <a:gsLst>
                <a:gs pos="0">
                  <a:srgbClr val="715ee6"/>
                </a:gs>
                <a:gs pos="100000">
                  <a:srgbClr val="19143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2445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28600" y="2097000"/>
              <a:ext cx="241200" cy="242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463760" y="2060640"/>
            <a:ext cx="78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является 8,9 млн. новых случаев заболева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281952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ее 2 млн. человек умирают от туберкул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24000" y="35733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ется туберкулез с множественной лекарственной устойчивостью у 400 тыс. паци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627280" y="692280"/>
            <a:ext cx="381636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Информация ВОЗ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52720" y="1557360"/>
            <a:ext cx="1440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Ежегодно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5445000"/>
            <a:ext cx="914400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1258920" y="1413000"/>
            <a:ext cx="7489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Распределение участников мини-проектов по квалификационным категориям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1000080" y="1916280"/>
          <a:ext cx="7459560" cy="45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1916280"/>
                    <a:ext cx="7459560" cy="45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"/>
          <p:cNvSpPr txBox="1"/>
          <p:nvPr/>
        </p:nvSpPr>
        <p:spPr>
          <a:xfrm>
            <a:off x="2556000" y="692280"/>
            <a:ext cx="417672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Реализация мини-проект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1118520" y="1462680"/>
            <a:ext cx="6879600" cy="4804560"/>
            <a:chOff x="1118520" y="1462680"/>
            <a:chExt cx="6879600" cy="4804560"/>
          </a:xfrm>
        </p:grpSpPr>
        <p:sp>
          <p:nvSpPr>
            <p:cNvPr id="589" name=""/>
            <p:cNvSpPr/>
            <p:nvPr/>
          </p:nvSpPr>
          <p:spPr>
            <a:xfrm>
              <a:off x="2185920" y="460224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50196"/>
                  </a:srgbClr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20601600">
              <a:off x="1460520" y="248868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20601600">
              <a:off x="1517400" y="2327040"/>
              <a:ext cx="5562360" cy="2922480"/>
            </a:xfrm>
            <a:prstGeom prst="ellipse">
              <a:avLst/>
            </a:prstGeom>
            <a:solidFill>
              <a:srgbClr val="238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20601600">
              <a:off x="1431720" y="231300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238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rot="20602200">
              <a:off x="1409760" y="2344320"/>
              <a:ext cx="5752440" cy="288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solidFill>
              <a:srgbClr val="238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20601600">
              <a:off x="1441440" y="232416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solidFill>
              <a:srgbClr val="238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rot="20602200">
              <a:off x="1423800" y="233172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solidFill>
              <a:srgbClr val="238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20601600">
              <a:off x="2978280" y="304164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244600" y="304812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32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491000" y="234936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67520" y="28065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00720" y="334008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20539200">
              <a:off x="1436040" y="234252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600440" y="382104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826240" y="358128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17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414680" y="45594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09920" y="4406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0601600">
              <a:off x="3079800" y="329400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776840" y="4216320"/>
              <a:ext cx="1282680" cy="102888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 txBox="1"/>
          <p:nvPr/>
        </p:nvSpPr>
        <p:spPr>
          <a:xfrm>
            <a:off x="1258920" y="1484280"/>
            <a:ext cx="720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Владение навыками работы с персональным компьютером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11280" y="2492280"/>
            <a:ext cx="1439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Не владеют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навыками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7308720" y="4508640"/>
            <a:ext cx="1440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Владеют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навыками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556000" y="692280"/>
            <a:ext cx="417672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Реализация мини-проект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2556000" y="692280"/>
            <a:ext cx="417672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Реализация мини-проект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178160" cy="313200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4176720" cy="313200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</p:spTree>
  </p:cSld>
  <p:transition spd="med">
    <p:strips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2556000" y="692280"/>
            <a:ext cx="417672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Реализация мини-проект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4064040" cy="304776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033800" cy="302436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</p:spTree>
  </p:cSld>
  <p:transition spd="med">
    <p:strips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2916360" y="6308640"/>
            <a:ext cx="36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Анкетирование участников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1547640" y="1339920"/>
            <a:ext cx="6337440" cy="475308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sp>
        <p:nvSpPr>
          <p:cNvPr id="620" name=""/>
          <p:cNvSpPr txBox="1"/>
          <p:nvPr/>
        </p:nvSpPr>
        <p:spPr>
          <a:xfrm>
            <a:off x="2556000" y="692280"/>
            <a:ext cx="417672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Реализация мини-проект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2124000" y="692280"/>
            <a:ext cx="511200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Участие в международном конкурс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395280" y="1946160"/>
            <a:ext cx="3038400" cy="349884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3708360" y="1916280"/>
            <a:ext cx="4824360" cy="361944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sp>
        <p:nvSpPr>
          <p:cNvPr id="624" name=""/>
          <p:cNvSpPr txBox="1"/>
          <p:nvPr/>
        </p:nvSpPr>
        <p:spPr>
          <a:xfrm>
            <a:off x="684360" y="5589720"/>
            <a:ext cx="2735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Гирфанова Е.П.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"/>
          <p:cNvGrpSpPr/>
          <p:nvPr/>
        </p:nvGrpSpPr>
        <p:grpSpPr>
          <a:xfrm>
            <a:off x="990720" y="5462640"/>
            <a:ext cx="609480" cy="609480"/>
            <a:chOff x="990720" y="5462640"/>
            <a:chExt cx="609480" cy="609480"/>
          </a:xfrm>
        </p:grpSpPr>
        <p:sp>
          <p:nvSpPr>
            <p:cNvPr id="626" name=""/>
            <p:cNvSpPr/>
            <p:nvPr/>
          </p:nvSpPr>
          <p:spPr>
            <a:xfrm>
              <a:off x="990720" y="546264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0bad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990720" y="546264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0bad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030320" y="5502240"/>
              <a:ext cx="529560" cy="530280"/>
            </a:xfrm>
            <a:prstGeom prst="ellipse">
              <a:avLst/>
            </a:prstGeom>
            <a:gradFill rotWithShape="0">
              <a:gsLst>
                <a:gs pos="0">
                  <a:srgbClr val="226471"/>
                </a:gs>
                <a:gs pos="50000">
                  <a:srgbClr val="40bad2"/>
                </a:gs>
                <a:gs pos="100000">
                  <a:srgbClr val="2264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69920" y="5541840"/>
              <a:ext cx="529920" cy="530280"/>
            </a:xfrm>
            <a:prstGeom prst="ellipse">
              <a:avLst/>
            </a:prstGeom>
            <a:gradFill rotWithShape="0">
              <a:gsLst>
                <a:gs pos="0">
                  <a:srgbClr val="40bad2">
                    <a:alpha val="0"/>
                  </a:srgbClr>
                </a:gs>
                <a:gs pos="100000">
                  <a:srgbClr val="2875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58760" y="5529240"/>
              <a:ext cx="47592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066680" y="5537160"/>
              <a:ext cx="461520" cy="46188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073160" y="5540400"/>
              <a:ext cx="44892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077840" y="5543640"/>
              <a:ext cx="428040" cy="4204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101600" y="5556240"/>
              <a:ext cx="380520" cy="34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971640" y="2924280"/>
            <a:ext cx="609480" cy="609480"/>
            <a:chOff x="971640" y="2924280"/>
            <a:chExt cx="609480" cy="609480"/>
          </a:xfrm>
        </p:grpSpPr>
        <p:sp>
          <p:nvSpPr>
            <p:cNvPr id="636" name=""/>
            <p:cNvSpPr/>
            <p:nvPr/>
          </p:nvSpPr>
          <p:spPr>
            <a:xfrm>
              <a:off x="971640" y="292428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0bad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971640" y="292428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0bad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011240" y="2963880"/>
              <a:ext cx="529560" cy="530280"/>
            </a:xfrm>
            <a:prstGeom prst="ellipse">
              <a:avLst/>
            </a:prstGeom>
            <a:gradFill rotWithShape="0">
              <a:gsLst>
                <a:gs pos="0">
                  <a:srgbClr val="226471"/>
                </a:gs>
                <a:gs pos="50000">
                  <a:srgbClr val="40bad2"/>
                </a:gs>
                <a:gs pos="100000">
                  <a:srgbClr val="2264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050840" y="3003480"/>
              <a:ext cx="529920" cy="530280"/>
            </a:xfrm>
            <a:prstGeom prst="ellipse">
              <a:avLst/>
            </a:prstGeom>
            <a:gradFill rotWithShape="0">
              <a:gsLst>
                <a:gs pos="0">
                  <a:srgbClr val="40bad2">
                    <a:alpha val="0"/>
                  </a:srgbClr>
                </a:gs>
                <a:gs pos="100000">
                  <a:srgbClr val="2875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39680" y="2990880"/>
              <a:ext cx="47592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47600" y="2998800"/>
              <a:ext cx="461520" cy="46188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54080" y="3002040"/>
              <a:ext cx="44892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58760" y="3005280"/>
              <a:ext cx="428040" cy="4204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82520" y="3017880"/>
              <a:ext cx="380520" cy="34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1859040" y="2708280"/>
            <a:ext cx="6026040" cy="3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763640" y="1700280"/>
            <a:ext cx="70563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олжить обучение по каскадному принципу сестринского персонала в ЛПУ по вопросам туберкулез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859040" y="3976560"/>
            <a:ext cx="6026040" cy="25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1859040" y="5081760"/>
            <a:ext cx="6026040" cy="2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1859040" y="6254640"/>
            <a:ext cx="6026040" cy="54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971640" y="1773360"/>
            <a:ext cx="609480" cy="609480"/>
            <a:chOff x="971640" y="1773360"/>
            <a:chExt cx="609480" cy="609480"/>
          </a:xfrm>
        </p:grpSpPr>
        <p:sp>
          <p:nvSpPr>
            <p:cNvPr id="651" name=""/>
            <p:cNvSpPr/>
            <p:nvPr/>
          </p:nvSpPr>
          <p:spPr>
            <a:xfrm>
              <a:off x="971640" y="177336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971640" y="177336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6ca2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11240" y="181296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3f6c16"/>
                </a:gs>
                <a:gs pos="50000">
                  <a:srgbClr val="76ca2a"/>
                </a:gs>
                <a:gs pos="100000">
                  <a:srgbClr val="3f6c1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11240" y="181476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76ca2a">
                    <a:alpha val="0"/>
                  </a:srgbClr>
                </a:gs>
                <a:gs pos="100000">
                  <a:srgbClr val="4a7f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39680" y="1839960"/>
              <a:ext cx="47628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047600" y="184788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054080" y="185112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58760" y="1854360"/>
              <a:ext cx="428760" cy="4204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082520" y="1866960"/>
              <a:ext cx="381240" cy="34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94040" y="1827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094040" y="300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122840" y="552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987480" y="4246560"/>
            <a:ext cx="609480" cy="609480"/>
            <a:chOff x="987480" y="4246560"/>
            <a:chExt cx="609480" cy="609480"/>
          </a:xfrm>
        </p:grpSpPr>
        <p:grpSp>
          <p:nvGrpSpPr>
            <p:cNvPr id="664" name=""/>
            <p:cNvGrpSpPr/>
            <p:nvPr/>
          </p:nvGrpSpPr>
          <p:grpSpPr>
            <a:xfrm>
              <a:off x="987480" y="4246560"/>
              <a:ext cx="609480" cy="609480"/>
              <a:chOff x="987480" y="4246560"/>
              <a:chExt cx="609480" cy="609480"/>
            </a:xfrm>
          </p:grpSpPr>
          <p:sp>
            <p:nvSpPr>
              <p:cNvPr id="665" name=""/>
              <p:cNvSpPr/>
              <p:nvPr/>
            </p:nvSpPr>
            <p:spPr>
              <a:xfrm>
                <a:off x="1113120" y="43225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987480" y="424656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cc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987480" y="424656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76ca2a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027080" y="42861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3f6c16"/>
                  </a:gs>
                  <a:gs pos="50000">
                    <a:srgbClr val="76ca2a"/>
                  </a:gs>
                  <a:gs pos="100000">
                    <a:srgbClr val="3f6c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27080" y="42876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76ca2a">
                      <a:alpha val="0"/>
                    </a:srgbClr>
                  </a:gs>
                  <a:gs pos="100000">
                    <a:srgbClr val="4a7f1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055520" y="431316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063440" y="4321080"/>
                <a:ext cx="46224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069920" y="432432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074600" y="4327560"/>
                <a:ext cx="42876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098360" y="4340160"/>
                <a:ext cx="38124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1108440" y="4322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1763640" y="2936880"/>
            <a:ext cx="738036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шить вопрос о введении в ГОУОО «ЦПК РЗ» тематического усовершенствования «Профилактика, диагностика и лечение туберкулез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763640" y="4314960"/>
            <a:ext cx="69120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стематически проводить санитарно-просветительную работу с населением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763640" y="5535720"/>
            <a:ext cx="69120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нимать активное участие в территориальных программах по борьбе с туберкулезом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3564000" y="620640"/>
            <a:ext cx="2016000" cy="43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Задачи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"/>
          <p:cNvGrpSpPr/>
          <p:nvPr/>
        </p:nvGrpSpPr>
        <p:grpSpPr>
          <a:xfrm>
            <a:off x="971640" y="3030480"/>
            <a:ext cx="609480" cy="609480"/>
            <a:chOff x="971640" y="3030480"/>
            <a:chExt cx="609480" cy="609480"/>
          </a:xfrm>
        </p:grpSpPr>
        <p:sp>
          <p:nvSpPr>
            <p:cNvPr id="681" name=""/>
            <p:cNvSpPr/>
            <p:nvPr/>
          </p:nvSpPr>
          <p:spPr>
            <a:xfrm>
              <a:off x="971640" y="303048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0bad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71640" y="303048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0bad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011240" y="3070080"/>
              <a:ext cx="529560" cy="530280"/>
            </a:xfrm>
            <a:prstGeom prst="ellipse">
              <a:avLst/>
            </a:prstGeom>
            <a:gradFill rotWithShape="0">
              <a:gsLst>
                <a:gs pos="0">
                  <a:srgbClr val="226471"/>
                </a:gs>
                <a:gs pos="50000">
                  <a:srgbClr val="40bad2"/>
                </a:gs>
                <a:gs pos="100000">
                  <a:srgbClr val="2264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050840" y="3109680"/>
              <a:ext cx="529920" cy="530280"/>
            </a:xfrm>
            <a:prstGeom prst="ellipse">
              <a:avLst/>
            </a:prstGeom>
            <a:gradFill rotWithShape="0">
              <a:gsLst>
                <a:gs pos="0">
                  <a:srgbClr val="40bad2">
                    <a:alpha val="0"/>
                  </a:srgbClr>
                </a:gs>
                <a:gs pos="100000">
                  <a:srgbClr val="2875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039680" y="3097080"/>
              <a:ext cx="47592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47600" y="3105000"/>
              <a:ext cx="461520" cy="46188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054080" y="3108240"/>
              <a:ext cx="44892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58760" y="3111480"/>
              <a:ext cx="428040" cy="4204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82520" y="3124080"/>
              <a:ext cx="380520" cy="34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1859040" y="2708280"/>
            <a:ext cx="6026040" cy="3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859040" y="4076640"/>
            <a:ext cx="6026040" cy="25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1859040" y="5370120"/>
            <a:ext cx="6026040" cy="3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971640" y="1870200"/>
            <a:ext cx="609480" cy="609480"/>
            <a:chOff x="971640" y="1870200"/>
            <a:chExt cx="609480" cy="609480"/>
          </a:xfrm>
        </p:grpSpPr>
        <p:sp>
          <p:nvSpPr>
            <p:cNvPr id="694" name=""/>
            <p:cNvSpPr/>
            <p:nvPr/>
          </p:nvSpPr>
          <p:spPr>
            <a:xfrm>
              <a:off x="971640" y="18702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71640" y="18702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6ca2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11240" y="19098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3f6c16"/>
                </a:gs>
                <a:gs pos="50000">
                  <a:srgbClr val="76ca2a"/>
                </a:gs>
                <a:gs pos="100000">
                  <a:srgbClr val="3f6c1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11240" y="19116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76ca2a">
                    <a:alpha val="0"/>
                  </a:srgbClr>
                </a:gs>
                <a:gs pos="100000">
                  <a:srgbClr val="4a7f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039680" y="1936800"/>
              <a:ext cx="47628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47600" y="194472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54080" y="194796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58760" y="1951200"/>
              <a:ext cx="428760" cy="4204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82520" y="1963800"/>
              <a:ext cx="381240" cy="34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9404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1094040" y="3108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987480" y="4394160"/>
            <a:ext cx="609480" cy="609480"/>
            <a:chOff x="987480" y="4394160"/>
            <a:chExt cx="609480" cy="609480"/>
          </a:xfrm>
        </p:grpSpPr>
        <p:grpSp>
          <p:nvGrpSpPr>
            <p:cNvPr id="706" name=""/>
            <p:cNvGrpSpPr/>
            <p:nvPr/>
          </p:nvGrpSpPr>
          <p:grpSpPr>
            <a:xfrm>
              <a:off x="987480" y="4394160"/>
              <a:ext cx="609480" cy="609480"/>
              <a:chOff x="987480" y="4394160"/>
              <a:chExt cx="609480" cy="609480"/>
            </a:xfrm>
          </p:grpSpPr>
          <p:sp>
            <p:nvSpPr>
              <p:cNvPr id="707" name=""/>
              <p:cNvSpPr/>
              <p:nvPr/>
            </p:nvSpPr>
            <p:spPr>
              <a:xfrm>
                <a:off x="1113120" y="44701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987480" y="439416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cc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987480" y="439416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76ca2a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027080" y="44337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3f6c16"/>
                  </a:gs>
                  <a:gs pos="50000">
                    <a:srgbClr val="76ca2a"/>
                  </a:gs>
                  <a:gs pos="100000">
                    <a:srgbClr val="3f6c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027080" y="44352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76ca2a">
                      <a:alpha val="0"/>
                    </a:srgbClr>
                  </a:gs>
                  <a:gs pos="100000">
                    <a:srgbClr val="4a7f1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55520" y="446076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063440" y="4468680"/>
                <a:ext cx="46224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069920" y="447192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074600" y="4475160"/>
                <a:ext cx="42876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098360" y="4487760"/>
                <a:ext cx="38124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7" name=""/>
            <p:cNvSpPr/>
            <p:nvPr/>
          </p:nvSpPr>
          <p:spPr>
            <a:xfrm>
              <a:off x="1108440" y="4470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1763640" y="1870200"/>
            <a:ext cx="66960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лучшить проведение профилактических медицинских осмотров населени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763640" y="2936880"/>
            <a:ext cx="738036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еспечить 100% своевременное профилактическое обследование сотрудников учреждений г. Омска и Омской области на туберкулез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835280" y="4405320"/>
            <a:ext cx="633708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ганизовать в ЛПУ «Школы по реабилитации пациентов страдающих туберкулезом» с участием сестринского персона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564000" y="620640"/>
            <a:ext cx="2016000" cy="43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Задачи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2482920" y="119700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Выражаем благодарность</a:t>
            </a:r>
            <a:endParaRPr b="0" lang="en-US" sz="5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1979640" y="1916280"/>
            <a:ext cx="662472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Международному совету медицинских сестер в лице Уты Гроссе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979640" y="2349360"/>
            <a:ext cx="662472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Министерству здравоохранения Омской области в лице С.В. Моисеенко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643280" y="2781360"/>
            <a:ext cx="396108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Президенту РАМС В.А. Саркисовой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140360" y="328608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главным врачам и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главным медицинским сестрам ЛПУ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932360" y="4078440"/>
            <a:ext cx="3672000" cy="214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руководителям мини-проектов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1476360" y="1484280"/>
            <a:ext cx="604836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Желаю всем здоровья,</a:t>
            </a:r>
            <a:endParaRPr b="0" lang="en-US" sz="54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социального благополучия</a:t>
            </a:r>
            <a:endParaRPr b="0" lang="en-US" sz="54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и дальнейших  успехов в </a:t>
            </a:r>
            <a:endParaRPr b="0" lang="en-US" sz="54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профессиональной деятельности!</a:t>
            </a:r>
            <a:endParaRPr b="0" lang="en-US" sz="54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5346720"/>
            <a:ext cx="9144000" cy="169920"/>
          </a:xfrm>
          <a:prstGeom prst="rect">
            <a:avLst/>
          </a:prstGeom>
          <a:solidFill>
            <a:srgbClr val="76c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547640" y="3645000"/>
            <a:ext cx="604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r>
              <a:rPr b="0" lang="en-US" sz="5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Благодарю за внимание!</a:t>
            </a:r>
            <a:endParaRPr b="0" lang="en-US" sz="5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4"/>
          <a:stretch/>
        </p:blipFill>
        <p:spPr>
          <a:xfrm>
            <a:off x="0" y="5445000"/>
            <a:ext cx="914400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5346720"/>
            <a:ext cx="9144000" cy="169920"/>
          </a:xfrm>
          <a:prstGeom prst="rect">
            <a:avLst/>
          </a:prstGeom>
          <a:solidFill>
            <a:srgbClr val="76c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627280" y="692280"/>
            <a:ext cx="381636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Информация ВОЗ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48000" y="1989000"/>
            <a:ext cx="56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0% всей работы по раннему выявлению, уходу за пациентами и профилактике туберкулеза отводится медицинским сестрам, работающим в общелечебной сети, амбулаторно-поликлинической и социальной службах, школах, тюрьмах, лагерях беженцев, на дому у пациен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8360" y="2293920"/>
            <a:ext cx="2663640" cy="199872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5445000"/>
            <a:ext cx="914400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7201080" cy="3751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124458"/>
              </a:gs>
              <a:gs pos="100000">
                <a:srgbClr val="76ca2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476520" y="3753000"/>
            <a:ext cx="1704960" cy="2028600"/>
            <a:chOff x="3476520" y="3753000"/>
            <a:chExt cx="1704960" cy="2028600"/>
          </a:xfrm>
        </p:grpSpPr>
        <p:sp>
          <p:nvSpPr>
            <p:cNvPr id="187" name=""/>
            <p:cNvSpPr/>
            <p:nvPr/>
          </p:nvSpPr>
          <p:spPr>
            <a:xfrm rot="20876400">
              <a:off x="3544920" y="49719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76520" y="37530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97400" y="37623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14680" y="37782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06840" y="38228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90800" y="4292640"/>
              <a:ext cx="99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200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 rot="20826600">
            <a:off x="17017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625760" y="3371760"/>
            <a:ext cx="1371240" cy="1441080"/>
            <a:chOff x="1625760" y="3371760"/>
            <a:chExt cx="1371240" cy="1441080"/>
          </a:xfrm>
        </p:grpSpPr>
        <p:sp>
          <p:nvSpPr>
            <p:cNvPr id="195" name=""/>
            <p:cNvSpPr/>
            <p:nvPr/>
          </p:nvSpPr>
          <p:spPr>
            <a:xfrm>
              <a:off x="16257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434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567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283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47880" y="382896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200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5238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128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239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779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27280" y="2278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90720" y="213372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195640" y="692280"/>
            <a:ext cx="482436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Реализация международного проект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79280" y="270828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Южная Африка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Филиппины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00000" y="4797360"/>
            <a:ext cx="1150920" cy="79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Свазиленд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Малави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Россия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780000" y="5661000"/>
            <a:ext cx="934920" cy="79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Кения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Замбия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Ангола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 rot="5206200">
            <a:off x="1788120" y="25390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5d2e1"/>
              </a:gs>
              <a:gs pos="100000">
                <a:srgbClr val="40bad2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066560" y="46530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1cbf6"/>
              </a:gs>
              <a:gs pos="100000">
                <a:srgbClr val="715e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050920" y="692280"/>
            <a:ext cx="518508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Реализация международного проекта в России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6920" y="1557360"/>
            <a:ext cx="367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2006 – 2007 гг. -обучающие семинары      в Томске и Омс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76720" y="5021280"/>
            <a:ext cx="40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течение 2008 г. пройдут четыре семинара в Санкт-Петербурге, Ульяновске, Кемерово и Ставрополе.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700360" y="1252440"/>
            <a:ext cx="6372360" cy="3760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-2406240" y="2086560"/>
            <a:ext cx="4824360" cy="380340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76ca2a"/>
              </a:gs>
              <a:gs pos="50000">
                <a:srgbClr val="ffffff"/>
              </a:gs>
              <a:gs pos="100000">
                <a:srgbClr val="76ca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463760" y="2801880"/>
            <a:ext cx="5009760" cy="507960"/>
            <a:chOff x="1463760" y="2801880"/>
            <a:chExt cx="5009760" cy="507960"/>
          </a:xfrm>
        </p:grpSpPr>
        <p:sp>
          <p:nvSpPr>
            <p:cNvPr id="220" name=""/>
            <p:cNvSpPr/>
            <p:nvPr/>
          </p:nvSpPr>
          <p:spPr>
            <a:xfrm>
              <a:off x="1463760" y="2817720"/>
              <a:ext cx="482400" cy="480960"/>
            </a:xfrm>
            <a:prstGeom prst="ellipse">
              <a:avLst/>
            </a:prstGeom>
            <a:gradFill rotWithShape="0">
              <a:gsLst>
                <a:gs pos="0">
                  <a:srgbClr val="76ca2a"/>
                </a:gs>
                <a:gs pos="100000">
                  <a:srgbClr val="365d1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33480" y="2801880"/>
              <a:ext cx="4640040" cy="507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76ca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542960" y="2887560"/>
            <a:ext cx="335160" cy="335160"/>
          </a:xfrm>
          <a:prstGeom prst="ellipse">
            <a:avLst/>
          </a:prstGeom>
          <a:gradFill rotWithShape="0">
            <a:gsLst>
              <a:gs pos="0">
                <a:srgbClr val="40bad2"/>
              </a:gs>
              <a:gs pos="100000">
                <a:srgbClr val="246a7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1244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65280" y="2874960"/>
            <a:ext cx="241200" cy="243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e9940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042920" y="2030400"/>
            <a:ext cx="5009760" cy="507960"/>
            <a:chOff x="1042920" y="2030400"/>
            <a:chExt cx="5009760" cy="507960"/>
          </a:xfrm>
        </p:grpSpPr>
        <p:grpSp>
          <p:nvGrpSpPr>
            <p:cNvPr id="225" name=""/>
            <p:cNvGrpSpPr/>
            <p:nvPr/>
          </p:nvGrpSpPr>
          <p:grpSpPr>
            <a:xfrm>
              <a:off x="1042920" y="2030400"/>
              <a:ext cx="5009760" cy="507960"/>
              <a:chOff x="1042920" y="2030400"/>
              <a:chExt cx="5009760" cy="507960"/>
            </a:xfrm>
          </p:grpSpPr>
          <p:sp>
            <p:nvSpPr>
              <p:cNvPr id="226" name=""/>
              <p:cNvSpPr/>
              <p:nvPr/>
            </p:nvSpPr>
            <p:spPr>
              <a:xfrm>
                <a:off x="1042920" y="2046240"/>
                <a:ext cx="482400" cy="480960"/>
              </a:xfrm>
              <a:prstGeom prst="ellipse">
                <a:avLst/>
              </a:prstGeom>
              <a:gradFill rotWithShape="0">
                <a:gsLst>
                  <a:gs pos="0">
                    <a:srgbClr val="40bad2"/>
                  </a:gs>
                  <a:gs pos="100000">
                    <a:srgbClr val="102f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12640" y="2030400"/>
                <a:ext cx="464004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40bad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1122480" y="2109600"/>
              <a:ext cx="334800" cy="334440"/>
            </a:xfrm>
            <a:prstGeom prst="ellipse">
              <a:avLst/>
            </a:prstGeom>
            <a:gradFill rotWithShape="0">
              <a:gsLst>
                <a:gs pos="0">
                  <a:srgbClr val="715ee6"/>
                </a:gs>
                <a:gs pos="100000">
                  <a:srgbClr val="19143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2445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28600" y="2097000"/>
              <a:ext cx="241200" cy="242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463760" y="2060640"/>
            <a:ext cx="781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гистрируется 6-7 случаев заболевания туберкулезо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79640" y="2819520"/>
            <a:ext cx="68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 человека умирают от туберкуле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60720" y="620640"/>
            <a:ext cx="273528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Омская обла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52720" y="1557360"/>
            <a:ext cx="1440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Ежедневно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443640" y="2852640"/>
            <a:ext cx="2470320" cy="3645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195640" y="3645000"/>
            <a:ext cx="4159080" cy="277164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050920" y="692280"/>
            <a:ext cx="51134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еждународный проект в Омск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9280" y="2081160"/>
            <a:ext cx="878544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товал по инициативе                    Министерства здравоохранения Омской области, финансирование проекта осуществлялось            из средств Международного совета медицинских сестер, фармацевтической компании «Эли Лилли» и Омской профессиональной сестринской ассоци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203640" y="6164280"/>
            <a:ext cx="27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ГОУОО "ЦПК РЗ"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840720" cy="455796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240" name=""/>
          <p:cNvSpPr txBox="1"/>
          <p:nvPr/>
        </p:nvSpPr>
        <p:spPr>
          <a:xfrm>
            <a:off x="2340000" y="549360"/>
            <a:ext cx="4537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еждународный проект в Омск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0 - 14 июля 2007 г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7:40:20Z</dcterms:created>
  <dc:creator>User</dc:creator>
  <dc:description/>
  <dc:language>en-US</dc:language>
  <cp:lastModifiedBy>1</cp:lastModifiedBy>
  <dcterms:modified xsi:type="dcterms:W3CDTF">2010-03-31T14:32:20Z</dcterms:modified>
  <cp:revision>73</cp:revision>
  <dc:subject/>
  <dc:title>PowerPoint Template</dc:title>
</cp:coreProperties>
</file>