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EC2-DC63-45E9-90D0-79156302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A8F-E0E7-45E0-8E49-BBB8C8C7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C64-C557-4372-B8E0-D7C511E5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CFD-FB29-448C-A44D-4F05C1D5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EE55-A250-40CC-A371-545447EB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5228-C1BA-40C0-8596-F5A4C792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E164-67BF-45C6-912B-C4D67712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E733-3F93-4599-8CD9-D24131C5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56CE-BD17-481A-8A0D-F78BAD1C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E93E-0CC5-45D0-A595-067E16C7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5058-0D72-4276-9284-C798CD42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46D-965A-41D2-82D9-F2FF766D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CF17-AB19-4FD5-85A2-954655D6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8455-B35C-48BE-89B2-2BD665A6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107A-9194-4D54-A7E3-35D6BE1D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7C2C-71BE-494E-9934-0EC52B4F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D7B4-17E2-43CD-985F-20EFF698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A99-20F2-4A0C-B343-C03F4635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63A-13FC-45EC-BE1B-D8F2055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5DD-5D2B-4C21-A4EA-6D5F87BA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23D-8739-49CF-9E0C-349AE146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9C3-4284-4896-9502-11781AB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CCB-12E7-4CC9-8629-A9762D3C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2C6-5699-4871-9335-43F0E305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7059-DA66-4989-9E56-C02C6597C28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3780-2A38-4D5B-909A-E19C3E5E1B6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5227560"/>
            <a:ext cx="6912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7e5d7"/>
                </a:solidFill>
                <a:latin typeface="Arial"/>
              </a:rPr>
              <a:t>Руководитель: Гирфанова Е.П., </a:t>
            </a:r>
            <a:br>
              <a:rPr sz="2200"/>
            </a:br>
            <a:r>
              <a:rPr b="1" lang="en-US" sz="2200" spc="-1" strike="noStrike">
                <a:solidFill>
                  <a:srgbClr val="d7e5d7"/>
                </a:solidFill>
                <a:latin typeface="Arial"/>
              </a:rPr>
              <a:t>медицинская сестра туберкулезного отделения ГУЗОО «КПБ им. Н.Н. Солодникова»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d7e5d7"/>
                </a:solidFill>
                <a:latin typeface="Arial"/>
              </a:rPr>
              <a:t>Кураторы: Васильева Л.П., Дацюк С.Ф.</a:t>
            </a:r>
            <a:r>
              <a:rPr b="1" lang="en-US" sz="2200" spc="-1" strike="noStrike">
                <a:solidFill>
                  <a:srgbClr val="9ac29d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907920"/>
            <a:ext cx="7200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ИТОГИ МИНИ-ПРОЕКТА                «ОКАЗАНИЕ ПОМОЩИ БОЛЬНЫМ              И  БОРЬБА С ТУБЕРКУЛЕЗОМ                   У ЛИЦ С ПСИХИЧЕСКИМИ РАССТРОЙСТВАМИ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с 23 октября по 18 декабря 2007 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3520" y="374760"/>
            <a:ext cx="74772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7e5d7"/>
                </a:solidFill>
                <a:latin typeface="Arial"/>
              </a:rPr>
              <a:t>Все участники мини-проекта смогли рассмотреть палочку Коха под микроскопом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553080" cy="4689360"/>
          </a:xfrm>
          <a:prstGeom prst="rect">
            <a:avLst/>
          </a:prstGeom>
          <a:ln w="19080">
            <a:solidFill>
              <a:srgbClr val="f7d47d"/>
            </a:solidFill>
            <a:miter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3560" y="556920"/>
            <a:ext cx="6616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d7e5d7"/>
                </a:solidFill>
                <a:latin typeface="Arial"/>
              </a:rPr>
              <a:t>Методическая литература                         для медицинских сестер и памятки для пациентов по вопросам туберкулеза</a:t>
            </a:r>
            <a:endParaRPr b="0" lang="en-US" sz="2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31760" y="1916280"/>
            <a:ext cx="2424240" cy="3456000"/>
          </a:xfrm>
          <a:prstGeom prst="rect">
            <a:avLst/>
          </a:prstGeom>
          <a:ln w="19080">
            <a:solidFill>
              <a:srgbClr val="f7d47d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94160" y="1916280"/>
            <a:ext cx="2446560" cy="3456000"/>
          </a:xfrm>
          <a:prstGeom prst="rect">
            <a:avLst/>
          </a:prstGeom>
          <a:ln w="19080">
            <a:solidFill>
              <a:srgbClr val="f7d47d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763720" y="2924280"/>
            <a:ext cx="2384640" cy="3476520"/>
          </a:xfrm>
          <a:prstGeom prst="rect">
            <a:avLst/>
          </a:prstGeom>
          <a:ln w="19080">
            <a:solidFill>
              <a:srgbClr val="f7d47d"/>
            </a:solidFill>
            <a:miter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53640"/>
            <a:ext cx="74768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7e5d7"/>
                </a:solidFill>
                <a:latin typeface="Arial"/>
              </a:rPr>
              <a:t>Результаты тестирования                участников мини-проект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950760"/>
          <a:ext cx="7672320" cy="625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7672320" cy="62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68360" y="522936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e5d7"/>
                </a:solidFill>
                <a:latin typeface="Arial"/>
              </a:rPr>
              <a:t>Знания о возбудителе ТБ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5229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e5d7"/>
                </a:solidFill>
                <a:latin typeface="Arial"/>
              </a:rPr>
              <a:t>Знания по диагностике и клиник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0000" y="5229360"/>
            <a:ext cx="194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e5d7"/>
                </a:solidFill>
                <a:latin typeface="Arial"/>
              </a:rPr>
              <a:t>Знания по лечению и профилактик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51640" y="5229360"/>
            <a:ext cx="208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e5d7"/>
                </a:solidFill>
                <a:latin typeface="Arial"/>
              </a:rPr>
              <a:t>Отношение к дискриминации пациентов с ТБ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6946920" cy="5208480"/>
          </a:xfrm>
          <a:prstGeom prst="rect">
            <a:avLst/>
          </a:prstGeom>
          <a:ln w="19080">
            <a:solidFill>
              <a:srgbClr val="f7d47d"/>
            </a:solidFill>
            <a:miter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33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d7e5d7"/>
                </a:solidFill>
                <a:latin typeface="Arial"/>
              </a:rPr>
              <a:t>Что предстоит сделать   в 2008 г.:</a:t>
            </a:r>
            <a:endParaRPr b="0" lang="en-US" sz="3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221000"/>
            <a:ext cx="712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f7e7"/>
                </a:solidFill>
                <a:latin typeface="Arial"/>
              </a:rPr>
              <a:t>организовать школу здоровья для пациентов, больных туберкулезом;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201760"/>
            <a:ext cx="21564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8200" y="1987560"/>
            <a:ext cx="712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f7e7"/>
                </a:solidFill>
                <a:latin typeface="Arial"/>
              </a:rPr>
              <a:t>внедрить в сестринскую практику технологию взятия мазка из зева на наличие микобактерии туберкулеза;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437000"/>
            <a:ext cx="21564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63" dur="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67" dur="50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50920" y="4794120"/>
            <a:ext cx="21564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579920"/>
            <a:ext cx="69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принять участие в международном конкурсе по туберкулезу, объявленном Международным советом медицинских сесте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141300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каждому участнику мини-проекта в апреле провести в отделениях конференции на тему: «Оказание помощи больным и борьба с туберкулезом у лиц с психическими расстройствами»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360" y="1628640"/>
            <a:ext cx="216000" cy="2178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336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d7e5d7"/>
                </a:solidFill>
                <a:latin typeface="Arial"/>
              </a:rPr>
              <a:t>Что предстоит сделать   в 2008 г.:</a:t>
            </a:r>
            <a:endParaRPr b="0" lang="en-US" sz="3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75" dur="50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76" dur="50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autoRev="1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280" y="2565360"/>
            <a:ext cx="626436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df7e7"/>
                </a:solidFill>
                <a:latin typeface="Arial"/>
              </a:rPr>
              <a:t>Благодарю </a:t>
            </a:r>
            <a:br>
              <a:rPr sz="5600"/>
            </a:br>
            <a:r>
              <a:rPr b="1" lang="en-US" sz="5600" spc="-1" strike="noStrike">
                <a:solidFill>
                  <a:srgbClr val="fdf7e7"/>
                </a:solidFill>
                <a:latin typeface="Arial"/>
              </a:rPr>
              <a:t>за внимание!</a:t>
            </a:r>
            <a:endParaRPr b="0" lang="en-US" sz="5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7e5d7"/>
                </a:solidFill>
                <a:latin typeface="Arial"/>
              </a:rPr>
              <a:t>Цель мини-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410840"/>
            <a:ext cx="7740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f7e7"/>
                </a:solidFill>
                <a:latin typeface="Arial"/>
              </a:rPr>
              <a:t>Повышение уровня знаний медицинских сестер в вопросах оказания помощи пациентам, больным туберкулезом, и их родственникам            в адаптации с сочетанными формами заболевания, обучения методам профилактики и безопасности                     в различных условиях социальной среды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333000"/>
            <a:ext cx="74768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d7e5d7"/>
                </a:solidFill>
                <a:latin typeface="Arial"/>
              </a:rPr>
              <a:t>Задачи мини-проекта:</a:t>
            </a:r>
            <a:endParaRPr b="0" lang="en-US" sz="3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6360" y="1267920"/>
            <a:ext cx="70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7e7"/>
                </a:solidFill>
                <a:latin typeface="Arial"/>
              </a:rPr>
              <a:t>повышение уровня знаний медицинских сестер в вопросах борьбы с туберкулезом с учетом специфики психиатрического учрежде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4720" y="3284640"/>
            <a:ext cx="7236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7e7"/>
                </a:solidFill>
                <a:latin typeface="Arial"/>
              </a:rPr>
              <a:t>оказание помощи пациентам и их родственникам в адаптации в сообществе с сочетанной формой заболева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3280" y="4940280"/>
            <a:ext cx="6948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7e7"/>
                </a:solidFill>
                <a:latin typeface="Arial"/>
              </a:rPr>
              <a:t>обучение медицинских сестер методам профилактики и эпидемиологической безопасности в различных условиях социальной сред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413000"/>
            <a:ext cx="21564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429000"/>
            <a:ext cx="21600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5084640"/>
            <a:ext cx="21600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autoRev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11" dur="500" autoRev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333000"/>
            <a:ext cx="74768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7e5d7"/>
                </a:solidFill>
                <a:latin typeface="Arial"/>
              </a:rPr>
              <a:t>Ожидаемый результат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6360" y="1339560"/>
            <a:ext cx="70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повышение уровня знаний медицинских сестер, оказывающих сестринскую помощь больным с сочетанной формой заболеван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1554120"/>
            <a:ext cx="21564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3860640"/>
            <a:ext cx="66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улучшение знаний родственников по вопросам профилактики туберкулеза у лиц с психическими расстройства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4076640"/>
            <a:ext cx="21564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23" dur="5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27" dur="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60280"/>
            <a:ext cx="74768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7e5d7"/>
                </a:solidFill>
                <a:latin typeface="Arial"/>
              </a:rPr>
              <a:t>Участники мини-проект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913440" cy="5187960"/>
          </a:xfrm>
          <a:prstGeom prst="rect">
            <a:avLst/>
          </a:prstGeom>
          <a:ln w="19080">
            <a:solidFill>
              <a:srgbClr val="f7d47d"/>
            </a:solidFill>
            <a:miter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7e5d7"/>
                </a:solidFill>
                <a:latin typeface="Arial"/>
              </a:rPr>
              <a:t>Вопросы,                                обсуждаемые на семинарах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6360" y="1196640"/>
            <a:ext cx="70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эпидемиология туберкулеза и его распространенность среди населения всего мира, России, в том числе, в г . Омс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411200"/>
            <a:ext cx="21564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3357720"/>
            <a:ext cx="70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повышение роли медицинской сестры в борьбе с туберкулезом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200" y="3571920"/>
            <a:ext cx="21600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4653000"/>
            <a:ext cx="70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работа медицинских сестер                       с родственниками пациентов                  по адаптации в сообществе                        с сочетанной формой заболевания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4200" y="4867200"/>
            <a:ext cx="21600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35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39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333360"/>
            <a:ext cx="7476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7e5d7"/>
                </a:solidFill>
                <a:latin typeface="Arial"/>
              </a:rPr>
              <a:t>Вопросы,                                обсуждаемые на семинарах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720" y="1700280"/>
            <a:ext cx="7091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оказание помощи больным туберкулезом и туберкулезом с множественной лекарственной устойчивостью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1917720"/>
            <a:ext cx="21600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3932280"/>
            <a:ext cx="7091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f7e7"/>
                </a:solidFill>
                <a:latin typeface="Arial"/>
              </a:rPr>
              <a:t>профилактика туберкулеза и особенности сестринского процесса при туберкулезе с учетом специфики психиатрического лечебного учрежде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4148280"/>
            <a:ext cx="216000" cy="2174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animClr clrSpc="rgb">
                                      <p:cBhvr>
                                        <p:cTn id="55" dur="50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ac29d"/>
                                      </p:to>
                                    </p:animClr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600720" cy="2700360"/>
          </a:xfrm>
          <a:prstGeom prst="rect">
            <a:avLst/>
          </a:prstGeom>
          <a:ln w="19080">
            <a:solidFill>
              <a:srgbClr val="f7d47d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4880" y="259920"/>
            <a:ext cx="68738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7e5d7"/>
                </a:solidFill>
                <a:latin typeface="Arial"/>
              </a:rPr>
              <a:t>Работа на семинарах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925800" y="3772080"/>
            <a:ext cx="3598920" cy="2681280"/>
          </a:xfrm>
          <a:prstGeom prst="rect">
            <a:avLst/>
          </a:prstGeom>
          <a:ln w="19080">
            <a:solidFill>
              <a:srgbClr val="f7d47d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6624720" cy="4911840"/>
          </a:xfrm>
          <a:prstGeom prst="rect">
            <a:avLst/>
          </a:prstGeom>
          <a:ln w="19080">
            <a:solidFill>
              <a:srgbClr val="f7d47d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59920"/>
            <a:ext cx="74768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d7e5d7"/>
                </a:solidFill>
                <a:latin typeface="Arial"/>
              </a:rPr>
              <a:t>Врач-фтизиатр высшей категории Затворниций В.А. на семинаре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8:54:24Z</dcterms:created>
  <dc:creator>Happy User</dc:creator>
  <dc:description/>
  <dc:language>en-US</dc:language>
  <cp:lastModifiedBy>1</cp:lastModifiedBy>
  <dcterms:modified xsi:type="dcterms:W3CDTF">2010-03-31T14:35:04Z</dcterms:modified>
  <cp:revision>58</cp:revision>
  <dc:subject/>
  <dc:title>Слайд 1</dc:title>
</cp:coreProperties>
</file>