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439-5783-4C1C-B6CE-0922FC0E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3F9-EE8C-46B9-A533-BDA8ED79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DA0-54FE-4C7E-B356-57CA3447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64B-2DD9-478A-A9EC-A8C69C86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393-09B8-4633-AF68-360A734F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526-669E-4874-9DAE-2F99EA97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A87A-F972-4111-858D-0519DC561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99CA-9275-472E-82C0-9A3070F8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8C55-4C9E-47AB-838B-76463869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E8CE-74AE-4870-A6C5-C4DA4B9C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94D-8EA0-4311-829B-768AF736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8B4-C480-4909-91BB-38685121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631C-49E2-45D3-B8D5-D6FCFD0EE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42" name="Подзаголовок 2"/>
          <p:cNvSpPr/>
          <p:nvPr/>
        </p:nvSpPr>
        <p:spPr>
          <a:xfrm>
            <a:off x="2666880" y="3200400"/>
            <a:ext cx="62024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5 - 28 мая 201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г. Ом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Прямоугольник 4"/>
          <p:cNvGrpSpPr/>
          <p:nvPr/>
        </p:nvGrpSpPr>
        <p:grpSpPr>
          <a:xfrm>
            <a:off x="-19080" y="4127400"/>
            <a:ext cx="9175680" cy="169920"/>
            <a:chOff x="-19080" y="4127400"/>
            <a:chExt cx="9175680" cy="169920"/>
          </a:xfrm>
        </p:grpSpPr>
        <p:pic>
          <p:nvPicPr>
            <p:cNvPr id="44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9080" y="4127400"/>
              <a:ext cx="91756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414324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06200" y="324000"/>
            <a:ext cx="2521080" cy="3527280"/>
            <a:chOff x="106200" y="324000"/>
            <a:chExt cx="2521080" cy="3527280"/>
          </a:xfrm>
        </p:grpSpPr>
        <p:sp>
          <p:nvSpPr>
            <p:cNvPr id="47" name=""/>
            <p:cNvSpPr/>
            <p:nvPr/>
          </p:nvSpPr>
          <p:spPr>
            <a:xfrm>
              <a:off x="106200" y="324000"/>
              <a:ext cx="2521080" cy="352728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ffffff"/>
                </a:gs>
                <a:gs pos="100000">
                  <a:srgbClr val="7b7b7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351000" y="407880"/>
              <a:ext cx="2131920" cy="315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71520" y="2338560"/>
            <a:ext cx="514440" cy="514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00200" y="4648320"/>
            <a:ext cx="5943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6600"/>
                </a:solidFill>
                <a:latin typeface="Verdana"/>
              </a:rPr>
              <a:t>1 день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07800"/>
            <a:ext cx="66294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региональный семинар    в рамках международного проекта «Лидерство в перегово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200240" y="1260360"/>
            <a:ext cx="210960" cy="2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20T04:30:2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