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20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A35F-2859-4AB0-96F2-4B7FE43C95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CF85-AE4F-4332-8E95-8296B42A8F4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F1923-DBEA-4601-A6AC-131AB213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731DD-3A97-4407-AF6B-487D29A6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9DAD6-55B9-4FBF-85DA-A8750BDF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B2C1F-943D-41A4-A1D2-F4D51E76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69341-F87D-49BC-9362-F9A6BBA2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DEEAB-E6D2-429F-AF41-CCC30D7B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69BB5-1384-437A-B6FD-3669C5F5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4D451-8503-4C27-B5DD-9BA2929F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512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5384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35676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512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15384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5726C-286F-4B4C-8556-EA93A938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D43CFB-2B73-4680-AD62-86B1E216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D0CAB-A618-411E-837D-C62CC900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8CC2B-C1ED-47F9-BDD7-DE60B6D8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E51A5-90E8-4EA7-B16D-3BDE0E29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AC70C-77CE-4182-B65B-F3B5A01F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CBE9F-AE75-4E35-BD75-AD7C7F13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1E246-7B64-42A3-B79F-565D1DB8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650A3-E297-48E3-B570-BFE73E3F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A8F3C-FCED-4DB8-84A6-654A9E64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9E8D1-B827-4F65-A247-1D63190E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38BD1-62EF-464A-B292-D823CAEE1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512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384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676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512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384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5512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5384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5676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5512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5384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4147A-CFD3-4B28-862D-C0F6EF4A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6B31-736E-42B3-A0A1-4F176448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5512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5384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35676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5512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5384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5BF35-E2EE-4A7A-B82A-1E5B94DB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AF410-3436-4601-A0F3-EE978CCD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E180B-A564-4C86-B7AD-87B0455B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32EC9-F565-489C-9574-565AB315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87ABF-523A-4027-A480-11807AAE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FE578-BF04-475C-B888-144681B4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87EBA-ED1A-4186-9CC4-C1F98E49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8524-7CEF-410D-BBEA-17209EA5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2F617-A3E0-402C-9D48-5F0CE7BF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8F829-C26F-42C2-834B-103EF051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7AE15-2F32-4889-BCF0-52165B8B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D1F40-C056-468B-A601-C83ABBA6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5512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15384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35676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5512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15384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93770-A1A6-49C6-9CB9-8CB0F106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5D626-7B46-4AAD-B00A-80AA5E03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49871-FB08-47F0-999C-8FA5702C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883F2-6799-4E01-A789-41D87C0C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D30D4-36CA-4FEF-BDD8-A14D3FE6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09B16-0A6A-42EE-8891-1D8FF2EE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220-65CE-4F89-BCC0-DE222D5F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6EDAC0-CD9A-4544-B816-7FFE5B75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9BC4C-2DA4-414D-BE5A-27EC1328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B8374-E710-4BFC-A0D1-568F82FF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4C660-92DE-4EB7-8A09-3A90F3F0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86B3B-5BD4-4818-8E96-CED4C0E8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4718B-6A3D-4923-B819-1DE8353D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5512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15384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35676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5512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15384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756E6-F8E0-455F-BC85-64F0B886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005A5-07E0-4F32-98FD-9C5DEDF1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50F3A-0A85-4068-8259-9760B89D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C21B6-E5D3-484B-9358-3C44F38F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7DB1-759B-4B5B-8669-C6C69570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65413-7FFF-40F1-BEA3-47E9940F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50639-6954-4861-9665-7444B822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15DB2-04E0-4751-8D0D-AC3539AC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9ED08-650C-4EE0-9030-EBEA6538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220B2-0846-4BE4-9EA3-BEEDBFC6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56CCD-7781-4B26-9BBB-729BBE83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AAFD4-DB71-4CB6-902A-AE0C9ABC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3DA5A-FFBF-48B1-958C-75F1C39F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5512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5384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35676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5512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5384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F9653-2EA6-4008-B4F0-53F0606B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6AD578-57D5-416B-9EA4-44B26BF6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CC86-44C3-4745-9AA3-5C39799D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14BDF-E06C-4A02-A5F7-C15590DE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ECCBFC-3816-47BC-AACD-7911F3A2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1359E0-AF0B-41FA-9676-6CC2928B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78D49E-B64A-4CF6-8A87-28E6CC8C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3BE36B-9D95-473A-9562-F16EB073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D27487-B8E9-4BDD-8515-B7903F3B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D44A49-39AB-4010-A20C-89944E73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E78D65-41CD-4734-B72E-8C38FA58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E2347B-6FAF-41F7-96E8-7E44FF28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445196-3343-4609-AAC8-0BD61AE6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338B-5223-4471-8E2E-90D829E5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5512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15384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35676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5512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15384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3A1D89-23D1-4182-8007-D0A44EBA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34B04B-2EF8-4484-B7EC-2E023D83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352322-CABD-42BB-8DA6-79C16DBE0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776E3D-0050-4660-BDDD-7092A7D9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02E940-9E26-4E2E-BF7F-F7727AB6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06E464-86EF-4996-85B4-C54EE621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DFA238-DDDD-4CFD-A514-678C9FAA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EB0EF4-02F7-4480-85AE-CCB606E5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3CC91B-1E2B-4330-9DAC-765BBE1A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1F55BE-AE51-408E-82EC-6A4069E8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E6F9-82A0-429B-BCC6-34BA2F0D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C06FDA-9DA7-4AFB-B533-1D473979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8B9D89-5810-43E5-BBC2-50834637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5512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15384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35676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5512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15384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7D42BC-DBB7-4C2E-8CAF-C98E2C62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6EF9-0A1A-4613-BABD-153DD975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3817-D67E-48BB-9841-DD31BBEB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D7E-E33B-4EF1-AFA6-B0BE97A2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4D5F-741F-47AF-9A8C-42E5646D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5512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5384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5676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5512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5384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1EFE-ED7A-446F-9FF7-D5DF17DC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DD50-D642-4FAF-B119-D2A5DF73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0E2C9-7406-44E5-98B5-75CB0909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6FC1-F2E0-403E-9F8A-D0A13FAC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45EA-5C5B-49CF-BDCC-DA6D1774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8223-FC43-4E72-ADE6-60957ADD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57B9-F6E1-404B-BBC2-B2A61F21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B66A-ACA3-432E-B497-935CD327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42AE-14A6-4165-B64B-7BDD830B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2950-16B0-4742-9945-771B440C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B006-794C-49C8-B174-5D618E4F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E1E0-B0F5-40AB-8391-336C0212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5512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5384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5676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5512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5384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2979-A0C0-432E-A13D-683D16D4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579A4-A9E6-4271-8556-7B4F1C77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2C7B3-67A7-4088-A272-C79C0486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CD664-4E0B-49E3-98CA-8E6FD222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37F91-983D-4FD1-88F7-19952E12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51390-FA11-4829-B0D3-CCCDF121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D77A8-93D1-48B9-BED2-9417B545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04DDE-CC1C-4A71-AC2A-C96B335A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8313D-77EE-4FC0-8742-D296FF39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D2671-EA02-4747-BD3A-22B930B6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1F24E-F5D0-4511-8AA8-9FA43AEB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2673F-B19F-471C-962D-85DE3165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5512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5384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5676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5512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5384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7394E-40E0-453C-8539-767F233A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CBBC2-9AA8-4F3E-B2BB-4742C664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4F6C8-0530-41CF-BCEC-9D4F7B07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2F2F7-0DC6-4A2B-ABD7-67ACED63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8C712-6888-4A05-847A-AF0D827A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AF8B9-4042-4EB5-9E5E-53E944C5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7445C-4890-4B5D-94E4-82DA32BC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CF52A-9DA4-4599-90FE-C574AE03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62598-0DCC-4208-A495-6674C899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E57B2-62FB-44A0-B654-DDD2256E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A140C-467F-4991-B911-FE863BB3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47E9D-E343-4A70-8357-29A88F89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5512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5384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5676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5512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5384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977E6-0226-44E5-BD22-89928745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2C51F-E8B1-4D94-813A-84FEFA42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B2F77-B02E-4EAC-889E-F4AF2E7A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25C0D-38B1-4F20-8AC2-D6D99E64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8692C-4A10-412B-88C0-A9D6FC77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C7B16-00F6-435B-A477-9D0980CB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EFEA4-1DA2-4BD2-9B8A-9C548438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92FEB-371B-4226-8E18-F7E68C39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AD1D0-D82F-44DA-8E8A-075D0DB7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839DB-1833-4452-A6EC-A8FD4BE0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0C304-7FCE-47BB-B511-0DA393ED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21228-4EC0-4D17-8C71-D33BEA29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5512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5384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5676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5512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5384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AB7B9-108A-4089-965F-3EB4126B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D6D32-D7BA-4DAA-A536-27100D52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CDA18-C575-43A4-81DD-CCAB18E0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ACBF5-0FE9-4751-BCA3-0BADA72F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6300B-7370-415F-BA65-BA3D1D37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F3AFC-8614-4046-8BB1-FCF05249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62765-864A-4219-A0E3-B4EBE938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7A7D9-04B3-4978-BAA2-19B79CBF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842F9-4568-4BF7-A7D2-906A3F47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E6E34-0BFF-4E50-883F-75A965DB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11895-3FD7-43F6-AE5C-C8E310EB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ABD34-6636-481A-A33E-0A930F46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25512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5384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35676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25512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5384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35F5B-B3BF-4AE1-B6D2-198525DB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545C5-E181-4BC4-969F-AC5752D5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DB207-4483-4BB8-8756-2A7A84CF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495AD-D311-476B-AA34-F69FCAFB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CA8F4-85E6-4794-BB40-97A1EA5A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EF112-43FE-4125-A86B-208CFCC5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C1C57-CBBA-44D5-8904-06645890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CA68B-9246-471C-B7A0-0C99229A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2C290-5AFF-499F-9A0D-017766B7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82A3E-FBFF-435D-A3A2-A2182DBE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56760" y="2712600"/>
            <a:ext cx="8572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E301A-A035-4E46-92C8-072D8B43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49480" y="64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5676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749480" y="2712600"/>
            <a:ext cx="41832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334F0-9DD5-460A-BCD4-2C166A84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5512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53840" y="64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5676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5512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53840" y="2712600"/>
            <a:ext cx="27601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E4D0E-E181-4C16-A72E-D9E72007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380EE-9649-4DC0-A86E-858FFFBE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4C85B-EE52-4D36-A007-147F974F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B9AE9-0E58-4220-8009-0FC1F408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4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5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ftr" idx="26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27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32C7-A938-45ED-89B5-0FE2537B2CE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9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3" name="Diagonal Stripe 12"/>
          <p:cNvGrpSpPr/>
          <p:nvPr/>
        </p:nvGrpSpPr>
        <p:grpSpPr>
          <a:xfrm>
            <a:off x="463680" y="2372040"/>
            <a:ext cx="8454960" cy="864720"/>
            <a:chOff x="463680" y="2372040"/>
            <a:chExt cx="8454960" cy="864720"/>
          </a:xfrm>
        </p:grpSpPr>
        <p:pic>
          <p:nvPicPr>
            <p:cNvPr id="464" name="Diagonal Stripe 12" descr=""/>
            <p:cNvPicPr/>
            <p:nvPr/>
          </p:nvPicPr>
          <p:blipFill>
            <a:blip r:embed="rId6"/>
            <a:stretch/>
          </p:blipFill>
          <p:spPr>
            <a:xfrm>
              <a:off x="463680" y="2683800"/>
              <a:ext cx="8454960" cy="2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 rot="21321000">
              <a:off x="2576160" y="2627280"/>
              <a:ext cx="63151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4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28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ftr" idx="29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sldNum" idx="30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7274-FDA5-49A8-9510-559F238D4163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49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dt" idx="31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ftr" idx="32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sldNum" idx="33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F3DC-56F9-47E3-AC2B-7F284584BA5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94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8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dt" idx="34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ftr" idx="35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sldNum" idx="36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58C2-697B-4B33-8B3A-7BEEAF59BB6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39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dt" idx="37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ftr" idx="38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sldNum" idx="39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527E-0ED1-421B-8B4A-BE73C3E4549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84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8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dt" idx="40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ftr" idx="41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sldNum" idx="42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4C42-1A0D-4EAE-AF3E-2C046E75648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Rectangle 25"/>
          <p:cNvGrpSpPr/>
          <p:nvPr/>
        </p:nvGrpSpPr>
        <p:grpSpPr>
          <a:xfrm>
            <a:off x="-55440" y="-55440"/>
            <a:ext cx="9248760" cy="6962760"/>
            <a:chOff x="-55440" y="-55440"/>
            <a:chExt cx="9248760" cy="6962760"/>
          </a:xfrm>
        </p:grpSpPr>
        <p:pic>
          <p:nvPicPr>
            <p:cNvPr id="48" name="Rectangle 25" descr=""/>
            <p:cNvPicPr/>
            <p:nvPr/>
          </p:nvPicPr>
          <p:blipFill>
            <a:blip r:embed="rId6"/>
            <a:stretch/>
          </p:blipFill>
          <p:spPr>
            <a:xfrm>
              <a:off x="-55440" y="-55440"/>
              <a:ext cx="9248760" cy="696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" name="Diagonal Stripe 12"/>
          <p:cNvGrpSpPr/>
          <p:nvPr/>
        </p:nvGrpSpPr>
        <p:grpSpPr>
          <a:xfrm>
            <a:off x="463680" y="2372040"/>
            <a:ext cx="8454960" cy="864720"/>
            <a:chOff x="463680" y="2372040"/>
            <a:chExt cx="8454960" cy="864720"/>
          </a:xfrm>
        </p:grpSpPr>
        <p:pic>
          <p:nvPicPr>
            <p:cNvPr id="51" name="Diagonal Stripe 12" descr=""/>
            <p:cNvPicPr/>
            <p:nvPr/>
          </p:nvPicPr>
          <p:blipFill>
            <a:blip r:embed="rId7"/>
            <a:stretch/>
          </p:blipFill>
          <p:spPr>
            <a:xfrm>
              <a:off x="463680" y="2683800"/>
              <a:ext cx="8454960" cy="2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1321000">
              <a:off x="2576160" y="2627280"/>
              <a:ext cx="63151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1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2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3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E777-160A-4439-B1AC-F97BDFAA092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4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4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5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6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C52A-C459-4DDC-9017-9B9552D21E3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9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7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8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9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6EB9-860A-4A84-96EA-5BF12A9444D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4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10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ftr" idx="11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2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1DCC-DA3C-43F2-8501-011F8873426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9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3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14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5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7365-F5BE-47CA-BD9E-51F754304A8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74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16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ftr" idx="17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8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29B5-987B-4647-BD37-0DAC7AA95CC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19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3" name="Group 7"/>
          <p:cNvGrpSpPr/>
          <p:nvPr/>
        </p:nvGrpSpPr>
        <p:grpSpPr>
          <a:xfrm>
            <a:off x="4468680" y="304920"/>
            <a:ext cx="3976920" cy="5638680"/>
            <a:chOff x="4468680" y="304920"/>
            <a:chExt cx="3976920" cy="5638680"/>
          </a:xfrm>
        </p:grpSpPr>
        <p:pic>
          <p:nvPicPr>
            <p:cNvPr id="324" name="Rectangle 8" descr=""/>
            <p:cNvPicPr/>
            <p:nvPr/>
          </p:nvPicPr>
          <p:blipFill>
            <a:blip r:embed="rId6"/>
            <a:stretch/>
          </p:blipFill>
          <p:spPr>
            <a:xfrm>
              <a:off x="4468680" y="304920"/>
              <a:ext cx="3976920" cy="15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Rectangle 9" descr=""/>
            <p:cNvPicPr/>
            <p:nvPr/>
          </p:nvPicPr>
          <p:blipFill>
            <a:blip r:embed="rId7"/>
            <a:stretch/>
          </p:blipFill>
          <p:spPr>
            <a:xfrm>
              <a:off x="4468680" y="5792040"/>
              <a:ext cx="3976920" cy="15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Rectangle 10" descr=""/>
            <p:cNvPicPr/>
            <p:nvPr/>
          </p:nvPicPr>
          <p:blipFill>
            <a:blip r:embed="rId8"/>
            <a:stretch/>
          </p:blipFill>
          <p:spPr>
            <a:xfrm>
              <a:off x="8354880" y="304920"/>
              <a:ext cx="90720" cy="56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Rectangle 11" descr=""/>
            <p:cNvPicPr/>
            <p:nvPr/>
          </p:nvPicPr>
          <p:blipFill>
            <a:blip r:embed="rId9"/>
            <a:stretch/>
          </p:blipFill>
          <p:spPr>
            <a:xfrm>
              <a:off x="4468680" y="304920"/>
              <a:ext cx="96840" cy="563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dt" idx="19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ftr" idx="20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sldNum" idx="21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549A-AC6B-4FAC-ACC0-2332B4D0419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66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69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dt" idx="22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23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24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3796-91AB-4ADC-97DD-3CAECEDB1D0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5"/>
          <p:cNvSpPr/>
          <p:nvPr/>
        </p:nvSpPr>
        <p:spPr>
          <a:xfrm>
            <a:off x="0" y="115920"/>
            <a:ext cx="914400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тчет                                                 о реализации мини-проекта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«В единстве – наша сила!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2009 – 2010 г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 Box 6"/>
          <p:cNvSpPr/>
          <p:nvPr/>
        </p:nvSpPr>
        <p:spPr>
          <a:xfrm>
            <a:off x="324000" y="3357720"/>
            <a:ext cx="880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Руководитель мини-проект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Рипп С.Э., старшая медицинская сестр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поликлиники МУЗ «ЦРБ Полтавского района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7"/>
          <p:cNvSpPr/>
          <p:nvPr/>
        </p:nvSpPr>
        <p:spPr>
          <a:xfrm>
            <a:off x="900000" y="4653000"/>
            <a:ext cx="82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Куратор мини-проекта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Тарасенко Н.Н., главная медицинская сестр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МУЗ «ЦРБ Полтавского района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8"/>
          <p:cNvSpPr/>
          <p:nvPr/>
        </p:nvSpPr>
        <p:spPr>
          <a:xfrm>
            <a:off x="900000" y="6051600"/>
            <a:ext cx="82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Координатор международного проекта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Зорина Т.А., президент ОПС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Text Box 9"/>
          <p:cNvSpPr/>
          <p:nvPr/>
        </p:nvSpPr>
        <p:spPr>
          <a:xfrm>
            <a:off x="34920" y="6381720"/>
            <a:ext cx="194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25.05.2010 г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Содержимое 2" descr=""/>
          <p:cNvPicPr/>
          <p:nvPr/>
        </p:nvPicPr>
        <p:blipFill>
          <a:blip r:embed="rId1"/>
          <a:stretch/>
        </p:blipFill>
        <p:spPr>
          <a:xfrm>
            <a:off x="1255680" y="36360"/>
            <a:ext cx="6705720" cy="804960"/>
          </a:xfrm>
          <a:prstGeom prst="rect">
            <a:avLst/>
          </a:prstGeom>
          <a:ln w="0">
            <a:noFill/>
          </a:ln>
        </p:spPr>
      </p:pic>
      <p:sp>
        <p:nvSpPr>
          <p:cNvPr id="742" name="Содержимое 2"/>
          <p:cNvSpPr/>
          <p:nvPr/>
        </p:nvSpPr>
        <p:spPr>
          <a:xfrm>
            <a:off x="34920" y="1428840"/>
            <a:ext cx="8785080" cy="17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. Достичь более высокой и полной информированности о работе ОПСА и Совета по сестринскому делу ЦРБ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Содержимое 2"/>
          <p:cNvSpPr/>
          <p:nvPr/>
        </p:nvSpPr>
        <p:spPr>
          <a:xfrm>
            <a:off x="0" y="4508640"/>
            <a:ext cx="8748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величить численность членов Ассоциации на 7 челове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Содержимое 1" descr=""/>
          <p:cNvPicPr/>
          <p:nvPr/>
        </p:nvPicPr>
        <p:blipFill>
          <a:blip r:embed="rId1"/>
          <a:stretch/>
        </p:blipFill>
        <p:spPr>
          <a:xfrm>
            <a:off x="536400" y="219240"/>
            <a:ext cx="8114040" cy="768240"/>
          </a:xfrm>
          <a:prstGeom prst="rect">
            <a:avLst/>
          </a:prstGeom>
          <a:ln w="0">
            <a:noFill/>
          </a:ln>
        </p:spPr>
      </p:pic>
      <p:sp>
        <p:nvSpPr>
          <p:cNvPr id="745" name="Содержимое 1"/>
          <p:cNvSpPr/>
          <p:nvPr/>
        </p:nvSpPr>
        <p:spPr>
          <a:xfrm>
            <a:off x="0" y="1714680"/>
            <a:ext cx="8964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just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вести разъяснительную работу среди сестринского персонала ЦРБ, ФАПов, сельских амбулаторий о деятельности ОПСА и Совета по сестринскому дел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Содержимое 1"/>
          <p:cNvSpPr/>
          <p:nvPr/>
        </p:nvSpPr>
        <p:spPr>
          <a:xfrm>
            <a:off x="0" y="4941720"/>
            <a:ext cx="86756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Содержимое 1" descr=""/>
          <p:cNvPicPr/>
          <p:nvPr/>
        </p:nvPicPr>
        <p:blipFill>
          <a:blip r:embed="rId1"/>
          <a:stretch/>
        </p:blipFill>
        <p:spPr>
          <a:xfrm>
            <a:off x="244440" y="1225440"/>
            <a:ext cx="8240760" cy="841320"/>
          </a:xfrm>
          <a:prstGeom prst="rect">
            <a:avLst/>
          </a:prstGeom>
          <a:ln w="0">
            <a:noFill/>
          </a:ln>
        </p:spPr>
      </p:pic>
      <p:sp>
        <p:nvSpPr>
          <p:cNvPr id="748" name="Содержимое 1"/>
          <p:cNvSpPr/>
          <p:nvPr/>
        </p:nvSpPr>
        <p:spPr>
          <a:xfrm>
            <a:off x="395280" y="357192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01.09.2009 г.  -  01.04.2010 г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Содержимое 1" descr=""/>
          <p:cNvPicPr/>
          <p:nvPr/>
        </p:nvPicPr>
        <p:blipFill>
          <a:blip r:embed="rId1"/>
          <a:stretch/>
        </p:blipFill>
        <p:spPr>
          <a:xfrm>
            <a:off x="317520" y="-255600"/>
            <a:ext cx="8240760" cy="809640"/>
          </a:xfrm>
          <a:prstGeom prst="rect">
            <a:avLst/>
          </a:prstGeom>
          <a:ln w="0">
            <a:noFill/>
          </a:ln>
        </p:spPr>
      </p:pic>
      <p:sp>
        <p:nvSpPr>
          <p:cNvPr id="750" name="Содержимое 1"/>
          <p:cNvSpPr/>
          <p:nvPr/>
        </p:nvSpPr>
        <p:spPr>
          <a:xfrm>
            <a:off x="108000" y="571680"/>
            <a:ext cx="9036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 Получена поддержка главного врача в реализации мини-проек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Содержимое 1"/>
          <p:cNvSpPr/>
          <p:nvPr/>
        </p:nvSpPr>
        <p:spPr>
          <a:xfrm>
            <a:off x="0" y="2276640"/>
            <a:ext cx="9144000" cy="12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Содержимое 1"/>
          <p:cNvSpPr/>
          <p:nvPr/>
        </p:nvSpPr>
        <p:spPr>
          <a:xfrm>
            <a:off x="0" y="1571760"/>
            <a:ext cx="896472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 П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ведены семинарские занятия по 16,5 часовой программе «Лидерство в переговорах» с 15.09.09 г. По 15.12.09 г.  Обучение прошли 24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Содержимое 1"/>
          <p:cNvSpPr/>
          <p:nvPr/>
        </p:nvSpPr>
        <p:spPr>
          <a:xfrm>
            <a:off x="0" y="6072120"/>
            <a:ext cx="8964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влечено 7 членов  в  ОП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4" name="Picture 7" descr="D:\Моя\Фотоальбом\Albums\ПОЛТАВКА\ровмлоурп.JPG"/>
          <p:cNvPicPr/>
          <p:nvPr/>
        </p:nvPicPr>
        <p:blipFill>
          <a:blip r:embed="rId2"/>
          <a:stretch/>
        </p:blipFill>
        <p:spPr>
          <a:xfrm>
            <a:off x="1785960" y="3429000"/>
            <a:ext cx="546408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Содержимое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993960"/>
          </a:xfrm>
          <a:prstGeom prst="rect">
            <a:avLst/>
          </a:prstGeom>
          <a:ln w="0">
            <a:noFill/>
          </a:ln>
        </p:spPr>
      </p:pic>
      <p:sp>
        <p:nvSpPr>
          <p:cNvPr id="756" name="Содержимое 1"/>
          <p:cNvSpPr/>
          <p:nvPr/>
        </p:nvSpPr>
        <p:spPr>
          <a:xfrm>
            <a:off x="2268360" y="1413000"/>
            <a:ext cx="6697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ведена фельдшерская конференция по итогам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регионального семинара «Лидерство в переговорах 03.09.2009г., присутствовало – 28 челове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Содержимое 1"/>
          <p:cNvSpPr/>
          <p:nvPr/>
        </p:nvSpPr>
        <p:spPr>
          <a:xfrm>
            <a:off x="2303640" y="3357720"/>
            <a:ext cx="684036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ведено  9  индивидуальных  бесед с медицинским персона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уществлено  5  выездов Совета по сестринскому делу в сельские амбулатории, ФАП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8" name="Рисунок 10" descr="P4242018.JPG"/>
          <p:cNvPicPr/>
          <p:nvPr/>
        </p:nvPicPr>
        <p:blipFill>
          <a:blip r:embed="rId2"/>
          <a:stretch/>
        </p:blipFill>
        <p:spPr>
          <a:xfrm>
            <a:off x="142920" y="1357200"/>
            <a:ext cx="2143080" cy="1714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59" name="Рисунок 11" descr="IMG_0565.jpg"/>
          <p:cNvPicPr/>
          <p:nvPr/>
        </p:nvPicPr>
        <p:blipFill>
          <a:blip r:embed="rId3"/>
          <a:stretch/>
        </p:blipFill>
        <p:spPr>
          <a:xfrm>
            <a:off x="142920" y="3357720"/>
            <a:ext cx="2143080" cy="1571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60" name="Рисунок 12" descr="Изображение 334.jpg"/>
          <p:cNvPicPr/>
          <p:nvPr/>
        </p:nvPicPr>
        <p:blipFill>
          <a:blip r:embed="rId4"/>
          <a:stretch/>
        </p:blipFill>
        <p:spPr>
          <a:xfrm>
            <a:off x="142920" y="5143680"/>
            <a:ext cx="2143080" cy="1571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Содержимое 1" descr=""/>
          <p:cNvPicPr/>
          <p:nvPr/>
        </p:nvPicPr>
        <p:blipFill>
          <a:blip r:embed="rId1"/>
          <a:stretch/>
        </p:blipFill>
        <p:spPr>
          <a:xfrm>
            <a:off x="244440" y="0"/>
            <a:ext cx="8240760" cy="914400"/>
          </a:xfrm>
          <a:prstGeom prst="rect">
            <a:avLst/>
          </a:prstGeom>
          <a:ln w="0">
            <a:noFill/>
          </a:ln>
        </p:spPr>
      </p:pic>
      <p:sp>
        <p:nvSpPr>
          <p:cNvPr id="762" name="Содержимое 1"/>
          <p:cNvSpPr/>
          <p:nvPr/>
        </p:nvSpPr>
        <p:spPr>
          <a:xfrm>
            <a:off x="34920" y="1411200"/>
            <a:ext cx="910908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Содержимое 1"/>
          <p:cNvSpPr/>
          <p:nvPr/>
        </p:nvSpPr>
        <p:spPr>
          <a:xfrm>
            <a:off x="0" y="1857240"/>
            <a:ext cx="88930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Увеличилось количество членов Омской профессиональной сестринской ассоциации МУЗ «ЦРБ Полтавского района» на 7 человек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Содержимое 1"/>
          <p:cNvSpPr/>
          <p:nvPr/>
        </p:nvSpPr>
        <p:spPr>
          <a:xfrm>
            <a:off x="374760" y="1773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8000" spc="-1" strike="noStrike">
                <a:solidFill>
                  <a:srgbClr val="ffffff"/>
                </a:solidFill>
                <a:latin typeface="Arial"/>
              </a:rPr>
              <a:t>Благодарю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4:35:55Z</dcterms:created>
  <dc:creator>Олег</dc:creator>
  <dc:description/>
  <dc:language>en-US</dc:language>
  <cp:lastModifiedBy>ОПСА</cp:lastModifiedBy>
  <dcterms:modified xsi:type="dcterms:W3CDTF">2012-07-25T07:54:34Z</dcterms:modified>
  <cp:revision>128</cp:revision>
  <dc:subject/>
  <dc:title>ОТЧЁТ  О РЕАЛИЗАЦИИ МИНИ – ПРОЕКТА УЧАСТНИКА ПРОЕКТА « ЛИДЕРСТВО В ПЕРЕГОВОРАХ»</dc:title>
</cp:coreProperties>
</file>