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notesMasterIdLst>
    <p:notesMasterId r:id="rId24"/>
  </p:notes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notesMaster" Target="notesMasters/notesMaster1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9F3E-4EFC-4BBF-8D17-546FF615CD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2E5C-5C4E-4870-B416-1F33FF3CA9F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30602-9D3C-41FB-8DDC-F398E49C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68FA-44C6-4893-8801-0BC3B1C7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D2CA2-9E53-4044-BD51-F4754E76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D3BFE-63AF-44C7-8AC0-EBD82CDB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2C9ED-02A5-4511-9715-859651A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DC072-797B-4FC7-ADFE-8FB3CBFA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C87E1-59B8-4E24-BC3B-5AA5B6E7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E07D3-55AF-4B5E-87D1-47EABFCC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6543D-10FC-4228-8CD7-B2736A46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E34E9-2EC9-40F1-B8AB-B610CA66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247D4-A5BD-4CFF-9EFF-CB0F50A5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A9489-0754-41BD-B6CA-7059E123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12B33-DBB9-4CFF-AC82-461CDA61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C1547-0777-47EC-8538-01A6EF5C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CEB3B-F53A-4CF2-B9FF-CF59D735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4AF5E-4871-4F96-9F59-3A5A8C77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B0F1E-7BAF-4278-9E6F-AC2F6B5B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6F43B-E731-459A-BBD8-688B28F7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80548-11D0-483C-BC0B-C6D96093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146DE-17AC-4554-AECC-5118E809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0EF98-5745-4CE4-95B1-E2FEF2E63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F738D-AC44-459A-A98F-2D01FA5A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C605B-0CE0-4F71-A630-37409928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6236FD-92B8-4F59-8B06-8AF691E0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98D4E-6F56-499E-BC9B-35884B36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F494C-1C56-4B73-A16B-163CB9C3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9D00B-1DE9-40B2-BBEE-4DFB6F8C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AF26A-331E-4490-8EB2-43E62ACE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452A7-9A73-4803-B165-43FEA4F2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9D134-0926-4871-98D4-1F129D83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2DA9-03DA-4FED-94A9-5CC472E6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EE77A-9E36-4CFD-B351-362366CA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45933-4633-4734-BB22-655A84C5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46BF0-65DD-4127-ACD1-A6EFC78F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1C2DE-72D8-4B85-83D6-8739CB1D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FD1BE1-0062-4E28-9039-3D70FB19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E2346-B5CC-4651-852E-961607B9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14E1A-ECFF-43C4-9040-15E5B33D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AD14B-7571-484B-8296-A978661A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43DFA-E486-4D0F-B1CF-9CB94544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3CDD0-BCAA-4EEC-B8D5-FAF5D089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5FC-92CF-4F5F-A4E1-E3D4F22C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931A6A-BBD9-432A-AF71-32E5A325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AAC84-C4E1-4150-9609-75D84428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F70A6-B6F8-4F17-9538-2E67C064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A377B-E8C0-4A9A-A731-1EF19244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20676-CA18-4AEE-99B5-6FCA691C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D5669-A691-4F2D-B751-09364992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69613-A303-4B95-AEEE-B1CF0845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BDC9A-48EA-4C4E-9F40-67D3AE7B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A24D9-E0F9-4493-9B2E-977E21E7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8CA4D-5B1B-4814-9C1B-E9F6719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387-1132-42F2-9229-16B325FA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09753-7DFF-4FB5-93DE-A0F6C1DB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46D2E-BD83-40D7-81B3-797A47E1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F76E8-7F0D-4F78-9F47-83A013A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71556-F75B-4BB7-9C4F-7A3AD7F4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84425-9D4C-46AB-BFBC-208CFD36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E3B7E-A353-451F-93FF-380340D5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EF19D-B9A1-4070-9907-24F04238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E35B36-AC9E-4133-81BD-5AEC1332E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6A57D-A210-4128-8763-7BE928DB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C7739-AFFE-43F9-8C85-6F653AD7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CCF-75C8-4BF3-A1FE-6AE15B3C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7EB794-9106-445D-83C2-ADBE0AFB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9ED20-E2F1-4729-B341-02DE8775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26862-D87C-4326-95B8-813A1D8C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224A0D-487F-448E-8A7B-7C1FBF6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B841B-0E8F-4816-8B6C-1C523B68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F8897-C479-4515-A2C5-10C9B06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9B63D-E590-412C-8F5A-EF1510C2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D79F2A-42A5-4376-9184-E6AE9578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84B76-47A3-4388-BA43-6FEC4D557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B1CC0-450B-48CF-B132-70A578D8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9E6-7331-4F47-A543-1BDC202D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9619E-A1E7-437B-A183-8B74FA16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05518-900A-466E-8E10-B2963B49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45923-1A6F-4345-9FC3-D83B4CED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D30D2-33D5-4E41-A470-7FCEABA2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4202E-02CA-47C8-B922-73155E708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9F6AC-F910-4C6B-82C5-892A62C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C9E39-CFA3-4C83-8F6A-8DCB72F2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FCBE4-CB9B-40D7-AE93-DE87CB80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49AC8-97C4-47EC-8C4A-4A31280F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06159-1B3A-4F9E-9E64-A69740A8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A42-0F76-4C16-BFF5-7863404A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77666-32E7-4D95-8EA0-C14661D3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E6EBE-F516-4EB4-987D-FD3CF720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1F8E3-66F0-4B70-8B89-17A18EDB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EB568D-0465-490F-B522-74F84BA3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22005-E3FE-4494-8E0B-3CC54996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A2213-1764-4E4C-9A8E-EDFA08E2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2C8D9-DDBB-44BF-A439-74203C67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BC153-201C-4BF6-B936-B735952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E56A1C-74DF-4644-B290-7084B0D1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CDD8D-FC60-42F4-8852-AB52491B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FEC-B4EB-4C74-833E-D76EEAA5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D21B4-3720-430C-86A0-8E227387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9E25A1-F066-494B-B8A0-803A3A3F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6BFF2-59B7-44A5-A2DC-48EBFE5E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3856A-85DB-493B-9405-BCD2A65C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5AC48-75B2-4FCA-90F9-A0C7DA27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625FF-7389-4B73-B065-FF15682C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781D5-0750-4D7A-AB1E-5109DEEE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447980-3B9A-4B6A-BA61-BF41624C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CB65CC-0766-4C6A-8985-C4E8A580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5D0A9-26D9-45A9-86A9-D807C33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F0BA-0070-4D44-A53D-861859AD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7FFE20-200D-4CCA-B61C-461C77E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5E330-2DEC-4DAF-87DA-60E1037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582A1A-2EC7-47F7-9231-608F07A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8E011-DD8B-4BEC-8721-0B5E1C52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01201-2A93-44A6-A308-AE0A89F8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BD856C-2A24-46C2-BA19-99614959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E02F3-3431-4000-800F-4E695C7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6310B-C282-46F5-9F66-ED74F758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BB946-07F6-4149-8FAD-B48CF52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14757-5745-4CBB-A8E1-1A37BDAC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3D15-AF57-401F-95F2-B9B1EE67D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A31821-7A0A-4F54-BFEA-6AFE8B652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88AB4-55F7-4967-98CC-9E6AD74E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1A07D-A8CA-43A0-B562-C1C1826C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9857B6-DA11-4429-8AE6-7DC27D66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D6B60-56A7-47B4-8C3F-940F79D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D31D7-A7BD-4C4C-A5E2-1EC47C708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A7E2F0-4B26-45BA-9EEA-A804F67B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C0344-9E85-4FF9-939E-702E1B69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E702A-E986-4719-8440-0A9EC1A5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CFBDB-6787-42E8-A643-2556932A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4A7-2EE9-4444-B4B4-8768BFF6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2350C9-8356-44E9-A271-03354B9A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CB568B-2AD9-4322-8637-D5942101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12D7CD-78F9-4038-82A4-721FCAD0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2BAB6-2D0E-4D89-9D41-651F77F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A0B2C-D0B4-4B5F-9FAA-3FCFEE4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686C48-64F2-4E09-ABF5-5C3745F3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71A2F-1F9C-495B-9CBC-5AF1C24A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3D4FD7-8049-4867-A259-6E3B7B782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80209-0442-4902-8707-5C1697C3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86EB68-1229-4DCA-9AED-532E0ECE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E2A-75A1-4635-9909-4E12FF571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415893-63AF-47CA-98C9-9995678E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269D5-0360-4256-9868-9E17B9FD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1EF89-363E-4E28-90BC-7EDFD237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376548-27E7-4403-96D7-69D75E0F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095BC9-5E02-4BF9-8C1F-40DE18710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823C3C-CF47-49B5-A63D-892A4B72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C5DF90-C0E1-4DE0-935F-DE601B1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BCFC73-5A7C-4A96-B1A8-AE7AF875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11F238-ABD1-4520-A285-8E475393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8A780-1F83-4A44-A0FE-EAE6D3F5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310-8700-492C-ACB4-E6448AEE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8FFB8E-7AC6-4888-B3E7-C606B953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9B1BFE-98E4-4178-BCF1-ABF976B0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EEE3DC-0F14-4FAE-A5DB-17DF3377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66206E-8268-4208-911A-C790D10C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B9340A-DE55-4D65-A59B-6CBC9AA3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42A886-FA4C-46E0-A4B8-7D0FE19F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25BAA-C6A2-4C9A-834C-5CABE4CD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DAC99-D4B6-48EC-905B-3FABFC1D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987F3-A94C-40CC-9060-494F636C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CC4D9-34B6-42E4-AE20-93AD18DC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A74E-7223-41DF-B6C1-B48A3CC3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53AE99-B95C-4F63-BC58-7F1D0FD6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344D6-4352-47B0-B178-591FC4DE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B75BB7-B25B-4E65-ACE7-41ECB14C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71BD70-BA4F-422A-BAAA-93DE33DF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8B4E49-189D-4707-B319-7175780D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C09C6-F25B-4F08-B6C3-D67A0F11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6BF380-1CC1-456A-90B8-7DE289C9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788562-4DF9-42B3-A991-373C3A3C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EA84EC-D115-465C-86C9-8D8BC1F4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32BB23-BC6D-4F02-8B9C-941CCF99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76AF-271E-4A9C-BD3A-990DA1B3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4896B-77D1-4795-AAA9-BED87BF2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77F8B3-489D-4B82-B40C-0D79AE1A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38D03-DF71-4909-B1C2-5606AFFE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B477F9-F308-483A-AFC2-1A8B5585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A05138-BC71-4DD3-9138-8052068A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BBCB-122C-428B-A7F1-72862C3D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A15A-8714-4993-BC72-7F91B18B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D9BB-8DD4-4FD8-9EBE-907DC6C1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7887-1927-4264-BF09-BED7B527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0816-FDDC-48AA-966D-CCDCDA65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AD21-9DF5-4899-97AB-7FB7C892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C18E-DA00-4135-B1C1-01F1CC6C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F449-B5F0-4B86-9DAD-8B752421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5D8E-C080-4C1B-BB2A-D7FCA0FD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2646-9E3F-4202-827A-6743C5D2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FA7F-1CFC-417B-89AB-260E1A1F5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F6056-F123-4156-9043-0114A9E8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3953-79F7-409C-8117-85BE382C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E268-0A4B-44A5-BB0D-D0813385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336C4-3196-4F91-9D87-C14A61F2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21E63-D43B-465A-AE0B-A623254C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DA8C-1227-435F-9150-41D891B3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CAC5-A672-41F6-B9EF-1D2D5DA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4001F-CF44-4E8B-9E24-DB11B996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B6373-AA98-43B7-A582-644C437C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D1381-F45E-4575-BD5A-802FAB9F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5EB8A-D766-4591-9FCC-6C185FDB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FCCCD-539D-4B5F-A0C6-A8F28FE4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CC2F-7B9E-4677-B68F-FAC0316E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A591D-2EC2-4CF2-87EE-51C9AFBF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51EAD-CBB0-4908-94C0-075F0444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4E6E6-4E82-4B8E-AEA8-C7DFA96F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E757-2DF9-443E-AC17-5564E670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E9372-0378-4AC7-BB73-C9338284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4D069-9D84-4D79-ADCF-05CF81B8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D1FCE-D0E0-4FA4-953F-18A5D7DB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EA90-0D05-463A-A188-0F9A2625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B5BDD-E64F-4204-97B1-65ACF3D8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52B26-3140-44FF-81B9-FF1686A1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38700-B70C-4FC9-8CBC-B6312C53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36B39-2B63-4B5E-85EF-8DDA7FAF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3FB1F-580D-4EE0-8291-D4497430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BD50B-1734-4369-848A-50D462CF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05B4C-00FE-4F12-950A-F9797D4C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9A846-65BF-4EE7-ACF8-1461826D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B9DA5-0E21-4B2A-9E68-14FF099A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BB0C3-8A1C-4B60-ACAD-682B9BB9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8E86E-3199-43D5-B83C-1E17990E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C3699-D6DB-4E48-8BE7-874CCCE3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2EB0E-9336-4694-9DCB-B97546FE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A894-417F-4121-B044-8154F8CF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80E38-338C-40F4-8E21-7C8EDFD2B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EE4DC-2A96-48A0-BE4D-DE89C645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B81D7-685E-4B01-84A1-0FE11627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150E-E4B3-487A-9DC9-A982F580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30348-491D-46C6-B1BF-BB8B00C5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EA16B-1280-4A64-B4AB-D0EF42DF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AE27B-71FB-45CD-AFEA-5115B5A1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33297-E809-45DF-91CF-394E471F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9C862-1A5B-4CC0-8CF2-B5688BAA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2FBD-E0F9-4CF7-BA4F-53BDB67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278C7-7E05-4897-9403-BC748805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A6227-332C-4D93-9AD0-AB8B53ACD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12F2-32B1-4AF3-97C5-0C4ADA2F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0D2D8-B056-4C07-9307-025090E5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485D0-DAC3-419E-A374-2CB6587A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43581-B941-45FE-BCE9-B2166348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6EAE1-2B24-450B-9FFD-FD46066E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AC68C-2883-4387-BEC9-2D61DE32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8B305-981D-4E05-AB84-12C2DCED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B15A6-5690-490A-8688-60B36DB9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FAD5E-760E-487B-866B-25466F2A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DD1BF-C181-437D-A861-09C783E6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34AA0-E1F8-4FCC-8506-B58B68AA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E47BC-4C0F-4605-B562-7F3A1DCA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739A0-B993-4ECC-9741-1FEFA7A0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56CC5-E784-40B5-8019-9ECD6336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CCC93-0F72-4850-8954-33DF9076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7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Group 7"/>
          <p:cNvGrpSpPr/>
          <p:nvPr/>
        </p:nvGrpSpPr>
        <p:grpSpPr>
          <a:xfrm>
            <a:off x="4468680" y="304920"/>
            <a:ext cx="3976920" cy="5638680"/>
            <a:chOff x="4468680" y="304920"/>
            <a:chExt cx="3976920" cy="5638680"/>
          </a:xfrm>
        </p:grpSpPr>
        <p:pic>
          <p:nvPicPr>
            <p:cNvPr id="422" name="Rectangle 8" descr=""/>
            <p:cNvPicPr/>
            <p:nvPr/>
          </p:nvPicPr>
          <p:blipFill>
            <a:blip r:embed="rId6"/>
            <a:stretch/>
          </p:blipFill>
          <p:spPr>
            <a:xfrm>
              <a:off x="4468680" y="304920"/>
              <a:ext cx="3976920" cy="1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Rectangle 9" descr=""/>
            <p:cNvPicPr/>
            <p:nvPr/>
          </p:nvPicPr>
          <p:blipFill>
            <a:blip r:embed="rId7"/>
            <a:stretch/>
          </p:blipFill>
          <p:spPr>
            <a:xfrm>
              <a:off x="4468680" y="5792040"/>
              <a:ext cx="3976920" cy="15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Rectangle 10" descr=""/>
            <p:cNvPicPr/>
            <p:nvPr/>
          </p:nvPicPr>
          <p:blipFill>
            <a:blip r:embed="rId8"/>
            <a:stretch/>
          </p:blipFill>
          <p:spPr>
            <a:xfrm>
              <a:off x="8354880" y="304920"/>
              <a:ext cx="90720" cy="563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Rectangle 11" descr=""/>
            <p:cNvPicPr/>
            <p:nvPr/>
          </p:nvPicPr>
          <p:blipFill>
            <a:blip r:embed="rId9"/>
            <a:stretch/>
          </p:blipFill>
          <p:spPr>
            <a:xfrm>
              <a:off x="4468680" y="304920"/>
              <a:ext cx="96840" cy="5638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25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26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7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9A91-74CB-4742-AFF3-54F02ECC31A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7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dt" idx="28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29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30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28AD-BCBE-4460-B957-6222CED29D8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dt" idx="31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2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3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8B73-4858-496E-9211-EC8DC4DC57B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3494-29F0-413C-AD67-4AEDAE0BE627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3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3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876-1C7C-49D6-8E7F-EA241B92194F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0a5d72"/>
              </a:gs>
              <a:gs pos="100000">
                <a:srgbClr val="85c5d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4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4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4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133E-0ED9-4DFD-BA13-410DECB3917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4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4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FA49-F25D-4042-AC16-C588139E8E2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0F54-D522-47B1-BCD3-4F40E943AA48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5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5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9BB2-E83A-4BD4-9C51-2282D2EACD9D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 type="dt" idx="5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 type="ftr" idx="5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 type="sldNum" idx="5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F387-D7DA-450D-BC45-C5B6D994F39B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BAA8-1228-4215-A24F-FCFFE3E1C9B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55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ftr" idx="56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B362-7D5D-4DBA-BE50-0141EA8A0ADA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7dec9">
                  <a:alpha val="1176"/>
                </a:srgbClr>
              </a:gs>
              <a:gs pos="100000">
                <a:srgbClr val="e7dec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eb3b1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5bbb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db2c9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6db2c9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3891a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3891a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3891a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0b5c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8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9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0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1D00-64BC-4BCD-81D6-E2F2956D304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4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4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9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53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6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6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6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0758-20F2-421C-8488-567AA05530D0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7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90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B08D-DF86-43A3-850A-1FC771E490EE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1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" name="Rectangle 25"/>
          <p:cNvGrpSpPr/>
          <p:nvPr/>
        </p:nvGrpSpPr>
        <p:grpSpPr>
          <a:xfrm>
            <a:off x="-55440" y="-55440"/>
            <a:ext cx="9248760" cy="6962760"/>
            <a:chOff x="-55440" y="-55440"/>
            <a:chExt cx="9248760" cy="6962760"/>
          </a:xfrm>
        </p:grpSpPr>
        <p:pic>
          <p:nvPicPr>
            <p:cNvPr id="146" name="Rectangle 25" descr=""/>
            <p:cNvPicPr/>
            <p:nvPr/>
          </p:nvPicPr>
          <p:blipFill>
            <a:blip r:embed="rId6"/>
            <a:stretch/>
          </p:blipFill>
          <p:spPr>
            <a:xfrm>
              <a:off x="-55440" y="-55440"/>
              <a:ext cx="9248760" cy="696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Diagonal Stripe 12"/>
          <p:cNvGrpSpPr/>
          <p:nvPr/>
        </p:nvGrpSpPr>
        <p:grpSpPr>
          <a:xfrm>
            <a:off x="463680" y="2372040"/>
            <a:ext cx="8454960" cy="864720"/>
            <a:chOff x="463680" y="2372040"/>
            <a:chExt cx="8454960" cy="864720"/>
          </a:xfrm>
        </p:grpSpPr>
        <p:pic>
          <p:nvPicPr>
            <p:cNvPr id="149" name="Diagonal Stripe 12" descr=""/>
            <p:cNvPicPr/>
            <p:nvPr/>
          </p:nvPicPr>
          <p:blipFill>
            <a:blip r:embed="rId7"/>
            <a:stretch/>
          </p:blipFill>
          <p:spPr>
            <a:xfrm>
              <a:off x="463680" y="2683800"/>
              <a:ext cx="8454960" cy="2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 rot="21321000">
              <a:off x="2576160" y="2627280"/>
              <a:ext cx="6315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8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9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69BB-C58F-4209-9BC1-DE9B369269E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1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C151-6BA1-4EE8-A348-D9B3A3C55F5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7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7371-472F-45C1-A3D4-C797ED60554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16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17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18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4C2E-A54B-450E-B34B-D6302A67EE3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7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dt" idx="19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ftr" idx="20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sldNum" idx="21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9EF8-B1F9-4D97-A400-463EC9B740C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2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Rectangle 9" descr=""/>
            <p:cNvPicPr/>
            <p:nvPr/>
          </p:nvPicPr>
          <p:blipFill>
            <a:blip r:embed="rId3"/>
            <a:stretch/>
          </p:blipFill>
          <p:spPr>
            <a:xfrm>
              <a:off x="0" y="6682320"/>
              <a:ext cx="9144000" cy="17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Rectangle 10" descr=""/>
            <p:cNvPicPr/>
            <p:nvPr/>
          </p:nvPicPr>
          <p:blipFill>
            <a:blip r:embed="rId4"/>
            <a:stretch/>
          </p:blipFill>
          <p:spPr>
            <a:xfrm>
              <a:off x="896796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Rectangle 11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760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56760" y="64260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228600" indent="-228600">
              <a:spcBef>
                <a:spcPts val="1199"/>
              </a:spcBef>
              <a:buClr>
                <a:srgbClr val="bfbfbf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28600" indent="-228600">
              <a:spcBef>
                <a:spcPts val="1199"/>
              </a:spcBef>
              <a:buClr>
                <a:srgbClr val="ffffff"/>
              </a:buClr>
              <a:buFont typeface="Wingdings" charset="2"/>
              <a:buChar char="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22"/>
          </p:nvPr>
        </p:nvSpPr>
        <p:spPr>
          <a:xfrm>
            <a:off x="45684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3"/>
          </p:nvPr>
        </p:nvSpPr>
        <p:spPr>
          <a:xfrm>
            <a:off x="3124080" y="65433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4"/>
          </p:nvPr>
        </p:nvSpPr>
        <p:spPr>
          <a:xfrm>
            <a:off x="6552720" y="6543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44E8-E4E3-4795-BB7F-279C8B979F1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5"/>
          <p:cNvSpPr/>
          <p:nvPr/>
        </p:nvSpPr>
        <p:spPr>
          <a:xfrm>
            <a:off x="0" y="907920"/>
            <a:ext cx="9144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Отчет                                                 о реализации мини-проекта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«Будущее профессии создадим вместе»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6"/>
          <p:cNvSpPr/>
          <p:nvPr/>
        </p:nvSpPr>
        <p:spPr>
          <a:xfrm>
            <a:off x="324000" y="4924440"/>
            <a:ext cx="880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Руководитель мини-проект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Лейба Ольга Ивановна – главная акушерка МУЗ Родильный дом №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Text Box 8"/>
          <p:cNvSpPr/>
          <p:nvPr/>
        </p:nvSpPr>
        <p:spPr>
          <a:xfrm>
            <a:off x="900000" y="6051600"/>
            <a:ext cx="82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Координатор международного проекта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Arial"/>
              </a:rPr>
              <a:t>Зорина Т.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Text Box 10"/>
          <p:cNvSpPr/>
          <p:nvPr/>
        </p:nvSpPr>
        <p:spPr>
          <a:xfrm>
            <a:off x="250920" y="4005360"/>
            <a:ext cx="88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009 – 201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"/>
          <p:cNvSpPr txBox="1"/>
          <p:nvPr/>
        </p:nvSpPr>
        <p:spPr>
          <a:xfrm>
            <a:off x="539640" y="259920"/>
            <a:ext cx="7561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ffffff"/>
                </a:solidFill>
                <a:latin typeface="Arial"/>
              </a:rPr>
              <a:t>Цель мини-проекта:</a:t>
            </a:r>
            <a:endParaRPr b="0" lang="en-US" sz="5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Содержимое 2"/>
          <p:cNvSpPr/>
          <p:nvPr/>
        </p:nvSpPr>
        <p:spPr>
          <a:xfrm>
            <a:off x="34920" y="1844640"/>
            <a:ext cx="8785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1. Повышение информированности сестринского персонала о деятельности МСМ, РАМС и ОПСА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Содержимое 2"/>
          <p:cNvSpPr/>
          <p:nvPr/>
        </p:nvSpPr>
        <p:spPr>
          <a:xfrm>
            <a:off x="0" y="4508640"/>
            <a:ext cx="8748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2. Увеличение численности членов Ассоциации на 10 человек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 txBox="1"/>
          <p:nvPr/>
        </p:nvSpPr>
        <p:spPr>
          <a:xfrm>
            <a:off x="682200" y="574560"/>
            <a:ext cx="864252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 algn="ctr">
              <a:lnSpc>
                <a:spcPct val="10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>
                <a:solidFill>
                  <a:srgbClr val="ffffff"/>
                </a:solidFill>
                <a:latin typeface="Arial"/>
              </a:rPr>
              <a:t>Задачи мини-проекта:</a:t>
            </a:r>
            <a:endParaRPr b="0" lang="en-US" sz="5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Содержимое 1"/>
          <p:cNvSpPr/>
          <p:nvPr/>
        </p:nvSpPr>
        <p:spPr>
          <a:xfrm>
            <a:off x="144360" y="1989000"/>
            <a:ext cx="8531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1. Увеличение численности членов Ассоциации в Родильном доме № 2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Содержимое 1"/>
          <p:cNvSpPr/>
          <p:nvPr/>
        </p:nvSpPr>
        <p:spPr>
          <a:xfrm>
            <a:off x="144360" y="4365720"/>
            <a:ext cx="8256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2. Подготовка информационного стенда «Наша сестринская ассоциация».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25092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Arial"/>
              </a:rPr>
              <a:t>Период реализации            мини-проекта: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8" name="Содержимое 1"/>
          <p:cNvSpPr/>
          <p:nvPr/>
        </p:nvSpPr>
        <p:spPr>
          <a:xfrm>
            <a:off x="395280" y="3571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ffffff"/>
                </a:solidFill>
                <a:latin typeface="Arial"/>
              </a:rPr>
              <a:t>01.10.2009 г.  -  01.04.2010 г.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9000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Arial"/>
              </a:rPr>
              <a:t>Что удалось сделать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0" name="Содержимое 1"/>
          <p:cNvSpPr/>
          <p:nvPr/>
        </p:nvSpPr>
        <p:spPr>
          <a:xfrm>
            <a:off x="34920" y="979560"/>
            <a:ext cx="903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1. Получить поддержку главного врача в реализации мини-проект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Содержимое 1"/>
          <p:cNvSpPr/>
          <p:nvPr/>
        </p:nvSpPr>
        <p:spPr>
          <a:xfrm>
            <a:off x="0" y="206064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2. Изготовить информационный стенд «Наша сестринская ассоциация». Обновлять информацию на стенде - 1 раз в 3 месяц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Содержимое 1"/>
          <p:cNvSpPr/>
          <p:nvPr/>
        </p:nvSpPr>
        <p:spPr>
          <a:xfrm>
            <a:off x="0" y="3645000"/>
            <a:ext cx="8964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3. Провести семинарские занятия по 16,5-часовой программе «Лидерство в переговорах» с 12.10.09 г. по 24.12.09 г.  Подготовить 21 человек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Содержимое 1"/>
          <p:cNvSpPr/>
          <p:nvPr/>
        </p:nvSpPr>
        <p:spPr>
          <a:xfrm>
            <a:off x="0" y="5589720"/>
            <a:ext cx="8964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4. Привлечь в члены ОПСА 11 человек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5. Выбрать ключевого член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0" y="0"/>
            <a:ext cx="9144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Arial"/>
              </a:rPr>
              <a:t>Мероприятия, проведенные для достижения поставленных целей: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5" name="Содержимое 1"/>
          <p:cNvSpPr/>
          <p:nvPr/>
        </p:nvSpPr>
        <p:spPr>
          <a:xfrm>
            <a:off x="2879640" y="1413000"/>
            <a:ext cx="6123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бщебольничная сестринская конференция по итогам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ого семинара «Лидерство в переговорах» 10.10.09 г. (45 человек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Содержимое 1"/>
          <p:cNvSpPr/>
          <p:nvPr/>
        </p:nvSpPr>
        <p:spPr>
          <a:xfrm>
            <a:off x="2952720" y="3933720"/>
            <a:ext cx="6227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оведены семинарские занятия «Лидерство в переговорах» по 16,5-часовой программе с 12.10.09 по 24.12.09 г. (21 человек). К проведению занятий были привлечены психолог, главный экономист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7" name="Picture 26" descr="P1040113"/>
          <p:cNvPicPr/>
          <p:nvPr/>
        </p:nvPicPr>
        <p:blipFill>
          <a:blip r:embed="rId1"/>
          <a:stretch/>
        </p:blipFill>
        <p:spPr>
          <a:xfrm>
            <a:off x="220680" y="1557360"/>
            <a:ext cx="2695680" cy="2022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7" descr="P1040114"/>
          <p:cNvPicPr/>
          <p:nvPr/>
        </p:nvPicPr>
        <p:blipFill>
          <a:blip r:embed="rId2"/>
          <a:stretch/>
        </p:blipFill>
        <p:spPr>
          <a:xfrm>
            <a:off x="181080" y="432900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Содержимое 1"/>
          <p:cNvSpPr/>
          <p:nvPr/>
        </p:nvSpPr>
        <p:spPr>
          <a:xfrm>
            <a:off x="0" y="141120"/>
            <a:ext cx="91440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ffff"/>
                </a:solidFill>
                <a:latin typeface="Arial"/>
              </a:rPr>
              <a:t>Мероприятия, проведенные для достижения поставленных целей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Содержимое 1"/>
          <p:cNvSpPr/>
          <p:nvPr/>
        </p:nvSpPr>
        <p:spPr>
          <a:xfrm>
            <a:off x="2811600" y="3933720"/>
            <a:ext cx="633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ыпущен стенд «Наша сестринская ассоциация» 15.03.10 г. Обновление информации на стенде о деятельности МСМ, РАМС и ОПСА 01.06.10 г. и 01.11.10 г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Содержимое 1"/>
          <p:cNvSpPr/>
          <p:nvPr/>
        </p:nvSpPr>
        <p:spPr>
          <a:xfrm>
            <a:off x="2771640" y="1484280"/>
            <a:ext cx="619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Заседание инициативной группы по изготовлению стенда и подготовке информации 19.02.10 г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2" name="Picture 14" descr="Изображение 329"/>
          <p:cNvPicPr/>
          <p:nvPr/>
        </p:nvPicPr>
        <p:blipFill>
          <a:blip r:embed="rId1"/>
          <a:stretch/>
        </p:blipFill>
        <p:spPr>
          <a:xfrm>
            <a:off x="468360" y="1341360"/>
            <a:ext cx="1771560" cy="26654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5" descr="Изображение 421"/>
          <p:cNvPicPr/>
          <p:nvPr/>
        </p:nvPicPr>
        <p:blipFill>
          <a:blip r:embed="rId2"/>
          <a:stretch/>
        </p:blipFill>
        <p:spPr>
          <a:xfrm>
            <a:off x="179280" y="4581360"/>
            <a:ext cx="2592360" cy="1724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 txBox="1"/>
          <p:nvPr/>
        </p:nvSpPr>
        <p:spPr>
          <a:xfrm>
            <a:off x="25092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700" spc="-1" strike="noStrike">
                <a:solidFill>
                  <a:srgbClr val="ffffff"/>
                </a:solidFill>
                <a:latin typeface="Arial"/>
              </a:rPr>
              <a:t>Достижения: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Содержимое 1"/>
          <p:cNvSpPr/>
          <p:nvPr/>
        </p:nvSpPr>
        <p:spPr>
          <a:xfrm>
            <a:off x="34920" y="1411200"/>
            <a:ext cx="91090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Повысилась информированность сестринского персонала о профессиональном сестринском движен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Содержимое 1"/>
          <p:cNvSpPr/>
          <p:nvPr/>
        </p:nvSpPr>
        <p:spPr>
          <a:xfrm>
            <a:off x="0" y="414972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Увеличилось количество членов Омской профессиональной сестринской ассоциации МУЗ Родильный дом №2 на 11 челове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Содержимое 1"/>
          <p:cNvSpPr/>
          <p:nvPr/>
        </p:nvSpPr>
        <p:spPr>
          <a:xfrm>
            <a:off x="374760" y="1773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8200" spc="-1" strike="noStrike">
                <a:solidFill>
                  <a:srgbClr val="ffffff"/>
                </a:solidFill>
                <a:latin typeface="Arial"/>
              </a:rPr>
              <a:t>Благодарю 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200" spc="-1" strike="noStrike">
                <a:solidFill>
                  <a:srgbClr val="ffffff"/>
                </a:solidFill>
                <a:latin typeface="Arial"/>
              </a:rPr>
              <a:t>за внимание!</a:t>
            </a:r>
            <a:endParaRPr b="0" lang="en-US" sz="8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4:35:55Z</dcterms:created>
  <dc:creator>Олег</dc:creator>
  <dc:description/>
  <dc:language>en-US</dc:language>
  <cp:lastModifiedBy>ОПСА</cp:lastModifiedBy>
  <dcterms:modified xsi:type="dcterms:W3CDTF">2012-07-25T07:53:53Z</dcterms:modified>
  <cp:revision>131</cp:revision>
  <dc:subject/>
  <dc:title>ОТЧЁТ  О РЕАЛИЗАЦИИ МИНИ – ПРОЕКТА УЧАСТНИКА ПРОЕКТА « ЛИДЕРСТВО В ПЕРЕГОВОРАХ»</dc:title>
</cp:coreProperties>
</file>