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EFB-BA81-428C-B3D1-B9C7765C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1AA-FA17-4D9B-B334-5769B173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40B2-635F-4547-B5CA-599C9FE2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FBB8-437E-442D-B618-7A67466BD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DB11-A21F-4994-B18C-0294DD49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23F6-A93F-47DE-9A26-005F486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7D22-8C58-4DA9-BFE6-16884FCF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D63A-3D7D-4045-B267-73F8B85C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0E4E-F3C1-42A1-995D-AC959E35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4526-7103-4E0E-87FA-7A92E83C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D16E1-3A9C-46E7-B97C-6C70B35C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2AC-2AC0-447A-A046-DD4EC796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1A69-A6BC-4E0F-BA14-A0F6763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22FA-32C1-4091-BB42-8CD94E97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CB67-476D-48AB-892C-11EFE878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68D6-575F-48D8-90CB-F6EDC44B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7E7F-876E-422D-9129-DB68D69CA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DA6-1E7C-4F70-96BE-71FECD2C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C947-67A6-4C49-B96B-8C4B6494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ACBC-1446-4164-9ADB-F9534224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22D-6CF7-4B8F-B0DC-C5670AF4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F2A-8F11-4523-9C0D-1837781B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6B61-3068-4133-BE16-16A74D0F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C9E1-480F-4C50-A757-9AA36DA0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B8D0-8CFE-4681-8E2C-B1172673F50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8C1A-CD77-4149-9B1E-21C00BDC82A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г.Омск,   МУЗ «Городская больница №17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Отчет о реализации 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мини-проекта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Verdana"/>
              </a:rPr>
              <a:t>«Благоприятные условия труда – позитивная атмосфера в коллективе»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06400" y="429264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уководитель мини-проекта: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Шемшелева Е.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уратор мини-проекта: Франк Т.Н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оординатор мини-проекта: Дацюк С.Ф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8.11.09г. проведено собрание членов ОПСА с целью избрания ключевого член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19" descr="P1030615"/>
          <p:cNvPicPr/>
          <p:nvPr/>
        </p:nvPicPr>
        <p:blipFill>
          <a:blip r:embed="rId1"/>
          <a:stretch/>
        </p:blipFill>
        <p:spPr>
          <a:xfrm>
            <a:off x="1027080" y="1847880"/>
            <a:ext cx="2917800" cy="2187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0" descr="P1030612"/>
          <p:cNvPicPr/>
          <p:nvPr/>
        </p:nvPicPr>
        <p:blipFill>
          <a:blip r:embed="rId2"/>
          <a:stretch/>
        </p:blipFill>
        <p:spPr>
          <a:xfrm>
            <a:off x="885960" y="4221000"/>
            <a:ext cx="2914560" cy="2186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бран ключевой член Ю.А.Хатьк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Picture 6" descr="P1030882"/>
          <p:cNvPicPr/>
          <p:nvPr/>
        </p:nvPicPr>
        <p:blipFill>
          <a:blip r:embed="rId1"/>
          <a:stretch/>
        </p:blipFill>
        <p:spPr>
          <a:xfrm>
            <a:off x="2876400" y="1600200"/>
            <a:ext cx="33912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зучение информации на стенд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9" name="Picture 6" descr="Изображение 023"/>
          <p:cNvPicPr/>
          <p:nvPr/>
        </p:nvPicPr>
        <p:blipFill>
          <a:blip r:embed="rId1"/>
          <a:stretch/>
        </p:blipFill>
        <p:spPr>
          <a:xfrm>
            <a:off x="1552680" y="1600200"/>
            <a:ext cx="603720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дготовлена страничка учреждения на сайт ОП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0" y="839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0" y="1227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1800" y="13743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1800" y="1639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Rectangle 32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Rectangle 34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Rectangle 40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28" descr="C:\Users\User\Desktop\Рисунок1.jpg"/>
          <p:cNvPicPr/>
          <p:nvPr/>
        </p:nvPicPr>
        <p:blipFill>
          <a:blip r:embed="rId1"/>
          <a:stretch/>
        </p:blipFill>
        <p:spPr>
          <a:xfrm>
            <a:off x="250920" y="1700280"/>
            <a:ext cx="1573200" cy="11826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9" descr="C:\Users\User\Desktop\Рисунок1.jpg"/>
          <p:cNvPicPr/>
          <p:nvPr/>
        </p:nvPicPr>
        <p:blipFill>
          <a:blip r:embed="rId2"/>
          <a:stretch/>
        </p:blipFill>
        <p:spPr>
          <a:xfrm>
            <a:off x="250920" y="3068640"/>
            <a:ext cx="1616040" cy="1225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0" descr="C:\Users\User\Desktop\Рисунок1.jpg"/>
          <p:cNvPicPr/>
          <p:nvPr/>
        </p:nvPicPr>
        <p:blipFill>
          <a:blip r:embed="rId3"/>
          <a:stretch/>
        </p:blipFill>
        <p:spPr>
          <a:xfrm>
            <a:off x="2124000" y="1700280"/>
            <a:ext cx="1884600" cy="14018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1" descr="C:\Users\User\Desktop\Рисунок1.jpg"/>
          <p:cNvPicPr/>
          <p:nvPr/>
        </p:nvPicPr>
        <p:blipFill>
          <a:blip r:embed="rId4"/>
          <a:stretch/>
        </p:blipFill>
        <p:spPr>
          <a:xfrm>
            <a:off x="2268360" y="3284640"/>
            <a:ext cx="1511640" cy="1146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2" descr="C:\Users\User\Desktop\Рисунок1.jpg"/>
          <p:cNvPicPr/>
          <p:nvPr/>
        </p:nvPicPr>
        <p:blipFill>
          <a:blip r:embed="rId5"/>
          <a:stretch/>
        </p:blipFill>
        <p:spPr>
          <a:xfrm>
            <a:off x="468360" y="4869000"/>
            <a:ext cx="1925640" cy="1450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3" descr="C:\Users\User\Desktop\Рисунок1.jpg"/>
          <p:cNvPicPr/>
          <p:nvPr/>
        </p:nvPicPr>
        <p:blipFill>
          <a:blip r:embed="rId6"/>
          <a:stretch/>
        </p:blipFill>
        <p:spPr>
          <a:xfrm>
            <a:off x="2771640" y="5084640"/>
            <a:ext cx="1322640" cy="987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4" descr="C:\Users\User\Desktop\Рисунок1.jpg"/>
          <p:cNvPicPr/>
          <p:nvPr/>
        </p:nvPicPr>
        <p:blipFill>
          <a:blip r:embed="rId7"/>
          <a:stretch/>
        </p:blipFill>
        <p:spPr>
          <a:xfrm>
            <a:off x="4643280" y="5157720"/>
            <a:ext cx="1249560" cy="944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5" descr="C:\Users\User\Desktop\Рисунок1.jpg"/>
          <p:cNvPicPr/>
          <p:nvPr/>
        </p:nvPicPr>
        <p:blipFill>
          <a:blip r:embed="rId8"/>
          <a:stretch/>
        </p:blipFill>
        <p:spPr>
          <a:xfrm>
            <a:off x="4643280" y="4076640"/>
            <a:ext cx="1243080" cy="938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6" descr="C:\Users\User\Desktop\Рисунок1.jpg"/>
          <p:cNvPicPr/>
          <p:nvPr/>
        </p:nvPicPr>
        <p:blipFill>
          <a:blip r:embed="rId9"/>
          <a:stretch/>
        </p:blipFill>
        <p:spPr>
          <a:xfrm>
            <a:off x="4500720" y="1700280"/>
            <a:ext cx="2047680" cy="154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7" descr="C:\Users\User\Desktop\Рисунок1.jpg"/>
          <p:cNvPicPr/>
          <p:nvPr/>
        </p:nvPicPr>
        <p:blipFill>
          <a:blip r:embed="rId10"/>
          <a:stretch/>
        </p:blipFill>
        <p:spPr>
          <a:xfrm>
            <a:off x="6948360" y="1700280"/>
            <a:ext cx="1725840" cy="129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8" descr="C:\Users\User\Desktop\Рисунок1.jpg"/>
          <p:cNvPicPr/>
          <p:nvPr/>
        </p:nvPicPr>
        <p:blipFill>
          <a:blip r:embed="rId11"/>
          <a:stretch/>
        </p:blipFill>
        <p:spPr>
          <a:xfrm>
            <a:off x="6875640" y="3357720"/>
            <a:ext cx="1714320" cy="1292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9" descr="C:\Users\User\Desktop\Рисунок1.jpg"/>
          <p:cNvPicPr/>
          <p:nvPr/>
        </p:nvPicPr>
        <p:blipFill>
          <a:blip r:embed="rId12"/>
          <a:stretch/>
        </p:blipFill>
        <p:spPr>
          <a:xfrm>
            <a:off x="6804000" y="5013360"/>
            <a:ext cx="161604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иобретены за счет средств отделения холодильник, микроволновая печь и электрический чайни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10" descr="Изображение 028"/>
          <p:cNvPicPr/>
          <p:nvPr/>
        </p:nvPicPr>
        <p:blipFill>
          <a:blip r:embed="rId1"/>
          <a:stretch/>
        </p:blipFill>
        <p:spPr>
          <a:xfrm>
            <a:off x="1655640" y="1600200"/>
            <a:ext cx="1640160" cy="2181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Изображе_0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 счет спонсорской помощи приобретены шкафы для одежды перс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9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делено помещение по созданию условий для соблюдения личной гигиены медицинского персон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9" descr="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помещении имеетс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анузел и душева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би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777960" y="1600200"/>
            <a:ext cx="3397320" cy="45306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ривлечено в ряды Омской профессиональной сестринской ассоциации 2 человека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ecff"/>
                </a:solidFill>
                <a:uFillTx/>
                <a:latin typeface="Arial"/>
              </a:rPr>
              <a:t>Достижения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spcAft>
                <a:spcPts val="475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Улучшились условий труда и быта сестринского персонала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50"/>
              </a:spcBef>
              <a:spcAft>
                <a:spcPts val="4751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Verdana"/>
              </a:rPr>
              <a:t>Созданы условия для соблюдения личной гигиены сестринского персонала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50"/>
              </a:spcBef>
              <a:spcAft>
                <a:spcPts val="4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ecff"/>
                </a:solidFill>
                <a:uFillTx/>
                <a:latin typeface="Arial"/>
              </a:rPr>
              <a:t>Цели мини-проект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spcAft>
                <a:spcPts val="40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Улучшение условий труда и быта сестринского персонал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spcAft>
                <a:spcPts val="40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оздание условий для соблюдения личной гигиены сестринского персонал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Verdana"/>
              </a:rPr>
              <a:t>БЛАГОДАРЮ ЗА ВНИМАНИЕ!</a:t>
            </a: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ecff"/>
                </a:solidFill>
                <a:uFillTx/>
                <a:latin typeface="Arial"/>
              </a:rPr>
              <a:t>Задач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ставить мини-проект и провести с администрацией переговоры на получение поддержки в проведение мини-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вести работу по привлечению спонсоров для осуществления проек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овести ремонт на отведенных площадя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иобрести новую мебель и бытовую техник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ccecff"/>
                </a:solidFill>
                <a:uFillTx/>
                <a:latin typeface="Arial"/>
              </a:rPr>
              <a:t>Период реализации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с 01.09.09г. по 01.04.10г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97520" y="163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9.07.2009г выступила на заседании Совета по сестринскому делу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 прошедшем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 региональном семинаре и представила мини-проек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13" descr="P1030618"/>
          <p:cNvPicPr/>
          <p:nvPr/>
        </p:nvPicPr>
        <p:blipFill>
          <a:blip r:embed="rId1"/>
          <a:stretch/>
        </p:blipFill>
        <p:spPr>
          <a:xfrm>
            <a:off x="108000" y="1773360"/>
            <a:ext cx="5111640" cy="3833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975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7.08.2009г. на заседании Совета по сестринскому делу обсудили список участников и план проведения семинарских занят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Picture 23" descr=""/>
          <p:cNvPicPr/>
          <p:nvPr/>
        </p:nvPicPr>
        <p:blipFill>
          <a:blip r:embed="rId1"/>
          <a:stretch/>
        </p:blipFill>
        <p:spPr>
          <a:xfrm>
            <a:off x="173160" y="1700280"/>
            <a:ext cx="5119560" cy="3838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Участники семинарских заняти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Picture 6" descr="P1030629"/>
          <p:cNvPicPr/>
          <p:nvPr/>
        </p:nvPicPr>
        <p:blipFill>
          <a:blip r:embed="rId1"/>
          <a:stretch/>
        </p:blipFill>
        <p:spPr>
          <a:xfrm>
            <a:off x="1042920" y="1341360"/>
            <a:ext cx="697860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Picture 10" descr="P103062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P1030622"/>
          <p:cNvPicPr/>
          <p:nvPr/>
        </p:nvPicPr>
        <p:blipFill>
          <a:blip r:embed="rId2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"/>
          <p:cNvPicPr/>
          <p:nvPr/>
        </p:nvPicPr>
        <p:blipFill>
          <a:blip r:embed="rId3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 17.09.09г по 03.12.09г проведены семинарские занят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Что удалось сдела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 ходе  занятий  проводились  ролевые игры, что облегчало усвоение пройден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8" descr="P1030624"/>
          <p:cNvPicPr/>
          <p:nvPr/>
        </p:nvPicPr>
        <p:blipFill>
          <a:blip r:embed="rId1"/>
          <a:stretch/>
        </p:blipFill>
        <p:spPr>
          <a:xfrm>
            <a:off x="1019160" y="1600200"/>
            <a:ext cx="2916360" cy="2181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P1030625"/>
          <p:cNvPicPr/>
          <p:nvPr/>
        </p:nvPicPr>
        <p:blipFill>
          <a:blip r:embed="rId2"/>
          <a:stretch/>
        </p:blipFill>
        <p:spPr>
          <a:xfrm>
            <a:off x="1017720" y="3948120"/>
            <a:ext cx="291780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08:08:55Z</dcterms:created>
  <dc:creator>Main</dc:creator>
  <dc:description/>
  <dc:language>en-US</dc:language>
  <cp:lastModifiedBy>ОПСА</cp:lastModifiedBy>
  <dcterms:modified xsi:type="dcterms:W3CDTF">2012-07-25T08:00:13Z</dcterms:modified>
  <cp:revision>20</cp:revision>
  <dc:subject/>
  <dc:title>г.Омск МУЗ «Городская больница №17»</dc:title>
</cp:coreProperties>
</file>