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FEB-3705-4125-BD23-2832089E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D03-D2B5-42BA-95E7-FE94C90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DA14-04B2-423B-AA0D-60F96DD8E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0E5E-1565-4304-8954-ECBAE134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BA80E-D487-4BC4-8192-58D8A87F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D6B5-79E8-47C0-BDBF-2BCA621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EB426-34AC-4004-A406-6CE2684F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6E7F9-E3AC-4E58-895F-10AC1486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36682-3AE0-4FAB-866A-A0CF1A0B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0AC70-8DBE-49F7-91CD-487C4636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7C036-F12A-41AC-AD97-D6CF13D8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9E3-B358-47DD-81B9-2FC79CA8A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132E6-63DD-4C2F-85E0-311254F1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A2E88-9E48-49AE-874E-AFF39A86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E1518-E385-4DDF-87E5-F155F83D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9069-CD8E-4D8B-88E1-451E90FD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9489E-101C-40CA-9E8E-5AA95A0D9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A54A7-2F4F-445A-8C14-32D42817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997C-FC57-4D0D-914C-4C30DB52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D896-6161-4057-9583-BD66556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88711-06B4-4858-A290-FDFC7153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2BF09-16A6-438F-93D4-836F7327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2CC-1E76-47D0-B8E2-3B92FE06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9E1C-C305-4B7D-B141-C7B2C0E7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0E76-99E9-4347-AE2E-DF5EB7D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4BE4A-EC81-4268-9825-7251909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E7802-7389-4BB1-9F7B-D759225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071D-B851-41C0-A9F1-39BAF4E0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D58E-F204-40A5-91D1-317CEC83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04A10-9C9E-4978-B5FD-3D301D7D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E57-AEF0-4DD1-9739-25172E67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B64-F260-4F12-9894-3A70F021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A26-7931-411D-8418-A3D510A0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BB4C-D4A3-49B6-8CA8-E34834D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065-5E30-4A2F-853F-19D251C2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18F0-30C3-4CEC-9B7D-0C5B4253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397-E6A7-4FF4-90EA-94E28E46A5EB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E60D-FB87-47E1-986F-27541CEEBFA9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29CC-BA0A-4978-AD8D-CD63B46293F6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6" name="Подзаголовок 2"/>
          <p:cNvSpPr/>
          <p:nvPr/>
        </p:nvSpPr>
        <p:spPr>
          <a:xfrm>
            <a:off x="71280" y="2133720"/>
            <a:ext cx="89647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5800"/>
                </a:solidFill>
                <a:latin typeface="Verdana"/>
              </a:rPr>
              <a:t>Приветствуем участников!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Admin</cp:lastModifiedBy>
  <dcterms:modified xsi:type="dcterms:W3CDTF">2010-05-18T08:30:07Z</dcterms:modified>
  <cp:revision>11</cp:revision>
  <dc:subject/>
  <dc:title>Слайд 1</dc:title>
</cp:coreProperties>
</file>