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4FA9-6D07-4FDF-A8A2-1A0F164C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34BE-8848-422E-A4C9-9825178A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443-5324-488E-A955-6CA9DE14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CB0-7E11-44B6-AE92-A30F9A36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131-47EB-4058-B098-E9DE1730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581-0302-4509-98D2-D0234EDD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B703-565C-492D-9774-731A75BF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2C9-D6C5-4855-9D8E-90A7F38F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6E4-CE13-4113-9290-434D2E4E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7AB-C6D9-4B5D-844D-1B42EA0A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457-2674-4E0C-B4CC-2638BD4D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8AE-16CA-4D03-B382-EEDBE126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3868-1B7D-432E-9BBA-75D77CD23B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52280" y="380880"/>
            <a:ext cx="883944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Отч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Arial"/>
              </a:rPr>
              <a:t>о реализации мини-проекта «Доступность, открытость, информированность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2009 – 2010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276720" y="4403880"/>
            <a:ext cx="57150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3366"/>
                </a:solidFill>
                <a:latin typeface="Arial"/>
              </a:rPr>
              <a:t>Руководитель мини-проекта: Е.М. Литвинова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3366"/>
                </a:solidFill>
                <a:latin typeface="Arial"/>
              </a:rPr>
              <a:t>МУЗ «Кормиловская ЦРБ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3366"/>
                </a:solidFill>
                <a:latin typeface="Arial"/>
              </a:rPr>
              <a:t>Координатор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3366"/>
                </a:solidFill>
                <a:latin typeface="Arial"/>
              </a:rPr>
              <a:t>Т.А. Зори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914400" y="219384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00"/>
                </a:solidFill>
                <a:latin typeface="Arial"/>
              </a:rPr>
              <a:t>Благодарю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304920" y="457200"/>
            <a:ext cx="8839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3300"/>
                </a:solidFill>
                <a:latin typeface="Arial"/>
              </a:rPr>
              <a:t>Цель мини-проект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685800" y="1600200"/>
            <a:ext cx="815328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213471"/>
                </a:solidFill>
                <a:latin typeface="Arial"/>
              </a:rPr>
              <a:t>объединить сестринский персонал МУЗ «Кормиловская ЦРБ» в сестринское сообщество для защиты профессиональных прав и  развития сестринского дел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152280" y="228600"/>
            <a:ext cx="8839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3300"/>
                </a:solidFill>
                <a:latin typeface="Arial"/>
              </a:rPr>
              <a:t>Задачи мини-проекта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609480" y="1419120"/>
            <a:ext cx="7925040" cy="48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0640" indent="-620640">
              <a:lnSpc>
                <a:spcPct val="110000"/>
              </a:lnSpc>
              <a:spcAft>
                <a:spcPts val="4813"/>
              </a:spcAft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366"/>
                </a:solidFill>
                <a:latin typeface="Arial"/>
              </a:rPr>
              <a:t>привлечь к деятельности Ассоциации 9 новых членов;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20640" indent="-620640">
              <a:lnSpc>
                <a:spcPct val="110000"/>
              </a:lnSpc>
              <a:spcAft>
                <a:spcPts val="4813"/>
              </a:spcAft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366"/>
                </a:solidFill>
                <a:latin typeface="Arial"/>
              </a:rPr>
              <a:t>подготовить материал для открытия странички о деятельности Совета по сестринскому делу на сайт ОПСА;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28600" y="16444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Arial"/>
              </a:rPr>
              <a:t>Период реализаци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143000" y="301608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20.09.09 г. – 20.05.10 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228600" y="76320"/>
            <a:ext cx="8839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3300"/>
                </a:solidFill>
                <a:latin typeface="Arial"/>
              </a:rPr>
              <a:t>Что удалось сделать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09480" y="1219320"/>
            <a:ext cx="830592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0640" indent="-620640">
              <a:lnSpc>
                <a:spcPct val="110000"/>
              </a:lnSpc>
              <a:spcAft>
                <a:spcPts val="3849"/>
              </a:spcAft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лучить поддержку Совета по сестринскому делу для реализации мини-проек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0640" indent="-620640">
              <a:lnSpc>
                <a:spcPct val="110000"/>
              </a:lnSpc>
              <a:spcAft>
                <a:spcPts val="3849"/>
              </a:spcAft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ривлечь к деятельности Ассоциации      9  новых членов. Из них 4 фельдшера, 4 медицинские сестры и 1 зубной техни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0640" indent="-620640">
              <a:lnSpc>
                <a:spcPct val="110000"/>
              </a:lnSpc>
              <a:spcAft>
                <a:spcPts val="3849"/>
              </a:spcAft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дготовить материал для открытия странички о деятельности Совета по сестринскому делу на сайт ОП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228600" y="158760"/>
            <a:ext cx="883908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00"/>
                </a:solidFill>
                <a:latin typeface="Arial"/>
              </a:rPr>
              <a:t>Мероприятия, проведенные для достижения поставленных целе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200400" y="1676520"/>
            <a:ext cx="579132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25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Arial"/>
              </a:rPr>
              <a:t>Рассмотрение проекта на заседании Совета по сестринскому делу 19.09.09 г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Изображение 024"/>
          <p:cNvPicPr/>
          <p:nvPr/>
        </p:nvPicPr>
        <p:blipFill>
          <a:blip r:embed="rId2"/>
          <a:stretch/>
        </p:blipFill>
        <p:spPr>
          <a:xfrm>
            <a:off x="533520" y="1504800"/>
            <a:ext cx="2514600" cy="188784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  <p:pic>
        <p:nvPicPr>
          <p:cNvPr id="60" name="Picture 7" descr="Изображение 010"/>
          <p:cNvPicPr/>
          <p:nvPr/>
        </p:nvPicPr>
        <p:blipFill>
          <a:blip r:embed="rId3"/>
          <a:stretch/>
        </p:blipFill>
        <p:spPr>
          <a:xfrm>
            <a:off x="533520" y="4038480"/>
            <a:ext cx="2514600" cy="190980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  <p:sp>
        <p:nvSpPr>
          <p:cNvPr id="61" name="Rectangle 8"/>
          <p:cNvSpPr/>
          <p:nvPr/>
        </p:nvSpPr>
        <p:spPr>
          <a:xfrm>
            <a:off x="3200400" y="3929040"/>
            <a:ext cx="5943600" cy="25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25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Arial"/>
              </a:rPr>
              <a:t>Проведены семинарские занятия «Лидерство в переговорах» с 01.10.09 по 17.12.09 г. Приняли участие   24 челове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228600" y="44280"/>
            <a:ext cx="883908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00"/>
                </a:solidFill>
                <a:latin typeface="Arial"/>
              </a:rPr>
              <a:t>Мероприятия, проведенные для достижения поставленных целе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3124080" y="4191120"/>
            <a:ext cx="601992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25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Arial"/>
              </a:rPr>
              <a:t>Проведено собрание по итогам работы ОПСА за 2009 г. и планам на 2010 г.  09.04.10 г. Приняли участие 147 человек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3124080" y="1460520"/>
            <a:ext cx="556272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25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3366"/>
                </a:solidFill>
                <a:latin typeface="Arial"/>
              </a:rPr>
              <a:t>Проведено собрание по выбору ключевого члена ОПСА 19.11.09.                         Выбрана Е.М. Литвинов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Литвинова Е"/>
          <p:cNvPicPr/>
          <p:nvPr/>
        </p:nvPicPr>
        <p:blipFill>
          <a:blip r:embed="rId2"/>
          <a:stretch/>
        </p:blipFill>
        <p:spPr>
          <a:xfrm>
            <a:off x="838080" y="1536840"/>
            <a:ext cx="1981440" cy="196848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  <p:pic>
        <p:nvPicPr>
          <p:cNvPr id="67" name="Picture 13" descr=""/>
          <p:cNvPicPr/>
          <p:nvPr/>
        </p:nvPicPr>
        <p:blipFill>
          <a:blip r:embed="rId3"/>
          <a:stretch/>
        </p:blipFill>
        <p:spPr>
          <a:xfrm>
            <a:off x="609480" y="4267080"/>
            <a:ext cx="2362320" cy="176076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28600" y="44280"/>
            <a:ext cx="883908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00"/>
                </a:solidFill>
                <a:latin typeface="Arial"/>
              </a:rPr>
              <a:t>Мероприятия, проведенные для достижения поставленных целе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762120" y="4467240"/>
            <a:ext cx="784836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28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12.05.10 г. проведена конференция, посвященная Международному дню медицинской сестры.                     Приняли участие 160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IMG_0419"/>
          <p:cNvPicPr/>
          <p:nvPr/>
        </p:nvPicPr>
        <p:blipFill>
          <a:blip r:embed="rId2"/>
          <a:stretch/>
        </p:blipFill>
        <p:spPr>
          <a:xfrm>
            <a:off x="762120" y="1447920"/>
            <a:ext cx="3657600" cy="274464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  <p:pic>
        <p:nvPicPr>
          <p:cNvPr id="72" name="Picture 9" descr="IMG_0423"/>
          <p:cNvPicPr/>
          <p:nvPr/>
        </p:nvPicPr>
        <p:blipFill>
          <a:blip r:embed="rId3"/>
          <a:stretch/>
        </p:blipFill>
        <p:spPr>
          <a:xfrm>
            <a:off x="4670280" y="1461960"/>
            <a:ext cx="3635640" cy="272916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76320" y="228600"/>
            <a:ext cx="8839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3300"/>
                </a:solidFill>
                <a:latin typeface="Arial"/>
              </a:rPr>
              <a:t>Достижения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457200" y="1380960"/>
            <a:ext cx="8534520" cy="48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0640" indent="-620640">
              <a:lnSpc>
                <a:spcPct val="110000"/>
              </a:lnSpc>
              <a:spcAft>
                <a:spcPts val="4813"/>
              </a:spcAft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366"/>
                </a:solidFill>
                <a:latin typeface="Arial"/>
              </a:rPr>
              <a:t>улучшилась информированность медицинских сестер о деятельности Совета по сестринскому делу и ОПСА;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20640" indent="-620640">
              <a:lnSpc>
                <a:spcPct val="110000"/>
              </a:lnSpc>
              <a:spcAft>
                <a:spcPts val="4813"/>
              </a:spcAft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3366"/>
                </a:solidFill>
                <a:latin typeface="Arial"/>
              </a:rPr>
              <a:t>увеличилась численность членов с 20.09.09 г. по 20.05.10 г. с 86%    до 90%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ОПСА</cp:lastModifiedBy>
  <dcterms:modified xsi:type="dcterms:W3CDTF">2012-07-25T07:54:19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