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5391-4820-444D-BD2E-14E1B6CCD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0D65-65D9-49AF-93B4-5E56FAF6F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BCC6-36C9-4894-9B9F-785C68F1C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EE62-A877-4600-9093-0DBFFB5A3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6FE9-32A3-4AAC-B3C0-CC01D13E2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65E2-71FA-4655-837B-40ADF2AFC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E391-0A98-4149-A45D-62F58003C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4810-6D7E-4124-B635-DDB0A9C1A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ADA4-9FFA-4AB4-A1C9-40B56754A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3498-4723-43CA-921D-2080F464B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A8EA-456F-4548-B336-171534E11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D7DC-ED2A-435B-936C-DBFE3D9F5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CE47E-AC2C-4452-8668-75A4C869AB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1523880"/>
            <a:ext cx="8153640" cy="34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5800"/>
                </a:solidFill>
                <a:latin typeface="Verdana"/>
              </a:rPr>
              <a:t>Отчеты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6336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5800"/>
                </a:solidFill>
                <a:latin typeface="Verdana"/>
              </a:rPr>
              <a:t>по индивидуальным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6336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5800"/>
                </a:solidFill>
                <a:latin typeface="Verdana"/>
              </a:rPr>
              <a:t>мини-проектам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6336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5800"/>
                </a:solidFill>
                <a:latin typeface="Verdana"/>
              </a:rPr>
              <a:t>2009 – 2010 гг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108000"/>
            <a:ext cx="8991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региональный семинар в рамках международного проекта «Лидерство в переговорах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5-19T03:19:49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