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0AC-C6A0-4463-906B-00E64E90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62B-2487-4E8C-B378-85B9F0A2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BBA-AE10-4025-8DD0-744E887B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75C5-DF6E-4C14-8869-36A2E03D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A16EE-355F-4508-BE08-305604DE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99C46-15EB-40BB-B7BE-3967BDE5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D770C-943A-4ABC-A1CD-4FB8D00E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0C6D4-B0D6-4E6D-8578-5158520A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CD329-E745-409C-A069-1BC834D6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2AAA1-8D1E-44FF-99DC-01945CC1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29581-A333-41C6-BD2D-1786D75A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8EB-C466-4847-AF4C-63BDE368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E74DD-12CD-4A0F-8862-9A0D8465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AF727-04EE-429F-A695-D1C94745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B11C5-962C-46BC-8697-D33ED644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3C26D-C9D0-42C7-9C21-7694CBB32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C0908-DF58-4A4C-8FC2-0E53E0E1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DE42-DB63-4F3C-BAF8-4AA4887A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7E6A3-7677-449D-9D4A-69E7F2A9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43E0C-9ADE-4623-8DDE-55D27FB1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ED19E-5E8A-4587-B9E8-83C61F2E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6A0B1-5678-47FF-90C5-7DA8AA23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0729-C2AC-4C52-A8AA-E75D6CEE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9AD83-A813-4CED-8047-9566C32C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95342-608B-48B8-AEE0-9AE0A925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A0F1A-EC53-464E-B0D3-7C1B6FFA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BFAE5-D4DF-48AE-AAA1-AAD485BA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5740-2698-4115-9740-50928E92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82C03-BD54-47AA-9152-CF2075D0D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16ECF-FC27-4021-A95A-20C96B54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108-C228-4C62-BA15-31A7A118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66C-4E36-4521-9A82-2CFE06D6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F522-E036-4335-A46D-F4057B83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2C2F-B647-4A62-B61B-6C88D71E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DEE9-981B-497A-A2D0-459AC4FF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A36-99D9-4A87-9FA4-B9E6A841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6335-225A-4D34-8635-3BF89D68FCC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0118-7D3F-40CA-9FB7-FA1FB7A840D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ftr" idx="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66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e7bc2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66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066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e7bc2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6600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69C3-CB18-4483-8A1D-34D86B1711E1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63" name="Прямоугольник 4"/>
          <p:cNvGrpSpPr/>
          <p:nvPr/>
        </p:nvGrpSpPr>
        <p:grpSpPr>
          <a:xfrm>
            <a:off x="-19080" y="981000"/>
            <a:ext cx="9175680" cy="171360"/>
            <a:chOff x="-19080" y="981000"/>
            <a:chExt cx="9175680" cy="171360"/>
          </a:xfrm>
        </p:grpSpPr>
        <p:pic>
          <p:nvPicPr>
            <p:cNvPr id="164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9810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100008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166" name="Подзаголовок 2"/>
          <p:cNvSpPr/>
          <p:nvPr/>
        </p:nvSpPr>
        <p:spPr>
          <a:xfrm>
            <a:off x="34920" y="1484280"/>
            <a:ext cx="9002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5800"/>
                </a:solidFill>
                <a:latin typeface="Verdana"/>
              </a:rPr>
              <a:t>Большая просьба отключить сотовые телефоны!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3124080" y="4863960"/>
            <a:ext cx="2362320" cy="1805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7:36:25Z</dcterms:created>
  <dc:creator>User</dc:creator>
  <dc:description/>
  <dc:language>en-US</dc:language>
  <cp:lastModifiedBy>1</cp:lastModifiedBy>
  <dcterms:modified xsi:type="dcterms:W3CDTF">2010-05-24T09:51:24Z</dcterms:modified>
  <cp:revision>15</cp:revision>
  <dc:subject/>
  <dc:title>Слайд 1</dc:title>
</cp:coreProperties>
</file>