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F83-3FFA-4281-B976-EE7010C0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AAA-DF0E-46DB-AC70-1FA9A0A4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296F-8E0C-4420-822B-803555E0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8E44-D9B7-4CD9-B667-2469B040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4272-D779-4DD9-BD8A-8319B022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6728-5A22-44CC-8FD9-FC1E5E2F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B115-954D-486E-8156-96526A9F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A736-40EF-450E-8899-78C7611D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7024-C8C3-4B21-9960-F98C55BB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541E-E8C3-4942-9CFD-D6EF59E4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4376-88E5-4445-AB0F-83FCFC12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33C-E6C2-4286-A20B-5FEBED15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868D-0DBC-41BE-94C6-07AAEB44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3B43-7186-4C58-B1B5-ECCAD744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B38B-4067-4DB1-8A5F-FA6BF8E8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8015-483B-4A34-A772-DE09B1CF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660B-F040-4FD5-9811-FB8112DD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C87C-D0BF-449A-AAF8-5D456DAC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302C-3EC5-47D6-B0C3-0DE5CA60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EBE1-3B46-456C-8A6A-F03CEA2C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D1E-3489-4215-B991-F2E63C0F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131-7374-403F-9709-3C22476E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319-F42C-438E-850E-3CC6679D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6F0-7453-4C15-B35C-68DF474B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276A-996F-45AB-9DA0-B33A4B665EB9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3e1d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14AC-12E4-4524-8281-807842DE2C4C}" type="slidenum">
              <a:rPr b="0" lang="ru-RU" sz="1200" spc="-1" strike="noStrike">
                <a:solidFill>
                  <a:srgbClr val="e3e1d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>
            <a:off x="0" y="620640"/>
            <a:ext cx="9144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onstantia"/>
              </a:rPr>
              <a:t>Отчет о реализации мини-проекта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onstantia"/>
              </a:rPr>
              <a:t>«Омская профессиональная сестринская ассоциация - лидер движения»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onstantia"/>
              </a:rPr>
              <a:t>2009 – 2010 гг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34800" y="3429000"/>
            <a:ext cx="8809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Руководитель мини-про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старшая медицинская сестра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инфекционного отделен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МУЗ Нижнеомская ЦР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Кобзева С.В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900000" y="5259240"/>
            <a:ext cx="82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Куратор мини-проекта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Мамаева В.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900000" y="605160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Координатор международного проекта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onstantia"/>
              </a:rPr>
              <a:t>Зорина Т.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Индивидуальные беседы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17" name="Содержимое 5" descr="P3260378.JPG"/>
          <p:cNvPicPr/>
          <p:nvPr/>
        </p:nvPicPr>
        <p:blipFill>
          <a:blip r:embed="rId1"/>
          <a:stretch/>
        </p:blipFill>
        <p:spPr>
          <a:xfrm>
            <a:off x="571680" y="16430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8" name="Содержимое 6" descr="P3260380.JPG"/>
          <p:cNvPicPr/>
          <p:nvPr/>
        </p:nvPicPr>
        <p:blipFill>
          <a:blip r:embed="rId2"/>
          <a:stretch/>
        </p:blipFill>
        <p:spPr>
          <a:xfrm>
            <a:off x="4643280" y="307188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eeece1"/>
                </a:solidFill>
                <a:latin typeface="Arial"/>
              </a:rPr>
              <a:t>Д</a:t>
            </a:r>
            <a:r>
              <a:rPr b="1" lang="ru-RU" sz="7000" spc="-1" strike="noStrike">
                <a:solidFill>
                  <a:srgbClr val="eeece1"/>
                </a:solidFill>
                <a:latin typeface="Calibri"/>
              </a:rPr>
              <a:t>остижения</a:t>
            </a:r>
            <a:endParaRPr b="0" lang="en-US" sz="7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-542880">
              <a:lnSpc>
                <a:spcPct val="90000"/>
              </a:lnSpc>
              <a:spcBef>
                <a:spcPts val="825"/>
              </a:spcBef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  <a:ea typeface="Arial"/>
              </a:rPr>
              <a:t>Повысилась информированность и активность сестринского персонала МУЗ Нижнеомская ЦРБ в деятельности ОПСА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542880" indent="-54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  <a:p>
            <a:pPr marL="542880" indent="-542880">
              <a:lnSpc>
                <a:spcPct val="90000"/>
              </a:lnSpc>
              <a:spcBef>
                <a:spcPts val="825"/>
              </a:spcBef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  <a:ea typeface="Arial"/>
              </a:rPr>
              <a:t>Привлечено в члены ассоциации 5 человек : Сорокина Н.В., Бильдий М.И., Ланчинская О.И., Сосковец Н.А., Чмырь Д.А.</a:t>
            </a:r>
            <a:endParaRPr b="0" lang="en-US" sz="33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Заголовок 1"/>
          <p:cNvSpPr/>
          <p:nvPr/>
        </p:nvSpPr>
        <p:spPr>
          <a:xfrm>
            <a:off x="468360" y="307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eeece1"/>
                </a:solidFill>
                <a:latin typeface="Arial"/>
              </a:rPr>
              <a:t>Благодарю за внимание!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Цель мини- проекта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799"/>
              </a:spcBef>
              <a:spcAft>
                <a:spcPts val="2001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сить информированность медицинских сестер  о деятельности ОПСА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10000"/>
              </a:lnSpc>
              <a:spcBef>
                <a:spcPts val="799"/>
              </a:spcBef>
              <a:spcAft>
                <a:spcPts val="2001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лидерских качеств у медицинских сестер МУЗ Нижнеомская ЦРБ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Задачи мини-проекта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Aft>
                <a:spcPts val="1749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учшить информированность медицинских сестер о деятельности ОПС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Aft>
                <a:spcPts val="1749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йонный семинар «Лидерство в переговорах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Aft>
                <a:spcPts val="1749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лечь 1 человека в члены ассоциации, участвующего в семинаре «Лидерство в переговорах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Aft>
                <a:spcPts val="1749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общебольничную конференцию «Роль сестринской ассоциации в сестринском движении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Aft>
                <a:spcPts val="1749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ндивидуальные беседы с медицинскими сестрами не являющимися членами ОПС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Aft>
                <a:spcPts val="1375"/>
              </a:spcAft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Период реализации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с 01 сентября 2009 год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по 01 мая 2010 год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Что удалось сделать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вести районный семинар «Лидерство в переговорах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дготовить информацию о деятельности МСМ, РАМС, ОП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вести общебольничную сестринскую конференци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вести 12 индивидуальных бесе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spcAft>
                <a:spcPts val="1624"/>
              </a:spcAft>
              <a:buClr>
                <a:srgbClr val="9bbb5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влечь к членству 5 челове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eeece1"/>
                </a:solidFill>
                <a:latin typeface="Calibri"/>
              </a:rPr>
              <a:t>Мероприятия проведенные для достижения целей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4288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9bbb5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 обучающий районный семинар «Лидерство в переговорах» с 16.09.09 по 25.11.09 г. Участвовало 24 человек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9bbb5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а   общебольничная   сестринская конференция «Роль сестринской ассоциации в сестринском движении». Присутствовало 69 человек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9bbb59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о 12 индивидуальных бесед с медицинскими сестрами о роли и значимости ОПС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eeece1"/>
                </a:solidFill>
                <a:latin typeface="Calibri"/>
              </a:rPr>
              <a:t>Участники </a:t>
            </a:r>
            <a:r>
              <a:rPr b="0" lang="en-US" sz="4500" spc="-1" strike="noStrike">
                <a:solidFill>
                  <a:srgbClr val="eeece1"/>
                </a:solidFill>
                <a:latin typeface="Calibri"/>
              </a:rPr>
              <a:t>II</a:t>
            </a:r>
            <a:r>
              <a:rPr b="0" lang="ru-RU" sz="4500" spc="-1" strike="noStrike">
                <a:solidFill>
                  <a:srgbClr val="eeece1"/>
                </a:solidFill>
                <a:latin typeface="Calibri"/>
              </a:rPr>
              <a:t> районного семинара</a:t>
            </a:r>
            <a:endParaRPr b="0" lang="en-US" sz="45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10" name="Содержимое 3" descr="P3060233.JPG"/>
          <p:cNvPicPr/>
          <p:nvPr/>
        </p:nvPicPr>
        <p:blipFill>
          <a:blip r:embed="rId1"/>
          <a:stretch/>
        </p:blipFill>
        <p:spPr>
          <a:xfrm>
            <a:off x="1071720" y="1285920"/>
            <a:ext cx="719928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eece1"/>
                </a:solidFill>
                <a:latin typeface="Calibri"/>
              </a:rPr>
              <a:t>Рабочие моменты семинара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12" name="Содержимое 4" descr="P3060229.JPG"/>
          <p:cNvPicPr/>
          <p:nvPr/>
        </p:nvPicPr>
        <p:blipFill>
          <a:blip r:embed="rId1"/>
          <a:stretch/>
        </p:blipFill>
        <p:spPr>
          <a:xfrm>
            <a:off x="500040" y="19288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5" descr="P3060231.JPG"/>
          <p:cNvPicPr/>
          <p:nvPr/>
        </p:nvPicPr>
        <p:blipFill>
          <a:blip r:embed="rId2"/>
          <a:stretch/>
        </p:blipFill>
        <p:spPr>
          <a:xfrm>
            <a:off x="4737240" y="3284640"/>
            <a:ext cx="4406760" cy="3305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eeece1"/>
                </a:solidFill>
                <a:latin typeface="Calibri"/>
              </a:rPr>
              <a:t>Конференция «Роль сестринской ассоциации в сестринском движении»</a:t>
            </a:r>
            <a:endParaRPr b="0" lang="en-US" sz="3800" spc="-1" strike="noStrike">
              <a:solidFill>
                <a:srgbClr val="eeece1"/>
              </a:solidFill>
              <a:latin typeface="Calibri"/>
            </a:endParaRPr>
          </a:p>
        </p:txBody>
      </p:sp>
      <p:pic>
        <p:nvPicPr>
          <p:cNvPr id="115" name="Содержимое 3" descr="PB060045.JPG"/>
          <p:cNvPicPr/>
          <p:nvPr/>
        </p:nvPicPr>
        <p:blipFill>
          <a:blip r:embed="rId1"/>
          <a:stretch/>
        </p:blipFill>
        <p:spPr>
          <a:xfrm>
            <a:off x="1285920" y="1714680"/>
            <a:ext cx="6672240" cy="5003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6T21:59:14Z</dcterms:created>
  <dc:creator>Admin</dc:creator>
  <dc:description/>
  <dc:language>en-US</dc:language>
  <cp:lastModifiedBy>ОПСА</cp:lastModifiedBy>
  <dcterms:modified xsi:type="dcterms:W3CDTF">2012-07-25T07:54:07Z</dcterms:modified>
  <cp:revision>25</cp:revision>
  <dc:subject/>
  <dc:title>Слайд 1</dc:title>
</cp:coreProperties>
</file>