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1DCC-9483-49E4-BD8E-BCD7D19B0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0B8-84B4-4E76-9F98-9D2D9D543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C89-4295-432A-A614-17D332CA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DBE-E999-41F6-871D-C15FF03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D8D-404C-4EC9-A308-DFBFD771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F5E-BD2C-484A-82EF-A5235619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371-1160-4E67-A3BB-253CA95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F99-22F8-4001-A3B0-C549216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8B3-8744-4651-808A-8F8F798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FFA-75D3-4687-9306-042FAF5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D87-F6A1-4B03-BA13-4D2BC5F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967-5207-4CF5-A985-F32A9F2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E6A-2D07-4282-A797-1266CE2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E1B-3B2A-4AD9-B939-8644171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96D5-A2B0-4547-B985-B1ACD2322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317520" y="1054080"/>
            <a:ext cx="8497800" cy="554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Логотип"/>
          <p:cNvPicPr/>
          <p:nvPr/>
        </p:nvPicPr>
        <p:blipFill>
          <a:blip r:embed="rId2"/>
          <a:stretch/>
        </p:blipFill>
        <p:spPr>
          <a:xfrm>
            <a:off x="-108000" y="-100080"/>
            <a:ext cx="14400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P1020650.JPG"/>
          <p:cNvPicPr/>
          <p:nvPr/>
        </p:nvPicPr>
        <p:blipFill>
          <a:blip r:embed="rId3"/>
          <a:stretch/>
        </p:blipFill>
        <p:spPr>
          <a:xfrm>
            <a:off x="324000" y="4437000"/>
            <a:ext cx="2782800" cy="2160720"/>
          </a:xfrm>
          <a:prstGeom prst="rect">
            <a:avLst/>
          </a:prstGeom>
          <a:ln w="38160">
            <a:solidFill>
              <a:srgbClr val="721c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21c26"/>
                </a:solidFill>
                <a:latin typeface="Arial"/>
                <a:ea typeface="Arial"/>
              </a:rPr>
              <a:t>Деконтаминация фильтра осуществляе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сухожаровом шкафу при температуре 160°С в течение 4 ча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токлавированием на сетках                              при давлении 2 атм. в течение 1,5 час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440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244440" y="1706400"/>
            <a:ext cx="829620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1c26"/>
                </a:solidFill>
                <a:latin typeface="Arial"/>
              </a:rPr>
              <a:t>ОСОБО ОПАСНЫЕ ИНФЕКЦ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екционные заболевания, которые вошли в перечень событий, что могут являть собой чрезвычайную ситуацию в системе охраны здоровья в международном масштаб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511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640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ая группа: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ос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полиомиелит, вызванный диким поливирус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человеческий грипп, вызванный новым подтип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тяжелый острый респираторный синдром (ТОР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511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торая групп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холе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легочная форма чу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желтая лихорад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геморрагические лихора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лихорадка Денг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лихорадка Рифт-Вал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менингокковая болез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1c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584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57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721c26"/>
                </a:solidFill>
                <a:latin typeface="Arial"/>
                <a:ea typeface="Arial"/>
              </a:rPr>
              <a:t>Мероприят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оляция больного;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о выявленном больном   в установленном порядк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в оча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511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9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5541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22" descr=""/>
          <p:cNvPicPr/>
          <p:nvPr/>
        </p:nvPicPr>
        <p:blipFill>
          <a:blip r:embed="rId2"/>
          <a:stretch/>
        </p:blipFill>
        <p:spPr>
          <a:xfrm>
            <a:off x="171360" y="944640"/>
            <a:ext cx="88012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Группа 7" descr=""/>
          <p:cNvPicPr/>
          <p:nvPr/>
        </p:nvPicPr>
        <p:blipFill>
          <a:blip r:embed="rId1"/>
          <a:stretch/>
        </p:blipFill>
        <p:spPr>
          <a:xfrm>
            <a:off x="-907920" y="822240"/>
            <a:ext cx="10685160" cy="591984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-6480" y="139680"/>
            <a:ext cx="9156960" cy="1566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7"/>
          <p:cNvSpPr/>
          <p:nvPr/>
        </p:nvSpPr>
        <p:spPr>
          <a:xfrm rot="406800">
            <a:off x="6535800" y="5754240"/>
            <a:ext cx="278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КВАРЦ – 1М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351240" y="5784840"/>
            <a:ext cx="237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ЩИ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9"/>
          <p:cNvSpPr/>
          <p:nvPr/>
        </p:nvSpPr>
        <p:spPr>
          <a:xfrm rot="21136200">
            <a:off x="-15840" y="5619600"/>
            <a:ext cx="27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ТАЙКЕМ – С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2" descr=""/>
          <p:cNvPicPr/>
          <p:nvPr/>
        </p:nvPicPr>
        <p:blipFill>
          <a:blip r:embed="rId1"/>
          <a:stretch/>
        </p:blipFill>
        <p:spPr>
          <a:xfrm>
            <a:off x="-981000" y="1054080"/>
            <a:ext cx="12361680" cy="581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Логотип"/>
          <p:cNvPicPr/>
          <p:nvPr/>
        </p:nvPicPr>
        <p:blipFill>
          <a:blip r:embed="rId2"/>
          <a:stretch/>
        </p:blipFill>
        <p:spPr>
          <a:xfrm>
            <a:off x="-108000" y="-100080"/>
            <a:ext cx="144000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 flipV="1" rot="10800000">
            <a:off x="4356000" y="4551120"/>
            <a:ext cx="457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гневская О.А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ицинская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емного от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З «ГК БСМП-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P1020647.JPG"/>
          <p:cNvPicPr/>
          <p:nvPr/>
        </p:nvPicPr>
        <p:blipFill>
          <a:blip r:embed="rId3"/>
          <a:stretch/>
        </p:blipFill>
        <p:spPr>
          <a:xfrm>
            <a:off x="539640" y="4282920"/>
            <a:ext cx="2880000" cy="2160720"/>
          </a:xfrm>
          <a:prstGeom prst="rect">
            <a:avLst/>
          </a:prstGeom>
          <a:ln w="38160">
            <a:solidFill>
              <a:srgbClr val="721c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38160">
            <a:solidFill>
              <a:srgbClr val="721c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КОМПЛЕКТА 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Й ЗАЩИТЫ «КВАРЦ – 1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3795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21c26"/>
                </a:solidFill>
                <a:latin typeface="Arial"/>
              </a:rPr>
              <a:t>Пароформалиновая обработка проводится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езинфекционной камере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температуре 58°С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течение 180 м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Логотип"/>
          <p:cNvPicPr/>
          <p:nvPr/>
        </p:nvPicPr>
        <p:blipFill>
          <a:blip r:embed="rId1"/>
          <a:stretch/>
        </p:blipFill>
        <p:spPr>
          <a:xfrm>
            <a:off x="-108000" y="-100080"/>
            <a:ext cx="1440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7:37:24Z</dcterms:created>
  <dc:creator>Пользователь</dc:creator>
  <dc:description/>
  <dc:language>en-US</dc:language>
  <cp:lastModifiedBy>ОПСА</cp:lastModifiedBy>
  <dcterms:modified xsi:type="dcterms:W3CDTF">2011-12-13T04:16:36Z</dcterms:modified>
  <cp:revision>55</cp:revision>
  <dc:subject/>
  <dc:title>Слайд 1</dc:title>
</cp:coreProperties>
</file>