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72D-8C4A-4848-AB74-1AF7165C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C75-D8C1-4936-B080-E8CFDF29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FD8-75E1-4F21-A932-B8A06971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372-E7E0-4208-ADA5-A4C23FC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880-0AC6-4AE5-9619-99EF34FE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456-D64D-44FF-86F5-9B05F59C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598-848C-4E9C-A792-5F21DDC7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A8B-6DBB-4680-9BFB-DC26D348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535-BE50-4F0D-8B94-78FC75F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822-5B08-40A7-BDD3-057267B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253-9863-48E2-8363-2A08410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9EA-BF68-4989-9F29-8B8933A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6A40-6B2A-4DD0-B686-D6EC89DB3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-4680" y="1268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Calibri"/>
              </a:rPr>
              <a:t>Обсужд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187280" y="44280"/>
            <a:ext cx="7705800" cy="8254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ординацион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мской профессиональной сестринской 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http://photos2.fotosearch.com/bthumb/CSP/CSP343/k3439688.jpg"/>
          <p:cNvPicPr/>
          <p:nvPr/>
        </p:nvPicPr>
        <p:blipFill>
          <a:blip r:embed="rId1"/>
          <a:stretch/>
        </p:blipFill>
        <p:spPr>
          <a:xfrm>
            <a:off x="2987640" y="2876400"/>
            <a:ext cx="27972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Sveta</cp:lastModifiedBy>
  <dcterms:modified xsi:type="dcterms:W3CDTF">2013-03-25T17:52:36Z</dcterms:modified>
  <cp:revision>30</cp:revision>
  <dc:subject/>
  <dc:title>Слайд 1</dc:title>
</cp:coreProperties>
</file>