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3.wmf" ContentType="image/x-wmf"/>
  <Override PartName="/ppt/media/image8.jpeg" ContentType="image/jpeg"/>
  <Override PartName="/ppt/media/image10.jpeg" ContentType="image/jpeg"/>
  <Override PartName="/ppt/media/image7.jpeg" ContentType="image/jpeg"/>
  <Override PartName="/ppt/media/image28.jpeg" ContentType="image/jpeg"/>
  <Override PartName="/ppt/media/image12.wmf" ContentType="image/x-wmf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27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4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DED99-5D91-4647-8666-F67EF6C1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33222-791A-4570-9F87-84FDA60D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28680-CCC6-459E-9630-686B3376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88458-5C02-48AF-ADAD-97B4D5296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1729-05FE-4DE9-ACC5-D65EB754C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2E1A-B056-48A7-B705-0476B7A4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F5EC-B904-4D23-B002-A9D74E2C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600A-F2D3-420E-89E5-C590B22B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9B3E-6D7D-43ED-80BE-78050D08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5B65-9CE9-48EE-916B-BDC2E102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EAD9-E95D-4147-80B5-E40CE4D9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439CE-C693-4291-B1F0-CB6F7F63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B956-CCB5-4856-9ED8-4ED1D999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0D04-C549-4A75-9442-9212C9B1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611D-3CC1-4C20-93C2-B7D2E9CD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F6DF-902D-4E73-BAF2-E0227E10C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A163-1AA7-4982-8549-8C057D83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4EA32-85B8-4B2E-8ACD-AC022B31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47DDB-5B0B-4D05-9E09-42EE398A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B1F90-6854-4DE6-B9E6-4D9305B2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CE24C-B4AB-4442-A977-C8E87CB7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E9C13-535E-40A4-AED1-F094FE02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5E96D-E442-4322-89F5-D630F941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4841E-E83A-4D10-9AAE-C6F1E9A6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E668-CBD0-4C26-8B94-89325C87492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9260-EBB3-4BE9-ACC8-0304B610177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68000" y="1699920"/>
            <a:ext cx="687564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Снижение трудозатрат медицинской сестры при применении современных инфузионных систе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79640" y="4868640"/>
            <a:ext cx="69134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Ю.В. Юрко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ицинская сестра - исследовател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ицинская сестра палат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ЗОО «ГК БСМП №1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79280" y="26028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роект Омской профессиональной сестринской ассоциации «Исследования в сестринском деле 2013 – 2014 гг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Методы </a:t>
            </a: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c</a:t>
            </a: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бора да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640" y="1196640"/>
            <a:ext cx="7920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блюден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ос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учение документальных источни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4" descr="bs1"/>
          <p:cNvPicPr/>
          <p:nvPr/>
        </p:nvPicPr>
        <p:blipFill>
          <a:blip r:embed="rId1"/>
          <a:stretch/>
        </p:blipFill>
        <p:spPr>
          <a:xfrm>
            <a:off x="3203640" y="4292640"/>
            <a:ext cx="2857320" cy="214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6" name="Picture 16" descr="imgpreview (5)"/>
          <p:cNvPicPr/>
          <p:nvPr/>
        </p:nvPicPr>
        <p:blipFill>
          <a:blip r:embed="rId2"/>
          <a:stretch/>
        </p:blipFill>
        <p:spPr>
          <a:xfrm>
            <a:off x="6659640" y="4508640"/>
            <a:ext cx="2114640" cy="1724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7" name="Picture 17" descr="imgpreview (1)"/>
          <p:cNvPicPr/>
          <p:nvPr/>
        </p:nvPicPr>
        <p:blipFill>
          <a:blip r:embed="rId3"/>
          <a:stretch/>
        </p:blipFill>
        <p:spPr>
          <a:xfrm>
            <a:off x="468360" y="4581360"/>
            <a:ext cx="2200320" cy="164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Стабильность инфузионных систе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9" descr=""/>
          <p:cNvPicPr/>
          <p:nvPr/>
        </p:nvPicPr>
        <p:blipFill>
          <a:blip r:embed="rId1"/>
          <a:stretch/>
        </p:blipFill>
        <p:spPr>
          <a:xfrm>
            <a:off x="5435640" y="4005360"/>
            <a:ext cx="3419280" cy="2415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"/>
          <p:cNvPicPr/>
          <p:nvPr/>
        </p:nvPicPr>
        <p:blipFill>
          <a:blip r:embed="rId2"/>
          <a:stretch/>
        </p:blipFill>
        <p:spPr>
          <a:xfrm>
            <a:off x="5435640" y="1125360"/>
            <a:ext cx="3384360" cy="2644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"/>
          <p:cNvPicPr/>
          <p:nvPr/>
        </p:nvPicPr>
        <p:blipFill>
          <a:blip r:embed="rId3"/>
          <a:stretch/>
        </p:blipFill>
        <p:spPr>
          <a:xfrm>
            <a:off x="395280" y="907920"/>
            <a:ext cx="4968720" cy="3025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"/>
          <p:cNvPicPr/>
          <p:nvPr/>
        </p:nvPicPr>
        <p:blipFill>
          <a:blip r:embed="rId4"/>
          <a:stretch/>
        </p:blipFill>
        <p:spPr>
          <a:xfrm>
            <a:off x="539640" y="3933720"/>
            <a:ext cx="46818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Влияние квалификации медицинской сестры на качество сбора инфузионных сис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6516720" y="1268280"/>
            <a:ext cx="2374920" cy="1871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5076720" y="3141720"/>
            <a:ext cx="2484720" cy="1954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3"/>
          <a:stretch/>
        </p:blipFill>
        <p:spPr>
          <a:xfrm>
            <a:off x="0" y="1773360"/>
            <a:ext cx="5038560" cy="3889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"/>
          <p:cNvPicPr/>
          <p:nvPr/>
        </p:nvPicPr>
        <p:blipFill>
          <a:blip r:embed="rId4"/>
          <a:stretch/>
        </p:blipFill>
        <p:spPr>
          <a:xfrm>
            <a:off x="6588000" y="5084640"/>
            <a:ext cx="23418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964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Результаты опроса медицинских сестёр отделе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032000" cy="2867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2"/>
          <a:stretch/>
        </p:blipFill>
        <p:spPr>
          <a:xfrm>
            <a:off x="5148360" y="1268280"/>
            <a:ext cx="3529080" cy="2665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3"/>
          <a:stretch/>
        </p:blipFill>
        <p:spPr>
          <a:xfrm>
            <a:off x="5975280" y="4160880"/>
            <a:ext cx="3168720" cy="2697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4"/>
          <a:stretch/>
        </p:blipFill>
        <p:spPr>
          <a:xfrm>
            <a:off x="0" y="4138560"/>
            <a:ext cx="3240000" cy="271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5"/>
          <a:stretch/>
        </p:blipFill>
        <p:spPr>
          <a:xfrm>
            <a:off x="2987640" y="3860640"/>
            <a:ext cx="323532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280" y="456840"/>
            <a:ext cx="814716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Трудозатраты медицинской сестры при использовании инфузионных систе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979640" y="2349360"/>
            <a:ext cx="504036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Результаты исследова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136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ременные инфузионные системы безопасны и удобны при эксплуатации и профилактируют развитие ослож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качественного выполнения инфузии необходимо постоянное обучение сестринского медицинского персона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агодаря оснащению отделения современными средствами ухода за пациентами и высокотехнологичным оборудованием значительно облегчается труд медицинской сест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19640" y="475920"/>
            <a:ext cx="527832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Спасибо </a:t>
            </a:r>
            <a:br>
              <a:rPr sz="4400"/>
            </a:b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за</a:t>
            </a:r>
            <a:br>
              <a:rPr sz="4400"/>
            </a:b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 внимание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592_1"/>
          <p:cNvPicPr/>
          <p:nvPr/>
        </p:nvPicPr>
        <p:blipFill>
          <a:blip r:embed="rId1"/>
          <a:stretch/>
        </p:blipFill>
        <p:spPr>
          <a:xfrm>
            <a:off x="250920" y="692280"/>
            <a:ext cx="2590560" cy="259056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pic>
        <p:nvPicPr>
          <p:cNvPr id="170" name="Picture 8" descr="VMpk"/>
          <p:cNvPicPr/>
          <p:nvPr/>
        </p:nvPicPr>
        <p:blipFill>
          <a:blip r:embed="rId2"/>
          <a:stretch/>
        </p:blipFill>
        <p:spPr>
          <a:xfrm>
            <a:off x="2916360" y="2781360"/>
            <a:ext cx="2952720" cy="257004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pic>
        <p:nvPicPr>
          <p:cNvPr id="171" name="Picture 9" descr="pic_big_14"/>
          <p:cNvPicPr/>
          <p:nvPr/>
        </p:nvPicPr>
        <p:blipFill>
          <a:blip r:embed="rId3"/>
          <a:stretch/>
        </p:blipFill>
        <p:spPr>
          <a:xfrm>
            <a:off x="5940360" y="4221000"/>
            <a:ext cx="290844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848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Актуальность 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000" y="4508640"/>
            <a:ext cx="806436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УЗ ОО «ГК БСМП №1» выполня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ут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800 инфуз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есяц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25 000 инфуз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го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300 000 инфуз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619280" y="907920"/>
          <a:ext cx="6337440" cy="35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907920"/>
                    <a:ext cx="6337440" cy="3586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Исследовательская коман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P1050061"/>
          <p:cNvPicPr/>
          <p:nvPr/>
        </p:nvPicPr>
        <p:blipFill>
          <a:blip r:embed="rId1"/>
          <a:stretch/>
        </p:blipFill>
        <p:spPr>
          <a:xfrm>
            <a:off x="3851280" y="4076640"/>
            <a:ext cx="1459080" cy="194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16" name="Picture 10" descr="P1050059"/>
          <p:cNvPicPr/>
          <p:nvPr/>
        </p:nvPicPr>
        <p:blipFill>
          <a:blip r:embed="rId2"/>
          <a:stretch/>
        </p:blipFill>
        <p:spPr>
          <a:xfrm>
            <a:off x="3851280" y="1341360"/>
            <a:ext cx="1403280" cy="1800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17" name="Text Box 13"/>
          <p:cNvSpPr/>
          <p:nvPr/>
        </p:nvSpPr>
        <p:spPr>
          <a:xfrm>
            <a:off x="1692360" y="386064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3708360" y="6093000"/>
            <a:ext cx="187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.Г. Степаненко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(медицинская сестра палатная ОРИТ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3059280" y="3500280"/>
            <a:ext cx="30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Специалисты по сбору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3276720" y="76500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Специалист по анализу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3276720" y="3141720"/>
            <a:ext cx="2520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Е.В. Казанко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медицинская сестра операционная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3" descr="P1050943"/>
          <p:cNvPicPr/>
          <p:nvPr/>
        </p:nvPicPr>
        <p:blipFill>
          <a:blip r:embed="rId3"/>
          <a:stretch/>
        </p:blipFill>
        <p:spPr>
          <a:xfrm>
            <a:off x="7020000" y="2205000"/>
            <a:ext cx="1606320" cy="2141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3" name="Text Box 24"/>
          <p:cNvSpPr/>
          <p:nvPr/>
        </p:nvSpPr>
        <p:spPr>
          <a:xfrm>
            <a:off x="6659640" y="4437000"/>
            <a:ext cx="230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.Я. Врако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главная медицинская сестра БУЗ ОО «ГК БСМП №1»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7093080" y="177336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Кура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6" descr="19"/>
          <p:cNvPicPr/>
          <p:nvPr/>
        </p:nvPicPr>
        <p:blipFill>
          <a:blip r:embed="rId4"/>
          <a:stretch/>
        </p:blipFill>
        <p:spPr>
          <a:xfrm>
            <a:off x="611280" y="2205000"/>
            <a:ext cx="1620720" cy="2160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6" name="Text Box 27"/>
          <p:cNvSpPr/>
          <p:nvPr/>
        </p:nvSpPr>
        <p:spPr>
          <a:xfrm>
            <a:off x="755640" y="184464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Реценз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8"/>
          <p:cNvSpPr/>
          <p:nvPr/>
        </p:nvSpPr>
        <p:spPr>
          <a:xfrm>
            <a:off x="324000" y="4437000"/>
            <a:ext cx="2232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А.О. Гирш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профессор кафедры анестезиологии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анимации и скорой медицинской помощ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мской государственной медицинско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кадемии, доктор медицинских наук)</a:t>
            </a:r>
            <a:r>
              <a:rPr b="0" lang="ru-RU" sz="1000" spc="-1" strike="noStrike">
                <a:solidFill>
                  <a:srgbClr val="00007d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Цель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218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изить трудозатраты медицинской сестры на выполнение инфузии, и улучшить безопасность и качество её выпол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Careflow"/>
          <p:cNvPicPr/>
          <p:nvPr/>
        </p:nvPicPr>
        <p:blipFill>
          <a:blip r:embed="rId1"/>
          <a:stretch/>
        </p:blipFill>
        <p:spPr>
          <a:xfrm>
            <a:off x="3348000" y="4653000"/>
            <a:ext cx="2376360" cy="1982880"/>
          </a:xfrm>
          <a:prstGeom prst="rect">
            <a:avLst/>
          </a:prstGeom>
          <a:ln w="19080">
            <a:solidFill>
              <a:srgbClr val="00007d"/>
            </a:solidFill>
            <a:miter/>
          </a:ln>
        </p:spPr>
      </p:pic>
      <p:pic>
        <p:nvPicPr>
          <p:cNvPr id="131" name="Picture 9" descr="Connecta"/>
          <p:cNvPicPr/>
          <p:nvPr/>
        </p:nvPicPr>
        <p:blipFill>
          <a:blip r:embed="rId2"/>
          <a:stretch/>
        </p:blipFill>
        <p:spPr>
          <a:xfrm>
            <a:off x="611280" y="4292640"/>
            <a:ext cx="2411280" cy="232416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pic>
        <p:nvPicPr>
          <p:cNvPr id="132" name="Picture 12" descr="VMpr"/>
          <p:cNvPicPr/>
          <p:nvPr/>
        </p:nvPicPr>
        <p:blipFill>
          <a:blip r:embed="rId3"/>
          <a:stretch/>
        </p:blipFill>
        <p:spPr>
          <a:xfrm>
            <a:off x="6084720" y="4292640"/>
            <a:ext cx="2664000" cy="231444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Задачи исследова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497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ценить стабильность традиционной и современной инфузионных сист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анализировать влияние квалификации медицинской сестры на качество сбора традиционной и современной инфузионных сист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читать трудозатраты медицинской сестры при использовании традиционной и современной инфузионных сист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820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Практическая значим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08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ие современ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узионных сист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чительно сокращает трудозатраты медицинской сестры на проведение инфузи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номически более привлекатель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илактирует развитие серьёзных угрожающих жизни пациента ослож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7138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d"/>
                </a:solidFill>
                <a:latin typeface="Arial"/>
              </a:rPr>
              <a:t>Размер выборки</a:t>
            </a:r>
            <a:r>
              <a:rPr b="1" i="1" lang="ru-RU" sz="36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% от всех поступивших в ОРИТ пациентов за 7 месяце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2421000"/>
          <a:ext cx="8353440" cy="3681360"/>
        </p:xfrm>
        <a:graphic>
          <a:graphicData uri="http://schemas.openxmlformats.org/drawingml/2006/table">
            <a:tbl>
              <a:tblPr/>
              <a:tblGrid>
                <a:gridCol w="719280"/>
                <a:gridCol w="5545080"/>
                <a:gridCol w="2089080"/>
              </a:tblGrid>
              <a:tr h="126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ы ОРИТ принявшие участия в исследован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ациен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вшие пациенты в ОРИТ за 7-мь месяцев (с 19.05.2013г. по 19.12.2013г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 контро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 исследо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Критерии включ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7921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0 поступивших в ОРИТ пациентов в созн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жчины и женщины в возрасте от 30 до 60 лет, которым проводилась инфузионная тера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циенты, имеющие постоянный периферический или центральный венозный досту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циенты давшие добровольное информированное согласие на участие в исследов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628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Критерии исключ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циенты в возрасте до 30 лет и старше 6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циенты, которым не проводилась инфузионная терап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циенты без катетеров в периферических или центральных вен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циенты в психомоторном возбужд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циенты, не давшие информированного согласия на проведение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11:55:32Z</dcterms:created>
  <dc:creator>Юлия</dc:creator>
  <dc:description/>
  <dc:language>en-US</dc:language>
  <cp:lastModifiedBy>ОПСА</cp:lastModifiedBy>
  <dcterms:modified xsi:type="dcterms:W3CDTF">2014-03-12T14:28:05Z</dcterms:modified>
  <cp:revision>51</cp:revision>
  <dc:subject/>
  <dc:title>Слайд 1</dc:title>
</cp:coreProperties>
</file>