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46.jpeg" ContentType="image/jpeg"/>
  <Override PartName="/ppt/media/image48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50.jpeg" ContentType="image/jpeg"/>
  <Override PartName="/ppt/media/image2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FFFB-14E1-4232-8337-838B0E649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77D2-8469-47F8-96E6-2999ED99B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6528-E734-475C-85D7-AF8345E79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DDBC-05AD-4856-8A1D-95FCF335D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7BD7-CA71-4EE9-B0F7-099777EC96D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DA5E-73E5-49AF-AE1A-41F1DBC47F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A46F-5A0E-45E6-BA13-CFFF85D6D4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2BA7-CE79-4B1C-9C44-671857B989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2B58-F06C-43C0-A07F-DE0018A16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C574-1F82-4993-840F-1A49DD73D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FF75-E059-478C-AB2D-A64025CB0F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 монотерапии стрептомицином лекарственная устойчивость выявлялась у 90% больных после 4-х месяцев терапии, а 5-летняя выживаемость – была такая же, как при санаторном лечении без терапии. Комбинированная терапия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+ПАСК показала, что терапия несколькими препаратами предупреждает развитие Л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1952 г. ознаменовался открытием  противотуберкулезной активности изониазида – соединения, синтезированного за 40 лет до этого .С этого момента изониазид остается важным компонентом схем лечения больных ТБ благодаря своей высокой эффективности, относительно низкой токсичности и  невысокой стоимост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88CD-41A6-45F9-B6D0-6594447D5C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4C86-72CF-4FEF-82A4-DB65CA3EC4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C2CA-1BAB-4DD5-9640-D4C0ABA8BB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249F-247E-4F3A-9DCC-241E7B44CF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150-CBB5-4F98-8B85-B5362B87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D2A-7111-4F84-8A44-73D07BA2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45A-5A04-4C7A-944A-A10ED6F9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92D-B8A8-4DFB-A1C4-038EC53F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37E-E506-489E-BBFB-62D76C55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CA7-4131-4B12-BFE3-4CE736C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C79-5FEC-4050-BD4F-31AED528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455-B296-4E8F-9078-B9D031F5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E42-54E5-4B0C-BEFE-516B6081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B26-3074-4C0B-BE13-7A4E997E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D92-AD1B-4A5A-98AB-6DBB6E55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785-7EC9-488A-8A17-95BF9F82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6BDF-7CE6-4361-9838-B5AD13F56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femb.ru/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методы диагностики и лечения туберкул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66720" y="4191120"/>
            <a:ext cx="4496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цент кафедры фтизиатрии и фтизиохирургии ГБОУ ВПО ОмГМА, к.м.н. Иванова О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dmin\Мои документы\Мои рисунки\1272272522.jpg"/>
          <p:cNvPicPr/>
          <p:nvPr/>
        </p:nvPicPr>
        <p:blipFill>
          <a:blip r:embed="rId1"/>
          <a:stretch/>
        </p:blipFill>
        <p:spPr>
          <a:xfrm>
            <a:off x="304920" y="3200400"/>
            <a:ext cx="3316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современного эта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Public\Pictures\Sample Pictures\0_8bd25_51c5667b_XL.jpg"/>
          <p:cNvPicPr/>
          <p:nvPr/>
        </p:nvPicPr>
        <p:blipFill>
          <a:blip r:embed="rId1"/>
          <a:stretch/>
        </p:blipFill>
        <p:spPr>
          <a:xfrm>
            <a:off x="2819520" y="3429000"/>
            <a:ext cx="3225600" cy="220968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5"/>
          <p:cNvSpPr/>
          <p:nvPr/>
        </p:nvSpPr>
        <p:spPr>
          <a:xfrm>
            <a:off x="457200" y="1676520"/>
            <a:ext cx="830592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нее выявление туберку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 лечение бо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ннее выявление туберкулеза у детей и подрост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раннего периода первичной туберкулезной инфекции (виража туберкулиновых про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групп риска по развитию локальных форм туберкул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иперергической реакции на туберку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ироста туберкулиновой   пробы за год на 6 мм и бо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7f26"/>
                </a:solidFill>
                <a:latin typeface="Arial"/>
              </a:rPr>
              <a:t>Туберкулино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З РФ № 951 от 29.12.14 г. «Об утверждении методических рекомендаций по совершенствованию диагностики и лечения туберкулеза органов дых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беркулинодиагностику проводят вакцинированным против туберкулеза детям с 12 – месячного возраста и до достижения возраста 7 лет включительно. Внутрикожную аллергическую пробу с туберкулином (проба Манту с 2 ТЕ ППД-Л) ставят 1 раз в год, независимо от результата предыдущих п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ям, не вакцинированным против туберкулеза по медицинским противопоказаниям, пробу Манту ставят с 6-ти месячного возраста 2 раза в год до получения ребенком прививки БЦЖ-М вакци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8 лет до 17-ти проводят пробу с Диаскинте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ИСТИКА ПРЕПАРАТА ДИАСКИНТЕСТ</a:t>
            </a:r>
            <a:r>
              <a:rPr b="1" lang="en-US" sz="3600" spc="-1" strike="noStrike" baseline="30000">
                <a:solidFill>
                  <a:srgbClr val="003300"/>
                </a:solidFill>
                <a:latin typeface="Tahoma"/>
                <a:ea typeface="Tahoma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па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СКИНТЕСТ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Аллерген туберкулезный рекомбинантный в стандартном разведении) представляет собой рекомбинантный белок, продуцируемый генетически модифицированной культуро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cherichia coli BL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CFP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A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разведенный в стерильном изотоническом фосфатном буферном растворе, с консервантом (фенол). Содержит два антигена               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A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6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FP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10), присутствующие в вирулентных штаммах МБТ и отсутствующие в вакцинном штамме БЦ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СКИН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File0012"/>
          <p:cNvPicPr/>
          <p:nvPr/>
        </p:nvPicPr>
        <p:blipFill>
          <a:blip r:embed="rId1"/>
          <a:srcRect l="36994" t="62485" r="26353" b="3968"/>
          <a:stretch/>
        </p:blipFill>
        <p:spPr>
          <a:xfrm>
            <a:off x="2438280" y="4226040"/>
            <a:ext cx="4027680" cy="22446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0" y="1676520"/>
            <a:ext cx="873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фференциальная диагностика туберкуле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и активности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фференциальная диагностика инфекционной и поствакцинной алле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эффективности лечения в комплексе с другими мет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969840" y="647064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онное удостоверение ЛРС-006435/08 от 11.08.2008 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РИДИЧЕСКОЕ ОБОСНОВАНИЕ ПРИМЕНЕНИЯ КОЖНОЙ ПРОБЫ С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АСКИНТЕСТОМ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®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ЗДРАВСОЦРАЗВИТ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55 от 29 ОКТЯБРЯ 200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 внесении изменения в приложение № 4 к приказу Минздрава России от 21 марта 2003г. № 109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ь приложение № 4 «Инструкция по применению туберкулиновых проб» приложением № 2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именению аллергена туберкулезного рекомбинантного в стандартном раз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аствора для внутрикожного введ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5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Е ВОЗМОЖНОСТИ ДИАГНОСТИ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ДИАСКИНТЕСТА</a:t>
            </a:r>
            <a:r>
              <a:rPr b="1" lang="ru-RU" sz="3200" spc="-1" strike="noStrike" baseline="30000">
                <a:solidFill>
                  <a:srgbClr val="003300"/>
                </a:solidFill>
                <a:latin typeface="Arial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 детей из групп риска и по клиническим показани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фференцированный подход к дополнительным методам об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buClr>
                <a:srgbClr val="000000"/>
              </a:buClr>
              <a:buFont typeface="Arial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 органов грудной клет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 rot="20280000">
            <a:off x="7772040" y="2362320"/>
            <a:ext cx="1066680" cy="1600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282240 h 1600200"/>
              <a:gd name="textAreaBottom" fmla="*/ 11484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24" stAng="-5400000" swAng="5400000"/>
                <a:lnTo>
                  <a:pt x="21600" y="11688"/>
                </a:lnTo>
                <a:arcTo wR="21600" hR="7624" stAng="0" swAng="1292125"/>
                <a:lnTo>
                  <a:pt x="14400" y="19659"/>
                </a:lnTo>
                <a:lnTo>
                  <a:pt x="0" y="17280"/>
                </a:lnTo>
                <a:lnTo>
                  <a:pt x="14400" y="11019"/>
                </a:lnTo>
                <a:lnTo>
                  <a:pt x="14400" y="13307"/>
                </a:lnTo>
                <a:arcTo wR="21600" hR="7624" stAng="1292125" swAng="-957644"/>
                <a:lnTo>
                  <a:pt x="20819" y="9656"/>
                </a:lnTo>
                <a:arcTo wR="21600" hR="7624" stAng="-334481" swAng="-5065519"/>
                <a:close/>
              </a:path>
              <a:path fill="darkenLess" w="21600" h="21600">
                <a:moveTo>
                  <a:pt x="0" y="0"/>
                </a:moveTo>
                <a:arcTo wR="21600" hR="7624" stAng="-5400000" swAng="5400000"/>
                <a:lnTo>
                  <a:pt x="21600" y="11688"/>
                </a:lnTo>
                <a:arcTo wR="21600" hR="7624" stAng="0" swAng="-334481"/>
                <a:lnTo>
                  <a:pt x="20819" y="9656"/>
                </a:lnTo>
                <a:arcTo wR="21600" hR="7624" stAng="-334481" swAng="-5065519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685800" y="685800"/>
            <a:ext cx="7848720" cy="5181480"/>
          </a:xfrm>
          <a:prstGeom prst="foldedCorner">
            <a:avLst>
              <a:gd name="adj" fmla="val 12500"/>
            </a:avLst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ОКАЗАНИЯ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ПРЕВЕНТИВНОЙ ХИМИОТЕРА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I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РУППЕ ДИСПАНСЕР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 УЧЕТОМ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А ДИАСКИН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AT-6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FP-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азличных микобакте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523880"/>
          <a:ext cx="8763120" cy="5389560"/>
        </p:xfrm>
        <a:graphic>
          <a:graphicData uri="http://schemas.openxmlformats.org/drawingml/2006/table">
            <a:tbl>
              <a:tblPr/>
              <a:tblGrid>
                <a:gridCol w="4951440"/>
                <a:gridCol w="1946160"/>
                <a:gridCol w="1865520"/>
              </a:tblGrid>
              <a:tr h="7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о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AT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P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tuberculosis, M. Africanum, M.bov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leprae, M. kansasii, M. mari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bovis BC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abcessus, M.avium, M.branderi, M.celatum, M.fortuitum, M.gordonae, M.intracellulare, M.genavense, M.malmoense, M.scrofulaceum, M.smegmatis, M.terrae, M.vaccae, M.xeno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юор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явления заболевания у подростков и взрослых ежегодно проводится флюорография органов грудной 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Admin\Мои документы\Мои рисунки\tub2.jpg"/>
          <p:cNvPicPr/>
          <p:nvPr/>
        </p:nvPicPr>
        <p:blipFill>
          <a:blip r:embed="rId1"/>
          <a:stretch/>
        </p:blipFill>
        <p:spPr>
          <a:xfrm>
            <a:off x="4284720" y="2205000"/>
            <a:ext cx="4186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7280" y="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71640" y="62064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ревний мир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95280" y="981000"/>
            <a:ext cx="6121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никновение понятия о чахотке,  как о длительном заболевании легких, приводя-щем к истощению и смерти бо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пократ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к до Р.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87280" y="504720"/>
            <a:ext cx="856944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476360" y="242100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редние века … Новое вре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22200" y="2786040"/>
            <a:ext cx="85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елая чума», несущая смерть всем слоям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5732640"/>
            <a:ext cx="2087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ж. Констебл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трет жены, умершей от туберкулеза в 182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7199280" y="611280"/>
            <a:ext cx="1693800" cy="19540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59" name="Picture 10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2230560" cy="2617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0" name="Picture 11" descr="200px-John_Constable_022"/>
          <p:cNvPicPr/>
          <p:nvPr/>
        </p:nvPicPr>
        <p:blipFill>
          <a:blip r:embed="rId3"/>
          <a:stretch/>
        </p:blipFill>
        <p:spPr>
          <a:xfrm>
            <a:off x="468360" y="3284640"/>
            <a:ext cx="1758960" cy="23032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61" name="Rectangle 12"/>
          <p:cNvSpPr/>
          <p:nvPr/>
        </p:nvSpPr>
        <p:spPr>
          <a:xfrm>
            <a:off x="2268360" y="5805360"/>
            <a:ext cx="2305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жон Китс (1795-1821), английский поэт-романт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4"/>
          <a:stretch/>
        </p:blipFill>
        <p:spPr>
          <a:xfrm>
            <a:off x="4815000" y="3284640"/>
            <a:ext cx="1844640" cy="2376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4"/>
          <p:cNvSpPr/>
          <p:nvPr/>
        </p:nvSpPr>
        <p:spPr>
          <a:xfrm>
            <a:off x="4427640" y="5805360"/>
            <a:ext cx="25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льс Абель (1802-1829), гениальный норвежский математ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317080" y="620640"/>
            <a:ext cx="57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XXI </a:t>
            </a: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napoleon02"/>
          <p:cNvPicPr/>
          <p:nvPr/>
        </p:nvPicPr>
        <p:blipFill>
          <a:blip r:embed="rId5"/>
          <a:stretch/>
        </p:blipFill>
        <p:spPr>
          <a:xfrm>
            <a:off x="6792840" y="3247920"/>
            <a:ext cx="1886040" cy="243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66" name="Rectangle 17"/>
          <p:cNvSpPr/>
          <p:nvPr/>
        </p:nvSpPr>
        <p:spPr>
          <a:xfrm>
            <a:off x="6659640" y="5877000"/>
            <a:ext cx="25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рансуа Жозеф Шарль Бонопарт, (1811-1832), сын Наполеон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нук императора Франц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Рентгенограмма органов грудной кле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464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торонняя оценка рентгенологических данных может привести к ошибке, т.к. тени расположенные на различной глубине суммируются и изображение проецируется на одну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DSC07971"/>
          <p:cNvPicPr/>
          <p:nvPr/>
        </p:nvPicPr>
        <p:blipFill>
          <a:blip r:embed="rId1"/>
          <a:stretch/>
        </p:blipFill>
        <p:spPr>
          <a:xfrm>
            <a:off x="304920" y="1600200"/>
            <a:ext cx="5181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Продольная томограмма органов грудной кле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43600" y="1676520"/>
            <a:ext cx="2819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уточнить локализацию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распада легоч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ь динамику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DSC07763"/>
          <p:cNvPicPr/>
          <p:nvPr/>
        </p:nvPicPr>
        <p:blipFill>
          <a:blip r:embed="rId1"/>
          <a:stretch/>
        </p:blipFill>
        <p:spPr>
          <a:xfrm>
            <a:off x="533520" y="1752480"/>
            <a:ext cx="533376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0920" y="189000"/>
            <a:ext cx="84470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buClr>
                <a:srgbClr val="6a3e6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ОЗМОЖНОСТЬ ОЦЕНКИ СТРУКТУРЫ ЛИМФАТИЧЕСКИХ УЗ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a3e6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ОЗМОЖНОСТЬ ОЦЕНКИ СОСТОЯНИЯ ПЕРИНОДУЛЯРНОЙ КЛЕТЧ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a3e6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ИДНЫ ГРУППЫ ЛИМФАТИЧЕСКИХ УЗЛОВ, РАНЕЕ НЕДОСТУПНЫЕ ВИЗУ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169236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параваз"/>
          <p:cNvPicPr/>
          <p:nvPr/>
        </p:nvPicPr>
        <p:blipFill>
          <a:blip r:embed="rId1"/>
          <a:stretch/>
        </p:blipFill>
        <p:spPr>
          <a:xfrm>
            <a:off x="250920" y="3716280"/>
            <a:ext cx="2743200" cy="21877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145" name="Picture 6" descr="парапищ"/>
          <p:cNvPicPr/>
          <p:nvPr/>
        </p:nvPicPr>
        <p:blipFill>
          <a:blip r:embed="rId2"/>
          <a:stretch/>
        </p:blipFill>
        <p:spPr>
          <a:xfrm>
            <a:off x="6227640" y="3716280"/>
            <a:ext cx="2679840" cy="21877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sp>
        <p:nvSpPr>
          <p:cNvPr id="146" name="Прямоугольник 5"/>
          <p:cNvSpPr/>
          <p:nvPr/>
        </p:nvSpPr>
        <p:spPr>
          <a:xfrm>
            <a:off x="179280" y="6093000"/>
            <a:ext cx="2880000" cy="57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ЕТРОКАВАЛЬНАЯ 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6156360" y="6093000"/>
            <a:ext cx="2808360" cy="57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АРАПИЩЕВОДНАЯ 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6804000" y="5373720"/>
            <a:ext cx="360360" cy="144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V="1">
            <a:off x="900000" y="4941720"/>
            <a:ext cx="360360" cy="2145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бифурк"/>
          <p:cNvPicPr/>
          <p:nvPr/>
        </p:nvPicPr>
        <p:blipFill>
          <a:blip r:embed="rId3"/>
          <a:stretch/>
        </p:blipFill>
        <p:spPr>
          <a:xfrm>
            <a:off x="3276720" y="3716280"/>
            <a:ext cx="2666880" cy="21877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sp>
        <p:nvSpPr>
          <p:cNvPr id="151" name="Прямоугольник 11"/>
          <p:cNvSpPr/>
          <p:nvPr/>
        </p:nvSpPr>
        <p:spPr>
          <a:xfrm>
            <a:off x="3203640" y="6093000"/>
            <a:ext cx="2808360" cy="57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БИФУРКАЦИОННАЯ 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 flipV="1">
            <a:off x="3924360" y="5300280"/>
            <a:ext cx="287280" cy="2890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гнутая вправо стрелка 14"/>
          <p:cNvSpPr/>
          <p:nvPr/>
        </p:nvSpPr>
        <p:spPr>
          <a:xfrm>
            <a:off x="8244000" y="2349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15920"/>
            <a:ext cx="85075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buClr>
                <a:srgbClr val="6a3e6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ОЗМОЖНОСТЬ ВЫЯВЛЕНИЯ МАЛЫХ ИЗМЕНЕНИЙ В ЛЕГОЧНОЙ ТК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P9130028"/>
          <p:cNvPicPr/>
          <p:nvPr/>
        </p:nvPicPr>
        <p:blipFill>
          <a:blip r:embed="rId1"/>
          <a:stretch/>
        </p:blipFill>
        <p:spPr>
          <a:xfrm>
            <a:off x="324000" y="1557360"/>
            <a:ext cx="2361960" cy="218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6" name="Picture 12" descr="субплевр"/>
          <p:cNvPicPr/>
          <p:nvPr/>
        </p:nvPicPr>
        <p:blipFill>
          <a:blip r:embed="rId2"/>
          <a:srcRect l="0" t="0" r="0" b="1186"/>
          <a:stretch/>
        </p:blipFill>
        <p:spPr>
          <a:xfrm>
            <a:off x="4572000" y="1557360"/>
            <a:ext cx="2494080" cy="215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7" name="Picture 4" descr="диафр"/>
          <p:cNvPicPr/>
          <p:nvPr/>
        </p:nvPicPr>
        <p:blipFill>
          <a:blip r:embed="rId3"/>
          <a:srcRect l="2897" t="0" r="0" b="0"/>
          <a:stretch/>
        </p:blipFill>
        <p:spPr>
          <a:xfrm>
            <a:off x="1979640" y="4005360"/>
            <a:ext cx="2413080" cy="218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8" name="Picture 14" descr="P8070068"/>
          <p:cNvPicPr/>
          <p:nvPr/>
        </p:nvPicPr>
        <p:blipFill>
          <a:blip r:embed="rId4"/>
          <a:stretch/>
        </p:blipFill>
        <p:spPr>
          <a:xfrm>
            <a:off x="6156360" y="4005360"/>
            <a:ext cx="2477880" cy="218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9" name="Прямоугольник 7"/>
          <p:cNvSpPr/>
          <p:nvPr/>
        </p:nvSpPr>
        <p:spPr>
          <a:xfrm>
            <a:off x="324000" y="1125360"/>
            <a:ext cx="3456000" cy="28764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БЛИЗИ СРЕДИННОЙ Т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4572000" y="1125360"/>
            <a:ext cx="3456000" cy="28764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УБПЛЕВР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179280" y="6308640"/>
            <a:ext cx="4392720" cy="28908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ПРОЕКЦИИ ПЛЕВРАЛЬНЫХ СИНУ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0"/>
          <p:cNvSpPr/>
          <p:nvPr/>
        </p:nvSpPr>
        <p:spPr>
          <a:xfrm>
            <a:off x="5435640" y="6308640"/>
            <a:ext cx="3457440" cy="28908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ИБРОНХИ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ыгнутая вправо стрелка 11"/>
          <p:cNvSpPr/>
          <p:nvPr/>
        </p:nvSpPr>
        <p:spPr>
          <a:xfrm>
            <a:off x="2916360" y="1484280"/>
            <a:ext cx="1150920" cy="172872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324000 h 1728720"/>
              <a:gd name="textAreaBottom" fmla="*/ 1260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4" stAng="-5400000" swAng="5400000"/>
                <a:lnTo>
                  <a:pt x="21600" y="11700"/>
                </a:lnTo>
                <a:arcTo wR="21600" hR="8104" stAng="0" swAng="3327778"/>
                <a:lnTo>
                  <a:pt x="5400" y="21343"/>
                </a:lnTo>
                <a:lnTo>
                  <a:pt x="0" y="18005"/>
                </a:lnTo>
                <a:lnTo>
                  <a:pt x="5400" y="14153"/>
                </a:lnTo>
                <a:lnTo>
                  <a:pt x="5400" y="15950"/>
                </a:lnTo>
                <a:arcTo wR="21600" hR="8104" stAng="3327778" swAng="-3035012"/>
                <a:lnTo>
                  <a:pt x="21062" y="9902"/>
                </a:lnTo>
                <a:arcTo wR="21600" hR="8104" stAng="-292766" swAng="-5107234"/>
                <a:close/>
              </a:path>
              <a:path fill="darkenLess" w="21600" h="21600">
                <a:moveTo>
                  <a:pt x="0" y="0"/>
                </a:moveTo>
                <a:arcTo wR="21600" hR="8104" stAng="-5400000" swAng="5400000"/>
                <a:lnTo>
                  <a:pt x="21600" y="11700"/>
                </a:lnTo>
                <a:arcTo wR="21600" hR="8104" stAng="0" swAng="-292766"/>
                <a:lnTo>
                  <a:pt x="21062" y="9902"/>
                </a:lnTo>
                <a:arcTo wR="21600" hR="8104" stAng="-292766" swAng="-5107234"/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гнутая вправо стрелка 13"/>
          <p:cNvSpPr/>
          <p:nvPr/>
        </p:nvSpPr>
        <p:spPr>
          <a:xfrm>
            <a:off x="7380360" y="1628640"/>
            <a:ext cx="1152360" cy="172908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324000 h 1729080"/>
              <a:gd name="textAreaBottom" fmla="*/ 12607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ыгнутая вправо стрелка 16"/>
          <p:cNvSpPr/>
          <p:nvPr/>
        </p:nvSpPr>
        <p:spPr>
          <a:xfrm rot="12787200">
            <a:off x="468000" y="4149360"/>
            <a:ext cx="1150920" cy="172728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323640 h 1727280"/>
              <a:gd name="textAreaBottom" fmla="*/ 1259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1" stAng="-5400000" swAng="5400000"/>
                <a:lnTo>
                  <a:pt x="21600" y="11700"/>
                </a:lnTo>
                <a:arcTo wR="21600" hR="8101" stAng="0" swAng="3327283"/>
                <a:lnTo>
                  <a:pt x="5400" y="21343"/>
                </a:lnTo>
                <a:lnTo>
                  <a:pt x="0" y="18002"/>
                </a:lnTo>
                <a:lnTo>
                  <a:pt x="5400" y="14146"/>
                </a:lnTo>
                <a:lnTo>
                  <a:pt x="5400" y="15945"/>
                </a:lnTo>
                <a:arcTo wR="21600" hR="8101" stAng="3327283" swAng="-3034256"/>
                <a:lnTo>
                  <a:pt x="21060" y="9901"/>
                </a:lnTo>
                <a:arcTo wR="21600" hR="8101" stAng="-293026" swAng="-5106974"/>
                <a:close/>
              </a:path>
              <a:path fill="darkenLess" w="21600" h="21600">
                <a:moveTo>
                  <a:pt x="0" y="0"/>
                </a:moveTo>
                <a:arcTo wR="21600" hR="8101" stAng="-5400000" swAng="5400000"/>
                <a:lnTo>
                  <a:pt x="21600" y="11700"/>
                </a:lnTo>
                <a:arcTo wR="21600" hR="8101" stAng="0" swAng="-293026"/>
                <a:lnTo>
                  <a:pt x="21060" y="9901"/>
                </a:lnTo>
                <a:arcTo wR="21600" hR="8101" stAng="-293026" swAng="-5106974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ыгнутая вправо стрелка 17"/>
          <p:cNvSpPr/>
          <p:nvPr/>
        </p:nvSpPr>
        <p:spPr>
          <a:xfrm rot="11893200">
            <a:off x="4590360" y="4106520"/>
            <a:ext cx="1150920" cy="172872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324000 h 1728720"/>
              <a:gd name="textAreaBottom" fmla="*/ 1260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4" stAng="-5400000" swAng="5400000"/>
                <a:lnTo>
                  <a:pt x="21600" y="11700"/>
                </a:lnTo>
                <a:arcTo wR="21600" hR="8104" stAng="0" swAng="3327778"/>
                <a:lnTo>
                  <a:pt x="5400" y="21343"/>
                </a:lnTo>
                <a:lnTo>
                  <a:pt x="0" y="18005"/>
                </a:lnTo>
                <a:lnTo>
                  <a:pt x="5400" y="14153"/>
                </a:lnTo>
                <a:lnTo>
                  <a:pt x="5400" y="15950"/>
                </a:lnTo>
                <a:arcTo wR="21600" hR="8104" stAng="3327778" swAng="-3035012"/>
                <a:lnTo>
                  <a:pt x="21062" y="9902"/>
                </a:lnTo>
                <a:arcTo wR="21600" hR="8104" stAng="-292766" swAng="-5107234"/>
                <a:close/>
              </a:path>
              <a:path fill="darkenLess" w="21600" h="21600">
                <a:moveTo>
                  <a:pt x="0" y="0"/>
                </a:moveTo>
                <a:arcTo wR="21600" hR="8104" stAng="-5400000" swAng="5400000"/>
                <a:lnTo>
                  <a:pt x="21600" y="11700"/>
                </a:lnTo>
                <a:arcTo wR="21600" hR="8104" stAng="0" swAng="-292766"/>
                <a:lnTo>
                  <a:pt x="21062" y="9902"/>
                </a:lnTo>
                <a:arcTo wR="21600" hR="8104" stAng="-292766" swAng="-5107234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овременные методы выявления туберкуле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 в клинический минимум обследования групп риска по заболеванию туберкулезом с2007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вейц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76560" y="2590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 в клинический минимум обследования групп риска по заболеванию туберкулезом с 2005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1"/>
          <p:cNvPicPr/>
          <p:nvPr/>
        </p:nvPicPr>
        <p:blipFill>
          <a:blip r:embed="rId1"/>
          <a:stretch/>
        </p:blipFill>
        <p:spPr>
          <a:xfrm>
            <a:off x="2587680" y="1125360"/>
            <a:ext cx="1484280" cy="1281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004160" y="1125360"/>
            <a:ext cx="1828800" cy="1317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258840" y="1233360"/>
            <a:ext cx="24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T SPOT </a:t>
            </a:r>
            <a:r>
              <a:rPr b="1" lang="de-DE" sz="2800" spc="-1" strike="noStrike" baseline="30000">
                <a:solidFill>
                  <a:srgbClr val="1f497d"/>
                </a:solidFill>
                <a:latin typeface="Arial"/>
                <a:ea typeface="MS PGothic"/>
              </a:rPr>
              <a:t>TM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.</a:t>
            </a:r>
            <a:r>
              <a:rPr b="1" i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374000" y="1192320"/>
            <a:ext cx="29012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QuantiFERON</a:t>
            </a:r>
            <a:r>
              <a:rPr b="1" lang="de-DE" sz="2800" spc="-1" strike="noStrike" baseline="30000">
                <a:solidFill>
                  <a:srgbClr val="1f497d"/>
                </a:solidFill>
                <a:latin typeface="Arial"/>
                <a:ea typeface="MS PGothic"/>
              </a:rPr>
              <a:t>®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Tb Gold In-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333360" y="1066680"/>
            <a:ext cx="8440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9"/>
          <p:cNvSpPr/>
          <p:nvPr/>
        </p:nvSpPr>
        <p:spPr>
          <a:xfrm>
            <a:off x="457200" y="541008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России тесты прошли  клинические испытания в НИИФП и находятся на регистрации в ГИСК им. Тарасе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8520" y="2514600"/>
            <a:ext cx="86572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настоящее время тесты применяются более чем в 20 стран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967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овременные методы выявления туберкулеза: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ест-системы  на основе индукции ИФН-γ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Квантифероновый  и Гамма-интерфероновый тес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Росс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тест-система определения туберкулезного инфицирования на основе индукции ИФН-γ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образцах цельной кров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присутствии специфических рекомбинантных антигено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A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6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0 позволяет установить первичную туберкулезную инфекцию и дифференцировать ее от поствакцинальной БЦЖ-алл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увствительностью 96,3% при 98,0% специф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автор: Владимирский М.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спективные направления в выявлении и диагностике туберкуле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перспективными для раннего выявления туберкулезной инфекции, как отмечают многие авторы, являются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специфические иммунологические мет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количественным учетом результатов, в сочетании с дифференцированным исследованием реактивности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пецифические иммунологические мет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39640" indent="-18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олиферативного ответа в РБТЛ на специфический митог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8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отенциальной способности лимфоцитов продуцировать цитокины в РТМЛ на специфический митоге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8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пецифических иммуноглобули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8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фагоцитарной активности на специфический мито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ецифическими тестами для диагностики туберкулезной инфекции являют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БТЛ с туберкули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я торможения миграции лейкоцитов (РТМЛ) под действием туберкул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ППН (показатель повреждения нейтрофилов) с туберкулин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СТ-тест с туберкули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антигенсвязывающих лимфоци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аружение в крови противотуберкулезных антител методом иммуноферментного анализа (ИФ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ммуноферментный анализ (ИФА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етодах ИФА используют иммунореагенты, меченные ферментами. Наиболее широко применяется твердофазный ИФА. В качестве твердой фазы чаще используют  полистироловые или поливиниловые планшеты или шарики, на которых адсорбированы антигены или антитела. О наличии  и количестве антител судят по изменению цвета и интенсивности окраски раств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aHyNHMV3lkjlb8kpJgK7Iggso1_500"/>
          <p:cNvPicPr/>
          <p:nvPr/>
        </p:nvPicPr>
        <p:blipFill>
          <a:blip r:embed="rId1"/>
          <a:stretch/>
        </p:blipFill>
        <p:spPr>
          <a:xfrm>
            <a:off x="324000" y="735120"/>
            <a:ext cx="2636640" cy="352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3" descr="aHyNHMV3lkjl6t7bgNbNfCh6o1_500"/>
          <p:cNvPicPr/>
          <p:nvPr/>
        </p:nvPicPr>
        <p:blipFill>
          <a:blip r:embed="rId2"/>
          <a:stretch/>
        </p:blipFill>
        <p:spPr>
          <a:xfrm>
            <a:off x="2268360" y="3141720"/>
            <a:ext cx="2311560" cy="324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Rectangle 4"/>
          <p:cNvSpPr/>
          <p:nvPr/>
        </p:nvSpPr>
        <p:spPr>
          <a:xfrm>
            <a:off x="304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287280" y="577800"/>
            <a:ext cx="856944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52360" y="4365720"/>
            <a:ext cx="201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ридерик Шопе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810-1849)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52640" y="1599840"/>
            <a:ext cx="403380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533160"/>
            <a:ext cx="18302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трет работы Эжена Делакруа, 183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52640" y="3947760"/>
            <a:ext cx="403380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456-2"/>
          <p:cNvPicPr/>
          <p:nvPr/>
        </p:nvPicPr>
        <p:blipFill>
          <a:blip r:embed="rId3"/>
          <a:stretch/>
        </p:blipFill>
        <p:spPr>
          <a:xfrm>
            <a:off x="4876920" y="3733920"/>
            <a:ext cx="3456000" cy="259236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76" name="Picture 11" descr="№385-2"/>
          <p:cNvPicPr/>
          <p:nvPr/>
        </p:nvPicPr>
        <p:blipFill>
          <a:blip r:embed="rId4"/>
          <a:stretch/>
        </p:blipFill>
        <p:spPr>
          <a:xfrm>
            <a:off x="4952880" y="990720"/>
            <a:ext cx="3456000" cy="259236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sp>
        <p:nvSpPr>
          <p:cNvPr id="77" name="Rectangle 12"/>
          <p:cNvSpPr/>
          <p:nvPr/>
        </p:nvSpPr>
        <p:spPr>
          <a:xfrm>
            <a:off x="468360" y="573408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тография, 1848 или 184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ность и чувствительность И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ющие иммуноферментные тест-системы обладают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пецифич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уровне 90-94% (6-10% ложноположительных результатов у здоровых лиц или больных нетуберкулезными заболеваниями), тогда как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чувстви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число положительных результатов у больных активным туберкулезом)  составляет, в среднем, около 7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дифицированная РБТЛ с ППД-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мРБТЛ с ППД-Л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а реакция на основании РБТЛ, что позволило повысить информативность данного иммунологического теста. При выполнении теста исключается селективная потеря Т-лимфоцитов и других клеток крови, принимающих участие в реакции (макрофаги). Возможность использования малого объема крови (200 мкл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формативность модифицированной РБТЛ на ППД-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фичность метода – 97,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вствительность метода – 97,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я истинных результатов –97,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,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ценка уровня пролиферации лимфоцитов на туберкулин в мРБТЛ у детей с положительным результатом пробы Манту с 2 ТЕ ППД-Л старше 3-х л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декс стимуляции менее 3,2 – не инфицирован МБ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декс стимуляции 3,3 – 12,1 – инфицирование МБ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декс стимуляции более 12,1 – активный туберкулезный процес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методы микробиологической диагностики туберку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 rot="10800000">
            <a:off x="194760" y="1198080"/>
            <a:ext cx="606960" cy="5472360"/>
          </a:xfrm>
          <a:prstGeom prst="rect">
            <a:avLst/>
          </a:prstGeom>
          <a:solidFill>
            <a:srgbClr val="cc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иагностически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971640" y="1125360"/>
            <a:ext cx="2160360" cy="93672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териоск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971640" y="2349360"/>
            <a:ext cx="2160360" cy="9352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971640" y="5734080"/>
            <a:ext cx="2089080" cy="936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-г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348000" y="1125360"/>
            <a:ext cx="2448000" cy="93672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минесцен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микрос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348000" y="5229360"/>
            <a:ext cx="2519280" cy="14414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Ц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НК-стр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ч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кве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348000" y="2276640"/>
            <a:ext cx="2519280" cy="1008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лотных сре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c MGIT 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3348000" y="3573360"/>
            <a:ext cx="251928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яной аг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роскопия по Ц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3276720" y="2852640"/>
            <a:ext cx="2519280" cy="43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500720" y="3284640"/>
            <a:ext cx="0" cy="288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3132000" y="1628640"/>
            <a:ext cx="2160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5796000" y="1557360"/>
            <a:ext cx="50328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3132000" y="2781360"/>
            <a:ext cx="2160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6300720" y="1197000"/>
            <a:ext cx="22338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6372360" y="2349360"/>
            <a:ext cx="223344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ТП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6372360" y="3573360"/>
            <a:ext cx="223344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фферен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ТК от НТ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5867280" y="2708280"/>
            <a:ext cx="50508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867280" y="40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3059280" y="6237360"/>
            <a:ext cx="28872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 flipV="1">
            <a:off x="5867280" y="1844280"/>
            <a:ext cx="432000" cy="7923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826920" y="1700280"/>
            <a:ext cx="179640" cy="0"/>
          </a:xfrm>
          <a:prstGeom prst="line">
            <a:avLst/>
          </a:prstGeom>
          <a:ln w="101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826920" y="2852640"/>
            <a:ext cx="179640" cy="0"/>
          </a:xfrm>
          <a:prstGeom prst="line">
            <a:avLst/>
          </a:prstGeom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9"/>
          <p:cNvSpPr/>
          <p:nvPr/>
        </p:nvSpPr>
        <p:spPr>
          <a:xfrm>
            <a:off x="826920" y="6165720"/>
            <a:ext cx="179640" cy="0"/>
          </a:xfrm>
          <a:prstGeom prst="line">
            <a:avLst/>
          </a:prstGeom>
          <a:ln w="101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6372360" y="5805360"/>
            <a:ext cx="223344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нт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обакте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1"/>
          <p:cNvSpPr/>
          <p:nvPr/>
        </p:nvSpPr>
        <p:spPr>
          <a:xfrm>
            <a:off x="6300720" y="4581360"/>
            <a:ext cx="22338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Т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3348000" y="4724280"/>
            <a:ext cx="2592360" cy="3603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шет-тит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5940360" y="4869000"/>
            <a:ext cx="3589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5"/>
          <p:cNvSpPr/>
          <p:nvPr/>
        </p:nvSpPr>
        <p:spPr>
          <a:xfrm>
            <a:off x="2124000" y="3284640"/>
            <a:ext cx="0" cy="1584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7"/>
          <p:cNvSpPr/>
          <p:nvPr/>
        </p:nvSpPr>
        <p:spPr>
          <a:xfrm>
            <a:off x="2124000" y="4869000"/>
            <a:ext cx="12240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8"/>
          <p:cNvSpPr/>
          <p:nvPr/>
        </p:nvSpPr>
        <p:spPr>
          <a:xfrm flipH="1">
            <a:off x="2484360" y="3141720"/>
            <a:ext cx="1008000" cy="115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9"/>
          <p:cNvSpPr/>
          <p:nvPr/>
        </p:nvSpPr>
        <p:spPr>
          <a:xfrm>
            <a:off x="2484360" y="4292640"/>
            <a:ext cx="862200" cy="1514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0"/>
          <p:cNvSpPr/>
          <p:nvPr/>
        </p:nvSpPr>
        <p:spPr>
          <a:xfrm flipH="1">
            <a:off x="8532360" y="1557360"/>
            <a:ext cx="36036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1"/>
          <p:cNvSpPr/>
          <p:nvPr/>
        </p:nvSpPr>
        <p:spPr>
          <a:xfrm>
            <a:off x="5867280" y="5661000"/>
            <a:ext cx="30974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2"/>
          <p:cNvSpPr/>
          <p:nvPr/>
        </p:nvSpPr>
        <p:spPr>
          <a:xfrm>
            <a:off x="8893080" y="1557360"/>
            <a:ext cx="73080" cy="4103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3"/>
          <p:cNvSpPr/>
          <p:nvPr/>
        </p:nvSpPr>
        <p:spPr>
          <a:xfrm flipH="1">
            <a:off x="8532360" y="2781360"/>
            <a:ext cx="36036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5867280" y="6237360"/>
            <a:ext cx="50508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кроскопические мет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1A-24 часа"/>
          <p:cNvPicPr/>
          <p:nvPr/>
        </p:nvPicPr>
        <p:blipFill>
          <a:blip r:embed="rId1"/>
          <a:stretch/>
        </p:blipFill>
        <p:spPr>
          <a:xfrm>
            <a:off x="5562720" y="2367000"/>
            <a:ext cx="2411280" cy="241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v обраб азидом Bactec-Л-Й-Bactec-мазок-4"/>
          <p:cNvPicPr/>
          <p:nvPr/>
        </p:nvPicPr>
        <p:blipFill>
          <a:blip r:embed="rId2"/>
          <a:stretch/>
        </p:blipFill>
        <p:spPr>
          <a:xfrm>
            <a:off x="539640" y="234936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339840" y="177336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аска по Цилю-Нильсе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716360" y="17733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аска люминесцентными крас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71520" y="4437000"/>
            <a:ext cx="81579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актериоскопически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микроскопия, разрешающая способность очень низкая (100 000 микобактерий туберкулеза в 1 мл исследуемого материал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минесцентная микроскопия (10 000 МБТ в 1 мл исследуемого материа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сследование мокроты с окраской по Циль-Нильсену на К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ительность метода – 50% (в 50% случаев ложноотрицательные результа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ность метода – 96% (4% ложноположительных результа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286000" y="2367000"/>
            <a:ext cx="457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актериологически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055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судить о чувствительности культуры микобактерий к различным химиопрепарат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типировать культуру МБ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зультаты посева на МБ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рок ожидания результата от 1 до 3 м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343400" cy="2775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3619440" cy="25621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380880" y="441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ормы колоний микобактер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97320" y="5638680"/>
            <a:ext cx="2181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ормы коло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обактер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87280" y="1015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419640" y="765000"/>
            <a:ext cx="54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уи́ Николя́ Даву́ (1770—1823) — полководец наполеоновских войн, герцог Ауэрштедтский, князь Экмюльский  маршал Франции. Имел прозвище «железный маршал». В 1818 г. получил доступ ко двору Людовика XVIII,  с 1819 г. —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эр Франции. Умер от туберкулеза легких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287280" y="577800"/>
            <a:ext cx="856944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4000" y="4437000"/>
            <a:ext cx="446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ога́нн Кри́стоф Фри́дрих фон Ши́ллер (1759-1805) — великий немецкий поэт-романтик, философ, историк, теоретик искусства и драматург. Сын полкового фельдшера, закончил элитную военную академию Hohe Karlsschule и в 1780 г. получил в Штутгарте место полкового врача. Скончался  туберкулёза.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666880" cy="3456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5954760" y="2349360"/>
            <a:ext cx="2719440" cy="42483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осев мокроты на МБ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увствительность метода – 87% (13% ложноотрицательных результа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ецифичность метода – 99% (1% ложноположительных результа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е результата через 3 меся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Oval 2"/>
          <p:cNvSpPr/>
          <p:nvPr/>
        </p:nvSpPr>
        <p:spPr>
          <a:xfrm>
            <a:off x="2050920" y="189000"/>
            <a:ext cx="5112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корен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я возбу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6"/>
          <p:cNvSpPr/>
          <p:nvPr/>
        </p:nvSpPr>
        <p:spPr>
          <a:xfrm>
            <a:off x="611280" y="1700280"/>
            <a:ext cx="28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7"/>
          <p:cNvSpPr/>
          <p:nvPr/>
        </p:nvSpPr>
        <p:spPr>
          <a:xfrm>
            <a:off x="5796000" y="1773360"/>
            <a:ext cx="28796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яр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 rot="19878000">
            <a:off x="2050920" y="1412640"/>
            <a:ext cx="576360" cy="215640"/>
          </a:xfrm>
          <a:prstGeom prst="leftArrow">
            <a:avLst>
              <a:gd name="adj1" fmla="val 50000"/>
              <a:gd name="adj2" fmla="val 668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 flipH="1" rot="1722000">
            <a:off x="6443280" y="148392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685080" y="378936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c MGIT 96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-14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474840" y="2708280"/>
            <a:ext cx="342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ивирование на жид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тательных сре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автоматической регистр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ста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5586840" y="2924280"/>
            <a:ext cx="32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явление ДНК возбу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диагностическом матери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6228000" y="3789360"/>
            <a:ext cx="19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ЦР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-2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5"/>
          <p:cNvPicPr/>
          <p:nvPr/>
        </p:nvPicPr>
        <p:blipFill>
          <a:blip r:embed="rId1"/>
          <a:stretch/>
        </p:blipFill>
        <p:spPr>
          <a:xfrm>
            <a:off x="395280" y="4365720"/>
            <a:ext cx="1487520" cy="2230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ManualMGITube"/>
          <p:cNvPicPr/>
          <p:nvPr/>
        </p:nvPicPr>
        <p:blipFill>
          <a:blip r:embed="rId2"/>
          <a:stretch/>
        </p:blipFill>
        <p:spPr>
          <a:xfrm>
            <a:off x="2484360" y="4437000"/>
            <a:ext cx="1158840" cy="1870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6" descr="IQ-5"/>
          <p:cNvPicPr/>
          <p:nvPr/>
        </p:nvPicPr>
        <p:blipFill>
          <a:blip r:embed="rId3"/>
          <a:stretch/>
        </p:blipFill>
        <p:spPr>
          <a:xfrm>
            <a:off x="5148360" y="4365720"/>
            <a:ext cx="1673280" cy="223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7" descr="PCR"/>
          <p:cNvPicPr/>
          <p:nvPr/>
        </p:nvPicPr>
        <p:blipFill>
          <a:blip r:embed="rId4"/>
          <a:stretch/>
        </p:blipFill>
        <p:spPr>
          <a:xfrm>
            <a:off x="7108920" y="4365720"/>
            <a:ext cx="1966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4"/>
          <p:cNvPicPr/>
          <p:nvPr/>
        </p:nvPicPr>
        <p:blipFill>
          <a:blip r:embed="rId1"/>
          <a:stretch/>
        </p:blipFill>
        <p:spPr>
          <a:xfrm>
            <a:off x="3492360" y="1773360"/>
            <a:ext cx="5651640" cy="489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5"/>
          <p:cNvPicPr/>
          <p:nvPr/>
        </p:nvPicPr>
        <p:blipFill>
          <a:blip r:embed="rId2"/>
          <a:stretch/>
        </p:blipFill>
        <p:spPr>
          <a:xfrm>
            <a:off x="468360" y="189000"/>
            <a:ext cx="3024000" cy="45352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00"/>
                </a:solidFill>
                <a:latin typeface="Arial"/>
              </a:rPr>
              <a:t>BACTEC™ MGIT™ 96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C MGIT 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D BACTEC MGIT 960 — Бактериологический анализ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стью автоматизированный комплекс для детекции микобактерии туберкулеза и определения чувствительности к лекарственным препара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у технологии детекции заложено использование пробирки BD BBL™ MGIT ™ с модифицированной средой Миддлбрук и встроенным флуоресцентным индикатором, который инактивирован высокими концентрациями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роста размножающаяся микробная популяция поглощает кислород, тем самым активируя флуоресцентный индикатор, который начинает светиться при ультрафиолетовом излу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ая флуоресценция в пробирках MGIT ™ является результатом роста культуры мико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СТИ АНАЛИЗАТОРА BACTEC™ MGIT™ 96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е проведение 960 анализов (8000 в го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кция микобактерии за 3-15 дней, определение чувствительности к антибактериальным препаратам — 7-9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еваемость микобактерии туберкулеза — до 94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чувствительности к препаратам первого ряда (стрептомицину, изониазиду, рифампицину, этамбутолу) в высоких и критических концентрациях и пиразинами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процессе потребления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стущими клетками растворенного в среде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ндикатор начинает светиться в лучах источника ультрафиолетового облуч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15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BACTEC™ MGIT™ 9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фичность мето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вствительность — 92-98% (в зависимости от препарата, от 2-8% ложноотрицательные результат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Oval 2"/>
          <p:cNvSpPr/>
          <p:nvPr/>
        </p:nvSpPr>
        <p:spPr>
          <a:xfrm>
            <a:off x="179280" y="0"/>
            <a:ext cx="8964720" cy="148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методы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арственной чувствительности микобакте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6516720" y="1700280"/>
            <a:ext cx="129528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 rot="19878000">
            <a:off x="2123640" y="134100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 flipH="1" rot="1722000">
            <a:off x="6443640" y="141264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1403280" y="1628640"/>
            <a:ext cx="129564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Т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50200" y="227664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987640" y="227664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екуляр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(1-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6442920" y="24922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H="1">
            <a:off x="1331640" y="2133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262728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73087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3"/>
          <p:cNvSpPr/>
          <p:nvPr/>
        </p:nvSpPr>
        <p:spPr>
          <a:xfrm>
            <a:off x="118728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800" y="3284640"/>
            <a:ext cx="246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c MGIT 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ТП 1-го и 2-го 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21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сле пол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2508120" y="3213000"/>
            <a:ext cx="501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льтиплексная ПЦР (Синт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F, INH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Б-биочип, ТБ-биочип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F, INH, F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НК-стрип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in life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GenoTyp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®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TBDR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F, I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GenoType® MTBDR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фторхинол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миногликозиды/циклические пеп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этамбу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pert MTB/RIF (Cepheid In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6586560" y="3716280"/>
            <a:ext cx="246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tit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K Di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gellan Bioscie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7308720" y="292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5329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a3e64"/>
                </a:solidFill>
                <a:latin typeface="Arial"/>
              </a:rPr>
              <a:t>КЛИНИЧЕСКОЕ МЫШЛЕНИЕ НЕ МОЖЕТ ЗАМЕНИТЬ НИ ОДИН, ДАЖЕ САМЫЙ ИНФОРМАТИВНЫЙ ДИАГНОСТИЧЕСКИЙ МЕТ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hotoimg513247" descr="&amp;Mcy;&amp;acy;&amp;tcy;&amp;iecy;&amp;rcy;&amp;icy;&amp;acy;&amp;lcy; &amp;mcy;&amp;ycy;&amp;scy;&amp;lcy;&amp;icy;&amp;tcy;&amp;iecy;&amp;lcy;&amp;yacy; &amp;vcy;&amp;iecy;&amp;kcy;&amp;tcy;&amp;ocy;&amp;rcy;"/>
          <p:cNvPicPr/>
          <p:nvPr/>
        </p:nvPicPr>
        <p:blipFill>
          <a:blip r:embed="rId1"/>
          <a:srcRect l="22877" t="0" r="21643" b="0"/>
          <a:stretch/>
        </p:blipFill>
        <p:spPr>
          <a:xfrm>
            <a:off x="5508720" y="836640"/>
            <a:ext cx="3311280" cy="5040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49636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клинические рекомендации по диагностике и лечению туберкулеза органов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8064360" y="5734080"/>
            <a:ext cx="107964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d:\Рабочий стол\семинар ННИИТ 9-10 декабря 2014\картинки для слайдов\скачанные файлы.jpg"/>
          <p:cNvPicPr/>
          <p:nvPr/>
        </p:nvPicPr>
        <p:blipFill>
          <a:blip r:embed="rId1"/>
          <a:stretch/>
        </p:blipFill>
        <p:spPr>
          <a:xfrm>
            <a:off x="2133720" y="3809880"/>
            <a:ext cx="1828800" cy="2495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d:\Рабочий стол\семинар ННИИТ 9-10 декабря 2014\картинки для слайдов\6.gif"/>
          <p:cNvPicPr/>
          <p:nvPr/>
        </p:nvPicPr>
        <p:blipFill>
          <a:blip r:embed="rId2"/>
          <a:stretch/>
        </p:blipFill>
        <p:spPr>
          <a:xfrm>
            <a:off x="5334120" y="3886200"/>
            <a:ext cx="16570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3078360" cy="4248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603520" cy="36007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3478320" y="1125360"/>
            <a:ext cx="1814400" cy="23036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87" name="Line 5"/>
          <p:cNvSpPr/>
          <p:nvPr/>
        </p:nvSpPr>
        <p:spPr>
          <a:xfrm>
            <a:off x="287280" y="620640"/>
            <a:ext cx="856944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15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24000" y="69228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ператорские семьи ил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356000" y="6922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чаги туберкулезной инфекци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81080" y="4786920"/>
            <a:ext cx="3095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рия Александровна (1824-1880) — дочь великого герцога Людвига II Гессенского; супруга императора Александра II, мать цесаревича Николая и будущего императора Александра III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го болела туберкулезом легких и умерла от него в возрасте 56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651640" y="1017000"/>
            <a:ext cx="331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олай Александрович с невестой, датской принцессой Дагмарой (затем - и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мператрица Мария Федоровн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жена Александр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ладшего брата Николая Александровича)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82720"/>
            <a:ext cx="2376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колай Александрович Романов (1843-1865), старший сын  Александ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аследник Российского престола, скончался от туберкулезного менингита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324000" y="907920"/>
            <a:ext cx="475272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линические рекомендации утверждены Президиумом Правления Российского общества фтизиатров 23 января 201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соответствии с п.2 ст. 76 ФЗ РФ от 21.11. 2011 г.№323-ФЗ «Об основах охраны здоровья граждан в РФ» клинические рекомендации разрабатываются и утверждаются профессиональными некоммерческими организ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femb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www.roftb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казанные клинические рекомендации являются руководством к действ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d:\Рабочий стол\семинар ННИИТ 9-10 декабря 2014\картинки для слайдов\скачанные файлы.jpg"/>
          <p:cNvPicPr/>
          <p:nvPr/>
        </p:nvPicPr>
        <p:blipFill>
          <a:blip r:embed="rId2"/>
          <a:stretch/>
        </p:blipFill>
        <p:spPr>
          <a:xfrm>
            <a:off x="5148360" y="90792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d:\Рабочий стол\семинар ННИИТ 9-10 декабря 2014\картинки для слайдов\6.gif"/>
          <p:cNvPicPr/>
          <p:nvPr/>
        </p:nvPicPr>
        <p:blipFill>
          <a:blip r:embed="rId3"/>
          <a:stretch/>
        </p:blipFill>
        <p:spPr>
          <a:xfrm>
            <a:off x="6084720" y="3273480"/>
            <a:ext cx="25909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8000" y="380880"/>
            <a:ext cx="8856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Ваксман и Шат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открытие стрептомиц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Diapositiva19"/>
          <p:cNvPicPr/>
          <p:nvPr/>
        </p:nvPicPr>
        <p:blipFill>
          <a:blip r:embed="rId1"/>
          <a:srcRect l="2667" t="2667" r="2667" b="24004"/>
          <a:stretch/>
        </p:blipFill>
        <p:spPr>
          <a:xfrm>
            <a:off x="304920" y="1676520"/>
            <a:ext cx="8653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560" y="12679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звития хими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4360" y="2636640"/>
            <a:ext cx="792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0-е г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стрептомиц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тез ПАСК  Леманном и Росда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2 г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противотуберкулезной активности изониазида – соединения, синтезированного за 40 лет до э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звития хими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9640" y="1699920"/>
            <a:ext cx="7777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0-е -1960 е г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ниаз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иногликоз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ре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азин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он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осе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мбу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звития хими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4360" y="1483920"/>
            <a:ext cx="777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66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:  открытие рифампиц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90-е  г.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крытие противотуберкулезной активности фторхино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00 - е г.г. – наст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инические и клинические испытания  новых кандидатов противотуберкулезных препа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3 г.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ешение  ВО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именение нового препарата  Бедакви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5675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Если врач назначает правильное лечение, а больной четко выполняет предписанный режим в течение всего курса химиотерапии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 непременно выздоровее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нако, нужно организовать лечение так, чтоб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именьшим образом изменить  привычный образ жизни пациент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 Кроф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685800" y="609480"/>
            <a:ext cx="82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параты основного ( первого)ря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ониазид 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ифампици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Рифабутин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разинами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амбуто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ептомици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990720" y="3049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250920" y="1484280"/>
            <a:ext cx="86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ъекцио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намицин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микацин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реомицин (C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торхинолон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F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вофлоксаци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f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ксифлоксацин (Mf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арилхино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Бедаквилин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68360" y="1890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параты резервного (второго) 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28600" y="1981080"/>
            <a:ext cx="5029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076720" y="1700280"/>
            <a:ext cx="38102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иоамиды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производны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оникотиновой кислот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ионамид (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тионамид (P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иклосер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ризидон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ра-аминосалици-ловая кисло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 третьего ряда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ара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ивотуберкулезной активностью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зол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опенем , имипенем/циласт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оксициллина клавул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ритр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офазимин ( в РФ не зарегистриров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и химиотерапии туберкулеза в современных услов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3600" y="1841400"/>
            <a:ext cx="742032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ндартные стартовые режимы химиотера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жидание результата ТЛЧ по методу абсолютных концентраций –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-3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лительная диагностика МЛУ Т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начение больному неадекватной комбинации препаратов, а иногда и монотера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284720" y="314172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24000" y="115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547640" y="692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XIX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ек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68360" y="1197000"/>
            <a:ext cx="8496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понятия о туберкулезе как о самостоятельной нозологическ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1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ене Теофил Гиацинт Лаэннек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.T.H.Laënne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 возбудителя туберку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82 г. Роберт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5292720" y="3430440"/>
          <a:ext cx="2527200" cy="31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3430440"/>
                    <a:ext cx="2527200" cy="3167280"/>
                  </a:xfrm>
                  <a:prstGeom prst="rect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529080" cy="3186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02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Основные принципы химиотерапии Т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26792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отерапия по результатам быстрых методов определения  ЛЧ МБ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ные подход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бинированная химиотерапия  4-6 ПТ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хфазная химиотерап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е эмпирического режима  ХТ препаратами 1 и 2 ряда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т данных ЛУ МБТ у контактн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т сведений  о предшествующей тера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оевременная коррекция при выявлении ЛУ МБ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и предупреждение   побоч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028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собенности формирования режима химиотерапии при использовании молекулярно-генетических мет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755640" y="15318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значение и коррекцию режима химиотерапии проводят в два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ании данных индивидуального ТЛЧ, полученного с использованием молекулярно-генетических мет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ании результата ТЛЧ на жидких или плотных питательных средах к препаратам основного и резервного ря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755640" y="4159080"/>
            <a:ext cx="7777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олекулярно-генетические методы определения лекарственной устойчивости возбу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0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e"/>
                </a:solidFill>
                <a:latin typeface="Arial"/>
              </a:rPr>
              <a:t>Gene Xpert 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050e"/>
                </a:solidFill>
                <a:latin typeface="Arial"/>
              </a:rPr>
              <a:t>MTB/RIF  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R)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: 90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0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Мультиплексная ПЦР (Синтол) 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HR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Fq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5,5 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0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ТБ –Биочип  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HR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Fq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: 24 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0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ДНК – стриповый </a:t>
            </a:r>
            <a:r>
              <a:rPr b="0" lang="en-US" sz="1800" spc="-1" strike="noStrike">
                <a:solidFill>
                  <a:srgbClr val="05050e"/>
                </a:solidFill>
                <a:latin typeface="Arial"/>
              </a:rPr>
              <a:t>Hain Lifescience 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( HRE Fq Am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/С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m)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5050e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мы химиотера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89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жим химиотерапии определяется в   соответствии с  лекарственной чувствительностью  МБ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ж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лекарственной  чувствительности МБ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 при ЛУ 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ониазид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но не М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 при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установленной  МЛУ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БТ  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i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ойчивост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одозрении на М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ри установленно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Б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33284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отерапия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8"/>
          <p:cNvSpPr/>
          <p:nvPr/>
        </p:nvSpPr>
        <p:spPr>
          <a:xfrm>
            <a:off x="1255680" y="1765440"/>
            <a:ext cx="309708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Чувствительный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0"/>
          <p:cNvSpPr/>
          <p:nvPr/>
        </p:nvSpPr>
        <p:spPr>
          <a:xfrm>
            <a:off x="1255680" y="2816280"/>
            <a:ext cx="324504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Полирезистентный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1255680" y="3854520"/>
            <a:ext cx="311004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МЛУ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2"/>
          <p:cNvSpPr/>
          <p:nvPr/>
        </p:nvSpPr>
        <p:spPr>
          <a:xfrm>
            <a:off x="1255680" y="4898880"/>
            <a:ext cx="3097080" cy="79236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ШЛУ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"/>
          <p:cNvSpPr/>
          <p:nvPr/>
        </p:nvSpPr>
        <p:spPr>
          <a:xfrm>
            <a:off x="5650920" y="19591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5653800" y="3013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5641920" y="40338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"/>
          <p:cNvSpPr/>
          <p:nvPr/>
        </p:nvSpPr>
        <p:spPr>
          <a:xfrm>
            <a:off x="5629680" y="506268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0"/>
          <p:cNvSpPr/>
          <p:nvPr/>
        </p:nvSpPr>
        <p:spPr>
          <a:xfrm>
            <a:off x="917640" y="10587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жим химиотерапии определяется в  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 лекарственной чувствительностью  МБ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041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жимы химиотерап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835280" y="1413000"/>
          <a:ext cx="6948360" cy="4824360"/>
        </p:xfrm>
        <a:graphic>
          <a:graphicData uri="http://schemas.openxmlformats.org/drawingml/2006/table">
            <a:tbl>
              <a:tblPr/>
              <a:tblGrid>
                <a:gridCol w="1280880"/>
                <a:gridCol w="2851200"/>
                <a:gridCol w="2816280"/>
              </a:tblGrid>
              <a:tr h="434880"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ж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>
                        <a:alpha val="50000"/>
                      </a:srgbClr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азы курса химиотерап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нтенс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аза продол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>
                        <a:alpha val="50000"/>
                      </a:srgbClr>
                    </a:solidFill>
                  </a:tcPr>
                </a:tc>
              </a:tr>
              <a:tr h="925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I /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2-3 H RZ E[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4 H R / 4H R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5 H R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2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lang="pt-BR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m /</a:t>
                      </a: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0" lang="pt-BR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m [Cm] R Z Fq [E] [Pto/Eto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6 R Z Fq [E] [Pto/Eto]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08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8 Cm Lfx Z Cs/Trd PAS Pto/Eto  </a:t>
                      </a:r>
                      <a:r>
                        <a:rPr b="0" lang="en-US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[Bq] </a:t>
                      </a: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[Km/Аm] [E] [Mf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12-18 Lfx Z Cs/Trd PAS Pto/Eto [ E] [Mf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08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8 Cm Mfx Z Cs/Trd PAS Lzd  </a:t>
                      </a:r>
                      <a:r>
                        <a:rPr b="0" lang="en-US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[Bq] </a:t>
                      </a: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[E ] [Pto/Eto] [Amx Imp Сlr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12-18 Mfx Z Cs/Trd PAS Lzd [E ] [Pto/Eto] [Amx Imp Сlr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341" name="AutoShape 38"/>
          <p:cNvSpPr/>
          <p:nvPr/>
        </p:nvSpPr>
        <p:spPr>
          <a:xfrm>
            <a:off x="108000" y="2281320"/>
            <a:ext cx="223200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50e"/>
                </a:solidFill>
                <a:latin typeface="Calibri"/>
              </a:rPr>
              <a:t>Чувств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0"/>
          <p:cNvSpPr/>
          <p:nvPr/>
        </p:nvSpPr>
        <p:spPr>
          <a:xfrm>
            <a:off x="108000" y="3346560"/>
            <a:ext cx="223200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50e"/>
                </a:solidFill>
                <a:latin typeface="Calibri"/>
              </a:rPr>
              <a:t>Полирезистен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1"/>
          <p:cNvSpPr/>
          <p:nvPr/>
        </p:nvSpPr>
        <p:spPr>
          <a:xfrm>
            <a:off x="108000" y="4226040"/>
            <a:ext cx="223200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МЛУ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2"/>
          <p:cNvSpPr/>
          <p:nvPr/>
        </p:nvSpPr>
        <p:spPr>
          <a:xfrm>
            <a:off x="108000" y="5300640"/>
            <a:ext cx="2232000" cy="79236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ШЛУ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867280" y="1844280"/>
            <a:ext cx="2578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Organization Chart 8"/>
          <p:cNvGrpSpPr/>
          <p:nvPr/>
        </p:nvGrpSpPr>
        <p:grpSpPr>
          <a:xfrm>
            <a:off x="1979640" y="1413000"/>
            <a:ext cx="4750920" cy="4823640"/>
            <a:chOff x="1979640" y="1413000"/>
            <a:chExt cx="4750920" cy="4823640"/>
          </a:xfrm>
        </p:grpSpPr>
        <p:cxnSp>
          <p:nvCxnSpPr>
            <p:cNvPr id="347" name="_s2052"/>
            <p:cNvCxnSpPr>
              <a:stCxn id="348" idx="1"/>
              <a:endCxn id="349" idx="2"/>
            </p:cNvCxnSpPr>
            <p:nvPr/>
          </p:nvCxnSpPr>
          <p:spPr>
            <a:xfrm rot="10800000">
              <a:off x="4883760" y="4920480"/>
              <a:ext cx="262800" cy="87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2053"/>
            <p:cNvCxnSpPr>
              <a:stCxn id="351" idx="1"/>
              <a:endCxn id="352" idx="2"/>
            </p:cNvCxnSpPr>
            <p:nvPr/>
          </p:nvCxnSpPr>
          <p:spPr>
            <a:xfrm rot="10800000">
              <a:off x="2772360" y="4920480"/>
              <a:ext cx="262800" cy="880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3" name="_s2054"/>
            <p:cNvCxnSpPr>
              <a:stCxn id="349" idx="0"/>
              <a:endCxn id="354" idx="2"/>
            </p:cNvCxnSpPr>
            <p:nvPr/>
          </p:nvCxnSpPr>
          <p:spPr>
            <a:xfrm flipV="1">
              <a:off x="4884120" y="3605040"/>
              <a:ext cx="2520" cy="43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5" name="_s2055"/>
            <p:cNvCxnSpPr>
              <a:stCxn id="352" idx="0"/>
              <a:endCxn id="356" idx="2"/>
            </p:cNvCxnSpPr>
            <p:nvPr/>
          </p:nvCxnSpPr>
          <p:spPr>
            <a:xfrm flipV="1">
              <a:off x="2772720" y="3605040"/>
              <a:ext cx="2520" cy="43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7" name="_s2056"/>
            <p:cNvCxnSpPr>
              <a:stCxn id="354" idx="0"/>
              <a:endCxn id="358" idx="2"/>
            </p:cNvCxnSpPr>
            <p:nvPr/>
          </p:nvCxnSpPr>
          <p:spPr>
            <a:xfrm flipV="1" rot="16200000">
              <a:off x="4134240" y="1977840"/>
              <a:ext cx="442440" cy="1058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2057"/>
            <p:cNvCxnSpPr>
              <a:stCxn id="356" idx="0"/>
              <a:endCxn id="358" idx="2"/>
            </p:cNvCxnSpPr>
            <p:nvPr/>
          </p:nvCxnSpPr>
          <p:spPr>
            <a:xfrm flipH="1" flipV="1" rot="5400000">
              <a:off x="3079080" y="1979640"/>
              <a:ext cx="442440" cy="1054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8" name="_s2058"/>
            <p:cNvSpPr/>
            <p:nvPr/>
          </p:nvSpPr>
          <p:spPr>
            <a:xfrm>
              <a:off x="3035160" y="141300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GeneXper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2059"/>
            <p:cNvSpPr/>
            <p:nvPr/>
          </p:nvSpPr>
          <p:spPr>
            <a:xfrm>
              <a:off x="1979640" y="272844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Чувстсв. к</a:t>
              </a:r>
              <a:r>
                <a:rPr b="1" lang="ru-RU" sz="1700" spc="-1" strike="noStrike">
                  <a:solidFill>
                    <a:srgbClr val="a50021"/>
                  </a:solidFill>
                  <a:latin typeface="Arial"/>
                  <a:ea typeface="Arial Unicode MS"/>
                </a:rPr>
                <a:t> </a:t>
              </a:r>
              <a:r>
                <a:rPr b="1" lang="en-US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2060"/>
            <p:cNvSpPr/>
            <p:nvPr/>
          </p:nvSpPr>
          <p:spPr>
            <a:xfrm>
              <a:off x="4091040" y="272844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Уст. к </a:t>
              </a:r>
              <a:r>
                <a:rPr b="1" lang="en-US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2061"/>
            <p:cNvSpPr/>
            <p:nvPr/>
          </p:nvSpPr>
          <p:spPr>
            <a:xfrm>
              <a:off x="1979640" y="404424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1 режи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2062"/>
            <p:cNvSpPr/>
            <p:nvPr/>
          </p:nvSpPr>
          <p:spPr>
            <a:xfrm>
              <a:off x="4091040" y="404424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4 режи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2063"/>
            <p:cNvSpPr/>
            <p:nvPr/>
          </p:nvSpPr>
          <p:spPr>
            <a:xfrm>
              <a:off x="3035160" y="535968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Коррекция Х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BACTEC MGIT 9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2064"/>
            <p:cNvSpPr/>
            <p:nvPr/>
          </p:nvSpPr>
          <p:spPr>
            <a:xfrm>
              <a:off x="5146920" y="5359680"/>
              <a:ext cx="1583640" cy="87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4 режи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с коррекцие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BACTEC MGIT 9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Заголовок 5"/>
          <p:cNvSpPr/>
          <p:nvPr/>
        </p:nvSpPr>
        <p:spPr>
          <a:xfrm>
            <a:off x="1692360" y="549360"/>
            <a:ext cx="6210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Химиотерапия по результатам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X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http://www.sagemed.ru/images/OCDnew/GeneXpert%202.jpg"/>
          <p:cNvPicPr/>
          <p:nvPr/>
        </p:nvPicPr>
        <p:blipFill>
          <a:blip r:embed="rId1"/>
          <a:stretch/>
        </p:blipFill>
        <p:spPr>
          <a:xfrm>
            <a:off x="6227640" y="1484280"/>
            <a:ext cx="266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85800" y="761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Благодарю за 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1" descr="C:\Users\Public\Pictures\Sample Pictures\gapch2.jpg"/>
          <p:cNvPicPr/>
          <p:nvPr/>
        </p:nvPicPr>
        <p:blipFill>
          <a:blip r:embed="rId1"/>
          <a:stretch/>
        </p:blipFill>
        <p:spPr>
          <a:xfrm>
            <a:off x="1854360" y="1447920"/>
            <a:ext cx="5435280" cy="4876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15228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24000" y="115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47640" y="692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XIX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ек … ХХ век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4000" y="126828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концепции туберкулеза как болезни всего общества и развитие представлений о необходимости сочетания лечения больных (патогенетического, коллапсотерапевтичес-кого, хирургического) с системой противотуберкулезных мероприятий, подкрепленной законода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95280" y="4581360"/>
            <a:ext cx="70563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ил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и диагно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я и социальная реабили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3218040"/>
            <a:ext cx="655344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МПОНЕНТЫ СИСТЕМЫ ПРОТИВОТУБЕРКУЛЕЗ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6343560" y="3025800"/>
            <a:ext cx="2271960" cy="28782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залось бы, туберкулез должен быть побежден… 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3 году ВОЗ объявляет туберкулез глобальной проблемой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ВОЗ, ежегодно в мире заболевают 8 млн. человек, 3 млн. умирают, в т.ч., 150 тыс.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е 4 секунды в мире кто-то заболевает туберкулезом, каждые 10 секунд кто-то уми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вновь инфицируется 1% населения земного шара, и в настоящее время микобактериями туберкулеза инфицирована, примерно, треть населения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5% всех инфицированных и заболевших – жители развивающихся стра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Ivanova</cp:lastModifiedBy>
  <dcterms:modified xsi:type="dcterms:W3CDTF">2015-03-27T04:29:3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