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CBD3-BA63-4183-96EE-44B0ECCA4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7459-6203-4552-9966-23C7E23851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7A3-75E1-42FB-B58C-3FC3FF06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DBD-5F41-4B84-9EE8-22F19D43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5F9-8C49-42BE-B1F1-D3B9C319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16A-260A-4022-90D5-279A168B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DC3-BA74-482E-8870-DB8D9833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9F9-8829-4B06-B743-0FAF4A1C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682-FDBA-4C55-8AB6-C3AB46C3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EC2-2175-4564-B7F0-DF1A51D3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462-956F-4C86-81EE-FBF02421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367-507E-4546-82BA-1FA230EC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8A6-C91C-43FF-93BA-B165ABF1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F47-992B-449E-B039-89C73F4E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FF4F-F1CA-4E19-AEE5-CE6C16D2A7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8078760" y="189000"/>
            <a:ext cx="1065240" cy="106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72360" y="6546960"/>
            <a:ext cx="1339920" cy="311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700" spc="-1" strike="noStrike">
                <a:solidFill>
                  <a:srgbClr val="1f497d"/>
                </a:solidFill>
                <a:latin typeface="Helios"/>
              </a:rPr>
              <a:t>Омск 201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ubTitle"/>
          </p:nvPr>
        </p:nvSpPr>
        <p:spPr>
          <a:xfrm>
            <a:off x="971280" y="188640"/>
            <a:ext cx="3313080" cy="119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Helios"/>
              </a:rPr>
              <a:t>МИНИСТЕРСТВО ЗДРАВООХРАНЕНИЯ ОМ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ubTitle"/>
          </p:nvPr>
        </p:nvSpPr>
        <p:spPr>
          <a:xfrm>
            <a:off x="3995640" y="189000"/>
            <a:ext cx="4105440" cy="106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604a7b"/>
                </a:solidFill>
                <a:latin typeface="Helios"/>
              </a:rPr>
              <a:t>КУЗОО «КЛИНИЧЕСКИЙ ПРОТИВОТУБЕРКУЛЕЗНЫЙ ДИСПАНСЕ</a:t>
            </a:r>
            <a:r>
              <a:rPr b="0" lang="ru-RU" sz="1800" spc="-1" strike="noStrike">
                <a:solidFill>
                  <a:srgbClr val="604a7b"/>
                </a:solidFill>
                <a:latin typeface="Helios"/>
              </a:rPr>
              <a:t>Р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-20520" y="1571760"/>
            <a:ext cx="9144000" cy="4881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0" y="1214280"/>
            <a:ext cx="9144000" cy="2984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7226280" y="6361200"/>
            <a:ext cx="142884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7"/>
          <p:cNvSpPr/>
          <p:nvPr/>
        </p:nvSpPr>
        <p:spPr>
          <a:xfrm>
            <a:off x="687240" y="1863720"/>
            <a:ext cx="0" cy="29336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42960" y="218412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ЛИЯ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НФОРМИРОВАННОСТИ ПАЦИ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ПРИВЕРЖ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 ЛЕЧЕНИЮ ТУБЕРКУЛ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123840" y="4930920"/>
            <a:ext cx="659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ая медицинская сестра диспанс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ЗОО «Клинический противотуберкулезный диспанс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овик А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3" descr="герб ОО"/>
          <p:cNvPicPr/>
          <p:nvPr/>
        </p:nvPicPr>
        <p:blipFill>
          <a:blip r:embed="rId2"/>
          <a:stretch/>
        </p:blipFill>
        <p:spPr>
          <a:xfrm>
            <a:off x="-12600" y="277920"/>
            <a:ext cx="1036440" cy="91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Documents and Settings\Словеснова_ИЕ.SERVERBUZOO\Рабочий стол\сайт\материалы на сайт\заставки фото\DSC01520.JPG"/>
          <p:cNvPicPr/>
          <p:nvPr/>
        </p:nvPicPr>
        <p:blipFill>
          <a:blip r:embed="rId3"/>
          <a:stretch/>
        </p:blipFill>
        <p:spPr>
          <a:xfrm>
            <a:off x="6778800" y="4797360"/>
            <a:ext cx="236520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User\Desktop\конф\22042011515.JPG"/>
          <p:cNvPicPr/>
          <p:nvPr/>
        </p:nvPicPr>
        <p:blipFill>
          <a:blip r:embed="rId1"/>
          <a:stretch/>
        </p:blipFill>
        <p:spPr>
          <a:xfrm>
            <a:off x="1365120" y="1600200"/>
            <a:ext cx="641376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2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0" y="1484280"/>
            <a:ext cx="84596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структор по гигиеническому обучению и воспитанию населения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рганизует проведение групповых школ здоровь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ндивидуальных тематических занят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нализирует эффективность проводимых меро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2"/>
          <p:cNvSpPr/>
          <p:nvPr/>
        </p:nvSpPr>
        <p:spPr>
          <a:xfrm>
            <a:off x="1258920" y="0"/>
            <a:ext cx="7885080" cy="1197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и членов коман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User\Desktop\конф\S6301935.JPG"/>
          <p:cNvPicPr/>
          <p:nvPr/>
        </p:nvPicPr>
        <p:blipFill>
          <a:blip r:embed="rId1"/>
          <a:stretch/>
        </p:blipFill>
        <p:spPr>
          <a:xfrm>
            <a:off x="3924360" y="0"/>
            <a:ext cx="5040360" cy="378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User\Desktop\конф\S6301938.JPG"/>
          <p:cNvPicPr/>
          <p:nvPr/>
        </p:nvPicPr>
        <p:blipFill>
          <a:blip r:embed="rId2"/>
          <a:stretch/>
        </p:blipFill>
        <p:spPr>
          <a:xfrm>
            <a:off x="0" y="2862360"/>
            <a:ext cx="5329080" cy="39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3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52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нформационной среды включает несколько этап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1483920"/>
            <a:ext cx="8280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ичное интервьюирование и анкетирование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циентов проходящих лечение на амбулаторном этапе с целью выявления степени информированности о заболевании, знаний о соблюдении санитарно-противоэпидемиологических норм поведения при туберкулез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итогам которых пациента направляет участковая медицинская сестра к психологу и инструктору по гигиеническому обучению и воспитанию насел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ая соединительная линия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6920" y="184428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о-просветительское сопровождени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торое включает в себя: индивидуальные занятия (беседы) у участковой медицинской сестры, индивидуальные и групповые консультации у психолога, а также посещение школы здоровья по тематическим групп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152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нформационной среды включает несколько этап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55640" y="1413000"/>
            <a:ext cx="741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межуточное тестирование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циентов проводится при необходимости по рекомендациям психолога, в случае диагностики риска отрыва от лечения на этапе первичного интервьюир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52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нформационной среды включает несколько этап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ое интервьюирование и тестирование пациентов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проводится с целью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и обогащения пациента знаниями, изменения его психоэмоционального состояния и рисков прерывания лечения, т.е. влияния информированности пациентов о туберкулезе на их приверженность к лечению данного заболевания: чем полнее знания пациента о своем заболевании, тем результативнее идет процесс лечения и укрепляется вера пациента в его выздоровл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52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нформационной среды включает несколько этап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ая соединительная линия 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95280" y="1341000"/>
            <a:ext cx="8353440" cy="5040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арсенале школы здоровья КУЗОО "КПТД" имеются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ные комплекты тематических программ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пациент в процессе обучения снабжается необходимым раздаточным материалом: памятками, брошюра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ет возможность просмотра просветительских видеофильмов, презент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1403280" y="-64080"/>
            <a:ext cx="7740720" cy="947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Объект 1"/>
          <p:cNvGraphicFramePr/>
          <p:nvPr/>
        </p:nvGraphicFramePr>
        <p:xfrm>
          <a:off x="684360" y="2281320"/>
          <a:ext cx="7440480" cy="45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81320"/>
                    <a:ext cx="74404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3"/>
          <p:cNvSpPr/>
          <p:nvPr/>
        </p:nvSpPr>
        <p:spPr>
          <a:xfrm>
            <a:off x="1116000" y="855000"/>
            <a:ext cx="80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Итоги реализации системы мероприятий по формированию у пациентов  приверженности к лечению туберкулеза позволяют сделать вывод об эффективности формирования информационн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0"/>
          <p:cNvSpPr/>
          <p:nvPr/>
        </p:nvSpPr>
        <p:spPr>
          <a:xfrm>
            <a:off x="1116000" y="184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Эффективность лечения пациентов ЛАО г. Омска, 2013-2014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3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341360"/>
            <a:ext cx="83516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успешного лечения туберкулеза пациент должен знать о болезни, сроках лечения, исходах заболевания. Необходимо информировать больных о путях заражения туберкулезом, о способах предотвращения распространения болезни, о профилактике туберкулеза и др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бязательном порядке пациенты должны быть осведомлены о мероприятиях по формированию у больного стимулов к выздоровлению, которые имеются в учреждении. Например, если в учреждении консультирует юрист, психолог или нарколог, необходимо обязательно довести эту информацию до пациент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о-просветительскую работу необходимо проводить в разных направлениях: в виде беседы врача или медицинской сестры с больными, лекций, групповых занятий, распространения образовательных брошюр, листков напоминаний, плакат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1476360" y="189000"/>
            <a:ext cx="7488360" cy="825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внедрения системы мероприятий по медико-санитарному информированию паци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341360"/>
            <a:ext cx="903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180720">
              <a:spcBef>
                <a:spcPts val="4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словиях напряженной эпидемиологической обстановки по туберкулезу в Омской области, имеет место низкая эффективность лечения больных туберкулезом, абациллирование составляет – 69%, закрытие полостей распада – 52,0%. Около 40% бактериовыделителей не вылечиваются. Одной из причин низкой эффективности лечения, которую можно устранить улучшением организации лечения, является прерывание химиотерапии и досрочное ее прекращ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18072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данным анкетирования пациентов (4 субъекта РФ РФ, 2005г.), в настоящее время серьезно страдает медико-санитарное просвещение больных туберкулезом. Об этом свидетельствует тот факт, что 30% впервые выявленных больных не знают, сколько времени им нужно, чтобы вылечить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18072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достаточно проводится санитарно-просветительная работа медицинского персонала с больными туберкулезом, следствием чего является недоверие своему лечащему врачу у 16% впервые выявленных больных туберкулез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18072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части больных туберкулезом полностью или частично отсутствует желание лечить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18072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065240" cy="10638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ая соединительная линия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0920" y="33336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Arial"/>
                <a:ea typeface="Arial"/>
              </a:rPr>
              <a:t>БЛАГОДАРЮ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Arial"/>
                <a:ea typeface="Arial"/>
              </a:rPr>
              <a:t>ЗА ВНИМАНИЕ 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7740720" y="26028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450828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ка системы повышения приверженности к лечению больных туберкулезом через формирование эффективной информационной среды стала возможной благодаря проведенному научному сестринскому исследованию, проведенному на базе КУЗОО «КПТД» в  2013-2014гг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C:\Users\User\Desktop\конф\121.jpg"/>
          <p:cNvPicPr/>
          <p:nvPr/>
        </p:nvPicPr>
        <p:blipFill>
          <a:blip r:embed="rId1"/>
          <a:stretch/>
        </p:blipFill>
        <p:spPr>
          <a:xfrm>
            <a:off x="2195640" y="404640"/>
            <a:ext cx="422280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2"/>
          <a:stretch/>
        </p:blipFill>
        <p:spPr>
          <a:xfrm>
            <a:off x="0" y="0"/>
            <a:ext cx="106524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 и задач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287280" y="1052640"/>
            <a:ext cx="885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Цели исследования: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разработка системы повышения приверженности к лечению больных туберкулезом через формирование эффективной информацион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Задачи исслед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1. Изучить влияние информированности пациентов на приверженность к лечению туберкул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2. Оценить эффективность системы информационных мероприятий, проводимых медсестрой противотуберкулезного диспансера в амбулаторных условиях и ее влияние на формирование приверженности пациента к выполнению врачебных рекоменд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3. Выработать рекомендации для медицинских сестер, осуществляющих уход за паци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065240" cy="1063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ая соединительная линия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97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значимость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324000" y="19890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первые в условиях амбулаторного этапа лечения больных туберкулезом был применен системный подход к их информационно - просветительскому сопровождению, выработаны рекомендации для медицинских сестер, осуществляющих уход за паци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3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667640" cy="1079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ь системного подхода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1988640"/>
            <a:ext cx="8964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тизированная работа команды, состоящей из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ковой медицинской сестры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сихолог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структора по гигиеническому обучению и воспитанию насе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ая соединительная линия 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100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и членов коман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108000" y="1557360"/>
            <a:ext cx="89280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частковая медсестр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нкетиров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нтервьюиров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частие в подборе слушателей школы здоровья для  тематически ориентированных  групп паци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User\Desktop\конф\Фото0712.jpg"/>
          <p:cNvPicPr/>
          <p:nvPr/>
        </p:nvPicPr>
        <p:blipFill>
          <a:blip r:embed="rId1"/>
          <a:stretch/>
        </p:blipFill>
        <p:spPr>
          <a:xfrm>
            <a:off x="3132000" y="0"/>
            <a:ext cx="2952720" cy="3475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User\Desktop\конф\27022012636.JPG"/>
          <p:cNvPicPr/>
          <p:nvPr/>
        </p:nvPicPr>
        <p:blipFill>
          <a:blip r:embed="rId2"/>
          <a:stretch/>
        </p:blipFill>
        <p:spPr>
          <a:xfrm>
            <a:off x="0" y="2927520"/>
            <a:ext cx="5240160" cy="393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User\Desktop\конф\S6301937.JPG"/>
          <p:cNvPicPr/>
          <p:nvPr/>
        </p:nvPicPr>
        <p:blipFill>
          <a:blip r:embed="rId3"/>
          <a:stretch/>
        </p:blipFill>
        <p:spPr>
          <a:xfrm>
            <a:off x="4103640" y="2924280"/>
            <a:ext cx="5040360" cy="3933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4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197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и членов коман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08000" y="1557360"/>
            <a:ext cx="892800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сихоло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водит психологическое тестиров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едет анализ  динамики психоэмоционального состояния паци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дает рекомендации участковой медицинской сест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водит с участковыми медицинскими сестрами тренинги по работе с пациентами, входящих в группу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ая соединительная линия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6:59:44Z</dcterms:created>
  <dc:creator>Дмитрий</dc:creator>
  <dc:description/>
  <dc:language>en-US</dc:language>
  <cp:lastModifiedBy>User</cp:lastModifiedBy>
  <dcterms:modified xsi:type="dcterms:W3CDTF">2015-03-24T11:13:37Z</dcterms:modified>
  <cp:revision>114</cp:revision>
  <dc:subject/>
  <dc:title>2 проект ОПСА «Исследования в сестринском деле»</dc:title>
</cp:coreProperties>
</file>