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E13D-C084-4960-B6FA-1B32B5DBD3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DB35-A8BB-453A-A2DB-D743DD9A49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8809-B802-45EC-BF79-9B65B3B1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638B-DA1C-4207-89E2-26A68847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16E-6513-420B-99A7-AAA12936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F02-3A29-43DF-BBEF-DC71D1579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688-ACE1-4401-ABFC-FF88B99D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91D-1229-426A-A7B0-1DA0E6CA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34F6-F15F-4CFD-BA29-0E6D5687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57E-BA05-42F7-AB36-64DBD33E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D4B1-2E5C-40EB-A280-DF5DE335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22F3-3749-4A57-BF7A-C9B31820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4A67-C5B6-4BE4-85FE-01D8420E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740-B3FE-4DB5-A7CC-9B4F7826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E461-EE89-4A00-9157-317496463BA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8078760" y="189000"/>
            <a:ext cx="1065240" cy="1063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272360" y="6546960"/>
            <a:ext cx="1339920" cy="311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1700" spc="-1" strike="noStrike">
                <a:solidFill>
                  <a:srgbClr val="1f497d"/>
                </a:solidFill>
                <a:latin typeface="Helios"/>
              </a:rPr>
              <a:t>Омск 201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ubTitle"/>
          </p:nvPr>
        </p:nvSpPr>
        <p:spPr>
          <a:xfrm>
            <a:off x="971280" y="188640"/>
            <a:ext cx="3313080" cy="1197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Helios"/>
              </a:rPr>
              <a:t>МИНИСТЕРСТВО ЗДРАВООХРАНЕНИЯ ОМ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ubTitle"/>
          </p:nvPr>
        </p:nvSpPr>
        <p:spPr>
          <a:xfrm>
            <a:off x="3995640" y="189000"/>
            <a:ext cx="4105440" cy="1063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2000" spc="-1" strike="noStrike">
                <a:solidFill>
                  <a:srgbClr val="604a7b"/>
                </a:solidFill>
                <a:latin typeface="Helios"/>
              </a:rPr>
              <a:t>КУЗОО «КЛИНИЧЕСКИЙ ПРОТИВОТУБЕРКУЛЕЗНЫЙ ДИСПАНСЕ</a:t>
            </a:r>
            <a:r>
              <a:rPr b="0" lang="ru-RU" sz="1800" spc="-1" strike="noStrike">
                <a:solidFill>
                  <a:srgbClr val="604a7b"/>
                </a:solidFill>
                <a:latin typeface="Helios"/>
              </a:rPr>
              <a:t>Р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-20520" y="1571760"/>
            <a:ext cx="9144000" cy="4881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0" y="1214280"/>
            <a:ext cx="9144000" cy="29844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7226280" y="6361200"/>
            <a:ext cx="1428840" cy="14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7"/>
          <p:cNvSpPr/>
          <p:nvPr/>
        </p:nvSpPr>
        <p:spPr>
          <a:xfrm>
            <a:off x="687240" y="1863720"/>
            <a:ext cx="0" cy="29336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642960" y="218412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ЛИЯ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НФОРМИРОВАННОСТИ ПАЦИ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 ПРИВЕРЖЕН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 ЛЕЧЕНИЮ ТУБЕРКУЛ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123840" y="4930920"/>
            <a:ext cx="659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ршая медицинская сестра диспанс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ЗОО «Клинический противотуберкулезный диспанс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овик А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3" descr="герб ОО"/>
          <p:cNvPicPr/>
          <p:nvPr/>
        </p:nvPicPr>
        <p:blipFill>
          <a:blip r:embed="rId2"/>
          <a:stretch/>
        </p:blipFill>
        <p:spPr>
          <a:xfrm>
            <a:off x="-12600" y="277920"/>
            <a:ext cx="1036440" cy="91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Documents and Settings\Словеснова_ИЕ.SERVERBUZOO\Рабочий стол\сайт\материалы на сайт\заставки фото\DSC01520.JPG"/>
          <p:cNvPicPr/>
          <p:nvPr/>
        </p:nvPicPr>
        <p:blipFill>
          <a:blip r:embed="rId3"/>
          <a:stretch/>
        </p:blipFill>
        <p:spPr>
          <a:xfrm>
            <a:off x="6778800" y="4797360"/>
            <a:ext cx="236520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User\Desktop\конф\22042011515.JPG"/>
          <p:cNvPicPr/>
          <p:nvPr/>
        </p:nvPicPr>
        <p:blipFill>
          <a:blip r:embed="rId1"/>
          <a:stretch/>
        </p:blipFill>
        <p:spPr>
          <a:xfrm>
            <a:off x="1365120" y="1600200"/>
            <a:ext cx="6413760" cy="452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2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3"/>
          <p:cNvSpPr/>
          <p:nvPr/>
        </p:nvSpPr>
        <p:spPr>
          <a:xfrm>
            <a:off x="0" y="1484280"/>
            <a:ext cx="845964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87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нструктор по гигиеническому обучению и воспитанию населения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организует проведение групповых школ здоровь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ндивидуальных тематических занят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нализирует эффективность проводимых меропри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  <p:sp>
        <p:nvSpPr>
          <p:cNvPr id="95" name="Заголовок 2"/>
          <p:cNvSpPr/>
          <p:nvPr/>
        </p:nvSpPr>
        <p:spPr>
          <a:xfrm>
            <a:off x="1258920" y="0"/>
            <a:ext cx="7885080" cy="1197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и членов коман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ая соединительная линия 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User\Desktop\конф\S6301935.JPG"/>
          <p:cNvPicPr/>
          <p:nvPr/>
        </p:nvPicPr>
        <p:blipFill>
          <a:blip r:embed="rId1"/>
          <a:stretch/>
        </p:blipFill>
        <p:spPr>
          <a:xfrm>
            <a:off x="3924360" y="0"/>
            <a:ext cx="5040360" cy="3780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Users\User\Desktop\конф\S6301938.JPG"/>
          <p:cNvPicPr/>
          <p:nvPr/>
        </p:nvPicPr>
        <p:blipFill>
          <a:blip r:embed="rId2"/>
          <a:stretch/>
        </p:blipFill>
        <p:spPr>
          <a:xfrm>
            <a:off x="0" y="2862360"/>
            <a:ext cx="5329080" cy="3995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3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523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информационной среды включает несколько этап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8000" y="1483920"/>
            <a:ext cx="82803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вичное интервьюирование и анкетирование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циентов проходящих лечение на амбулаторном этапе с целью выявления степени информированности о заболевании, знаний о соблюдении санитарно-противоэпидемиологических норм поведения при туберкулез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итогам которых пациента направляет участковая медицинская сестра к психологу и инструктору по гигиеническому обучению и воспитанию насел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ая соединительная линия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26920" y="1844280"/>
            <a:ext cx="7777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о-просветительское сопровождени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которое включает в себя: индивидуальные занятия (беседы) у участковой медицинской сестры, индивидуальные и групповые консультации у психолога, а также посещение школы здоровья по тематическим групп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885080" cy="11523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информационной среды включает несколько этап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ая соединительная линия 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55640" y="1413000"/>
            <a:ext cx="74167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межуточное тестирование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циентов проводится при необходимости по рекомендациям психолога, в случае диагностики риска отрыва от лечения на этапе первичного интервьюирован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812000" cy="11523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информационной среды включает несколько этап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9280" y="148392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ительное интервьюирование и тестирование пациентов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, проводится с целью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ки обогащения пациента знаниями, изменения его психоэмоционального состояния и рисков прерывания лечения, т.е. влияния информированности пациентов о туберкулезе на их приверженность к лечению данного заболевания: чем полнее знания пациента о своем заболевании, тем результативнее идет процесс лечения и укрепляется вера пациента в его выздоровлени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812000" cy="11523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информационной среды включает несколько этап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ая соединительная линия 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95280" y="1341000"/>
            <a:ext cx="8353440" cy="50403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арсенале школы здоровья КУЗОО "КПТД" имеются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ормированные комплекты тематических программ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няти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ждый пациент в процессе обучения снабжается необходимым раздаточным материалом: памятками, брошюрам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ет возможность просмотра просветительских видеофильмов, презента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"/>
          <p:cNvSpPr/>
          <p:nvPr/>
        </p:nvSpPr>
        <p:spPr>
          <a:xfrm>
            <a:off x="1403280" y="-64080"/>
            <a:ext cx="7740720" cy="9471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Объект 1"/>
          <p:cNvGraphicFramePr/>
          <p:nvPr/>
        </p:nvGraphicFramePr>
        <p:xfrm>
          <a:off x="684360" y="2281320"/>
          <a:ext cx="7440480" cy="45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81320"/>
                    <a:ext cx="7440480" cy="45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3"/>
          <p:cNvSpPr/>
          <p:nvPr/>
        </p:nvSpPr>
        <p:spPr>
          <a:xfrm>
            <a:off x="1116000" y="855000"/>
            <a:ext cx="80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Итоги реализации системы мероприятий по формированию у пациентов  приверженности к лечению туберкулеза позволяют сделать вывод об эффективности формирования информационной 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0"/>
          <p:cNvSpPr/>
          <p:nvPr/>
        </p:nvSpPr>
        <p:spPr>
          <a:xfrm>
            <a:off x="1116000" y="1844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Эффективность лечения пациентов ЛАО г. Омска, 2013-2014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3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341360"/>
            <a:ext cx="83516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я успешного лечения туберкулеза пациент должен знать о болезни, сроках лечения, исходах заболевания. Необходимо информировать больных о путях заражения туберкулезом, о способах предотвращения распространения болезни, о профилактике туберкулеза и др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обязательном порядке пациенты должны быть осведомлены о мероприятиях по формированию у больного стимулов к выздоровлению, которые имеются в учреждении. Например, если в учреждении консультирует юрист, психолог или нарколог, необходимо обязательно довести эту информацию до пациенто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онно-просветительскую работу необходимо проводить в разных направлениях: в виде беседы врача или медицинской сестры с больными, лекций, групповых занятий, распространения образовательных брошюр, листков напоминаний, плакато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1476360" y="189000"/>
            <a:ext cx="7488360" cy="825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1253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ьность внедрения системы мероприятий по медико-санитарному информированию пациенто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08000" y="1341360"/>
            <a:ext cx="903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180720">
              <a:spcBef>
                <a:spcPts val="4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условиях напряженной эпидемиологической обстановки по туберкулезу в Омской области, имеет место низкая эффективность лечения больных туберкулезом, абациллирование составляет – 69%, закрытие полостей распада – 52,0%. Около 40% бактериовыделителей не вылечиваются. Одной из причин низкой эффективности лечения, которую можно устранить улучшением организации лечения, является прерывание химиотерапии и досрочное ее прекраще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180720">
              <a:lnSpc>
                <a:spcPct val="10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данным анкетирования пациентов (4 субъекта РФ РФ, 2005г.), в настоящее время серьезно страдает медико-санитарное просвещение больных туберкулезом. Об этом свидетельствует тот факт, что 30% впервые выявленных больных не знают, сколько времени им нужно, чтобы вылечить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180720">
              <a:lnSpc>
                <a:spcPct val="10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достаточно проводится санитарно-просветительная работа медицинского персонала с больными туберкулезом, следствием чего является недоверие своему лечащему врачу у 16% впервые выявленных больных туберкулез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180720">
              <a:lnSpc>
                <a:spcPct val="10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части больных туберкулезом полностью или частично отсутствует желание лечить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180720">
              <a:lnSpc>
                <a:spcPct val="10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065240" cy="10638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ая соединительная линия 4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50920" y="333360"/>
            <a:ext cx="8642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Arial"/>
                <a:ea typeface="Arial"/>
              </a:rPr>
              <a:t>БЛАГОДАРЮ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70c0"/>
                </a:solidFill>
                <a:latin typeface="Arial"/>
                <a:ea typeface="Arial"/>
              </a:rPr>
              <a:t>ЗА ВНИМАНИЕ 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7740720" y="260280"/>
            <a:ext cx="1187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4508280"/>
            <a:ext cx="896472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2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работка системы повышения приверженности к лечению больных туберкулезом через формирование эффективной информационной среды стала возможной благодаря проведенному научному сестринскому исследованию, проведенному на базе КУЗОО «КПТД» в  2013-2014гг.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C:\Users\User\Desktop\конф\121.jpg"/>
          <p:cNvPicPr/>
          <p:nvPr/>
        </p:nvPicPr>
        <p:blipFill>
          <a:blip r:embed="rId1"/>
          <a:stretch/>
        </p:blipFill>
        <p:spPr>
          <a:xfrm>
            <a:off x="2195640" y="404640"/>
            <a:ext cx="4222800" cy="280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2"/>
          <a:stretch/>
        </p:blipFill>
        <p:spPr>
          <a:xfrm>
            <a:off x="0" y="0"/>
            <a:ext cx="106524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028000" cy="11253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и и задачи исследо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3"/>
          <p:cNvSpPr/>
          <p:nvPr/>
        </p:nvSpPr>
        <p:spPr>
          <a:xfrm>
            <a:off x="287280" y="1052640"/>
            <a:ext cx="885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Цели исследования: </a:t>
            </a: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разработка системы повышения приверженности к лечению больных туберкулезом через формирование эффективной информационно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375e"/>
                </a:solidFill>
                <a:latin typeface="Arial"/>
              </a:rPr>
              <a:t>Задачи исследов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1. Изучить влияние информированности пациентов на приверженность к лечению туберкуле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2. Оценить эффективность системы информационных мероприятий, проводимых медсестрой противотуберкулезного диспансера в амбулаторных условиях и ее влияние на формирование приверженности пациента к выполнению врачебных рекоменд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375e"/>
                </a:solidFill>
                <a:latin typeface="Arial"/>
              </a:rPr>
              <a:t>3. Выработать рекомендации для медицинских сестер, осуществляющих уход за пациен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065240" cy="1063800"/>
          </a:xfrm>
          <a:prstGeom prst="rect">
            <a:avLst/>
          </a:prstGeom>
          <a:ln w="0">
            <a:noFill/>
          </a:ln>
        </p:spPr>
      </p:pic>
      <p:sp>
        <p:nvSpPr>
          <p:cNvPr id="71" name="Прямая соединительная линия 4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812000" cy="1197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ая значимость исслед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324000" y="1989000"/>
            <a:ext cx="856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первые в условиях амбулаторного этапа лечения больных туберкулезом был применен системный подход к их информационно - просветительскому сопровождению, выработаны рекомендации для медицинских сестер, осуществляющих уход за пациен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3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000" y="-360"/>
            <a:ext cx="7667640" cy="1079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ь системного подхода 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9280" y="1988640"/>
            <a:ext cx="89647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систематизированная работа команды, состоящей из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ковой медицинской сестры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сихолог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инструктора по гигиеническому обучению и воспитанию насе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ая соединительная линия 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7632720" cy="1008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и членов коман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108000" y="1557360"/>
            <a:ext cx="89280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87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частковая медсестр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анкетиров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нтервьюиров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участие в подборе слушателей школы здоровья для  тематически ориентированных  групп пациен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Users\User\Desktop\конф\Фото0712.jpg"/>
          <p:cNvPicPr/>
          <p:nvPr/>
        </p:nvPicPr>
        <p:blipFill>
          <a:blip r:embed="rId1"/>
          <a:stretch/>
        </p:blipFill>
        <p:spPr>
          <a:xfrm>
            <a:off x="3132000" y="0"/>
            <a:ext cx="2952720" cy="3475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User\Desktop\конф\27022012636.JPG"/>
          <p:cNvPicPr/>
          <p:nvPr/>
        </p:nvPicPr>
        <p:blipFill>
          <a:blip r:embed="rId2"/>
          <a:stretch/>
        </p:blipFill>
        <p:spPr>
          <a:xfrm>
            <a:off x="0" y="2927520"/>
            <a:ext cx="5240160" cy="3930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C:\Users\User\Desktop\конф\S6301937.JPG"/>
          <p:cNvPicPr/>
          <p:nvPr/>
        </p:nvPicPr>
        <p:blipFill>
          <a:blip r:embed="rId3"/>
          <a:stretch/>
        </p:blipFill>
        <p:spPr>
          <a:xfrm>
            <a:off x="4103640" y="2924280"/>
            <a:ext cx="5040360" cy="3933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4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885080" cy="1197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и членов коман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3"/>
          <p:cNvSpPr/>
          <p:nvPr/>
        </p:nvSpPr>
        <p:spPr>
          <a:xfrm>
            <a:off x="108000" y="1557360"/>
            <a:ext cx="892800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87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сихолог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оводит психологическое тестировани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едет анализ  динамики психоэмоционального состояния пациен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дает рекомендации участковой медицинской сестр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проводит с участковыми медицинскими сестрами тренинги по работе с пациентами, входящих в группу р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00000" indent="874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C:\Documents and Settings\Словеснова_ИЕ.SERVERBUZOO\Рабочий стол\сайт\материалы на сайт\логотип и фото\логотип.jpg"/>
          <p:cNvPicPr/>
          <p:nvPr/>
        </p:nvPicPr>
        <p:blipFill>
          <a:blip r:embed="rId1"/>
          <a:stretch/>
        </p:blipFill>
        <p:spPr>
          <a:xfrm>
            <a:off x="0" y="0"/>
            <a:ext cx="1187280" cy="1185840"/>
          </a:xfrm>
          <a:prstGeom prst="rect">
            <a:avLst/>
          </a:prstGeom>
          <a:ln w="0">
            <a:noFill/>
          </a:ln>
        </p:spPr>
      </p:pic>
      <p:sp>
        <p:nvSpPr>
          <p:cNvPr id="90" name="Прямая соединительная линия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6:59:44Z</dcterms:created>
  <dc:creator>Дмитрий</dc:creator>
  <dc:description/>
  <dc:language>en-US</dc:language>
  <cp:lastModifiedBy>User</cp:lastModifiedBy>
  <dcterms:modified xsi:type="dcterms:W3CDTF">2015-03-24T11:13:37Z</dcterms:modified>
  <cp:revision>114</cp:revision>
  <dc:subject/>
  <dc:title>2 проект ОПСА «Исследования в сестринском деле»</dc:title>
</cp:coreProperties>
</file>