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2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28.jpeg" ContentType="image/jpeg"/>
  <Override PartName="/ppt/media/image18.png" ContentType="image/png"/>
  <Override PartName="/ppt/media/image6.png" ContentType="image/png"/>
  <Override PartName="/ppt/media/image7.jpeg" ContentType="image/jpeg"/>
  <Override PartName="/ppt/media/image3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2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6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9784-1FB9-4749-8B31-F1FEF7A548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DA421-EC1D-4ECF-B0EF-A82709EE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712C-5A75-4A77-8EB0-DA6500AB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F1DA-7BA5-4DFE-B4E1-160C2B689A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75197-DCA9-41CF-AE25-875F2ADF41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93B9A-687F-4B24-AA6B-E47E92FB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5610B-4774-4EB8-AC76-EDCFAE43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73866-7CAC-462A-8603-54994005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F0E4B-7402-4698-B3CF-42EB8AAE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8611B-83DA-4334-99B4-67D6E498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BE2A3-74ED-4DFA-9BE0-87DE0F38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156F-3F3D-46B8-A95F-D98A5BA0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1EB34-4F73-4397-9B5F-F791A32F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4CADC-1F48-4CC8-AAFC-BBFEEC68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AE87E-FBB2-4C8E-8D83-B9A9C010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D8D58-07FC-4798-880F-0A0ADAFB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1E14E-7675-4912-8D51-DE502D3F85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3C1A-E9B8-4C2B-BA4F-7F40AAD47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0B6D-544C-46E2-924C-5A1071A9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0431-70D4-47D2-9337-A9590659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FC97-5671-4FE1-A06C-CD49932E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DAC6-4D86-45F2-B092-7A5ABB8F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BD5E6-CDE9-4AB5-BA66-9FDA1845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72FB-212E-4B1E-9277-0B891795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4377-21A6-49B2-B867-03E86880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3F21-25A0-475F-8192-907A1828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B63A-4CFD-436D-B7A8-28C9ACF7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696E-4EAF-42DC-A9AB-90EA8496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E355-64A2-47AB-B27A-74C82E9D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AC7C-B53A-4617-8D99-A486C08D21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B0E51F-4900-4F3E-AB57-C4CD3824FA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4F1AA4-C8FE-472D-B94C-3EBCFAD7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A98EAC-CA34-4CC6-ADE8-DC210C1A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607F-4852-4396-9B75-FA40E1F8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B5DFF-2557-4804-91CA-A9E05AD5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203BD2-A297-4378-B422-A9114542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E25DFA-ABD9-4974-9DEC-9F77C525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0CED2D-6C03-4704-8CEA-E83290E7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6AB94-5004-4259-A47B-508D1A06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9BA391-C47C-4839-AE05-E9CDFA05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19C2A4-252A-4B21-9F64-24F72F4F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FDBA20-445F-4060-9331-62761F65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820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9560" y="144792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820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9560" y="3890160"/>
            <a:ext cx="264852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E6A911-7150-48CB-81DF-B0C8ACA243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6CB5-D66A-4D97-A8A9-23913FFE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468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804C-B702-472E-B83F-D4B6F7AE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B4D1-956B-432F-9035-8BF049EA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89016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254E-098E-40E6-A690-2D29B09B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447920"/>
            <a:ext cx="4014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0160"/>
            <a:ext cx="8226360" cy="222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1E2F-0632-42D3-9504-26776D0B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9a8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DDB48-92FD-4CCA-B4C3-3E9A22B1202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Franklin Gothic Medium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9a8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Line 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Franklin Gothic Medium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536481-2FE1-4B2E-8B0B-7DECFE51689B}" type="slidenum">
              <a:rPr b="0" lang="ru-RU" sz="1600" spc="-1" strike="noStrike">
                <a:solidFill>
                  <a:srgbClr val="fefac9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9a8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Franklin Gothic Medium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5DF9EF-2D33-4159-8B87-D01F0ABBC776}" type="slidenum">
              <a:rPr b="0" lang="ru-RU" sz="1600" spc="-1" strike="noStrike">
                <a:solidFill>
                  <a:srgbClr val="fefac9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a9a8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1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684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6840" y="-468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Franklin Gothic Medium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Franklin Gothic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8410680" y="6181560"/>
            <a:ext cx="60624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fefac9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7E0343-209B-4FBE-B826-F23470DB00AA}" type="slidenum">
              <a:rPr b="0" lang="ru-RU" sz="1600" spc="-1" strike="noStrike">
                <a:solidFill>
                  <a:srgbClr val="fefac9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87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457200" y="150840"/>
            <a:ext cx="822960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66"/>
                </a:solidFill>
                <a:latin typeface="Georgia"/>
              </a:rPr>
              <a:t>Роль акушерки при ведении пациенток </a:t>
            </a:r>
            <a:br>
              <a:rPr sz="4400"/>
            </a:br>
            <a:r>
              <a:rPr b="1" lang="ru-RU" sz="4400" spc="-1" strike="noStrike">
                <a:solidFill>
                  <a:srgbClr val="000066"/>
                </a:solidFill>
                <a:latin typeface="Georgia"/>
              </a:rPr>
              <a:t>с плацентарной недостаточностью в условиях отделения патологии беременности родильного дома</a:t>
            </a:r>
            <a:r>
              <a:rPr b="0" lang="ru-RU" sz="4200" spc="-1" strike="noStrike">
                <a:solidFill>
                  <a:srgbClr val="f9f9f9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5651640" y="5751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Georgia"/>
              </a:rPr>
              <a:t>Селезнева И.Б.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Georgia"/>
              </a:rPr>
              <a:t>старшая акушер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Georgia"/>
              </a:rPr>
              <a:t>АОПБ БУЗОО «РД № 4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"/>
          <p:cNvGrpSpPr/>
          <p:nvPr/>
        </p:nvGrpSpPr>
        <p:grpSpPr>
          <a:xfrm>
            <a:off x="347760" y="36360"/>
            <a:ext cx="8582040" cy="1022400"/>
            <a:chOff x="347760" y="36360"/>
            <a:chExt cx="8582040" cy="1022400"/>
          </a:xfrm>
        </p:grpSpPr>
        <p:pic>
          <p:nvPicPr>
            <p:cNvPr id="230" name="Picture 2" descr=""/>
            <p:cNvPicPr/>
            <p:nvPr/>
          </p:nvPicPr>
          <p:blipFill>
            <a:blip r:embed="rId1"/>
            <a:stretch/>
          </p:blipFill>
          <p:spPr>
            <a:xfrm>
              <a:off x="347760" y="36360"/>
              <a:ext cx="8582040" cy="10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3"/>
            <p:cNvSpPr/>
            <p:nvPr/>
          </p:nvSpPr>
          <p:spPr>
            <a:xfrm>
              <a:off x="347760" y="36360"/>
              <a:ext cx="85820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2" name=""/>
          <p:cNvGraphicFramePr/>
          <p:nvPr/>
        </p:nvGraphicFramePr>
        <p:xfrm>
          <a:off x="250920" y="3284640"/>
          <a:ext cx="4106880" cy="3352680"/>
        </p:xfrm>
        <a:graphic>
          <a:graphicData uri="http://schemas.openxmlformats.org/drawingml/2006/table">
            <a:tbl>
              <a:tblPr/>
              <a:tblGrid>
                <a:gridCol w="1936800"/>
                <a:gridCol w="725400"/>
                <a:gridCol w="722160"/>
                <a:gridCol w="722520"/>
              </a:tblGrid>
              <a:tr h="780840"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План акушерского ух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Дни пребывания в отдел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>
                      <a:noFill/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Жалоб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АД, пуль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Высота стояния дна ма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Окружность жив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Тонус ма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Шевеление пл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689360" y="1628640"/>
          <a:ext cx="4060800" cy="5015160"/>
        </p:xfrm>
        <a:graphic>
          <a:graphicData uri="http://schemas.openxmlformats.org/drawingml/2006/table">
            <a:tbl>
              <a:tblPr/>
              <a:tblGrid>
                <a:gridCol w="1916280"/>
                <a:gridCol w="716040"/>
                <a:gridCol w="714240"/>
                <a:gridCol w="714240"/>
              </a:tblGrid>
              <a:tr h="780840"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План акушерского ух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Дни пребывания в отдел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>
                      <a:noFill/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Сердцебиение пл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Пастоз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Оте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В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Выделения из половых пу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Диуре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Мочеиспуск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Сту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Georgia"/>
                        </a:rPr>
                        <a:t>Подпись дежурной акушер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Text Box 219"/>
          <p:cNvSpPr/>
          <p:nvPr/>
        </p:nvSpPr>
        <p:spPr>
          <a:xfrm>
            <a:off x="367560" y="1677960"/>
            <a:ext cx="396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Georgia"/>
              </a:rPr>
              <a:t>Ф.И.О. ___________ Возраст 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Georgia"/>
              </a:rPr>
              <a:t>Отделение ________ Палата  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Georgia"/>
              </a:rPr>
              <a:t>Срок беременности 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Georgia"/>
              </a:rPr>
              <a:t>Беременность ______ Роды 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Georgia"/>
              </a:rPr>
              <a:t>Диагноз 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1"/>
          <p:cNvGrpSpPr/>
          <p:nvPr/>
        </p:nvGrpSpPr>
        <p:grpSpPr>
          <a:xfrm>
            <a:off x="450720" y="189000"/>
            <a:ext cx="8277480" cy="1084320"/>
            <a:chOff x="450720" y="189000"/>
            <a:chExt cx="8277480" cy="1084320"/>
          </a:xfrm>
        </p:grpSpPr>
        <p:pic>
          <p:nvPicPr>
            <p:cNvPr id="236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89000"/>
              <a:ext cx="827748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3"/>
            <p:cNvSpPr/>
            <p:nvPr/>
          </p:nvSpPr>
          <p:spPr>
            <a:xfrm>
              <a:off x="450720" y="189000"/>
              <a:ext cx="827748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Group 4"/>
          <p:cNvGrpSpPr/>
          <p:nvPr/>
        </p:nvGrpSpPr>
        <p:grpSpPr>
          <a:xfrm>
            <a:off x="468360" y="1413000"/>
            <a:ext cx="3957480" cy="2590560"/>
            <a:chOff x="468360" y="1413000"/>
            <a:chExt cx="3957480" cy="2590560"/>
          </a:xfrm>
        </p:grpSpPr>
        <p:pic>
          <p:nvPicPr>
            <p:cNvPr id="239" name="Picture 5" descr=""/>
            <p:cNvPicPr/>
            <p:nvPr/>
          </p:nvPicPr>
          <p:blipFill>
            <a:blip r:embed="rId2"/>
            <a:stretch/>
          </p:blipFill>
          <p:spPr>
            <a:xfrm>
              <a:off x="468360" y="1413000"/>
              <a:ext cx="39574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6"/>
            <p:cNvSpPr/>
            <p:nvPr/>
          </p:nvSpPr>
          <p:spPr>
            <a:xfrm>
              <a:off x="468360" y="1413000"/>
              <a:ext cx="395748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1" name="Picture 7" descr=""/>
          <p:cNvPicPr/>
          <p:nvPr/>
        </p:nvPicPr>
        <p:blipFill>
          <a:blip r:embed="rId3"/>
          <a:stretch/>
        </p:blipFill>
        <p:spPr>
          <a:xfrm>
            <a:off x="4859280" y="1413000"/>
            <a:ext cx="3745080" cy="2592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"/>
          <p:cNvPicPr/>
          <p:nvPr/>
        </p:nvPicPr>
        <p:blipFill>
          <a:blip r:embed="rId4"/>
          <a:stretch/>
        </p:blipFill>
        <p:spPr>
          <a:xfrm>
            <a:off x="2627280" y="4159080"/>
            <a:ext cx="36655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1"/>
          <p:cNvGrpSpPr/>
          <p:nvPr/>
        </p:nvGrpSpPr>
        <p:grpSpPr>
          <a:xfrm>
            <a:off x="450720" y="146160"/>
            <a:ext cx="8240760" cy="912600"/>
            <a:chOff x="450720" y="146160"/>
            <a:chExt cx="8240760" cy="912600"/>
          </a:xfrm>
        </p:grpSpPr>
        <p:pic>
          <p:nvPicPr>
            <p:cNvPr id="244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46160"/>
              <a:ext cx="8240760" cy="9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3"/>
            <p:cNvSpPr/>
            <p:nvPr/>
          </p:nvSpPr>
          <p:spPr>
            <a:xfrm>
              <a:off x="450720" y="146160"/>
              <a:ext cx="82407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603360" y="1262160"/>
            <a:ext cx="779148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1"/>
          <p:cNvGrpSpPr/>
          <p:nvPr/>
        </p:nvGrpSpPr>
        <p:grpSpPr>
          <a:xfrm>
            <a:off x="450720" y="146160"/>
            <a:ext cx="8240760" cy="766800"/>
            <a:chOff x="450720" y="146160"/>
            <a:chExt cx="8240760" cy="766800"/>
          </a:xfrm>
        </p:grpSpPr>
        <p:pic>
          <p:nvPicPr>
            <p:cNvPr id="248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46160"/>
              <a:ext cx="824076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3"/>
            <p:cNvSpPr/>
            <p:nvPr/>
          </p:nvSpPr>
          <p:spPr>
            <a:xfrm>
              <a:off x="450720" y="146160"/>
              <a:ext cx="82407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Text Box 4"/>
          <p:cNvSpPr/>
          <p:nvPr/>
        </p:nvSpPr>
        <p:spPr>
          <a:xfrm>
            <a:off x="179280" y="1523880"/>
            <a:ext cx="352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Отмечалось ухудшение показателей маточно – плацентарной гемодинамики, имелись признаки острой гипоксии по данным кардиотокограф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( КТГ ) – у двух пациент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2"/>
          <a:stretch/>
        </p:blipFill>
        <p:spPr>
          <a:xfrm>
            <a:off x="3708360" y="1125360"/>
            <a:ext cx="5040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1"/>
          <p:cNvGrpSpPr/>
          <p:nvPr/>
        </p:nvGrpSpPr>
        <p:grpSpPr>
          <a:xfrm>
            <a:off x="450720" y="146160"/>
            <a:ext cx="8240760" cy="912600"/>
            <a:chOff x="450720" y="146160"/>
            <a:chExt cx="8240760" cy="912600"/>
          </a:xfrm>
        </p:grpSpPr>
        <p:pic>
          <p:nvPicPr>
            <p:cNvPr id="253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46160"/>
              <a:ext cx="8240760" cy="9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"/>
            <p:cNvSpPr/>
            <p:nvPr/>
          </p:nvSpPr>
          <p:spPr>
            <a:xfrm>
              <a:off x="450720" y="146160"/>
              <a:ext cx="82407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Text Box 4"/>
          <p:cNvSpPr/>
          <p:nvPr/>
        </p:nvSpPr>
        <p:spPr>
          <a:xfrm>
            <a:off x="250920" y="1523880"/>
            <a:ext cx="316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Благодаря квалифицированным действиям палатной акушерки пациентки были вовремя транспортированы в операционный блок для бережного родоразрешения, результатом этого стало то, что новорожденные родились в удовлетворительном состоя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5"/>
          <p:cNvGrpSpPr/>
          <p:nvPr/>
        </p:nvGrpSpPr>
        <p:grpSpPr>
          <a:xfrm>
            <a:off x="3492360" y="1484280"/>
            <a:ext cx="5254920" cy="4606920"/>
            <a:chOff x="3492360" y="1484280"/>
            <a:chExt cx="5254920" cy="4606920"/>
          </a:xfrm>
        </p:grpSpPr>
        <p:pic>
          <p:nvPicPr>
            <p:cNvPr id="257" name="Picture 6" descr=""/>
            <p:cNvPicPr/>
            <p:nvPr/>
          </p:nvPicPr>
          <p:blipFill>
            <a:blip r:embed="rId2"/>
            <a:stretch/>
          </p:blipFill>
          <p:spPr>
            <a:xfrm>
              <a:off x="3492360" y="1484280"/>
              <a:ext cx="5254920" cy="46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7"/>
            <p:cNvSpPr/>
            <p:nvPr/>
          </p:nvSpPr>
          <p:spPr>
            <a:xfrm>
              <a:off x="3492360" y="1484280"/>
              <a:ext cx="5254920" cy="46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1398600"/>
            <a:ext cx="404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457200" y="4005360"/>
            <a:ext cx="403848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Лечение оказалось эффективным, о чем свидетельствовало нормализация гемодинамических показателей в маточных артер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4645080" y="901800"/>
            <a:ext cx="4046400" cy="1266840"/>
            <a:chOff x="4645080" y="901800"/>
            <a:chExt cx="4046400" cy="1266840"/>
          </a:xfrm>
        </p:grpSpPr>
        <p:pic>
          <p:nvPicPr>
            <p:cNvPr id="262" name="Picture 4" descr=""/>
            <p:cNvPicPr/>
            <p:nvPr/>
          </p:nvPicPr>
          <p:blipFill>
            <a:blip r:embed="rId1"/>
            <a:stretch/>
          </p:blipFill>
          <p:spPr>
            <a:xfrm>
              <a:off x="4645080" y="901800"/>
              <a:ext cx="40464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5"/>
            <p:cNvSpPr/>
            <p:nvPr/>
          </p:nvSpPr>
          <p:spPr>
            <a:xfrm>
              <a:off x="4647960" y="907560"/>
              <a:ext cx="403812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Georgia"/>
                </a:rPr>
                <a:t>Все пациентки находились под круглосуточным наблюдением акушер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248000" cy="345744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7"/>
          <p:cNvGrpSpPr/>
          <p:nvPr/>
        </p:nvGrpSpPr>
        <p:grpSpPr>
          <a:xfrm>
            <a:off x="4716360" y="2852640"/>
            <a:ext cx="4318200" cy="3743280"/>
            <a:chOff x="4716360" y="2852640"/>
            <a:chExt cx="4318200" cy="3743280"/>
          </a:xfrm>
        </p:grpSpPr>
        <p:pic>
          <p:nvPicPr>
            <p:cNvPr id="266" name="Picture 8" descr=""/>
            <p:cNvPicPr/>
            <p:nvPr/>
          </p:nvPicPr>
          <p:blipFill>
            <a:blip r:embed="rId3"/>
            <a:stretch/>
          </p:blipFill>
          <p:spPr>
            <a:xfrm>
              <a:off x="4716360" y="2852640"/>
              <a:ext cx="431820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9"/>
            <p:cNvSpPr/>
            <p:nvPr/>
          </p:nvSpPr>
          <p:spPr>
            <a:xfrm>
              <a:off x="4716360" y="2852640"/>
              <a:ext cx="4318200" cy="37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"/>
          <p:cNvGrpSpPr/>
          <p:nvPr/>
        </p:nvGrpSpPr>
        <p:grpSpPr>
          <a:xfrm>
            <a:off x="450720" y="55440"/>
            <a:ext cx="8240760" cy="1863720"/>
            <a:chOff x="450720" y="55440"/>
            <a:chExt cx="8240760" cy="1863720"/>
          </a:xfrm>
        </p:grpSpPr>
        <p:pic>
          <p:nvPicPr>
            <p:cNvPr id="269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55440"/>
              <a:ext cx="824076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3"/>
            <p:cNvSpPr/>
            <p:nvPr/>
          </p:nvSpPr>
          <p:spPr>
            <a:xfrm>
              <a:off x="450720" y="55440"/>
              <a:ext cx="824076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Text Box 4"/>
          <p:cNvSpPr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2"/>
          <a:srcRect l="5606" t="0" r="0" b="0"/>
          <a:stretch/>
        </p:blipFill>
        <p:spPr>
          <a:xfrm>
            <a:off x="324000" y="2421000"/>
            <a:ext cx="4248000" cy="338436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6"/>
          <p:cNvGrpSpPr/>
          <p:nvPr/>
        </p:nvGrpSpPr>
        <p:grpSpPr>
          <a:xfrm>
            <a:off x="4716360" y="2421000"/>
            <a:ext cx="3957840" cy="3382920"/>
            <a:chOff x="4716360" y="2421000"/>
            <a:chExt cx="3957840" cy="3382920"/>
          </a:xfrm>
        </p:grpSpPr>
        <p:pic>
          <p:nvPicPr>
            <p:cNvPr id="274" name="Picture 7" descr=""/>
            <p:cNvPicPr/>
            <p:nvPr/>
          </p:nvPicPr>
          <p:blipFill>
            <a:blip r:embed="rId3"/>
            <a:stretch/>
          </p:blipFill>
          <p:spPr>
            <a:xfrm>
              <a:off x="4716360" y="2421000"/>
              <a:ext cx="395784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8"/>
            <p:cNvSpPr/>
            <p:nvPr/>
          </p:nvSpPr>
          <p:spPr>
            <a:xfrm>
              <a:off x="4716360" y="2421000"/>
              <a:ext cx="3957840" cy="33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1"/>
          <p:cNvGrpSpPr/>
          <p:nvPr/>
        </p:nvGrpSpPr>
        <p:grpSpPr>
          <a:xfrm>
            <a:off x="450720" y="146160"/>
            <a:ext cx="8240760" cy="839520"/>
            <a:chOff x="450720" y="146160"/>
            <a:chExt cx="8240760" cy="839520"/>
          </a:xfrm>
        </p:grpSpPr>
        <p:pic>
          <p:nvPicPr>
            <p:cNvPr id="277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46160"/>
              <a:ext cx="824076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3"/>
            <p:cNvSpPr/>
            <p:nvPr/>
          </p:nvSpPr>
          <p:spPr>
            <a:xfrm>
              <a:off x="450720" y="146160"/>
              <a:ext cx="824076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Text Box 4"/>
          <p:cNvSpPr/>
          <p:nvPr/>
        </p:nvSpPr>
        <p:spPr>
          <a:xfrm>
            <a:off x="457200" y="1844640"/>
            <a:ext cx="33228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SzPct val="102909"/>
              <a:buBlip>
                <a:blip r:embed="rId2"/>
              </a:buBlip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Своевременная диагностика гипоксии пло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SzPct val="102909"/>
              <a:buBlip>
                <a:blip r:embed="rId3"/>
              </a:buBlip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Контроль за состоянием пациент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SzPct val="102909"/>
              <a:buBlip>
                <a:blip r:embed="rId4"/>
              </a:buBlip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Снижение показателей антенатальная гибель пло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-2013- 6  случа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    </a:t>
            </a: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-2014- 4  случа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3995640" y="1844640"/>
            <a:ext cx="4710240" cy="3670200"/>
            <a:chOff x="3995640" y="1844640"/>
            <a:chExt cx="4710240" cy="3670200"/>
          </a:xfrm>
        </p:grpSpPr>
        <p:pic>
          <p:nvPicPr>
            <p:cNvPr id="281" name="Picture 6" descr=""/>
            <p:cNvPicPr/>
            <p:nvPr/>
          </p:nvPicPr>
          <p:blipFill>
            <a:blip r:embed="rId5"/>
            <a:stretch/>
          </p:blipFill>
          <p:spPr>
            <a:xfrm>
              <a:off x="3995640" y="1844640"/>
              <a:ext cx="471024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7"/>
            <p:cNvSpPr/>
            <p:nvPr/>
          </p:nvSpPr>
          <p:spPr>
            <a:xfrm>
              <a:off x="3995640" y="1844640"/>
              <a:ext cx="4710240" cy="36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1"/>
          <p:cNvGrpSpPr/>
          <p:nvPr/>
        </p:nvGrpSpPr>
        <p:grpSpPr>
          <a:xfrm>
            <a:off x="407880" y="146160"/>
            <a:ext cx="8369280" cy="839520"/>
            <a:chOff x="407880" y="146160"/>
            <a:chExt cx="8369280" cy="839520"/>
          </a:xfrm>
        </p:grpSpPr>
        <p:pic>
          <p:nvPicPr>
            <p:cNvPr id="284" name="Picture 2" descr=""/>
            <p:cNvPicPr/>
            <p:nvPr/>
          </p:nvPicPr>
          <p:blipFill>
            <a:blip r:embed="rId1"/>
            <a:stretch/>
          </p:blipFill>
          <p:spPr>
            <a:xfrm>
              <a:off x="407880" y="146160"/>
              <a:ext cx="836928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3"/>
            <p:cNvSpPr/>
            <p:nvPr/>
          </p:nvSpPr>
          <p:spPr>
            <a:xfrm>
              <a:off x="407880" y="146160"/>
              <a:ext cx="836928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Group 4"/>
          <p:cNvGrpSpPr/>
          <p:nvPr/>
        </p:nvGrpSpPr>
        <p:grpSpPr>
          <a:xfrm>
            <a:off x="395280" y="1125360"/>
            <a:ext cx="8423280" cy="5254920"/>
            <a:chOff x="395280" y="1125360"/>
            <a:chExt cx="8423280" cy="5254920"/>
          </a:xfrm>
        </p:grpSpPr>
        <p:pic>
          <p:nvPicPr>
            <p:cNvPr id="287" name="Picture 5" descr=""/>
            <p:cNvPicPr/>
            <p:nvPr/>
          </p:nvPicPr>
          <p:blipFill>
            <a:blip r:embed="rId2"/>
            <a:srcRect l="0" t="13498" r="0" b="0"/>
            <a:stretch/>
          </p:blipFill>
          <p:spPr>
            <a:xfrm>
              <a:off x="395280" y="1125360"/>
              <a:ext cx="8423280" cy="525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6"/>
            <p:cNvSpPr/>
            <p:nvPr/>
          </p:nvSpPr>
          <p:spPr>
            <a:xfrm>
              <a:off x="395280" y="1125360"/>
              <a:ext cx="8423280" cy="52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79280" y="150840"/>
            <a:ext cx="85075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eorgia"/>
              </a:rPr>
              <a:t>АКТУАЛЬНОСТЬ ПРОБЛЕ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447920"/>
            <a:ext cx="4038480" cy="54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Ослож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Антенатальная гибель пл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Интранатальная гибель пл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ладенческая заболевае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ладенческая смер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4984920" y="1268280"/>
            <a:ext cx="3520800" cy="5399280"/>
            <a:chOff x="4984920" y="1268280"/>
            <a:chExt cx="3520800" cy="5399280"/>
          </a:xfrm>
        </p:grpSpPr>
        <p:pic>
          <p:nvPicPr>
            <p:cNvPr id="175" name="Picture 4" descr=""/>
            <p:cNvPicPr/>
            <p:nvPr/>
          </p:nvPicPr>
          <p:blipFill>
            <a:blip r:embed="rId5"/>
            <a:stretch/>
          </p:blipFill>
          <p:spPr>
            <a:xfrm>
              <a:off x="4984920" y="1268280"/>
              <a:ext cx="352080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5"/>
            <p:cNvSpPr/>
            <p:nvPr/>
          </p:nvSpPr>
          <p:spPr>
            <a:xfrm>
              <a:off x="4984920" y="1268280"/>
              <a:ext cx="352080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Патофизиологическ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феномен, состоящий из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комплекса нарушени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трофической, эндокринно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и метаболической функци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плаценты, ведущих к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неспособности ее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поддерживать адекватны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и достаточный  обме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между  организмам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матери и пл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Georg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95280" y="404640"/>
            <a:ext cx="821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eorgia"/>
              </a:rPr>
              <a:t>ПЛАЦЕНТАРНАЯ   НЕДОСТАТО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4648320" y="1773360"/>
            <a:ext cx="4057560" cy="3389040"/>
            <a:chOff x="4648320" y="1773360"/>
            <a:chExt cx="4057560" cy="3389040"/>
          </a:xfrm>
        </p:grpSpPr>
        <p:pic>
          <p:nvPicPr>
            <p:cNvPr id="180" name="Picture 4" descr=""/>
            <p:cNvPicPr/>
            <p:nvPr/>
          </p:nvPicPr>
          <p:blipFill>
            <a:blip r:embed="rId1"/>
            <a:stretch/>
          </p:blipFill>
          <p:spPr>
            <a:xfrm>
              <a:off x="4648320" y="1773360"/>
              <a:ext cx="4057560" cy="33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5"/>
            <p:cNvSpPr/>
            <p:nvPr/>
          </p:nvSpPr>
          <p:spPr>
            <a:xfrm>
              <a:off x="4648320" y="1773360"/>
              <a:ext cx="4057560" cy="33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1"/>
          <p:cNvGrpSpPr/>
          <p:nvPr/>
        </p:nvGrpSpPr>
        <p:grpSpPr>
          <a:xfrm>
            <a:off x="450720" y="146160"/>
            <a:ext cx="8410680" cy="1052280"/>
            <a:chOff x="450720" y="146160"/>
            <a:chExt cx="8410680" cy="1052280"/>
          </a:xfrm>
        </p:grpSpPr>
        <p:pic>
          <p:nvPicPr>
            <p:cNvPr id="183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46160"/>
              <a:ext cx="8410680" cy="10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3"/>
            <p:cNvSpPr/>
            <p:nvPr/>
          </p:nvSpPr>
          <p:spPr>
            <a:xfrm>
              <a:off x="450720" y="146160"/>
              <a:ext cx="841068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Text Box 4"/>
          <p:cNvSpPr/>
          <p:nvPr/>
        </p:nvSpPr>
        <p:spPr>
          <a:xfrm>
            <a:off x="250920" y="1523880"/>
            <a:ext cx="352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00066"/>
                </a:solidFill>
                <a:latin typeface="Georgia"/>
              </a:rPr>
              <a:t>Плацентарная  недостаточность одинаково встречается как при акушерской, так и при экстрагенитальной патологии у беременных и составляет 30,6%.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3627360" y="1262160"/>
            <a:ext cx="5307120" cy="5265720"/>
            <a:chOff x="3627360" y="1262160"/>
            <a:chExt cx="5307120" cy="5265720"/>
          </a:xfrm>
        </p:grpSpPr>
        <p:pic>
          <p:nvPicPr>
            <p:cNvPr id="187" name="Picture 6" descr=""/>
            <p:cNvPicPr/>
            <p:nvPr/>
          </p:nvPicPr>
          <p:blipFill>
            <a:blip r:embed="rId2"/>
            <a:stretch/>
          </p:blipFill>
          <p:spPr>
            <a:xfrm>
              <a:off x="3627360" y="1262160"/>
              <a:ext cx="5307120" cy="52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7"/>
            <p:cNvSpPr/>
            <p:nvPr/>
          </p:nvSpPr>
          <p:spPr>
            <a:xfrm>
              <a:off x="3627360" y="1262160"/>
              <a:ext cx="5307120" cy="526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"/>
          <p:cNvGrpSpPr/>
          <p:nvPr/>
        </p:nvGrpSpPr>
        <p:grpSpPr>
          <a:xfrm>
            <a:off x="450720" y="133200"/>
            <a:ext cx="8240760" cy="925560"/>
            <a:chOff x="450720" y="133200"/>
            <a:chExt cx="8240760" cy="925560"/>
          </a:xfrm>
        </p:grpSpPr>
        <p:pic>
          <p:nvPicPr>
            <p:cNvPr id="190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33200"/>
              <a:ext cx="824076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3"/>
            <p:cNvSpPr/>
            <p:nvPr/>
          </p:nvSpPr>
          <p:spPr>
            <a:xfrm>
              <a:off x="450720" y="133200"/>
              <a:ext cx="824076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Group 4"/>
          <p:cNvGrpSpPr/>
          <p:nvPr/>
        </p:nvGrpSpPr>
        <p:grpSpPr>
          <a:xfrm>
            <a:off x="324000" y="1557360"/>
            <a:ext cx="3886200" cy="4102200"/>
            <a:chOff x="324000" y="1557360"/>
            <a:chExt cx="3886200" cy="4102200"/>
          </a:xfrm>
        </p:grpSpPr>
        <p:pic>
          <p:nvPicPr>
            <p:cNvPr id="193" name="Picture 5" descr=""/>
            <p:cNvPicPr/>
            <p:nvPr/>
          </p:nvPicPr>
          <p:blipFill>
            <a:blip r:embed="rId2"/>
            <a:srcRect l="0" t="0" r="0" b="9219"/>
            <a:stretch/>
          </p:blipFill>
          <p:spPr>
            <a:xfrm>
              <a:off x="324000" y="1557360"/>
              <a:ext cx="3886200" cy="41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6"/>
            <p:cNvSpPr/>
            <p:nvPr/>
          </p:nvSpPr>
          <p:spPr>
            <a:xfrm>
              <a:off x="324000" y="1557360"/>
              <a:ext cx="3886200" cy="41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5" name="Picture 7" descr=""/>
          <p:cNvPicPr/>
          <p:nvPr/>
        </p:nvPicPr>
        <p:blipFill>
          <a:blip r:embed="rId3"/>
          <a:srcRect l="2160" t="3582" r="2160" b="14329"/>
          <a:stretch/>
        </p:blipFill>
        <p:spPr>
          <a:xfrm>
            <a:off x="4500720" y="1160640"/>
            <a:ext cx="4155840" cy="248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4"/>
          <a:stretch/>
        </p:blipFill>
        <p:spPr>
          <a:xfrm>
            <a:off x="4500720" y="3789360"/>
            <a:ext cx="42480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1"/>
          <p:cNvGrpSpPr/>
          <p:nvPr/>
        </p:nvGrpSpPr>
        <p:grpSpPr>
          <a:xfrm>
            <a:off x="450720" y="146160"/>
            <a:ext cx="8240760" cy="766800"/>
            <a:chOff x="450720" y="146160"/>
            <a:chExt cx="8240760" cy="766800"/>
          </a:xfrm>
        </p:grpSpPr>
        <p:pic>
          <p:nvPicPr>
            <p:cNvPr id="198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46160"/>
              <a:ext cx="824076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3"/>
            <p:cNvSpPr/>
            <p:nvPr/>
          </p:nvSpPr>
          <p:spPr>
            <a:xfrm>
              <a:off x="450720" y="146160"/>
              <a:ext cx="82407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Text Box 4"/>
          <p:cNvSpPr/>
          <p:nvPr/>
        </p:nvSpPr>
        <p:spPr>
          <a:xfrm>
            <a:off x="457200" y="1197000"/>
            <a:ext cx="375444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66"/>
                </a:solidFill>
                <a:latin typeface="Georgia"/>
              </a:rPr>
              <a:t>В акушерском отделении патологии беременности БУЗОО  РД № 4 проводилось исследование, предметом которого стали беременные женщины с диагнозом плацентарная  недостаточность.        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46083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"/>
          <p:cNvGrpSpPr/>
          <p:nvPr/>
        </p:nvGrpSpPr>
        <p:grpSpPr>
          <a:xfrm>
            <a:off x="450720" y="146160"/>
            <a:ext cx="8240760" cy="1052280"/>
            <a:chOff x="450720" y="146160"/>
            <a:chExt cx="8240760" cy="1052280"/>
          </a:xfrm>
        </p:grpSpPr>
        <p:pic>
          <p:nvPicPr>
            <p:cNvPr id="203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46160"/>
              <a:ext cx="8240760" cy="10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3"/>
            <p:cNvSpPr/>
            <p:nvPr/>
          </p:nvSpPr>
          <p:spPr>
            <a:xfrm>
              <a:off x="450720" y="146160"/>
              <a:ext cx="824076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Group 4"/>
          <p:cNvGrpSpPr/>
          <p:nvPr/>
        </p:nvGrpSpPr>
        <p:grpSpPr>
          <a:xfrm>
            <a:off x="457200" y="1557360"/>
            <a:ext cx="5049720" cy="4462560"/>
            <a:chOff x="457200" y="1557360"/>
            <a:chExt cx="5049720" cy="4462560"/>
          </a:xfrm>
        </p:grpSpPr>
        <p:pic>
          <p:nvPicPr>
            <p:cNvPr id="206" name="Picture 5" descr=""/>
            <p:cNvPicPr/>
            <p:nvPr/>
          </p:nvPicPr>
          <p:blipFill>
            <a:blip r:embed="rId2"/>
            <a:stretch/>
          </p:blipFill>
          <p:spPr>
            <a:xfrm>
              <a:off x="457200" y="1557360"/>
              <a:ext cx="5049720" cy="446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6"/>
            <p:cNvSpPr/>
            <p:nvPr/>
          </p:nvSpPr>
          <p:spPr>
            <a:xfrm>
              <a:off x="457200" y="1557360"/>
              <a:ext cx="5049720" cy="44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Text Box 7"/>
          <p:cNvSpPr/>
          <p:nvPr/>
        </p:nvSpPr>
        <p:spPr>
          <a:xfrm>
            <a:off x="5580000" y="1523880"/>
            <a:ext cx="312732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Показать роль акушерки при ведении беременных женщин с ПН в условиях отделения патологии беременности родильного д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1"/>
          <p:cNvGrpSpPr/>
          <p:nvPr/>
        </p:nvGrpSpPr>
        <p:grpSpPr>
          <a:xfrm>
            <a:off x="450720" y="146160"/>
            <a:ext cx="8240760" cy="766800"/>
            <a:chOff x="450720" y="146160"/>
            <a:chExt cx="8240760" cy="766800"/>
          </a:xfrm>
        </p:grpSpPr>
        <p:pic>
          <p:nvPicPr>
            <p:cNvPr id="210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46160"/>
              <a:ext cx="824076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3"/>
            <p:cNvSpPr/>
            <p:nvPr/>
          </p:nvSpPr>
          <p:spPr>
            <a:xfrm>
              <a:off x="450720" y="146160"/>
              <a:ext cx="82407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Group 4"/>
          <p:cNvGrpSpPr/>
          <p:nvPr/>
        </p:nvGrpSpPr>
        <p:grpSpPr>
          <a:xfrm>
            <a:off x="250920" y="1268280"/>
            <a:ext cx="5508360" cy="4389480"/>
            <a:chOff x="250920" y="1268280"/>
            <a:chExt cx="5508360" cy="4389480"/>
          </a:xfrm>
        </p:grpSpPr>
        <p:pic>
          <p:nvPicPr>
            <p:cNvPr id="213" name="Picture 5" descr=""/>
            <p:cNvPicPr/>
            <p:nvPr/>
          </p:nvPicPr>
          <p:blipFill>
            <a:blip r:embed="rId2"/>
            <a:stretch/>
          </p:blipFill>
          <p:spPr>
            <a:xfrm>
              <a:off x="250920" y="1268280"/>
              <a:ext cx="550836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6"/>
            <p:cNvSpPr/>
            <p:nvPr/>
          </p:nvSpPr>
          <p:spPr>
            <a:xfrm>
              <a:off x="250920" y="1268280"/>
              <a:ext cx="5508360" cy="43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Rectangle 7"/>
          <p:cNvSpPr/>
          <p:nvPr/>
        </p:nvSpPr>
        <p:spPr>
          <a:xfrm>
            <a:off x="6012000" y="1916280"/>
            <a:ext cx="28810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Обследовано   610 беременных женщи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 выявленной плацентарной недостаточностью в возрас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от 19 до 39 лет</a:t>
            </a:r>
            <a:r>
              <a:rPr b="0" lang="ru-RU" sz="2800" spc="-1" strike="noStrike">
                <a:solidFill>
                  <a:srgbClr val="000066"/>
                </a:solidFill>
                <a:latin typeface="Franklin Gothic Book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1"/>
          <p:cNvGrpSpPr/>
          <p:nvPr/>
        </p:nvGrpSpPr>
        <p:grpSpPr>
          <a:xfrm>
            <a:off x="317520" y="1047600"/>
            <a:ext cx="8361360" cy="5370840"/>
            <a:chOff x="317520" y="1047600"/>
            <a:chExt cx="8361360" cy="5370840"/>
          </a:xfrm>
        </p:grpSpPr>
        <p:pic>
          <p:nvPicPr>
            <p:cNvPr id="217" name="Picture 2" descr=""/>
            <p:cNvPicPr/>
            <p:nvPr/>
          </p:nvPicPr>
          <p:blipFill>
            <a:blip r:embed="rId1"/>
            <a:stretch/>
          </p:blipFill>
          <p:spPr>
            <a:xfrm>
              <a:off x="317520" y="1047600"/>
              <a:ext cx="8361360" cy="537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3"/>
            <p:cNvSpPr/>
            <p:nvPr/>
          </p:nvSpPr>
          <p:spPr>
            <a:xfrm>
              <a:off x="317520" y="1047600"/>
              <a:ext cx="8361360" cy="53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4"/>
          <p:cNvGrpSpPr/>
          <p:nvPr/>
        </p:nvGrpSpPr>
        <p:grpSpPr>
          <a:xfrm>
            <a:off x="-6480" y="146160"/>
            <a:ext cx="8240760" cy="766800"/>
            <a:chOff x="-6480" y="146160"/>
            <a:chExt cx="8240760" cy="766800"/>
          </a:xfrm>
        </p:grpSpPr>
        <p:pic>
          <p:nvPicPr>
            <p:cNvPr id="220" name="Picture 5" descr=""/>
            <p:cNvPicPr/>
            <p:nvPr/>
          </p:nvPicPr>
          <p:blipFill>
            <a:blip r:embed="rId2"/>
            <a:stretch/>
          </p:blipFill>
          <p:spPr>
            <a:xfrm>
              <a:off x="-6480" y="146160"/>
              <a:ext cx="824076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6"/>
            <p:cNvSpPr/>
            <p:nvPr/>
          </p:nvSpPr>
          <p:spPr>
            <a:xfrm>
              <a:off x="-6480" y="146160"/>
              <a:ext cx="824076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Oval 7"/>
          <p:cNvSpPr/>
          <p:nvPr/>
        </p:nvSpPr>
        <p:spPr>
          <a:xfrm>
            <a:off x="2195640" y="1125360"/>
            <a:ext cx="3960720" cy="144000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Плацентарная недостато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8"/>
          <p:cNvSpPr/>
          <p:nvPr/>
        </p:nvSpPr>
        <p:spPr>
          <a:xfrm>
            <a:off x="250920" y="4869000"/>
            <a:ext cx="3529080" cy="165564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имметричная фо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9"/>
          <p:cNvSpPr/>
          <p:nvPr/>
        </p:nvSpPr>
        <p:spPr>
          <a:xfrm>
            <a:off x="5219640" y="4797360"/>
            <a:ext cx="3384720" cy="165600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66"/>
                </a:solidFill>
                <a:latin typeface="Georgia"/>
              </a:rPr>
              <a:t>Ассиметричная форм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195640" y="2997360"/>
            <a:ext cx="4032000" cy="144144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Синдром задержки развития пл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3851280" y="2565360"/>
            <a:ext cx="773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3a447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 rot="1380000">
            <a:off x="2874600" y="4355640"/>
            <a:ext cx="484200" cy="6526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3a447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 rot="20220000">
            <a:off x="5359320" y="4284360"/>
            <a:ext cx="484200" cy="7459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3a447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14:50:54Z</dcterms:created>
  <dc:creator>Admin</dc:creator>
  <dc:description/>
  <dc:language>en-US</dc:language>
  <cp:lastModifiedBy>Sveta</cp:lastModifiedBy>
  <dcterms:modified xsi:type="dcterms:W3CDTF">2015-05-16T16:59:22Z</dcterms:modified>
  <cp:revision>56</cp:revision>
  <dc:subject/>
  <dc:title>Роль акушерки при ведении пациенток с  плацентарной недостаточностью в условиях отделения патологии беременности родильного дома</dc:title>
</cp:coreProperties>
</file>