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33.jpeg" ContentType="image/jpeg"/>
  <Override PartName="/ppt/media/image27.png" ContentType="image/png"/>
  <Override PartName="/ppt/media/image5.jpeg" ContentType="image/jpeg"/>
  <Override PartName="/ppt/media/image8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34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5240" y="899640"/>
            <a:ext cx="427356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772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1155600" y="933480"/>
            <a:ext cx="4332240" cy="33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2916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3A04-5AA1-4040-A517-3F8794132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4C46-34E2-45BE-9E6C-B818604AD5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1A4B-79AE-496C-999C-72097417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2E04-B47B-492C-B067-53A3B7D00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20AA-8327-4648-8F38-E57B826BE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FBA5-6D75-49ED-AFC1-2AE35E2497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7B0E-ACC3-444C-95B4-F3C7870E2C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D507-F2C7-4CE2-BD22-19422E425D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11DC-9AE9-4179-A44F-6A8F05294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FEF3-ADC7-43E1-B713-DD4EB323B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2216-B4D7-429D-97D0-874A1502E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7508-15B0-41D2-963F-159043257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3F4C-D874-4D70-8A39-4352B1E76B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669A-B972-40FB-8576-BA53E934A5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EDD1-5DD9-46E2-A85C-4BCCF67F72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3A47-3E68-4585-82DE-C61099D87C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59DF-7FEE-4C8C-A732-9B2E1E39A8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FD5-B9B2-41DB-A139-45653123A1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665-FCF8-4012-8CF9-7335ECF6E6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6F8-AEA2-454D-8B9D-4F0635444F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F88-9CF4-418B-8558-40936DA1BD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E61-9A20-45B7-B990-93CDD62BAB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9B7E-9211-4CC4-AD91-21F11199E0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B8A-ABFE-458F-BCE9-7A4089358C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729-F059-4BD3-9C5F-5C7703B57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BA2-A5BD-4BA4-80EC-57598D2ABF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A99-5DE7-4693-A515-17CCDB0830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2A3-19E3-4104-A4EC-08C9913EB1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DC5-E488-4D7A-920D-0E0BED123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EDF-45A2-4C79-B9AE-7E73EB27E7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FF44-55EF-4CF3-951D-E3307D6DA8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B228-2D1C-4565-BD60-1CF5F35C58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731B-2672-41F4-B22A-728530B1B9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D5AC-DAE6-41C5-B126-F7CBE191796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4AED-ED73-4F83-BC1C-10A3EE0405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18F8-3572-4432-A02B-EFEE53FFF4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838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1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97550-62F1-40A7-B11E-2E4F6A42D6F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6200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5800" y="6248520"/>
            <a:ext cx="1901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124080" y="6248520"/>
            <a:ext cx="2892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182285-F000-4A06-B3DC-D90CF579434B}" type="slidenum"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F51E21-1CE7-4E40-87F3-0DEC76A360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838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838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838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34920" y="0"/>
            <a:ext cx="91090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mbria"/>
              </a:rPr>
              <a:t>ИННОВАЦИИ В СИСТЕМЕ ОБЕСПЕЧЕНИЯ АКУШЕРСКОЙ ПОМОЩИ В ПЕРИНАТАЛЬНОМ ЦЕНТ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556000" y="5013360"/>
            <a:ext cx="6400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Торгашева Е.П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старшая акуше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БУЗОО «Городской клиниче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перинатальный цент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08000" y="836640"/>
            <a:ext cx="4824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0640">
              <a:spcBef>
                <a:spcPts val="70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c852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355e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Наблюдая  за роженицей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акушерка мож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прогнозировать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акушерскую ситу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оказать помощ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в пределах своей компетен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2"/>
          <p:cNvGrpSpPr/>
          <p:nvPr/>
        </p:nvGrpSpPr>
        <p:grpSpPr>
          <a:xfrm>
            <a:off x="2189160" y="4078440"/>
            <a:ext cx="3312720" cy="2806560"/>
            <a:chOff x="2189160" y="4078440"/>
            <a:chExt cx="3312720" cy="2806560"/>
          </a:xfrm>
        </p:grpSpPr>
        <p:pic>
          <p:nvPicPr>
            <p:cNvPr id="442" name="Picture 3" descr=""/>
            <p:cNvPicPr/>
            <p:nvPr/>
          </p:nvPicPr>
          <p:blipFill>
            <a:blip r:embed="rId1"/>
            <a:stretch/>
          </p:blipFill>
          <p:spPr>
            <a:xfrm>
              <a:off x="2189160" y="4078440"/>
              <a:ext cx="331128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4"/>
            <p:cNvSpPr/>
            <p:nvPr/>
          </p:nvSpPr>
          <p:spPr>
            <a:xfrm>
              <a:off x="2190240" y="4078440"/>
              <a:ext cx="331164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" name="Group 5"/>
          <p:cNvGrpSpPr/>
          <p:nvPr/>
        </p:nvGrpSpPr>
        <p:grpSpPr>
          <a:xfrm>
            <a:off x="5784840" y="3284640"/>
            <a:ext cx="3287880" cy="3035160"/>
            <a:chOff x="5784840" y="3284640"/>
            <a:chExt cx="3287880" cy="3035160"/>
          </a:xfrm>
        </p:grpSpPr>
        <p:pic>
          <p:nvPicPr>
            <p:cNvPr id="445" name="Picture 6" descr=""/>
            <p:cNvPicPr/>
            <p:nvPr/>
          </p:nvPicPr>
          <p:blipFill>
            <a:blip r:embed="rId2"/>
            <a:stretch/>
          </p:blipFill>
          <p:spPr>
            <a:xfrm>
              <a:off x="5784840" y="3284640"/>
              <a:ext cx="328788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7"/>
            <p:cNvSpPr/>
            <p:nvPr/>
          </p:nvSpPr>
          <p:spPr>
            <a:xfrm>
              <a:off x="5784840" y="3284640"/>
              <a:ext cx="3287880" cy="30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7" name="Picture 8" descr=""/>
          <p:cNvPicPr/>
          <p:nvPr/>
        </p:nvPicPr>
        <p:blipFill>
          <a:blip r:embed="rId3"/>
          <a:stretch/>
        </p:blipFill>
        <p:spPr>
          <a:xfrm>
            <a:off x="3449520" y="109440"/>
            <a:ext cx="2159280" cy="27306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"/>
          <p:cNvPicPr/>
          <p:nvPr/>
        </p:nvPicPr>
        <p:blipFill>
          <a:blip r:embed="rId4"/>
          <a:stretch/>
        </p:blipFill>
        <p:spPr>
          <a:xfrm>
            <a:off x="5827680" y="0"/>
            <a:ext cx="3335400" cy="2925720"/>
          </a:xfrm>
          <a:prstGeom prst="rect">
            <a:avLst/>
          </a:prstGeom>
          <a:ln w="0">
            <a:noFill/>
          </a:ln>
        </p:spPr>
      </p:pic>
      <p:sp>
        <p:nvSpPr>
          <p:cNvPr id="449" name="AutoShape 10"/>
          <p:cNvSpPr/>
          <p:nvPr/>
        </p:nvSpPr>
        <p:spPr>
          <a:xfrm>
            <a:off x="5608800" y="1473120"/>
            <a:ext cx="258480" cy="22716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ff000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1"/>
          <p:cNvSpPr/>
          <p:nvPr/>
        </p:nvSpPr>
        <p:spPr>
          <a:xfrm rot="5220000">
            <a:off x="7366680" y="2923200"/>
            <a:ext cx="260280" cy="226800"/>
          </a:xfrm>
          <a:prstGeom prst="rightArrow">
            <a:avLst>
              <a:gd name="adj1" fmla="val 50000"/>
              <a:gd name="adj2" fmla="val 50033"/>
            </a:avLst>
          </a:prstGeom>
          <a:solidFill>
            <a:srgbClr val="ff000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5"/>
          <a:stretch/>
        </p:blipFill>
        <p:spPr>
          <a:xfrm>
            <a:off x="5505480" y="5288040"/>
            <a:ext cx="31752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826920" y="22320"/>
            <a:ext cx="381636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Применение новых технологий обеспечив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6b0094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физиологически протекающий период ранней адаптации матери и новорождённ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6b0094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снижение гнойно-септических ослож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ru-RU" sz="3200" spc="-1" strike="noStrike">
                <a:solidFill>
                  <a:srgbClr val="6b0094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укрепление иммунной системы малы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502160" cy="487044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3"/>
          <p:cNvGrpSpPr/>
          <p:nvPr/>
        </p:nvGrpSpPr>
        <p:grpSpPr>
          <a:xfrm>
            <a:off x="4627440" y="639720"/>
            <a:ext cx="4527720" cy="4900680"/>
            <a:chOff x="4627440" y="639720"/>
            <a:chExt cx="4527720" cy="4900680"/>
          </a:xfrm>
        </p:grpSpPr>
        <p:pic>
          <p:nvPicPr>
            <p:cNvPr id="455" name="Picture 4" descr=""/>
            <p:cNvPicPr/>
            <p:nvPr/>
          </p:nvPicPr>
          <p:blipFill>
            <a:blip r:embed="rId2"/>
            <a:stretch/>
          </p:blipFill>
          <p:spPr>
            <a:xfrm>
              <a:off x="4627440" y="639720"/>
              <a:ext cx="4527720" cy="49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5"/>
            <p:cNvSpPr/>
            <p:nvPr/>
          </p:nvSpPr>
          <p:spPr>
            <a:xfrm>
              <a:off x="4642920" y="655200"/>
              <a:ext cx="4499280" cy="48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mbria"/>
              </a:rPr>
              <a:t>Основные показатели Г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0" y="1600200"/>
            <a:ext cx="914400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СИ новорожденных                     ГСИ   родильн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57240" y="2133720"/>
            <a:ext cx="3987720" cy="4502160"/>
            <a:chOff x="57240" y="2133720"/>
            <a:chExt cx="3987720" cy="4502160"/>
          </a:xfrm>
        </p:grpSpPr>
        <p:pic>
          <p:nvPicPr>
            <p:cNvPr id="460" name="Picture 4" descr=""/>
            <p:cNvPicPr/>
            <p:nvPr/>
          </p:nvPicPr>
          <p:blipFill>
            <a:blip r:embed="rId1"/>
            <a:stretch/>
          </p:blipFill>
          <p:spPr>
            <a:xfrm>
              <a:off x="57240" y="2133720"/>
              <a:ext cx="3987720" cy="45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5"/>
            <p:cNvSpPr/>
            <p:nvPr/>
          </p:nvSpPr>
          <p:spPr>
            <a:xfrm>
              <a:off x="57240" y="2133720"/>
              <a:ext cx="3987720" cy="45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4822920" y="1989000"/>
            <a:ext cx="421308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826920" y="0"/>
            <a:ext cx="412308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В лечении респираторного дистресс</a:t>
            </a: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-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синдрома (РДС) у недоношенных детей применяется неинвазивная вентиляция легких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Group 2"/>
          <p:cNvGrpSpPr/>
          <p:nvPr/>
        </p:nvGrpSpPr>
        <p:grpSpPr>
          <a:xfrm>
            <a:off x="4950000" y="3216240"/>
            <a:ext cx="3758760" cy="3571560"/>
            <a:chOff x="4950000" y="3216240"/>
            <a:chExt cx="3758760" cy="3571560"/>
          </a:xfrm>
        </p:grpSpPr>
        <p:pic>
          <p:nvPicPr>
            <p:cNvPr id="465" name="Picture 3" descr=""/>
            <p:cNvPicPr/>
            <p:nvPr/>
          </p:nvPicPr>
          <p:blipFill>
            <a:blip r:embed="rId1"/>
            <a:stretch/>
          </p:blipFill>
          <p:spPr>
            <a:xfrm>
              <a:off x="5028840" y="3216240"/>
              <a:ext cx="3679920" cy="35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4"/>
            <p:cNvSpPr/>
            <p:nvPr/>
          </p:nvSpPr>
          <p:spPr>
            <a:xfrm>
              <a:off x="4950000" y="3252600"/>
              <a:ext cx="3676680" cy="35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7" name="Picture 5" descr=""/>
          <p:cNvPicPr/>
          <p:nvPr/>
        </p:nvPicPr>
        <p:blipFill>
          <a:blip r:embed="rId2"/>
          <a:stretch/>
        </p:blipFill>
        <p:spPr>
          <a:xfrm>
            <a:off x="5462640" y="115920"/>
            <a:ext cx="368136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-2052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Использов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стратегии INSU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INSURE :</a:t>
            </a:r>
            <a:r>
              <a:rPr b="0" lang="en-GB" sz="3600" spc="-1" strike="noStrike">
                <a:solidFill>
                  <a:srgbClr val="355e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55e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туб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введение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сур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факт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э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кстуб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Переход на биназальные каню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"/>
          <p:cNvSpPr/>
          <p:nvPr/>
        </p:nvSpPr>
        <p:spPr>
          <a:xfrm>
            <a:off x="4429080" y="2997360"/>
            <a:ext cx="287280" cy="4744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3"/>
          <p:cNvSpPr/>
          <p:nvPr/>
        </p:nvSpPr>
        <p:spPr>
          <a:xfrm>
            <a:off x="4427640" y="5157720"/>
            <a:ext cx="287280" cy="43200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4427640" y="4076640"/>
            <a:ext cx="288720" cy="50472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427640" y="1773360"/>
            <a:ext cx="287280" cy="4935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468360" y="0"/>
            <a:ext cx="53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В отделени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реанимаци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новорожденных применя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Ш</a:t>
            </a: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умо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c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светопоглощающие чехлы</a:t>
            </a:r>
            <a:r>
              <a:rPr b="0" lang="en-GB" sz="2400" spc="-1" strike="noStrike">
                <a:solidFill>
                  <a:srgbClr val="ffc000"/>
                </a:solidFill>
                <a:latin typeface="Times New Roman"/>
              </a:rPr>
              <a:t> на инкубаторы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GB" sz="2400" spc="-1" strike="noStrike">
                <a:solidFill>
                  <a:srgbClr val="ffc000"/>
                </a:solidFill>
                <a:latin typeface="Times New Roman"/>
              </a:rPr>
              <a:t>подушечки гнездом,</a:t>
            </a:r>
            <a:r>
              <a:rPr b="0" lang="en-GB" sz="2400" spc="-1" strike="noStrike">
                <a:solidFill>
                  <a:srgbClr val="ffc000"/>
                </a:solidFill>
                <a:latin typeface="Times New Roman"/>
              </a:rPr>
              <a:t>     что позволяет более бережно выхаживать детей с экстремально низкой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c000"/>
                </a:solidFill>
                <a:latin typeface="Times New Roman"/>
              </a:rPr>
              <a:t>очень низкой массой тела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5767560" y="2664000"/>
            <a:ext cx="3419280" cy="25239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651640" y="-12600"/>
            <a:ext cx="3492360" cy="2736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3"/>
          <a:stretch/>
        </p:blipFill>
        <p:spPr>
          <a:xfrm>
            <a:off x="0" y="4290840"/>
            <a:ext cx="3389400" cy="2713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4"/>
          <a:stretch/>
        </p:blipFill>
        <p:spPr>
          <a:xfrm>
            <a:off x="3273480" y="4290840"/>
            <a:ext cx="34923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826920" y="484200"/>
            <a:ext cx="7631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mbria"/>
              </a:rPr>
              <a:t>Результат внедрения современных технолог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Улучшение качества ухода и лечения, снижение количества осложн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Улучшение условий пребывания пациентов в стациона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Уменьшение сроков гос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Повышение профессионализма и престижа акушерки, медицинской сес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0" y="0"/>
            <a:ext cx="62276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9120" indent="-4572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Работа акушер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120" indent="-4572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и медицинских сестер переориентирована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120" indent="-4572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конечный результа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9120" indent="-4572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здоровая мама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9120" indent="-457200">
              <a:lnSpc>
                <a:spcPct val="100000"/>
              </a:lnSpc>
              <a:spcAft>
                <a:spcPts val="1426"/>
              </a:spcAft>
              <a:buClr>
                <a:srgbClr val="7da647"/>
              </a:buClr>
              <a:buFont typeface="Arial"/>
              <a:buChar char="•"/>
              <a:tabLst>
                <a:tab algn="l" pos="51912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здоровый ребенок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5005440" y="0"/>
            <a:ext cx="4029120" cy="3432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"/>
          <p:cNvPicPr/>
          <p:nvPr/>
        </p:nvPicPr>
        <p:blipFill>
          <a:blip r:embed="rId2"/>
          <a:stretch/>
        </p:blipFill>
        <p:spPr>
          <a:xfrm>
            <a:off x="3112920" y="3429000"/>
            <a:ext cx="455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1"/>
          <p:cNvSpPr/>
          <p:nvPr/>
        </p:nvSpPr>
        <p:spPr>
          <a:xfrm>
            <a:off x="3060720" y="3780000"/>
            <a:ext cx="1440" cy="17928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-17640" y="84240"/>
            <a:ext cx="9144000" cy="77500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3"/>
          <p:cNvSpPr/>
          <p:nvPr/>
        </p:nvSpPr>
        <p:spPr>
          <a:xfrm>
            <a:off x="1187280" y="1413000"/>
            <a:ext cx="795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4416480" y="1484280"/>
            <a:ext cx="4674960" cy="46101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826920" y="720720"/>
            <a:ext cx="410544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336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63360"/>
                <a:tab algn="l" pos="511200"/>
                <a:tab algn="l" pos="960480"/>
                <a:tab algn="l" pos="1409760"/>
                <a:tab algn="l" pos="1859040"/>
                <a:tab algn="l" pos="2308320"/>
                <a:tab algn="l" pos="2757600"/>
                <a:tab algn="l" pos="3206880"/>
                <a:tab algn="l" pos="3656160"/>
                <a:tab algn="l" pos="4105440"/>
                <a:tab algn="l" pos="4554360"/>
                <a:tab algn="l" pos="5003640"/>
                <a:tab algn="l" pos="5452920"/>
                <a:tab algn="l" pos="5902200"/>
                <a:tab algn="l" pos="6351480"/>
                <a:tab algn="l" pos="6800760"/>
                <a:tab algn="l" pos="7250040"/>
                <a:tab algn="l" pos="7699320"/>
                <a:tab algn="l" pos="8148600"/>
                <a:tab algn="l" pos="8597880"/>
                <a:tab algn="l" pos="904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т качества акушерской помощи зависит  эффективность профилактических мероприятий, направленных на предупреждение осложнений беременности, родов, послеродового периода и периода новорожден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22320" y="17640"/>
            <a:ext cx="9121680" cy="4419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-50760" y="3522600"/>
            <a:ext cx="92455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900000" y="19044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mbria"/>
              </a:rPr>
              <a:t>Новые структурные подразделения родильного до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826920" y="1600200"/>
            <a:ext cx="8317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Центр планир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семьи и ре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*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Отделение реанимации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            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иинтенсивной терап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                        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новорожд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5508720" y="1512720"/>
            <a:ext cx="3538440" cy="3140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45780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"/>
          <p:cNvGrpSpPr/>
          <p:nvPr/>
        </p:nvGrpSpPr>
        <p:grpSpPr>
          <a:xfrm>
            <a:off x="755640" y="720720"/>
            <a:ext cx="4460760" cy="5216400"/>
            <a:chOff x="755640" y="720720"/>
            <a:chExt cx="4460760" cy="5216400"/>
          </a:xfrm>
        </p:grpSpPr>
        <p:pic>
          <p:nvPicPr>
            <p:cNvPr id="424" name="Picture 2" descr=""/>
            <p:cNvPicPr/>
            <p:nvPr/>
          </p:nvPicPr>
          <p:blipFill>
            <a:blip r:embed="rId1"/>
            <a:stretch/>
          </p:blipFill>
          <p:spPr>
            <a:xfrm>
              <a:off x="755640" y="720720"/>
              <a:ext cx="4460760" cy="52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3"/>
            <p:cNvSpPr/>
            <p:nvPr/>
          </p:nvSpPr>
          <p:spPr>
            <a:xfrm>
              <a:off x="755640" y="720720"/>
              <a:ext cx="4460760" cy="52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Text Box 4"/>
          <p:cNvSpPr/>
          <p:nvPr/>
        </p:nvSpPr>
        <p:spPr>
          <a:xfrm>
            <a:off x="5364000" y="260280"/>
            <a:ext cx="3888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Педиатрический стационар является базой для II этапа выхаживания новорождённых всех родильных дом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города Ом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826920" y="4869000"/>
            <a:ext cx="78710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mbria"/>
              </a:rPr>
              <a:t>Акушерки и медицинские сестры должны уметь клинически мыслить, профессионально решать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4030920" cy="3636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718160" y="-12600"/>
            <a:ext cx="3865320" cy="253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2360" y="2492280"/>
            <a:ext cx="40244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826920" y="0"/>
            <a:ext cx="78598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mbria"/>
              </a:rPr>
              <a:t>Оснащение отделений современным медицинским оборудо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718160" y="1341360"/>
            <a:ext cx="3956040" cy="2597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718160" y="3938760"/>
            <a:ext cx="3956040" cy="27302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828720" y="119556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901800" y="4005360"/>
            <a:ext cx="38829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395280" y="11592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mbria"/>
              </a:rPr>
              <a:t>Основные направления деятельности </a:t>
            </a:r>
            <a:r>
              <a:rPr b="1" lang="ru-RU" sz="3600" spc="-1" strike="noStrike">
                <a:solidFill>
                  <a:srgbClr val="ff0000"/>
                </a:solidFill>
                <a:latin typeface="Cambria"/>
              </a:rPr>
              <a:t>перинатального цент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.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Планирование семьи и охра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 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репродуктивного здоровья женщ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  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.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Безопасное материн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3.  Перинатальная охрана плода и новорожд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826920" y="150840"/>
            <a:ext cx="7813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mbria"/>
              </a:rPr>
              <a:t>Современные перинатальные техноло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1" lang="ru-RU" sz="3200" spc="-1" strike="noStrike">
                <a:solidFill>
                  <a:srgbClr val="6b0094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индивидуальные родильные за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партнёрские 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раннее прикладывание к груди ма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совместное пребывание матери и ребё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кормление ребёнка по требовани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ранняя выписка из стационар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_1808</dc:creator>
  <dc:description/>
  <dc:language>en-US</dc:language>
  <cp:lastModifiedBy>Sveta</cp:lastModifiedBy>
  <cp:lastPrinted>2015-05-05T04:10:29Z</cp:lastPrinted>
  <dcterms:modified xsi:type="dcterms:W3CDTF">2015-05-16T17:06:44Z</dcterms:modified>
  <cp:revision>41</cp:revision>
  <dc:subject/>
  <dc:title>Инновации в системе обеспечения акушерской помощи в МУЗ «Клинический родильный дом №1» г. Омска </dc:title>
</cp:coreProperties>
</file>