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894-6D5A-48E6-B621-89C1F2D7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C31-151F-4429-8347-6A0E32FE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0E1-C2C0-436F-A110-59BE6FF9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AE5-5C43-4C70-9B05-1A8F6C48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9F15-2D47-4F14-95BD-178D6DF2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DB02-AC47-44E9-B797-BA486A97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D35-8F56-4885-AC67-6B8A1D5E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517F-C61B-4B50-BC46-729BE4EF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216-A09E-4138-9D9E-AC28CB41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3AA6-4E8C-4A18-9140-F2B9108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1E89-6785-4D97-AD2E-44B1E18B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9FD-A61F-4DB3-833E-EE33E231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BD4-7C79-43B1-BC16-60F37B4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E95F-8FF8-4A64-BFB1-591BD53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BFB-87E8-40F6-9FDD-3D8D72D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BB1-D611-4678-9090-D8B1EDB0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49732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61640" y="508464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3336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49732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4661640" y="532368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8E42-5302-4E42-89BD-29B7FAA4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A943-EDBB-4325-8277-52852739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490-9363-4F7E-91C4-38DDF645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23D-2987-4682-986C-D25174E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33360" y="1884240"/>
            <a:ext cx="82296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92B-A689-4AEA-9060-7C668C1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866-D2A7-448C-A460-DD2A7567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13320" y="532368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2D5-D7D3-4C38-A292-D77D89E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3320" y="508464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33360" y="532368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A14-39AE-4729-B981-54D0ED0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ee9de">
                  <a:alpha val="70196"/>
                </a:srgbClr>
              </a:gs>
              <a:gs pos="100000">
                <a:srgbClr val="fdfd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636C-B02F-4353-82FA-43F2C5019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e9de"/>
              </a:gs>
              <a:gs pos="100000">
                <a:srgbClr val="fdf8f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E0B-6731-4B94-8CCB-FE3AC764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Лечебная физическая культура с использованием фитбола для развития равновесия у дошкольников с ДЦП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514240" y="419076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ицинская сестра по массаж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 №2 БУЗОО ЦМ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айнуллина Динара Тальгат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1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380880" y="4419720"/>
            <a:ext cx="11955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219320"/>
          <a:ext cx="8655120" cy="3962160"/>
        </p:xfrm>
        <a:graphic>
          <a:graphicData uri="http://schemas.openxmlformats.org/drawingml/2006/table">
            <a:tbl>
              <a:tblPr/>
              <a:tblGrid>
                <a:gridCol w="8655120"/>
              </a:tblGrid>
              <a:tr h="73188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Отличия усовершенствованной методики развития равновесия у дошкольников с ДЦ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спользование фитбола во всех частях заня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 счет дополнения одного упражнения другим,  усложнения самого упражнения путем дополнения его другими элемент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итбол используется и как самостоятельный элемент и в сочетании с дополнительными предмет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44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жа на фитболе на спине, лежа на фитболе на животе, сидя на фитболе, сидя на фитболе на коленях, стоя с опорой на фитб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Эффективность методик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1219320" y="6095880"/>
            <a:ext cx="75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: * - статистически значимые различия (р≤0,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Диаграмма 5" descr=""/>
          <p:cNvPicPr/>
          <p:nvPr/>
        </p:nvPicPr>
        <p:blipFill>
          <a:blip r:embed="rId1"/>
          <a:stretch/>
        </p:blipFill>
        <p:spPr>
          <a:xfrm>
            <a:off x="0" y="1219320"/>
            <a:ext cx="86709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ыво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560" y="1268280"/>
            <a:ext cx="865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Анализ научно-методической литературы показал, что ранняя и систематическая коррекция нарушений равновесия у дошкольников с ДЦП, осуществляемая в едином комплексе лечебно-педагогических мероприятий, способствует предупреждению и преодолению многих осложняющих нарушений и выявлению компенсаторных возможностей детского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ыво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2.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Использование методики развития равновесия для дошкольников с ДЦП, усовершенствованной элементами фитбол-гимнастики, позволяет разнообразить занятия, вносит эмоциональный разряд, способствует активному вовлечению занимающегося в лечебно-педагогический процесс, что значительно повышает эффективность реабилитационных мероприят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ыво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3.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Достоверно высокий прирост показателей (</a:t>
            </a:r>
            <a:r>
              <a:rPr b="0" lang="en-US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≤0,05 ) по пробе Ромберга, тесту «Фламинго» и «шагающего теста» в экспериментальной группе указывает на то, что фитбол-гимнастика более эффективна в отношении развития равновесия и координационных способностей у детей с ДЦП по сравнению со стандартной методи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Вывод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4.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Таким образом, усовершенствованная методика развития равновесия у дошкольников с ДЦП способствовала более качественному улучшению двигательных навыков обследуемых, чем стандартная методика, что позволяет рекомендовать ее в качестве компонента ЛФК в реабилитации детей дошкольного возраста с ДЦ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рактические рекомендаци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just">
              <a:lnSpc>
                <a:spcPct val="100000"/>
              </a:lnSpc>
              <a:buClr>
                <a:srgbClr val="00006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Применяя фитбол в качестве основного средства ЛФК следует использовать его во всех частях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100000"/>
              </a:lnSpc>
              <a:buClr>
                <a:srgbClr val="00006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Разнообразие занятия достигается за счет применения фитбола в сочетании с дополнительными предметами (мягкими игрушками, корзинами, кубиками, пирамидками, кольцами, маленькими мяч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рактические рекомендаци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3. Развивая равновесие у детей с ДЦП посредством фитбола следует учить сохранению правильной осанки при выполнении упражнений с покачиваниями на фитболе; при уменьшении площади опоры; используя различные и.п. на фитболе (лежа на фитболе на спине, на животе, сидя на фитболе, сидя на фитболе на коленях, стоя с опорой на фитбо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400" y="188640"/>
            <a:ext cx="8458200" cy="7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рактические рекомендаци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56760" y="1125000"/>
            <a:ext cx="84582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nstantia"/>
                <a:ea typeface="Times New Roman"/>
              </a:rPr>
              <a:t>4. </a:t>
            </a: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Упражнения на фитболе необходимо применять с учетом тяжести дефекта: при тяжелой степени дефекта следует развивать равновесие параллельно с нормализацией тонуса и моторики ребенка, формированием предметной деятельности, развитием манипулятивной функ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5. Для развития движений рук следует включать в занятие элементы самомассажа кистей и пальцев рук. Самомассаж выполняется в и.п. сидя на фитболах с речевым сопровождением (чтение коротких стихотворений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D571-572C-47D5-8213-CA7DA2A4A9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рактические рекомендаци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6. В занятия по развитию равновесия у детей с ДЦП следует включать упражнения на расслабление и растягивание мышц с применением фитбо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66"/>
                </a:solidFill>
                <a:latin typeface="Constantia"/>
                <a:ea typeface="Times New Roman"/>
              </a:rPr>
              <a:t>7. В упражнениях на развитие равновесия у детей с ДЦП на фитболе особое внимание следует уделять страховке и самостраховке, особенно в и.п. лежа или сидя на мяч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nstantia"/>
              </a:rPr>
              <a:t>ДЦП – органическое поражение мозга, возникающее в периоде внутриутробного развития, в родах или в период новорожденности и сопровождающееся двигательными, речевыми и психическими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Constantia"/>
              </a:rPr>
              <a:t>Спасибо за внимание!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Рисунок 1" descr="\\S01\документы\Школа массажа\ШрейдерТФ\Документация\логотип.jpg"/>
          <p:cNvPicPr/>
          <p:nvPr/>
        </p:nvPicPr>
        <p:blipFill>
          <a:blip r:embed="rId1"/>
          <a:stretch/>
        </p:blipFill>
        <p:spPr>
          <a:xfrm>
            <a:off x="304920" y="4114800"/>
            <a:ext cx="130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8458200" cy="19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обоснование методики развития равновесия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у детей с ДЦП на занятиях лечебной гимнастикой с применением фитбола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5" name="Рисунок 4" descr="shutterstock_99940334.jpg"/>
          <p:cNvPicPr/>
          <p:nvPr/>
        </p:nvPicPr>
        <p:blipFill>
          <a:blip r:embed="rId1"/>
          <a:stretch/>
        </p:blipFill>
        <p:spPr>
          <a:xfrm>
            <a:off x="2133720" y="3352680"/>
            <a:ext cx="4876560" cy="326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6094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Гипотеза исследова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600200"/>
            <a:ext cx="563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дложенная нами методика развития равновесия позволит улучшить координационные способности у дошкольников с ДЦ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alex-monkey-balance-board_75775_500.jpg"/>
          <p:cNvPicPr/>
          <p:nvPr/>
        </p:nvPicPr>
        <p:blipFill>
          <a:blip r:embed="rId1"/>
          <a:stretch/>
        </p:blipFill>
        <p:spPr>
          <a:xfrm>
            <a:off x="6324480" y="2362320"/>
            <a:ext cx="25210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572320" cy="392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1)</a:t>
            </a:r>
            <a:r>
              <a:rPr b="1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Изучить научно-методическую литературу по вопросам развития равновесия у дошкольников с ДЦП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2) Разработать и обосновать методику развития равновесия у дошкольников с ДЦП с применением фитбола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66"/>
                </a:solidFill>
                <a:latin typeface="Constantia"/>
                <a:ea typeface="Times New Roman"/>
              </a:rPr>
              <a:t>3) Экспериментально доказать эффективность методики развития равновесия у дошкольников с ДЦП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685800" y="228600"/>
            <a:ext cx="20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643960" cy="457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1. Анализ научно-методической литературы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2. Медико-биологические методы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    исследования: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    Поза Ромберга, тест «Фламинго», проба  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    Яроцкого,  «Шагающий» тест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3. Педагогическое тестирование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4. Педагогическое исследование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Constantia"/>
                <a:ea typeface="Times New Roman"/>
              </a:rPr>
              <a:t>5. Методы математической статистики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4582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582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роведения исследов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нализ научно-методической литературы (январь-май 2014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дагогическое исследование на базе БУЗОО «Центр восстановительной медицины и реабилитации» (июнь-август 2014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отка результатов (сентябрь 2014 г. – март 2015 г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263080" cy="49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85480" y="214200"/>
            <a:ext cx="84582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Особенности организации зан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598320" y="4581360"/>
            <a:ext cx="352764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Количество повто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609480" y="2971800"/>
            <a:ext cx="352764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Длительность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598320" y="1263600"/>
            <a:ext cx="352764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Продолжительность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5003640" y="1268280"/>
            <a:ext cx="352908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16 </a:t>
            </a: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5003640" y="2986200"/>
            <a:ext cx="352908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5 раз в неделю по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5003640" y="4581360"/>
            <a:ext cx="3529080" cy="1224000"/>
          </a:xfrm>
          <a:prstGeom prst="rect">
            <a:avLst/>
          </a:prstGeom>
          <a:solidFill>
            <a:srgbClr val="fee9de"/>
          </a:solidFill>
          <a:ln w="255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onstantia"/>
                <a:ea typeface="Times New Roman"/>
              </a:rPr>
              <a:t>От 3-4 раз до 15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3"/>
          <p:cNvSpPr/>
          <p:nvPr/>
        </p:nvSpPr>
        <p:spPr>
          <a:xfrm>
            <a:off x="4284720" y="1700280"/>
            <a:ext cx="574560" cy="360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0"/>
          <p:cNvSpPr/>
          <p:nvPr/>
        </p:nvSpPr>
        <p:spPr>
          <a:xfrm>
            <a:off x="4284720" y="3414600"/>
            <a:ext cx="574560" cy="360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право 11"/>
          <p:cNvSpPr/>
          <p:nvPr/>
        </p:nvSpPr>
        <p:spPr>
          <a:xfrm>
            <a:off x="4284720" y="5013360"/>
            <a:ext cx="574560" cy="360360"/>
          </a:xfrm>
          <a:prstGeom prst="righ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59920"/>
            <a:ext cx="78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onstantia"/>
                <a:ea typeface="Times New Roman"/>
              </a:rPr>
              <a:t>Содержание усовершенствованной методики лечебной гимнастики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502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user</cp:lastModifiedBy>
  <dcterms:modified xsi:type="dcterms:W3CDTF">2015-09-28T17:24:42Z</dcterms:modified>
  <cp:revision>37</cp:revision>
  <dc:subject/>
  <dc:title>ThemeGallery PowerTemplate</dc:title>
</cp:coreProperties>
</file>