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A69E-4686-4A34-9C03-11490DBF59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56A3-563C-439D-A424-820083549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29A-164B-4771-8CF8-8069ADFA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7FB-7779-4F2F-887C-268A03B2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352-2D79-4CCA-B332-5875E319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0C09-BD9B-4237-BFCA-99962929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1139-9F35-49F2-8751-0C37FE44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BEBC-7294-480D-942A-8FD4315B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D289-23F8-4128-AD53-C33D5416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F946-533B-4013-A6FE-30DD3C78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740E-5303-4768-A037-95968074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CD29-CDF7-435B-BD67-046F7332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4021-7F3E-45D2-92E3-BB0CD074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98E-EAAB-4021-8B35-6049B6B1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E09E-0C2D-4BF8-A6E7-9E5B1977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8AB4-3CDB-4AC6-B92B-8E1DC213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91AF-FB0D-4A91-B4D2-F7FFB301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D885-BE06-4791-BCE0-5499ED28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D1D0-7D8E-411A-B697-5A91E1CA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28FFF-33BF-4EE9-AFB0-E9D4DAC8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F9789-96E2-4190-BD24-0CB3B7EA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4807-B1A6-48DD-94C4-BF9C7286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434A-20D9-4232-BA2E-5B22DF27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B90B1-A77D-426F-9D46-AD23E369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190-A249-4405-8473-BFE4FDE5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CA7E0-2F55-4F6F-A3A3-97221E20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FC266-FEF7-409B-B58E-F4198C6E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D81DD-828C-494C-9BD4-4FAE3734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BCEF5-7952-473F-A169-4C144D79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1DB91-92C0-452C-8E2F-CAF1D7D5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82EF-D8C5-49FB-9BE5-92A324D4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40062-85BF-4163-8D94-E3D58053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1AA3A-7045-4F60-BB6E-0F8FD7B0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FD3A2-7FD0-4A9C-82E7-3C2E7AB9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A1100-7DE0-4756-8593-9758DB91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D891-C0D4-429E-A797-47A64ED9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F0D0C-6157-49EF-92D6-96384628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7FDAB-44FD-478B-8753-11114017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D7DF5-FCAC-470E-B059-C1A5AF2A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5C2C6-40BE-4D12-980B-1316FB04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72A23-0209-48B9-84D7-02713B89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C536D-4C6C-4854-8F64-DD36E28E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EFC5C-234D-414C-99D2-17A20505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8D6BA-9BCE-4D2F-AB57-1DE416A6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E140-4535-42BA-9273-6F033C3F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CCF0E-B318-4F89-A34D-1E1228FB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30D-5083-421E-BD7F-0B16410C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88FA6-A9A9-43C9-B863-AE7AB2E8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87620-D36F-4DC6-ADAB-1708429E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9737A-AD4A-469D-A8A6-C6939CAE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46046-23B3-4CEC-9AD4-490A0F80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832D5-89AB-42C7-87B2-E6EFB306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B8F2E-2254-4043-AD37-184E80BA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A9BB3-C660-4B13-BF95-96AF7207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D172A-11E8-4259-A40F-19ADB920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DEA7E-E9BE-4500-A2F6-004A1802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029EB-29A7-4EDB-B466-50A0A8CC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500-2E68-4073-B8D1-CFC0F98D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4A23E-782B-40AD-A576-BACB105A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2B1-CF13-4EC1-A216-8F94B2A9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312-654E-4537-B86B-1CBEB470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618-435E-4ABE-8A15-0B844271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922A-2310-4FE1-9A2C-423939C2F170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2486-1E87-4A34-85C1-059B40D59BE9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795C-B9F5-407A-BE5F-0E925A41F7AA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5B80-2A0B-4D4E-A0E6-6B2A6D2F7215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7343-DAB8-46AF-BEF5-2F33CCFFD32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8"/>
          <p:cNvSpPr/>
          <p:nvPr/>
        </p:nvSpPr>
        <p:spPr>
          <a:xfrm>
            <a:off x="642960" y="285840"/>
            <a:ext cx="671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Роль акушер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в профилактике н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планируемой берем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9"/>
          <p:cNvSpPr/>
          <p:nvPr/>
        </p:nvSpPr>
        <p:spPr>
          <a:xfrm>
            <a:off x="2857680" y="2471760"/>
            <a:ext cx="557208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Бюджет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здравоохранения  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«Городской клинический перинатальный цент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Г.Д. Светл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4"/>
          <p:cNvSpPr/>
          <p:nvPr/>
        </p:nvSpPr>
        <p:spPr>
          <a:xfrm>
            <a:off x="214200" y="28584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SimSun"/>
              </a:rPr>
              <a:t>Принципы эффективного консульт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5"/>
          <p:cNvSpPr/>
          <p:nvPr/>
        </p:nvSpPr>
        <p:spPr>
          <a:xfrm>
            <a:off x="1071720" y="714240"/>
            <a:ext cx="7715160" cy="76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Times New Roman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SimSun"/>
              </a:rPr>
              <a:t>Обращайтесь с каждой пациенткой любе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Times New Roman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SimSun"/>
              </a:rPr>
              <a:t>Устанавливайте взаимо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Times New Roman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SimSun"/>
              </a:rPr>
              <a:t>Адаптируйте предлагаемую информацию к уровню восприятия пациен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Times New Roman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SimSun"/>
              </a:rPr>
              <a:t>Избегайте избыточн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Times New Roman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SimSun"/>
              </a:rPr>
              <a:t>Уважайте право пациентки на самостоятельный выб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Times New Roman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SimSun"/>
              </a:rPr>
              <a:t>Помогите пациентке понять и запомнить услыша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SimSun"/>
              </a:rPr>
              <a:t>В 2015 году Центром выпущено Пособие для специалистов кабинетов медико-социальной поддержки беременных женщин, оказавшихся в трудной жизненной 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C:\Documents and Settings\User\Рабочий стол\rannyaj-podrostkovoaya-beremennost1.jpg"/>
          <p:cNvPicPr/>
          <p:nvPr/>
        </p:nvPicPr>
        <p:blipFill>
          <a:blip r:embed="rId2"/>
          <a:stretch/>
        </p:blipFill>
        <p:spPr>
          <a:xfrm>
            <a:off x="5786280" y="3929040"/>
            <a:ext cx="30481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706284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4"/>
          <p:cNvSpPr/>
          <p:nvPr/>
        </p:nvSpPr>
        <p:spPr>
          <a:xfrm>
            <a:off x="1357200" y="21420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ль акушерки по планированию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5"/>
          <p:cNvSpPr/>
          <p:nvPr/>
        </p:nvSpPr>
        <p:spPr>
          <a:xfrm>
            <a:off x="571680" y="1166760"/>
            <a:ext cx="7929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Информирование о современных противозачаточных средст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бор методов контрацеп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ведение бесед по контрацепции с женщинами до и после аборта и родильн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бота с подростками по половому воспит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паганда здорового образ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8"/>
          <p:cNvSpPr/>
          <p:nvPr/>
        </p:nvSpPr>
        <p:spPr>
          <a:xfrm>
            <a:off x="3203640" y="785880"/>
            <a:ext cx="5511600" cy="81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mic Sans MS"/>
              </a:rPr>
              <a:t>С празднико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mic Sans MS"/>
              </a:rPr>
              <a:t>дорогие акушерк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omic Sans MS"/>
              </a:rPr>
              <a:t>Спасибо за внимание</a:t>
            </a:r>
            <a:r>
              <a:rPr b="1" i="1" lang="ru-RU" sz="40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9" descr="C:\Documents and Settings\User\Рабочий стол\pregnancy-photography-beautiful-0078.jpg"/>
          <p:cNvPicPr/>
          <p:nvPr/>
        </p:nvPicPr>
        <p:blipFill>
          <a:blip r:embed="rId2"/>
          <a:stretch/>
        </p:blipFill>
        <p:spPr>
          <a:xfrm>
            <a:off x="142920" y="214200"/>
            <a:ext cx="27003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8" descr=""/>
          <p:cNvPicPr/>
          <p:nvPr/>
        </p:nvPicPr>
        <p:blipFill>
          <a:blip r:embed="rId2"/>
          <a:stretch/>
        </p:blipFill>
        <p:spPr>
          <a:xfrm>
            <a:off x="-396720" y="-293760"/>
            <a:ext cx="10009080" cy="74995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5"/>
          <p:cNvSpPr/>
          <p:nvPr/>
        </p:nvSpPr>
        <p:spPr>
          <a:xfrm>
            <a:off x="2286000" y="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mic Sans MS"/>
              </a:rPr>
              <a:t>Главная цель профессиональной деятельности акушер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6"/>
          <p:cNvSpPr/>
          <p:nvPr/>
        </p:nvSpPr>
        <p:spPr>
          <a:xfrm>
            <a:off x="0" y="2494080"/>
            <a:ext cx="885816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omic Sans MS"/>
              </a:rPr>
              <a:t>Обеспечение безопасного материнства – борьба с материнской и перинатальной заболеваемостью и смерт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omic Sans MS"/>
              </a:rPr>
              <a:t>Профилактика не планируемой берем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omic Sans MS"/>
              </a:rPr>
              <a:t>Подготовка подростков к семей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omic Sans MS"/>
              </a:rPr>
              <a:t>Воспитание ответственного род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8"/>
          <p:cNvSpPr/>
          <p:nvPr/>
        </p:nvSpPr>
        <p:spPr>
          <a:xfrm>
            <a:off x="500040" y="50004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Структура организации медико-социальной помощи женскому населению </a:t>
            </a:r>
            <a:br>
              <a:rPr sz="2400"/>
            </a:b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Ом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помощь ок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в 9 женских консультациях города Омска и 32 районных больницах Ом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5_2009-04-03_09"/>
          <p:cNvPicPr/>
          <p:nvPr/>
        </p:nvPicPr>
        <p:blipFill>
          <a:blip r:embed="rId2"/>
          <a:stretch/>
        </p:blipFill>
        <p:spPr>
          <a:xfrm>
            <a:off x="4143240" y="4257720"/>
            <a:ext cx="50007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57200" y="1609560"/>
          <a:ext cx="7238880" cy="111312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4"/>
          <p:cNvSpPr/>
          <p:nvPr/>
        </p:nvSpPr>
        <p:spPr>
          <a:xfrm>
            <a:off x="1714680" y="428760"/>
            <a:ext cx="6429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татистика обра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 Центр и кабинеты кризисной берем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523880" y="2013120"/>
          <a:ext cx="6096240" cy="3313080"/>
        </p:xfrm>
        <a:graphic>
          <a:graphicData uri="http://schemas.openxmlformats.org/drawingml/2006/table">
            <a:tbl>
              <a:tblPr/>
              <a:tblGrid>
                <a:gridCol w="2976840"/>
                <a:gridCol w="1714320"/>
                <a:gridCol w="140508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014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015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Число обратившихся женщ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8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84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По поводу прерывания берем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3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3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Удалось сохранить берем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1357200" y="21420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руппы риска по нежелательной берем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5"/>
          <p:cNvSpPr/>
          <p:nvPr/>
        </p:nvSpPr>
        <p:spPr>
          <a:xfrm>
            <a:off x="571680" y="1166760"/>
            <a:ext cx="7929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1. Социально-неблагополу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2. С экстрагенитальной патолог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. После 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4. После прерывания берем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5. Девочки подростки, живущие половой жиз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1071720" y="714240"/>
            <a:ext cx="771516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C:\Documents and Settings\User\Рабочий стол\stock-photo-41774120-midwife-discussing-medical-notes-with-pregnant-woman.jpg"/>
          <p:cNvPicPr/>
          <p:nvPr/>
        </p:nvPicPr>
        <p:blipFill>
          <a:blip r:embed="rId2"/>
          <a:stretch/>
        </p:blipFill>
        <p:spPr>
          <a:xfrm>
            <a:off x="4929120" y="3786120"/>
            <a:ext cx="3857760" cy="2500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C:\Documents and Settings\User\Рабочий стол\DSC03299.JPG"/>
          <p:cNvPicPr/>
          <p:nvPr/>
        </p:nvPicPr>
        <p:blipFill>
          <a:blip r:embed="rId3"/>
          <a:stretch/>
        </p:blipFill>
        <p:spPr>
          <a:xfrm>
            <a:off x="357120" y="3857760"/>
            <a:ext cx="3429000" cy="25002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9"/>
          <p:cNvSpPr/>
          <p:nvPr/>
        </p:nvSpPr>
        <p:spPr>
          <a:xfrm>
            <a:off x="500040" y="7858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ль акушерки – качественное проведение подворных обходов и патронаж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5"/>
          <p:cNvSpPr/>
          <p:nvPr/>
        </p:nvSpPr>
        <p:spPr>
          <a:xfrm>
            <a:off x="571680" y="0"/>
            <a:ext cx="7929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Особенности сексуального и репродуктивного поведения молодеж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мпульсивно и эмоцион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е задумываясь о последст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Легко поддаваться влиянию сверс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роявлять любопытство по отношению к сек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Хотят быть взросл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89200" y="114264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Рисунок 14"/>
          <p:cNvGrpSpPr/>
          <p:nvPr/>
        </p:nvGrpSpPr>
        <p:grpSpPr>
          <a:xfrm>
            <a:off x="549360" y="933480"/>
            <a:ext cx="4437000" cy="4430520"/>
            <a:chOff x="549360" y="933480"/>
            <a:chExt cx="4437000" cy="4430520"/>
          </a:xfrm>
        </p:grpSpPr>
        <p:pic>
          <p:nvPicPr>
            <p:cNvPr id="270" name="Рисунок 14" descr=""/>
            <p:cNvPicPr/>
            <p:nvPr/>
          </p:nvPicPr>
          <p:blipFill>
            <a:blip r:embed="rId1"/>
            <a:stretch/>
          </p:blipFill>
          <p:spPr>
            <a:xfrm>
              <a:off x="549360" y="933480"/>
              <a:ext cx="4437000" cy="44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4"/>
          <p:cNvSpPr/>
          <p:nvPr/>
        </p:nvSpPr>
        <p:spPr>
          <a:xfrm>
            <a:off x="357120" y="357120"/>
            <a:ext cx="8572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5"/>
          <p:cNvSpPr/>
          <p:nvPr/>
        </p:nvSpPr>
        <p:spPr>
          <a:xfrm>
            <a:off x="1000080" y="142920"/>
            <a:ext cx="7358040" cy="60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ctr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SimSun"/>
              </a:rPr>
              <a:t>Характер сексуального дебю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SimSun"/>
              </a:rPr>
              <a:t>девушек –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8" descr="C:\Documents and Settings\User\Рабочий стол\SAM_0191.JPG"/>
          <p:cNvPicPr/>
          <p:nvPr/>
        </p:nvPicPr>
        <p:blipFill>
          <a:blip r:embed="rId3"/>
          <a:stretch/>
        </p:blipFill>
        <p:spPr>
          <a:xfrm>
            <a:off x="-7500960" y="-13073040"/>
            <a:ext cx="2611440" cy="1959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C:\Documents and Settings\User\Рабочий стол\SAM_0412.JPG"/>
          <p:cNvPicPr/>
          <p:nvPr/>
        </p:nvPicPr>
        <p:blipFill>
          <a:blip r:embed="rId4"/>
          <a:stretch/>
        </p:blipFill>
        <p:spPr>
          <a:xfrm>
            <a:off x="-17287920" y="-8215200"/>
            <a:ext cx="2611440" cy="1958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C:\Documents and Settings\User\Рабочий стол\SAM_0412.JPG"/>
          <p:cNvPicPr/>
          <p:nvPr/>
        </p:nvPicPr>
        <p:blipFill>
          <a:blip r:embed="rId5"/>
          <a:stretch/>
        </p:blipFill>
        <p:spPr>
          <a:xfrm>
            <a:off x="-17373600" y="-13030200"/>
            <a:ext cx="2611440" cy="195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Object 3"/>
          <p:cNvGraphicFramePr/>
          <p:nvPr/>
        </p:nvGraphicFramePr>
        <p:xfrm>
          <a:off x="500040" y="1500120"/>
          <a:ext cx="8143920" cy="380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0040" y="1500120"/>
                    <a:ext cx="814392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4"/>
          <p:cNvSpPr/>
          <p:nvPr/>
        </p:nvSpPr>
        <p:spPr>
          <a:xfrm>
            <a:off x="571680" y="285840"/>
            <a:ext cx="7858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  <a:ea typeface="SimSun"/>
              </a:rPr>
              <a:t>Репродуктивные установки девушек - подрост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0382400" y="4944960"/>
          <a:ext cx="833400" cy="36540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pic>
        <p:nvPicPr>
          <p:cNvPr id="285" name="Object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780552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6:08:09Z</dcterms:created>
  <dc:creator>Надточий</dc:creator>
  <dc:description/>
  <dc:language>en-US</dc:language>
  <cp:lastModifiedBy>1rd1-glakush</cp:lastModifiedBy>
  <dcterms:modified xsi:type="dcterms:W3CDTF">2016-04-29T09:49:22Z</dcterms:modified>
  <cp:revision>54</cp:revision>
  <dc:subject/>
  <dc:title>Слайд 1</dc:title>
</cp:coreProperties>
</file>