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9425-060B-44B9-ACA2-045D55720A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729D-057A-4FA0-B33F-638D1E6C83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3274-81B6-4AE7-88E3-754C4F1124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AB7A-87CD-46AE-970C-986A112B8A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50BC-57BA-494C-93D8-B7404453CC1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8A04-1267-4951-97CC-532BEBD6E9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5BC8-CE83-42BE-9F75-8EFA14D89BC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B817-F1DE-4876-81B0-0A0CD6D871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63F8-6489-4B05-B539-C8DC24877F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EAAD-7083-4BBF-8166-CA04A66656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416B-7B91-4CEB-8B5E-4E56201E681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CF5B-79A0-4186-8071-124C4490A5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A329-F533-4B41-8624-6BF168A4CB7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F50F-29FF-4289-BBE4-62C0E28B7B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83FE-5789-42B9-A8B5-164C798FC24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A89-0024-46C4-A420-62D85EB2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F64C-FF84-42EA-8F6F-C11802B5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FA07-0843-425C-BF2C-F98D3FE6A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24F1-4884-4153-A780-883113A7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3F98-5F8C-400B-91CB-01B2A123D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AA29-F95E-4904-8F38-04748B88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AB14-3219-4BFE-A309-8664D571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6E62-E1E6-4E3C-9523-E81EE5F8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731E-FE0E-42F5-BE07-AE70DD7D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4AB2-A161-4D72-A2EC-7B578BD9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5686-3DBA-41A1-AE92-88FC866D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CB8-D813-43D5-B7BC-5A68C8D8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2FB2-092F-4E9B-8BCE-113AA0D9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C840-B01B-4E53-AAA3-AFC063DF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C87F-2CAC-4549-81BE-EDA2E904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F275-D86D-4968-98C3-00CC9B59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5223-0BE0-42F0-8162-2640F41A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30DC-7711-419C-B163-F8A6CB08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C3A9-D5FB-47C2-A648-0E393A86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4DA-7132-41D7-AB61-E63DBB3A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517-4AC6-4E38-99E5-2FDB0689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78EB-1730-48A9-9580-0091BE17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EC0-2D84-4C02-B0AD-022059DF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2E5C-0CBC-4143-B4A7-5E1C543E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B4B7-3FB7-4115-88F6-C6FA1A44E6A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FEE2-5718-4392-8BDE-8195683FE0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0" y="1989000"/>
            <a:ext cx="9036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ые аспекты безопасности при проведении инфузионной терап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одержимое 6"/>
          <p:cNvSpPr/>
          <p:nvPr/>
        </p:nvSpPr>
        <p:spPr>
          <a:xfrm>
            <a:off x="179280" y="5300640"/>
            <a:ext cx="8964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Фрис Илья Викторович,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ra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 представительства ООО "Б.Браун Медикал" по г.Омску и Ом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5"/>
          <p:cNvGraphicFramePr/>
          <p:nvPr/>
        </p:nvGraphicFramePr>
        <p:xfrm>
          <a:off x="539640" y="333360"/>
          <a:ext cx="295272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33360"/>
                    <a:ext cx="2952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3"/>
          <p:cNvSpPr/>
          <p:nvPr/>
        </p:nvSpPr>
        <p:spPr>
          <a:xfrm>
            <a:off x="685800" y="6248520"/>
            <a:ext cx="266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3DD8-97E8-4FB1-9587-498712D37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76360" y="620280"/>
            <a:ext cx="46083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Химическая контаминация…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874728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ечень опасных лекарств включ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68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3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именований, наиболее опасные из ни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lnSpc>
                <a:spcPct val="80000"/>
              </a:lnSpc>
              <a:spcBef>
                <a:spcPts val="700"/>
              </a:spcBef>
              <a:buClr>
                <a:srgbClr val="7e9ce8"/>
              </a:buClr>
              <a:buSzPct val="70000"/>
              <a:buFont typeface="Wingdings" charset="2"/>
              <a:buChar char="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тотоксические лекарственны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lnSpc>
                <a:spcPct val="80000"/>
              </a:lnSpc>
              <a:spcBef>
                <a:spcPts val="700"/>
              </a:spcBef>
              <a:buClr>
                <a:srgbClr val="7e9ce8"/>
              </a:buClr>
              <a:buSzPct val="70000"/>
              <a:buFont typeface="Wingdings" charset="2"/>
              <a:buChar char="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нтибио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lnSpc>
                <a:spcPct val="80000"/>
              </a:lnSpc>
              <a:spcBef>
                <a:spcPts val="700"/>
              </a:spcBef>
              <a:buClr>
                <a:srgbClr val="7e9ce8"/>
              </a:buClr>
              <a:buSzPct val="70000"/>
              <a:buFont typeface="Wingdings" charset="2"/>
              <a:buChar char="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инженерные лек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lnSpc>
                <a:spcPct val="80000"/>
              </a:lnSpc>
              <a:spcBef>
                <a:spcPts val="700"/>
              </a:spcBef>
              <a:buClr>
                <a:srgbClr val="7e9ce8"/>
              </a:buClr>
              <a:buSzPct val="70000"/>
              <a:buFont typeface="Wingdings" charset="2"/>
              <a:buChar char="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ноклональные анти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6840" indent="-96840">
              <a:lnSpc>
                <a:spcPct val="80000"/>
              </a:lnSpc>
              <a:spcBef>
                <a:spcPts val="700"/>
              </a:spcBef>
              <a:buClr>
                <a:srgbClr val="7e9ce8"/>
              </a:buClr>
              <a:buSzPct val="70000"/>
              <a:buFont typeface="Wingdings" charset="2"/>
              <a:buChar char="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рмональные лекарственны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320364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Номер слайда 3"/>
          <p:cNvSpPr/>
          <p:nvPr/>
        </p:nvSpPr>
        <p:spPr>
          <a:xfrm>
            <a:off x="685800" y="6248520"/>
            <a:ext cx="266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F05E-19C2-4FC9-9522-2D764C578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0872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Последствия для ЛПУ…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67672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47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7040" indent="-16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величение нагрузки на медперсона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7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7040" indent="-16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величение периода временной нетрудоспособности персона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7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7040" indent="-16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сокие затраты на лечен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7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7040" indent="-1641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трата высококвалифицированного персона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7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8" descr="discouraged-guy-on-ottoman"/>
          <p:cNvPicPr/>
          <p:nvPr/>
        </p:nvPicPr>
        <p:blipFill>
          <a:blip r:embed="rId1"/>
          <a:stretch/>
        </p:blipFill>
        <p:spPr>
          <a:xfrm>
            <a:off x="6375240" y="2924280"/>
            <a:ext cx="2768760" cy="2103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3fb60847ed0c74f5ac8e3b15e13bff80_big"/>
          <p:cNvPicPr/>
          <p:nvPr/>
        </p:nvPicPr>
        <p:blipFill>
          <a:blip r:embed="rId2"/>
          <a:stretch/>
        </p:blipFill>
        <p:spPr>
          <a:xfrm>
            <a:off x="6588000" y="1125360"/>
            <a:ext cx="219096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Содержимое 4" descr="safety1.jpg"/>
          <p:cNvPicPr/>
          <p:nvPr/>
        </p:nvPicPr>
        <p:blipFill>
          <a:blip r:embed="rId1"/>
          <a:stretch/>
        </p:blipFill>
        <p:spPr>
          <a:xfrm>
            <a:off x="358920" y="25560"/>
            <a:ext cx="8785080" cy="6832440"/>
          </a:xfrm>
          <a:prstGeom prst="rect">
            <a:avLst/>
          </a:prstGeom>
          <a:ln w="0">
            <a:noFill/>
          </a:ln>
        </p:spPr>
      </p:pic>
      <p:sp>
        <p:nvSpPr>
          <p:cNvPr id="233" name="Номер слайда 3"/>
          <p:cNvSpPr/>
          <p:nvPr/>
        </p:nvSpPr>
        <p:spPr>
          <a:xfrm>
            <a:off x="8172360" y="6359400"/>
            <a:ext cx="6811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231F-1515-4D8E-8432-A703FD6309B8}" type="slidenum">
              <a:rPr b="0" lang="de-DE" sz="1200" spc="-1" strike="noStrike">
                <a:solidFill>
                  <a:srgbClr val="53636c"/>
                </a:solidFill>
                <a:latin typeface="RotisSansSerif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20908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Основные осложнения инфузионной терапии для медицинской сестр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0" y="1341360"/>
            <a:ext cx="824400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 Повреждение кожных покров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 последующим инфицир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пор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укол игл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Химическая контаминация Л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вдыхание аэроз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 аппликация на кожные покров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овреждение кожных покровов 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  с последующим инфицированием: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                    порез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179280" y="4005360"/>
          <a:ext cx="280836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005360"/>
                    <a:ext cx="280836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Picture 11" descr="blood(3)"/>
          <p:cNvPicPr/>
          <p:nvPr/>
        </p:nvPicPr>
        <p:blipFill>
          <a:blip r:embed="rId3"/>
          <a:stretch/>
        </p:blipFill>
        <p:spPr>
          <a:xfrm>
            <a:off x="4067280" y="4005360"/>
            <a:ext cx="2622600" cy="1966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" descr="hepatitis-b"/>
          <p:cNvPicPr/>
          <p:nvPr/>
        </p:nvPicPr>
        <p:blipFill>
          <a:blip r:embed="rId4"/>
          <a:stretch/>
        </p:blipFill>
        <p:spPr>
          <a:xfrm>
            <a:off x="6804000" y="1773360"/>
            <a:ext cx="160488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Object 21"/>
          <p:cNvGraphicFramePr/>
          <p:nvPr/>
        </p:nvGraphicFramePr>
        <p:xfrm>
          <a:off x="4643280" y="1557360"/>
          <a:ext cx="1724040" cy="1724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1557360"/>
                    <a:ext cx="172404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23"/>
          <p:cNvGraphicFramePr/>
          <p:nvPr/>
        </p:nvGraphicFramePr>
        <p:xfrm>
          <a:off x="7400880" y="4076640"/>
          <a:ext cx="1743120" cy="180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0" name="Object 2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00880" y="4076640"/>
                    <a:ext cx="174312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Picture 18" descr=""/>
          <p:cNvPicPr/>
          <p:nvPr/>
        </p:nvPicPr>
        <p:blipFill>
          <a:blip r:embed="rId9"/>
          <a:stretch/>
        </p:blipFill>
        <p:spPr>
          <a:xfrm>
            <a:off x="539640" y="1125360"/>
            <a:ext cx="1368360" cy="230364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6"/>
          <p:cNvSpPr/>
          <p:nvPr/>
        </p:nvSpPr>
        <p:spPr>
          <a:xfrm>
            <a:off x="900000" y="3429000"/>
            <a:ext cx="72072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7"/>
          <p:cNvSpPr/>
          <p:nvPr/>
        </p:nvSpPr>
        <p:spPr>
          <a:xfrm rot="16200000">
            <a:off x="3166200" y="4689720"/>
            <a:ext cx="649080" cy="57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8"/>
          <p:cNvSpPr/>
          <p:nvPr/>
        </p:nvSpPr>
        <p:spPr>
          <a:xfrm rot="399000">
            <a:off x="5076360" y="3357720"/>
            <a:ext cx="649440" cy="57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9"/>
          <p:cNvSpPr/>
          <p:nvPr/>
        </p:nvSpPr>
        <p:spPr>
          <a:xfrm rot="1620000">
            <a:off x="6672240" y="2943360"/>
            <a:ext cx="649440" cy="1058760"/>
          </a:xfrm>
          <a:prstGeom prst="downArrow">
            <a:avLst>
              <a:gd name="adj1" fmla="val 50000"/>
              <a:gd name="adj2" fmla="val 407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0"/>
          <p:cNvSpPr/>
          <p:nvPr/>
        </p:nvSpPr>
        <p:spPr>
          <a:xfrm rot="5400000">
            <a:off x="6694560" y="4690800"/>
            <a:ext cx="649080" cy="573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1"/>
          <p:cNvSpPr/>
          <p:nvPr/>
        </p:nvSpPr>
        <p:spPr>
          <a:xfrm>
            <a:off x="5148360" y="2276640"/>
            <a:ext cx="720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2"/>
          <p:cNvSpPr/>
          <p:nvPr/>
        </p:nvSpPr>
        <p:spPr>
          <a:xfrm>
            <a:off x="7308720" y="2276640"/>
            <a:ext cx="720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p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3"/>
          <p:cNvSpPr/>
          <p:nvPr/>
        </p:nvSpPr>
        <p:spPr>
          <a:xfrm>
            <a:off x="7812000" y="4797360"/>
            <a:ext cx="72072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p.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овреждение кожных покровов 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  с последующим инфицированием: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                    укол игло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Picture 11" descr="42982"/>
          <p:cNvPicPr/>
          <p:nvPr/>
        </p:nvPicPr>
        <p:blipFill>
          <a:blip r:embed="rId1"/>
          <a:stretch/>
        </p:blipFill>
        <p:spPr>
          <a:xfrm>
            <a:off x="395280" y="2060640"/>
            <a:ext cx="2525760" cy="1893960"/>
          </a:xfrm>
          <a:prstGeom prst="rect">
            <a:avLst/>
          </a:prstGeom>
          <a:ln w="0">
            <a:noFill/>
          </a:ln>
        </p:spPr>
      </p:pic>
      <p:sp>
        <p:nvSpPr>
          <p:cNvPr id="182" name="Номер слайда 3"/>
          <p:cNvSpPr/>
          <p:nvPr/>
        </p:nvSpPr>
        <p:spPr>
          <a:xfrm>
            <a:off x="685800" y="6248520"/>
            <a:ext cx="266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BBDB-41D8-4855-96F5-523F703A2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132000" y="1844640"/>
            <a:ext cx="5796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сновным источником инфицирования в России являются </a:t>
            </a: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иглы, применяемые для подключения к инфузионным систем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395280" y="4292640"/>
            <a:ext cx="54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ее часто риску укола иглой подверга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медицинские сестры и лаборанты (75-80% случае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j0216059"/>
          <p:cNvPicPr/>
          <p:nvPr/>
        </p:nvPicPr>
        <p:blipFill>
          <a:blip r:embed="rId2"/>
          <a:stretch/>
        </p:blipFill>
        <p:spPr>
          <a:xfrm>
            <a:off x="6084720" y="4149720"/>
            <a:ext cx="288000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овреждение кожных покровов 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с последующим инфицированием: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                    укол игло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685800" y="6248520"/>
            <a:ext cx="266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89CD-ED5F-453E-8124-0F2250C0C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http://pics.livejournal.com/aenekrita/pic/000055az/s320x240"/>
          <p:cNvPicPr/>
          <p:nvPr/>
        </p:nvPicPr>
        <p:blipFill>
          <a:blip r:embed="rId1"/>
          <a:stretch/>
        </p:blipFill>
        <p:spPr>
          <a:xfrm>
            <a:off x="611280" y="1628640"/>
            <a:ext cx="2428920" cy="3237120"/>
          </a:xfrm>
          <a:prstGeom prst="rect">
            <a:avLst/>
          </a:prstGeom>
          <a:ln w="66600">
            <a:solidFill>
              <a:srgbClr val="000000"/>
            </a:solidFill>
            <a:miter/>
          </a:ln>
        </p:spPr>
      </p:pic>
      <p:pic>
        <p:nvPicPr>
          <p:cNvPr id="189" name="Picture 3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551040" cy="3403440"/>
          </a:xfrm>
          <a:prstGeom prst="rect">
            <a:avLst/>
          </a:prstGeom>
          <a:ln w="0">
            <a:noFill/>
          </a:ln>
        </p:spPr>
      </p:pic>
      <p:sp>
        <p:nvSpPr>
          <p:cNvPr id="190" name="Стрелка вправо 15"/>
          <p:cNvSpPr/>
          <p:nvPr/>
        </p:nvSpPr>
        <p:spPr>
          <a:xfrm>
            <a:off x="3419640" y="2565360"/>
            <a:ext cx="1225440" cy="1279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808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7"/>
          <p:cNvSpPr/>
          <p:nvPr/>
        </p:nvSpPr>
        <p:spPr>
          <a:xfrm>
            <a:off x="179280" y="5229360"/>
            <a:ext cx="8101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>
            <a:off x="468360" y="5373720"/>
            <a:ext cx="7848720" cy="1224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РАТНОЕ УМЕНЬШЕНИЕ ЧИС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ТЕНЦИАЛЬНО ОПАСНЫХ МАНИПУЛЯ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 Российской Федераци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5 млн. человек (3,5% населения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нфицированы гепатитом 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лн. человек (3% населения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нфицированы гепатитом 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млн. человек (0,2% населения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ВИЧ-инфицирован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Ежедневно в России выявляется по 100 новых зараженных ВИ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66"/>
                </a:solidFill>
                <a:latin typeface="Arial"/>
              </a:rPr>
              <a:t>Эпидемиология гемотрансмиссивных инфекци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666720" y="5781600"/>
            <a:ext cx="6438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395280" y="4797360"/>
            <a:ext cx="8064360" cy="1511280"/>
          </a:xfrm>
          <a:prstGeom prst="rect">
            <a:avLst/>
          </a:pr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ОЙ НЕОБСЛЕДОВАННЫЙ ПАЦИЕНТ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ЛОВНО ОПАС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3"/>
          <p:cNvSpPr/>
          <p:nvPr/>
        </p:nvSpPr>
        <p:spPr>
          <a:xfrm>
            <a:off x="685800" y="6248520"/>
            <a:ext cx="266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0C65-E967-453B-8F6A-1F0FA72DA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250920" y="260280"/>
            <a:ext cx="76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Химическая контамин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вдыхание аэроз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8"/>
          <p:cNvGraphicFramePr/>
          <p:nvPr/>
        </p:nvGraphicFramePr>
        <p:xfrm>
          <a:off x="0" y="1557360"/>
          <a:ext cx="4537080" cy="34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453708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AutoShape 9"/>
          <p:cNvSpPr/>
          <p:nvPr/>
        </p:nvSpPr>
        <p:spPr>
          <a:xfrm rot="5400000">
            <a:off x="4138200" y="4941720"/>
            <a:ext cx="1296720" cy="1871640"/>
          </a:xfrm>
          <a:custGeom>
            <a:avLst/>
            <a:gdLst>
              <a:gd name="textAreaLeft" fmla="*/ 0 w 1296720"/>
              <a:gd name="textAreaRight" fmla="*/ 1111680 w 1296720"/>
              <a:gd name="textAreaTop" fmla="*/ 124776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1" descr="1173593108_water_09"/>
          <p:cNvPicPr/>
          <p:nvPr/>
        </p:nvPicPr>
        <p:blipFill>
          <a:blip r:embed="rId3"/>
          <a:stretch/>
        </p:blipFill>
        <p:spPr>
          <a:xfrm>
            <a:off x="6012000" y="5013360"/>
            <a:ext cx="2361960" cy="167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Object 13"/>
          <p:cNvGraphicFramePr/>
          <p:nvPr/>
        </p:nvGraphicFramePr>
        <p:xfrm>
          <a:off x="7236000" y="2060640"/>
          <a:ext cx="1554120" cy="18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4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6000" y="2060640"/>
                    <a:ext cx="155412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AutoShape 15"/>
          <p:cNvSpPr/>
          <p:nvPr/>
        </p:nvSpPr>
        <p:spPr>
          <a:xfrm>
            <a:off x="6372360" y="1773360"/>
            <a:ext cx="863640" cy="3024000"/>
          </a:xfrm>
          <a:custGeom>
            <a:avLst/>
            <a:gdLst>
              <a:gd name="textAreaLeft" fmla="*/ 496800 w 863640"/>
              <a:gd name="textAreaRight" fmla="*/ 801360 w 863640"/>
              <a:gd name="textAreaTop" fmla="*/ 687600 h 3024000"/>
              <a:gd name="textAreaBottom" fmla="*/ 1014120 h 30240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460" y="0"/>
                </a:lnTo>
                <a:lnTo>
                  <a:pt x="13460" y="4913"/>
                </a:lnTo>
                <a:lnTo>
                  <a:pt x="12427" y="4913"/>
                </a:lnTo>
                <a:cubicBezTo>
                  <a:pt x="5564" y="4913"/>
                  <a:pt x="0" y="8157"/>
                  <a:pt x="0" y="12158"/>
                </a:cubicBezTo>
                <a:lnTo>
                  <a:pt x="0" y="21600"/>
                </a:lnTo>
                <a:lnTo>
                  <a:pt x="2384" y="21600"/>
                </a:lnTo>
                <a:lnTo>
                  <a:pt x="2384" y="12158"/>
                </a:lnTo>
                <a:cubicBezTo>
                  <a:pt x="2384" y="9445"/>
                  <a:pt x="6880" y="7245"/>
                  <a:pt x="12427" y="7245"/>
                </a:cubicBezTo>
                <a:lnTo>
                  <a:pt x="13460" y="7245"/>
                </a:lnTo>
                <a:lnTo>
                  <a:pt x="13460" y="12158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3"/>
          <p:cNvSpPr/>
          <p:nvPr/>
        </p:nvSpPr>
        <p:spPr>
          <a:xfrm>
            <a:off x="685800" y="6248520"/>
            <a:ext cx="266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199F-9BE2-46C1-9699-35EA1D915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250920" y="260280"/>
            <a:ext cx="856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Химическая контамин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попадание лекарственных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ств  на кожные покров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9"/>
          <p:cNvGraphicFramePr/>
          <p:nvPr/>
        </p:nvGraphicFramePr>
        <p:xfrm>
          <a:off x="179280" y="1773360"/>
          <a:ext cx="4537080" cy="34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453708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AutoShape 10"/>
          <p:cNvSpPr/>
          <p:nvPr/>
        </p:nvSpPr>
        <p:spPr>
          <a:xfrm rot="5400000">
            <a:off x="6048000" y="2241360"/>
            <a:ext cx="1297080" cy="1513080"/>
          </a:xfrm>
          <a:custGeom>
            <a:avLst/>
            <a:gdLst>
              <a:gd name="textAreaLeft" fmla="*/ 746280 w 1297080"/>
              <a:gd name="textAreaRight" fmla="*/ 1094760 w 1297080"/>
              <a:gd name="textAreaTop" fmla="*/ 203760 h 1513080"/>
              <a:gd name="textAreaBottom" fmla="*/ 6476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5867280" y="3789360"/>
            <a:ext cx="25243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3"/>
          <p:cNvSpPr/>
          <p:nvPr/>
        </p:nvSpPr>
        <p:spPr>
          <a:xfrm>
            <a:off x="685800" y="6248520"/>
            <a:ext cx="266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A1B1-2F9B-47AC-B3C5-3B827133B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4072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оследствия </a:t>
            </a:r>
            <a:br>
              <a:rPr sz="3200"/>
            </a:b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химической контаминации для медицинской сестр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250200" y="1700280"/>
            <a:ext cx="35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1. Острая интокс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251280" y="3645000"/>
            <a:ext cx="43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2. Хроническая интокс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755640" y="2133720"/>
            <a:ext cx="3600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buClr>
                <a:srgbClr val="33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66"/>
                </a:solidFill>
                <a:latin typeface="Arial"/>
              </a:rPr>
              <a:t>Диарея</a:t>
            </a:r>
            <a:br>
              <a:rPr sz="2000"/>
            </a:br>
            <a:r>
              <a:rPr b="0" lang="ru-RU" sz="2000" spc="-1" strike="noStrike">
                <a:solidFill>
                  <a:srgbClr val="330066"/>
                </a:solidFill>
                <a:latin typeface="Arial"/>
              </a:rPr>
              <a:t>Мутагенный эффект</a:t>
            </a:r>
            <a:br>
              <a:rPr sz="2000"/>
            </a:br>
            <a:r>
              <a:rPr b="0" lang="ru-RU" sz="2000" spc="-1" strike="noStrike">
                <a:solidFill>
                  <a:srgbClr val="330066"/>
                </a:solidFill>
                <a:latin typeface="Arial"/>
              </a:rPr>
              <a:t>Гиперемия кожи</a:t>
            </a:r>
            <a:br>
              <a:rPr sz="2000"/>
            </a:br>
            <a:r>
              <a:rPr b="0" lang="ru-RU" sz="2000" spc="-1" strike="noStrike">
                <a:solidFill>
                  <a:srgbClr val="330066"/>
                </a:solidFill>
                <a:latin typeface="Arial"/>
              </a:rPr>
              <a:t>Тошнота, рв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826920" y="4149720"/>
            <a:ext cx="5473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buClr>
                <a:srgbClr val="330066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0066"/>
                </a:solidFill>
                <a:latin typeface="Arial"/>
              </a:rPr>
              <a:t>Дерматит</a:t>
            </a:r>
            <a:br>
              <a:rPr sz="2000"/>
            </a:br>
            <a:r>
              <a:rPr b="0" lang="ru-RU" sz="2000" spc="-1" strike="noStrike">
                <a:solidFill>
                  <a:srgbClr val="330066"/>
                </a:solidFill>
                <a:latin typeface="Arial"/>
              </a:rPr>
              <a:t>Аллегрические реакции</a:t>
            </a:r>
            <a:br>
              <a:rPr sz="2000"/>
            </a:br>
            <a:r>
              <a:rPr b="0" lang="ru-RU" sz="2000" spc="-1" strike="noStrike">
                <a:solidFill>
                  <a:srgbClr val="330066"/>
                </a:solidFill>
                <a:latin typeface="Arial"/>
              </a:rPr>
              <a:t>Депресии, фобии</a:t>
            </a:r>
            <a:br>
              <a:rPr sz="2000"/>
            </a:br>
            <a:r>
              <a:rPr b="0" lang="ru-RU" sz="2000" spc="-1" strike="noStrike">
                <a:solidFill>
                  <a:srgbClr val="330066"/>
                </a:solidFill>
                <a:latin typeface="Arial"/>
              </a:rPr>
              <a:t>Бесплодие</a:t>
            </a:r>
            <a:br>
              <a:rPr sz="2000"/>
            </a:br>
            <a:r>
              <a:rPr b="0" lang="ru-RU" sz="2000" spc="-1" strike="noStrike">
                <a:solidFill>
                  <a:srgbClr val="330066"/>
                </a:solidFill>
                <a:latin typeface="Arial"/>
              </a:rPr>
              <a:t>Невынашивание беременности</a:t>
            </a:r>
            <a:br>
              <a:rPr sz="2000"/>
            </a:br>
            <a:r>
              <a:rPr b="0" lang="ru-RU" sz="2000" spc="-1" strike="noStrike">
                <a:solidFill>
                  <a:srgbClr val="330066"/>
                </a:solidFill>
                <a:latin typeface="Arial"/>
              </a:rPr>
              <a:t>Генетические мутации</a:t>
            </a:r>
            <a:br>
              <a:rPr sz="2000"/>
            </a:br>
            <a:r>
              <a:rPr b="0" lang="ru-RU" sz="2000" spc="-1" strike="noStrike">
                <a:solidFill>
                  <a:srgbClr val="330066"/>
                </a:solidFill>
                <a:latin typeface="Arial"/>
              </a:rPr>
              <a:t>Онкологические забол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5" descr="Maagzuur"/>
          <p:cNvPicPr/>
          <p:nvPr/>
        </p:nvPicPr>
        <p:blipFill>
          <a:blip r:embed="rId1"/>
          <a:stretch/>
        </p:blipFill>
        <p:spPr>
          <a:xfrm>
            <a:off x="5796000" y="1125360"/>
            <a:ext cx="1344600" cy="1729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7" descr="per_dermat"/>
          <p:cNvPicPr/>
          <p:nvPr/>
        </p:nvPicPr>
        <p:blipFill>
          <a:blip r:embed="rId2"/>
          <a:stretch/>
        </p:blipFill>
        <p:spPr>
          <a:xfrm>
            <a:off x="7308720" y="1341360"/>
            <a:ext cx="1581120" cy="2106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9" descr="50456037_1256765728_Nastroenie_4"/>
          <p:cNvPicPr/>
          <p:nvPr/>
        </p:nvPicPr>
        <p:blipFill>
          <a:blip r:embed="rId3"/>
          <a:stretch/>
        </p:blipFill>
        <p:spPr>
          <a:xfrm>
            <a:off x="5364000" y="2997360"/>
            <a:ext cx="1882800" cy="1414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1" descr="dream%20to%20be%20pregnant"/>
          <p:cNvPicPr/>
          <p:nvPr/>
        </p:nvPicPr>
        <p:blipFill>
          <a:blip r:embed="rId4"/>
          <a:stretch/>
        </p:blipFill>
        <p:spPr>
          <a:xfrm>
            <a:off x="7308720" y="3789360"/>
            <a:ext cx="1552680" cy="2387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3" descr="212703"/>
          <p:cNvPicPr/>
          <p:nvPr/>
        </p:nvPicPr>
        <p:blipFill>
          <a:blip r:embed="rId5"/>
          <a:stretch/>
        </p:blipFill>
        <p:spPr>
          <a:xfrm>
            <a:off x="5580000" y="4581360"/>
            <a:ext cx="16560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5:10:46Z</dcterms:created>
  <dc:creator>Mayorov</dc:creator>
  <dc:description/>
  <dc:language>en-US</dc:language>
  <cp:lastModifiedBy>ОПСА</cp:lastModifiedBy>
  <dcterms:modified xsi:type="dcterms:W3CDTF">2011-11-03T04:33:47Z</dcterms:modified>
  <cp:revision>51</cp:revision>
  <dc:subject/>
  <dc:title>Слайд 1</dc:title>
</cp:coreProperties>
</file>