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8.png" ContentType="image/png"/>
  <Override PartName="/ppt/media/image7.jpeg" ContentType="image/jpe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2.png" ContentType="image/png"/>
  <Override PartName="/ppt/media/image32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7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4C2D-947B-48C5-B7E6-33F494287B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D0E7-ABE3-497B-8D20-C81B14FA40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634-15D0-489B-A0A7-6D215D14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6572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750-5319-4AD3-A239-0535503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4564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01D7-0411-4BFD-A56E-385DAB18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1104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348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1104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9348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483-0966-4C10-AAB6-F70330B5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596-7CA1-449C-8C5A-9F8A2E74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803-95CE-4D51-89B9-E39265D0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77EA7-7123-4F10-8E00-5AEC50E7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0961-C187-4055-A4DD-DAD3905E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A3BA-D5F4-44E1-8F64-A5BF6E55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532A-68A4-4841-BFE8-8D64B416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2745-5319-49A0-A32D-4B4B8559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60D-A6C4-40AA-BD05-3361677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4564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2CBB-6CF9-46FA-8794-763E9C0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1848-7DAD-402D-B6FD-07D7002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6572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CA9B-8273-4ECF-A7EC-20BB2EC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4564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BAA2-ADB0-4B00-BF71-D97B0EC74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104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93480" y="9903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1104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93480" y="36572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5409-3894-4256-84E4-41970E1D9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950-4D9B-434F-A9B8-1D70D0F8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BC78-B6FC-443D-A0C8-DFE8B0FE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93F-9874-4582-B5F6-34D87B49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FCC-42C5-4866-99E4-FAA39AF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0162-0B4C-4AAA-9CA5-C126DF68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45640" y="36572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F8E7-66FA-4471-B1CF-ACB4BE3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6572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FC3-AB9B-44DB-A977-1D512F9C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81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81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51F5-33B6-4ABA-BD13-FDD8CE0890FF}" type="slidenum">
              <a:rPr b="1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336699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1CDA-33E2-4D9E-B948-125D607E1F72}" type="slidenum">
              <a:rPr b="0" lang="en-US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«Новое решение старой проблемы»</a:t>
            </a:r>
            <a:endParaRPr b="1" lang="en-US" sz="4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8000" y="5300640"/>
            <a:ext cx="5256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Шлегель И.Б.,</a:t>
            </a:r>
            <a:endParaRPr b="1" lang="en-US" sz="2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старшая медицинская сестра </a:t>
            </a:r>
            <a:endParaRPr b="1" lang="en-US" sz="2200" spc="-1" strike="noStrike">
              <a:solidFill>
                <a:srgbClr val="336699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тделения гастроэнтерологии БУЗОО «ОКБ» </a:t>
            </a:r>
            <a:endParaRPr b="1" lang="en-US" sz="2200" spc="-1" strike="noStrike">
              <a:solidFill>
                <a:srgbClr val="336699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Скругленный прямоугольник 2"/>
          <p:cNvGrpSpPr/>
          <p:nvPr/>
        </p:nvGrpSpPr>
        <p:grpSpPr>
          <a:xfrm>
            <a:off x="79200" y="371520"/>
            <a:ext cx="6351840" cy="1066680"/>
            <a:chOff x="79200" y="371520"/>
            <a:chExt cx="6351840" cy="1066680"/>
          </a:xfrm>
        </p:grpSpPr>
        <p:pic>
          <p:nvPicPr>
            <p:cNvPr id="178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79200" y="371520"/>
              <a:ext cx="63518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57320" y="453960"/>
              <a:ext cx="620064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6067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1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81" name="Выгнутая вправо стрелка 9"/>
          <p:cNvGrpSpPr/>
          <p:nvPr/>
        </p:nvGrpSpPr>
        <p:grpSpPr>
          <a:xfrm>
            <a:off x="6529320" y="700920"/>
            <a:ext cx="1371240" cy="1527480"/>
            <a:chOff x="6529320" y="700920"/>
            <a:chExt cx="1371240" cy="1527480"/>
          </a:xfrm>
        </p:grpSpPr>
        <p:pic>
          <p:nvPicPr>
            <p:cNvPr id="182" name="Выгнутая вправо стрелка 9" descr=""/>
            <p:cNvPicPr/>
            <p:nvPr/>
          </p:nvPicPr>
          <p:blipFill>
            <a:blip r:embed="rId3"/>
            <a:stretch/>
          </p:blipFill>
          <p:spPr>
            <a:xfrm>
              <a:off x="6529320" y="895320"/>
              <a:ext cx="1219320" cy="129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20230800">
              <a:off x="6819840" y="817560"/>
              <a:ext cx="86364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Скругленный прямоугольник 10"/>
          <p:cNvGrpSpPr/>
          <p:nvPr/>
        </p:nvGrpSpPr>
        <p:grpSpPr>
          <a:xfrm>
            <a:off x="847800" y="2352600"/>
            <a:ext cx="6454800" cy="1055880"/>
            <a:chOff x="847800" y="2352600"/>
            <a:chExt cx="6454800" cy="1055880"/>
          </a:xfrm>
        </p:grpSpPr>
        <p:pic>
          <p:nvPicPr>
            <p:cNvPr id="185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847800" y="2352600"/>
              <a:ext cx="645480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942840" y="2508120"/>
              <a:ext cx="621360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кета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Выгнутая вправо стрелка 11"/>
          <p:cNvGrpSpPr/>
          <p:nvPr/>
        </p:nvGrpSpPr>
        <p:grpSpPr>
          <a:xfrm>
            <a:off x="7461360" y="2816280"/>
            <a:ext cx="981000" cy="1676520"/>
            <a:chOff x="7461360" y="2816280"/>
            <a:chExt cx="981000" cy="1676520"/>
          </a:xfrm>
        </p:grpSpPr>
        <p:pic>
          <p:nvPicPr>
            <p:cNvPr id="188" name="Выгнутая вправо стрелка 11" descr=""/>
            <p:cNvPicPr/>
            <p:nvPr/>
          </p:nvPicPr>
          <p:blipFill>
            <a:blip r:embed="rId5"/>
            <a:stretch/>
          </p:blipFill>
          <p:spPr>
            <a:xfrm>
              <a:off x="7461360" y="2816280"/>
              <a:ext cx="981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524720" y="2852640"/>
              <a:ext cx="86364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Скругленный прямоугольник 12"/>
          <p:cNvGrpSpPr/>
          <p:nvPr/>
        </p:nvGrpSpPr>
        <p:grpSpPr>
          <a:xfrm>
            <a:off x="1530360" y="4468680"/>
            <a:ext cx="6454800" cy="1189080"/>
            <a:chOff x="1530360" y="4468680"/>
            <a:chExt cx="6454800" cy="1189080"/>
          </a:xfrm>
        </p:grpSpPr>
        <p:pic>
          <p:nvPicPr>
            <p:cNvPr id="191" name="Скругленный 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1530360" y="4468680"/>
              <a:ext cx="64548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633680" y="4630680"/>
              <a:ext cx="620064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ст наблюдени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Скругленный прямоугольник 2"/>
          <p:cNvGrpSpPr/>
          <p:nvPr/>
        </p:nvGrpSpPr>
        <p:grpSpPr>
          <a:xfrm>
            <a:off x="79200" y="85680"/>
            <a:ext cx="8912520" cy="1133640"/>
            <a:chOff x="79200" y="85680"/>
            <a:chExt cx="8912520" cy="1133640"/>
          </a:xfrm>
        </p:grpSpPr>
        <p:pic>
          <p:nvPicPr>
            <p:cNvPr id="194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79200" y="85680"/>
              <a:ext cx="891252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160200" y="169920"/>
              <a:ext cx="875196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Прямоугольник 1"/>
          <p:cNvSpPr/>
          <p:nvPr/>
        </p:nvSpPr>
        <p:spPr>
          <a:xfrm>
            <a:off x="34920" y="44280"/>
            <a:ext cx="8785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«Умеете ли вы смеяться громко           и от души?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71280" y="1484280"/>
            <a:ext cx="9037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«Хороший душевный смех может помочь при задержке стула двумя путями.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н массирует кишечник,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что благоприятствуе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вариванию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и помогает избавитьс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т стресс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406728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Скругленный прямоугольник 2"/>
          <p:cNvGrpSpPr/>
          <p:nvPr/>
        </p:nvGrpSpPr>
        <p:grpSpPr>
          <a:xfrm>
            <a:off x="79200" y="85680"/>
            <a:ext cx="8912520" cy="2219400"/>
            <a:chOff x="79200" y="85680"/>
            <a:chExt cx="8912520" cy="2219400"/>
          </a:xfrm>
        </p:grpSpPr>
        <p:pic>
          <p:nvPicPr>
            <p:cNvPr id="200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79200" y="85680"/>
              <a:ext cx="891252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212760" y="222120"/>
              <a:ext cx="8645400" cy="19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Прямоугольник 1"/>
          <p:cNvSpPr/>
          <p:nvPr/>
        </p:nvSpPr>
        <p:spPr>
          <a:xfrm>
            <a:off x="216000" y="193680"/>
            <a:ext cx="853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дицинская сестра при проведении исследования должна учитывать индивидуальный подход и все личностные особенности паци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65040" y="2322360"/>
            <a:ext cx="4084560" cy="36338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tretch/>
        </p:blipFill>
        <p:spPr>
          <a:xfrm>
            <a:off x="4614840" y="2322360"/>
            <a:ext cx="4084560" cy="3633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Скругленный прямоугольник 2"/>
          <p:cNvGrpSpPr/>
          <p:nvPr/>
        </p:nvGrpSpPr>
        <p:grpSpPr>
          <a:xfrm>
            <a:off x="6480" y="371520"/>
            <a:ext cx="4809960" cy="5816520"/>
            <a:chOff x="6480" y="371520"/>
            <a:chExt cx="4809960" cy="5816520"/>
          </a:xfrm>
        </p:grpSpPr>
        <p:pic>
          <p:nvPicPr>
            <p:cNvPr id="206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6480" y="371520"/>
              <a:ext cx="4809960" cy="58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68200" y="636480"/>
              <a:ext cx="4287960" cy="52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6"/>
          <p:cNvSpPr/>
          <p:nvPr/>
        </p:nvSpPr>
        <p:spPr>
          <a:xfrm>
            <a:off x="108000" y="828720"/>
            <a:ext cx="4751280" cy="52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сестринского исследования будут зависеть от совместной деятельности медицинской сестры           и пациента - от уровня взаимопонимания             по всем возникающим вопросам в ходе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3"/>
          <a:stretch/>
        </p:blipFill>
        <p:spPr>
          <a:xfrm>
            <a:off x="5048280" y="414360"/>
            <a:ext cx="3919680" cy="58467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Овал 1"/>
          <p:cNvGrpSpPr/>
          <p:nvPr/>
        </p:nvGrpSpPr>
        <p:grpSpPr>
          <a:xfrm>
            <a:off x="554040" y="1285920"/>
            <a:ext cx="8083440" cy="3975120"/>
            <a:chOff x="554040" y="1285920"/>
            <a:chExt cx="8083440" cy="3975120"/>
          </a:xfrm>
        </p:grpSpPr>
        <p:pic>
          <p:nvPicPr>
            <p:cNvPr id="211" name="Овал 1" descr=""/>
            <p:cNvPicPr/>
            <p:nvPr/>
          </p:nvPicPr>
          <p:blipFill>
            <a:blip r:embed="rId2"/>
            <a:stretch/>
          </p:blipFill>
          <p:spPr>
            <a:xfrm>
              <a:off x="554040" y="1285920"/>
              <a:ext cx="8083440" cy="397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771560" y="1900080"/>
              <a:ext cx="5600880" cy="26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000000"/>
                  </a:solidFill>
                  <a:latin typeface="Tahoma"/>
                </a:rPr>
                <a:t>Благодарю за внимание!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Овал 5"/>
          <p:cNvGrpSpPr/>
          <p:nvPr/>
        </p:nvGrpSpPr>
        <p:grpSpPr>
          <a:xfrm>
            <a:off x="281160" y="2755800"/>
            <a:ext cx="8704080" cy="3011760"/>
            <a:chOff x="281160" y="2755800"/>
            <a:chExt cx="8704080" cy="3011760"/>
          </a:xfrm>
        </p:grpSpPr>
        <p:pic>
          <p:nvPicPr>
            <p:cNvPr id="92" name="Овал 5" descr=""/>
            <p:cNvPicPr/>
            <p:nvPr/>
          </p:nvPicPr>
          <p:blipFill>
            <a:blip r:embed="rId2"/>
            <a:stretch/>
          </p:blipFill>
          <p:spPr>
            <a:xfrm>
              <a:off x="281160" y="2755800"/>
              <a:ext cx="870408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577880" y="3274920"/>
              <a:ext cx="6059520" cy="203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Скругленный прямоугольник 2"/>
          <p:cNvSpPr/>
          <p:nvPr/>
        </p:nvSpPr>
        <p:spPr>
          <a:xfrm>
            <a:off x="0" y="189000"/>
            <a:ext cx="9144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293760"/>
            <a:ext cx="872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Болезни образа жизни</a:t>
            </a:r>
            <a:endParaRPr b="1" lang="en-US" sz="5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96" name="Стрелка вниз 3"/>
          <p:cNvGrpSpPr/>
          <p:nvPr/>
        </p:nvGrpSpPr>
        <p:grpSpPr>
          <a:xfrm>
            <a:off x="3865680" y="1450800"/>
            <a:ext cx="1266840" cy="1189080"/>
            <a:chOff x="3865680" y="1450800"/>
            <a:chExt cx="1266840" cy="1189080"/>
          </a:xfrm>
        </p:grpSpPr>
        <p:pic>
          <p:nvPicPr>
            <p:cNvPr id="97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3865680" y="1450800"/>
              <a:ext cx="126684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211640" y="1484280"/>
              <a:ext cx="57636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Прямоугольник 4"/>
          <p:cNvSpPr/>
          <p:nvPr/>
        </p:nvSpPr>
        <p:spPr>
          <a:xfrm>
            <a:off x="912960" y="3240000"/>
            <a:ext cx="712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езни, развитие которых определяют наши повседневные привы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Скругленный прямоугольник 2"/>
          <p:cNvGrpSpPr/>
          <p:nvPr/>
        </p:nvGrpSpPr>
        <p:grpSpPr>
          <a:xfrm>
            <a:off x="55440" y="85680"/>
            <a:ext cx="6454800" cy="1170000"/>
            <a:chOff x="55440" y="85680"/>
            <a:chExt cx="6454800" cy="1170000"/>
          </a:xfrm>
        </p:grpSpPr>
        <p:pic>
          <p:nvPicPr>
            <p:cNvPr id="101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55440" y="85680"/>
              <a:ext cx="6454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7320" y="246240"/>
              <a:ext cx="6200640" cy="9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8000" y="290160"/>
            <a:ext cx="5759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Проблема запора</a:t>
            </a:r>
            <a:endParaRPr b="1" lang="en-US" sz="5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04" name="Выгнутая вправо стрелка 9"/>
          <p:cNvGrpSpPr/>
          <p:nvPr/>
        </p:nvGrpSpPr>
        <p:grpSpPr>
          <a:xfrm>
            <a:off x="6602400" y="-19800"/>
            <a:ext cx="1371240" cy="1527480"/>
            <a:chOff x="6602400" y="-19800"/>
            <a:chExt cx="1371240" cy="1527480"/>
          </a:xfrm>
        </p:grpSpPr>
        <p:pic>
          <p:nvPicPr>
            <p:cNvPr id="105" name="Выгнутая вправо стрелка 9" descr=""/>
            <p:cNvPicPr/>
            <p:nvPr/>
          </p:nvPicPr>
          <p:blipFill>
            <a:blip r:embed="rId3"/>
            <a:stretch/>
          </p:blipFill>
          <p:spPr>
            <a:xfrm>
              <a:off x="6602400" y="174600"/>
              <a:ext cx="1219320" cy="12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20230800">
              <a:off x="6892920" y="96840"/>
              <a:ext cx="863640" cy="12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10"/>
          <p:cNvGrpSpPr/>
          <p:nvPr/>
        </p:nvGrpSpPr>
        <p:grpSpPr>
          <a:xfrm>
            <a:off x="285840" y="1627200"/>
            <a:ext cx="6511680" cy="2212920"/>
            <a:chOff x="285840" y="1627200"/>
            <a:chExt cx="6511680" cy="2212920"/>
          </a:xfrm>
        </p:grpSpPr>
        <p:pic>
          <p:nvPicPr>
            <p:cNvPr id="108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285840" y="1627200"/>
              <a:ext cx="6511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93560" y="1871640"/>
              <a:ext cx="6104160" cy="18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% - молодой возраст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% - средний возраст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 - пожилой возраст 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Выгнутая вправо стрелка 11"/>
          <p:cNvGrpSpPr/>
          <p:nvPr/>
        </p:nvGrpSpPr>
        <p:grpSpPr>
          <a:xfrm>
            <a:off x="7029360" y="2603520"/>
            <a:ext cx="981000" cy="1670040"/>
            <a:chOff x="7029360" y="2603520"/>
            <a:chExt cx="981000" cy="1670040"/>
          </a:xfrm>
        </p:grpSpPr>
        <p:pic>
          <p:nvPicPr>
            <p:cNvPr id="111" name="Выгнутая вправо стрелка 11" descr=""/>
            <p:cNvPicPr/>
            <p:nvPr/>
          </p:nvPicPr>
          <p:blipFill>
            <a:blip r:embed="rId5"/>
            <a:stretch/>
          </p:blipFill>
          <p:spPr>
            <a:xfrm>
              <a:off x="7029360" y="2603520"/>
              <a:ext cx="98100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7093080" y="2637000"/>
              <a:ext cx="863640" cy="15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12"/>
          <p:cNvGrpSpPr/>
          <p:nvPr/>
        </p:nvGrpSpPr>
        <p:grpSpPr>
          <a:xfrm>
            <a:off x="1011240" y="4327560"/>
            <a:ext cx="7450200" cy="1616040"/>
            <a:chOff x="1011240" y="4327560"/>
            <a:chExt cx="7450200" cy="1616040"/>
          </a:xfrm>
        </p:grpSpPr>
        <p:pic>
          <p:nvPicPr>
            <p:cNvPr id="114" name="Скругленный прямоугольник 12" descr=""/>
            <p:cNvPicPr/>
            <p:nvPr/>
          </p:nvPicPr>
          <p:blipFill>
            <a:blip r:embed="rId6"/>
            <a:stretch/>
          </p:blipFill>
          <p:spPr>
            <a:xfrm>
              <a:off x="1011240" y="4327560"/>
              <a:ext cx="745020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187280" y="4508640"/>
              <a:ext cx="6913800" cy="13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% пациентов не обращаются к специалистам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Скругленный прямоугольник 2"/>
          <p:cNvGrpSpPr/>
          <p:nvPr/>
        </p:nvGrpSpPr>
        <p:grpSpPr>
          <a:xfrm>
            <a:off x="30240" y="365040"/>
            <a:ext cx="9120240" cy="1025640"/>
            <a:chOff x="30240" y="365040"/>
            <a:chExt cx="9120240" cy="1025640"/>
          </a:xfrm>
        </p:grpSpPr>
        <p:pic>
          <p:nvPicPr>
            <p:cNvPr id="1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30240" y="365040"/>
              <a:ext cx="9120240" cy="102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22120" y="515880"/>
              <a:ext cx="86997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Arial"/>
                </a:rPr>
                <a:t>Основные причины задержки стула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Выноска со стрелкой вверх 3"/>
          <p:cNvGrpSpPr/>
          <p:nvPr/>
        </p:nvGrpSpPr>
        <p:grpSpPr>
          <a:xfrm>
            <a:off x="-23760" y="1438200"/>
            <a:ext cx="9259920" cy="4127400"/>
            <a:chOff x="-23760" y="1438200"/>
            <a:chExt cx="9259920" cy="4127400"/>
          </a:xfrm>
        </p:grpSpPr>
        <p:pic>
          <p:nvPicPr>
            <p:cNvPr id="120" name="Выноска со стрелкой вверх 3" descr=""/>
            <p:cNvPicPr/>
            <p:nvPr/>
          </p:nvPicPr>
          <p:blipFill>
            <a:blip r:embed="rId3"/>
            <a:stretch/>
          </p:blipFill>
          <p:spPr>
            <a:xfrm>
              <a:off x="-23760" y="1438200"/>
              <a:ext cx="9259920" cy="41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79280" y="2943360"/>
              <a:ext cx="8820360" cy="25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spcBef>
                  <a:spcPts val="119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сбалансированное питан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Недостаточный прием жидкост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Недостаток двигательной активност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Скругленный прямоугольник 5"/>
          <p:cNvGrpSpPr/>
          <p:nvPr/>
        </p:nvGrpSpPr>
        <p:grpSpPr>
          <a:xfrm>
            <a:off x="122400" y="152280"/>
            <a:ext cx="8948520" cy="1384560"/>
            <a:chOff x="122400" y="152280"/>
            <a:chExt cx="8948520" cy="1384560"/>
          </a:xfrm>
        </p:grpSpPr>
        <p:pic>
          <p:nvPicPr>
            <p:cNvPr id="123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22400" y="152280"/>
              <a:ext cx="8948520" cy="13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239760" y="320760"/>
              <a:ext cx="866448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Контекст для постановки исследовательского вопрос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6"/>
          <p:cNvGrpSpPr/>
          <p:nvPr/>
        </p:nvGrpSpPr>
        <p:grpSpPr>
          <a:xfrm>
            <a:off x="701640" y="2236680"/>
            <a:ext cx="7862760" cy="1244880"/>
            <a:chOff x="701640" y="2236680"/>
            <a:chExt cx="7862760" cy="1244880"/>
          </a:xfrm>
        </p:grpSpPr>
        <p:pic>
          <p:nvPicPr>
            <p:cNvPr id="12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01640" y="2236680"/>
              <a:ext cx="7862760" cy="124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808200" y="2401920"/>
              <a:ext cx="759924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ализ проблемы задержки сту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7"/>
          <p:cNvGrpSpPr/>
          <p:nvPr/>
        </p:nvGrpSpPr>
        <p:grpSpPr>
          <a:xfrm>
            <a:off x="122400" y="4286160"/>
            <a:ext cx="9045360" cy="2286000"/>
            <a:chOff x="122400" y="4286160"/>
            <a:chExt cx="9045360" cy="2286000"/>
          </a:xfrm>
        </p:grpSpPr>
        <p:pic>
          <p:nvPicPr>
            <p:cNvPr id="129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122400" y="4286160"/>
              <a:ext cx="9045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1160" y="4538520"/>
              <a:ext cx="8581680" cy="18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несение изменений в процесс оказания сестринской помощи пациентам, страдающим нарушением моторики кишечни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трелка вниз 8"/>
          <p:cNvGrpSpPr/>
          <p:nvPr/>
        </p:nvGrpSpPr>
        <p:grpSpPr>
          <a:xfrm>
            <a:off x="4005360" y="1517760"/>
            <a:ext cx="768240" cy="761760"/>
            <a:chOff x="4005360" y="1517760"/>
            <a:chExt cx="768240" cy="761760"/>
          </a:xfrm>
        </p:grpSpPr>
        <p:pic>
          <p:nvPicPr>
            <p:cNvPr id="132" name="Стрелка вниз 8" descr=""/>
            <p:cNvPicPr/>
            <p:nvPr/>
          </p:nvPicPr>
          <p:blipFill>
            <a:blip r:embed="rId4"/>
            <a:stretch/>
          </p:blipFill>
          <p:spPr>
            <a:xfrm>
              <a:off x="4005360" y="1517760"/>
              <a:ext cx="76824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230720" y="1557360"/>
              <a:ext cx="32364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Стрелка вниз 9"/>
          <p:cNvGrpSpPr/>
          <p:nvPr/>
        </p:nvGrpSpPr>
        <p:grpSpPr>
          <a:xfrm>
            <a:off x="4005360" y="3535200"/>
            <a:ext cx="768240" cy="755640"/>
            <a:chOff x="4005360" y="3535200"/>
            <a:chExt cx="768240" cy="755640"/>
          </a:xfrm>
        </p:grpSpPr>
        <p:pic>
          <p:nvPicPr>
            <p:cNvPr id="135" name="Стрелка вниз 9" descr=""/>
            <p:cNvPicPr/>
            <p:nvPr/>
          </p:nvPicPr>
          <p:blipFill>
            <a:blip r:embed="rId5"/>
            <a:stretch/>
          </p:blipFill>
          <p:spPr>
            <a:xfrm>
              <a:off x="4005360" y="3535200"/>
              <a:ext cx="76824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4230720" y="3573360"/>
              <a:ext cx="32364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Скругленный прямоугольник 1"/>
          <p:cNvGrpSpPr/>
          <p:nvPr/>
        </p:nvGrpSpPr>
        <p:grpSpPr>
          <a:xfrm>
            <a:off x="195120" y="79200"/>
            <a:ext cx="8875800" cy="1024200"/>
            <a:chOff x="195120" y="79200"/>
            <a:chExt cx="8875800" cy="1024200"/>
          </a:xfrm>
        </p:grpSpPr>
        <p:pic>
          <p:nvPicPr>
            <p:cNvPr id="138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95120" y="79200"/>
              <a:ext cx="887580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93760" y="231840"/>
              <a:ext cx="862812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700" spc="-1" strike="noStrike">
                  <a:solidFill>
                    <a:srgbClr val="000000"/>
                  </a:solidFill>
                  <a:latin typeface="Arial"/>
                </a:rPr>
                <a:t>Тема сестринского исследования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2"/>
          <p:cNvSpPr/>
          <p:nvPr/>
        </p:nvSpPr>
        <p:spPr>
          <a:xfrm>
            <a:off x="0" y="1844640"/>
            <a:ext cx="874872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лияние характера и режима питания, количества принимаемой жидкости, выполнения физических упражнений   на моторику кишечника у пациентов       с гастроэнтерологической патологией. Нормализация моторики кишечни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Овал 5"/>
          <p:cNvGrpSpPr/>
          <p:nvPr/>
        </p:nvGrpSpPr>
        <p:grpSpPr>
          <a:xfrm>
            <a:off x="66600" y="2036880"/>
            <a:ext cx="8991720" cy="3876480"/>
            <a:chOff x="66600" y="2036880"/>
            <a:chExt cx="8991720" cy="3876480"/>
          </a:xfrm>
        </p:grpSpPr>
        <p:pic>
          <p:nvPicPr>
            <p:cNvPr id="142" name="Овал 5" descr=""/>
            <p:cNvPicPr/>
            <p:nvPr/>
          </p:nvPicPr>
          <p:blipFill>
            <a:blip r:embed="rId2"/>
            <a:stretch/>
          </p:blipFill>
          <p:spPr>
            <a:xfrm>
              <a:off x="66600" y="2036880"/>
              <a:ext cx="8991720" cy="38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1405080" y="2681280"/>
              <a:ext cx="6262560" cy="26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Скругленный прямоугольник 2"/>
          <p:cNvGrpSpPr/>
          <p:nvPr/>
        </p:nvGrpSpPr>
        <p:grpSpPr>
          <a:xfrm>
            <a:off x="195120" y="85680"/>
            <a:ext cx="8875800" cy="1090800"/>
            <a:chOff x="195120" y="85680"/>
            <a:chExt cx="8875800" cy="1090800"/>
          </a:xfrm>
        </p:grpSpPr>
        <p:pic>
          <p:nvPicPr>
            <p:cNvPr id="145" name="Скругленный прямоугольник 2" descr=""/>
            <p:cNvPicPr/>
            <p:nvPr/>
          </p:nvPicPr>
          <p:blipFill>
            <a:blip r:embed="rId3"/>
            <a:stretch/>
          </p:blipFill>
          <p:spPr>
            <a:xfrm>
              <a:off x="195120" y="85680"/>
              <a:ext cx="887580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297000" y="237960"/>
              <a:ext cx="8621640" cy="8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19240"/>
            <a:ext cx="8726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Цель исследования</a:t>
            </a:r>
            <a:endParaRPr b="1" lang="en-US" sz="45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148" name="Стрелка вниз 3"/>
          <p:cNvGrpSpPr/>
          <p:nvPr/>
        </p:nvGrpSpPr>
        <p:grpSpPr>
          <a:xfrm>
            <a:off x="3865680" y="1158840"/>
            <a:ext cx="907920" cy="901800"/>
            <a:chOff x="3865680" y="1158840"/>
            <a:chExt cx="907920" cy="901800"/>
          </a:xfrm>
        </p:grpSpPr>
        <p:pic>
          <p:nvPicPr>
            <p:cNvPr id="149" name="Стрелка вниз 3" descr=""/>
            <p:cNvPicPr/>
            <p:nvPr/>
          </p:nvPicPr>
          <p:blipFill>
            <a:blip r:embed="rId4"/>
            <a:stretch/>
          </p:blipFill>
          <p:spPr>
            <a:xfrm>
              <a:off x="3865680" y="1158840"/>
              <a:ext cx="907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122720" y="1197000"/>
              <a:ext cx="3952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4"/>
          <p:cNvSpPr/>
          <p:nvPr/>
        </p:nvSpPr>
        <p:spPr>
          <a:xfrm>
            <a:off x="468360" y="2421000"/>
            <a:ext cx="8280360" cy="26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повлиять на характер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и режим питания, прием жидкости, выполнение физических упражнений           у пациентов  с нарушением моторики кишечника для нормализации сту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Скругленный прямоугольник 10"/>
          <p:cNvGrpSpPr/>
          <p:nvPr/>
        </p:nvGrpSpPr>
        <p:grpSpPr>
          <a:xfrm>
            <a:off x="1206360" y="3749760"/>
            <a:ext cx="7864560" cy="1382760"/>
            <a:chOff x="1206360" y="3749760"/>
            <a:chExt cx="7864560" cy="1382760"/>
          </a:xfrm>
        </p:grpSpPr>
        <p:pic>
          <p:nvPicPr>
            <p:cNvPr id="153" name="Скругленный прямоугольник 10" descr=""/>
            <p:cNvPicPr/>
            <p:nvPr/>
          </p:nvPicPr>
          <p:blipFill>
            <a:blip r:embed="rId1"/>
            <a:stretch/>
          </p:blipFill>
          <p:spPr>
            <a:xfrm>
              <a:off x="1206360" y="3749760"/>
              <a:ext cx="786456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319040" y="3921120"/>
              <a:ext cx="75852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Скругленный прямоугольник 1"/>
          <p:cNvGrpSpPr/>
          <p:nvPr/>
        </p:nvGrpSpPr>
        <p:grpSpPr>
          <a:xfrm>
            <a:off x="195120" y="12600"/>
            <a:ext cx="8875800" cy="871560"/>
            <a:chOff x="195120" y="12600"/>
            <a:chExt cx="8875800" cy="871560"/>
          </a:xfrm>
        </p:grpSpPr>
        <p:pic>
          <p:nvPicPr>
            <p:cNvPr id="156" name="Скругленный прямоугольник 1" descr=""/>
            <p:cNvPicPr/>
            <p:nvPr/>
          </p:nvPicPr>
          <p:blipFill>
            <a:blip r:embed="rId2"/>
            <a:stretch/>
          </p:blipFill>
          <p:spPr>
            <a:xfrm>
              <a:off x="195120" y="12600"/>
              <a:ext cx="88758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85840" y="155520"/>
              <a:ext cx="864396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Заголовок 1"/>
          <p:cNvSpPr/>
          <p:nvPr/>
        </p:nvSpPr>
        <p:spPr>
          <a:xfrm>
            <a:off x="324000" y="115920"/>
            <a:ext cx="8726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Подготовка к исследовани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Скругленный прямоугольник 4"/>
          <p:cNvGrpSpPr/>
          <p:nvPr/>
        </p:nvGrpSpPr>
        <p:grpSpPr>
          <a:xfrm>
            <a:off x="122400" y="1066680"/>
            <a:ext cx="8875440" cy="1378080"/>
            <a:chOff x="122400" y="1066680"/>
            <a:chExt cx="8875440" cy="1378080"/>
          </a:xfrm>
        </p:grpSpPr>
        <p:pic>
          <p:nvPicPr>
            <p:cNvPr id="16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22400" y="1066680"/>
              <a:ext cx="887544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39760" y="1233360"/>
              <a:ext cx="8593200" cy="11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1"/>
          <p:cNvSpPr/>
          <p:nvPr/>
        </p:nvSpPr>
        <p:spPr>
          <a:xfrm>
            <a:off x="214200" y="11527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брана группа пациентов из 30 человек гастроэнтерологического отделения с различными диагнозами и возрастной катег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Скругленный прямоугольник 7"/>
          <p:cNvGrpSpPr/>
          <p:nvPr/>
        </p:nvGrpSpPr>
        <p:grpSpPr>
          <a:xfrm>
            <a:off x="847800" y="2457360"/>
            <a:ext cx="8223120" cy="1236600"/>
            <a:chOff x="847800" y="2457360"/>
            <a:chExt cx="8223120" cy="1236600"/>
          </a:xfrm>
        </p:grpSpPr>
        <p:pic>
          <p:nvPicPr>
            <p:cNvPr id="164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847800" y="2457360"/>
              <a:ext cx="82231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952560" y="2617920"/>
              <a:ext cx="79596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1"/>
          <p:cNvSpPr/>
          <p:nvPr/>
        </p:nvSpPr>
        <p:spPr>
          <a:xfrm>
            <a:off x="863640" y="2672280"/>
            <a:ext cx="82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работано информированное добровольное согласие, где указана тема и методы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"/>
          <p:cNvSpPr/>
          <p:nvPr/>
        </p:nvSpPr>
        <p:spPr>
          <a:xfrm>
            <a:off x="1332000" y="3888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брана исследовательская команда               из квалифицированного сестринского персонала отде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Скругленный прямоугольник 11"/>
          <p:cNvGrpSpPr/>
          <p:nvPr/>
        </p:nvGrpSpPr>
        <p:grpSpPr>
          <a:xfrm>
            <a:off x="1706400" y="5194440"/>
            <a:ext cx="7364520" cy="1236600"/>
            <a:chOff x="1706400" y="5194440"/>
            <a:chExt cx="7364520" cy="1236600"/>
          </a:xfrm>
        </p:grpSpPr>
        <p:pic>
          <p:nvPicPr>
            <p:cNvPr id="169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1706400" y="5194440"/>
              <a:ext cx="73645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1816200" y="5354640"/>
              <a:ext cx="709596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Rectangle 1"/>
          <p:cNvSpPr/>
          <p:nvPr/>
        </p:nvSpPr>
        <p:spPr>
          <a:xfrm>
            <a:off x="1835280" y="5416560"/>
            <a:ext cx="69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ены обязанности специалистов          по сбору, вводу и анализу д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Скругленный прямоугольник 1"/>
          <p:cNvGrpSpPr/>
          <p:nvPr/>
        </p:nvGrpSpPr>
        <p:grpSpPr>
          <a:xfrm>
            <a:off x="268200" y="79200"/>
            <a:ext cx="8869320" cy="951120"/>
            <a:chOff x="268200" y="79200"/>
            <a:chExt cx="8869320" cy="951120"/>
          </a:xfrm>
        </p:grpSpPr>
        <p:pic>
          <p:nvPicPr>
            <p:cNvPr id="173" name="Скругленный 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68200" y="79200"/>
              <a:ext cx="88693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361800" y="227160"/>
              <a:ext cx="8636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Заголовок 1"/>
          <p:cNvSpPr/>
          <p:nvPr/>
        </p:nvSpPr>
        <p:spPr>
          <a:xfrm>
            <a:off x="374760" y="189000"/>
            <a:ext cx="87264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Диаграмма 3" descr=""/>
          <p:cNvPicPr/>
          <p:nvPr/>
        </p:nvPicPr>
        <p:blipFill>
          <a:blip r:embed="rId2"/>
          <a:stretch/>
        </p:blipFill>
        <p:spPr>
          <a:xfrm>
            <a:off x="171360" y="1122480"/>
            <a:ext cx="8869320" cy="4979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8T09:00:12Z</dcterms:created>
  <dc:creator>Рожкова</dc:creator>
  <dc:description/>
  <dc:language>en-US</dc:language>
  <cp:lastModifiedBy>ОПСА</cp:lastModifiedBy>
  <dcterms:modified xsi:type="dcterms:W3CDTF">2011-11-03T04:38:09Z</dcterms:modified>
  <cp:revision>36</cp:revision>
  <dc:subject/>
  <dc:title>Домашнее задание: «Проведение сестринского исследования»</dc:title>
</cp:coreProperties>
</file>