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7700-2237-4EA9-9E94-A6F52C6708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103-FF6B-4F50-B63C-5A4C1C5B6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B05-D417-4860-9905-B9B676F0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4D9-118A-4A1D-9279-0D997BC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BD7-F14A-462F-A9E9-1220F56B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24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7120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24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7120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86E-9DFB-4FE0-AEA2-ACC64CF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199-C125-482B-98AD-95034B4B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51D-F75F-4B8F-B6B1-707AA73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94D-7E66-4E1F-958D-D85983B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FA9-6EF6-430C-A4F0-FC6C182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699-0FE9-40B1-939A-C50B4A6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845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60E0-0D54-4530-B945-3FBFA64B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678B-B298-4C30-A4F7-62FADA3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C7F-0D45-4E5B-92E1-447DB496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EFC9-A3C2-4DB6-8181-AFECEFE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D91D-C536-4B2F-B862-41974CE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FF0-FA6A-415E-B27C-BD0DD0E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0E3E-55CA-4279-A37F-CA56A46C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244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71200" y="121896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244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71200" y="3885840"/>
            <a:ext cx="2550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5DA8-43F8-4A05-9ADE-16C6912B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420-9735-419E-A213-04C19DD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79-EE5B-49A5-A65A-CDC84BC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766-CE95-4C70-AFCE-87F2622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845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74A-076D-47E3-A1BF-1CD31AC0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148-305A-436D-8DAC-A989D3E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8584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820-DDD7-461A-93D7-E3E43B1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865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885840"/>
            <a:ext cx="7921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8A6-E6FC-4D17-A131-9B9B4E1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741240" cy="6858000"/>
          </a:xfrm>
          <a:prstGeom prst="rect">
            <a:avLst/>
          </a:prstGeom>
          <a:gradFill rotWithShape="0">
            <a:gsLst>
              <a:gs pos="0">
                <a:srgbClr val="294758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234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320" y="6461280"/>
            <a:ext cx="609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CBB-2CD5-4B65-AC4C-BE7AEE605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743040" cy="106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1143000"/>
            <a:ext cx="743040" cy="1069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0" y="2209680"/>
            <a:ext cx="743040" cy="1069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8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1440" y="4437000"/>
            <a:ext cx="9144000" cy="2463840"/>
          </a:xfrm>
          <a:prstGeom prst="rect">
            <a:avLst/>
          </a:prstGeom>
          <a:gradFill rotWithShape="0">
            <a:gsLst>
              <a:gs pos="0">
                <a:srgbClr val="294758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flipV="1">
            <a:off x="0" y="4359960"/>
            <a:ext cx="91440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0" y="380880"/>
            <a:ext cx="3052800" cy="397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3048120" y="380880"/>
            <a:ext cx="3052800" cy="3978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6091200" y="366840"/>
            <a:ext cx="3052800" cy="3992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B1E-D240-4EEB-9097-518C5C78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54000" y="4709880"/>
            <a:ext cx="91440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«ВЛИЯНИЕ НЕМЕДИКАМЕНТОЗНЫХ МЕТОДОВ ЛЕЧЕНИЯ НА ФУНКЦИОНАЛЬНОЕ СОСТОЯНИЕ ДЕТЕЙ С БРОНХИАЛЬНОЙ АСТМОЙ»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ЗОО «Центр восстановительной медицины и реабили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-31680" y="5872320"/>
            <a:ext cx="914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.Ю. Миллер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окладчик: инструктор-методист по ЛФ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деления реабилитации №2 ЦВМР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8" descr=""/>
          <p:cNvPicPr/>
          <p:nvPr/>
        </p:nvPicPr>
        <p:blipFill>
          <a:blip r:embed="rId1"/>
          <a:stretch/>
        </p:blipFill>
        <p:spPr>
          <a:xfrm>
            <a:off x="776160" y="2154240"/>
            <a:ext cx="8223480" cy="45212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1"/>
          <p:cNvSpPr/>
          <p:nvPr/>
        </p:nvSpPr>
        <p:spPr>
          <a:xfrm>
            <a:off x="755640" y="3492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зультаты проведенных исследо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900000" y="1265400"/>
            <a:ext cx="8209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Динамика показателей функции внешнего дыхания в процессе реабили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5"/>
          <p:cNvSpPr/>
          <p:nvPr/>
        </p:nvSpPr>
        <p:spPr>
          <a:xfrm>
            <a:off x="755640" y="1265400"/>
            <a:ext cx="8209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Динамика показателей пунктурной экспресс-диагностики в ходе реабили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5" descr=""/>
          <p:cNvPicPr/>
          <p:nvPr/>
        </p:nvPicPr>
        <p:blipFill>
          <a:blip r:embed="rId1"/>
          <a:stretch/>
        </p:blipFill>
        <p:spPr>
          <a:xfrm>
            <a:off x="849240" y="2082960"/>
            <a:ext cx="8142480" cy="47037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755640" y="3492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зультаты проведенных исследо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9840"/>
            <a:ext cx="7845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Arial"/>
              </a:rPr>
              <a:t>Выводы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579320"/>
            <a:ext cx="82296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Aft>
                <a:spcPts val="4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всех пациентов отмечено улучшение общего самочувствия, увеличение основных показателей ФВД и иммунодиагнос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Aft>
                <a:spcPts val="4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работанный комплекс физических средств реабилитации может использоваться в восстановительном лечении детей с бронхиальной аст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684360" y="5084640"/>
            <a:ext cx="81356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8282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82828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56348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распространенность среди взрослого населения колеблется от 2,2 – до 5-7%, а в детской популяции этот показатель составляет около 1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ьный вес бронхиальной астмы          в структуре бронхолёгочной патологии в детском возрасте составляет,               по разным данным, от 27,6 до 6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611280" y="-95400"/>
            <a:ext cx="853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Заболевания органов дыхания, сопровождающиеся синдромом бронхиальной обстру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040" y="1506240"/>
            <a:ext cx="79218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кт исследования: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е состояние детей в возрасте 10 -12 лет, больных бронхиальной аст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лексная программа физической реабилитации детей больных  бронхиальной аст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611280" y="1508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оведение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724040"/>
            <a:ext cx="84787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пределение эффективности комплексного воздействия физических факторов на функцию внешнего дыхания и иммунный статус детей, больных  бронхиальной астмо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611280" y="1508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1428480"/>
            <a:ext cx="83422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ать программу физической реабилитации для детей                                с бронхиальной аст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изменение функционального состояния дыхательной и иммунной систем детей в процессе лечения и по окончании курса физической реабили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611280" y="1508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347840"/>
            <a:ext cx="7921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зуальные наблюд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льсоме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ирометр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мунодиагнос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611280" y="1508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1197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ФВ1 – секундный объём форсированного выдоха ( в литрах), является наиболее демонстративным    при бронхиальной обстр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С25, МОС50, МОС75 – максимальная объёмная скорость на уровне 25, 50, 75% форсированного выдоха (литров в секунду), характеризует изменения на уровне крупных, средних и мелких бронх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2488680" y="189000"/>
            <a:ext cx="43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оказатели ФВ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040" y="1506600"/>
            <a:ext cx="7921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рения проводились трехкратно до, в середине, и по окончании курса реабили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использовался для экспресс-диагностики иммунодефицита у  детей, больных бронхиальной астмой и достигнутого в ходе лечебного воздействия эфф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755640" y="-27000"/>
            <a:ext cx="820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омпьютерная пунктурная экспресс-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14400" y="121896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программу реабилитации, состоящую из 20 процедур, входила лечебная гимнастика, ручной массаж и галотерап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755640" y="262080"/>
            <a:ext cx="8209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ограмма реабил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:\Users\Sveta\Desktop\1357886710.jpg"/>
          <p:cNvPicPr/>
          <p:nvPr/>
        </p:nvPicPr>
        <p:blipFill>
          <a:blip r:embed="rId1"/>
          <a:stretch/>
        </p:blipFill>
        <p:spPr>
          <a:xfrm>
            <a:off x="6072120" y="3492360"/>
            <a:ext cx="2913120" cy="282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ТихоновСВ\Рабочий стол\фотоаппарат 17.10.13 045.jpg"/>
          <p:cNvPicPr/>
          <p:nvPr/>
        </p:nvPicPr>
        <p:blipFill>
          <a:blip r:embed="rId2"/>
          <a:stretch/>
        </p:blipFill>
        <p:spPr>
          <a:xfrm>
            <a:off x="3859200" y="3432240"/>
            <a:ext cx="2071800" cy="310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ТихоновСВ\Рабочий стол\центр 011.jpg"/>
          <p:cNvPicPr/>
          <p:nvPr/>
        </p:nvPicPr>
        <p:blipFill>
          <a:blip r:embed="rId3"/>
          <a:stretch/>
        </p:blipFill>
        <p:spPr>
          <a:xfrm>
            <a:off x="1427040" y="3432240"/>
            <a:ext cx="20718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01:18Z</dcterms:created>
  <dc:creator>Алексей Васильевич</dc:creator>
  <dc:description/>
  <dc:language>en-US</dc:language>
  <cp:lastModifiedBy>Sveta</cp:lastModifiedBy>
  <dcterms:modified xsi:type="dcterms:W3CDTF">2013-11-23T08:46:33Z</dcterms:modified>
  <cp:revision>30</cp:revision>
  <dc:subject/>
  <dc:title>«ВЛИЯНИЕ НЕМЕДИКАМЕНТОЗНЫХ МЕТОДОВ ЛЕЧЕНИЯ НА ФУНКЦИОНАЛЬНОЕ СОСТОЯНИЕ ДЕТЕЙ С БРОНХИАЛЬНОЙ АСТМОЙ» Докладчик: инструктор-методист по ЛФК отделения реабилитации №2 А.Ю. Миллер</dc:title>
</cp:coreProperties>
</file>