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13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8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9.jpeg" ContentType="image/jpeg"/>
  <Override PartName="/ppt/media/image25.png" ContentType="image/png"/>
  <Override PartName="/ppt/media/image6.jpeg" ContentType="image/jpeg"/>
  <Override PartName="/ppt/media/image60.png" ContentType="image/png"/>
  <Override PartName="/ppt/media/image29.png" ContentType="image/png"/>
  <Override PartName="/ppt/media/image21.jpeg" ContentType="image/jpeg"/>
  <Override PartName="/ppt/media/image61.png" ContentType="image/png"/>
  <Override PartName="/ppt/media/image24.png" ContentType="image/png"/>
  <Override PartName="/ppt/media/image23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22.png" ContentType="image/png"/>
  <Override PartName="/ppt/media/image28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20.jpeg" ContentType="image/jpeg"/>
  <Override PartName="/ppt/media/image55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6.png" ContentType="image/png"/>
  <Override PartName="/ppt/media/image57.png" ContentType="image/png"/>
  <Override PartName="/ppt/media/image46.jpeg" ContentType="image/jpeg"/>
  <Override PartName="/ppt/media/image5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7C3-02B3-4DA1-9C7C-AB62DC53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A70-9362-49B0-83D1-BF70A893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111-CCDC-4581-B585-A5C56E92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330-68EB-4A5D-BE3C-98A1FBAF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932-22C2-45B8-BD9F-D8B1DE8F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182-85ED-467C-A2C4-D5E7BAA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B3C-728D-40CA-9EFC-2AE9AAB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F74-1363-4274-B4B1-C0D5BFC8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8AE-9D88-462E-9728-9BDC3FD9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CF4-EBDD-4F18-9836-F82CD5EF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A02-5586-4535-8E67-FF3EB6E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9C0-AAF4-45A9-8CB8-E93E16FD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C40-1CF0-4C66-B621-6D19066ED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4920" y="115920"/>
            <a:ext cx="8280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Семинар для медицинских сестер фтизиатрической службы, посвященный Всемирному дню борьбы с туберкулезом 2011 г. «Борьба с туберкулезом продолжается: переориентация борьбы на ликвидацию туберкулез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9"/>
          <p:cNvSpPr/>
          <p:nvPr/>
        </p:nvSpPr>
        <p:spPr>
          <a:xfrm>
            <a:off x="250920" y="1700280"/>
            <a:ext cx="87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12d1c"/>
                </a:solidFill>
                <a:latin typeface="Calibri"/>
              </a:rPr>
              <a:t>Значение медицинской профилактики в сохранении здоровья насел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11"/>
          <p:cNvSpPr/>
          <p:nvPr/>
        </p:nvSpPr>
        <p:spPr>
          <a:xfrm>
            <a:off x="108000" y="5257800"/>
            <a:ext cx="7056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О.А. Бучко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вице-президент Омской профессиональной сестринской ассоци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0" y="-100080"/>
            <a:ext cx="82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Calibri"/>
              </a:rPr>
              <a:t>Гигиеническое обучение                               и воспитание населения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193680" y="1211400"/>
            <a:ext cx="86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2d1c"/>
                </a:solidFill>
                <a:latin typeface="Calibri"/>
              </a:rPr>
              <a:t>Цель - формирование у населения здорового образа жизни, способствующего сохранению и укреплению здоров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3216240" cy="20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193680" y="4653000"/>
            <a:ext cx="3189240" cy="201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5580000" y="4149720"/>
            <a:ext cx="318924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0" y="-100080"/>
            <a:ext cx="8604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Упразднение должностей сестринского персонала, занимающегося вопросами профилактики и обучения насе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647640" y="1349280"/>
            <a:ext cx="8496360" cy="51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12d1c"/>
                </a:solidFill>
                <a:latin typeface="Calibri"/>
              </a:rPr>
              <a:t>ухудшение доступности получения информации для населения не только медицинскими работниками,                                но и в СМИ;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712d1c"/>
                </a:solidFill>
                <a:latin typeface="Calibri"/>
              </a:rPr>
              <a:t>разработка реабилитационных программ без участия населения,                             что затрудняет качество и оценку                           в их реализаци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Крест 3"/>
          <p:cNvGrpSpPr/>
          <p:nvPr/>
        </p:nvGrpSpPr>
        <p:grpSpPr>
          <a:xfrm>
            <a:off x="12600" y="1511280"/>
            <a:ext cx="567000" cy="566640"/>
            <a:chOff x="12600" y="1511280"/>
            <a:chExt cx="567000" cy="566640"/>
          </a:xfrm>
        </p:grpSpPr>
        <p:pic>
          <p:nvPicPr>
            <p:cNvPr id="120" name="Крест 3" descr=""/>
            <p:cNvPicPr/>
            <p:nvPr/>
          </p:nvPicPr>
          <p:blipFill>
            <a:blip r:embed="rId1"/>
            <a:stretch/>
          </p:blipFill>
          <p:spPr>
            <a:xfrm>
              <a:off x="12600" y="1511280"/>
              <a:ext cx="567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6000" y="1557360"/>
              <a:ext cx="215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Крест 4"/>
          <p:cNvGrpSpPr/>
          <p:nvPr/>
        </p:nvGrpSpPr>
        <p:grpSpPr>
          <a:xfrm>
            <a:off x="12600" y="4322880"/>
            <a:ext cx="567000" cy="566640"/>
            <a:chOff x="12600" y="4322880"/>
            <a:chExt cx="567000" cy="566640"/>
          </a:xfrm>
        </p:grpSpPr>
        <p:pic>
          <p:nvPicPr>
            <p:cNvPr id="123" name="Крест 4" descr=""/>
            <p:cNvPicPr/>
            <p:nvPr/>
          </p:nvPicPr>
          <p:blipFill>
            <a:blip r:embed="rId2"/>
            <a:stretch/>
          </p:blipFill>
          <p:spPr>
            <a:xfrm>
              <a:off x="12600" y="4322880"/>
              <a:ext cx="567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16000" y="4365720"/>
              <a:ext cx="215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кругленный прямоугольник 8"/>
          <p:cNvSpPr/>
          <p:nvPr/>
        </p:nvSpPr>
        <p:spPr>
          <a:xfrm>
            <a:off x="4565520" y="3780000"/>
            <a:ext cx="441036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7"/>
          <p:cNvSpPr/>
          <p:nvPr/>
        </p:nvSpPr>
        <p:spPr>
          <a:xfrm>
            <a:off x="52560" y="3780000"/>
            <a:ext cx="441000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1"/>
          <p:cNvSpPr/>
          <p:nvPr/>
        </p:nvSpPr>
        <p:spPr>
          <a:xfrm>
            <a:off x="780120" y="44280"/>
            <a:ext cx="7175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Calibri"/>
              </a:rPr>
              <a:t>Первичная профилактика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1280" y="1125360"/>
            <a:ext cx="8821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12d1c"/>
                </a:solidFill>
                <a:latin typeface="Calibri"/>
              </a:rPr>
              <a:t>организация мероприятий по предупреждению отклонений в состоянии здоровья и предотвращение заболеваний, укреплению адаптационных резервов организма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55520" y="377496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экологический скрининг на качество атмосферного воздуха, питьевой воды, пищевых продуктов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4716360" y="3716280"/>
            <a:ext cx="4259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санитарно-гигиенический скрининг условий труда, быта и отдыха, уровня психосоциального стресса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Стрелка вниз 5"/>
          <p:cNvGrpSpPr/>
          <p:nvPr/>
        </p:nvGrpSpPr>
        <p:grpSpPr>
          <a:xfrm>
            <a:off x="2548080" y="3041640"/>
            <a:ext cx="609480" cy="725400"/>
            <a:chOff x="2548080" y="3041640"/>
            <a:chExt cx="609480" cy="725400"/>
          </a:xfrm>
        </p:grpSpPr>
        <p:pic>
          <p:nvPicPr>
            <p:cNvPr id="132" name="Стрелка вниз 5" descr=""/>
            <p:cNvPicPr/>
            <p:nvPr/>
          </p:nvPicPr>
          <p:blipFill>
            <a:blip r:embed="rId1"/>
            <a:stretch/>
          </p:blipFill>
          <p:spPr>
            <a:xfrm>
              <a:off x="2548080" y="3041640"/>
              <a:ext cx="6094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2089800">
              <a:off x="2777760" y="3099960"/>
              <a:ext cx="217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Стрелка вниз 6"/>
          <p:cNvGrpSpPr/>
          <p:nvPr/>
        </p:nvGrpSpPr>
        <p:grpSpPr>
          <a:xfrm>
            <a:off x="5565600" y="3041640"/>
            <a:ext cx="609840" cy="725400"/>
            <a:chOff x="5565600" y="3041640"/>
            <a:chExt cx="609840" cy="725400"/>
          </a:xfrm>
        </p:grpSpPr>
        <p:pic>
          <p:nvPicPr>
            <p:cNvPr id="135" name="Стрелка вниз 6" descr=""/>
            <p:cNvPicPr/>
            <p:nvPr/>
          </p:nvPicPr>
          <p:blipFill>
            <a:blip r:embed="rId2"/>
            <a:stretch/>
          </p:blipFill>
          <p:spPr>
            <a:xfrm>
              <a:off x="5565600" y="3041640"/>
              <a:ext cx="6098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19509600">
              <a:off x="5786280" y="3099960"/>
              <a:ext cx="2178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780120" y="44280"/>
            <a:ext cx="7175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Calibri"/>
              </a:rPr>
              <a:t>Первичная профилактика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0" y="1015920"/>
            <a:ext cx="9036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12d1c"/>
                </a:solidFill>
                <a:latin typeface="Calibri"/>
              </a:rPr>
              <a:t>формирование парадигмы здорового образа жизни  через создание постоянно действующей информационно-пропагандистской систем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547344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780120" y="44280"/>
            <a:ext cx="7175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Calibri"/>
              </a:rPr>
              <a:t>Первичная профилактика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111240" y="1052640"/>
            <a:ext cx="8999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12d1c"/>
                </a:solidFill>
                <a:latin typeface="Calibri"/>
              </a:rPr>
              <a:t>информирование населения о факторах риска развития заболеваний и снижения их влияния                   на организм челове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D:\Документы\Документы ОПСА\Сайт\Странички учреждений ЗО\Городские\ГДКБ № 3++\Школа к дошкольному учреждению.JPG"/>
          <p:cNvPicPr/>
          <p:nvPr/>
        </p:nvPicPr>
        <p:blipFill>
          <a:blip r:embed="rId1"/>
          <a:stretch/>
        </p:blipFill>
        <p:spPr>
          <a:xfrm>
            <a:off x="2050920" y="2546280"/>
            <a:ext cx="5329440" cy="3997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250920" y="1015920"/>
            <a:ext cx="8642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12d1c"/>
                </a:solidFill>
                <a:latin typeface="Calibri"/>
              </a:rPr>
              <a:t>выявление групп риска и целенаправленная работа с ними, формирование у граждан гигиенических навыков и здорового образа жиз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780120" y="44280"/>
            <a:ext cx="7175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Calibri"/>
              </a:rPr>
              <a:t>Первичная профилактика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D:\Документы\Документы ОПСА\Сайт\Странички учреждений ЗО\Областные\ОКБ+-\УМЦ\акция молодежь против туберкулеза\окб 025.jpg"/>
          <p:cNvPicPr/>
          <p:nvPr/>
        </p:nvPicPr>
        <p:blipFill>
          <a:blip r:embed="rId1"/>
          <a:stretch/>
        </p:blipFill>
        <p:spPr>
          <a:xfrm>
            <a:off x="1835280" y="2492280"/>
            <a:ext cx="5473440" cy="4105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-59040" y="138240"/>
            <a:ext cx="838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Calibri"/>
              </a:rPr>
              <a:t>Новые формы профилактической работы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614520" y="1246320"/>
            <a:ext cx="83502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индивидуальное профилактическое консультирование по вопросам гигиенического обучения и воспитания взрослого и детского населения, целенаправленное обучение пациентов и членов их семей знаниям и навыкам, связанным с конкретным заболеванием или группой заболева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групповое профилактическое консультирование, организация школ пациентов, больных туберкулезом, школ здоровья для лиц с факторами риска, по обучению родственников уходу за больными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Крест 3"/>
          <p:cNvGrpSpPr/>
          <p:nvPr/>
        </p:nvGrpSpPr>
        <p:grpSpPr>
          <a:xfrm>
            <a:off x="12600" y="1371600"/>
            <a:ext cx="567000" cy="566640"/>
            <a:chOff x="12600" y="1371600"/>
            <a:chExt cx="567000" cy="566640"/>
          </a:xfrm>
        </p:grpSpPr>
        <p:pic>
          <p:nvPicPr>
            <p:cNvPr id="149" name="Крест 3" descr=""/>
            <p:cNvPicPr/>
            <p:nvPr/>
          </p:nvPicPr>
          <p:blipFill>
            <a:blip r:embed="rId1"/>
            <a:stretch/>
          </p:blipFill>
          <p:spPr>
            <a:xfrm>
              <a:off x="12600" y="1371600"/>
              <a:ext cx="567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16000" y="1413000"/>
              <a:ext cx="215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Крест 4"/>
          <p:cNvGrpSpPr/>
          <p:nvPr/>
        </p:nvGrpSpPr>
        <p:grpSpPr>
          <a:xfrm>
            <a:off x="12600" y="4535640"/>
            <a:ext cx="567000" cy="566640"/>
            <a:chOff x="12600" y="4535640"/>
            <a:chExt cx="567000" cy="566640"/>
          </a:xfrm>
        </p:grpSpPr>
        <p:pic>
          <p:nvPicPr>
            <p:cNvPr id="152" name="Крест 4" descr=""/>
            <p:cNvPicPr/>
            <p:nvPr/>
          </p:nvPicPr>
          <p:blipFill>
            <a:blip r:embed="rId2"/>
            <a:stretch/>
          </p:blipFill>
          <p:spPr>
            <a:xfrm>
              <a:off x="12600" y="4535640"/>
              <a:ext cx="567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16000" y="4581360"/>
              <a:ext cx="215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519840" y="44280"/>
            <a:ext cx="73404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Calibri"/>
              </a:rPr>
              <a:t>Вторичная профилактика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468360" y="1125360"/>
            <a:ext cx="8719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2d1c"/>
                </a:solidFill>
                <a:latin typeface="Calibri"/>
              </a:rPr>
              <a:t>комплекс медицинских, социальных, санитарно-гигиенических, психологических и иных мер, направленных на раннее выявление и предупреждение обострений и осложнений заболеван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2d1c"/>
                </a:solidFill>
                <a:latin typeface="Calibri"/>
              </a:rPr>
              <a:t>комплекс мер по предотвращению снижения трудоспособности, в том числе,                                                                                    инвалидности и                                           преждевременной смер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443640" y="4581360"/>
            <a:ext cx="2400480" cy="1800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7" name="Крест 4"/>
          <p:cNvGrpSpPr/>
          <p:nvPr/>
        </p:nvGrpSpPr>
        <p:grpSpPr>
          <a:xfrm>
            <a:off x="-60480" y="1225440"/>
            <a:ext cx="567000" cy="567000"/>
            <a:chOff x="-60480" y="1225440"/>
            <a:chExt cx="567000" cy="567000"/>
          </a:xfrm>
        </p:grpSpPr>
        <p:pic>
          <p:nvPicPr>
            <p:cNvPr id="158" name="Крест 4" descr=""/>
            <p:cNvPicPr/>
            <p:nvPr/>
          </p:nvPicPr>
          <p:blipFill>
            <a:blip r:embed="rId2"/>
            <a:stretch/>
          </p:blipFill>
          <p:spPr>
            <a:xfrm>
              <a:off x="-60480" y="1225440"/>
              <a:ext cx="567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42920" y="1268280"/>
              <a:ext cx="216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Крест 5"/>
          <p:cNvGrpSpPr/>
          <p:nvPr/>
        </p:nvGrpSpPr>
        <p:grpSpPr>
          <a:xfrm>
            <a:off x="-60480" y="4108320"/>
            <a:ext cx="567000" cy="560520"/>
            <a:chOff x="-60480" y="4108320"/>
            <a:chExt cx="567000" cy="560520"/>
          </a:xfrm>
        </p:grpSpPr>
        <p:pic>
          <p:nvPicPr>
            <p:cNvPr id="161" name="Крест 5" descr=""/>
            <p:cNvPicPr/>
            <p:nvPr/>
          </p:nvPicPr>
          <p:blipFill>
            <a:blip r:embed="rId3"/>
            <a:stretch/>
          </p:blipFill>
          <p:spPr>
            <a:xfrm>
              <a:off x="-60480" y="4108320"/>
              <a:ext cx="567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2920" y="4149720"/>
              <a:ext cx="216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519840" y="44280"/>
            <a:ext cx="73404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Calibri"/>
              </a:rPr>
              <a:t>Вторичная профилактика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944720" y="2352600"/>
            <a:ext cx="3103560" cy="432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5097600" y="212400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0" y="1305000"/>
            <a:ext cx="3121200" cy="432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-36360" y="0"/>
            <a:ext cx="8353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Calibri"/>
              </a:rPr>
              <a:t>Основные направления деятельности сестринского персонала в проведении медицинской профилакт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468360" y="1165320"/>
            <a:ext cx="849636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12d1c"/>
                </a:solidFill>
                <a:latin typeface="Calibri"/>
              </a:rPr>
              <a:t>ответственность за здоровье прикреплённого населения и наблюдение за пациентом на всех этапах оказания медицинской помощ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12d1c"/>
                </a:solidFill>
                <a:latin typeface="Calibri"/>
              </a:rPr>
              <a:t>осуществление профилактической работы, направленной на выявление ранних форм заболеваний, социально значимых болезней и факторов риск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12d1c"/>
                </a:solidFill>
                <a:latin typeface="Calibri"/>
              </a:rPr>
              <a:t>участие в проведении диспансеризации населения, включая выявление заболеваний и риска их развития, динамическое наблюдение, коррекцию факторов риска и лечение заболевани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Крест 3"/>
          <p:cNvGrpSpPr/>
          <p:nvPr/>
        </p:nvGrpSpPr>
        <p:grpSpPr>
          <a:xfrm>
            <a:off x="12600" y="1298520"/>
            <a:ext cx="420840" cy="420840"/>
            <a:chOff x="12600" y="1298520"/>
            <a:chExt cx="420840" cy="420840"/>
          </a:xfrm>
        </p:grpSpPr>
        <p:pic>
          <p:nvPicPr>
            <p:cNvPr id="170" name="Крест 3" descr=""/>
            <p:cNvPicPr/>
            <p:nvPr/>
          </p:nvPicPr>
          <p:blipFill>
            <a:blip r:embed="rId1"/>
            <a:stretch/>
          </p:blipFill>
          <p:spPr>
            <a:xfrm>
              <a:off x="12600" y="1298520"/>
              <a:ext cx="420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79280" y="1341360"/>
              <a:ext cx="144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Крест 4"/>
          <p:cNvGrpSpPr/>
          <p:nvPr/>
        </p:nvGrpSpPr>
        <p:grpSpPr>
          <a:xfrm>
            <a:off x="12600" y="2882880"/>
            <a:ext cx="425520" cy="420840"/>
            <a:chOff x="12600" y="2882880"/>
            <a:chExt cx="425520" cy="420840"/>
          </a:xfrm>
        </p:grpSpPr>
        <p:pic>
          <p:nvPicPr>
            <p:cNvPr id="173" name="Крест 4" descr=""/>
            <p:cNvPicPr/>
            <p:nvPr/>
          </p:nvPicPr>
          <p:blipFill>
            <a:blip r:embed="rId2"/>
            <a:stretch/>
          </p:blipFill>
          <p:spPr>
            <a:xfrm>
              <a:off x="12600" y="2882880"/>
              <a:ext cx="42552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84320" y="2924280"/>
              <a:ext cx="142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Крест 5"/>
          <p:cNvGrpSpPr/>
          <p:nvPr/>
        </p:nvGrpSpPr>
        <p:grpSpPr>
          <a:xfrm>
            <a:off x="12600" y="4968720"/>
            <a:ext cx="420840" cy="425520"/>
            <a:chOff x="12600" y="4968720"/>
            <a:chExt cx="420840" cy="425520"/>
          </a:xfrm>
        </p:grpSpPr>
        <p:pic>
          <p:nvPicPr>
            <p:cNvPr id="176" name="Крест 5" descr=""/>
            <p:cNvPicPr/>
            <p:nvPr/>
          </p:nvPicPr>
          <p:blipFill>
            <a:blip r:embed="rId3"/>
            <a:stretch/>
          </p:blipFill>
          <p:spPr>
            <a:xfrm>
              <a:off x="12600" y="4968720"/>
              <a:ext cx="42084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79280" y="5013360"/>
              <a:ext cx="1447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Диаграмма 16" descr=""/>
          <p:cNvPicPr/>
          <p:nvPr/>
        </p:nvPicPr>
        <p:blipFill>
          <a:blip r:embed="rId1"/>
          <a:stretch/>
        </p:blipFill>
        <p:spPr>
          <a:xfrm>
            <a:off x="746280" y="1484280"/>
            <a:ext cx="7886520" cy="21607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-36360" y="-100080"/>
            <a:ext cx="83167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Современная ситуация в Р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alibri"/>
              </a:rPr>
              <a:t>характеризуется ухудшением  основных показателей качества жизни насел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08000" y="3792600"/>
            <a:ext cx="2012760" cy="1390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900000" y="5064120"/>
            <a:ext cx="2022480" cy="1374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8" name="Диаграмма 14" descr=""/>
          <p:cNvPicPr/>
          <p:nvPr/>
        </p:nvPicPr>
        <p:blipFill>
          <a:blip r:embed="rId4"/>
          <a:stretch/>
        </p:blipFill>
        <p:spPr>
          <a:xfrm>
            <a:off x="611280" y="1220760"/>
            <a:ext cx="8208720" cy="25686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94040" y="1197000"/>
            <a:ext cx="282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12d1c"/>
                </a:solidFill>
                <a:latin typeface="Calibri"/>
              </a:rPr>
              <a:t>Качество жиз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6239880" y="1146240"/>
            <a:ext cx="28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12d1c"/>
                </a:solidFill>
                <a:latin typeface="Calibri"/>
              </a:rPr>
              <a:t>Заболеваем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2793960" y="3481560"/>
            <a:ext cx="2019240" cy="1361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" name="Picture 5" descr=""/>
          <p:cNvPicPr/>
          <p:nvPr/>
        </p:nvPicPr>
        <p:blipFill>
          <a:blip r:embed="rId6"/>
          <a:stretch/>
        </p:blipFill>
        <p:spPr>
          <a:xfrm>
            <a:off x="3492360" y="4732200"/>
            <a:ext cx="2019600" cy="1405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" name="Picture 7" descr=""/>
          <p:cNvPicPr/>
          <p:nvPr/>
        </p:nvPicPr>
        <p:blipFill>
          <a:blip r:embed="rId7"/>
          <a:stretch/>
        </p:blipFill>
        <p:spPr>
          <a:xfrm>
            <a:off x="5781600" y="3792600"/>
            <a:ext cx="2019240" cy="1393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" name="Picture 8" descr=""/>
          <p:cNvPicPr/>
          <p:nvPr/>
        </p:nvPicPr>
        <p:blipFill>
          <a:blip r:embed="rId8"/>
          <a:stretch/>
        </p:blipFill>
        <p:spPr>
          <a:xfrm>
            <a:off x="6580080" y="5006880"/>
            <a:ext cx="1997280" cy="1441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-36360" y="0"/>
            <a:ext cx="8353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Calibri"/>
              </a:rPr>
              <a:t>Основные направления деятельности сестринского персонала в проведении медицинской профилакти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611280" y="1190520"/>
            <a:ext cx="828180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12d1c"/>
                </a:solidFill>
                <a:latin typeface="Calibri"/>
              </a:rPr>
              <a:t>осуществление санитарно-гигиенического   обучения, консультирования по вопросам формирования здорового образа жизни, ведение школ здоровья;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12d1c"/>
                </a:solidFill>
                <a:latin typeface="Calibri"/>
              </a:rPr>
              <a:t>организация и проведение противоэпидемических мероприятий, вакцинации, иммунопрофилактики и реабилитации в условиях стационара, поликлиник и на дому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Крест 3"/>
          <p:cNvGrpSpPr/>
          <p:nvPr/>
        </p:nvGrpSpPr>
        <p:grpSpPr>
          <a:xfrm>
            <a:off x="12600" y="1384200"/>
            <a:ext cx="567000" cy="554040"/>
            <a:chOff x="12600" y="1384200"/>
            <a:chExt cx="567000" cy="554040"/>
          </a:xfrm>
        </p:grpSpPr>
        <p:pic>
          <p:nvPicPr>
            <p:cNvPr id="181" name="Крест 3" descr=""/>
            <p:cNvPicPr/>
            <p:nvPr/>
          </p:nvPicPr>
          <p:blipFill>
            <a:blip r:embed="rId1"/>
            <a:stretch/>
          </p:blipFill>
          <p:spPr>
            <a:xfrm>
              <a:off x="12600" y="1384200"/>
              <a:ext cx="56700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12680" y="1531800"/>
              <a:ext cx="4320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Крест 5"/>
          <p:cNvGrpSpPr/>
          <p:nvPr/>
        </p:nvGrpSpPr>
        <p:grpSpPr>
          <a:xfrm>
            <a:off x="-42840" y="3962520"/>
            <a:ext cx="566640" cy="549000"/>
            <a:chOff x="-42840" y="3962520"/>
            <a:chExt cx="566640" cy="549000"/>
          </a:xfrm>
        </p:grpSpPr>
        <p:pic>
          <p:nvPicPr>
            <p:cNvPr id="184" name="Крест 5" descr=""/>
            <p:cNvPicPr/>
            <p:nvPr/>
          </p:nvPicPr>
          <p:blipFill>
            <a:blip r:embed="rId2"/>
            <a:stretch/>
          </p:blipFill>
          <p:spPr>
            <a:xfrm>
              <a:off x="-42840" y="3962520"/>
              <a:ext cx="56664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5440" y="4110120"/>
              <a:ext cx="4302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-108000" y="6480"/>
            <a:ext cx="846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Calibri"/>
              </a:rPr>
              <a:t>Необходимо сформировать у граждан ответственное отношение к своему здоровь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D:\Рисунки\Люди\1233697459_2-people-groups-100-images.jpg"/>
          <p:cNvPicPr/>
          <p:nvPr/>
        </p:nvPicPr>
        <p:blipFill>
          <a:blip r:embed="rId1"/>
          <a:stretch/>
        </p:blipFill>
        <p:spPr>
          <a:xfrm>
            <a:off x="3203640" y="3860640"/>
            <a:ext cx="2776320" cy="274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597480" cy="259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3"/>
          <a:stretch/>
        </p:blipFill>
        <p:spPr>
          <a:xfrm>
            <a:off x="5543640" y="1413000"/>
            <a:ext cx="360036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783000" y="2778120"/>
            <a:ext cx="7818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712d1c"/>
                </a:solidFill>
                <a:latin typeface="Calibri"/>
              </a:rPr>
              <a:t>Благодарю за внимание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0" y="0"/>
            <a:ext cx="82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Calibri"/>
              </a:rPr>
              <a:t>Значение медицинской профилактики                   в сохранении здоровья насел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692360" y="1052640"/>
            <a:ext cx="7127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12d1c"/>
                </a:solidFill>
                <a:latin typeface="Calibri"/>
              </a:rPr>
              <a:t>это снижение уровня смертности, заболеваемости, инвалидности или нарушения  в состоянии здоровь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195640" y="3636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12840" y="3746520"/>
            <a:ext cx="2236680" cy="1736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940040" y="4797360"/>
            <a:ext cx="2236680" cy="1736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4032360" y="3784680"/>
            <a:ext cx="2268360" cy="1736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156360" y="4614840"/>
            <a:ext cx="2268360" cy="1774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61" name="Не равно 4"/>
          <p:cNvGrpSpPr/>
          <p:nvPr/>
        </p:nvGrpSpPr>
        <p:grpSpPr>
          <a:xfrm>
            <a:off x="3786120" y="2597040"/>
            <a:ext cx="1328760" cy="852480"/>
            <a:chOff x="3786120" y="2597040"/>
            <a:chExt cx="1328760" cy="852480"/>
          </a:xfrm>
        </p:grpSpPr>
        <p:pic>
          <p:nvPicPr>
            <p:cNvPr id="62" name="Не равно 4" descr=""/>
            <p:cNvPicPr/>
            <p:nvPr/>
          </p:nvPicPr>
          <p:blipFill>
            <a:blip r:embed="rId5"/>
            <a:stretch/>
          </p:blipFill>
          <p:spPr>
            <a:xfrm>
              <a:off x="3786120" y="2597040"/>
              <a:ext cx="1328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881520" y="2784600"/>
              <a:ext cx="11952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Picture 2" descr="D:\Документы\Эмблемы\Всемир. и междунар. организации\ВОЗ\images.png"/>
          <p:cNvPicPr/>
          <p:nvPr/>
        </p:nvPicPr>
        <p:blipFill>
          <a:blip r:embed="rId6"/>
          <a:stretch/>
        </p:blipFill>
        <p:spPr>
          <a:xfrm>
            <a:off x="528480" y="1197000"/>
            <a:ext cx="1235160" cy="1152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195640" y="3636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50920" y="1144440"/>
            <a:ext cx="3962160" cy="2644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3962520" cy="2643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5003640" y="1930320"/>
            <a:ext cx="3961080" cy="2703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2195640" y="3636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alibri"/>
              </a:rPr>
              <a:t>Здоровь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755640" y="1197000"/>
            <a:ext cx="860436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12d1c"/>
                </a:solidFill>
                <a:uFillTx/>
                <a:latin typeface="Calibri"/>
              </a:rPr>
              <a:t>индивидуальное: </a:t>
            </a: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оценка по персональному самочувствию, наличию или отсутствию заболеваний, трудоспособности, физическому состоянию и развитию, личным ощущениям бытия, радости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12d1c"/>
                </a:solidFill>
                <a:uFillTx/>
                <a:latin typeface="Calibri"/>
              </a:rPr>
              <a:t>групповое:</a:t>
            </a: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 оценка индивидуального здоровья, медико-статистические, демографические, социально-гигиенические характеристи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12d1c"/>
                </a:solidFill>
                <a:uFillTx/>
                <a:latin typeface="Calibri"/>
              </a:rPr>
              <a:t>популяционное: </a:t>
            </a: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медико-статистические, демографические, социально-гигиенические параметры популя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3840" y="1413000"/>
            <a:ext cx="560520" cy="87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9320" y="3789360"/>
            <a:ext cx="677880" cy="873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73" name="Picture 4" descr="C:\Users\1\Desktop\человечки\dreamstime_15693085.jpg"/>
          <p:cNvPicPr/>
          <p:nvPr/>
        </p:nvPicPr>
        <p:blipFill>
          <a:blip r:embed="rId3"/>
          <a:stretch/>
        </p:blipFill>
        <p:spPr>
          <a:xfrm>
            <a:off x="33480" y="5430960"/>
            <a:ext cx="722160" cy="877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43280" y="44280"/>
            <a:ext cx="80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Медицинская профилакт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34920" y="1784520"/>
            <a:ext cx="90378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Calibri"/>
              </a:rPr>
              <a:t>Это комплекс мер, направленных на раннее выявление риска развития заболеваний, снижение отрицательного воздействия на здоровье факторов внутренней и внешней среды, укрепление здоровья населения и профилактику заболева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-108000" y="-27000"/>
            <a:ext cx="84600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Calibri"/>
              </a:rPr>
              <a:t>Факторы, способствующие развитию    и прогрессированию туберкулез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611280" y="1268280"/>
            <a:ext cx="83534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Calibri"/>
              </a:rPr>
              <a:t>состояние окружающей среды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Calibri"/>
              </a:rPr>
              <a:t>особенности образа жизни и привычек челове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Calibri"/>
              </a:rPr>
              <a:t>пол, возрас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12d1c"/>
                </a:solidFill>
                <a:latin typeface="Calibri"/>
              </a:rPr>
              <a:t>социальный статус индиви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Крест 3"/>
          <p:cNvGrpSpPr/>
          <p:nvPr/>
        </p:nvGrpSpPr>
        <p:grpSpPr>
          <a:xfrm>
            <a:off x="12600" y="1371600"/>
            <a:ext cx="567000" cy="566640"/>
            <a:chOff x="12600" y="1371600"/>
            <a:chExt cx="567000" cy="566640"/>
          </a:xfrm>
        </p:grpSpPr>
        <p:pic>
          <p:nvPicPr>
            <p:cNvPr id="79" name="Крест 3" descr=""/>
            <p:cNvPicPr/>
            <p:nvPr/>
          </p:nvPicPr>
          <p:blipFill>
            <a:blip r:embed="rId1"/>
            <a:stretch/>
          </p:blipFill>
          <p:spPr>
            <a:xfrm>
              <a:off x="12600" y="1371600"/>
              <a:ext cx="567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16000" y="1413000"/>
              <a:ext cx="215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Крест 4"/>
          <p:cNvGrpSpPr/>
          <p:nvPr/>
        </p:nvGrpSpPr>
        <p:grpSpPr>
          <a:xfrm>
            <a:off x="12600" y="2236680"/>
            <a:ext cx="567000" cy="561960"/>
            <a:chOff x="12600" y="2236680"/>
            <a:chExt cx="567000" cy="561960"/>
          </a:xfrm>
        </p:grpSpPr>
        <p:pic>
          <p:nvPicPr>
            <p:cNvPr id="82" name="Крест 4" descr=""/>
            <p:cNvPicPr/>
            <p:nvPr/>
          </p:nvPicPr>
          <p:blipFill>
            <a:blip r:embed="rId2"/>
            <a:stretch/>
          </p:blipFill>
          <p:spPr>
            <a:xfrm>
              <a:off x="12600" y="2236680"/>
              <a:ext cx="5670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16000" y="2276640"/>
              <a:ext cx="215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Крест 5"/>
          <p:cNvGrpSpPr/>
          <p:nvPr/>
        </p:nvGrpSpPr>
        <p:grpSpPr>
          <a:xfrm>
            <a:off x="12600" y="3602160"/>
            <a:ext cx="567000" cy="568080"/>
            <a:chOff x="12600" y="3602160"/>
            <a:chExt cx="567000" cy="568080"/>
          </a:xfrm>
        </p:grpSpPr>
        <p:pic>
          <p:nvPicPr>
            <p:cNvPr id="85" name="Крест 5" descr=""/>
            <p:cNvPicPr/>
            <p:nvPr/>
          </p:nvPicPr>
          <p:blipFill>
            <a:blip r:embed="rId3"/>
            <a:stretch/>
          </p:blipFill>
          <p:spPr>
            <a:xfrm>
              <a:off x="12600" y="3602160"/>
              <a:ext cx="56700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16000" y="3645000"/>
              <a:ext cx="215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Крест 6"/>
          <p:cNvGrpSpPr/>
          <p:nvPr/>
        </p:nvGrpSpPr>
        <p:grpSpPr>
          <a:xfrm>
            <a:off x="12600" y="4468680"/>
            <a:ext cx="567000" cy="567000"/>
            <a:chOff x="12600" y="4468680"/>
            <a:chExt cx="567000" cy="567000"/>
          </a:xfrm>
        </p:grpSpPr>
        <p:pic>
          <p:nvPicPr>
            <p:cNvPr id="88" name="Крест 6" descr=""/>
            <p:cNvPicPr/>
            <p:nvPr/>
          </p:nvPicPr>
          <p:blipFill>
            <a:blip r:embed="rId4"/>
            <a:stretch/>
          </p:blipFill>
          <p:spPr>
            <a:xfrm>
              <a:off x="12600" y="4468680"/>
              <a:ext cx="567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16000" y="4508640"/>
              <a:ext cx="2156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Picture 2" descr=""/>
          <p:cNvPicPr/>
          <p:nvPr/>
        </p:nvPicPr>
        <p:blipFill>
          <a:blip r:embed="rId5"/>
          <a:stretch/>
        </p:blipFill>
        <p:spPr>
          <a:xfrm>
            <a:off x="108000" y="5380200"/>
            <a:ext cx="2016000" cy="129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6"/>
          <a:stretch/>
        </p:blipFill>
        <p:spPr>
          <a:xfrm>
            <a:off x="2340000" y="5054760"/>
            <a:ext cx="2016000" cy="1258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7"/>
          <a:stretch/>
        </p:blipFill>
        <p:spPr>
          <a:xfrm>
            <a:off x="4572000" y="5381640"/>
            <a:ext cx="201312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8"/>
          <a:stretch/>
        </p:blipFill>
        <p:spPr>
          <a:xfrm>
            <a:off x="6804000" y="4941720"/>
            <a:ext cx="1970280" cy="125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-9360"/>
            <a:ext cx="810108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Calibri"/>
              </a:rPr>
              <a:t>Раннее выявление туберкулеза - большая проблема фтизиатри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611280" y="1179360"/>
            <a:ext cx="7489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12d1c"/>
                </a:solidFill>
                <a:latin typeface="Calibri"/>
              </a:rPr>
              <a:t>У населения и медицинского персонала отсутствует должная настороженность и осознание опасности в отношении туберкулез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12d1c"/>
                </a:solidFill>
                <a:latin typeface="Calibri"/>
              </a:rPr>
              <a:t>Затраты на лечение при несвоевременном выявлении туберкулеза возрастают в 5-6 раз,                      а при запущенных формах специфического процесса -                                    в 90-100 раз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Крест 3"/>
          <p:cNvGrpSpPr/>
          <p:nvPr/>
        </p:nvGrpSpPr>
        <p:grpSpPr>
          <a:xfrm>
            <a:off x="12600" y="1298520"/>
            <a:ext cx="567000" cy="566640"/>
            <a:chOff x="12600" y="1298520"/>
            <a:chExt cx="567000" cy="566640"/>
          </a:xfrm>
        </p:grpSpPr>
        <p:pic>
          <p:nvPicPr>
            <p:cNvPr id="97" name="Крест 3" descr=""/>
            <p:cNvPicPr/>
            <p:nvPr/>
          </p:nvPicPr>
          <p:blipFill>
            <a:blip r:embed="rId1"/>
            <a:stretch/>
          </p:blipFill>
          <p:spPr>
            <a:xfrm>
              <a:off x="12600" y="1298520"/>
              <a:ext cx="567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16000" y="1341360"/>
              <a:ext cx="215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Крест 4"/>
          <p:cNvGrpSpPr/>
          <p:nvPr/>
        </p:nvGrpSpPr>
        <p:grpSpPr>
          <a:xfrm>
            <a:off x="12600" y="3816360"/>
            <a:ext cx="567000" cy="566640"/>
            <a:chOff x="12600" y="3816360"/>
            <a:chExt cx="567000" cy="566640"/>
          </a:xfrm>
        </p:grpSpPr>
        <p:pic>
          <p:nvPicPr>
            <p:cNvPr id="100" name="Крест 4" descr=""/>
            <p:cNvPicPr/>
            <p:nvPr/>
          </p:nvPicPr>
          <p:blipFill>
            <a:blip r:embed="rId2"/>
            <a:stretch/>
          </p:blipFill>
          <p:spPr>
            <a:xfrm>
              <a:off x="12600" y="3816360"/>
              <a:ext cx="567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16000" y="3860640"/>
              <a:ext cx="215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7072200" y="3860640"/>
            <a:ext cx="1992600" cy="1494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4"/>
          <a:stretch/>
        </p:blipFill>
        <p:spPr>
          <a:xfrm>
            <a:off x="6948360" y="5354640"/>
            <a:ext cx="1336680" cy="831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7502400" y="1305000"/>
            <a:ext cx="156528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7"/>
          <p:cNvSpPr/>
          <p:nvPr/>
        </p:nvSpPr>
        <p:spPr>
          <a:xfrm>
            <a:off x="324000" y="5656320"/>
            <a:ext cx="7272360" cy="1012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-36360" y="120600"/>
            <a:ext cx="83167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ffff"/>
                </a:solidFill>
                <a:latin typeface="Calibri"/>
              </a:rPr>
              <a:t>Лечение туберкулез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179280" y="1268280"/>
            <a:ext cx="705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Успешная терапия во многом зависит                                     от правильного информирования медицинскими сестрами пациентов                                о приверженности к леч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179280" y="5661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2d1c"/>
                </a:solidFill>
                <a:latin typeface="Calibri"/>
              </a:rPr>
              <a:t>Туберкулез - контролируемое инфекционное заболе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2992320" y="3429000"/>
            <a:ext cx="59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12d1c"/>
                </a:solidFill>
                <a:latin typeface="Calibri"/>
              </a:rPr>
              <a:t>На прежнем уровне остается повышение профессиональной заболеваемости среди сотрудников противотуберкулезных диспансе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39960" cy="181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243480" y="1268280"/>
            <a:ext cx="270684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3:09:55Z</dcterms:created>
  <dc:creator>User</dc:creator>
  <dc:description/>
  <dc:language>en-US</dc:language>
  <cp:lastModifiedBy>ОПСА</cp:lastModifiedBy>
  <dcterms:modified xsi:type="dcterms:W3CDTF">2011-04-04T04:12:47Z</dcterms:modified>
  <cp:revision>212</cp:revision>
  <dc:subject/>
  <dc:title>Слайд 1</dc:title>
</cp:coreProperties>
</file>