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11.jpeg" ContentType="image/jpeg"/>
  <Override PartName="/ppt/media/image24.png" ContentType="image/png"/>
  <Override PartName="/ppt/media/image19.jpeg" ContentType="image/jpeg"/>
  <Override PartName="/ppt/media/image25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15.jpeg" ContentType="image/jpeg"/>
  <Override PartName="/ppt/media/image65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4.png" ContentType="image/png"/>
  <Override PartName="/ppt/media/image18.jpeg" ContentType="image/jpe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4.png" ContentType="image/png"/>
  <Override PartName="/ppt/media/image10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6.png" ContentType="image/png"/>
  <Override PartName="/ppt/media/image36.png" ContentType="image/png"/>
  <Override PartName="/ppt/media/image75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F97-493E-477A-87F1-51365982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3D9-C6CE-4699-8C7E-D85CADF2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467-D18D-4D75-BC89-8F354B3A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685-82E7-435B-B17E-1C64A551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93C-0128-4907-9DD3-BB400B9C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345-6DE9-4EA4-B366-33740582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8CF-E18F-45BF-9E04-5C013F9F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6A4-C7CE-4AAD-8319-1A63FA62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9FCD-F421-4505-9CCF-AF53CAFD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102-A98C-4D8B-9698-8F82DF73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76C-6B8C-46BE-9AE7-F14F7337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6F3-6E29-4256-9F11-64EA654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8D2-ED89-47DD-B19B-4840AB87C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7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179280" y="191628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Calibri"/>
              </a:rPr>
              <a:t>Профессиональное здоровье и безопасная больничная сред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3"/>
          <p:cNvSpPr/>
          <p:nvPr/>
        </p:nvSpPr>
        <p:spPr>
          <a:xfrm>
            <a:off x="3024360" y="5516640"/>
            <a:ext cx="6084720" cy="1007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67300"/>
                </a:solidFill>
                <a:latin typeface="Calibri"/>
              </a:rPr>
              <a:t>О.В. Кулябин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67300"/>
                </a:solidFill>
                <a:latin typeface="Calibri"/>
              </a:rPr>
              <a:t>методист БОУОО ЦПК Р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2" descr="IMG_1284"/>
          <p:cNvPicPr/>
          <p:nvPr/>
        </p:nvPicPr>
        <p:blipFill>
          <a:blip r:embed="rId1"/>
          <a:stretch/>
        </p:blipFill>
        <p:spPr>
          <a:xfrm>
            <a:off x="108000" y="517680"/>
            <a:ext cx="1655640" cy="895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17"/>
          <p:cNvSpPr/>
          <p:nvPr/>
        </p:nvSpPr>
        <p:spPr>
          <a:xfrm>
            <a:off x="1692360" y="765000"/>
            <a:ext cx="741672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67300"/>
                </a:solidFill>
                <a:latin typeface="Calibri"/>
              </a:rPr>
              <a:t>Центр повышения квалификации работников здравоохра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9"/>
          <p:cNvSpPr/>
          <p:nvPr/>
        </p:nvSpPr>
        <p:spPr>
          <a:xfrm>
            <a:off x="0" y="31003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3366"/>
                </a:solidFill>
                <a:latin typeface="Calibri"/>
              </a:rPr>
              <a:t>это правильно сформированная среда, не причиняющая вреда всем участникам лечебного процесс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1280" y="552600"/>
            <a:ext cx="83170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e67300"/>
                </a:solidFill>
                <a:latin typeface="Calibri"/>
              </a:rPr>
              <a:t>Безопасная </a:t>
            </a:r>
            <a:br>
              <a:rPr sz="5700"/>
            </a:br>
            <a:r>
              <a:rPr b="1" lang="ru-RU" sz="5700" spc="-1" strike="noStrike">
                <a:solidFill>
                  <a:srgbClr val="e67300"/>
                </a:solidFill>
                <a:latin typeface="Calibri"/>
              </a:rPr>
              <a:t>больничная среда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Стрелка вниз 5"/>
          <p:cNvGrpSpPr/>
          <p:nvPr/>
        </p:nvGrpSpPr>
        <p:grpSpPr>
          <a:xfrm>
            <a:off x="4017960" y="2176560"/>
            <a:ext cx="596880" cy="779400"/>
            <a:chOff x="4017960" y="2176560"/>
            <a:chExt cx="596880" cy="779400"/>
          </a:xfrm>
        </p:grpSpPr>
        <p:pic>
          <p:nvPicPr>
            <p:cNvPr id="166" name="Стрелка вниз 5" descr=""/>
            <p:cNvPicPr/>
            <p:nvPr/>
          </p:nvPicPr>
          <p:blipFill>
            <a:blip r:embed="rId1"/>
            <a:stretch/>
          </p:blipFill>
          <p:spPr>
            <a:xfrm>
              <a:off x="4017960" y="2176560"/>
              <a:ext cx="5968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194000" y="2205000"/>
              <a:ext cx="2527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87850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67300"/>
                </a:solidFill>
                <a:latin typeface="Calibri"/>
              </a:rPr>
              <a:t>Агрессивные факторы больничной среды: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641520" y="1856880"/>
            <a:ext cx="7848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2999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воздействие токсических вещест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физические перегрузк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внутрибольничная инфекц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лучевое воздейств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психоэмоциональные перегруз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Овал 3"/>
          <p:cNvGrpSpPr/>
          <p:nvPr/>
        </p:nvGrpSpPr>
        <p:grpSpPr>
          <a:xfrm>
            <a:off x="146160" y="2103480"/>
            <a:ext cx="347400" cy="341280"/>
            <a:chOff x="146160" y="2103480"/>
            <a:chExt cx="347400" cy="341280"/>
          </a:xfrm>
        </p:grpSpPr>
        <p:pic>
          <p:nvPicPr>
            <p:cNvPr id="171" name="Овал 3" descr=""/>
            <p:cNvPicPr/>
            <p:nvPr/>
          </p:nvPicPr>
          <p:blipFill>
            <a:blip r:embed="rId1"/>
            <a:stretch/>
          </p:blipFill>
          <p:spPr>
            <a:xfrm>
              <a:off x="146160" y="2103480"/>
              <a:ext cx="3474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22120" y="21747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Овал 4"/>
          <p:cNvGrpSpPr/>
          <p:nvPr/>
        </p:nvGrpSpPr>
        <p:grpSpPr>
          <a:xfrm>
            <a:off x="146160" y="3108240"/>
            <a:ext cx="347400" cy="347760"/>
            <a:chOff x="146160" y="3108240"/>
            <a:chExt cx="347400" cy="347760"/>
          </a:xfrm>
        </p:grpSpPr>
        <p:pic>
          <p:nvPicPr>
            <p:cNvPr id="174" name="Овал 4" descr=""/>
            <p:cNvPicPr/>
            <p:nvPr/>
          </p:nvPicPr>
          <p:blipFill>
            <a:blip r:embed="rId2"/>
            <a:stretch/>
          </p:blipFill>
          <p:spPr>
            <a:xfrm>
              <a:off x="146160" y="3108240"/>
              <a:ext cx="34740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22120" y="318276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Овал 5"/>
          <p:cNvGrpSpPr/>
          <p:nvPr/>
        </p:nvGrpSpPr>
        <p:grpSpPr>
          <a:xfrm>
            <a:off x="146160" y="4121280"/>
            <a:ext cx="347400" cy="341280"/>
            <a:chOff x="146160" y="4121280"/>
            <a:chExt cx="347400" cy="341280"/>
          </a:xfrm>
        </p:grpSpPr>
        <p:pic>
          <p:nvPicPr>
            <p:cNvPr id="177" name="Овал 5" descr=""/>
            <p:cNvPicPr/>
            <p:nvPr/>
          </p:nvPicPr>
          <p:blipFill>
            <a:blip r:embed="rId3"/>
            <a:stretch/>
          </p:blipFill>
          <p:spPr>
            <a:xfrm>
              <a:off x="146160" y="4121280"/>
              <a:ext cx="3474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22120" y="419112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Овал 6"/>
          <p:cNvGrpSpPr/>
          <p:nvPr/>
        </p:nvGrpSpPr>
        <p:grpSpPr>
          <a:xfrm>
            <a:off x="146160" y="5052960"/>
            <a:ext cx="347400" cy="347760"/>
            <a:chOff x="146160" y="5052960"/>
            <a:chExt cx="347400" cy="347760"/>
          </a:xfrm>
        </p:grpSpPr>
        <p:pic>
          <p:nvPicPr>
            <p:cNvPr id="180" name="Овал 6" descr=""/>
            <p:cNvPicPr/>
            <p:nvPr/>
          </p:nvPicPr>
          <p:blipFill>
            <a:blip r:embed="rId4"/>
            <a:stretch/>
          </p:blipFill>
          <p:spPr>
            <a:xfrm>
              <a:off x="146160" y="5052960"/>
              <a:ext cx="34740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22120" y="512748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Овал 7"/>
          <p:cNvGrpSpPr/>
          <p:nvPr/>
        </p:nvGrpSpPr>
        <p:grpSpPr>
          <a:xfrm>
            <a:off x="146160" y="6132600"/>
            <a:ext cx="347400" cy="347400"/>
            <a:chOff x="146160" y="6132600"/>
            <a:chExt cx="347400" cy="347400"/>
          </a:xfrm>
        </p:grpSpPr>
        <p:pic>
          <p:nvPicPr>
            <p:cNvPr id="183" name="Овал 7" descr=""/>
            <p:cNvPicPr/>
            <p:nvPr/>
          </p:nvPicPr>
          <p:blipFill>
            <a:blip r:embed="rId5"/>
            <a:stretch/>
          </p:blipFill>
          <p:spPr>
            <a:xfrm>
              <a:off x="146160" y="6132600"/>
              <a:ext cx="34740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22120" y="620712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3" descr="C:\Users\User\Desktop\VOZ.gif"/>
          <p:cNvPicPr/>
          <p:nvPr/>
        </p:nvPicPr>
        <p:blipFill>
          <a:blip r:embed="rId6"/>
          <a:stretch/>
        </p:blipFill>
        <p:spPr>
          <a:xfrm>
            <a:off x="7885080" y="549360"/>
            <a:ext cx="1062000" cy="106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1"/>
          <p:cNvSpPr/>
          <p:nvPr/>
        </p:nvSpPr>
        <p:spPr>
          <a:xfrm>
            <a:off x="250920" y="333360"/>
            <a:ext cx="87138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67300"/>
                </a:solidFill>
                <a:latin typeface="Calibri"/>
              </a:rPr>
              <a:t>У медицинского персонала заболеваемость туберкулезом в 8 - 10 раз выше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67300"/>
                </a:solidFill>
                <a:latin typeface="Calibri"/>
              </a:rPr>
              <a:t>чем в других группах насел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921640" cy="4441680"/>
          </a:xfrm>
          <a:prstGeom prst="rect">
            <a:avLst/>
          </a:prstGeom>
          <a:ln w="19080">
            <a:solidFill>
              <a:srgbClr val="f27900"/>
            </a:solidFill>
            <a:miter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755640" y="333360"/>
            <a:ext cx="75549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e67300"/>
                </a:solidFill>
                <a:latin typeface="Calibri"/>
              </a:rPr>
              <a:t>Распределение по степени риска заражения туберкулезом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684360" y="1501560"/>
            <a:ext cx="849600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персонал бактериологических лабораторий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работники стационаров противотуберкулезных учреждений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работники поликлинических подразделений противотуберкулезных диспансеров и патолого-морфологических отделений,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персонал терапевтических отделений больниц, работники скорой медицинской помощи и аптек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Овал 3"/>
          <p:cNvGrpSpPr/>
          <p:nvPr/>
        </p:nvGrpSpPr>
        <p:grpSpPr>
          <a:xfrm>
            <a:off x="79200" y="1596960"/>
            <a:ext cx="554040" cy="560520"/>
            <a:chOff x="79200" y="1596960"/>
            <a:chExt cx="554040" cy="560520"/>
          </a:xfrm>
        </p:grpSpPr>
        <p:pic>
          <p:nvPicPr>
            <p:cNvPr id="191" name="Овал 3" descr=""/>
            <p:cNvPicPr/>
            <p:nvPr/>
          </p:nvPicPr>
          <p:blipFill>
            <a:blip r:embed="rId1"/>
            <a:stretch/>
          </p:blipFill>
          <p:spPr>
            <a:xfrm>
              <a:off x="79200" y="1596960"/>
              <a:ext cx="5540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81080" y="1703520"/>
              <a:ext cx="3571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Прямоугольник 4"/>
          <p:cNvSpPr/>
          <p:nvPr/>
        </p:nvSpPr>
        <p:spPr>
          <a:xfrm>
            <a:off x="171720" y="15876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Овал 5"/>
          <p:cNvGrpSpPr/>
          <p:nvPr/>
        </p:nvGrpSpPr>
        <p:grpSpPr>
          <a:xfrm>
            <a:off x="85680" y="2505240"/>
            <a:ext cx="560520" cy="555480"/>
            <a:chOff x="85680" y="2505240"/>
            <a:chExt cx="560520" cy="555480"/>
          </a:xfrm>
        </p:grpSpPr>
        <p:pic>
          <p:nvPicPr>
            <p:cNvPr id="195" name="Овал 5" descr=""/>
            <p:cNvPicPr/>
            <p:nvPr/>
          </p:nvPicPr>
          <p:blipFill>
            <a:blip r:embed="rId2"/>
            <a:stretch/>
          </p:blipFill>
          <p:spPr>
            <a:xfrm>
              <a:off x="85680" y="2505240"/>
              <a:ext cx="56052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92240" y="260676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Прямоугольник 6"/>
          <p:cNvSpPr/>
          <p:nvPr/>
        </p:nvSpPr>
        <p:spPr>
          <a:xfrm>
            <a:off x="182880" y="24922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Овал 7"/>
          <p:cNvGrpSpPr/>
          <p:nvPr/>
        </p:nvGrpSpPr>
        <p:grpSpPr>
          <a:xfrm>
            <a:off x="109440" y="3828960"/>
            <a:ext cx="560520" cy="560520"/>
            <a:chOff x="109440" y="3828960"/>
            <a:chExt cx="560520" cy="560520"/>
          </a:xfrm>
        </p:grpSpPr>
        <p:pic>
          <p:nvPicPr>
            <p:cNvPr id="199" name="Овал 7" descr=""/>
            <p:cNvPicPr/>
            <p:nvPr/>
          </p:nvPicPr>
          <p:blipFill>
            <a:blip r:embed="rId3"/>
            <a:stretch/>
          </p:blipFill>
          <p:spPr>
            <a:xfrm>
              <a:off x="109440" y="382896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4200" y="39355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Прямоугольник 8"/>
          <p:cNvSpPr/>
          <p:nvPr/>
        </p:nvSpPr>
        <p:spPr>
          <a:xfrm>
            <a:off x="204480" y="382104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Овал 9"/>
          <p:cNvGrpSpPr/>
          <p:nvPr/>
        </p:nvGrpSpPr>
        <p:grpSpPr>
          <a:xfrm>
            <a:off x="122400" y="5632560"/>
            <a:ext cx="554040" cy="555480"/>
            <a:chOff x="122400" y="5632560"/>
            <a:chExt cx="554040" cy="555480"/>
          </a:xfrm>
        </p:grpSpPr>
        <p:pic>
          <p:nvPicPr>
            <p:cNvPr id="203" name="Овал 9" descr=""/>
            <p:cNvPicPr/>
            <p:nvPr/>
          </p:nvPicPr>
          <p:blipFill>
            <a:blip r:embed="rId4"/>
            <a:stretch/>
          </p:blipFill>
          <p:spPr>
            <a:xfrm>
              <a:off x="122400" y="5632560"/>
              <a:ext cx="55404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23920" y="5735520"/>
              <a:ext cx="3571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Прямоугольник 10"/>
          <p:cNvSpPr/>
          <p:nvPr/>
        </p:nvSpPr>
        <p:spPr>
          <a:xfrm>
            <a:off x="214920" y="56214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67300"/>
                </a:solidFill>
                <a:latin typeface="Calibri"/>
              </a:rPr>
              <a:t>Проблемы формирования безопасной больничной сред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539640" y="1706760"/>
            <a:ext cx="8496360" cy="49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42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большинство медицинских сестёр фактически            не имеют представления об основных отрицательных воздействиях больничной среды, влияющих на здоровье медицинских работник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Aft>
                <a:spcPts val="42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недопустимо часто сестринский персонал                   не соблюдает элементарных правил личной безопасности на рабочем месте, даже зная                    об их отрицательном воздействии на собственное  здоровье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Овал 3"/>
          <p:cNvGrpSpPr/>
          <p:nvPr/>
        </p:nvGrpSpPr>
        <p:grpSpPr>
          <a:xfrm>
            <a:off x="79200" y="1884240"/>
            <a:ext cx="414360" cy="420840"/>
            <a:chOff x="79200" y="1884240"/>
            <a:chExt cx="414360" cy="420840"/>
          </a:xfrm>
        </p:grpSpPr>
        <p:pic>
          <p:nvPicPr>
            <p:cNvPr id="209" name="Овал 3" descr=""/>
            <p:cNvPicPr/>
            <p:nvPr/>
          </p:nvPicPr>
          <p:blipFill>
            <a:blip r:embed="rId1"/>
            <a:stretch/>
          </p:blipFill>
          <p:spPr>
            <a:xfrm>
              <a:off x="79200" y="1884240"/>
              <a:ext cx="4143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60200" y="1969920"/>
              <a:ext cx="254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Овал 4"/>
          <p:cNvGrpSpPr/>
          <p:nvPr/>
        </p:nvGrpSpPr>
        <p:grpSpPr>
          <a:xfrm>
            <a:off x="146160" y="4334040"/>
            <a:ext cx="420480" cy="414000"/>
            <a:chOff x="146160" y="4334040"/>
            <a:chExt cx="420480" cy="414000"/>
          </a:xfrm>
        </p:grpSpPr>
        <p:pic>
          <p:nvPicPr>
            <p:cNvPr id="212" name="Овал 4" descr=""/>
            <p:cNvPicPr/>
            <p:nvPr/>
          </p:nvPicPr>
          <p:blipFill>
            <a:blip r:embed="rId2"/>
            <a:stretch/>
          </p:blipFill>
          <p:spPr>
            <a:xfrm>
              <a:off x="146160" y="4334040"/>
              <a:ext cx="420480" cy="4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231840" y="4417920"/>
              <a:ext cx="255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67300"/>
                </a:solidFill>
                <a:latin typeface="Calibri"/>
              </a:rPr>
              <a:t>Проблемы формирования безопасной больничной сред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468360" y="1456920"/>
            <a:ext cx="8675640" cy="52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5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главные и старшие медсёстры, имеющие повышенный уровень образования и ВСО, не уделяют должного внимания обучению сестринского персонала вопросам ББС в учреждениях здравоохране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5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медицинские сестры в настоящее время не имеют достаточной  информации и возможности получения необходимых знаний, позволяющих   применить их в практической деятель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599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усугубляется ситуация с финансовыми и организационными проблемами системы здравоохран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Овал 3"/>
          <p:cNvGrpSpPr/>
          <p:nvPr/>
        </p:nvGrpSpPr>
        <p:grpSpPr>
          <a:xfrm>
            <a:off x="79200" y="1596960"/>
            <a:ext cx="341640" cy="347760"/>
            <a:chOff x="79200" y="1596960"/>
            <a:chExt cx="341640" cy="347760"/>
          </a:xfrm>
        </p:grpSpPr>
        <p:pic>
          <p:nvPicPr>
            <p:cNvPr id="217" name="Овал 3" descr=""/>
            <p:cNvPicPr/>
            <p:nvPr/>
          </p:nvPicPr>
          <p:blipFill>
            <a:blip r:embed="rId1"/>
            <a:stretch/>
          </p:blipFill>
          <p:spPr>
            <a:xfrm>
              <a:off x="79200" y="1596960"/>
              <a:ext cx="341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9400" y="167148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Овал 5"/>
          <p:cNvGrpSpPr/>
          <p:nvPr/>
        </p:nvGrpSpPr>
        <p:grpSpPr>
          <a:xfrm>
            <a:off x="79200" y="3614760"/>
            <a:ext cx="341640" cy="341280"/>
            <a:chOff x="79200" y="3614760"/>
            <a:chExt cx="341640" cy="341280"/>
          </a:xfrm>
        </p:grpSpPr>
        <p:pic>
          <p:nvPicPr>
            <p:cNvPr id="220" name="Овал 5" descr=""/>
            <p:cNvPicPr/>
            <p:nvPr/>
          </p:nvPicPr>
          <p:blipFill>
            <a:blip r:embed="rId2"/>
            <a:stretch/>
          </p:blipFill>
          <p:spPr>
            <a:xfrm>
              <a:off x="79200" y="361476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49400" y="3687840"/>
              <a:ext cx="2044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Овал 6"/>
          <p:cNvGrpSpPr/>
          <p:nvPr/>
        </p:nvGrpSpPr>
        <p:grpSpPr>
          <a:xfrm>
            <a:off x="79200" y="5559480"/>
            <a:ext cx="341640" cy="341280"/>
            <a:chOff x="79200" y="5559480"/>
            <a:chExt cx="341640" cy="341280"/>
          </a:xfrm>
        </p:grpSpPr>
        <p:pic>
          <p:nvPicPr>
            <p:cNvPr id="223" name="Овал 6" descr=""/>
            <p:cNvPicPr/>
            <p:nvPr/>
          </p:nvPicPr>
          <p:blipFill>
            <a:blip r:embed="rId3"/>
            <a:stretch/>
          </p:blipFill>
          <p:spPr>
            <a:xfrm>
              <a:off x="79200" y="555948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49400" y="5630760"/>
              <a:ext cx="204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108000" y="501120"/>
            <a:ext cx="8856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У нас нет специальной статистики заболеваемости медицинского персонала не только относительно химиотерапии в онкологии, но и по другим специальностям, в частности, радиологии, рентгенологии и хирургии. У нас с большим трудом заболевание признается профессиональным, поскольку это влечет за собой признание инвалидности и выплату денежной компенс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1692360" y="4724280"/>
            <a:ext cx="74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67300"/>
                </a:solidFill>
                <a:latin typeface="Calibri"/>
              </a:rPr>
              <a:t>Начальник научно-координационного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67300"/>
                </a:solidFill>
                <a:latin typeface="Calibri"/>
              </a:rPr>
              <a:t>отдела НИЦ Московской  медицинско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67300"/>
                </a:solidFill>
                <a:latin typeface="Calibri"/>
              </a:rPr>
              <a:t>академии им. И.М. Сеченов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67300"/>
                </a:solidFill>
                <a:latin typeface="Calibri"/>
              </a:rPr>
              <a:t>Ирина Наделяев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24000" y="4869000"/>
            <a:ext cx="131580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75840"/>
            <a:ext cx="929628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67300"/>
                </a:solidFill>
                <a:latin typeface="Calibri"/>
              </a:rPr>
              <a:t>Уровни решения проблем безопасной больничной сред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914400" y="1800360"/>
            <a:ext cx="0" cy="43783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914400" y="1800360"/>
            <a:ext cx="4716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Rectangle 6"/>
          <p:cNvGrpSpPr/>
          <p:nvPr/>
        </p:nvGrpSpPr>
        <p:grpSpPr>
          <a:xfrm>
            <a:off x="1352520" y="1554120"/>
            <a:ext cx="7499520" cy="944640"/>
            <a:chOff x="1352520" y="1554120"/>
            <a:chExt cx="7499520" cy="944640"/>
          </a:xfrm>
        </p:grpSpPr>
        <p:pic>
          <p:nvPicPr>
            <p:cNvPr id="232" name="Rectangle 6" descr=""/>
            <p:cNvPicPr/>
            <p:nvPr/>
          </p:nvPicPr>
          <p:blipFill>
            <a:blip r:embed="rId1"/>
            <a:stretch/>
          </p:blipFill>
          <p:spPr>
            <a:xfrm>
              <a:off x="1352520" y="1554120"/>
              <a:ext cx="74995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371600" y="1571760"/>
              <a:ext cx="74674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3366"/>
                  </a:solidFill>
                  <a:latin typeface="Calibri"/>
                </a:rPr>
                <a:t>законодательная и исполнительная власть органов здравоохранения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Line 9"/>
          <p:cNvSpPr/>
          <p:nvPr/>
        </p:nvSpPr>
        <p:spPr>
          <a:xfrm>
            <a:off x="914400" y="2867040"/>
            <a:ext cx="4716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Rectangle 10"/>
          <p:cNvGrpSpPr/>
          <p:nvPr/>
        </p:nvGrpSpPr>
        <p:grpSpPr>
          <a:xfrm>
            <a:off x="1352520" y="2620800"/>
            <a:ext cx="7499520" cy="865440"/>
            <a:chOff x="1352520" y="2620800"/>
            <a:chExt cx="7499520" cy="865440"/>
          </a:xfrm>
        </p:grpSpPr>
        <p:pic>
          <p:nvPicPr>
            <p:cNvPr id="236" name="Rectangle 10" descr=""/>
            <p:cNvPicPr/>
            <p:nvPr/>
          </p:nvPicPr>
          <p:blipFill>
            <a:blip r:embed="rId2"/>
            <a:stretch/>
          </p:blipFill>
          <p:spPr>
            <a:xfrm>
              <a:off x="1352520" y="2620800"/>
              <a:ext cx="749952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1371600" y="2638440"/>
              <a:ext cx="7467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3366"/>
                  </a:solidFill>
                  <a:latin typeface="Calibri"/>
                </a:rPr>
                <a:t>общественная сестринская организация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Line 11"/>
          <p:cNvSpPr/>
          <p:nvPr/>
        </p:nvSpPr>
        <p:spPr>
          <a:xfrm>
            <a:off x="914400" y="4086360"/>
            <a:ext cx="4716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Rectangle 12"/>
          <p:cNvGrpSpPr/>
          <p:nvPr/>
        </p:nvGrpSpPr>
        <p:grpSpPr>
          <a:xfrm>
            <a:off x="1352520" y="3687840"/>
            <a:ext cx="7499520" cy="865080"/>
            <a:chOff x="1352520" y="3687840"/>
            <a:chExt cx="7499520" cy="865080"/>
          </a:xfrm>
        </p:grpSpPr>
        <p:pic>
          <p:nvPicPr>
            <p:cNvPr id="240" name="Rectangle 12" descr=""/>
            <p:cNvPicPr/>
            <p:nvPr/>
          </p:nvPicPr>
          <p:blipFill>
            <a:blip r:embed="rId3"/>
            <a:stretch/>
          </p:blipFill>
          <p:spPr>
            <a:xfrm>
              <a:off x="1352520" y="3687840"/>
              <a:ext cx="74995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371600" y="3705120"/>
              <a:ext cx="7467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3366"/>
                  </a:solidFill>
                  <a:latin typeface="Calibri"/>
                </a:rPr>
                <a:t>администрация учреждений здравоохранения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Line 13"/>
          <p:cNvSpPr/>
          <p:nvPr/>
        </p:nvSpPr>
        <p:spPr>
          <a:xfrm>
            <a:off x="914400" y="5076720"/>
            <a:ext cx="4716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Rectangle 14"/>
          <p:cNvGrpSpPr/>
          <p:nvPr/>
        </p:nvGrpSpPr>
        <p:grpSpPr>
          <a:xfrm>
            <a:off x="1352520" y="4675320"/>
            <a:ext cx="7499520" cy="871560"/>
            <a:chOff x="1352520" y="4675320"/>
            <a:chExt cx="7499520" cy="871560"/>
          </a:xfrm>
        </p:grpSpPr>
        <p:pic>
          <p:nvPicPr>
            <p:cNvPr id="244" name="Rectangle 14" descr=""/>
            <p:cNvPicPr/>
            <p:nvPr/>
          </p:nvPicPr>
          <p:blipFill>
            <a:blip r:embed="rId4"/>
            <a:stretch/>
          </p:blipFill>
          <p:spPr>
            <a:xfrm>
              <a:off x="1352520" y="4675320"/>
              <a:ext cx="7499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371600" y="4695840"/>
              <a:ext cx="7467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3366"/>
                  </a:solidFill>
                  <a:latin typeface="Calibri"/>
                </a:rPr>
                <a:t>подразделения учреждений здравоохранения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Line 15"/>
          <p:cNvSpPr/>
          <p:nvPr/>
        </p:nvSpPr>
        <p:spPr>
          <a:xfrm>
            <a:off x="914400" y="6143760"/>
            <a:ext cx="4716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Rectangle 16"/>
          <p:cNvGrpSpPr/>
          <p:nvPr/>
        </p:nvGrpSpPr>
        <p:grpSpPr>
          <a:xfrm>
            <a:off x="1352520" y="5668920"/>
            <a:ext cx="7499520" cy="865080"/>
            <a:chOff x="1352520" y="5668920"/>
            <a:chExt cx="7499520" cy="865080"/>
          </a:xfrm>
        </p:grpSpPr>
        <p:pic>
          <p:nvPicPr>
            <p:cNvPr id="248" name="Rectangle 16" descr=""/>
            <p:cNvPicPr/>
            <p:nvPr/>
          </p:nvPicPr>
          <p:blipFill>
            <a:blip r:embed="rId5"/>
            <a:stretch/>
          </p:blipFill>
          <p:spPr>
            <a:xfrm>
              <a:off x="1352520" y="5668920"/>
              <a:ext cx="749952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371600" y="5686560"/>
              <a:ext cx="7467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3366"/>
                  </a:solidFill>
                  <a:latin typeface="Calibri"/>
                </a:rPr>
                <a:t>медицинский работник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Rectangle 17"/>
          <p:cNvGrpSpPr/>
          <p:nvPr/>
        </p:nvGrpSpPr>
        <p:grpSpPr>
          <a:xfrm>
            <a:off x="146160" y="2163600"/>
            <a:ext cx="560160" cy="3456000"/>
            <a:chOff x="146160" y="2163600"/>
            <a:chExt cx="560160" cy="3456000"/>
          </a:xfrm>
        </p:grpSpPr>
        <p:pic>
          <p:nvPicPr>
            <p:cNvPr id="251" name="Rectangle 17" descr=""/>
            <p:cNvPicPr/>
            <p:nvPr/>
          </p:nvPicPr>
          <p:blipFill>
            <a:blip r:embed="rId6"/>
            <a:stretch/>
          </p:blipFill>
          <p:spPr>
            <a:xfrm>
              <a:off x="146160" y="2163600"/>
              <a:ext cx="56016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10800000">
              <a:off x="163440" y="2180880"/>
              <a:ext cx="5335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Уровень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504720" y="1940400"/>
            <a:ext cx="8604360" cy="47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выработка своей позиции по данному вопросу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пропаганда знаний по данной проблеме при работе              с сестринским персоналом, представителями администрации учреждений здравоохранения, законодателями, обществ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разработка руководства для применения на рабочих места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формирование профессиональной культуры сестринского персонал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0" y="419040"/>
            <a:ext cx="91440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67300"/>
                </a:solidFill>
                <a:latin typeface="Calibri"/>
              </a:rPr>
              <a:t>Направления деятельности сестринской ассоциации в сфере сохранения профессионального здоровья     и формировании безопасной больничной сре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Овал 3"/>
          <p:cNvGrpSpPr/>
          <p:nvPr/>
        </p:nvGrpSpPr>
        <p:grpSpPr>
          <a:xfrm>
            <a:off x="79200" y="2103480"/>
            <a:ext cx="341640" cy="341280"/>
            <a:chOff x="79200" y="2103480"/>
            <a:chExt cx="341640" cy="341280"/>
          </a:xfrm>
        </p:grpSpPr>
        <p:pic>
          <p:nvPicPr>
            <p:cNvPr id="256" name="Овал 3" descr=""/>
            <p:cNvPicPr/>
            <p:nvPr/>
          </p:nvPicPr>
          <p:blipFill>
            <a:blip r:embed="rId1"/>
            <a:stretch/>
          </p:blipFill>
          <p:spPr>
            <a:xfrm>
              <a:off x="79200" y="210348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49400" y="217476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Овал 4"/>
          <p:cNvGrpSpPr/>
          <p:nvPr/>
        </p:nvGrpSpPr>
        <p:grpSpPr>
          <a:xfrm>
            <a:off x="79200" y="2822400"/>
            <a:ext cx="341640" cy="341640"/>
            <a:chOff x="79200" y="2822400"/>
            <a:chExt cx="341640" cy="341640"/>
          </a:xfrm>
        </p:grpSpPr>
        <p:pic>
          <p:nvPicPr>
            <p:cNvPr id="259" name="Овал 4" descr=""/>
            <p:cNvPicPr/>
            <p:nvPr/>
          </p:nvPicPr>
          <p:blipFill>
            <a:blip r:embed="rId2"/>
            <a:stretch/>
          </p:blipFill>
          <p:spPr>
            <a:xfrm>
              <a:off x="79200" y="2822400"/>
              <a:ext cx="34164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49400" y="289548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Овал 5"/>
          <p:cNvGrpSpPr/>
          <p:nvPr/>
        </p:nvGrpSpPr>
        <p:grpSpPr>
          <a:xfrm>
            <a:off x="79200" y="4767120"/>
            <a:ext cx="341640" cy="341280"/>
            <a:chOff x="79200" y="4767120"/>
            <a:chExt cx="341640" cy="341280"/>
          </a:xfrm>
        </p:grpSpPr>
        <p:pic>
          <p:nvPicPr>
            <p:cNvPr id="262" name="Овал 5" descr=""/>
            <p:cNvPicPr/>
            <p:nvPr/>
          </p:nvPicPr>
          <p:blipFill>
            <a:blip r:embed="rId3"/>
            <a:stretch/>
          </p:blipFill>
          <p:spPr>
            <a:xfrm>
              <a:off x="79200" y="476712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49400" y="4838760"/>
              <a:ext cx="204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Овал 6"/>
          <p:cNvGrpSpPr/>
          <p:nvPr/>
        </p:nvGrpSpPr>
        <p:grpSpPr>
          <a:xfrm>
            <a:off x="79200" y="5919840"/>
            <a:ext cx="341640" cy="341280"/>
            <a:chOff x="79200" y="5919840"/>
            <a:chExt cx="341640" cy="341280"/>
          </a:xfrm>
        </p:grpSpPr>
        <p:pic>
          <p:nvPicPr>
            <p:cNvPr id="265" name="Овал 6" descr=""/>
            <p:cNvPicPr/>
            <p:nvPr/>
          </p:nvPicPr>
          <p:blipFill>
            <a:blip r:embed="rId4"/>
            <a:stretch/>
          </p:blipFill>
          <p:spPr>
            <a:xfrm>
              <a:off x="79200" y="591984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49400" y="599112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67300"/>
                </a:solidFill>
                <a:latin typeface="Calibri"/>
              </a:rPr>
              <a:t>Направления деятельности руководителей сестринских служб по формированию ББС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468360" y="1541520"/>
            <a:ext cx="8567640" cy="51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8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изучение влияния агрессивных факторов больничной среды в каждом подразделении учреждения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8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создание системы обучения персонала вопросам  формирования безопасной больничной среды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8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внедрение требований нормативно-правовых документов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8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совместная деятельность с администрацией учреждения здравоохранения и Ассоциаци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Овал 3"/>
          <p:cNvGrpSpPr/>
          <p:nvPr/>
        </p:nvGrpSpPr>
        <p:grpSpPr>
          <a:xfrm>
            <a:off x="79200" y="1743120"/>
            <a:ext cx="341640" cy="341280"/>
            <a:chOff x="79200" y="1743120"/>
            <a:chExt cx="341640" cy="341280"/>
          </a:xfrm>
        </p:grpSpPr>
        <p:pic>
          <p:nvPicPr>
            <p:cNvPr id="270" name="Овал 3" descr=""/>
            <p:cNvPicPr/>
            <p:nvPr/>
          </p:nvPicPr>
          <p:blipFill>
            <a:blip r:embed="rId1"/>
            <a:stretch/>
          </p:blipFill>
          <p:spPr>
            <a:xfrm>
              <a:off x="79200" y="174312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49400" y="1814400"/>
              <a:ext cx="204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Овал 4"/>
          <p:cNvGrpSpPr/>
          <p:nvPr/>
        </p:nvGrpSpPr>
        <p:grpSpPr>
          <a:xfrm>
            <a:off x="79200" y="3395520"/>
            <a:ext cx="341640" cy="347760"/>
            <a:chOff x="79200" y="3395520"/>
            <a:chExt cx="341640" cy="347760"/>
          </a:xfrm>
        </p:grpSpPr>
        <p:pic>
          <p:nvPicPr>
            <p:cNvPr id="273" name="Овал 4" descr=""/>
            <p:cNvPicPr/>
            <p:nvPr/>
          </p:nvPicPr>
          <p:blipFill>
            <a:blip r:embed="rId2"/>
            <a:stretch/>
          </p:blipFill>
          <p:spPr>
            <a:xfrm>
              <a:off x="79200" y="3395520"/>
              <a:ext cx="341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49400" y="347184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Овал 5"/>
          <p:cNvGrpSpPr/>
          <p:nvPr/>
        </p:nvGrpSpPr>
        <p:grpSpPr>
          <a:xfrm>
            <a:off x="79200" y="4621320"/>
            <a:ext cx="341640" cy="347400"/>
            <a:chOff x="79200" y="4621320"/>
            <a:chExt cx="341640" cy="347400"/>
          </a:xfrm>
        </p:grpSpPr>
        <p:pic>
          <p:nvPicPr>
            <p:cNvPr id="276" name="Овал 5" descr=""/>
            <p:cNvPicPr/>
            <p:nvPr/>
          </p:nvPicPr>
          <p:blipFill>
            <a:blip r:embed="rId3"/>
            <a:stretch/>
          </p:blipFill>
          <p:spPr>
            <a:xfrm>
              <a:off x="79200" y="4621320"/>
              <a:ext cx="3416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49400" y="4695840"/>
              <a:ext cx="2044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Овал 6"/>
          <p:cNvGrpSpPr/>
          <p:nvPr/>
        </p:nvGrpSpPr>
        <p:grpSpPr>
          <a:xfrm>
            <a:off x="79200" y="5846760"/>
            <a:ext cx="341640" cy="341280"/>
            <a:chOff x="79200" y="5846760"/>
            <a:chExt cx="341640" cy="341280"/>
          </a:xfrm>
        </p:grpSpPr>
        <p:pic>
          <p:nvPicPr>
            <p:cNvPr id="279" name="Овал 6" descr=""/>
            <p:cNvPicPr/>
            <p:nvPr/>
          </p:nvPicPr>
          <p:blipFill>
            <a:blip r:embed="rId4"/>
            <a:stretch/>
          </p:blipFill>
          <p:spPr>
            <a:xfrm>
              <a:off x="79200" y="584676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49400" y="5919840"/>
              <a:ext cx="2044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Равнобедренный треугольник 9"/>
          <p:cNvGrpSpPr/>
          <p:nvPr/>
        </p:nvGrpSpPr>
        <p:grpSpPr>
          <a:xfrm>
            <a:off x="4529160" y="2846520"/>
            <a:ext cx="3206880" cy="1549440"/>
            <a:chOff x="4529160" y="2846520"/>
            <a:chExt cx="3206880" cy="1549440"/>
          </a:xfrm>
        </p:grpSpPr>
        <p:pic>
          <p:nvPicPr>
            <p:cNvPr id="46" name="Равнобедренный треугольник 9" descr=""/>
            <p:cNvPicPr/>
            <p:nvPr/>
          </p:nvPicPr>
          <p:blipFill>
            <a:blip r:embed="rId1"/>
            <a:stretch/>
          </p:blipFill>
          <p:spPr>
            <a:xfrm>
              <a:off x="4529160" y="2846520"/>
              <a:ext cx="320688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rot="16359600">
              <a:off x="6519960" y="2795040"/>
              <a:ext cx="766800" cy="15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Равнобедренный треугольник 10"/>
          <p:cNvGrpSpPr/>
          <p:nvPr/>
        </p:nvGrpSpPr>
        <p:grpSpPr>
          <a:xfrm>
            <a:off x="4359240" y="3486240"/>
            <a:ext cx="2876760" cy="2695320"/>
            <a:chOff x="4359240" y="3486240"/>
            <a:chExt cx="2876760" cy="2695320"/>
          </a:xfrm>
        </p:grpSpPr>
        <p:pic>
          <p:nvPicPr>
            <p:cNvPr id="49" name="Равнобедренный треугольник 10" descr=""/>
            <p:cNvPicPr/>
            <p:nvPr/>
          </p:nvPicPr>
          <p:blipFill>
            <a:blip r:embed="rId2"/>
            <a:stretch/>
          </p:blipFill>
          <p:spPr>
            <a:xfrm>
              <a:off x="4359240" y="3486240"/>
              <a:ext cx="28767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18712800">
              <a:off x="5745240" y="4287600"/>
              <a:ext cx="766440" cy="15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Равнобедренный треугольник 11"/>
          <p:cNvGrpSpPr/>
          <p:nvPr/>
        </p:nvGrpSpPr>
        <p:grpSpPr>
          <a:xfrm>
            <a:off x="4767120" y="828720"/>
            <a:ext cx="3078360" cy="2378160"/>
            <a:chOff x="4767120" y="828720"/>
            <a:chExt cx="3078360" cy="2378160"/>
          </a:xfrm>
        </p:grpSpPr>
        <p:pic>
          <p:nvPicPr>
            <p:cNvPr id="52" name="Равнобедренный треугольник 11" descr=""/>
            <p:cNvPicPr/>
            <p:nvPr/>
          </p:nvPicPr>
          <p:blipFill>
            <a:blip r:embed="rId3"/>
            <a:stretch/>
          </p:blipFill>
          <p:spPr>
            <a:xfrm>
              <a:off x="4767120" y="828720"/>
              <a:ext cx="307836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4223600">
              <a:off x="6378480" y="1119240"/>
              <a:ext cx="766800" cy="15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Равнобедренный треугольник 7"/>
          <p:cNvGrpSpPr/>
          <p:nvPr/>
        </p:nvGrpSpPr>
        <p:grpSpPr>
          <a:xfrm>
            <a:off x="1901880" y="2846520"/>
            <a:ext cx="3206520" cy="1549440"/>
            <a:chOff x="1901880" y="2846520"/>
            <a:chExt cx="3206520" cy="1549440"/>
          </a:xfrm>
        </p:grpSpPr>
        <p:pic>
          <p:nvPicPr>
            <p:cNvPr id="55" name="Равнобедренный треугольник 7" descr=""/>
            <p:cNvPicPr/>
            <p:nvPr/>
          </p:nvPicPr>
          <p:blipFill>
            <a:blip r:embed="rId4"/>
            <a:stretch/>
          </p:blipFill>
          <p:spPr>
            <a:xfrm>
              <a:off x="1901880" y="2846520"/>
              <a:ext cx="32065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239800">
              <a:off x="2349000" y="2795400"/>
              <a:ext cx="766800" cy="15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Равнобедренный треугольник 8"/>
          <p:cNvGrpSpPr/>
          <p:nvPr/>
        </p:nvGrpSpPr>
        <p:grpSpPr>
          <a:xfrm>
            <a:off x="1974960" y="3780000"/>
            <a:ext cx="2878200" cy="2687400"/>
            <a:chOff x="1974960" y="3780000"/>
            <a:chExt cx="2878200" cy="2687400"/>
          </a:xfrm>
        </p:grpSpPr>
        <p:pic>
          <p:nvPicPr>
            <p:cNvPr id="58" name="Равнобедренный треугольник 8" descr=""/>
            <p:cNvPicPr/>
            <p:nvPr/>
          </p:nvPicPr>
          <p:blipFill>
            <a:blip r:embed="rId5"/>
            <a:stretch/>
          </p:blipFill>
          <p:spPr>
            <a:xfrm>
              <a:off x="1974960" y="3780000"/>
              <a:ext cx="2878200" cy="26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 rot="2886600">
              <a:off x="2696400" y="4574520"/>
              <a:ext cx="76680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Равнобедренный треугольник 6"/>
          <p:cNvGrpSpPr/>
          <p:nvPr/>
        </p:nvGrpSpPr>
        <p:grpSpPr>
          <a:xfrm>
            <a:off x="2048040" y="755640"/>
            <a:ext cx="2805120" cy="2773440"/>
            <a:chOff x="2048040" y="755640"/>
            <a:chExt cx="2805120" cy="2773440"/>
          </a:xfrm>
        </p:grpSpPr>
        <p:pic>
          <p:nvPicPr>
            <p:cNvPr id="61" name="Равнобедренный треугольник 6" descr=""/>
            <p:cNvPicPr/>
            <p:nvPr/>
          </p:nvPicPr>
          <p:blipFill>
            <a:blip r:embed="rId6"/>
            <a:stretch/>
          </p:blipFill>
          <p:spPr>
            <a:xfrm>
              <a:off x="2048040" y="755640"/>
              <a:ext cx="280512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8067000">
              <a:off x="2768040" y="1074240"/>
              <a:ext cx="766800" cy="15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4" descr="C:\Users\User\Desktop\Untitled-1.gif"/>
          <p:cNvPicPr/>
          <p:nvPr/>
        </p:nvPicPr>
        <p:blipFill>
          <a:blip r:embed="rId7"/>
          <a:stretch/>
        </p:blipFill>
        <p:spPr>
          <a:xfrm>
            <a:off x="3554280" y="1981080"/>
            <a:ext cx="2522520" cy="319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8"/>
          <a:stretch/>
        </p:blipFill>
        <p:spPr>
          <a:xfrm>
            <a:off x="611280" y="333360"/>
            <a:ext cx="2611440" cy="21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User\Desktop\t9813_1.jpg"/>
          <p:cNvPicPr/>
          <p:nvPr/>
        </p:nvPicPr>
        <p:blipFill>
          <a:blip r:embed="rId9"/>
          <a:stretch/>
        </p:blipFill>
        <p:spPr>
          <a:xfrm>
            <a:off x="5867280" y="404640"/>
            <a:ext cx="3060720" cy="2046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Фотоальбом\Фото ЛПУ\Городские\ГК БСМП №1\DOSUG\101_0175.JPG"/>
          <p:cNvPicPr/>
          <p:nvPr/>
        </p:nvPicPr>
        <p:blipFill>
          <a:blip r:embed="rId10"/>
          <a:stretch/>
        </p:blipFill>
        <p:spPr>
          <a:xfrm>
            <a:off x="6335640" y="2421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11"/>
          <a:stretch/>
        </p:blipFill>
        <p:spPr>
          <a:xfrm>
            <a:off x="0" y="2421000"/>
            <a:ext cx="3240000" cy="20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12"/>
          <a:srcRect l="0" t="15211" r="0" b="16866"/>
          <a:stretch/>
        </p:blipFill>
        <p:spPr>
          <a:xfrm>
            <a:off x="5867280" y="4508640"/>
            <a:ext cx="2524320" cy="234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D:\Рисунки\Люди\Мед. работники\f0013110.jpg"/>
          <p:cNvPicPr/>
          <p:nvPr/>
        </p:nvPicPr>
        <p:blipFill>
          <a:blip r:embed="rId13"/>
          <a:stretch/>
        </p:blipFill>
        <p:spPr>
          <a:xfrm>
            <a:off x="900000" y="4265640"/>
            <a:ext cx="228276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3080" y="581040"/>
            <a:ext cx="91072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7300"/>
                </a:solidFill>
                <a:latin typeface="Calibri"/>
              </a:rPr>
              <a:t>Разработка и реализация системы обучения персонала вопросам организации ББ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Rectangle 6"/>
          <p:cNvGrpSpPr/>
          <p:nvPr/>
        </p:nvGrpSpPr>
        <p:grpSpPr>
          <a:xfrm>
            <a:off x="304920" y="1968480"/>
            <a:ext cx="8601120" cy="1109520"/>
            <a:chOff x="304920" y="1968480"/>
            <a:chExt cx="8601120" cy="1109520"/>
          </a:xfrm>
        </p:grpSpPr>
        <p:pic>
          <p:nvPicPr>
            <p:cNvPr id="283" name="Rectangle 6" descr=""/>
            <p:cNvPicPr/>
            <p:nvPr/>
          </p:nvPicPr>
          <p:blipFill>
            <a:blip r:embed="rId1"/>
            <a:stretch/>
          </p:blipFill>
          <p:spPr>
            <a:xfrm>
              <a:off x="304920" y="1968480"/>
              <a:ext cx="86011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4000" y="1989000"/>
              <a:ext cx="8569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3366"/>
                  </a:solidFill>
                  <a:latin typeface="Calibri"/>
                </a:rPr>
                <a:t>Определить потребности персонала в обучении вопросам безопасной больничной сред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Rectangle 6"/>
          <p:cNvGrpSpPr/>
          <p:nvPr/>
        </p:nvGrpSpPr>
        <p:grpSpPr>
          <a:xfrm>
            <a:off x="304920" y="3700440"/>
            <a:ext cx="8601120" cy="1109520"/>
            <a:chOff x="304920" y="3700440"/>
            <a:chExt cx="8601120" cy="1109520"/>
          </a:xfrm>
        </p:grpSpPr>
        <p:pic>
          <p:nvPicPr>
            <p:cNvPr id="286" name="Rectangle 6" descr=""/>
            <p:cNvPicPr/>
            <p:nvPr/>
          </p:nvPicPr>
          <p:blipFill>
            <a:blip r:embed="rId2"/>
            <a:stretch/>
          </p:blipFill>
          <p:spPr>
            <a:xfrm>
              <a:off x="304920" y="3700440"/>
              <a:ext cx="86011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24000" y="3716280"/>
              <a:ext cx="85690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3366"/>
                  </a:solidFill>
                  <a:latin typeface="Calibri"/>
                </a:rPr>
                <a:t>Изучить вопрос о соблюдении сестринским персоналом  правил техники безопасности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Rectangle 6"/>
          <p:cNvGrpSpPr/>
          <p:nvPr/>
        </p:nvGrpSpPr>
        <p:grpSpPr>
          <a:xfrm>
            <a:off x="304920" y="5425920"/>
            <a:ext cx="8601120" cy="1108080"/>
            <a:chOff x="304920" y="5425920"/>
            <a:chExt cx="8601120" cy="1108080"/>
          </a:xfrm>
        </p:grpSpPr>
        <p:pic>
          <p:nvPicPr>
            <p:cNvPr id="289" name="Rectangle 6" descr=""/>
            <p:cNvPicPr/>
            <p:nvPr/>
          </p:nvPicPr>
          <p:blipFill>
            <a:blip r:embed="rId3"/>
            <a:stretch/>
          </p:blipFill>
          <p:spPr>
            <a:xfrm>
              <a:off x="304920" y="5425920"/>
              <a:ext cx="860112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24000" y="5445000"/>
              <a:ext cx="8569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3366"/>
                  </a:solidFill>
                  <a:latin typeface="Calibri"/>
                </a:rPr>
                <a:t>Разработать систему обучающих мероприятий по  формированию безопасной больничной сред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Стрелка вниз 6"/>
          <p:cNvGrpSpPr/>
          <p:nvPr/>
        </p:nvGrpSpPr>
        <p:grpSpPr>
          <a:xfrm>
            <a:off x="4164120" y="3108240"/>
            <a:ext cx="523800" cy="568440"/>
            <a:chOff x="4164120" y="3108240"/>
            <a:chExt cx="523800" cy="568440"/>
          </a:xfrm>
        </p:grpSpPr>
        <p:pic>
          <p:nvPicPr>
            <p:cNvPr id="292" name="Стрелка вниз 6" descr=""/>
            <p:cNvPicPr/>
            <p:nvPr/>
          </p:nvPicPr>
          <p:blipFill>
            <a:blip r:embed="rId4"/>
            <a:stretch/>
          </p:blipFill>
          <p:spPr>
            <a:xfrm>
              <a:off x="4164120" y="3108240"/>
              <a:ext cx="52380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319640" y="3141720"/>
              <a:ext cx="216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Стрелка вниз 7"/>
          <p:cNvGrpSpPr/>
          <p:nvPr/>
        </p:nvGrpSpPr>
        <p:grpSpPr>
          <a:xfrm>
            <a:off x="4164120" y="4840200"/>
            <a:ext cx="523800" cy="560520"/>
            <a:chOff x="4164120" y="4840200"/>
            <a:chExt cx="523800" cy="560520"/>
          </a:xfrm>
        </p:grpSpPr>
        <p:pic>
          <p:nvPicPr>
            <p:cNvPr id="295" name="Стрелка вниз 7" descr=""/>
            <p:cNvPicPr/>
            <p:nvPr/>
          </p:nvPicPr>
          <p:blipFill>
            <a:blip r:embed="rId5"/>
            <a:stretch/>
          </p:blipFill>
          <p:spPr>
            <a:xfrm>
              <a:off x="4164120" y="4840200"/>
              <a:ext cx="5238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319640" y="4869000"/>
              <a:ext cx="2160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3080" y="581040"/>
            <a:ext cx="910728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7300"/>
                </a:solidFill>
                <a:latin typeface="Calibri"/>
              </a:rPr>
              <a:t>Разработка и реализация системы обучения персонала вопросам организации ББ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8" name="Rectangle 6"/>
          <p:cNvGrpSpPr/>
          <p:nvPr/>
        </p:nvGrpSpPr>
        <p:grpSpPr>
          <a:xfrm>
            <a:off x="158760" y="1828800"/>
            <a:ext cx="8852040" cy="1109520"/>
            <a:chOff x="158760" y="1828800"/>
            <a:chExt cx="8852040" cy="1109520"/>
          </a:xfrm>
        </p:grpSpPr>
        <p:pic>
          <p:nvPicPr>
            <p:cNvPr id="299" name="Rectangle 6" descr=""/>
            <p:cNvPicPr/>
            <p:nvPr/>
          </p:nvPicPr>
          <p:blipFill>
            <a:blip r:embed="rId1"/>
            <a:stretch/>
          </p:blipFill>
          <p:spPr>
            <a:xfrm>
              <a:off x="158760" y="1828800"/>
              <a:ext cx="88520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79280" y="1844640"/>
              <a:ext cx="8820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3366"/>
                  </a:solidFill>
                  <a:latin typeface="Calibri"/>
                </a:rPr>
                <a:t>Включить  систему обучения в вопросы стимулирования мотивации персонала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Стрелка вниз 4"/>
          <p:cNvGrpSpPr/>
          <p:nvPr/>
        </p:nvGrpSpPr>
        <p:grpSpPr>
          <a:xfrm>
            <a:off x="4091040" y="2968560"/>
            <a:ext cx="523800" cy="560520"/>
            <a:chOff x="4091040" y="2968560"/>
            <a:chExt cx="523800" cy="560520"/>
          </a:xfrm>
        </p:grpSpPr>
        <p:pic>
          <p:nvPicPr>
            <p:cNvPr id="302" name="Стрелка вниз 4" descr=""/>
            <p:cNvPicPr/>
            <p:nvPr/>
          </p:nvPicPr>
          <p:blipFill>
            <a:blip r:embed="rId2"/>
            <a:stretch/>
          </p:blipFill>
          <p:spPr>
            <a:xfrm>
              <a:off x="4091040" y="2968560"/>
              <a:ext cx="5238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248000" y="2997360"/>
              <a:ext cx="216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Rectangle 6"/>
          <p:cNvGrpSpPr/>
          <p:nvPr/>
        </p:nvGrpSpPr>
        <p:grpSpPr>
          <a:xfrm>
            <a:off x="158760" y="3554280"/>
            <a:ext cx="8852040" cy="1401840"/>
            <a:chOff x="158760" y="3554280"/>
            <a:chExt cx="8852040" cy="1401840"/>
          </a:xfrm>
        </p:grpSpPr>
        <p:pic>
          <p:nvPicPr>
            <p:cNvPr id="305" name="Rectangle 6" descr=""/>
            <p:cNvPicPr/>
            <p:nvPr/>
          </p:nvPicPr>
          <p:blipFill>
            <a:blip r:embed="rId3"/>
            <a:stretch/>
          </p:blipFill>
          <p:spPr>
            <a:xfrm>
              <a:off x="158760" y="3554280"/>
              <a:ext cx="88520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79280" y="3573360"/>
              <a:ext cx="8820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3366"/>
                  </a:solidFill>
                  <a:latin typeface="Calibri"/>
                </a:rPr>
                <a:t>Организовать обучающие мероприятия, адаптировать их к особенностям конкретного учреждения здравоохранения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Rectangle 6"/>
          <p:cNvGrpSpPr/>
          <p:nvPr/>
        </p:nvGrpSpPr>
        <p:grpSpPr>
          <a:xfrm>
            <a:off x="158760" y="5572080"/>
            <a:ext cx="8852040" cy="961920"/>
            <a:chOff x="158760" y="5572080"/>
            <a:chExt cx="8852040" cy="961920"/>
          </a:xfrm>
        </p:grpSpPr>
        <p:pic>
          <p:nvPicPr>
            <p:cNvPr id="308" name="Rectangle 6" descr=""/>
            <p:cNvPicPr/>
            <p:nvPr/>
          </p:nvPicPr>
          <p:blipFill>
            <a:blip r:embed="rId4"/>
            <a:stretch/>
          </p:blipFill>
          <p:spPr>
            <a:xfrm>
              <a:off x="158760" y="5572080"/>
              <a:ext cx="885204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79280" y="5589720"/>
              <a:ext cx="882036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3366"/>
                  </a:solidFill>
                  <a:latin typeface="Calibri"/>
                </a:rPr>
                <a:t>Получить обратную связь  по результатам обучения и регулярно мониторировать данный процесс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Стрелка вниз 7"/>
          <p:cNvGrpSpPr/>
          <p:nvPr/>
        </p:nvGrpSpPr>
        <p:grpSpPr>
          <a:xfrm>
            <a:off x="4091040" y="4979880"/>
            <a:ext cx="523800" cy="567000"/>
            <a:chOff x="4091040" y="4979880"/>
            <a:chExt cx="523800" cy="567000"/>
          </a:xfrm>
        </p:grpSpPr>
        <p:pic>
          <p:nvPicPr>
            <p:cNvPr id="311" name="Стрелка вниз 7" descr=""/>
            <p:cNvPicPr/>
            <p:nvPr/>
          </p:nvPicPr>
          <p:blipFill>
            <a:blip r:embed="rId5"/>
            <a:stretch/>
          </p:blipFill>
          <p:spPr>
            <a:xfrm>
              <a:off x="4091040" y="4979880"/>
              <a:ext cx="5238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248000" y="5013360"/>
              <a:ext cx="216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0" y="333360"/>
            <a:ext cx="90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7300"/>
                </a:solidFill>
                <a:latin typeface="Calibri"/>
              </a:rPr>
              <a:t>Работа является одним из самых сильных воздействий, определяющих нашу жизнь и здоров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1">
            <a:lum bright="-10000"/>
          </a:blip>
          <a:srcRect l="0" t="0" r="0" b="6752"/>
          <a:stretch/>
        </p:blipFill>
        <p:spPr>
          <a:xfrm>
            <a:off x="1258920" y="2133720"/>
            <a:ext cx="6697800" cy="4360680"/>
          </a:xfrm>
          <a:prstGeom prst="rect">
            <a:avLst/>
          </a:prstGeom>
          <a:ln w="19080">
            <a:solidFill>
              <a:srgbClr val="f27900"/>
            </a:solidFill>
            <a:miter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3276720" y="813600"/>
            <a:ext cx="590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«Человек должен знать, как помочь себе самому, имея в виду,                           что здоровье есть высочайшее богатство челове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428040" y="522936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7300"/>
                </a:solidFill>
                <a:latin typeface="Calibri"/>
              </a:rPr>
              <a:t>Гиппокр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30320" y="1087560"/>
            <a:ext cx="3001680" cy="4141800"/>
          </a:xfrm>
          <a:prstGeom prst="rect">
            <a:avLst/>
          </a:prstGeom>
          <a:ln w="19080">
            <a:solidFill>
              <a:srgbClr val="f27900"/>
            </a:solidFill>
            <a:miter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418320" y="2637000"/>
            <a:ext cx="851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Calibri"/>
              </a:rPr>
              <a:t>Благодарю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 3"/>
          <p:cNvGrpSpPr/>
          <p:nvPr/>
        </p:nvGrpSpPr>
        <p:grpSpPr>
          <a:xfrm>
            <a:off x="2060640" y="1663560"/>
            <a:ext cx="1163520" cy="1785960"/>
            <a:chOff x="2060640" y="1663560"/>
            <a:chExt cx="1163520" cy="1785960"/>
          </a:xfrm>
        </p:grpSpPr>
        <p:pic>
          <p:nvPicPr>
            <p:cNvPr id="71" name=" 3" descr=""/>
            <p:cNvPicPr/>
            <p:nvPr/>
          </p:nvPicPr>
          <p:blipFill>
            <a:blip r:embed="rId1"/>
            <a:stretch/>
          </p:blipFill>
          <p:spPr>
            <a:xfrm>
              <a:off x="2060640" y="1663560"/>
              <a:ext cx="116352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6200000">
              <a:off x="1809720" y="2014200"/>
              <a:ext cx="167616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 3"/>
          <p:cNvSpPr/>
          <p:nvPr/>
        </p:nvSpPr>
        <p:spPr>
          <a:xfrm rot="5400000">
            <a:off x="5477040" y="2014560"/>
            <a:ext cx="1676160" cy="1047600"/>
          </a:xfrm>
          <a:custGeom>
            <a:avLst/>
            <a:gdLst/>
            <a:ahLst/>
            <a:rect l="l" t="t" r="r" b="b"/>
            <a:pathLst>
              <a:path w="1676400" h="1047750">
                <a:moveTo>
                  <a:pt x="0" y="1047750"/>
                </a:moveTo>
                <a:lnTo>
                  <a:pt x="279400" y="349250"/>
                </a:lnTo>
                <a:lnTo>
                  <a:pt x="1414463" y="130969"/>
                </a:lnTo>
                <a:lnTo>
                  <a:pt x="1399706" y="0"/>
                </a:lnTo>
                <a:lnTo>
                  <a:pt x="1676400" y="209550"/>
                </a:lnTo>
                <a:lnTo>
                  <a:pt x="1458732" y="523875"/>
                </a:lnTo>
                <a:lnTo>
                  <a:pt x="1443976" y="3929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Скругленный прямоугольник 3"/>
          <p:cNvGrpSpPr/>
          <p:nvPr/>
        </p:nvGrpSpPr>
        <p:grpSpPr>
          <a:xfrm>
            <a:off x="3127320" y="755640"/>
            <a:ext cx="2760840" cy="1682640"/>
            <a:chOff x="3127320" y="755640"/>
            <a:chExt cx="2760840" cy="1682640"/>
          </a:xfrm>
        </p:grpSpPr>
        <p:pic>
          <p:nvPicPr>
            <p:cNvPr id="75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127320" y="755640"/>
              <a:ext cx="276084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63760" y="871560"/>
              <a:ext cx="249084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РУД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Плюс 4"/>
          <p:cNvSpPr/>
          <p:nvPr/>
        </p:nvSpPr>
        <p:spPr>
          <a:xfrm>
            <a:off x="2057400" y="3429000"/>
            <a:ext cx="428760" cy="428760"/>
          </a:xfrm>
          <a:custGeom>
            <a:avLst/>
            <a:gdLst>
              <a:gd name="textAreaLeft" fmla="*/ 56520 w 428760"/>
              <a:gd name="textAreaRight" fmla="*/ 372240 w 428760"/>
              <a:gd name="textAreaTop" fmla="*/ 163800 h 428760"/>
              <a:gd name="textAreaBottom" fmla="*/ 264960 h 428760"/>
            </a:gdLst>
            <a:ahLst/>
            <a:rect l="textAreaLeft" t="textAreaTop" r="textAreaRight" b="textAreaBottom"/>
            <a:pathLst>
              <a:path w="428625" h="428625">
                <a:moveTo>
                  <a:pt x="56814" y="163906"/>
                </a:moveTo>
                <a:lnTo>
                  <a:pt x="163906" y="163906"/>
                </a:lnTo>
                <a:lnTo>
                  <a:pt x="163906" y="56814"/>
                </a:lnTo>
                <a:lnTo>
                  <a:pt x="264719" y="56814"/>
                </a:lnTo>
                <a:lnTo>
                  <a:pt x="264719" y="163906"/>
                </a:lnTo>
                <a:lnTo>
                  <a:pt x="371811" y="163906"/>
                </a:lnTo>
                <a:lnTo>
                  <a:pt x="371811" y="264719"/>
                </a:lnTo>
                <a:lnTo>
                  <a:pt x="264719" y="264719"/>
                </a:lnTo>
                <a:lnTo>
                  <a:pt x="264719" y="371811"/>
                </a:lnTo>
                <a:lnTo>
                  <a:pt x="163906" y="371811"/>
                </a:lnTo>
                <a:lnTo>
                  <a:pt x="163906" y="264719"/>
                </a:lnTo>
                <a:lnTo>
                  <a:pt x="56814" y="264719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инус 5"/>
          <p:cNvSpPr/>
          <p:nvPr/>
        </p:nvSpPr>
        <p:spPr>
          <a:xfrm>
            <a:off x="6400800" y="3429000"/>
            <a:ext cx="428760" cy="357120"/>
          </a:xfrm>
          <a:custGeom>
            <a:avLst/>
            <a:gdLst>
              <a:gd name="textAreaLeft" fmla="*/ 56520 w 428760"/>
              <a:gd name="textAreaRight" fmla="*/ 372240 w 428760"/>
              <a:gd name="textAreaTop" fmla="*/ 136440 h 357120"/>
              <a:gd name="textAreaBottom" fmla="*/ 220680 h 357120"/>
            </a:gdLst>
            <a:ahLst/>
            <a:rect l="textAreaLeft" t="textAreaTop" r="textAreaRight" b="textAreaBottom"/>
            <a:pathLst>
              <a:path w="428625" h="357188">
                <a:moveTo>
                  <a:pt x="56814" y="136589"/>
                </a:moveTo>
                <a:lnTo>
                  <a:pt x="371811" y="136589"/>
                </a:lnTo>
                <a:lnTo>
                  <a:pt x="371811" y="220599"/>
                </a:lnTo>
                <a:lnTo>
                  <a:pt x="56814" y="22059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D:\Нагель\мои рисунки\картинки для презентаций\j0216059.jpg"/>
          <p:cNvPicPr/>
          <p:nvPr/>
        </p:nvPicPr>
        <p:blipFill>
          <a:blip r:embed="rId3"/>
          <a:stretch/>
        </p:blipFill>
        <p:spPr>
          <a:xfrm>
            <a:off x="5334120" y="3962520"/>
            <a:ext cx="2857320" cy="2438280"/>
          </a:xfrm>
          <a:prstGeom prst="rect">
            <a:avLst/>
          </a:prstGeom>
          <a:ln w="19080">
            <a:solidFill>
              <a:srgbClr val="f27900"/>
            </a:solidFill>
            <a:miter/>
          </a:ln>
        </p:spPr>
      </p:pic>
      <p:pic>
        <p:nvPicPr>
          <p:cNvPr id="80" name="Picture 5" descr="D:\Нагель\мои рисунки\картинки для презентаций\Доктор\00034008.jpg"/>
          <p:cNvPicPr/>
          <p:nvPr/>
        </p:nvPicPr>
        <p:blipFill>
          <a:blip r:embed="rId4"/>
          <a:stretch/>
        </p:blipFill>
        <p:spPr>
          <a:xfrm>
            <a:off x="1066680" y="3933720"/>
            <a:ext cx="2857680" cy="2428920"/>
          </a:xfrm>
          <a:prstGeom prst="rect">
            <a:avLst/>
          </a:prstGeom>
          <a:ln w="19080">
            <a:solidFill>
              <a:srgbClr val="f27900"/>
            </a:solidFill>
            <a:miter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 3"/>
          <p:cNvGrpSpPr/>
          <p:nvPr/>
        </p:nvGrpSpPr>
        <p:grpSpPr>
          <a:xfrm>
            <a:off x="115920" y="1517760"/>
            <a:ext cx="804960" cy="1785960"/>
            <a:chOff x="115920" y="1517760"/>
            <a:chExt cx="804960" cy="1785960"/>
          </a:xfrm>
        </p:grpSpPr>
        <p:pic>
          <p:nvPicPr>
            <p:cNvPr id="82" name=" 3" descr=""/>
            <p:cNvPicPr/>
            <p:nvPr/>
          </p:nvPicPr>
          <p:blipFill>
            <a:blip r:embed="rId1"/>
            <a:stretch/>
          </p:blipFill>
          <p:spPr>
            <a:xfrm>
              <a:off x="115920" y="1517760"/>
              <a:ext cx="8049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rot="16200000">
              <a:off x="-318240" y="2053080"/>
              <a:ext cx="16765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Скругленный прямоугольник 2"/>
          <p:cNvGrpSpPr/>
          <p:nvPr/>
        </p:nvGrpSpPr>
        <p:grpSpPr>
          <a:xfrm>
            <a:off x="115920" y="573120"/>
            <a:ext cx="1846080" cy="841320"/>
            <a:chOff x="115920" y="573120"/>
            <a:chExt cx="1846080" cy="841320"/>
          </a:xfrm>
        </p:grpSpPr>
        <p:pic>
          <p:nvPicPr>
            <p:cNvPr id="85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15920" y="573120"/>
              <a:ext cx="1846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10960" y="723960"/>
              <a:ext cx="166536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РУД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Плюс 3"/>
          <p:cNvSpPr/>
          <p:nvPr/>
        </p:nvSpPr>
        <p:spPr>
          <a:xfrm>
            <a:off x="611280" y="1989000"/>
            <a:ext cx="1008000" cy="935280"/>
          </a:xfrm>
          <a:custGeom>
            <a:avLst/>
            <a:gdLst>
              <a:gd name="textAreaLeft" fmla="*/ 133560 w 1008000"/>
              <a:gd name="textAreaRight" fmla="*/ 874440 w 1008000"/>
              <a:gd name="textAreaTop" fmla="*/ 357480 h 935280"/>
              <a:gd name="textAreaBottom" fmla="*/ 577800 h 935280"/>
            </a:gdLst>
            <a:ahLst/>
            <a:rect l="textAreaLeft" t="textAreaTop" r="textAreaRight" b="textAreaBottom"/>
            <a:pathLst>
              <a:path w="1008112" h="936104">
                <a:moveTo>
                  <a:pt x="133625" y="357966"/>
                </a:moveTo>
                <a:lnTo>
                  <a:pt x="393970" y="357966"/>
                </a:lnTo>
                <a:lnTo>
                  <a:pt x="393970" y="124081"/>
                </a:lnTo>
                <a:lnTo>
                  <a:pt x="614142" y="124081"/>
                </a:lnTo>
                <a:lnTo>
                  <a:pt x="614142" y="357966"/>
                </a:lnTo>
                <a:lnTo>
                  <a:pt x="874487" y="357966"/>
                </a:lnTo>
                <a:lnTo>
                  <a:pt x="874487" y="578138"/>
                </a:lnTo>
                <a:lnTo>
                  <a:pt x="614142" y="578138"/>
                </a:lnTo>
                <a:lnTo>
                  <a:pt x="614142" y="812023"/>
                </a:lnTo>
                <a:lnTo>
                  <a:pt x="393970" y="812023"/>
                </a:lnTo>
                <a:lnTo>
                  <a:pt x="393970" y="578138"/>
                </a:lnTo>
                <a:lnTo>
                  <a:pt x="133625" y="578138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D:\Нагель\мои рисунки\картинки для презентаций\Доктор\00034008.jpg"/>
          <p:cNvPicPr/>
          <p:nvPr/>
        </p:nvPicPr>
        <p:blipFill>
          <a:blip r:embed="rId3"/>
          <a:stretch/>
        </p:blipFill>
        <p:spPr>
          <a:xfrm>
            <a:off x="108000" y="3500280"/>
            <a:ext cx="2541600" cy="2160720"/>
          </a:xfrm>
          <a:prstGeom prst="rect">
            <a:avLst/>
          </a:prstGeom>
          <a:ln w="19080">
            <a:solidFill>
              <a:srgbClr val="f27900"/>
            </a:solidFill>
            <a:miter/>
          </a:ln>
        </p:spPr>
      </p:pic>
      <p:sp>
        <p:nvSpPr>
          <p:cNvPr id="89" name="Text Box 10"/>
          <p:cNvSpPr/>
          <p:nvPr/>
        </p:nvSpPr>
        <p:spPr>
          <a:xfrm>
            <a:off x="2771640" y="358920"/>
            <a:ext cx="6372360" cy="66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7300"/>
                </a:solidFill>
                <a:latin typeface="Calibri"/>
              </a:rPr>
              <a:t>Обеспеч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профессиональный и карьерный рост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повышение качества, эффективности, производительности труд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социальную значимость профессии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высокую самооценку специалист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креативность профессиональной деятель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удовлетворённость результатами труд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401"/>
              </a:spcAft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66"/>
                </a:solidFill>
                <a:latin typeface="Calibri"/>
              </a:rPr>
              <a:t>должное состояние здоровь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:\Нагель\мои рисунки\картинки для презентаций\Безимени-2.gif"/>
          <p:cNvPicPr/>
          <p:nvPr/>
        </p:nvPicPr>
        <p:blipFill>
          <a:blip r:embed="rId1"/>
          <a:stretch/>
        </p:blipFill>
        <p:spPr>
          <a:xfrm>
            <a:off x="7734240" y="404640"/>
            <a:ext cx="1409760" cy="1428840"/>
          </a:xfrm>
          <a:prstGeom prst="rect">
            <a:avLst/>
          </a:prstGeom>
          <a:ln w="0">
            <a:noFill/>
          </a:ln>
        </p:spPr>
      </p:pic>
      <p:cxnSp>
        <p:nvCxnSpPr>
          <p:cNvPr id="91" name="Прямая со стрелкой 2"/>
          <p:cNvCxnSpPr/>
          <p:nvPr/>
        </p:nvCxnSpPr>
        <p:spPr>
          <a:xfrm>
            <a:off x="7666200" y="2060280"/>
            <a:ext cx="2160" cy="3748680"/>
          </a:xfrm>
          <a:prstGeom prst="straightConnector1">
            <a:avLst/>
          </a:prstGeom>
          <a:ln w="442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92" name="Прямая со стрелкой 3"/>
          <p:cNvCxnSpPr/>
          <p:nvPr/>
        </p:nvCxnSpPr>
        <p:spPr>
          <a:xfrm flipH="1">
            <a:off x="3374640" y="2276280"/>
            <a:ext cx="45360" cy="1608840"/>
          </a:xfrm>
          <a:prstGeom prst="straightConnector1">
            <a:avLst/>
          </a:prstGeom>
          <a:ln w="442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93" name="Прямая со стрелкой 4"/>
          <p:cNvCxnSpPr/>
          <p:nvPr/>
        </p:nvCxnSpPr>
        <p:spPr>
          <a:xfrm flipH="1">
            <a:off x="1907280" y="2349000"/>
            <a:ext cx="16920" cy="591120"/>
          </a:xfrm>
          <a:prstGeom prst="straightConnector1">
            <a:avLst/>
          </a:prstGeom>
          <a:ln w="442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94" name="Стрелка вниз 6"/>
          <p:cNvSpPr/>
          <p:nvPr/>
        </p:nvSpPr>
        <p:spPr>
          <a:xfrm>
            <a:off x="4645080" y="1268280"/>
            <a:ext cx="142920" cy="542880"/>
          </a:xfrm>
          <a:prstGeom prst="downArrow">
            <a:avLst>
              <a:gd name="adj1" fmla="val 50000"/>
              <a:gd name="adj2" fmla="val 126616"/>
            </a:avLst>
          </a:prstGeom>
          <a:noFill/>
          <a:ln w="44280">
            <a:solidFill>
              <a:srgbClr val="8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0" y="2852640"/>
            <a:ext cx="30891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Calibri"/>
              </a:rPr>
              <a:t>Профессиональная деформация лич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124000" y="3813120"/>
            <a:ext cx="3456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Calibri"/>
              </a:rPr>
              <a:t>Профессиональные заболев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Прямая со стрелкой 9"/>
          <p:cNvCxnSpPr/>
          <p:nvPr/>
        </p:nvCxnSpPr>
        <p:spPr>
          <a:xfrm flipH="1">
            <a:off x="5579280" y="2060280"/>
            <a:ext cx="2520" cy="2669400"/>
          </a:xfrm>
          <a:prstGeom prst="straightConnector1">
            <a:avLst/>
          </a:prstGeom>
          <a:ln w="442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98" name="TextBox 21"/>
          <p:cNvSpPr/>
          <p:nvPr/>
        </p:nvSpPr>
        <p:spPr>
          <a:xfrm>
            <a:off x="2484360" y="4776840"/>
            <a:ext cx="5040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Calibri"/>
              </a:rPr>
              <a:t>Необходимость смены профессиональной дея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Скругленный прямоугольник 11"/>
          <p:cNvGrpSpPr/>
          <p:nvPr/>
        </p:nvGrpSpPr>
        <p:grpSpPr>
          <a:xfrm>
            <a:off x="1773360" y="1706400"/>
            <a:ext cx="6048360" cy="787680"/>
            <a:chOff x="1773360" y="1706400"/>
            <a:chExt cx="6048360" cy="787680"/>
          </a:xfrm>
        </p:grpSpPr>
        <p:pic>
          <p:nvPicPr>
            <p:cNvPr id="100" name="Скругленный 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1773360" y="1706400"/>
              <a:ext cx="604836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863720" y="1871640"/>
              <a:ext cx="587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человек</a:t>
              </a:r>
              <a:endParaRPr b="0" lang="en-US" sz="3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23"/>
          <p:cNvSpPr/>
          <p:nvPr/>
        </p:nvSpPr>
        <p:spPr>
          <a:xfrm>
            <a:off x="4788000" y="5829480"/>
            <a:ext cx="4392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Calibri"/>
              </a:rPr>
              <a:t>Прекращение трудовой дея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инус 8"/>
          <p:cNvSpPr/>
          <p:nvPr/>
        </p:nvSpPr>
        <p:spPr>
          <a:xfrm>
            <a:off x="3132000" y="692280"/>
            <a:ext cx="428760" cy="357120"/>
          </a:xfrm>
          <a:custGeom>
            <a:avLst/>
            <a:gdLst>
              <a:gd name="textAreaLeft" fmla="*/ 56520 w 428760"/>
              <a:gd name="textAreaRight" fmla="*/ 372240 w 428760"/>
              <a:gd name="textAreaTop" fmla="*/ 136440 h 357120"/>
              <a:gd name="textAreaBottom" fmla="*/ 220680 h 357120"/>
            </a:gdLst>
            <a:ahLst/>
            <a:rect l="textAreaLeft" t="textAreaTop" r="textAreaRight" b="textAreaBottom"/>
            <a:pathLst>
              <a:path w="428625" h="357188">
                <a:moveTo>
                  <a:pt x="56814" y="136589"/>
                </a:moveTo>
                <a:lnTo>
                  <a:pt x="371811" y="136589"/>
                </a:lnTo>
                <a:lnTo>
                  <a:pt x="371811" y="220599"/>
                </a:lnTo>
                <a:lnTo>
                  <a:pt x="56814" y="22059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Скругленный прямоугольник 14"/>
          <p:cNvGrpSpPr/>
          <p:nvPr/>
        </p:nvGrpSpPr>
        <p:grpSpPr>
          <a:xfrm>
            <a:off x="3790800" y="433440"/>
            <a:ext cx="1841760" cy="834840"/>
            <a:chOff x="3790800" y="433440"/>
            <a:chExt cx="1841760" cy="834840"/>
          </a:xfrm>
        </p:grpSpPr>
        <p:pic>
          <p:nvPicPr>
            <p:cNvPr id="105" name="Скругленный прямоугольник 14" descr=""/>
            <p:cNvPicPr/>
            <p:nvPr/>
          </p:nvPicPr>
          <p:blipFill>
            <a:blip r:embed="rId3"/>
            <a:stretch/>
          </p:blipFill>
          <p:spPr>
            <a:xfrm>
              <a:off x="3790800" y="433440"/>
              <a:ext cx="18417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82960" y="581040"/>
              <a:ext cx="16653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ff"/>
                  </a:solidFill>
                  <a:latin typeface="Arial"/>
                  <a:ea typeface="Arial"/>
                </a:rPr>
                <a:t>ТРУД</a:t>
              </a:r>
              <a:endParaRPr b="0" lang="en-US" sz="3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7840" y="477720"/>
            <a:ext cx="84978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e67300"/>
                </a:solidFill>
                <a:latin typeface="Calibri"/>
              </a:rPr>
              <a:t>Профессиональное здоровье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79280" y="2251080"/>
            <a:ext cx="8713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Calibri"/>
              </a:rPr>
              <a:t>интегральная характеристика функционального состояния организма человека по физическим и психическим показателям, определяющая его способности к определённой профессиональной деятельности с заданными  эффективностью и продолжительностью, а также устойчивость к неблагоприятным факторам, сопровождающим эту деятельнос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трелка вниз 3"/>
          <p:cNvSpPr/>
          <p:nvPr/>
        </p:nvSpPr>
        <p:spPr>
          <a:xfrm>
            <a:off x="4211640" y="1341360"/>
            <a:ext cx="504720" cy="719280"/>
          </a:xfrm>
          <a:prstGeom prst="downArrow">
            <a:avLst>
              <a:gd name="adj1" fmla="val 50000"/>
              <a:gd name="adj2" fmla="val 4987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52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67300"/>
                </a:solidFill>
                <a:latin typeface="Calibri"/>
              </a:rPr>
              <a:t>Основные принципы </a:t>
            </a:r>
            <a:br>
              <a:rPr sz="3500"/>
            </a:br>
            <a:r>
              <a:rPr b="1" lang="ru-RU" sz="3500" spc="-1" strike="noStrike">
                <a:solidFill>
                  <a:srgbClr val="e67300"/>
                </a:solidFill>
                <a:latin typeface="Calibri"/>
              </a:rPr>
              <a:t>профессионального здоровья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68360" y="1341360"/>
            <a:ext cx="8712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Профессиональное здоровье – незыблемая ценность для работников, работодателей, обще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Сохранение профессионального здоровья – профессиональный долг каждого медицинского работника и обязанность работодател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Формирование условий для сохранения профессионального здоровья – постоянный, системный и мониторируемый процесс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libri"/>
              </a:rPr>
              <a:t>Знания о профессиональном здоровье и умение его  сохранять – отражает профессиональную компетентность медицинского работн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Овал 3"/>
          <p:cNvGrpSpPr/>
          <p:nvPr/>
        </p:nvGrpSpPr>
        <p:grpSpPr>
          <a:xfrm>
            <a:off x="79200" y="1450800"/>
            <a:ext cx="341640" cy="347760"/>
            <a:chOff x="79200" y="1450800"/>
            <a:chExt cx="341640" cy="347760"/>
          </a:xfrm>
        </p:grpSpPr>
        <p:pic>
          <p:nvPicPr>
            <p:cNvPr id="113" name="Овал 3" descr=""/>
            <p:cNvPicPr/>
            <p:nvPr/>
          </p:nvPicPr>
          <p:blipFill>
            <a:blip r:embed="rId1"/>
            <a:stretch/>
          </p:blipFill>
          <p:spPr>
            <a:xfrm>
              <a:off x="79200" y="1450800"/>
              <a:ext cx="341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49400" y="152712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Овал 4"/>
          <p:cNvGrpSpPr/>
          <p:nvPr/>
        </p:nvGrpSpPr>
        <p:grpSpPr>
          <a:xfrm>
            <a:off x="79200" y="2535120"/>
            <a:ext cx="341640" cy="341280"/>
            <a:chOff x="79200" y="2535120"/>
            <a:chExt cx="341640" cy="341280"/>
          </a:xfrm>
        </p:grpSpPr>
        <p:pic>
          <p:nvPicPr>
            <p:cNvPr id="116" name="Овал 4" descr=""/>
            <p:cNvPicPr/>
            <p:nvPr/>
          </p:nvPicPr>
          <p:blipFill>
            <a:blip r:embed="rId2"/>
            <a:stretch/>
          </p:blipFill>
          <p:spPr>
            <a:xfrm>
              <a:off x="79200" y="253512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49400" y="2606760"/>
              <a:ext cx="204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Овал 5"/>
          <p:cNvGrpSpPr/>
          <p:nvPr/>
        </p:nvGrpSpPr>
        <p:grpSpPr>
          <a:xfrm>
            <a:off x="79200" y="4048200"/>
            <a:ext cx="341640" cy="341280"/>
            <a:chOff x="79200" y="4048200"/>
            <a:chExt cx="341640" cy="341280"/>
          </a:xfrm>
        </p:grpSpPr>
        <p:pic>
          <p:nvPicPr>
            <p:cNvPr id="119" name="Овал 5" descr=""/>
            <p:cNvPicPr/>
            <p:nvPr/>
          </p:nvPicPr>
          <p:blipFill>
            <a:blip r:embed="rId3"/>
            <a:stretch/>
          </p:blipFill>
          <p:spPr>
            <a:xfrm>
              <a:off x="79200" y="404820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49400" y="4119480"/>
              <a:ext cx="2044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Овал 6"/>
          <p:cNvGrpSpPr/>
          <p:nvPr/>
        </p:nvGrpSpPr>
        <p:grpSpPr>
          <a:xfrm>
            <a:off x="79200" y="5559480"/>
            <a:ext cx="341640" cy="341280"/>
            <a:chOff x="79200" y="5559480"/>
            <a:chExt cx="341640" cy="341280"/>
          </a:xfrm>
        </p:grpSpPr>
        <p:pic>
          <p:nvPicPr>
            <p:cNvPr id="122" name="Овал 6" descr=""/>
            <p:cNvPicPr/>
            <p:nvPr/>
          </p:nvPicPr>
          <p:blipFill>
            <a:blip r:embed="rId4"/>
            <a:stretch/>
          </p:blipFill>
          <p:spPr>
            <a:xfrm>
              <a:off x="79200" y="5559480"/>
              <a:ext cx="34164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49400" y="5630760"/>
              <a:ext cx="204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Oval 38"/>
          <p:cNvGrpSpPr/>
          <p:nvPr/>
        </p:nvGrpSpPr>
        <p:grpSpPr>
          <a:xfrm>
            <a:off x="3103560" y="1231920"/>
            <a:ext cx="3005280" cy="1627200"/>
            <a:chOff x="3103560" y="1231920"/>
            <a:chExt cx="3005280" cy="1627200"/>
          </a:xfrm>
        </p:grpSpPr>
        <p:pic>
          <p:nvPicPr>
            <p:cNvPr id="125" name="Oval 38" descr=""/>
            <p:cNvPicPr/>
            <p:nvPr/>
          </p:nvPicPr>
          <p:blipFill>
            <a:blip r:embed="rId1"/>
            <a:stretch/>
          </p:blipFill>
          <p:spPr>
            <a:xfrm>
              <a:off x="3103560" y="1231920"/>
              <a:ext cx="300528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559320" y="1482840"/>
              <a:ext cx="21016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67300"/>
                </a:solidFill>
                <a:latin typeface="Calibri"/>
              </a:rPr>
              <a:t>Основные факторы, влияющие на профессиональное здоровье и безопасность на рабочем мест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Rectangle 33"/>
          <p:cNvGrpSpPr/>
          <p:nvPr/>
        </p:nvGrpSpPr>
        <p:grpSpPr>
          <a:xfrm>
            <a:off x="2876400" y="3213000"/>
            <a:ext cx="3610080" cy="1706760"/>
            <a:chOff x="2876400" y="3213000"/>
            <a:chExt cx="3610080" cy="1706760"/>
          </a:xfrm>
        </p:grpSpPr>
        <p:pic>
          <p:nvPicPr>
            <p:cNvPr id="129" name="Rectangle 33" descr=""/>
            <p:cNvPicPr/>
            <p:nvPr/>
          </p:nvPicPr>
          <p:blipFill>
            <a:blip r:embed="rId2"/>
            <a:stretch/>
          </p:blipFill>
          <p:spPr>
            <a:xfrm>
              <a:off x="2876400" y="3213000"/>
              <a:ext cx="361008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95480" y="3228840"/>
              <a:ext cx="3581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Calibri"/>
                </a:rPr>
                <a:t>Профессиональное здоровье                          и безопасность               на рабочем месте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Oval 38"/>
          <p:cNvGrpSpPr/>
          <p:nvPr/>
        </p:nvGrpSpPr>
        <p:grpSpPr>
          <a:xfrm>
            <a:off x="19080" y="1616040"/>
            <a:ext cx="2571840" cy="1981080"/>
            <a:chOff x="19080" y="1616040"/>
            <a:chExt cx="2571840" cy="1981080"/>
          </a:xfrm>
        </p:grpSpPr>
        <p:pic>
          <p:nvPicPr>
            <p:cNvPr id="132" name="Oval 38" descr=""/>
            <p:cNvPicPr/>
            <p:nvPr/>
          </p:nvPicPr>
          <p:blipFill>
            <a:blip r:embed="rId3"/>
            <a:stretch/>
          </p:blipFill>
          <p:spPr>
            <a:xfrm>
              <a:off x="19080" y="1616040"/>
              <a:ext cx="25718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11120" y="1917720"/>
              <a:ext cx="1798560" cy="13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Text Box 39"/>
          <p:cNvSpPr/>
          <p:nvPr/>
        </p:nvSpPr>
        <p:spPr>
          <a:xfrm>
            <a:off x="-31680" y="1892160"/>
            <a:ext cx="269064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Calibri"/>
              </a:rPr>
              <a:t>Позиция национальной ассоциа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Calibri"/>
              </a:rPr>
              <a:t>медсестё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55"/>
          <p:cNvSpPr/>
          <p:nvPr/>
        </p:nvSpPr>
        <p:spPr>
          <a:xfrm>
            <a:off x="2100240" y="3403440"/>
            <a:ext cx="762120" cy="457200"/>
          </a:xfrm>
          <a:prstGeom prst="line">
            <a:avLst/>
          </a:prstGeom>
          <a:ln w="76320">
            <a:solidFill>
              <a:srgbClr val="953735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56"/>
          <p:cNvSpPr/>
          <p:nvPr/>
        </p:nvSpPr>
        <p:spPr>
          <a:xfrm flipV="1">
            <a:off x="1981080" y="4295880"/>
            <a:ext cx="838440" cy="380880"/>
          </a:xfrm>
          <a:prstGeom prst="line">
            <a:avLst/>
          </a:prstGeom>
          <a:ln w="76320">
            <a:solidFill>
              <a:srgbClr val="953735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57"/>
          <p:cNvSpPr/>
          <p:nvPr/>
        </p:nvSpPr>
        <p:spPr>
          <a:xfrm>
            <a:off x="4716360" y="2771640"/>
            <a:ext cx="0" cy="457200"/>
          </a:xfrm>
          <a:prstGeom prst="line">
            <a:avLst/>
          </a:prstGeom>
          <a:ln w="76320">
            <a:solidFill>
              <a:srgbClr val="953735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58"/>
          <p:cNvSpPr/>
          <p:nvPr/>
        </p:nvSpPr>
        <p:spPr>
          <a:xfrm flipV="1">
            <a:off x="4724280" y="4829040"/>
            <a:ext cx="0" cy="533520"/>
          </a:xfrm>
          <a:prstGeom prst="line">
            <a:avLst/>
          </a:prstGeom>
          <a:ln w="76320">
            <a:solidFill>
              <a:srgbClr val="953735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59"/>
          <p:cNvSpPr/>
          <p:nvPr/>
        </p:nvSpPr>
        <p:spPr>
          <a:xfrm flipH="1" flipV="1">
            <a:off x="6629040" y="4371480"/>
            <a:ext cx="762120" cy="381240"/>
          </a:xfrm>
          <a:prstGeom prst="line">
            <a:avLst/>
          </a:prstGeom>
          <a:ln w="76320">
            <a:solidFill>
              <a:srgbClr val="953735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60"/>
          <p:cNvSpPr/>
          <p:nvPr/>
        </p:nvSpPr>
        <p:spPr>
          <a:xfrm flipH="1">
            <a:off x="6553080" y="3152880"/>
            <a:ext cx="609840" cy="533160"/>
          </a:xfrm>
          <a:prstGeom prst="line">
            <a:avLst/>
          </a:prstGeom>
          <a:ln w="76320">
            <a:solidFill>
              <a:srgbClr val="953735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3438360" y="1547640"/>
            <a:ext cx="2286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Calibri"/>
              </a:rPr>
              <a:t>Окружающая (физическая) сред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Oval 38"/>
          <p:cNvGrpSpPr/>
          <p:nvPr/>
        </p:nvGrpSpPr>
        <p:grpSpPr>
          <a:xfrm>
            <a:off x="6559560" y="1450800"/>
            <a:ext cx="2571840" cy="1981440"/>
            <a:chOff x="6559560" y="1450800"/>
            <a:chExt cx="2571840" cy="1981440"/>
          </a:xfrm>
        </p:grpSpPr>
        <p:pic>
          <p:nvPicPr>
            <p:cNvPr id="143" name="Oval 38" descr=""/>
            <p:cNvPicPr/>
            <p:nvPr/>
          </p:nvPicPr>
          <p:blipFill>
            <a:blip r:embed="rId4"/>
            <a:stretch/>
          </p:blipFill>
          <p:spPr>
            <a:xfrm>
              <a:off x="6559560" y="1450800"/>
              <a:ext cx="257184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50160" y="1754280"/>
              <a:ext cx="1798560" cy="13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Text Box 36"/>
          <p:cNvSpPr/>
          <p:nvPr/>
        </p:nvSpPr>
        <p:spPr>
          <a:xfrm>
            <a:off x="6761160" y="1857240"/>
            <a:ext cx="23065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Calibri"/>
              </a:rPr>
              <a:t>Психо-социальный клима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Oval 38"/>
          <p:cNvGrpSpPr/>
          <p:nvPr/>
        </p:nvGrpSpPr>
        <p:grpSpPr>
          <a:xfrm>
            <a:off x="6608880" y="4498920"/>
            <a:ext cx="2577960" cy="1981080"/>
            <a:chOff x="6608880" y="4498920"/>
            <a:chExt cx="2577960" cy="1981080"/>
          </a:xfrm>
        </p:grpSpPr>
        <p:pic>
          <p:nvPicPr>
            <p:cNvPr id="147" name="Oval 38" descr=""/>
            <p:cNvPicPr/>
            <p:nvPr/>
          </p:nvPicPr>
          <p:blipFill>
            <a:blip r:embed="rId5"/>
            <a:stretch/>
          </p:blipFill>
          <p:spPr>
            <a:xfrm>
              <a:off x="6608880" y="4498920"/>
              <a:ext cx="25779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000920" y="4802040"/>
              <a:ext cx="179856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Text Box 45"/>
          <p:cNvSpPr/>
          <p:nvPr/>
        </p:nvSpPr>
        <p:spPr>
          <a:xfrm>
            <a:off x="6705720" y="4962600"/>
            <a:ext cx="238284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Calibri"/>
              </a:rPr>
              <a:t>Научная организация тру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Oval 38"/>
          <p:cNvGrpSpPr/>
          <p:nvPr/>
        </p:nvGrpSpPr>
        <p:grpSpPr>
          <a:xfrm>
            <a:off x="3309840" y="5194440"/>
            <a:ext cx="2998800" cy="1633320"/>
            <a:chOff x="3309840" y="5194440"/>
            <a:chExt cx="2998800" cy="1633320"/>
          </a:xfrm>
        </p:grpSpPr>
        <p:pic>
          <p:nvPicPr>
            <p:cNvPr id="151" name="Oval 38" descr=""/>
            <p:cNvPicPr/>
            <p:nvPr/>
          </p:nvPicPr>
          <p:blipFill>
            <a:blip r:embed="rId6"/>
            <a:stretch/>
          </p:blipFill>
          <p:spPr>
            <a:xfrm>
              <a:off x="3309840" y="5194440"/>
              <a:ext cx="299880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763800" y="5448240"/>
              <a:ext cx="21006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 Box 48"/>
          <p:cNvSpPr/>
          <p:nvPr/>
        </p:nvSpPr>
        <p:spPr>
          <a:xfrm>
            <a:off x="3336840" y="5522760"/>
            <a:ext cx="289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Calibri"/>
              </a:rPr>
              <a:t>Профессиональная компетентность персон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Oval 38"/>
          <p:cNvGrpSpPr/>
          <p:nvPr/>
        </p:nvGrpSpPr>
        <p:grpSpPr>
          <a:xfrm>
            <a:off x="23760" y="4651200"/>
            <a:ext cx="2579760" cy="1981440"/>
            <a:chOff x="23760" y="4651200"/>
            <a:chExt cx="2579760" cy="1981440"/>
          </a:xfrm>
        </p:grpSpPr>
        <p:pic>
          <p:nvPicPr>
            <p:cNvPr id="155" name="Oval 38" descr=""/>
            <p:cNvPicPr/>
            <p:nvPr/>
          </p:nvPicPr>
          <p:blipFill>
            <a:blip r:embed="rId7"/>
            <a:stretch/>
          </p:blipFill>
          <p:spPr>
            <a:xfrm>
              <a:off x="23760" y="4651200"/>
              <a:ext cx="257976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17600" y="4954680"/>
              <a:ext cx="1798560" cy="13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 Box 51"/>
          <p:cNvSpPr/>
          <p:nvPr/>
        </p:nvSpPr>
        <p:spPr>
          <a:xfrm>
            <a:off x="95400" y="4924440"/>
            <a:ext cx="24382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Calibri"/>
              </a:rPr>
              <a:t>Юридический аспект профес-сиональной деятель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96440"/>
            <a:ext cx="9144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e67300"/>
                </a:solidFill>
                <a:latin typeface="Calibri"/>
              </a:rPr>
              <a:t>Безопасная больничная среда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146480" cy="4032360"/>
          </a:xfrm>
          <a:prstGeom prst="rect">
            <a:avLst/>
          </a:prstGeom>
          <a:ln w="19080">
            <a:solidFill>
              <a:srgbClr val="f27900"/>
            </a:solidFill>
            <a:miter/>
          </a:ln>
        </p:spPr>
      </p:pic>
      <p:pic>
        <p:nvPicPr>
          <p:cNvPr id="160" name="Picture 6" descr=""/>
          <p:cNvPicPr/>
          <p:nvPr/>
        </p:nvPicPr>
        <p:blipFill>
          <a:blip r:embed="rId2">
            <a:lum bright="-10000"/>
          </a:blip>
          <a:srcRect l="19776" t="0" r="18589" b="4872"/>
          <a:stretch/>
        </p:blipFill>
        <p:spPr>
          <a:xfrm>
            <a:off x="324000" y="2349360"/>
            <a:ext cx="3749400" cy="4032360"/>
          </a:xfrm>
          <a:prstGeom prst="rect">
            <a:avLst/>
          </a:prstGeom>
          <a:ln w="19080">
            <a:solidFill>
              <a:srgbClr val="f27900"/>
            </a:solidFill>
            <a:miter/>
          </a:ln>
        </p:spPr>
      </p:pic>
      <p:cxnSp>
        <p:nvCxnSpPr>
          <p:cNvPr id="161" name="Прямая со стрелкой 7"/>
          <p:cNvCxnSpPr/>
          <p:nvPr/>
        </p:nvCxnSpPr>
        <p:spPr>
          <a:xfrm flipH="1">
            <a:off x="3276000" y="1268280"/>
            <a:ext cx="935640" cy="937440"/>
          </a:xfrm>
          <a:prstGeom prst="straightConnector1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162" name="Прямая со стрелкой 11"/>
          <p:cNvCxnSpPr/>
          <p:nvPr/>
        </p:nvCxnSpPr>
        <p:spPr>
          <a:xfrm>
            <a:off x="4716360" y="1267920"/>
            <a:ext cx="1008720" cy="1008720"/>
          </a:xfrm>
          <a:prstGeom prst="straightConnector1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</p:cxn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6:38:08Z</dcterms:created>
  <dc:creator>User</dc:creator>
  <dc:description/>
  <dc:language>en-US</dc:language>
  <cp:lastModifiedBy>ОПСА</cp:lastModifiedBy>
  <dcterms:modified xsi:type="dcterms:W3CDTF">2011-04-04T04:12:58Z</dcterms:modified>
  <cp:revision>79</cp:revision>
  <dc:subject/>
  <dc:title>Слайд 1</dc:title>
</cp:coreProperties>
</file>