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7FB-266F-4153-8E83-D45118B3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3AF-C0C4-4869-9539-7CFBD804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C21-D0E9-4F7A-8296-9AD2E2D9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90F-321E-4844-B751-99960006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51BE1-18A9-4F31-9C1C-1C2BF4E8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4A818-8935-4707-B34D-B8032DF6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5B0E8-0EFE-42E3-8C0F-E8DAAD1A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5C705-7ECE-4A08-BE94-780D09B6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A6208-5C5E-4A36-8D37-8E7BC1D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382AF-1058-4366-882A-D6574F5F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09B42-7C76-453D-A0CF-AAB510B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3D4-4DEF-4E5D-B788-3FB700D1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0E758-A80B-4C76-A91D-E88CAD1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86A23-75F3-4E0A-977C-3A198561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91AA9-1ADF-4F6C-B74C-69CC2B59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CA8D1-B4CF-4FCB-AD01-A741EB5C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EF3F7-9966-4C70-AA29-3FEB0DAA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27B-7C90-472F-9A4B-FB0DE5AF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6D4-7E9C-43C0-96F3-D45406C1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B94-28B6-4A1E-ABC1-4FEE8195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8BC-EAD0-4B02-87B8-A161EA5A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2A5-932E-482F-A64C-20875CC4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864-C285-439F-9FA5-83B3603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7D4-1205-4833-8F76-6D73924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1235160"/>
            <a:ext cx="914400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0" y="1279440"/>
            <a:ext cx="53352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590400" y="1279440"/>
            <a:ext cx="85536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w Cen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D161-274B-4DA3-8B61-AB2EC5EAC705}" type="datetime">
              <a:rPr b="0" lang="ru-RU" sz="1800" spc="-1" strike="noStrike">
                <a:solidFill>
                  <a:srgbClr val="000000"/>
                </a:solidFill>
                <a:latin typeface="Tw Cen MT"/>
                <a:ea typeface="Lucida Sans Unicode"/>
              </a:rPr>
              <a:t>31.07.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w Cen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DA24-F6D8-4EF3-AD9D-FD06E4D11ADC}" type="slidenum">
              <a:rPr b="0" lang="ru-RU" sz="1800" spc="-1" strike="noStrike">
                <a:solidFill>
                  <a:srgbClr val="ffffff"/>
                </a:solidFill>
                <a:latin typeface="Tw Cen MT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 fontScale="94000"/>
          </a:bodyPr>
          <a:p>
            <a:pPr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spcBef>
                <a:spcPts val="7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>
              <a:spcBef>
                <a:spcPts val="7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>
              <a:spcBef>
                <a:spcPts val="7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>
              <a:spcBef>
                <a:spcPts val="7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 fontScale="94000"/>
          </a:bodyPr>
          <a:p>
            <a:pPr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spcBef>
                <a:spcPts val="7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>
              <a:spcBef>
                <a:spcPts val="7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>
              <a:spcBef>
                <a:spcPts val="7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>
              <a:spcBef>
                <a:spcPts val="7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w Cen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F2A3-879B-473D-A4E9-0032809B8868}" type="datetime">
              <a:rPr b="0" lang="ru-RU" sz="1800" spc="-1" strike="noStrike">
                <a:solidFill>
                  <a:srgbClr val="000000"/>
                </a:solidFill>
                <a:latin typeface="Tw Cen MT"/>
                <a:ea typeface="Lucida Sans Unicode"/>
              </a:rPr>
              <a:t>31.07.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w Cen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5888-43C3-4AF2-B4DA-5B33F64D1311}" type="slidenum">
              <a:rPr b="0" lang="ru-RU" sz="1800" spc="-1" strike="noStrike">
                <a:solidFill>
                  <a:srgbClr val="000000"/>
                </a:solidFill>
                <a:latin typeface="Tw Cen MT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424720" cy="615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Arial"/>
                <a:ea typeface="Arial"/>
              </a:rPr>
              <a:t>МУЗ «Клинический родильный дом № 1»</a:t>
            </a:r>
            <a:endParaRPr b="0" lang="en-US" sz="31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600120" y="1568520"/>
            <a:ext cx="8229600" cy="12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"/>
                <a:ea typeface="Lucida Sans Unicode"/>
              </a:rPr>
              <a:t>Технология выполнения простой медицинской услу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-36360" y="2708280"/>
            <a:ext cx="9361440" cy="2232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6411c"/>
                </a:solidFill>
                <a:latin typeface="Arial"/>
                <a:ea typeface="Lucida Sans Unicode"/>
              </a:rPr>
              <a:t>«Приём родов (5 моментов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6411c"/>
                </a:solidFill>
                <a:latin typeface="Arial"/>
                <a:ea typeface="Lucida Sans Unicode"/>
              </a:rPr>
              <a:t>Акушерское пособие в родах при затылочном (головном) предлеж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74520" y="5734080"/>
            <a:ext cx="7089840" cy="97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Lucida Sans Unicode"/>
              </a:rPr>
              <a:t>Е.П. Торгашева, старшая акушерка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Lucida Sans Unicode"/>
              </a:rPr>
              <a:t>отделения патологии беремен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8153280" cy="11509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8. Руки осушить стерильным полотенцем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464000" cy="369720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23" name="Rectangle 4"/>
          <p:cNvSpPr/>
          <p:nvPr/>
        </p:nvSpPr>
        <p:spPr>
          <a:xfrm>
            <a:off x="108000" y="201600"/>
            <a:ext cx="9144000" cy="76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2.1. Подготовка к процед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96560"/>
            <a:ext cx="9144000" cy="927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Arial"/>
                <a:ea typeface="Arial"/>
              </a:rPr>
              <a:t>9. Обработать кожу рук 0,5 % хлоргексидина глюконата в 70% этиловом спирте в </a:t>
            </a:r>
            <a:br>
              <a:rPr sz="3000"/>
            </a:br>
            <a:r>
              <a:rPr b="1" i="1" lang="ru-RU" sz="3000" spc="-1" strike="noStrike">
                <a:solidFill>
                  <a:srgbClr val="002060"/>
                </a:solidFill>
                <a:latin typeface="Arial"/>
                <a:ea typeface="Arial"/>
              </a:rPr>
              <a:t>следующем порядке:</a:t>
            </a:r>
            <a:endParaRPr b="0" lang="en-US" sz="3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651200" cy="344160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26" name="Прямоугольник 3"/>
          <p:cNvSpPr/>
          <p:nvPr/>
        </p:nvSpPr>
        <p:spPr>
          <a:xfrm>
            <a:off x="25560" y="1663560"/>
            <a:ext cx="8723160" cy="1508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1)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ушечки пальцев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ногтевые ложа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пальцевые простран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179064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) Положить шарик на ладонную поверхность между рук и сделать вращательное движение по часовой стрелке</a:t>
            </a:r>
            <a:endParaRPr b="0" lang="en-US" sz="3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050920" y="3600360"/>
            <a:ext cx="5040360" cy="307512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29" name="Заголовок 1"/>
          <p:cNvSpPr/>
          <p:nvPr/>
        </p:nvSpPr>
        <p:spPr>
          <a:xfrm>
            <a:off x="0" y="196920"/>
            <a:ext cx="9144000" cy="9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Arial"/>
                <a:ea typeface="Times New Roman"/>
              </a:rPr>
              <a:t>9. Обработать кожу рук 0,5 % хлоргексидина глюконата в 70% этиловом спирте                  в следующем порядк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1628640"/>
            <a:ext cx="896292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) Разжать руки и отпустить использованный шарик в лоток для медицинских отходов</a:t>
            </a:r>
            <a:endParaRPr b="0" lang="en-US" sz="3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5040360" cy="378612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32" name="Заголовок 1"/>
          <p:cNvSpPr/>
          <p:nvPr/>
        </p:nvSpPr>
        <p:spPr>
          <a:xfrm>
            <a:off x="0" y="196920"/>
            <a:ext cx="9144000" cy="9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Arial"/>
                <a:ea typeface="Times New Roman"/>
              </a:rPr>
              <a:t>9. Обработать кожу рук 0,5 % хлоргексидина глюконата в 70% этиловом спирте в </a:t>
            </a:r>
            <a:br>
              <a:rPr sz="3000"/>
            </a:br>
            <a:r>
              <a:rPr b="1" i="1" lang="ru-RU" sz="30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ующем порядк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52640" y="11592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2060"/>
                </a:solidFill>
                <a:latin typeface="Arial"/>
                <a:ea typeface="Arial"/>
              </a:rPr>
              <a:t>10. Достать стерильным корнцангом стерильный халат и перчатки, надеть их</a:t>
            </a:r>
            <a:endParaRPr b="0" lang="en-US" sz="31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724360" y="1668600"/>
            <a:ext cx="2806920" cy="23367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1647720"/>
            <a:ext cx="2779560" cy="235764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2771640" y="4581360"/>
            <a:ext cx="2892600" cy="21909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37" name="Rectangle 3"/>
          <p:cNvSpPr/>
          <p:nvPr/>
        </p:nvSpPr>
        <p:spPr>
          <a:xfrm>
            <a:off x="785880" y="4120560"/>
            <a:ext cx="721512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ушерка готова к приёму р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трелка вправо 8"/>
          <p:cNvSpPr/>
          <p:nvPr/>
        </p:nvSpPr>
        <p:spPr>
          <a:xfrm>
            <a:off x="3500280" y="2712960"/>
            <a:ext cx="1785960" cy="500040"/>
          </a:xfrm>
          <a:custGeom>
            <a:avLst/>
            <a:gdLst>
              <a:gd name="textAreaLeft" fmla="*/ 0 w 1785960"/>
              <a:gd name="textAreaRight" fmla="*/ 1562760 w 178596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close/>
              </a:path>
            </a:pathLst>
          </a:cu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05d34"/>
                </a:solidFill>
                <a:latin typeface="Arial"/>
                <a:ea typeface="Arial"/>
              </a:rPr>
              <a:t>2.2. Выполнение процедуры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0" y="1541160"/>
            <a:ext cx="9144000" cy="112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05d34"/>
                </a:solidFill>
                <a:latin typeface="Arial"/>
                <a:ea typeface="Times New Roman"/>
              </a:rPr>
              <a:t>1 момент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упреждение преждевременного разгибания головк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2195640" y="2779560"/>
            <a:ext cx="4464000" cy="40341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108000" y="1503000"/>
            <a:ext cx="9036000" cy="119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05d34"/>
                </a:solidFill>
                <a:latin typeface="Arial"/>
                <a:ea typeface="Times New Roman"/>
              </a:rPr>
              <a:t>2 момент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едение головки из половой щели вне пот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835280" y="2697120"/>
            <a:ext cx="4752720" cy="40305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05d34"/>
                </a:solidFill>
                <a:latin typeface="Arial"/>
                <a:ea typeface="Arial"/>
              </a:rPr>
              <a:t>2.2. Выполнение процедуры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2027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428760" y="2357280"/>
            <a:ext cx="4214520" cy="869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08000" y="1528200"/>
            <a:ext cx="8783640" cy="1220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e05d34"/>
                </a:solidFill>
                <a:latin typeface="Arial"/>
                <a:ea typeface="Times New Roman"/>
              </a:rPr>
              <a:t>3 момент 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– уменьшение напряжения  промеж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2455920" y="2529000"/>
            <a:ext cx="4924440" cy="421164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49" name="Заголовок 1"/>
          <p:cNvSpPr/>
          <p:nvPr/>
        </p:nvSpPr>
        <p:spPr>
          <a:xfrm>
            <a:off x="0" y="44280"/>
            <a:ext cx="9036000" cy="990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05d34"/>
                </a:solidFill>
                <a:latin typeface="Arial"/>
                <a:ea typeface="Lucida Sans Unicode"/>
              </a:rPr>
              <a:t>2.2. Выполнение процеду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37339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         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43280" y="1773000"/>
            <a:ext cx="5256000" cy="1222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1412"/>
              </a:spcAft>
              <a:buClr>
                <a:srgbClr val="00206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Arial"/>
                <a:ea typeface="Lucida Sans Unicode"/>
              </a:rPr>
              <a:t>Прорезывание головки</a:t>
            </a:r>
            <a:endParaRPr b="0" lang="en-US" sz="3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563400" y="623160"/>
            <a:ext cx="8544240" cy="64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05d34"/>
                </a:solidFill>
                <a:latin typeface="Arial"/>
                <a:ea typeface="Times New Roman"/>
              </a:rPr>
              <a:t>4 момент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ирование пот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214720" cy="19605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54" name="Заголовок 1"/>
          <p:cNvSpPr/>
          <p:nvPr/>
        </p:nvSpPr>
        <p:spPr>
          <a:xfrm>
            <a:off x="0" y="44280"/>
            <a:ext cx="903600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e05d34"/>
                </a:solidFill>
                <a:latin typeface="Arial"/>
                <a:ea typeface="Lucida Sans Unicode"/>
              </a:rPr>
              <a:t>2.2. Выполнение процедуры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одержимое 6"/>
          <p:cNvSpPr/>
          <p:nvPr/>
        </p:nvSpPr>
        <p:spPr>
          <a:xfrm>
            <a:off x="3995640" y="3220920"/>
            <a:ext cx="4464000" cy="1440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Arial"/>
                <a:ea typeface="Lucida Sans Unicode"/>
              </a:rPr>
              <a:t>Выведение головк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1619280" y="3097080"/>
            <a:ext cx="2214360" cy="19875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395280" y="4640400"/>
            <a:ext cx="2262240" cy="20415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58" name="Rectangle 3"/>
          <p:cNvSpPr/>
          <p:nvPr/>
        </p:nvSpPr>
        <p:spPr>
          <a:xfrm>
            <a:off x="3060720" y="5524200"/>
            <a:ext cx="5472000" cy="672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u-RU" sz="3800" spc="-1" strike="noStrike">
                <a:solidFill>
                  <a:srgbClr val="002060"/>
                </a:solidFill>
                <a:latin typeface="Arial"/>
                <a:ea typeface="Times New Roman"/>
              </a:rPr>
              <a:t>Рождение головк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634920" y="2997000"/>
            <a:ext cx="4824360" cy="1104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1412"/>
              </a:spcAft>
              <a:buClr>
                <a:srgbClr val="00206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Arial"/>
                <a:ea typeface="Lucida Sans Unicode"/>
              </a:rPr>
              <a:t>Выведение переднего плечика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684360" y="1490400"/>
            <a:ext cx="8285040" cy="112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05d34"/>
                </a:solidFill>
                <a:latin typeface="Arial"/>
                <a:ea typeface="Times New Roman"/>
              </a:rPr>
              <a:t>5 момент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бождение плечевого пояса и рождение туловищ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3138480" cy="217980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1403280" y="4581360"/>
            <a:ext cx="3456000" cy="22701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63" name="Заголовок 1"/>
          <p:cNvSpPr/>
          <p:nvPr/>
        </p:nvSpPr>
        <p:spPr>
          <a:xfrm>
            <a:off x="0" y="44280"/>
            <a:ext cx="9036000" cy="990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05d34"/>
                </a:solidFill>
                <a:latin typeface="Arial"/>
                <a:ea typeface="Lucida Sans Unicode"/>
              </a:rPr>
              <a:t>2.2. Выполнение процеду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84840" y="5157360"/>
            <a:ext cx="4224240" cy="863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70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1412"/>
              </a:spcAft>
              <a:buClr>
                <a:srgbClr val="00206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Arial"/>
                <a:ea typeface="Lucida Sans Unicode"/>
              </a:rPr>
              <a:t>Выведение заднего плечика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" y="-27000"/>
            <a:ext cx="9180720" cy="12859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05d34"/>
                </a:solidFill>
                <a:latin typeface="Arial"/>
                <a:ea typeface="Arial"/>
              </a:rPr>
              <a:t>1. Форма информированного согласия пациентки при выполнении методики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08000" y="1700280"/>
            <a:ext cx="8962920" cy="498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05d34"/>
                </a:solidFill>
                <a:latin typeface="Arial"/>
                <a:ea typeface="Lucida Sans Unicode"/>
              </a:rPr>
              <a:t>1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ациентка должна быть информирована о предстоящем оказании акушерского пособия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05d34"/>
                </a:solidFill>
                <a:latin typeface="Arial"/>
                <a:ea typeface="Lucida Sans Unicode"/>
              </a:rPr>
              <a:t>2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нформация включает сведения         о цели данной процедуры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05d34"/>
                </a:solidFill>
                <a:latin typeface="Arial"/>
                <a:ea typeface="Lucida Sans Unicode"/>
              </a:rPr>
              <a:t>3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исьменного согласия пациентки      не требуется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2881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e05d34"/>
                </a:solidFill>
                <a:latin typeface="Times New Roman"/>
                <a:ea typeface="Times New Roman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6985080" cy="6415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73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1412"/>
              </a:spcAft>
              <a:buClr>
                <a:srgbClr val="00206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Arial"/>
                <a:ea typeface="Lucida Sans Unicode"/>
              </a:rPr>
              <a:t>Выведение туловища</a:t>
            </a:r>
            <a:endParaRPr b="0" lang="en-US" sz="4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63640" y="2335320"/>
            <a:ext cx="5184720" cy="447840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68" name="Заголовок 1"/>
          <p:cNvSpPr/>
          <p:nvPr/>
        </p:nvSpPr>
        <p:spPr>
          <a:xfrm>
            <a:off x="0" y="44280"/>
            <a:ext cx="9036000" cy="990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05d34"/>
                </a:solidFill>
                <a:latin typeface="Arial"/>
                <a:ea typeface="Lucida Sans Unicode"/>
              </a:rPr>
              <a:t>2.2. Выполнение процеду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3912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05d34"/>
                </a:solidFill>
                <a:latin typeface="Arial"/>
                <a:ea typeface="Arial"/>
              </a:rPr>
              <a:t>2.3. Окончание процедуры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16360" y="2352240"/>
            <a:ext cx="5938560" cy="787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1412"/>
              </a:spcAft>
              <a:buClr>
                <a:srgbClr val="00206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Lucida Sans Unicode"/>
              </a:rPr>
              <a:t>Ребёнок рождается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38240" y="1773360"/>
            <a:ext cx="2849400" cy="25923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714240" y="4221000"/>
            <a:ext cx="2849760" cy="257652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73" name="Rectangle 3"/>
          <p:cNvSpPr/>
          <p:nvPr/>
        </p:nvSpPr>
        <p:spPr>
          <a:xfrm>
            <a:off x="3813120" y="4445640"/>
            <a:ext cx="5222880" cy="192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05d34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Ребёнок выкладывается        на живот матер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360" y="115920"/>
            <a:ext cx="928692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e05d34"/>
                </a:solidFill>
                <a:latin typeface="Arial"/>
                <a:ea typeface="Arial"/>
              </a:rPr>
              <a:t>3. Дополнительные сведения об особенностях выполнения методики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0" y="1564920"/>
            <a:ext cx="9036000" cy="112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3.1. Рождение плечевого пояса представляет трудности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0760" y="2852640"/>
            <a:ext cx="4232160" cy="354168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77" name="Rectangle 3"/>
          <p:cNvSpPr/>
          <p:nvPr/>
        </p:nvSpPr>
        <p:spPr>
          <a:xfrm>
            <a:off x="4427640" y="3243240"/>
            <a:ext cx="4673520" cy="2506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9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попытаться ручными приемами извлечь переднюю руч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6"/>
          <p:cNvSpPr/>
          <p:nvPr/>
        </p:nvSpPr>
        <p:spPr>
          <a:xfrm>
            <a:off x="179280" y="1643040"/>
            <a:ext cx="8607600" cy="12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2. Не удаётся извлечь переднюю ручк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34920" y="3048120"/>
            <a:ext cx="4448160" cy="326376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80" name="Rectangle 2"/>
          <p:cNvSpPr/>
          <p:nvPr/>
        </p:nvSpPr>
        <p:spPr>
          <a:xfrm>
            <a:off x="4608360" y="3441240"/>
            <a:ext cx="4356360" cy="2506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9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ывести  заднюю руч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9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«умывательным движение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08360" y="115920"/>
            <a:ext cx="928692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e05d34"/>
                </a:solidFill>
                <a:latin typeface="Arial"/>
                <a:ea typeface="Arial"/>
              </a:rPr>
              <a:t>3. Дополнительные сведения об особенностях выполнения методики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5"/>
          <p:cNvSpPr/>
          <p:nvPr/>
        </p:nvSpPr>
        <p:spPr>
          <a:xfrm>
            <a:off x="324000" y="1630440"/>
            <a:ext cx="8429400" cy="68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3  Следует считать риско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08360" y="115920"/>
            <a:ext cx="928692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e05d34"/>
                </a:solidFill>
                <a:latin typeface="Arial"/>
                <a:ea typeface="Arial"/>
              </a:rPr>
              <a:t>3. Дополнительные сведения об особенностях выполнения методики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108000" y="2565360"/>
            <a:ext cx="8820000" cy="435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buClr>
                <a:srgbClr val="00206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e05d34"/>
                </a:solidFill>
                <a:latin typeface="Arial"/>
                <a:ea typeface="Lucida Sans Unicode"/>
              </a:rPr>
              <a:t>  </a:t>
            </a:r>
            <a:r>
              <a:rPr b="1" lang="ru-RU" sz="3100" spc="-1" strike="noStrike">
                <a:solidFill>
                  <a:srgbClr val="002060"/>
                </a:solidFill>
                <a:latin typeface="Arial"/>
                <a:ea typeface="Arial"/>
              </a:rPr>
              <a:t>активный поворот головки при выведении плечиков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buClr>
                <a:srgbClr val="00206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ru-RU" sz="3100" spc="-1" strike="noStrike">
                <a:solidFill>
                  <a:srgbClr val="002060"/>
                </a:solidFill>
                <a:latin typeface="Arial"/>
                <a:ea typeface="Arial"/>
              </a:rPr>
              <a:t>активное движение за головку плода при фиксированном плечевом поясе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buClr>
                <a:srgbClr val="00206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ru-RU" sz="3100" spc="-1" strike="noStrike">
                <a:solidFill>
                  <a:srgbClr val="002060"/>
                </a:solidFill>
                <a:latin typeface="Arial"/>
                <a:ea typeface="Arial"/>
              </a:rPr>
              <a:t>защиту промежности, проводимую с применением сильного давления на головку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844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6" name="Содержимое 6" descr=""/>
          <p:cNvPicPr/>
          <p:nvPr/>
        </p:nvPicPr>
        <p:blipFill>
          <a:blip r:embed="rId1"/>
          <a:stretch/>
        </p:blipFill>
        <p:spPr>
          <a:xfrm>
            <a:off x="179280" y="2954160"/>
            <a:ext cx="3600720" cy="371484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775640" cy="1079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73000"/>
          </a:bodyPr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охранение здоровь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тери и ребёнка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285840" y="-65160"/>
            <a:ext cx="8501040" cy="13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05d34"/>
                </a:solidFill>
                <a:latin typeface="Arial"/>
                <a:ea typeface="Lucida Sans Unicode"/>
              </a:rPr>
              <a:t>4. Достигаемые результаты и их оце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одержимое 5"/>
          <p:cNvSpPr/>
          <p:nvPr/>
        </p:nvSpPr>
        <p:spPr>
          <a:xfrm>
            <a:off x="3924360" y="3429000"/>
            <a:ext cx="5327640" cy="165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сутствие родовой травмы новорождё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сутствие акушерского травмат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лево стрелка 2"/>
          <p:cNvSpPr/>
          <p:nvPr/>
        </p:nvSpPr>
        <p:spPr>
          <a:xfrm>
            <a:off x="1116000" y="1700280"/>
            <a:ext cx="574560" cy="863640"/>
          </a:xfrm>
          <a:custGeom>
            <a:avLst/>
            <a:gdLst>
              <a:gd name="textAreaLeft" fmla="*/ 76680 w 574560"/>
              <a:gd name="textAreaRight" fmla="*/ 497880 w 57456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-21739" y="9999"/>
                </a:lnTo>
                <a:arcTo wR="-11168" hR="7560" stAng="10020507" swAng="-20820507"/>
                <a:moveTo>
                  <a:pt x="0" y="11880"/>
                </a:moveTo>
                <a:lnTo>
                  <a:pt x="-22336" y="11880"/>
                </a:lnTo>
                <a:arcTo wR="-11168" hR="7560" stAng="-10800000" swAng="-206653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lnTo>
                  <a:pt x="-21495" y="4681"/>
                </a:lnTo>
                <a:arcTo wR="-11168" hR="7560" stAng="-9865337" swAng="21274197"/>
                <a:lnTo>
                  <a:pt x="900" y="9720"/>
                </a:lnTo>
                <a:lnTo>
                  <a:pt x="-21965" y="13813"/>
                </a:lnTo>
                <a:arcTo wR="-11168" hR="7560" stAng="10191139" swAng="21429367"/>
                <a:close/>
              </a:path>
              <a:path fill="none" w="21600" h="21600">
                <a:moveTo>
                  <a:pt x="0" y="7560"/>
                </a:moveTo>
                <a:lnTo>
                  <a:pt x="-22336" y="7560"/>
                </a:lnTo>
                <a:arcTo wR="-11168" hR="7560" stAng="-10800000" swAng="-20991139"/>
              </a:path>
            </a:pathLst>
          </a:custGeom>
          <a:solidFill>
            <a:srgbClr val="e05d34"/>
          </a:solidFill>
          <a:ln w="19080">
            <a:solidFill>
              <a:srgbClr val="6d8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960" y="44280"/>
            <a:ext cx="876132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05d34"/>
                </a:solidFill>
                <a:latin typeface="Arial"/>
                <a:ea typeface="Arial"/>
              </a:rPr>
              <a:t>5. Параметры оценки и контроля качества выполнения процедуры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9280" y="1700280"/>
          <a:ext cx="8785440" cy="5087880"/>
        </p:xfrm>
        <a:graphic>
          <a:graphicData uri="http://schemas.openxmlformats.org/drawingml/2006/table">
            <a:tbl>
              <a:tblPr/>
              <a:tblGrid>
                <a:gridCol w="5040360"/>
                <a:gridCol w="374508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ценка состояния здоровья новорождённого по шкале Апг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a9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 Оценка состояния здоровья родильн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a9a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остность мягких тканей  промеж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дцеби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ых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вет кожных покров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флек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2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535640" cy="496404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61560"/>
            <a:ext cx="815328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Arial"/>
                <a:ea typeface="Arial"/>
              </a:rPr>
              <a:t>Благодарю за внимание!</a:t>
            </a:r>
            <a:endParaRPr b="0" lang="en-US" sz="5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360" y="66600"/>
            <a:ext cx="9037440" cy="912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05d34"/>
                </a:solidFill>
                <a:latin typeface="Arial"/>
                <a:ea typeface="Arial"/>
              </a:rPr>
              <a:t>2. Характеристика</a:t>
            </a:r>
            <a:br>
              <a:rPr sz="3000"/>
            </a:br>
            <a:r>
              <a:rPr b="1" i="1" lang="ru-RU" sz="3000" spc="-1" strike="noStrike">
                <a:solidFill>
                  <a:srgbClr val="e05d34"/>
                </a:solidFill>
                <a:latin typeface="Arial"/>
                <a:ea typeface="Arial"/>
              </a:rPr>
              <a:t>методики выполнения медицинской услуги</a:t>
            </a:r>
            <a:endParaRPr b="0" lang="en-US" sz="3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96" name="Содержимое 4" descr=""/>
          <p:cNvPicPr/>
          <p:nvPr/>
        </p:nvPicPr>
        <p:blipFill>
          <a:blip r:embed="rId1"/>
          <a:stretch/>
        </p:blipFill>
        <p:spPr>
          <a:xfrm>
            <a:off x="2195640" y="3419640"/>
            <a:ext cx="4332240" cy="336528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97" name="Rectangle 4"/>
          <p:cNvSpPr/>
          <p:nvPr/>
        </p:nvSpPr>
        <p:spPr>
          <a:xfrm>
            <a:off x="0" y="1512000"/>
            <a:ext cx="9144000" cy="64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2.1. Подготовка к процеду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4920" y="2072520"/>
            <a:ext cx="69501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. Включить воду с помощью  локтевого смесител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9652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. Смочить руки и нанести жидкое мыло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ать кончики пальцев</a:t>
            </a:r>
            <a:endParaRPr b="0" lang="en-US" sz="3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100" name="Группа 1"/>
          <p:cNvGrpSpPr/>
          <p:nvPr/>
        </p:nvGrpSpPr>
        <p:grpSpPr>
          <a:xfrm>
            <a:off x="2482920" y="2708280"/>
            <a:ext cx="3600360" cy="3960720"/>
            <a:chOff x="2482920" y="2708280"/>
            <a:chExt cx="3600360" cy="3960720"/>
          </a:xfrm>
        </p:grpSpPr>
        <p:pic>
          <p:nvPicPr>
            <p:cNvPr id="101" name="Picture 2" descr=""/>
            <p:cNvPicPr/>
            <p:nvPr/>
          </p:nvPicPr>
          <p:blipFill>
            <a:blip r:embed="rId1"/>
            <a:stretch/>
          </p:blipFill>
          <p:spPr>
            <a:xfrm>
              <a:off x="2482920" y="2708280"/>
              <a:ext cx="3600360" cy="27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3" descr=""/>
            <p:cNvPicPr/>
            <p:nvPr/>
          </p:nvPicPr>
          <p:blipFill>
            <a:blip r:embed="rId2"/>
            <a:stretch/>
          </p:blipFill>
          <p:spPr>
            <a:xfrm>
              <a:off x="2482920" y="5438520"/>
              <a:ext cx="3600360" cy="12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4"/>
          <p:cNvSpPr/>
          <p:nvPr/>
        </p:nvSpPr>
        <p:spPr>
          <a:xfrm>
            <a:off x="108000" y="201600"/>
            <a:ext cx="9144000" cy="76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2.1. Подготовка к процед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2482920" y="2730600"/>
            <a:ext cx="3600360" cy="39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e05d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9440" y="1574640"/>
            <a:ext cx="858528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3. Попеременно обработать ладонную и тыльную поверхности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822920" cy="388620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07" name="Rectangle 4"/>
          <p:cNvSpPr/>
          <p:nvPr/>
        </p:nvSpPr>
        <p:spPr>
          <a:xfrm>
            <a:off x="108000" y="201600"/>
            <a:ext cx="9144000" cy="76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2.1. Подготовка к процед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4. Скрестив пальцы, обработать межпальцевые поверхности. Обработать межпальцевые поверхности с внешней стороны кисти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52360" y="3332160"/>
            <a:ext cx="4462560" cy="261612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427640" y="3998880"/>
            <a:ext cx="4464000" cy="263988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11" name="Rectangle 4"/>
          <p:cNvSpPr/>
          <p:nvPr/>
        </p:nvSpPr>
        <p:spPr>
          <a:xfrm>
            <a:off x="108000" y="201600"/>
            <a:ext cx="9144000" cy="76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2.1. Подготовка к процед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6920" y="1549440"/>
            <a:ext cx="8820360" cy="727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. Обработать оба больших пальца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100480" cy="429408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14" name="Rectangle 4"/>
          <p:cNvSpPr/>
          <p:nvPr/>
        </p:nvSpPr>
        <p:spPr>
          <a:xfrm>
            <a:off x="108000" y="201600"/>
            <a:ext cx="9144000" cy="76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2.1. Подготовка к процед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339560"/>
            <a:ext cx="815328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. Вымыть руки проточной водой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979640" y="2386080"/>
            <a:ext cx="4896000" cy="421164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17" name="Rectangle 4"/>
          <p:cNvSpPr/>
          <p:nvPr/>
        </p:nvSpPr>
        <p:spPr>
          <a:xfrm>
            <a:off x="108000" y="201600"/>
            <a:ext cx="9144000" cy="76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2.1. Подготовка к процед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2360" y="164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7. Воду выключить с помощью локтевого смесителя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835280" y="2925720"/>
            <a:ext cx="4968720" cy="3814920"/>
          </a:xfrm>
          <a:prstGeom prst="rect">
            <a:avLst/>
          </a:prstGeom>
          <a:ln w="57240">
            <a:solidFill>
              <a:srgbClr val="e05d34"/>
            </a:solidFill>
            <a:miter/>
          </a:ln>
        </p:spPr>
      </p:pic>
      <p:sp>
        <p:nvSpPr>
          <p:cNvPr id="120" name="Rectangle 4"/>
          <p:cNvSpPr/>
          <p:nvPr/>
        </p:nvSpPr>
        <p:spPr>
          <a:xfrm>
            <a:off x="108000" y="201600"/>
            <a:ext cx="9144000" cy="76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2.1. Подготовка к процед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ОПСА</cp:lastModifiedBy>
  <dcterms:modified xsi:type="dcterms:W3CDTF">2011-06-03T04:59:20Z</dcterms:modified>
  <cp:revision>4</cp:revision>
  <dc:subject/>
  <dc:title>МУЗ «Клинический родильный дом № 1»</dc:title>
</cp:coreProperties>
</file>