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DCD-4A41-47BF-B36C-CDE540960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F5B-668A-418E-9C3A-915CEA3DD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561-618A-418B-BD53-24FC2D9A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FC9-F6DD-4276-88CA-88E932C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A73-AD01-4B7C-A2FE-48360877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1A5-05AA-4A60-8043-D1BBC746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D71-9C9C-44F8-B43C-56ACF3F4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1E9-980D-4480-AA41-91F4CCA2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E79-B603-43D2-8A30-520423A7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B93-28CA-4DD6-B41D-778E6E2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CAF-C310-4AF3-8EEB-E3211D4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791-3EF7-46E9-B83F-251E50C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22F-0357-48AA-94EE-3ECB91A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1D2-977B-4260-999C-1EAACA08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6C7-8750-43CE-A116-75B802EE6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880" y="2971440"/>
            <a:ext cx="731376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8920" y="4509720"/>
            <a:ext cx="432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Л.А. БЕРЛ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таршая медицинская сестра     12 подросткового психиатрического  от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42920" y="333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Бюджетное учреждение здравоохранения  Омской области «Клиническая психиатрическая больница им. Н.Н. Солодни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58920" y="1628640"/>
            <a:ext cx="770580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cc"/>
                </a:solidFill>
                <a:latin typeface="Arial"/>
              </a:rPr>
              <a:t>МАСТЕР-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cc"/>
                </a:solidFill>
                <a:latin typeface="Arial"/>
              </a:rPr>
              <a:t>«Клиническое исследование состояния психической деятельности пациент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492360" y="609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14.10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 rot="2703000">
            <a:off x="2807280" y="619560"/>
            <a:ext cx="4286160" cy="4192560"/>
          </a:xfrm>
          <a:custGeom>
            <a:avLst/>
            <a:gdLst>
              <a:gd name="textAreaLeft" fmla="*/ 1071360 w 4286160"/>
              <a:gd name="textAreaRight" fmla="*/ 3214800 w 4286160"/>
              <a:gd name="textAreaTop" fmla="*/ 1047960 h 4192560"/>
              <a:gd name="textAreaBottom" fmla="*/ 3144600 h 4192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19640" y="1916280"/>
            <a:ext cx="2952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анны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блюдения за пациен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516720" y="81900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намнез боле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403280" y="890640"/>
            <a:ext cx="208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намнез жиз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763640" y="429264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ctr"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бъективные и субъективные данные об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187280" y="5445000"/>
            <a:ext cx="7704360" cy="119124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сли по психическому состоянию пациента получить анамнестические сведения не удается, об этом делается запись в листе наблю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74600" y="-162000"/>
            <a:ext cx="803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684360" y="0"/>
            <a:ext cx="845964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836640"/>
          <a:ext cx="8321760" cy="5770440"/>
        </p:xfrm>
        <a:graphic>
          <a:graphicData uri="http://schemas.openxmlformats.org/drawingml/2006/table">
            <a:tbl>
              <a:tblPr/>
              <a:tblGrid>
                <a:gridCol w="863640"/>
                <a:gridCol w="745812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намнез жизни 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, в которых рос и развивался пациент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труда, профессиональной вредности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есенные заболевания, операции, травмы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суальность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ергологический анамнез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итани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ые привычки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овный статус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статус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ост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1042920" y="-17640"/>
            <a:ext cx="80344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3"/>
          <p:cNvSpPr/>
          <p:nvPr/>
        </p:nvSpPr>
        <p:spPr>
          <a:xfrm>
            <a:off x="684360" y="0"/>
            <a:ext cx="845964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00000" y="1052640"/>
          <a:ext cx="7848720" cy="5163840"/>
        </p:xfrm>
        <a:graphic>
          <a:graphicData uri="http://schemas.openxmlformats.org/drawingml/2006/table">
            <a:tbl>
              <a:tblPr/>
              <a:tblGrid>
                <a:gridCol w="828720"/>
                <a:gridCol w="7020000"/>
              </a:tblGrid>
              <a:tr h="304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9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57200" indent="-45720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Анамнез болезни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лобы пациента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и как началось заболевание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отекало;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51"/>
                        </a:spcBef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мые исследования и лечение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"/>
          <p:cNvSpPr/>
          <p:nvPr/>
        </p:nvSpPr>
        <p:spPr>
          <a:xfrm>
            <a:off x="1042920" y="-17640"/>
            <a:ext cx="80344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971640" y="115920"/>
            <a:ext cx="8172360" cy="6742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42920" y="671400"/>
          <a:ext cx="8101080" cy="5999400"/>
        </p:xfrm>
        <a:graphic>
          <a:graphicData uri="http://schemas.openxmlformats.org/drawingml/2006/table">
            <a:tbl>
              <a:tblPr/>
              <a:tblGrid>
                <a:gridCol w="649440"/>
                <a:gridCol w="745164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ъективное обследова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. Соматическое состоя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состояние (удовлетворительное, средней тяжести, тяжелое, крайне тяжелое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: активное, пассивное, вынужденно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кожи (осмотр на наличие травм, расчесов, ссадин, кожных заболеваний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зрачков (сужение, расширение, разные по размеру)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ва, языка (не прикушен, прикушен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мотр на педикуле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2"/>
          <p:cNvSpPr/>
          <p:nvPr/>
        </p:nvSpPr>
        <p:spPr>
          <a:xfrm>
            <a:off x="1042920" y="-17640"/>
            <a:ext cx="80344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1042920" y="189000"/>
            <a:ext cx="7921800" cy="6669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87280" y="1044720"/>
          <a:ext cx="7705800" cy="5553000"/>
        </p:xfrm>
        <a:graphic>
          <a:graphicData uri="http://schemas.openxmlformats.org/drawingml/2006/table">
            <a:tbl>
              <a:tblPr/>
              <a:tblGrid>
                <a:gridCol w="792360"/>
                <a:gridCol w="691344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ъективное обследова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. Психическое состояние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риентировки пациент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пациента к беседе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жалобы пациент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фективная сфера (настроение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 (качественные и количественные нарушения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пациента (обнаруживает или не обнаруживает поведением психические отклонения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1042920" y="125280"/>
            <a:ext cx="803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971640" y="189000"/>
            <a:ext cx="7921440" cy="6669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42920" y="912960"/>
          <a:ext cx="7885080" cy="5180040"/>
        </p:xfrm>
        <a:graphic>
          <a:graphicData uri="http://schemas.openxmlformats.org/drawingml/2006/table">
            <a:tbl>
              <a:tblPr/>
              <a:tblGrid>
                <a:gridCol w="865080"/>
                <a:gridCol w="702000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убъективное обследование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38080" indent="-3808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49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ическая оценка пациента к собственному психическому состоянию и поведению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649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записывать в кавычках отдельные слова, фразы, уменьшительные слова, своеобразные обороты речи в таком виде в каком они были произнесены пациентом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2"/>
          <p:cNvSpPr/>
          <p:nvPr/>
        </p:nvSpPr>
        <p:spPr>
          <a:xfrm>
            <a:off x="1042920" y="-17640"/>
            <a:ext cx="80344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7280" y="333000"/>
            <a:ext cx="777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анные наблюдения                      за пациентом  должны носить описательный характер                  с возможным подтверждением высказываний пациен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писывая тот или иной симптом (синдром) нужно избегать психиатрической терминолог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684360" y="0"/>
            <a:ext cx="845964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330120"/>
          <a:ext cx="8388360" cy="6127920"/>
        </p:xfrm>
        <a:graphic>
          <a:graphicData uri="http://schemas.openxmlformats.org/drawingml/2006/table">
            <a:tbl>
              <a:tblPr/>
              <a:tblGrid>
                <a:gridCol w="1512720"/>
                <a:gridCol w="687564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1.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0 - 0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 Петрова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стояние пациен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 поведение при отсутствии врача (во время еды, трудовой терапии, выполнении других процедур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 отношение к приему лекарств и к пребыванию в психиатрическом стационаре, его отношение к окружающим пациентам, посетителям и персонал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нность пациента к общению или отгорожен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занят пациент, когда он находится вне наблюдения и предоставлен самому себе, мимику и жесты в это врем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инение  или негативиз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 высказы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аффективных и моторных расстройст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орожные припадки и их частоту и характер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сна, аппетита, физиологическими отправлениями (характер стула, мочеиспускани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1"/>
          <p:cNvSpPr/>
          <p:nvPr/>
        </p:nvSpPr>
        <p:spPr>
          <a:xfrm>
            <a:off x="6659640" y="6021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Arial"/>
              </a:rPr>
              <a:t>м/с Пе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2240" y="-27000"/>
            <a:ext cx="76024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Достигаемые результаты и их оцен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777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сокращение процесса адаптаци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улучшение качества жизн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увеличение периода ремисси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предупреждение развития осложнений, инвалидност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снижение прямых и косвенных затрат на лечение больных (как их личных, так и бюджетных средств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Aft>
                <a:spcPts val="1199"/>
              </a:spcAft>
              <a:buClr>
                <a:srgbClr val="0099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значительное сокращение потребления медицинских услуг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9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Данные клинического исследования состояния психической деятельности  являются  составной частью медицинской карты стационарного больного. 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Во многих случаях грамотная и правильная запись в листе наблюдения помогает в постановке  заключительного диагноза, а также имеет значение в решении юридических и социальных вопро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Функциональное назначение ПМУ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Профилактическое, реабилитационно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диагностическо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лечебно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51"/>
              </a:spcBef>
              <a:buClr>
                <a:srgbClr val="ff33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3300"/>
                </a:solidFill>
                <a:latin typeface="Arial"/>
              </a:rPr>
              <a:t>Выполняется в составе процедур сестринского ухода в стационаре у больных с психическими расстройствами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БЕСЕДА-6"/>
          <p:cNvPicPr/>
          <p:nvPr/>
        </p:nvPicPr>
        <p:blipFill>
          <a:blip r:embed="rId1"/>
          <a:stretch/>
        </p:blipFill>
        <p:spPr>
          <a:xfrm>
            <a:off x="826920" y="189000"/>
            <a:ext cx="8101080" cy="5570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979640" y="3429000"/>
            <a:ext cx="6121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3137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cc"/>
                </a:solidFill>
                <a:latin typeface="Arial"/>
              </a:rPr>
              <a:t>Материальные ресурс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99"/>
                </a:solidFill>
                <a:latin typeface="Arial"/>
              </a:rPr>
              <a:t>Специальное отведенное помещ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99"/>
                </a:solidFill>
                <a:latin typeface="Arial"/>
              </a:rPr>
              <a:t>Медицинская меб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P1000487"/>
          <p:cNvPicPr/>
          <p:nvPr/>
        </p:nvPicPr>
        <p:blipFill>
          <a:blip r:embed="rId1"/>
          <a:stretch/>
        </p:blipFill>
        <p:spPr>
          <a:xfrm>
            <a:off x="4788000" y="1197000"/>
            <a:ext cx="4029120" cy="4465440"/>
          </a:xfrm>
          <a:prstGeom prst="rect">
            <a:avLst/>
          </a:prstGeom>
          <a:ln w="2844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3137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Материаль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525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учебно-методические рекомендации по выполнению клинического исследования состояния психической деятельности пациент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бланочная продукция (бланк 10-дневного листа наблюдения за пациентом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канцелярские принадлеж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P1000482"/>
          <p:cNvPicPr/>
          <p:nvPr/>
        </p:nvPicPr>
        <p:blipFill>
          <a:blip r:embed="rId1"/>
          <a:stretch/>
        </p:blipFill>
        <p:spPr>
          <a:xfrm>
            <a:off x="6485040" y="3686040"/>
            <a:ext cx="2232000" cy="290844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pic>
        <p:nvPicPr>
          <p:cNvPr id="61" name="Picture 4" descr="P1000520"/>
          <p:cNvPicPr/>
          <p:nvPr/>
        </p:nvPicPr>
        <p:blipFill>
          <a:blip r:embed="rId2"/>
          <a:stretch/>
        </p:blipFill>
        <p:spPr>
          <a:xfrm>
            <a:off x="6227640" y="1000080"/>
            <a:ext cx="2746440" cy="268128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561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Цель клинического исследования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1001"/>
              </a:spcBef>
              <a:buClr>
                <a:srgbClr val="ff3300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ыявление проблем, раскрывающих психическое состояние пациен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87280" y="1887120"/>
            <a:ext cx="79567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дачи: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ff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отражение клинических проявлений психического расстройства, динамики, лечения и его результа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3" descr="P1000486"/>
          <p:cNvPicPr/>
          <p:nvPr/>
        </p:nvPicPr>
        <p:blipFill>
          <a:blip r:embed="rId1"/>
          <a:stretch/>
        </p:blipFill>
        <p:spPr>
          <a:xfrm>
            <a:off x="2556000" y="1541520"/>
            <a:ext cx="3816360" cy="276552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831600"/>
            <a:ext cx="810108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Индивидуальная беседа и 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24000" y="2924280"/>
            <a:ext cx="2592360" cy="1152360"/>
          </a:xfrm>
          <a:prstGeom prst="rightArrowCallout">
            <a:avLst>
              <a:gd name="adj1" fmla="val 27003"/>
              <a:gd name="adj2" fmla="val 25000"/>
              <a:gd name="adj3" fmla="val 60062"/>
              <a:gd name="adj4" fmla="val 7036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0920" y="306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99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в специально отведенном   поме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 rot="16200000">
            <a:off x="3085200" y="3238920"/>
            <a:ext cx="2613240" cy="4103640"/>
          </a:xfrm>
          <a:prstGeom prst="rightArrowCallout">
            <a:avLst>
              <a:gd name="adj1" fmla="val 42359"/>
              <a:gd name="adj2" fmla="val 39062"/>
              <a:gd name="adj3" fmla="val 29639"/>
              <a:gd name="adj4" fmla="val 6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411280" y="4927680"/>
            <a:ext cx="396108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спользование способов общения, оказывающих терапевтическое действие на пациента с психическими расстрой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 rot="10800000">
            <a:off x="6083280" y="2923920"/>
            <a:ext cx="2881440" cy="1152360"/>
          </a:xfrm>
          <a:prstGeom prst="rightArrowCallout">
            <a:avLst>
              <a:gd name="adj1" fmla="val 27003"/>
              <a:gd name="adj2" fmla="val 25000"/>
              <a:gd name="adj3" fmla="val 54281"/>
              <a:gd name="adj4" fmla="val 7271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875640" y="283860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н и характер беседы - располаг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906560" y="44280"/>
            <a:ext cx="5905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Arial"/>
              </a:rPr>
              <a:t>Форма выполнения ПМУ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99"/>
                </a:solidFill>
                <a:latin typeface="Arial"/>
              </a:rPr>
              <a:t>Данные клинического исследования заносятся в бланк 10-дневного листа наблюдения за пациен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99"/>
                </a:solidFill>
                <a:latin typeface="Arial"/>
              </a:rPr>
              <a:t>Лист наблюдения за пациентом – это медицинский и юридический документ, отражающий клинические проявления болезни, динамику, лечение и его результа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826920" y="115920"/>
            <a:ext cx="8317080" cy="6742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313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т наблюдения за па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3933720"/>
          <a:ext cx="7848720" cy="2041560"/>
        </p:xfrm>
        <a:graphic>
          <a:graphicData uri="http://schemas.openxmlformats.org/drawingml/2006/table">
            <a:tbl>
              <a:tblPr/>
              <a:tblGrid>
                <a:gridCol w="2222640"/>
                <a:gridCol w="5626080"/>
              </a:tblGrid>
              <a:tr h="124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, И., О. медсест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ые наблюдения за пациент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1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/с Иванова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84"/>
          <p:cNvSpPr/>
          <p:nvPr/>
        </p:nvSpPr>
        <p:spPr>
          <a:xfrm>
            <a:off x="900000" y="1268280"/>
            <a:ext cx="7921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И.О. 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рождения (год, месяц, день)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_________________  Вес при поступлении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ежимом отделения ознакомлен(а) __________________________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личных вещей, в которых пациент поступает в от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9"/>
          <p:cNvSpPr/>
          <p:nvPr/>
        </p:nvSpPr>
        <p:spPr>
          <a:xfrm>
            <a:off x="932040" y="0"/>
            <a:ext cx="8032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Arial"/>
              </a:rPr>
              <a:t>Характеристика методики выполнения ПМ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6:45:33Z</dcterms:created>
  <dc:creator>WiZaRd</dc:creator>
  <dc:description/>
  <dc:language>en-US</dc:language>
  <cp:lastModifiedBy>ОПСА</cp:lastModifiedBy>
  <dcterms:modified xsi:type="dcterms:W3CDTF">2011-10-20T10:06:01Z</dcterms:modified>
  <cp:revision>6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37</vt:lpwstr>
  </property>
  <property fmtid="{D5CDD505-2E9C-101B-9397-08002B2CF9AE}" pid="6" name="AssetType">
    <vt:lpwstr>TP</vt:lpwstr>
  </property>
  <property fmtid="{D5CDD505-2E9C-101B-9397-08002B2CF9AE}" pid="7" name="AuthoringAssetId">
    <vt:lpwstr>TP001159437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Writing close-up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</vt:lpwstr>
  </property>
  <property fmtid="{D5CDD505-2E9C-101B-9397-08002B2CF9AE}" pid="37" name="_TemplateID">
    <vt:lpwstr>TC011594371049</vt:lpwstr>
  </property>
  <property fmtid="{D5CDD505-2E9C-101B-9397-08002B2CF9AE}" pid="38" name="display_urn:schemas-microsoft-com:office:office#APAuthor">
    <vt:lpwstr>REDMOND\cynvey</vt:lpwstr>
  </property>
  <property fmtid="{D5CDD505-2E9C-101B-9397-08002B2CF9AE}" pid="39" name="display_urn:schemas-microsoft-com:office:office#APEditor">
    <vt:lpwstr>REDMOND\v-luannv</vt:lpwstr>
  </property>
</Properties>
</file>