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2C9-B090-42AB-A139-4C03FFFF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810-19F1-492F-BB7F-B8878666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06D-F153-40F4-972E-5A99C845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53E-E2C7-4799-80BC-A404D796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557-6A4C-4B5C-89E6-451BA4FC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6D8-3784-47F3-9C69-0070DEEA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A90-4215-4902-B257-2D194450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52D-E912-49B8-B11D-0CFEC87D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EDF-8475-466E-B12B-49338F83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CC4-4B9E-4075-AAC0-D7D513A7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D17-8762-4462-BCD1-0F531599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B2E-B745-4EC2-92DE-8D24BDDF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6E23-BF9F-4DD9-83F7-2A34E9D70E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ПЫТ РАБОТЫ МЕДИЦИНСКИХ СЕСТЕР  В ОТДЕЛЕНИИ ИНТЕНСИВНОГО ЛЕЧЕНИЯ В СООБЩЕСТВЕ ДЛЯ ДЕТЕЙ И ПОДРОСТК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.А. Некрасо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аршая медицинская сестра ОИЛ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УЗОО КПБ им. Н.Н. Солодни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Verdana"/>
              </a:rPr>
              <a:t>Обследование                     в лаборатории высшей нервной деятель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3" descr="DSCN3951"/>
          <p:cNvPicPr/>
          <p:nvPr/>
        </p:nvPicPr>
        <p:blipFill>
          <a:blip r:embed="rId1"/>
          <a:stretch/>
        </p:blipFill>
        <p:spPr>
          <a:xfrm>
            <a:off x="2876400" y="2133720"/>
            <a:ext cx="3370320" cy="449568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30477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ahoma"/>
              </a:rPr>
              <a:t>автотранспорт отделения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76720" y="2057040"/>
            <a:ext cx="25905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ahoma"/>
              </a:rPr>
              <a:t>занятия с пациентами на дому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5520" y="2514240"/>
            <a:ext cx="3048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ahoma"/>
              </a:rPr>
              <a:t>применяемая психофармако-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ahoma"/>
              </a:rPr>
              <a:t>терапия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7" descr="DSCN3947"/>
          <p:cNvPicPr/>
          <p:nvPr/>
        </p:nvPicPr>
        <p:blipFill>
          <a:blip r:embed="rId1"/>
          <a:stretch/>
        </p:blipFill>
        <p:spPr>
          <a:xfrm>
            <a:off x="152280" y="1506600"/>
            <a:ext cx="2971800" cy="222732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  <p:pic>
        <p:nvPicPr>
          <p:cNvPr id="66" name="Picture 9" descr="DSCN3958"/>
          <p:cNvPicPr/>
          <p:nvPr/>
        </p:nvPicPr>
        <p:blipFill>
          <a:blip r:embed="rId2"/>
          <a:stretch/>
        </p:blipFill>
        <p:spPr>
          <a:xfrm>
            <a:off x="2438280" y="3335400"/>
            <a:ext cx="3581640" cy="268452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  <p:pic>
        <p:nvPicPr>
          <p:cNvPr id="67" name="Picture 10" descr="DSCN3960"/>
          <p:cNvPicPr/>
          <p:nvPr/>
        </p:nvPicPr>
        <p:blipFill>
          <a:blip r:embed="rId3"/>
          <a:stretch/>
        </p:blipFill>
        <p:spPr>
          <a:xfrm>
            <a:off x="5943600" y="3990960"/>
            <a:ext cx="3048120" cy="263844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Психосоциальная реабилитация.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Групповые занят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DSCN2630"/>
          <p:cNvPicPr/>
          <p:nvPr/>
        </p:nvPicPr>
        <p:blipFill>
          <a:blip r:embed="rId1"/>
          <a:stretch/>
        </p:blipFill>
        <p:spPr>
          <a:xfrm>
            <a:off x="228600" y="2057400"/>
            <a:ext cx="4560840" cy="341964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  <p:pic>
        <p:nvPicPr>
          <p:cNvPr id="70" name="Picture 5" descr="DSC00114"/>
          <p:cNvPicPr/>
          <p:nvPr/>
        </p:nvPicPr>
        <p:blipFill>
          <a:blip r:embed="rId2"/>
          <a:stretch/>
        </p:blipFill>
        <p:spPr>
          <a:xfrm>
            <a:off x="4419720" y="3390840"/>
            <a:ext cx="4419360" cy="331488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одули психосоциальной реабилитац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4" descr="DSCN2851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295280" y="1523880"/>
            <a:ext cx="6681960" cy="501012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Психосоциальные моду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формирование навыков самообслужива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обучение правилам поведения на улице, в транспорте, в экстренных ситуациях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формирование навыков определения времен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оммуникативные модул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fff00"/>
                </a:solidFill>
                <a:uFillTx/>
                <a:latin typeface="Tahoma"/>
              </a:rPr>
              <a:t>Цель: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обучение навыкам позитивного настро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развитие навыков эффективного общ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осознание своей индивидуальност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умение вести себя в обществе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Игровые модул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ботка командного ду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изация познавательной деятельности подрост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настро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атмосферы един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моторики и двигательных способностей, ловкости и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портивные эстафе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6" descr="P1100122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274320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  <p:pic>
        <p:nvPicPr>
          <p:cNvPr id="81" name="Picture 7" descr="DSCN2968"/>
          <p:cNvPicPr/>
          <p:nvPr/>
        </p:nvPicPr>
        <p:blipFill>
          <a:blip r:embed="rId2"/>
          <a:stretch/>
        </p:blipFill>
        <p:spPr>
          <a:xfrm>
            <a:off x="457200" y="3733920"/>
            <a:ext cx="4191120" cy="297180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  <p:pic>
        <p:nvPicPr>
          <p:cNvPr id="82" name="Picture 8" descr="DSCN2927"/>
          <p:cNvPicPr/>
          <p:nvPr/>
        </p:nvPicPr>
        <p:blipFill>
          <a:blip r:embed="rId3"/>
          <a:stretch/>
        </p:blipFill>
        <p:spPr>
          <a:xfrm>
            <a:off x="457200" y="736560"/>
            <a:ext cx="4191120" cy="276876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  <p:pic>
        <p:nvPicPr>
          <p:cNvPr id="83" name="Picture 9" descr="DSCN2971"/>
          <p:cNvPicPr/>
          <p:nvPr/>
        </p:nvPicPr>
        <p:blipFill>
          <a:blip r:embed="rId4"/>
          <a:stretch/>
        </p:blipFill>
        <p:spPr>
          <a:xfrm>
            <a:off x="4952880" y="3733920"/>
            <a:ext cx="3810240" cy="297000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 пациентами дошкольного возраста медицинскими сестрами проводятся тренинги, имеющие разные цели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96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у детей привычки соблюдать правила личной гигиены, навыков здорового образа жиз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блюдение прави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рожного движения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безопасност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учающие адекват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йствиям в                              нестандартных ситуац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DSCN3970"/>
          <p:cNvPicPr/>
          <p:nvPr/>
        </p:nvPicPr>
        <p:blipFill>
          <a:blip r:embed="rId1"/>
          <a:stretch/>
        </p:blipFill>
        <p:spPr>
          <a:xfrm>
            <a:off x="5410080" y="3571920"/>
            <a:ext cx="3570480" cy="267660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Творческие занят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1199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я группового взаимодей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1199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учшение настроения пациен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1199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целостной картины мира через предоставление                                                 ребенку возможности                                 активной творческой                                   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DSC00086"/>
          <p:cNvPicPr/>
          <p:nvPr/>
        </p:nvPicPr>
        <p:blipFill>
          <a:blip r:embed="rId1"/>
          <a:stretch/>
        </p:blipFill>
        <p:spPr>
          <a:xfrm>
            <a:off x="5537160" y="4114800"/>
            <a:ext cx="3454560" cy="259092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еализуя современные направления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ганизации психиатрической помо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тям и подросткам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7 ноября 2008 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труктуре детско – подростков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мплекса было организовано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тде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нтенсивного лечения в сообществе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тационар на дому для детей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тор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едставляет собой альтернати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ационарной психиатрической помощ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уществляя свою деятельность в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ольничных условий – по месту жи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ациен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Aft>
                <a:spcPts val="5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Главными показателями эффективности проводимой психосоциальной реабилитации среди детей-сирот являются усвоенные и применяемые на практике навыки правильного общения, поведения и самообслужива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Aft>
                <a:spcPts val="5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роводимая психосоциальная работа среди воспитанников детских домов приводит к образованию положительного микроклимата, позволяет повысить уровень развития личности, возможности последующей социальной адаптации и творческой самореализаци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онкурс рисунков                      на асфальт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DSCN2874"/>
          <p:cNvPicPr/>
          <p:nvPr/>
        </p:nvPicPr>
        <p:blipFill>
          <a:blip r:embed="rId1"/>
          <a:stretch/>
        </p:blipFill>
        <p:spPr>
          <a:xfrm>
            <a:off x="457200" y="1600200"/>
            <a:ext cx="3714840" cy="495288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  <p:pic>
        <p:nvPicPr>
          <p:cNvPr id="93" name="Picture 5" descr="DSCN2882"/>
          <p:cNvPicPr/>
          <p:nvPr/>
        </p:nvPicPr>
        <p:blipFill>
          <a:blip r:embed="rId2"/>
          <a:stretch/>
        </p:blipFill>
        <p:spPr>
          <a:xfrm>
            <a:off x="5029200" y="1600200"/>
            <a:ext cx="3714840" cy="495288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Информационные буклеты для дет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DSCN396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295280" y="1828800"/>
            <a:ext cx="6324840" cy="474192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аким образом, опыт работы детского стационара на дому подтверждает, что новая форма психиатрической помощи детскому населению является максимально доступной и качественной, отмечается существенная экономическая выгода - стоимость одного койко-дня в круглосуточном стационаре составляет 438 руб., а в стационаре на дому - 149 руб.  Это  способствует выходу на новый уровень в лечении психических расстройств у детей, что позволит им интегрироваться в социальной среде и занять нормальное место в общест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5ffff"/>
                </a:solidFill>
                <a:latin typeface="Verdana"/>
              </a:rPr>
              <a:t>Благодарю </a:t>
            </a:r>
            <a:br>
              <a:rPr sz="6000"/>
            </a:br>
            <a:r>
              <a:rPr b="1" i="1" lang="ru-RU" sz="6000" spc="-1" strike="noStrike">
                <a:solidFill>
                  <a:srgbClr val="e5ffff"/>
                </a:solidFill>
                <a:latin typeface="Verdana"/>
              </a:rPr>
              <a:t>за внимание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75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1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Отделение оказывает лечебно-диагностическую помощь, проводит психосоциальную реабилитацию городским и сельским детям в возрасте от 0 до 17 лет в привычной для них микросоциальной среде без отрыва от семьи и школы, что делает его предпочтительным для пациентов и законных представителей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Уменьшаются психологические барьеры,                        с которыми связывается в массовом                                сознании негативное отношение                                       лечения в психиатрическом стационаре,                                                появилась возможность привлекать                                                                  пациентов к лечению на ранних стадиях заболеваний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Verdana"/>
              </a:rPr>
              <a:t>Дети, оставаясь дома, в привычных условиях имеют возможность получать комплексную психиатрическую помощь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4" descr="DSCN2631"/>
          <p:cNvPicPr/>
          <p:nvPr/>
        </p:nvPicPr>
        <p:blipFill>
          <a:blip r:embed="rId1"/>
          <a:stretch/>
        </p:blipFill>
        <p:spPr>
          <a:xfrm>
            <a:off x="6667560" y="3429000"/>
            <a:ext cx="2400120" cy="320040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Verdana"/>
              </a:rPr>
              <a:t>В отделение госпитализируютс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1920" y="18284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дети, оставшиеся без попечения родителей, проживающие в детских домах, домах ребенка, интернатах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домашние дети, состоящие под    наблюдением у психиатра, помещение которых в круглосуточный стационар не является обязательным и может повлечь за собой психологическую травму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5960" y="2133720"/>
            <a:ext cx="8915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3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ти, страдающие психическими расстройствами в сочетании с двигательными нарушениями, нуждающиеся в уходе и имеющие ограничение для госпитализации  в круглосуточный стацион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066680" y="304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Verdana"/>
              </a:rPr>
              <a:t>В отделение госпитализирую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тационар на дому для дет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4" descr="DSCN2803"/>
          <p:cNvPicPr/>
          <p:nvPr/>
        </p:nvPicPr>
        <p:blipFill>
          <a:blip r:embed="rId1"/>
          <a:stretch/>
        </p:blipFill>
        <p:spPr>
          <a:xfrm>
            <a:off x="304920" y="1295280"/>
            <a:ext cx="4649760" cy="348624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  <p:pic>
        <p:nvPicPr>
          <p:cNvPr id="51" name="Picture 5" descr="DSCN2805"/>
          <p:cNvPicPr/>
          <p:nvPr/>
        </p:nvPicPr>
        <p:blipFill>
          <a:blip r:embed="rId2"/>
          <a:stretch/>
        </p:blipFill>
        <p:spPr>
          <a:xfrm>
            <a:off x="4724280" y="3429000"/>
            <a:ext cx="4179960" cy="313380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рием пациентов    в отделен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00600" y="54100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бота в детском до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P1120615"/>
          <p:cNvPicPr/>
          <p:nvPr/>
        </p:nvPicPr>
        <p:blipFill>
          <a:blip r:embed="rId1"/>
          <a:stretch/>
        </p:blipFill>
        <p:spPr>
          <a:xfrm>
            <a:off x="533520" y="1752480"/>
            <a:ext cx="3371760" cy="449604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  <p:pic>
        <p:nvPicPr>
          <p:cNvPr id="55" name="Picture 5" descr="P1100467"/>
          <p:cNvPicPr/>
          <p:nvPr/>
        </p:nvPicPr>
        <p:blipFill>
          <a:blip r:embed="rId2"/>
          <a:stretch/>
        </p:blipFill>
        <p:spPr>
          <a:xfrm>
            <a:off x="5257800" y="685800"/>
            <a:ext cx="3371760" cy="4495680"/>
          </a:xfrm>
          <a:prstGeom prst="rect">
            <a:avLst/>
          </a:prstGeom>
          <a:ln w="381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Verdana"/>
              </a:rPr>
              <a:t>Полипрофессиональная бригад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сихиа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сихо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огоп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едицинская сес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пециалист по социальной рабо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оциальный раб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Verdana"/>
              </a:rPr>
              <a:t>Этапы работы с пациентами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220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иагностиче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ктивная  психофармакотерапия с видами психосоциального воздей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абилизирующий с применением психосоциальных и реабилитационных мероприя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ОПСА</cp:lastModifiedBy>
  <dcterms:modified xsi:type="dcterms:W3CDTF">2011-10-20T10:05:49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