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9.png" ContentType="image/png"/>
  <Override PartName="/ppt/media/image24.png" ContentType="image/png"/>
  <Override PartName="/ppt/media/image11.jpeg" ContentType="image/jpeg"/>
  <Override PartName="/ppt/media/image27.jpeg" ContentType="image/jpeg"/>
  <Override PartName="/ppt/media/image6.jpeg" ContentType="image/jpeg"/>
  <Override PartName="/ppt/media/image7.png" ContentType="image/png"/>
  <Override PartName="/ppt/media/image1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0.png" ContentType="image/png"/>
  <Override PartName="/ppt/media/image28.png" ContentType="image/png"/>
  <Override PartName="/ppt/media/image13.png" ContentType="image/png"/>
  <Override PartName="/ppt/media/image9.jpeg" ContentType="image/jpeg"/>
  <Override PartName="/ppt/media/image31.png" ContentType="image/png"/>
  <Override PartName="/ppt/media/image32.jpeg" ContentType="image/jpeg"/>
  <Override PartName="/ppt/media/image12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png" ContentType="image/png"/>
  <Override PartName="/ppt/media/image2.png" ContentType="image/png"/>
  <Override PartName="/ppt/media/image25.jpeg" ContentType="image/jpeg"/>
  <Override PartName="/ppt/media/image14.jpeg" ContentType="image/jpeg"/>
  <Override PartName="/ppt/media/image16.jpeg" ContentType="image/jpeg"/>
  <Override PartName="/ppt/media/image15.png" ContentType="image/png"/>
  <Override PartName="/ppt/media/image18.jpeg" ContentType="image/jpeg"/>
  <Override PartName="/ppt/media/image19.png" ContentType="image/png"/>
  <Override PartName="/ppt/media/image21.png" ContentType="image/png"/>
  <Override PartName="/ppt/media/image20.png" ContentType="image/png"/>
  <Override PartName="/ppt/media/image22.png" ContentType="image/png"/>
  <Override PartName="/ppt/media/image2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C3F02-DFB9-4D88-9451-6EFF9546EF9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41E72-6EC0-4E14-86FA-DEEDB1C5AED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611A5-627F-4A5D-AD53-CD963369EB8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795A2-464E-44F8-9F12-36087A9E11F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F3AA3-9559-4AB1-A6DC-63B15CD5078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4B912-E692-4AD6-A388-E0ABA263FF5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04E04C-5CA4-4F39-B65E-04E665A6E0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8BDF4-089D-489B-8ACD-D72443DC82C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3BE8B-4962-4E08-B559-26DE70F4BDD5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F79B2-9BAD-456E-BC22-DB2A562D97A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6BFBA-31C9-4956-9323-CDCD3A87051B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0008-1F94-4D17-9B52-FB26101526C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A1F0D7-6D4F-4827-BE1C-8A41B17B7E52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BFC4C-94D7-4AF3-ACB1-7DC4C1C04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4BFE3-8896-494A-95B9-A82E669D6D48}" type="slidenum">
              <a:rPr b="0" lang="de-DE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912960" y="4343400"/>
            <a:ext cx="50320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524E2-2F06-4C5F-A2A1-BC685054B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C7496-7D67-4F8C-A1F7-A8DCDBAB8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5402-48BD-4D65-B2D1-162EEE021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09BE-D292-4D2A-8DC7-57C277EB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B9B56-7AAA-4CB7-B2EE-91AE2E0A5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792DB-3F0D-4735-8A0F-B627147CA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8B81-4E3C-4801-8D14-514806D9D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E8FF4-F095-41E7-9E4C-D8DF84518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52A3-1FD2-4911-9EEA-4D21D47CC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BC5E-2DEC-4202-A90B-D35C41168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BCC8-E3F3-4A8C-B5DD-1A7695F96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40A5-45CB-4E23-BED4-006CD189D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23CF-165C-483B-BA56-6AA96E77CA7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0" y="1915920"/>
            <a:ext cx="903600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Современные аспекты безопасности при проведении инфузионной терапии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одержимое 6"/>
          <p:cNvSpPr/>
          <p:nvPr/>
        </p:nvSpPr>
        <p:spPr>
          <a:xfrm>
            <a:off x="108000" y="5373720"/>
            <a:ext cx="8928000" cy="13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А.М. Майоров,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региональный представитель 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600" spc="-1" strike="noStrike">
                <a:solidFill>
                  <a:srgbClr val="000000"/>
                </a:solidFill>
                <a:latin typeface="Arial"/>
              </a:rPr>
              <a:t>ООО «Б.Браун Медикал»</a:t>
            </a:r>
            <a:endParaRPr b="1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Object 5"/>
          <p:cNvGraphicFramePr/>
          <p:nvPr/>
        </p:nvGraphicFramePr>
        <p:xfrm>
          <a:off x="3132000" y="260280"/>
          <a:ext cx="2952720" cy="866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132000" y="260280"/>
                    <a:ext cx="2952720" cy="86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"/>
          <p:cNvSpPr/>
          <p:nvPr/>
        </p:nvSpPr>
        <p:spPr>
          <a:xfrm>
            <a:off x="108000" y="1125360"/>
            <a:ext cx="8280360" cy="23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71440" indent="-271440">
              <a:lnSpc>
                <a:spcPct val="100000"/>
              </a:lnSpc>
              <a:spcBef>
                <a:spcPts val="1687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  <a:ea typeface="Arial"/>
              </a:rPr>
              <a:t>НЕБЬЮЩИЙСЯ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687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  <a:ea typeface="Arial"/>
              </a:rPr>
              <a:t>ИМЕЕТ ПЛОСКОЕ ДНО – УСТОЙЧИВ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687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  <a:ea typeface="Arial"/>
              </a:rPr>
              <a:t>ВЕС ТАРЫ 20-30  грамм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100000"/>
              </a:lnSpc>
              <a:spcBef>
                <a:spcPts val="1687"/>
              </a:spcBef>
              <a:buClr>
                <a:srgbClr val="0099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Calibri"/>
                <a:ea typeface="Arial"/>
              </a:rPr>
              <a:t>ДВА НЕЗАВИСЫМЫХ СТЕРИЛЬНЫХ ПОРТА</a:t>
            </a:r>
            <a:endParaRPr b="1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экофлак 2 порта.MPG" descr=""/>
          <p:cNvPicPr/>
          <p:nvPr/>
        </p:nvPicPr>
        <p:blipFill>
          <a:blip r:embed="rId1"/>
          <a:stretch/>
        </p:blipFill>
        <p:spPr>
          <a:xfrm>
            <a:off x="324000" y="3616200"/>
            <a:ext cx="4211640" cy="3159360"/>
          </a:xfrm>
          <a:prstGeom prst="rect">
            <a:avLst/>
          </a:prstGeom>
          <a:ln w="0">
            <a:noFill/>
          </a:ln>
        </p:spPr>
      </p:pic>
      <p:pic>
        <p:nvPicPr>
          <p:cNvPr id="105" name="эфлакон общий.MPG" descr=""/>
          <p:cNvPicPr/>
          <p:nvPr/>
        </p:nvPicPr>
        <p:blipFill>
          <a:blip r:embed="rId2"/>
          <a:stretch/>
        </p:blipFill>
        <p:spPr>
          <a:xfrm>
            <a:off x="4643280" y="3616200"/>
            <a:ext cx="4176720" cy="3133800"/>
          </a:xfrm>
          <a:prstGeom prst="rect">
            <a:avLst/>
          </a:prstGeom>
          <a:ln w="0">
            <a:noFill/>
          </a:ln>
        </p:spPr>
      </p:pic>
      <p:sp>
        <p:nvSpPr>
          <p:cNvPr id="106" name="Rectangle 2"/>
          <p:cNvSpPr/>
          <p:nvPr/>
        </p:nvSpPr>
        <p:spPr>
          <a:xfrm>
            <a:off x="395280" y="44280"/>
            <a:ext cx="8748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Экофлак плюс - совершенство инфузионного флакона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8713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7525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Эмикс смешивание.MPG" descr=""/>
          <p:cNvPicPr/>
          <p:nvPr/>
        </p:nvPicPr>
        <p:blipFill>
          <a:blip r:embed="rId1"/>
          <a:stretch/>
        </p:blipFill>
        <p:spPr>
          <a:xfrm>
            <a:off x="1332000" y="1719360"/>
            <a:ext cx="6696000" cy="502272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289080" y="-27000"/>
            <a:ext cx="8820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Экофлак Микс</a:t>
            </a:r>
            <a:r>
              <a:rPr b="1" lang="ru-RU" sz="3000" spc="-1" strike="noStrike">
                <a:solidFill>
                  <a:srgbClr val="000000"/>
                </a:solidFill>
                <a:latin typeface="Arial"/>
                <a:ea typeface="Arial"/>
              </a:rPr>
              <a:t> - двухсторонняя канюля      для приготовления и смешивания лекарственных растворов </a:t>
            </a:r>
            <a:endParaRPr b="1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" dur="41725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1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11"/>
          <p:cNvSpPr/>
          <p:nvPr/>
        </p:nvSpPr>
        <p:spPr>
          <a:xfrm>
            <a:off x="0" y="44280"/>
            <a:ext cx="910908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300" spc="-1" strike="noStrike">
                <a:solidFill>
                  <a:srgbClr val="000000"/>
                </a:solidFill>
                <a:latin typeface="RotisSansSerif"/>
                <a:ea typeface="Arial"/>
              </a:rPr>
              <a:t>Миниспайк – аспирационная канюля            для многократного забора медикаментов</a:t>
            </a:r>
            <a:endParaRPr b="1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Спайк смешивание.MPG" descr=""/>
          <p:cNvPicPr/>
          <p:nvPr/>
        </p:nvPicPr>
        <p:blipFill>
          <a:blip r:embed="rId1"/>
          <a:stretch/>
        </p:blipFill>
        <p:spPr>
          <a:xfrm>
            <a:off x="1042920" y="1484280"/>
            <a:ext cx="691380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" dur="25813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2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1" dur="1" fill="hold"/>
                                        <p:tgtEl>
                                          <p:spTgt spid="11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3" descr=""/>
          <p:cNvPicPr/>
          <p:nvPr/>
        </p:nvPicPr>
        <p:blipFill>
          <a:blip r:embed="rId1"/>
          <a:stretch/>
        </p:blipFill>
        <p:spPr>
          <a:xfrm>
            <a:off x="108000" y="1413000"/>
            <a:ext cx="8928000" cy="49384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2" name="Прямоугольник 4"/>
          <p:cNvSpPr/>
          <p:nvPr/>
        </p:nvSpPr>
        <p:spPr>
          <a:xfrm>
            <a:off x="108000" y="333360"/>
            <a:ext cx="8856720" cy="65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Arial"/>
                <a:ea typeface="Arial"/>
              </a:rPr>
              <a:t>II</a:t>
            </a:r>
            <a:r>
              <a:rPr b="1" lang="ru-RU" sz="3700" spc="-1" strike="noStrike">
                <a:solidFill>
                  <a:srgbClr val="000000"/>
                </a:solidFill>
                <a:latin typeface="Arial"/>
                <a:ea typeface="Arial"/>
              </a:rPr>
              <a:t>. Подготовка системы для инфузии</a:t>
            </a:r>
            <a:endParaRPr b="1" lang="en-US" sz="3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/>
          <a:stretch/>
        </p:blipFill>
        <p:spPr>
          <a:xfrm>
            <a:off x="179280" y="1797120"/>
            <a:ext cx="1419480" cy="18478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114" name="Rectangle 4"/>
          <p:cNvSpPr/>
          <p:nvPr/>
        </p:nvSpPr>
        <p:spPr>
          <a:xfrm>
            <a:off x="0" y="44280"/>
            <a:ext cx="914400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нтрафикс Сейф Сет – первая инфузионная система с технологиями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irStop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imeStop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система начало.MPG" descr=""/>
          <p:cNvPicPr/>
          <p:nvPr/>
        </p:nvPicPr>
        <p:blipFill>
          <a:blip r:embed="rId2"/>
          <a:stretch/>
        </p:blipFill>
        <p:spPr>
          <a:xfrm>
            <a:off x="1763640" y="1773360"/>
            <a:ext cx="6624720" cy="4968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0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39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2" dur="1" fill="hold"/>
                                        <p:tgtEl>
                                          <p:spTgt spid="11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94920" y="115920"/>
            <a:ext cx="8713800" cy="172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нтрафикс Сейф Сет – первая инфузионная система с технологиями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AirStop </a:t>
            </a: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и </a:t>
            </a:r>
            <a:r>
              <a:rPr b="1" lang="en-US" sz="3400" spc="-1" strike="noStrike">
                <a:solidFill>
                  <a:srgbClr val="000000"/>
                </a:solidFill>
                <a:latin typeface="Arial"/>
              </a:rPr>
              <a:t>PrimeStop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2" descr=""/>
          <p:cNvPicPr/>
          <p:nvPr/>
        </p:nvPicPr>
        <p:blipFill>
          <a:blip r:embed="rId1"/>
          <a:stretch/>
        </p:blipFill>
        <p:spPr>
          <a:xfrm>
            <a:off x="179280" y="1878120"/>
            <a:ext cx="2051280" cy="16221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18" name="система завершение.MPG" descr=""/>
          <p:cNvPicPr/>
          <p:nvPr/>
        </p:nvPicPr>
        <p:blipFill>
          <a:blip r:embed="rId2"/>
          <a:stretch/>
        </p:blipFill>
        <p:spPr>
          <a:xfrm>
            <a:off x="2340000" y="1900080"/>
            <a:ext cx="6456240" cy="4842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34813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50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Номер слайда 3"/>
          <p:cNvSpPr/>
          <p:nvPr/>
        </p:nvSpPr>
        <p:spPr>
          <a:xfrm>
            <a:off x="685800" y="6248520"/>
            <a:ext cx="26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D0EFC-F27D-429B-83D8-4764FC23C2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Box 9"/>
          <p:cNvSpPr/>
          <p:nvPr/>
        </p:nvSpPr>
        <p:spPr>
          <a:xfrm>
            <a:off x="179280" y="189000"/>
            <a:ext cx="83534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0000"/>
                </a:solidFill>
                <a:latin typeface="Arial"/>
                <a:ea typeface="Arial"/>
              </a:rPr>
              <a:t>III</a:t>
            </a:r>
            <a:r>
              <a:rPr b="1" lang="ru-RU" sz="3800" spc="-1" strike="noStrike">
                <a:solidFill>
                  <a:srgbClr val="000000"/>
                </a:solidFill>
                <a:latin typeface="Arial"/>
                <a:ea typeface="Arial"/>
              </a:rPr>
              <a:t>. Подготовка венозного доступа</a:t>
            </a:r>
            <a:endParaRPr b="1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Picture 2" descr="http://pics.livejournal.com/aenekrita/pic/000055az/s320x240"/>
          <p:cNvPicPr/>
          <p:nvPr/>
        </p:nvPicPr>
        <p:blipFill>
          <a:blip r:embed="rId1"/>
          <a:stretch/>
        </p:blipFill>
        <p:spPr>
          <a:xfrm>
            <a:off x="611280" y="1413000"/>
            <a:ext cx="2428920" cy="32367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22" name="Picture 3" descr=""/>
          <p:cNvPicPr/>
          <p:nvPr/>
        </p:nvPicPr>
        <p:blipFill>
          <a:blip r:embed="rId2"/>
          <a:stretch/>
        </p:blipFill>
        <p:spPr>
          <a:xfrm>
            <a:off x="4859280" y="1341360"/>
            <a:ext cx="3551400" cy="34038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123" name="Стрелка вправо 15"/>
          <p:cNvGrpSpPr/>
          <p:nvPr/>
        </p:nvGrpSpPr>
        <p:grpSpPr>
          <a:xfrm>
            <a:off x="3402000" y="2401920"/>
            <a:ext cx="1255680" cy="1311120"/>
            <a:chOff x="3402000" y="2401920"/>
            <a:chExt cx="1255680" cy="1311120"/>
          </a:xfrm>
        </p:grpSpPr>
        <p:pic>
          <p:nvPicPr>
            <p:cNvPr id="124" name="Стрелка вправо 15" descr=""/>
            <p:cNvPicPr/>
            <p:nvPr/>
          </p:nvPicPr>
          <p:blipFill>
            <a:blip r:embed="rId3"/>
            <a:stretch/>
          </p:blipFill>
          <p:spPr>
            <a:xfrm>
              <a:off x="3402000" y="2401920"/>
              <a:ext cx="1255680" cy="131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3419640" y="2739960"/>
              <a:ext cx="919080" cy="63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7"/>
          <p:cNvSpPr/>
          <p:nvPr/>
        </p:nvSpPr>
        <p:spPr>
          <a:xfrm>
            <a:off x="431640" y="5300640"/>
            <a:ext cx="8101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" name="Rectangle 8"/>
          <p:cNvGrpSpPr/>
          <p:nvPr/>
        </p:nvGrpSpPr>
        <p:grpSpPr>
          <a:xfrm>
            <a:off x="152280" y="5492880"/>
            <a:ext cx="8832960" cy="1268280"/>
            <a:chOff x="152280" y="5492880"/>
            <a:chExt cx="8832960" cy="1268280"/>
          </a:xfrm>
        </p:grpSpPr>
        <p:pic>
          <p:nvPicPr>
            <p:cNvPr id="128" name="Rectangle 8" descr=""/>
            <p:cNvPicPr/>
            <p:nvPr/>
          </p:nvPicPr>
          <p:blipFill>
            <a:blip r:embed="rId4"/>
            <a:stretch/>
          </p:blipFill>
          <p:spPr>
            <a:xfrm>
              <a:off x="152280" y="5492880"/>
              <a:ext cx="883296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9" name=""/>
            <p:cNvSpPr/>
            <p:nvPr/>
          </p:nvSpPr>
          <p:spPr>
            <a:xfrm>
              <a:off x="179280" y="5518080"/>
              <a:ext cx="878544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КРАТНОЕ УМЕНЬШЕНИЕ ЧИСЛА 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000" spc="-1" strike="noStrike">
                  <a:solidFill>
                    <a:srgbClr val="000000"/>
                  </a:solidFill>
                  <a:latin typeface="Arial"/>
                  <a:ea typeface="Arial"/>
                </a:rPr>
                <a:t>ПОТЕНЦИАЛЬНО ОПАСНЫХ МАНИПУЛЯЦИЙ</a:t>
              </a:r>
              <a:endParaRPr b="1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8"/>
          <p:cNvSpPr/>
          <p:nvPr/>
        </p:nvSpPr>
        <p:spPr>
          <a:xfrm>
            <a:off x="0" y="51120"/>
            <a:ext cx="9144000" cy="14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000000"/>
                </a:solidFill>
                <a:latin typeface="Arial"/>
              </a:rPr>
              <a:t>Вазофикс Сэйфти — безопасная внутривенная канюля с инъекционным портом </a:t>
            </a:r>
            <a:endParaRPr b="1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Катерер.MPG" descr=""/>
          <p:cNvPicPr/>
          <p:nvPr/>
        </p:nvPicPr>
        <p:blipFill>
          <a:blip r:embed="rId1"/>
          <a:stretch/>
        </p:blipFill>
        <p:spPr>
          <a:xfrm>
            <a:off x="1042920" y="1557360"/>
            <a:ext cx="6889680" cy="516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131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131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" dur="1" fill="hold"/>
                                        <p:tgtEl>
                                          <p:spTgt spid="13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5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5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Содержимое 4" descr="safety1.jpg"/>
          <p:cNvPicPr/>
          <p:nvPr/>
        </p:nvPicPr>
        <p:blipFill>
          <a:blip r:embed="rId1"/>
          <a:stretch/>
        </p:blipFill>
        <p:spPr>
          <a:xfrm>
            <a:off x="826920" y="1125360"/>
            <a:ext cx="7058160" cy="548640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-27360"/>
            <a:ext cx="8748720" cy="112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Основные осложнения инфузионной терапии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7"/>
          <p:cNvSpPr/>
          <p:nvPr/>
        </p:nvSpPr>
        <p:spPr>
          <a:xfrm>
            <a:off x="0" y="2924280"/>
            <a:ext cx="421164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икробная контамин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Контаминация твердыми  частицам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Ошибки в назначен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4"/>
          <p:cNvSpPr/>
          <p:nvPr/>
        </p:nvSpPr>
        <p:spPr>
          <a:xfrm>
            <a:off x="4138560" y="1700280"/>
            <a:ext cx="1800" cy="49687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5"/>
          <p:cNvSpPr/>
          <p:nvPr/>
        </p:nvSpPr>
        <p:spPr>
          <a:xfrm>
            <a:off x="574560" y="2492280"/>
            <a:ext cx="8101080" cy="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6"/>
          <p:cNvSpPr/>
          <p:nvPr/>
        </p:nvSpPr>
        <p:spPr>
          <a:xfrm>
            <a:off x="1117440" y="1773360"/>
            <a:ext cx="23749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АЦИЕН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7"/>
          <p:cNvSpPr/>
          <p:nvPr/>
        </p:nvSpPr>
        <p:spPr>
          <a:xfrm>
            <a:off x="4570560" y="1773360"/>
            <a:ext cx="3960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МЕДИЦИНСКАЯ СЕСТР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8"/>
          <p:cNvSpPr/>
          <p:nvPr/>
        </p:nvSpPr>
        <p:spPr>
          <a:xfrm>
            <a:off x="4932360" y="3141720"/>
            <a:ext cx="316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ПОРЕЗ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9"/>
          <p:cNvSpPr/>
          <p:nvPr/>
        </p:nvSpPr>
        <p:spPr>
          <a:xfrm>
            <a:off x="4500720" y="3862440"/>
            <a:ext cx="4176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УКОЛ ИГЛОЙ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0"/>
          <p:cNvSpPr/>
          <p:nvPr/>
        </p:nvSpPr>
        <p:spPr>
          <a:xfrm>
            <a:off x="4140360" y="4654440"/>
            <a:ext cx="4968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ХИМИЧЕСКАЯ КОНТАМИНАЦ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11"/>
          <p:cNvSpPr/>
          <p:nvPr/>
        </p:nvSpPr>
        <p:spPr>
          <a:xfrm>
            <a:off x="2627280" y="6021360"/>
            <a:ext cx="3384720" cy="503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Воздушная эмбол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76720" y="333360"/>
            <a:ext cx="5867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0000"/>
                </a:solidFill>
                <a:latin typeface="Arial"/>
              </a:rPr>
              <a:t>Химическая контаминация…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78920" y="2637000"/>
            <a:ext cx="8713800" cy="302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 перечень опасных лекарств включены        </a:t>
            </a:r>
            <a:r>
              <a:rPr b="1" i="1" lang="ru-RU" sz="2800" spc="-1" strike="noStrike">
                <a:solidFill>
                  <a:srgbClr val="000000"/>
                </a:solidFill>
                <a:latin typeface="Arial"/>
              </a:rPr>
              <a:t>136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наименований, наиболее опасные из них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цитотоксические лекарственны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антибио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биоинженерные лекар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моноклональные антител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1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27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гормональные лекарственные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3203640" cy="24526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Номер слайда 3"/>
          <p:cNvSpPr/>
          <p:nvPr/>
        </p:nvSpPr>
        <p:spPr>
          <a:xfrm>
            <a:off x="685800" y="6248520"/>
            <a:ext cx="266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E534C-5601-4AF3-A367-20D41639F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19120" y="115920"/>
            <a:ext cx="8229600" cy="85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500" spc="-1" strike="noStrike">
                <a:solidFill>
                  <a:srgbClr val="000000"/>
                </a:solidFill>
                <a:latin typeface="Arial"/>
              </a:rPr>
              <a:t>Механизм возникновения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0" y="1052280"/>
            <a:ext cx="7020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8252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Контакт лекарственных средств             с кожей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биологические жидкости                  пациентов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олитым раствором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заполненной инфузионной системой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2520"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Вдыхание аэрозоля: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приготовление лекарств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MS PGothic"/>
              </a:rPr>
              <a:t>введени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е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PGothic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  <a:ea typeface="MS PGothic"/>
              </a:rPr>
              <a:t>лекарств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"/>
          <p:cNvPicPr/>
          <p:nvPr/>
        </p:nvPicPr>
        <p:blipFill>
          <a:blip r:embed="rId1"/>
          <a:stretch/>
        </p:blipFill>
        <p:spPr>
          <a:xfrm>
            <a:off x="7667640" y="4003560"/>
            <a:ext cx="1403280" cy="26654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69" name="Oval 5"/>
          <p:cNvSpPr/>
          <p:nvPr/>
        </p:nvSpPr>
        <p:spPr>
          <a:xfrm>
            <a:off x="7812000" y="5734080"/>
            <a:ext cx="1008000" cy="79056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"/>
          <p:cNvPicPr/>
          <p:nvPr/>
        </p:nvPicPr>
        <p:blipFill>
          <a:blip r:embed="rId2"/>
          <a:stretch/>
        </p:blipFill>
        <p:spPr>
          <a:xfrm>
            <a:off x="5580000" y="1557360"/>
            <a:ext cx="1944720" cy="2106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71" name="Picture 8" descr=""/>
          <p:cNvPicPr/>
          <p:nvPr/>
        </p:nvPicPr>
        <p:blipFill>
          <a:blip r:embed="rId3"/>
          <a:stretch/>
        </p:blipFill>
        <p:spPr>
          <a:xfrm>
            <a:off x="7596360" y="1139760"/>
            <a:ext cx="1439640" cy="25765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72" name="Oval 9"/>
          <p:cNvSpPr/>
          <p:nvPr/>
        </p:nvSpPr>
        <p:spPr>
          <a:xfrm rot="16200000">
            <a:off x="7596360" y="1355400"/>
            <a:ext cx="1655640" cy="108108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0" descr=""/>
          <p:cNvPicPr/>
          <p:nvPr/>
        </p:nvPicPr>
        <p:blipFill>
          <a:blip r:embed="rId4"/>
          <a:stretch/>
        </p:blipFill>
        <p:spPr>
          <a:xfrm>
            <a:off x="5076720" y="4362480"/>
            <a:ext cx="2519640" cy="23050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932508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Последствия химической контаминации для медицинской сестр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10"/>
          <p:cNvSpPr/>
          <p:nvPr/>
        </p:nvSpPr>
        <p:spPr>
          <a:xfrm>
            <a:off x="48600" y="1700280"/>
            <a:ext cx="388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1. Острая интоксикаци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11"/>
          <p:cNvSpPr/>
          <p:nvPr/>
        </p:nvSpPr>
        <p:spPr>
          <a:xfrm>
            <a:off x="113760" y="3830760"/>
            <a:ext cx="476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2. Хроническая интоксикация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2"/>
          <p:cNvSpPr/>
          <p:nvPr/>
        </p:nvSpPr>
        <p:spPr>
          <a:xfrm>
            <a:off x="539640" y="2133720"/>
            <a:ext cx="5184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buClr>
                <a:srgbClr val="000000"/>
              </a:buClr>
              <a:buFont typeface="Wingdings" charset="2"/>
              <a:buChar char="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иаре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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утагенный эффек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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иперемия кож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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ошнота, рвота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611280" y="4149720"/>
            <a:ext cx="547344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1440" indent="-271440">
              <a:buClr>
                <a:srgbClr val="000000"/>
              </a:buClr>
              <a:buFont typeface="Wingdings" charset="2"/>
              <a:buChar char="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рматит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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ллергические реакции на АБ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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депрессии, фоб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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есплодие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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вынашивание беременност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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енетические мутации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buClr>
                <a:srgbClr val="000000"/>
              </a:buClr>
              <a:buFont typeface="Wingdings" charset="2"/>
              <a:buChar char=""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нкологические заболевания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15" descr="Maagzuur"/>
          <p:cNvPicPr/>
          <p:nvPr/>
        </p:nvPicPr>
        <p:blipFill>
          <a:blip r:embed="rId1"/>
          <a:stretch/>
        </p:blipFill>
        <p:spPr>
          <a:xfrm>
            <a:off x="6084720" y="1617840"/>
            <a:ext cx="1487520" cy="208728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0" name="Picture 17" descr="per_dermat"/>
          <p:cNvPicPr/>
          <p:nvPr/>
        </p:nvPicPr>
        <p:blipFill>
          <a:blip r:embed="rId2"/>
          <a:stretch/>
        </p:blipFill>
        <p:spPr>
          <a:xfrm>
            <a:off x="7451640" y="1401840"/>
            <a:ext cx="1581120" cy="210636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1" name="Picture 19" descr="50456037_1256765728_Nastroenie_4"/>
          <p:cNvPicPr/>
          <p:nvPr/>
        </p:nvPicPr>
        <p:blipFill>
          <a:blip r:embed="rId3"/>
          <a:stretch/>
        </p:blipFill>
        <p:spPr>
          <a:xfrm>
            <a:off x="5651640" y="3778200"/>
            <a:ext cx="1666800" cy="1125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2" name="Picture 21" descr="dream%20to%20be%20pregnant"/>
          <p:cNvPicPr/>
          <p:nvPr/>
        </p:nvPicPr>
        <p:blipFill>
          <a:blip r:embed="rId4"/>
          <a:stretch/>
        </p:blipFill>
        <p:spPr>
          <a:xfrm>
            <a:off x="7451640" y="4065480"/>
            <a:ext cx="1552680" cy="25322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83" name="Picture 23" descr="212703"/>
          <p:cNvPicPr/>
          <p:nvPr/>
        </p:nvPicPr>
        <p:blipFill>
          <a:blip r:embed="rId5"/>
          <a:stretch/>
        </p:blipFill>
        <p:spPr>
          <a:xfrm>
            <a:off x="5724360" y="5073480"/>
            <a:ext cx="1656000" cy="12416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108000" y="333360"/>
          <a:ext cx="8964720" cy="5975280"/>
        </p:xfrm>
        <a:graphic>
          <a:graphicData uri="http://schemas.openxmlformats.org/drawingml/2006/table">
            <a:tbl>
              <a:tblPr/>
              <a:tblGrid>
                <a:gridCol w="3085920"/>
                <a:gridCol w="2962440"/>
                <a:gridCol w="2916360"/>
              </a:tblGrid>
              <a:tr h="542880">
                <a:tc row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епарат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2"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оксические эффект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14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ингаляцион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эпидермальны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28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Ансамици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(рифампицин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47880"/>
                          <a:tab algn="l" pos="1895400"/>
                          <a:tab algn="l" pos="2843280"/>
                          <a:tab algn="l" pos="3790800"/>
                          <a:tab algn="l" pos="4738680"/>
                          <a:tab algn="l" pos="5686560"/>
                          <a:tab algn="l" pos="6634080"/>
                          <a:tab algn="l" pos="7581960"/>
                          <a:tab algn="l" pos="8529480"/>
                          <a:tab algn="l" pos="9477360"/>
                          <a:tab algn="l" pos="1042524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нетение кроветворения, головная боль, тошнота,  артралгия, мышечная слабость, герпес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Зуд, дерматит, крапивница, аллергическая сыпь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</a:tr>
              <a:tr h="20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Фторхинолоны (ципрофлоксацин, офлоксацин, норфлоксацин и др.)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Угнетение кроветворения, депрессия, фобии, галлюцинации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3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Гиперпигментация кожи, крапивница, отек, зуд кожи</a:t>
                      </a:r>
                      <a:endParaRPr b="1" lang="en-US" sz="2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cdcd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Номер слайда 4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03DCCC-B676-453C-8493-27336F61F9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6080" y="-14400"/>
            <a:ext cx="8828280" cy="34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Инфицирование при уколе иглой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3080" y="907560"/>
            <a:ext cx="8820000" cy="27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28120" indent="0">
              <a:spcAft>
                <a:spcPts val="18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сточники опасности для медицинской сестры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8120" indent="-169920">
              <a:spcAft>
                <a:spcPts val="1800"/>
              </a:spcAft>
              <a:buClr>
                <a:srgbClr val="ff3300"/>
              </a:buClr>
              <a:buSzPct val="112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глы, применяемыми для подключения к инфузионным системам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8120" indent="-169920">
              <a:spcAft>
                <a:spcPts val="1800"/>
              </a:spcAft>
              <a:buClr>
                <a:srgbClr val="ff3300"/>
              </a:buClr>
              <a:buSzPct val="112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иглы для забора кров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528120" indent="-169920">
              <a:spcAft>
                <a:spcPts val="1800"/>
              </a:spcAft>
              <a:buClr>
                <a:srgbClr val="ff3300"/>
              </a:buClr>
              <a:buSzPct val="112000"/>
              <a:buFont typeface="Wingdings" charset="2"/>
              <a:buChar char="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внутривенные канюл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108000" y="4076640"/>
            <a:ext cx="8785080" cy="12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иболее часто риску укола иглой подвергаются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медицинские сестры и лаборанты (75-80% случаев)</a:t>
            </a:r>
            <a:r>
              <a:rPr b="1" lang="en-US" sz="2400" spc="-1" strike="noStrike">
                <a:solidFill>
                  <a:srgbClr val="ff3300"/>
                </a:solidFill>
                <a:latin typeface="Arial"/>
              </a:rPr>
              <a:t>;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есколько реже врачи (20-25% случаев)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9" name="Rectangle 8"/>
          <p:cNvGrpSpPr/>
          <p:nvPr/>
        </p:nvGrpSpPr>
        <p:grpSpPr>
          <a:xfrm>
            <a:off x="1530360" y="5572080"/>
            <a:ext cx="7448400" cy="1225440"/>
            <a:chOff x="1530360" y="5572080"/>
            <a:chExt cx="7448400" cy="1225440"/>
          </a:xfrm>
        </p:grpSpPr>
        <p:pic>
          <p:nvPicPr>
            <p:cNvPr id="90" name="Rectangle 8" descr=""/>
            <p:cNvPicPr/>
            <p:nvPr/>
          </p:nvPicPr>
          <p:blipFill>
            <a:blip r:embed="rId1"/>
            <a:stretch/>
          </p:blipFill>
          <p:spPr>
            <a:xfrm>
              <a:off x="1530360" y="5572080"/>
              <a:ext cx="744840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1" name=""/>
            <p:cNvSpPr/>
            <p:nvPr/>
          </p:nvSpPr>
          <p:spPr>
            <a:xfrm>
              <a:off x="1547640" y="5589720"/>
              <a:ext cx="741708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6840" algn="ctr"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2400" spc="-1" strike="noStrike">
                  <a:solidFill>
                    <a:srgbClr val="ffffff"/>
                  </a:solidFill>
                  <a:latin typeface="Arial"/>
                  <a:ea typeface="Arial"/>
                </a:rPr>
                <a:t>Укол иглой – стрессовая ситуация для медицинского работника, даже если передачи инфекции не произошло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92" name="Picture 9" descr="j0216059"/>
          <p:cNvPicPr/>
          <p:nvPr/>
        </p:nvPicPr>
        <p:blipFill>
          <a:blip r:embed="rId2"/>
          <a:stretch/>
        </p:blipFill>
        <p:spPr>
          <a:xfrm>
            <a:off x="34920" y="5584680"/>
            <a:ext cx="1436760" cy="1152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0" y="1483920"/>
            <a:ext cx="91440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263160" indent="0">
              <a:spcAft>
                <a:spcPts val="1800"/>
              </a:spcAft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 Российской Федерации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16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5 млн. человек (3,5% населени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фицированы  гепатитом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16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лн. человек (3% населени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фицированы гепатитом 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160">
              <a:spcAft>
                <a:spcPts val="1800"/>
              </a:spcAft>
              <a:buClr>
                <a:srgbClr val="000000"/>
              </a:buClr>
              <a:buFont typeface="Arial"/>
              <a:buChar char="•"/>
              <a:tabLst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0,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млн. человек (0,2% населения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инфицированы 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3160" indent="0">
              <a:spcAft>
                <a:spcPts val="1800"/>
              </a:spcAft>
              <a:buNone/>
              <a:tabLst>
                <a:tab algn="l" pos="0"/>
                <a:tab algn="l" pos="1810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Ежедневно в России выявляется по 100 новых зараженных ВИ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Эпидемиология гемотрансмиссивных инфекц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4"/>
          <p:cNvSpPr/>
          <p:nvPr/>
        </p:nvSpPr>
        <p:spPr>
          <a:xfrm>
            <a:off x="666720" y="5781600"/>
            <a:ext cx="64389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Rectangle 8"/>
          <p:cNvGrpSpPr/>
          <p:nvPr/>
        </p:nvGrpSpPr>
        <p:grpSpPr>
          <a:xfrm>
            <a:off x="884160" y="5529240"/>
            <a:ext cx="7442280" cy="1225440"/>
            <a:chOff x="884160" y="5529240"/>
            <a:chExt cx="7442280" cy="1225440"/>
          </a:xfrm>
        </p:grpSpPr>
        <p:pic>
          <p:nvPicPr>
            <p:cNvPr id="97" name="Rectangle 8" descr=""/>
            <p:cNvPicPr/>
            <p:nvPr/>
          </p:nvPicPr>
          <p:blipFill>
            <a:blip r:embed="rId1"/>
            <a:stretch/>
          </p:blipFill>
          <p:spPr>
            <a:xfrm>
              <a:off x="884160" y="5529240"/>
              <a:ext cx="7442280" cy="1225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900000" y="5545080"/>
              <a:ext cx="7417080" cy="119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96840"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ffffff"/>
                  </a:solidFill>
                  <a:latin typeface="Arial"/>
                  <a:ea typeface="Arial"/>
                </a:rPr>
                <a:t>Любой необследованный пациент условно опасен</a:t>
              </a:r>
              <a:endParaRPr b="1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11280" y="-14760"/>
            <a:ext cx="8208720" cy="70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Последствия для учреждений здравоохранения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4920" y="1628640"/>
            <a:ext cx="684072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lvl="1" marL="241560" indent="-241560"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величение нагрузки на медперсон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241560" indent="-241560"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величение периода временной нетрудоспособности персона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241560" indent="-241560"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высокие затраты на лечение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241560" indent="-241560">
              <a:spcAft>
                <a:spcPts val="2401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утрата высококвалифицированного персонал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8" descr="discouraged-guy-on-ottoman"/>
          <p:cNvPicPr/>
          <p:nvPr/>
        </p:nvPicPr>
        <p:blipFill>
          <a:blip r:embed="rId1"/>
          <a:stretch/>
        </p:blipFill>
        <p:spPr>
          <a:xfrm>
            <a:off x="6738840" y="4149720"/>
            <a:ext cx="2297160" cy="165564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pic>
        <p:nvPicPr>
          <p:cNvPr id="102" name="Picture 10" descr="3fb60847ed0c74f5ac8e3b15e13bff80_big"/>
          <p:cNvPicPr/>
          <p:nvPr/>
        </p:nvPicPr>
        <p:blipFill>
          <a:blip r:embed="rId2"/>
          <a:stretch/>
        </p:blipFill>
        <p:spPr>
          <a:xfrm>
            <a:off x="6732720" y="2141640"/>
            <a:ext cx="2303280" cy="1647720"/>
          </a:xfrm>
          <a:prstGeom prst="rect">
            <a:avLst/>
          </a:prstGeom>
          <a:ln w="9360">
            <a:solidFill>
              <a:srgbClr val="ff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21T15:10:46Z</dcterms:created>
  <dc:creator>Mayorov</dc:creator>
  <dc:description/>
  <dc:language>en-US</dc:language>
  <cp:lastModifiedBy>ОПСА</cp:lastModifiedBy>
  <dcterms:modified xsi:type="dcterms:W3CDTF">2011-04-04T04:10:03Z</dcterms:modified>
  <cp:revision>45</cp:revision>
  <dc:subject/>
  <dc:title>Слайд 1</dc:title>
</cp:coreProperties>
</file>