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6FF7A-0ADC-42E4-AC8E-CB74EFB50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793BD-CAEF-4708-BCED-D7B5270BD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A8EAB-29E1-414E-9DE1-00D1A8B29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1A47F-A967-4CB9-868C-83B945C10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2F6B5-15B0-4E39-86FD-51B4CABF0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F3C24-7285-4B57-9A9E-3E34703A7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0EF87-99CA-4A03-B326-3CA05DEA2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A7475-AC15-4B62-903D-0D57161B6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E9453-B834-402F-8195-59E6CEF2F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09C84-97F8-486B-B1DC-C2E2E0319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87EA8-B630-43A7-953E-6378B9288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CAC09-C943-43F9-B6DC-D6091D345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DB942-1A8B-4288-847C-DA67C3D83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925BB-067B-4EFA-8F09-F6739FE6E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88DAC-B96F-4EAF-B49A-5C0F016AD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72960-9134-4FFD-8C6D-291ED7D70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F90E7-B2E0-4E8B-8A28-4D229CE87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E3E55-FC8D-4515-8992-0D014D996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7A341-DDC8-4F6D-90CB-539D9BE8E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CDA59-D992-4D1C-BC12-F11F09B96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85BFD-A6E5-46AD-A697-159A72691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3E232-9ADF-415F-B130-392D52007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4DDE1-1E57-490A-87FA-C9D41C051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07CFA-748E-4623-9F33-549CB0A1F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>
              <a:gd name="textAreaLeft" fmla="*/ 0 w 285480"/>
              <a:gd name="textAreaRight" fmla="*/ 285840 w 285480"/>
              <a:gd name="textAreaTop" fmla="*/ 0 h 209520"/>
              <a:gd name="textAreaBottom" fmla="*/ 209880 h 209520"/>
            </a:gdLst>
            <a:ahLst/>
            <a:rect l="textAreaLeft" t="textAreaTop" r="textAreaRight" b="textAreaBottom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BB46B-E730-477F-80C2-A6D53AB2C6A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DC1D6-E0FB-45E6-A97C-407A52776951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98520" y="333000"/>
            <a:ext cx="8277120" cy="4319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cff99"/>
                </a:solidFill>
                <a:latin typeface="Arial"/>
              </a:rPr>
              <a:t>Роль медицинской сестры диетической </a:t>
            </a:r>
            <a:br>
              <a:rPr sz="5400"/>
            </a:br>
            <a:r>
              <a:rPr b="0" lang="ru-RU" sz="5400" spc="-1" strike="noStrike">
                <a:solidFill>
                  <a:srgbClr val="ccff99"/>
                </a:solidFill>
                <a:latin typeface="Arial"/>
              </a:rPr>
              <a:t>в организации лечебного питания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Rectangle 3"/>
          <p:cNvSpPr/>
          <p:nvPr/>
        </p:nvSpPr>
        <p:spPr>
          <a:xfrm>
            <a:off x="4932360" y="5445000"/>
            <a:ext cx="4032360" cy="131364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окладчик:  Абраменко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ирослава Владимировна медицинская сестра диетическая МУЗ ГК БСМП-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107640" y="1197000"/>
            <a:ext cx="889164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Aft>
                <a:spcPts val="2401"/>
              </a:spcAft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обеспечение физиологических потребностей больного человека в пищевых веществах и энергии;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spcAft>
                <a:spcPts val="2401"/>
              </a:spcAft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учет биохимических и физиологических законов, определяющих условие пищи у здорового и больного человека;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spcAft>
                <a:spcPts val="2401"/>
              </a:spcAft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учет местного и общего воздействия пищи на организм;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spcAft>
                <a:spcPts val="2401"/>
              </a:spcAft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использование в питании методов щажения, разгрузки и контрастных дней;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spcAft>
                <a:spcPts val="2401"/>
              </a:spcAft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учет химического состава и кулинарной обработки пищи, местных и индивидуальных особенностей питания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Прямоугольник 4"/>
          <p:cNvSpPr/>
          <p:nvPr/>
        </p:nvSpPr>
        <p:spPr>
          <a:xfrm>
            <a:off x="612720" y="260280"/>
            <a:ext cx="810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ccff99"/>
                </a:solidFill>
                <a:latin typeface="Arial"/>
              </a:rPr>
              <a:t>Принципы построения диеты: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178920" y="1239480"/>
            <a:ext cx="8820360" cy="413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lnSpc>
                <a:spcPct val="90000"/>
              </a:lnSpc>
              <a:spcAft>
                <a:spcPts val="3600"/>
              </a:spcAft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оверяет качество продуктов при их поступлении на склад и пищеблок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Aft>
                <a:spcPts val="3600"/>
              </a:spcAft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онтролирует правильность хранения запасов продуктов питания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Aft>
                <a:spcPts val="3600"/>
              </a:spcAft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готовит ежедневно меню-раскладку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Aft>
                <a:spcPts val="3600"/>
              </a:spcAft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существляет контроль правильности закладки продуктов при приготовлении блюд и бракераж готовой продукции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Aft>
                <a:spcPts val="3600"/>
              </a:spcAft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оводит снятие готовой пищи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Прямоугольник 5"/>
          <p:cNvSpPr/>
          <p:nvPr/>
        </p:nvSpPr>
        <p:spPr>
          <a:xfrm>
            <a:off x="451440" y="189000"/>
            <a:ext cx="832176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ff99"/>
                </a:solidFill>
                <a:latin typeface="Arial"/>
              </a:rPr>
              <a:t>Медицинская сестра диетическая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107640" y="1455480"/>
            <a:ext cx="889164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Aft>
                <a:spcPts val="4201"/>
              </a:spcAft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контролирует правильность отпуска блюд с пищеблока в отделения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spcAft>
                <a:spcPts val="4201"/>
              </a:spcAft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контролирует  санитарное состояние помещений, раздаточных, буфетных, инвентаря, посуды, выполнение работниками пищеблока правил личной гигиены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Прямоугольник 4"/>
          <p:cNvSpPr/>
          <p:nvPr/>
        </p:nvSpPr>
        <p:spPr>
          <a:xfrm>
            <a:off x="451440" y="189000"/>
            <a:ext cx="832176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ff99"/>
                </a:solidFill>
                <a:latin typeface="Arial"/>
              </a:rPr>
              <a:t>Медицинская сестра диетическая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179280" y="1168560"/>
            <a:ext cx="8893440" cy="39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Aft>
                <a:spcPts val="3600"/>
              </a:spcAft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организует и лично участвует в проведении занятий с медицинскими сестрами палатными, санитарками-буфетчицами и работниками пищеблока по вопросам лечебного питания;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spcAft>
                <a:spcPts val="3600"/>
              </a:spcAft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ведет медицинскую документацию;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spcAft>
                <a:spcPts val="3600"/>
              </a:spcAft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осуществляет контроль своевременного проведения профилактических медицинских осмотров работниками пищеблока, раздаточных и буфетных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Прямоугольник 4"/>
          <p:cNvSpPr/>
          <p:nvPr/>
        </p:nvSpPr>
        <p:spPr>
          <a:xfrm>
            <a:off x="451440" y="189000"/>
            <a:ext cx="832176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ff99"/>
                </a:solidFill>
                <a:latin typeface="Arial"/>
              </a:rPr>
              <a:t>Медицинская сестра диетическая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Прямоугольник 4"/>
          <p:cNvSpPr/>
          <p:nvPr/>
        </p:nvSpPr>
        <p:spPr>
          <a:xfrm>
            <a:off x="2360880" y="189000"/>
            <a:ext cx="480924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ff99"/>
                </a:solidFill>
                <a:latin typeface="Arial"/>
              </a:rPr>
              <a:t>Питание пациентов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4" name="Picture 2" descr="D:\Фотоальбом\Фото ЛПУ\Областные\КПТД № 4\фото для доклада\присланные\обед.JPG"/>
          <p:cNvPicPr/>
          <p:nvPr/>
        </p:nvPicPr>
        <p:blipFill>
          <a:blip r:embed="rId1"/>
          <a:stretch/>
        </p:blipFill>
        <p:spPr>
          <a:xfrm>
            <a:off x="3995640" y="2133720"/>
            <a:ext cx="4945320" cy="3706560"/>
          </a:xfrm>
          <a:prstGeom prst="rect">
            <a:avLst/>
          </a:prstGeom>
          <a:ln w="50760">
            <a:solidFill>
              <a:srgbClr val="ccff99"/>
            </a:solidFill>
            <a:miter/>
          </a:ln>
        </p:spPr>
      </p:pic>
      <p:pic>
        <p:nvPicPr>
          <p:cNvPr id="245" name="Picture 23" descr="Рисунок3"/>
          <p:cNvPicPr/>
          <p:nvPr/>
        </p:nvPicPr>
        <p:blipFill>
          <a:blip r:embed="rId2"/>
          <a:stretch/>
        </p:blipFill>
        <p:spPr>
          <a:xfrm>
            <a:off x="250920" y="1341360"/>
            <a:ext cx="3529080" cy="4967280"/>
          </a:xfrm>
          <a:prstGeom prst="rect">
            <a:avLst/>
          </a:prstGeom>
          <a:ln w="50760">
            <a:solidFill>
              <a:srgbClr val="ccff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Прямоугольник 3"/>
          <p:cNvSpPr/>
          <p:nvPr/>
        </p:nvSpPr>
        <p:spPr>
          <a:xfrm>
            <a:off x="1511280" y="189000"/>
            <a:ext cx="620208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ff99"/>
                </a:solidFill>
                <a:latin typeface="Arial"/>
              </a:rPr>
              <a:t>Дополнительное питани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Прямоугольник 4"/>
          <p:cNvSpPr/>
          <p:nvPr/>
        </p:nvSpPr>
        <p:spPr>
          <a:xfrm>
            <a:off x="179280" y="1251000"/>
            <a:ext cx="8893440" cy="49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Aft>
                <a:spcPts val="4201"/>
              </a:spcAft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постоянный контроль со стороны медицинской сестры палатной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4201"/>
              </a:spcAft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разработка примерного перечня продуктов, разрешаемых для дополнительного питания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4201"/>
              </a:spcAft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ежедневный контроль санитарного состояния прикроватных тумбочек и  регулярная обработка их дезинфицирующим раствором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Прямоугольник 3"/>
          <p:cNvSpPr/>
          <p:nvPr/>
        </p:nvSpPr>
        <p:spPr>
          <a:xfrm>
            <a:off x="0" y="268200"/>
            <a:ext cx="9144000" cy="14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ccff99"/>
                </a:solidFill>
                <a:latin typeface="Arial"/>
              </a:rPr>
              <a:t>Лечебное питание невозможно 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ccff99"/>
                </a:solidFill>
                <a:latin typeface="Arial"/>
              </a:rPr>
              <a:t>без активного участия пациента 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ccff99"/>
                </a:solidFill>
                <a:latin typeface="Arial"/>
              </a:rPr>
              <a:t>в выполнении диетических предписаний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9" name="Picture 37" descr="Рисунок3"/>
          <p:cNvPicPr/>
          <p:nvPr/>
        </p:nvPicPr>
        <p:blipFill>
          <a:blip r:embed="rId1"/>
          <a:stretch/>
        </p:blipFill>
        <p:spPr>
          <a:xfrm>
            <a:off x="1403280" y="1916280"/>
            <a:ext cx="6264360" cy="4624200"/>
          </a:xfrm>
          <a:prstGeom prst="rect">
            <a:avLst/>
          </a:prstGeom>
          <a:ln w="50760">
            <a:solidFill>
              <a:srgbClr val="ccff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/>
          </p:nvPr>
        </p:nvSpPr>
        <p:spPr>
          <a:xfrm>
            <a:off x="3578400" y="692280"/>
            <a:ext cx="5457600" cy="21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2000"/>
          </a:bodyPr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ffffff"/>
                </a:solidFill>
                <a:latin typeface="Arial"/>
              </a:rPr>
              <a:t>«Наши пищевые вещества должны быть лечебным средством,         а наши лечебные средства должны быть пищевыми веществами»                          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Прямоугольник 3"/>
          <p:cNvSpPr/>
          <p:nvPr/>
        </p:nvSpPr>
        <p:spPr>
          <a:xfrm>
            <a:off x="403560" y="4881600"/>
            <a:ext cx="258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ff99"/>
                </a:solidFill>
                <a:latin typeface="Arial"/>
              </a:rPr>
              <a:t>Гиппокра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2" name="Picture 5" descr=""/>
          <p:cNvPicPr/>
          <p:nvPr/>
        </p:nvPicPr>
        <p:blipFill>
          <a:blip r:embed="rId1"/>
          <a:stretch/>
        </p:blipFill>
        <p:spPr>
          <a:xfrm>
            <a:off x="250920" y="692280"/>
            <a:ext cx="3097080" cy="4136760"/>
          </a:xfrm>
          <a:prstGeom prst="rect">
            <a:avLst/>
          </a:prstGeom>
          <a:ln w="50760">
            <a:solidFill>
              <a:srgbClr val="ccff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Picture 2" descr="dieta-38"/>
          <p:cNvPicPr/>
          <p:nvPr/>
        </p:nvPicPr>
        <p:blipFill>
          <a:blip r:embed="rId1"/>
          <a:stretch/>
        </p:blipFill>
        <p:spPr>
          <a:xfrm>
            <a:off x="1116000" y="1844640"/>
            <a:ext cx="7059600" cy="4622760"/>
          </a:xfrm>
          <a:prstGeom prst="rect">
            <a:avLst/>
          </a:prstGeom>
          <a:ln w="0">
            <a:noFill/>
          </a:ln>
        </p:spPr>
      </p:pic>
      <p:sp>
        <p:nvSpPr>
          <p:cNvPr id="254" name="Rectangle 3"/>
          <p:cNvSpPr/>
          <p:nvPr/>
        </p:nvSpPr>
        <p:spPr>
          <a:xfrm>
            <a:off x="684360" y="552240"/>
            <a:ext cx="7777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200" spc="-1" strike="noStrike">
                <a:solidFill>
                  <a:srgbClr val="ffffff"/>
                </a:solidFill>
                <a:latin typeface="Arial"/>
              </a:rPr>
              <a:t>Спасибо за внимание! </a:t>
            </a:r>
            <a:endParaRPr b="0" lang="en-US" sz="5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179280" y="333000"/>
            <a:ext cx="896472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Организация лечебного питания                в учреждении здравоохранения является неотъемлемой частью лечебного процесса и входит              в число основных лечебных мероприятий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4" name="Picture 4" descr=""/>
          <p:cNvPicPr/>
          <p:nvPr/>
        </p:nvPicPr>
        <p:blipFill>
          <a:blip r:embed="rId1"/>
          <a:stretch/>
        </p:blipFill>
        <p:spPr>
          <a:xfrm>
            <a:off x="30240" y="4437000"/>
            <a:ext cx="3101760" cy="230508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5" descr=""/>
          <p:cNvPicPr/>
          <p:nvPr/>
        </p:nvPicPr>
        <p:blipFill>
          <a:blip r:embed="rId2"/>
          <a:stretch/>
        </p:blipFill>
        <p:spPr>
          <a:xfrm>
            <a:off x="3059280" y="4437000"/>
            <a:ext cx="3133440" cy="230508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6" descr=""/>
          <p:cNvPicPr/>
          <p:nvPr/>
        </p:nvPicPr>
        <p:blipFill>
          <a:blip r:embed="rId3"/>
          <a:srcRect l="0" t="0" r="10570" b="0"/>
          <a:stretch/>
        </p:blipFill>
        <p:spPr>
          <a:xfrm>
            <a:off x="6012000" y="4408560"/>
            <a:ext cx="3133440" cy="2333520"/>
          </a:xfrm>
          <a:prstGeom prst="rect">
            <a:avLst/>
          </a:prstGeom>
          <a:ln w="0">
            <a:noFill/>
          </a:ln>
        </p:spPr>
      </p:pic>
      <p:sp>
        <p:nvSpPr>
          <p:cNvPr id="217" name="Прямоугольник 9"/>
          <p:cNvSpPr/>
          <p:nvPr/>
        </p:nvSpPr>
        <p:spPr>
          <a:xfrm>
            <a:off x="68400" y="4437000"/>
            <a:ext cx="9036000" cy="2305080"/>
          </a:xfrm>
          <a:prstGeom prst="rect">
            <a:avLst/>
          </a:prstGeom>
          <a:noFill/>
          <a:ln w="66600">
            <a:solidFill>
              <a:srgbClr val="ccff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4140360" y="836280"/>
            <a:ext cx="4752720" cy="125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0000"/>
          </a:bodyPr>
          <a:p>
            <a:pPr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«Там, где нет лечебного питания, нет рационального лечения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9" name="Picture 4" descr=""/>
          <p:cNvPicPr/>
          <p:nvPr/>
        </p:nvPicPr>
        <p:blipFill>
          <a:blip r:embed="rId1"/>
          <a:stretch/>
        </p:blipFill>
        <p:spPr>
          <a:xfrm>
            <a:off x="880920" y="476280"/>
            <a:ext cx="2970360" cy="3960720"/>
          </a:xfrm>
          <a:prstGeom prst="rect">
            <a:avLst/>
          </a:prstGeom>
          <a:ln w="50760">
            <a:solidFill>
              <a:srgbClr val="ccff99"/>
            </a:solidFill>
            <a:miter/>
          </a:ln>
        </p:spPr>
      </p:pic>
      <p:sp>
        <p:nvSpPr>
          <p:cNvPr id="220" name="Прямоугольник 8"/>
          <p:cNvSpPr/>
          <p:nvPr/>
        </p:nvSpPr>
        <p:spPr>
          <a:xfrm>
            <a:off x="-108000" y="4505400"/>
            <a:ext cx="4751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ff99"/>
                </a:solidFill>
                <a:latin typeface="Arial"/>
              </a:rPr>
              <a:t>М.И. Певзнер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ff99"/>
                </a:solidFill>
                <a:latin typeface="Arial"/>
              </a:rPr>
              <a:t>один из организаторов Института питания в Москве и основоположник диетологии и клинической гастроэнтерологии в ССС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4"/>
          <p:cNvSpPr/>
          <p:nvPr/>
        </p:nvSpPr>
        <p:spPr>
          <a:xfrm>
            <a:off x="228600" y="191160"/>
            <a:ext cx="8736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ff99"/>
                </a:solidFill>
                <a:latin typeface="Arial"/>
                <a:ea typeface="Times New Roman"/>
              </a:rPr>
              <a:t>СИСТЕМА СТАНДАРТНЫХ ДИЕ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216000" y="1197000"/>
          <a:ext cx="8820000" cy="5553000"/>
        </p:xfrm>
        <a:graphic>
          <a:graphicData uri="http://schemas.openxmlformats.org/drawingml/2006/table">
            <a:tbl>
              <a:tblPr/>
              <a:tblGrid>
                <a:gridCol w="5724360"/>
                <a:gridCol w="3095640"/>
              </a:tblGrid>
              <a:tr h="7621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Стандартные диеты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68ae"/>
                      </a:solidFill>
                    </a:lnL>
                    <a:lnR w="18720">
                      <a:solidFill>
                        <a:srgbClr val="0068ae"/>
                      </a:solidFill>
                    </a:lnR>
                    <a:lnT w="18720">
                      <a:solidFill>
                        <a:srgbClr val="0068ae"/>
                      </a:solidFill>
                    </a:lnT>
                    <a:lnB w="18720">
                      <a:solidFill>
                        <a:srgbClr val="0068ae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Номерные диеты 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(N 1 - 15)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68ae"/>
                      </a:solidFill>
                    </a:lnL>
                    <a:lnR w="18720">
                      <a:solidFill>
                        <a:srgbClr val="0068ae"/>
                      </a:solidFill>
                    </a:lnR>
                    <a:lnT w="18720">
                      <a:solidFill>
                        <a:srgbClr val="0068ae"/>
                      </a:solidFill>
                    </a:lnT>
                    <a:lnB w="18720">
                      <a:solidFill>
                        <a:srgbClr val="0068ae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9126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3366cc"/>
                          </a:solidFill>
                          <a:latin typeface="Arial"/>
                          <a:ea typeface="Times New Roman"/>
                        </a:rPr>
                        <a:t>Основной вариант стандартной диеты «ОВД»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68ae"/>
                      </a:solidFill>
                    </a:lnL>
                    <a:lnR w="18720">
                      <a:solidFill>
                        <a:srgbClr val="0068ae"/>
                      </a:solidFill>
                    </a:lnR>
                    <a:lnT w="18720">
                      <a:solidFill>
                        <a:srgbClr val="0068ae"/>
                      </a:solidFill>
                    </a:lnT>
                    <a:lnB w="18720">
                      <a:solidFill>
                        <a:srgbClr val="0068ae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3366cc"/>
                          </a:solidFill>
                          <a:latin typeface="Arial"/>
                          <a:ea typeface="Times New Roman"/>
                        </a:rPr>
                        <a:t>1, 2, 3, 5, 6, 7, 9, 10, 13, 14, 15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68ae"/>
                      </a:solidFill>
                    </a:lnL>
                    <a:lnR w="18720">
                      <a:solidFill>
                        <a:srgbClr val="0068ae"/>
                      </a:solidFill>
                    </a:lnR>
                    <a:lnT w="18720">
                      <a:solidFill>
                        <a:srgbClr val="0068ae"/>
                      </a:solidFill>
                    </a:lnT>
                    <a:lnB w="18720">
                      <a:solidFill>
                        <a:srgbClr val="0068ae"/>
                      </a:solidFill>
                    </a:lnB>
                    <a:solidFill>
                      <a:srgbClr val="cbdede"/>
                    </a:solidFill>
                  </a:tcPr>
                </a:tc>
              </a:tr>
              <a:tr h="911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3366cc"/>
                          </a:solidFill>
                          <a:latin typeface="Arial"/>
                          <a:ea typeface="Times New Roman"/>
                        </a:rPr>
                        <a:t>Вариант диеты с механическим и химическим щажением «ЩД»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68ae"/>
                      </a:solidFill>
                    </a:lnL>
                    <a:lnR w="18720">
                      <a:solidFill>
                        <a:srgbClr val="0068ae"/>
                      </a:solidFill>
                    </a:lnR>
                    <a:lnT w="18720">
                      <a:solidFill>
                        <a:srgbClr val="0068ae"/>
                      </a:solidFill>
                    </a:lnT>
                    <a:lnB w="18720">
                      <a:solidFill>
                        <a:srgbClr val="0068ae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3366cc"/>
                          </a:solidFill>
                          <a:latin typeface="Arial"/>
                          <a:ea typeface="Times New Roman"/>
                        </a:rPr>
                        <a:t>1б, 4б, 4в, 5п 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3366cc"/>
                          </a:solidFill>
                          <a:latin typeface="Arial"/>
                          <a:ea typeface="Times New Roman"/>
                        </a:rPr>
                        <a:t>(I вариант)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68ae"/>
                      </a:solidFill>
                    </a:lnL>
                    <a:lnR w="18720">
                      <a:solidFill>
                        <a:srgbClr val="0068ae"/>
                      </a:solidFill>
                    </a:lnR>
                    <a:lnT w="18720">
                      <a:solidFill>
                        <a:srgbClr val="0068ae"/>
                      </a:solidFill>
                    </a:lnT>
                    <a:lnB w="18720">
                      <a:solidFill>
                        <a:srgbClr val="0068ae"/>
                      </a:solidFill>
                    </a:lnB>
                    <a:solidFill>
                      <a:srgbClr val="e7efef"/>
                    </a:solidFill>
                  </a:tcPr>
                </a:tc>
              </a:tr>
              <a:tr h="11430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3366cc"/>
                          </a:solidFill>
                          <a:latin typeface="Arial"/>
                          <a:ea typeface="Times New Roman"/>
                        </a:rPr>
                        <a:t>Вариант диеты с повышенным количеством белка «ВБД»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68ae"/>
                      </a:solidFill>
                    </a:lnL>
                    <a:lnR w="18720">
                      <a:solidFill>
                        <a:srgbClr val="0068ae"/>
                      </a:solidFill>
                    </a:lnR>
                    <a:lnT w="18720">
                      <a:solidFill>
                        <a:srgbClr val="0068ae"/>
                      </a:solidFill>
                    </a:lnT>
                    <a:lnB w="18720">
                      <a:solidFill>
                        <a:srgbClr val="0068ae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3366cc"/>
                          </a:solidFill>
                          <a:latin typeface="Arial"/>
                          <a:ea typeface="Times New Roman"/>
                        </a:rPr>
                        <a:t>4э, 4аг, 5п (II вариант), 7в, 7г, 9б, 10б, 11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68ae"/>
                      </a:solidFill>
                    </a:lnL>
                    <a:lnR w="18720">
                      <a:solidFill>
                        <a:srgbClr val="0068ae"/>
                      </a:solidFill>
                    </a:lnR>
                    <a:lnT w="18720">
                      <a:solidFill>
                        <a:srgbClr val="0068ae"/>
                      </a:solidFill>
                    </a:lnT>
                    <a:lnB w="18720">
                      <a:solidFill>
                        <a:srgbClr val="0068ae"/>
                      </a:solidFill>
                    </a:lnB>
                    <a:solidFill>
                      <a:srgbClr val="cbdede"/>
                    </a:solidFill>
                  </a:tcPr>
                </a:tc>
              </a:tr>
              <a:tr h="9129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3366cc"/>
                          </a:solidFill>
                          <a:latin typeface="Arial"/>
                          <a:ea typeface="Times New Roman"/>
                        </a:rPr>
                        <a:t>Вариант диеты с пониженным количеством белка «НБД»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68ae"/>
                      </a:solidFill>
                    </a:lnL>
                    <a:lnR w="18720">
                      <a:solidFill>
                        <a:srgbClr val="0068ae"/>
                      </a:solidFill>
                    </a:lnR>
                    <a:lnT w="18720">
                      <a:solidFill>
                        <a:srgbClr val="0068ae"/>
                      </a:solidFill>
                    </a:lnT>
                    <a:lnB w="18720">
                      <a:solidFill>
                        <a:srgbClr val="0068ae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3366cc"/>
                          </a:solidFill>
                          <a:latin typeface="Arial"/>
                          <a:ea typeface="Times New Roman"/>
                        </a:rPr>
                        <a:t>7б, 7а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68ae"/>
                      </a:solidFill>
                    </a:lnL>
                    <a:lnR w="18720">
                      <a:solidFill>
                        <a:srgbClr val="0068ae"/>
                      </a:solidFill>
                    </a:lnR>
                    <a:lnT w="18720">
                      <a:solidFill>
                        <a:srgbClr val="0068ae"/>
                      </a:solidFill>
                    </a:lnT>
                    <a:lnB w="18720">
                      <a:solidFill>
                        <a:srgbClr val="0068ae"/>
                      </a:solidFill>
                    </a:lnB>
                    <a:solidFill>
                      <a:srgbClr val="e7efef"/>
                    </a:solidFill>
                  </a:tcPr>
                </a:tc>
              </a:tr>
              <a:tr h="911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3366cc"/>
                          </a:solidFill>
                          <a:latin typeface="Arial"/>
                          <a:ea typeface="Times New Roman"/>
                        </a:rPr>
                        <a:t>Вариант диеты с пониженной калорийностью «НКД»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68ae"/>
                      </a:solidFill>
                    </a:lnL>
                    <a:lnR w="18720">
                      <a:solidFill>
                        <a:srgbClr val="0068ae"/>
                      </a:solidFill>
                    </a:lnR>
                    <a:lnT w="18720">
                      <a:solidFill>
                        <a:srgbClr val="0068ae"/>
                      </a:solidFill>
                    </a:lnT>
                    <a:lnB w="18720">
                      <a:solidFill>
                        <a:srgbClr val="0068ae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3366cc"/>
                          </a:solidFill>
                          <a:latin typeface="Arial"/>
                          <a:ea typeface="Times New Roman"/>
                        </a:rPr>
                        <a:t>8, 8а, 8о, 9а, 10с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68ae"/>
                      </a:solidFill>
                    </a:lnL>
                    <a:lnR w="18720">
                      <a:solidFill>
                        <a:srgbClr val="0068ae"/>
                      </a:solidFill>
                    </a:lnR>
                    <a:lnT w="18720">
                      <a:solidFill>
                        <a:srgbClr val="0068ae"/>
                      </a:solidFill>
                    </a:lnT>
                    <a:lnB w="18720">
                      <a:solidFill>
                        <a:srgbClr val="0068ae"/>
                      </a:solidFill>
                    </a:lnB>
                    <a:solidFill>
                      <a:srgbClr val="cbdede"/>
                    </a:solidFill>
                  </a:tcPr>
                </a:tc>
              </a:tr>
            </a:tbl>
          </a:graphicData>
        </a:graphic>
      </p:graphicFrame>
      <p:sp>
        <p:nvSpPr>
          <p:cNvPr id="223" name="Прямоугольник 5"/>
          <p:cNvSpPr/>
          <p:nvPr/>
        </p:nvSpPr>
        <p:spPr>
          <a:xfrm>
            <a:off x="230040" y="1197000"/>
            <a:ext cx="8785440" cy="5545080"/>
          </a:xfrm>
          <a:prstGeom prst="rect">
            <a:avLst/>
          </a:prstGeom>
          <a:noFill/>
          <a:ln w="507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250920" y="278100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2000"/>
          </a:bodyPr>
          <a:p>
            <a:pPr marL="212400" indent="-212400">
              <a:spcAft>
                <a:spcPts val="2999"/>
              </a:spcAft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хирургические диеты и др.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12400" indent="-212400">
              <a:spcAft>
                <a:spcPts val="2999"/>
              </a:spcAft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специализированные диеты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12400" indent="-212400">
              <a:spcAft>
                <a:spcPts val="2999"/>
              </a:spcAft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разгрузочные диеты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12400" indent="-212400">
              <a:spcAft>
                <a:spcPts val="2999"/>
              </a:spcAft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специальные рационы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Прямоугольник 3"/>
          <p:cNvSpPr/>
          <p:nvPr/>
        </p:nvSpPr>
        <p:spPr>
          <a:xfrm>
            <a:off x="144360" y="115920"/>
            <a:ext cx="8964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ff99"/>
                </a:solidFill>
                <a:latin typeface="Arial"/>
              </a:rPr>
              <a:t>Наряду со стандартной основной диетой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ff99"/>
                </a:solidFill>
                <a:latin typeface="Arial"/>
              </a:rPr>
              <a:t>и её вариантами в учреждении здравоохранения в соответствии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ff99"/>
                </a:solidFill>
                <a:latin typeface="Arial"/>
              </a:rPr>
              <a:t>с их профилем используются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507520" cy="1009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ff99"/>
                </a:solidFill>
                <a:latin typeface="Arial"/>
              </a:rPr>
              <a:t>ХАРАКТЕРИСТИКА, ХИМИЧЕСКИЙ СОСТАВ, ЭНЕРГЕТИЧЕСКАЯ ЦЕННОСТЬ СТАНДАРТНЫХ ДИЕТ</a:t>
            </a:r>
            <a:br>
              <a:rPr sz="2400"/>
            </a:b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109440" y="1052640"/>
          <a:ext cx="8928360" cy="5688000"/>
        </p:xfrm>
        <a:graphic>
          <a:graphicData uri="http://schemas.openxmlformats.org/drawingml/2006/table">
            <a:tbl>
              <a:tblPr/>
              <a:tblGrid>
                <a:gridCol w="1244520"/>
                <a:gridCol w="3938760"/>
                <a:gridCol w="936720"/>
                <a:gridCol w="1008000"/>
                <a:gridCol w="863640"/>
                <a:gridCol w="936720"/>
              </a:tblGrid>
              <a:tr h="9345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Стандартные диет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8720">
                      <a:solidFill>
                        <a:srgbClr val="3366cc"/>
                      </a:solidFill>
                    </a:lnL>
                    <a:lnR w="18720">
                      <a:solidFill>
                        <a:srgbClr val="3366cc"/>
                      </a:solidFill>
                    </a:lnR>
                    <a:lnT w="18720">
                      <a:solidFill>
                        <a:srgbClr val="3366cc"/>
                      </a:solidFill>
                    </a:lnT>
                    <a:lnB w="18720">
                      <a:solidFill>
                        <a:srgbClr val="3366cc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Общая характеристик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8720">
                      <a:solidFill>
                        <a:srgbClr val="3366cc"/>
                      </a:solidFill>
                    </a:lnL>
                    <a:lnR w="18720">
                      <a:solidFill>
                        <a:srgbClr val="3366cc"/>
                      </a:solidFill>
                    </a:lnR>
                    <a:lnT w="18720">
                      <a:solidFill>
                        <a:srgbClr val="3366cc"/>
                      </a:solidFill>
                    </a:lnT>
                    <a:lnB w="18720">
                      <a:solidFill>
                        <a:srgbClr val="3366cc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Белк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8720">
                      <a:solidFill>
                        <a:srgbClr val="3366cc"/>
                      </a:solidFill>
                    </a:lnL>
                    <a:lnR w="18720">
                      <a:solidFill>
                        <a:srgbClr val="3366cc"/>
                      </a:solidFill>
                    </a:lnR>
                    <a:lnT w="18720">
                      <a:solidFill>
                        <a:srgbClr val="3366cc"/>
                      </a:solidFill>
                    </a:lnT>
                    <a:lnB w="18720">
                      <a:solidFill>
                        <a:srgbClr val="3366cc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Жир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8720">
                      <a:solidFill>
                        <a:srgbClr val="3366cc"/>
                      </a:solidFill>
                    </a:lnL>
                    <a:lnR w="18720">
                      <a:solidFill>
                        <a:srgbClr val="3366cc"/>
                      </a:solidFill>
                    </a:lnR>
                    <a:lnT w="18720">
                      <a:solidFill>
                        <a:srgbClr val="3366cc"/>
                      </a:solidFill>
                    </a:lnT>
                    <a:lnB w="18720">
                      <a:solidFill>
                        <a:srgbClr val="3366cc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Угле вод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8720">
                      <a:solidFill>
                        <a:srgbClr val="3366cc"/>
                      </a:solidFill>
                    </a:lnL>
                    <a:lnR w="18720">
                      <a:solidFill>
                        <a:srgbClr val="3366cc"/>
                      </a:solidFill>
                    </a:lnR>
                    <a:lnT w="18720">
                      <a:solidFill>
                        <a:srgbClr val="3366cc"/>
                      </a:solidFill>
                    </a:lnT>
                    <a:lnB w="18720">
                      <a:solidFill>
                        <a:srgbClr val="3366cc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Кка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8720">
                      <a:solidFill>
                        <a:srgbClr val="3366cc"/>
                      </a:solidFill>
                    </a:lnL>
                    <a:lnR w="18720">
                      <a:solidFill>
                        <a:srgbClr val="3366cc"/>
                      </a:solidFill>
                    </a:lnR>
                    <a:lnT w="18720">
                      <a:solidFill>
                        <a:srgbClr val="3366cc"/>
                      </a:solidFill>
                    </a:lnT>
                    <a:lnB w="18720">
                      <a:solidFill>
                        <a:srgbClr val="3366cc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10065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66cc"/>
                          </a:solidFill>
                          <a:latin typeface="Arial"/>
                          <a:ea typeface="Times New Roman"/>
                        </a:rPr>
                        <a:t>Диета 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3366cc"/>
                      </a:solidFill>
                    </a:lnL>
                    <a:lnR w="18720">
                      <a:solidFill>
                        <a:srgbClr val="3366cc"/>
                      </a:solidFill>
                    </a:lnR>
                    <a:lnT w="18720">
                      <a:solidFill>
                        <a:srgbClr val="3366cc"/>
                      </a:solidFill>
                    </a:lnT>
                    <a:lnB w="18720">
                      <a:solidFill>
                        <a:srgbClr val="3366cc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66cc"/>
                          </a:solidFill>
                          <a:latin typeface="Arial"/>
                          <a:ea typeface="Times New Roman"/>
                        </a:rPr>
                        <a:t>Базисная диета с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66cc"/>
                          </a:solidFill>
                          <a:latin typeface="Arial"/>
                          <a:ea typeface="Times New Roman"/>
                        </a:rPr>
                        <a:t>физиологическим содержанием Б, Ж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3366cc"/>
                      </a:solidFill>
                    </a:lnL>
                    <a:lnR w="18720">
                      <a:solidFill>
                        <a:srgbClr val="3366cc"/>
                      </a:solidFill>
                    </a:lnR>
                    <a:lnT w="18720">
                      <a:solidFill>
                        <a:srgbClr val="3366cc"/>
                      </a:solidFill>
                    </a:lnT>
                    <a:lnB w="18720">
                      <a:solidFill>
                        <a:srgbClr val="3366cc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66cc"/>
                          </a:solidFill>
                          <a:latin typeface="Arial"/>
                          <a:ea typeface="Times New Roman"/>
                        </a:rPr>
                        <a:t>85 - 9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3366cc"/>
                      </a:solidFill>
                    </a:lnL>
                    <a:lnR w="18720">
                      <a:solidFill>
                        <a:srgbClr val="3366cc"/>
                      </a:solidFill>
                    </a:lnR>
                    <a:lnT w="18720">
                      <a:solidFill>
                        <a:srgbClr val="3366cc"/>
                      </a:solidFill>
                    </a:lnT>
                    <a:lnB w="18720">
                      <a:solidFill>
                        <a:srgbClr val="3366cc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66cc"/>
                          </a:solidFill>
                          <a:latin typeface="Arial"/>
                          <a:ea typeface="Times New Roman"/>
                        </a:rPr>
                        <a:t>70 - 8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3366cc"/>
                      </a:solidFill>
                    </a:lnL>
                    <a:lnR w="18720">
                      <a:solidFill>
                        <a:srgbClr val="3366cc"/>
                      </a:solidFill>
                    </a:lnR>
                    <a:lnT w="18720">
                      <a:solidFill>
                        <a:srgbClr val="3366cc"/>
                      </a:solidFill>
                    </a:lnT>
                    <a:lnB w="18720">
                      <a:solidFill>
                        <a:srgbClr val="3366cc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66cc"/>
                          </a:solidFill>
                          <a:latin typeface="Arial"/>
                          <a:ea typeface="Times New Roman"/>
                        </a:rPr>
                        <a:t>300 - 33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3366cc"/>
                      </a:solidFill>
                    </a:lnL>
                    <a:lnR w="18720">
                      <a:solidFill>
                        <a:srgbClr val="3366cc"/>
                      </a:solidFill>
                    </a:lnR>
                    <a:lnT w="18720">
                      <a:solidFill>
                        <a:srgbClr val="3366cc"/>
                      </a:solidFill>
                    </a:lnT>
                    <a:lnB w="18720">
                      <a:solidFill>
                        <a:srgbClr val="3366cc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66cc"/>
                          </a:solidFill>
                          <a:latin typeface="Arial"/>
                          <a:ea typeface="Times New Roman"/>
                        </a:rPr>
                        <a:t>2170 - 24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3366cc"/>
                      </a:solidFill>
                    </a:lnL>
                    <a:lnR w="18720">
                      <a:solidFill>
                        <a:srgbClr val="3366cc"/>
                      </a:solidFill>
                    </a:lnR>
                    <a:lnT w="18720">
                      <a:solidFill>
                        <a:srgbClr val="3366cc"/>
                      </a:solidFill>
                    </a:lnT>
                    <a:lnB w="18720">
                      <a:solidFill>
                        <a:srgbClr val="3366cc"/>
                      </a:solidFill>
                    </a:lnB>
                    <a:solidFill>
                      <a:srgbClr val="cbdede"/>
                    </a:solidFill>
                  </a:tcPr>
                </a:tc>
              </a:tr>
              <a:tr h="10065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66cc"/>
                          </a:solidFill>
                          <a:latin typeface="Arial"/>
                          <a:ea typeface="Times New Roman"/>
                        </a:rPr>
                        <a:t>Диета 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3366cc"/>
                      </a:solidFill>
                    </a:lnL>
                    <a:lnR w="18720">
                      <a:solidFill>
                        <a:srgbClr val="3366cc"/>
                      </a:solidFill>
                    </a:lnR>
                    <a:lnT w="18720">
                      <a:solidFill>
                        <a:srgbClr val="3366cc"/>
                      </a:solidFill>
                    </a:lnT>
                    <a:lnB w="18720">
                      <a:solidFill>
                        <a:srgbClr val="3366cc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66cc"/>
                          </a:solidFill>
                          <a:latin typeface="Arial"/>
                          <a:ea typeface="Times New Roman"/>
                        </a:rPr>
                        <a:t>Вариант диеты с механическим, химическим и термическим щажением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3366cc"/>
                      </a:solidFill>
                    </a:lnL>
                    <a:lnR w="18720">
                      <a:solidFill>
                        <a:srgbClr val="3366cc"/>
                      </a:solidFill>
                    </a:lnR>
                    <a:lnT w="18720">
                      <a:solidFill>
                        <a:srgbClr val="3366cc"/>
                      </a:solidFill>
                    </a:lnT>
                    <a:lnB w="18720">
                      <a:solidFill>
                        <a:srgbClr val="3366cc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66cc"/>
                          </a:solidFill>
                          <a:latin typeface="Arial"/>
                          <a:ea typeface="Times New Roman"/>
                        </a:rPr>
                        <a:t>85 - 9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3366cc"/>
                      </a:solidFill>
                    </a:lnL>
                    <a:lnR w="18720">
                      <a:solidFill>
                        <a:srgbClr val="3366cc"/>
                      </a:solidFill>
                    </a:lnR>
                    <a:lnT w="18720">
                      <a:solidFill>
                        <a:srgbClr val="3366cc"/>
                      </a:solidFill>
                    </a:lnT>
                    <a:lnB w="18720">
                      <a:solidFill>
                        <a:srgbClr val="3366cc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66cc"/>
                          </a:solidFill>
                          <a:latin typeface="Arial"/>
                          <a:ea typeface="Times New Roman"/>
                        </a:rPr>
                        <a:t>70 - 8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3366cc"/>
                      </a:solidFill>
                    </a:lnL>
                    <a:lnR w="18720">
                      <a:solidFill>
                        <a:srgbClr val="3366cc"/>
                      </a:solidFill>
                    </a:lnR>
                    <a:lnT w="18720">
                      <a:solidFill>
                        <a:srgbClr val="3366cc"/>
                      </a:solidFill>
                    </a:lnT>
                    <a:lnB w="18720">
                      <a:solidFill>
                        <a:srgbClr val="3366cc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66cc"/>
                          </a:solidFill>
                          <a:latin typeface="Arial"/>
                          <a:ea typeface="Times New Roman"/>
                        </a:rPr>
                        <a:t>300 - 35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3366cc"/>
                      </a:solidFill>
                    </a:lnL>
                    <a:lnR w="18720">
                      <a:solidFill>
                        <a:srgbClr val="3366cc"/>
                      </a:solidFill>
                    </a:lnR>
                    <a:lnT w="18720">
                      <a:solidFill>
                        <a:srgbClr val="3366cc"/>
                      </a:solidFill>
                    </a:lnT>
                    <a:lnB w="18720">
                      <a:solidFill>
                        <a:srgbClr val="3366cc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66cc"/>
                          </a:solidFill>
                          <a:latin typeface="Arial"/>
                          <a:ea typeface="Times New Roman"/>
                        </a:rPr>
                        <a:t>2170 - 248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3366cc"/>
                      </a:solidFill>
                    </a:lnL>
                    <a:lnR w="18720">
                      <a:solidFill>
                        <a:srgbClr val="3366cc"/>
                      </a:solidFill>
                    </a:lnR>
                    <a:lnT w="18720">
                      <a:solidFill>
                        <a:srgbClr val="3366cc"/>
                      </a:solidFill>
                    </a:lnT>
                    <a:lnB w="18720">
                      <a:solidFill>
                        <a:srgbClr val="3366cc"/>
                      </a:solidFill>
                    </a:lnB>
                    <a:solidFill>
                      <a:srgbClr val="e7efef"/>
                    </a:solidFill>
                  </a:tcPr>
                </a:tc>
              </a:tr>
              <a:tr h="10065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66cc"/>
                          </a:solidFill>
                          <a:latin typeface="Arial"/>
                          <a:ea typeface="Times New Roman"/>
                        </a:rPr>
                        <a:t>Диета 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3366cc"/>
                      </a:solidFill>
                    </a:lnL>
                    <a:lnR w="18720">
                      <a:solidFill>
                        <a:srgbClr val="3366cc"/>
                      </a:solidFill>
                    </a:lnR>
                    <a:lnT w="18720">
                      <a:solidFill>
                        <a:srgbClr val="3366cc"/>
                      </a:solidFill>
                    </a:lnT>
                    <a:lnB w="18720">
                      <a:solidFill>
                        <a:srgbClr val="3366cc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66cc"/>
                          </a:solidFill>
                          <a:latin typeface="Arial"/>
                          <a:ea typeface="Times New Roman"/>
                        </a:rPr>
                        <a:t>Вариант диеты с повышенным количеством белк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3366cc"/>
                      </a:solidFill>
                    </a:lnL>
                    <a:lnR w="18720">
                      <a:solidFill>
                        <a:srgbClr val="3366cc"/>
                      </a:solidFill>
                    </a:lnR>
                    <a:lnT w="18720">
                      <a:solidFill>
                        <a:srgbClr val="3366cc"/>
                      </a:solidFill>
                    </a:lnT>
                    <a:lnB w="18720">
                      <a:solidFill>
                        <a:srgbClr val="3366cc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66cc"/>
                          </a:solidFill>
                          <a:latin typeface="Arial"/>
                          <a:ea typeface="Times New Roman"/>
                        </a:rPr>
                        <a:t>110 - 12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3366cc"/>
                      </a:solidFill>
                    </a:lnL>
                    <a:lnR w="18720">
                      <a:solidFill>
                        <a:srgbClr val="3366cc"/>
                      </a:solidFill>
                    </a:lnR>
                    <a:lnT w="18720">
                      <a:solidFill>
                        <a:srgbClr val="3366cc"/>
                      </a:solidFill>
                    </a:lnT>
                    <a:lnB w="18720">
                      <a:solidFill>
                        <a:srgbClr val="3366cc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66cc"/>
                          </a:solidFill>
                          <a:latin typeface="Arial"/>
                          <a:ea typeface="Times New Roman"/>
                        </a:rPr>
                        <a:t>80 - 9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3366cc"/>
                      </a:solidFill>
                    </a:lnL>
                    <a:lnR w="18720">
                      <a:solidFill>
                        <a:srgbClr val="3366cc"/>
                      </a:solidFill>
                    </a:lnR>
                    <a:lnT w="18720">
                      <a:solidFill>
                        <a:srgbClr val="3366cc"/>
                      </a:solidFill>
                    </a:lnT>
                    <a:lnB w="18720">
                      <a:solidFill>
                        <a:srgbClr val="3366cc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66cc"/>
                          </a:solidFill>
                          <a:latin typeface="Arial"/>
                          <a:ea typeface="Times New Roman"/>
                        </a:rPr>
                        <a:t>250 - 35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3366cc"/>
                      </a:solidFill>
                    </a:lnL>
                    <a:lnR w="18720">
                      <a:solidFill>
                        <a:srgbClr val="3366cc"/>
                      </a:solidFill>
                    </a:lnR>
                    <a:lnT w="18720">
                      <a:solidFill>
                        <a:srgbClr val="3366cc"/>
                      </a:solidFill>
                    </a:lnT>
                    <a:lnB w="18720">
                      <a:solidFill>
                        <a:srgbClr val="3366cc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66cc"/>
                          </a:solidFill>
                          <a:latin typeface="Arial"/>
                          <a:ea typeface="Times New Roman"/>
                        </a:rPr>
                        <a:t>2080 - 269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3366cc"/>
                      </a:solidFill>
                    </a:lnL>
                    <a:lnR w="18720">
                      <a:solidFill>
                        <a:srgbClr val="3366cc"/>
                      </a:solidFill>
                    </a:lnR>
                    <a:lnT w="18720">
                      <a:solidFill>
                        <a:srgbClr val="3366cc"/>
                      </a:solidFill>
                    </a:lnT>
                    <a:lnB w="18720">
                      <a:solidFill>
                        <a:srgbClr val="3366cc"/>
                      </a:solidFill>
                    </a:lnB>
                    <a:solidFill>
                      <a:srgbClr val="cbdede"/>
                    </a:solidFill>
                  </a:tcPr>
                </a:tc>
              </a:tr>
              <a:tr h="10065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66cc"/>
                          </a:solidFill>
                          <a:latin typeface="Arial"/>
                          <a:ea typeface="Times New Roman"/>
                        </a:rPr>
                        <a:t>Диета 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3366cc"/>
                      </a:solidFill>
                    </a:lnL>
                    <a:lnR w="18720">
                      <a:solidFill>
                        <a:srgbClr val="3366cc"/>
                      </a:solidFill>
                    </a:lnR>
                    <a:lnT w="18720">
                      <a:solidFill>
                        <a:srgbClr val="3366cc"/>
                      </a:solidFill>
                    </a:lnT>
                    <a:lnB w="18720">
                      <a:solidFill>
                        <a:srgbClr val="3366cc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66cc"/>
                          </a:solidFill>
                          <a:latin typeface="Arial"/>
                          <a:ea typeface="Times New Roman"/>
                        </a:rPr>
                        <a:t>Вариант диеты с пониженным количеством белк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3366cc"/>
                      </a:solidFill>
                    </a:lnL>
                    <a:lnR w="18720">
                      <a:solidFill>
                        <a:srgbClr val="3366cc"/>
                      </a:solidFill>
                    </a:lnR>
                    <a:lnT w="18720">
                      <a:solidFill>
                        <a:srgbClr val="3366cc"/>
                      </a:solidFill>
                    </a:lnT>
                    <a:lnB w="18720">
                      <a:solidFill>
                        <a:srgbClr val="3366cc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66cc"/>
                          </a:solidFill>
                          <a:latin typeface="Arial"/>
                          <a:ea typeface="Times New Roman"/>
                        </a:rPr>
                        <a:t>20 - 6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3366cc"/>
                      </a:solidFill>
                    </a:lnL>
                    <a:lnR w="18720">
                      <a:solidFill>
                        <a:srgbClr val="3366cc"/>
                      </a:solidFill>
                    </a:lnR>
                    <a:lnT w="18720">
                      <a:solidFill>
                        <a:srgbClr val="3366cc"/>
                      </a:solidFill>
                    </a:lnT>
                    <a:lnB w="18720">
                      <a:solidFill>
                        <a:srgbClr val="3366cc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66cc"/>
                          </a:solidFill>
                          <a:latin typeface="Arial"/>
                          <a:ea typeface="Times New Roman"/>
                        </a:rPr>
                        <a:t>80 - 9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3366cc"/>
                      </a:solidFill>
                    </a:lnL>
                    <a:lnR w="18720">
                      <a:solidFill>
                        <a:srgbClr val="3366cc"/>
                      </a:solidFill>
                    </a:lnR>
                    <a:lnT w="18720">
                      <a:solidFill>
                        <a:srgbClr val="3366cc"/>
                      </a:solidFill>
                    </a:lnT>
                    <a:lnB w="18720">
                      <a:solidFill>
                        <a:srgbClr val="3366cc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66cc"/>
                          </a:solidFill>
                          <a:latin typeface="Arial"/>
                          <a:ea typeface="Times New Roman"/>
                        </a:rPr>
                        <a:t>350 - 4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3366cc"/>
                      </a:solidFill>
                    </a:lnL>
                    <a:lnR w="18720">
                      <a:solidFill>
                        <a:srgbClr val="3366cc"/>
                      </a:solidFill>
                    </a:lnR>
                    <a:lnT w="18720">
                      <a:solidFill>
                        <a:srgbClr val="3366cc"/>
                      </a:solidFill>
                    </a:lnT>
                    <a:lnB w="18720">
                      <a:solidFill>
                        <a:srgbClr val="3366cc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66cc"/>
                          </a:solidFill>
                          <a:latin typeface="Arial"/>
                          <a:ea typeface="Times New Roman"/>
                        </a:rPr>
                        <a:t>2120 - 265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3366cc"/>
                      </a:solidFill>
                    </a:lnL>
                    <a:lnR w="18720">
                      <a:solidFill>
                        <a:srgbClr val="3366cc"/>
                      </a:solidFill>
                    </a:lnR>
                    <a:lnT w="18720">
                      <a:solidFill>
                        <a:srgbClr val="3366cc"/>
                      </a:solidFill>
                    </a:lnT>
                    <a:lnB w="18720">
                      <a:solidFill>
                        <a:srgbClr val="3366cc"/>
                      </a:solidFill>
                    </a:lnB>
                    <a:solidFill>
                      <a:srgbClr val="e7efef"/>
                    </a:solidFill>
                  </a:tcPr>
                </a:tc>
              </a:tr>
              <a:tr h="7272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66cc"/>
                          </a:solidFill>
                          <a:latin typeface="Arial"/>
                          <a:ea typeface="Times New Roman"/>
                        </a:rPr>
                        <a:t>Диета 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3366cc"/>
                      </a:solidFill>
                    </a:lnL>
                    <a:lnR w="18720">
                      <a:solidFill>
                        <a:srgbClr val="3366cc"/>
                      </a:solidFill>
                    </a:lnR>
                    <a:lnT w="18720">
                      <a:solidFill>
                        <a:srgbClr val="3366cc"/>
                      </a:solidFill>
                    </a:lnT>
                    <a:lnB w="18720">
                      <a:solidFill>
                        <a:srgbClr val="3366cc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66cc"/>
                          </a:solidFill>
                          <a:latin typeface="Arial"/>
                          <a:ea typeface="Times New Roman"/>
                        </a:rPr>
                        <a:t>Вариант диеты с пониженной калорийностью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3366cc"/>
                      </a:solidFill>
                    </a:lnL>
                    <a:lnR w="18720">
                      <a:solidFill>
                        <a:srgbClr val="3366cc"/>
                      </a:solidFill>
                    </a:lnR>
                    <a:lnT w="18720">
                      <a:solidFill>
                        <a:srgbClr val="3366cc"/>
                      </a:solidFill>
                    </a:lnT>
                    <a:lnB w="18720">
                      <a:solidFill>
                        <a:srgbClr val="3366cc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66cc"/>
                          </a:solidFill>
                          <a:latin typeface="Arial"/>
                          <a:ea typeface="Times New Roman"/>
                        </a:rPr>
                        <a:t>70 - 8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3366cc"/>
                      </a:solidFill>
                    </a:lnL>
                    <a:lnR w="18720">
                      <a:solidFill>
                        <a:srgbClr val="3366cc"/>
                      </a:solidFill>
                    </a:lnR>
                    <a:lnT w="18720">
                      <a:solidFill>
                        <a:srgbClr val="3366cc"/>
                      </a:solidFill>
                    </a:lnT>
                    <a:lnB w="18720">
                      <a:solidFill>
                        <a:srgbClr val="3366cc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66cc"/>
                          </a:solidFill>
                          <a:latin typeface="Arial"/>
                          <a:ea typeface="Times New Roman"/>
                        </a:rPr>
                        <a:t>60 - 7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3366cc"/>
                      </a:solidFill>
                    </a:lnL>
                    <a:lnR w="18720">
                      <a:solidFill>
                        <a:srgbClr val="3366cc"/>
                      </a:solidFill>
                    </a:lnR>
                    <a:lnT w="18720">
                      <a:solidFill>
                        <a:srgbClr val="3366cc"/>
                      </a:solidFill>
                    </a:lnT>
                    <a:lnB w="18720">
                      <a:solidFill>
                        <a:srgbClr val="3366cc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66cc"/>
                          </a:solidFill>
                          <a:latin typeface="Arial"/>
                          <a:ea typeface="Times New Roman"/>
                        </a:rPr>
                        <a:t>130 - 15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3366cc"/>
                      </a:solidFill>
                    </a:lnL>
                    <a:lnR w="18720">
                      <a:solidFill>
                        <a:srgbClr val="3366cc"/>
                      </a:solidFill>
                    </a:lnR>
                    <a:lnT w="18720">
                      <a:solidFill>
                        <a:srgbClr val="3366cc"/>
                      </a:solidFill>
                    </a:lnT>
                    <a:lnB w="18720">
                      <a:solidFill>
                        <a:srgbClr val="3366cc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66cc"/>
                          </a:solidFill>
                          <a:latin typeface="Arial"/>
                          <a:ea typeface="Times New Roman"/>
                        </a:rPr>
                        <a:t>1340 - 155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3366cc"/>
                      </a:solidFill>
                    </a:lnL>
                    <a:lnR w="18720">
                      <a:solidFill>
                        <a:srgbClr val="3366cc"/>
                      </a:solidFill>
                    </a:lnR>
                    <a:lnT w="18720">
                      <a:solidFill>
                        <a:srgbClr val="3366cc"/>
                      </a:solidFill>
                    </a:lnT>
                    <a:lnB w="18720">
                      <a:solidFill>
                        <a:srgbClr val="3366cc"/>
                      </a:solidFill>
                    </a:lnB>
                    <a:solidFill>
                      <a:srgbClr val="cbdede"/>
                    </a:solidFill>
                  </a:tcPr>
                </a:tc>
              </a:tr>
            </a:tbl>
          </a:graphicData>
        </a:graphic>
      </p:graphicFrame>
      <p:sp>
        <p:nvSpPr>
          <p:cNvPr id="228" name="Прямоугольник 5"/>
          <p:cNvSpPr/>
          <p:nvPr/>
        </p:nvSpPr>
        <p:spPr>
          <a:xfrm>
            <a:off x="108000" y="1052640"/>
            <a:ext cx="8928000" cy="5689440"/>
          </a:xfrm>
          <a:prstGeom prst="rect">
            <a:avLst/>
          </a:prstGeom>
          <a:noFill/>
          <a:ln w="507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179280" y="1341360"/>
            <a:ext cx="896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Aft>
                <a:spcPts val="3600"/>
              </a:spcAft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беспечить организм полноценным питанием в условиях распада белков, ухудшения обмена жиров и углеводов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Aft>
                <a:spcPts val="3600"/>
              </a:spcAft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высить сопротивляемость организма                к инфекциям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Aft>
                <a:spcPts val="3600"/>
              </a:spcAft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пособствовать нормализации обмена веществ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Aft>
                <a:spcPts val="3600"/>
              </a:spcAft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одействовать восстановлению ткане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Прямоугольник 3"/>
          <p:cNvSpPr/>
          <p:nvPr/>
        </p:nvSpPr>
        <p:spPr>
          <a:xfrm>
            <a:off x="1221840" y="115920"/>
            <a:ext cx="68115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ccff99"/>
                </a:solidFill>
                <a:latin typeface="Arial"/>
              </a:rPr>
              <a:t>Задачи диетотерапии: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2" descr="C:\Users\1\Desktop\картинки\orgasmicchildbirth2.jpg"/>
          <p:cNvPicPr/>
          <p:nvPr/>
        </p:nvPicPr>
        <p:blipFill>
          <a:blip r:embed="rId1"/>
          <a:stretch/>
        </p:blipFill>
        <p:spPr>
          <a:xfrm>
            <a:off x="1535040" y="2565360"/>
            <a:ext cx="6497640" cy="4103640"/>
          </a:xfrm>
          <a:prstGeom prst="rect">
            <a:avLst/>
          </a:prstGeom>
          <a:ln w="50760">
            <a:solidFill>
              <a:srgbClr val="ccff99"/>
            </a:solidFill>
            <a:miter/>
          </a:ln>
        </p:spPr>
      </p:pic>
      <p:sp>
        <p:nvSpPr>
          <p:cNvPr id="232" name="Прямоугольник 3"/>
          <p:cNvSpPr/>
          <p:nvPr/>
        </p:nvSpPr>
        <p:spPr>
          <a:xfrm>
            <a:off x="0" y="249120"/>
            <a:ext cx="9252000" cy="21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ffff"/>
                </a:solidFill>
                <a:latin typeface="Arial"/>
              </a:rPr>
              <a:t>Питание пациента строится на основе физиологических потребностей                 в пищевых веществах и энергии здорового человека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рямоугольник 1"/>
          <p:cNvSpPr/>
          <p:nvPr/>
        </p:nvSpPr>
        <p:spPr>
          <a:xfrm>
            <a:off x="0" y="249120"/>
            <a:ext cx="925200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Особенно демонстративно значение диетической терапии в лечении и вторичной профилактике заболеваний системы пищеварения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4" name="Picture 2" descr="C:\Users\1\Desktop\картинки\1308130318,050344_54.jpg"/>
          <p:cNvPicPr/>
          <p:nvPr/>
        </p:nvPicPr>
        <p:blipFill>
          <a:blip r:embed="rId1"/>
          <a:stretch/>
        </p:blipFill>
        <p:spPr>
          <a:xfrm>
            <a:off x="1349280" y="2349360"/>
            <a:ext cx="6553440" cy="4364280"/>
          </a:xfrm>
          <a:prstGeom prst="rect">
            <a:avLst/>
          </a:prstGeom>
          <a:ln w="50760">
            <a:solidFill>
              <a:srgbClr val="ccff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8T15:33:16Z</dcterms:created>
  <dc:creator>Александр</dc:creator>
  <dc:description/>
  <dc:language>en-US</dc:language>
  <cp:lastModifiedBy>ОПСА</cp:lastModifiedBy>
  <dcterms:modified xsi:type="dcterms:W3CDTF">2011-11-03T04:39:29Z</dcterms:modified>
  <cp:revision>57</cp:revision>
  <dc:subject/>
  <dc:title>ЗДРАВСТВУЙТЕ</dc:title>
</cp:coreProperties>
</file>