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2.wmf" ContentType="image/x-wmf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3916-1826-466C-9BC6-575159201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3E45-E0CF-43EF-929B-9AB9B2C1A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5119-0979-42FF-AAEC-383A9419E1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0716-8198-4F41-979A-C8D9F5B24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3A3-F428-4123-AD7A-9C2E2353D6A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5840" y="38088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FA3A-EDDE-403F-85AF-A7017619E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53D-7B74-44D3-BD48-4DA2B0E1CD7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5840" y="38088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25480" y="4343400"/>
            <a:ext cx="520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703-B6EC-4628-84F2-E362417B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8DD-49E8-48CF-A51E-54AC4E7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C7B-781E-45A9-9C96-E47E022A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CDD-8E48-47B7-86D3-CFD36AAC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E1D-65C3-462A-B290-6EDDEDF5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37AF-4002-46CA-8950-51B8D581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4CE-AE14-40DF-A0BA-CAB2EB7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CDD3-C5EF-4AD3-ACD5-DCA45BDE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5F06-5DE4-48CF-8993-F94C0A52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21D0-83F1-4D0E-B3BF-D64AB89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59AC-8731-4060-BDDE-8816EA3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EB0-EBE3-4CAC-A83B-0FECC0D2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8EBA-478A-4225-8AEB-7D8CB5A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21C3-14AC-4C00-806F-7B7A52E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620E-5A65-425B-A44B-EF9E7059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CE3D-2F58-4C31-8C7D-560BE559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F7C4-1E50-4D0C-B152-D63DAC75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CD9-DD9D-4711-8D70-F53A1804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713-0C54-4A4C-AF83-DA736E9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0A5-88DA-4889-BF16-4CF7D630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C34-62D0-428A-8390-335BAFE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F53-3FD0-449C-B8FD-3503D18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634-3CDF-49A6-A066-D811A097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7A1-2750-4358-AFAC-ABD70F7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B19F-C149-415F-9499-BCF44CD32D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9D5E-AB07-48AC-AEAD-C35B7BE9D98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6043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временные аспекты лечебного пит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863280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Фрис Илья Викторович,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ra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ководитель представительства ООО "Б.Браун Медикал" по г.Омску и Омской обла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ждые 30 мину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ять скорость введения энтеральной смес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ждый ча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ять исправность работы дозато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ждые 3-4 ча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ть наличие остаточного объема в желуд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ждые 4 ча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ий мониторинг функций АД , ЧСС, пополнение смеси в контейнер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ждые 8 часо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введено \выведено жидк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дение учетной кар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254600" y="0"/>
            <a:ext cx="734796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язанности медицинской сестр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 проведении энтераль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ондового питан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258920" y="18900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АРЕ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250920" y="2060640"/>
            <a:ext cx="4752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B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: невозможность энтерального питания более 24 часов или его недостаточная эффектив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2816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179800" cy="440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amino_buttle"/>
          <p:cNvPicPr/>
          <p:nvPr/>
        </p:nvPicPr>
        <p:blipFill>
          <a:blip r:embed="rId2"/>
          <a:stretch/>
        </p:blipFill>
        <p:spPr>
          <a:xfrm>
            <a:off x="539640" y="1844640"/>
            <a:ext cx="3157560" cy="1951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вое н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авление в клиническом питан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851280" y="3357720"/>
            <a:ext cx="1365120" cy="0"/>
          </a:xfrm>
          <a:prstGeom prst="line">
            <a:avLst/>
          </a:prstGeom>
          <a:ln w="1144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841480" y="5532480"/>
            <a:ext cx="349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562720" y="5157720"/>
            <a:ext cx="358128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х камерные многокомпонентные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Нутрифлес Лип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11280" y="5300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547640" y="141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224000" y="3962880"/>
            <a:ext cx="1944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инокисло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юкоз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ли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+ Жи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6012000" y="3789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630072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300720" y="2133720"/>
            <a:ext cx="2087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инокисло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юкоз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ли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Жировая эмульс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91840" y="214200"/>
            <a:ext cx="745164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a4f76"/>
                </a:solidFill>
                <a:latin typeface="Tahoma"/>
              </a:rPr>
              <a:t>Преимущества систем все в одном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882720" y="6546960"/>
            <a:ext cx="253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C152-4AAE-4E08-B88B-CED2B0A6BFC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39640" y="2060640"/>
            <a:ext cx="5832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инимум манипуляций с емкостями, содержащими питательные субстр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276720" y="321300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Экономия времени медицинской сестр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4724280"/>
            <a:ext cx="62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Экономия расходных материалов и технических средств (инфузионных систем, насосов-инфузомат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0" descr="1"/>
          <p:cNvPicPr/>
          <p:nvPr/>
        </p:nvPicPr>
        <p:blipFill>
          <a:blip r:embed="rId1"/>
          <a:stretch/>
        </p:blipFill>
        <p:spPr>
          <a:xfrm>
            <a:off x="7164360" y="2205000"/>
            <a:ext cx="1360440" cy="1914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formas-de-ahorrar"/>
          <p:cNvPicPr/>
          <p:nvPr/>
        </p:nvPicPr>
        <p:blipFill>
          <a:blip r:embed="rId2"/>
          <a:stretch/>
        </p:blipFill>
        <p:spPr>
          <a:xfrm>
            <a:off x="6732720" y="4365720"/>
            <a:ext cx="1977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liennummernplatzhalter 3"/>
          <p:cNvSpPr/>
          <p:nvPr/>
        </p:nvSpPr>
        <p:spPr>
          <a:xfrm>
            <a:off x="882720" y="6546960"/>
            <a:ext cx="253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74DB-13E2-4E41-8C50-58D266FDFF6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4560" y="83628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4f76"/>
                </a:solidFill>
                <a:latin typeface="Tahoma"/>
                <a:ea typeface="Arial"/>
              </a:rPr>
              <a:t>Уникальный физиологический баланс белков, небелковых калорий и жидк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0" name="Rectangle 6"/>
          <p:cNvGrpSpPr/>
          <p:nvPr/>
        </p:nvGrpSpPr>
        <p:grpSpPr>
          <a:xfrm>
            <a:off x="3975120" y="2127240"/>
            <a:ext cx="6473880" cy="4224240"/>
            <a:chOff x="3975120" y="2127240"/>
            <a:chExt cx="6473880" cy="4224240"/>
          </a:xfrm>
        </p:grpSpPr>
        <p:pic>
          <p:nvPicPr>
            <p:cNvPr id="211" name="Rectangle 6" descr=""/>
            <p:cNvPicPr/>
            <p:nvPr/>
          </p:nvPicPr>
          <p:blipFill>
            <a:blip r:embed="rId1"/>
            <a:stretch/>
          </p:blipFill>
          <p:spPr>
            <a:xfrm>
              <a:off x="3975120" y="2127240"/>
              <a:ext cx="647388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140360" y="2205000"/>
              <a:ext cx="4679640" cy="40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дивидуальность подхода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еспечивается различными вариантами контейнеров разного объем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от 1л до 2л) и концентрации: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0/8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8/15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70/18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7030a0"/>
                  </a:solidFill>
                  <a:latin typeface="Arial"/>
                  <a:ea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3" name="Picture 1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527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Скорость введения Нутрифлекса Липид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от 6 до 13 часов)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2133720"/>
          <a:ext cx="8497800" cy="4346280"/>
        </p:xfrm>
        <a:graphic>
          <a:graphicData uri="http://schemas.openxmlformats.org/drawingml/2006/table">
            <a:tbl>
              <a:tblPr/>
              <a:tblGrid>
                <a:gridCol w="3166920"/>
                <a:gridCol w="1873440"/>
                <a:gridCol w="1800000"/>
                <a:gridCol w="1657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ксимальная скорость инфузии (мл\к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тела 50 кг (мл\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тела 80 кг (мл\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рифлекс 4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 лип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рифлекс 4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 лип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рифлекс 7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 лип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Особенности венозного доступа 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8360" y="2133720"/>
          <a:ext cx="7920000" cy="3551040"/>
        </p:xfrm>
        <a:graphic>
          <a:graphicData uri="http://schemas.openxmlformats.org/drawingml/2006/table">
            <a:tbl>
              <a:tblPr/>
              <a:tblGrid>
                <a:gridCol w="3598920"/>
                <a:gridCol w="43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нозный досту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рифлекс 4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 лип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иферическая в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рифлекс 4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 лип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ентральная в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рифлекс 7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 лип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ентральная в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словия хра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ранение при комнатной температуре (в несмешанном вид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мешанном виде может хранитьс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температур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 – 8 °С  - в течение   4 суток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5 °С  - в течение 48 часов      в защищенном от света мест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liennummernplatzhalter 3"/>
          <p:cNvSpPr/>
          <p:nvPr/>
        </p:nvSpPr>
        <p:spPr>
          <a:xfrm>
            <a:off x="882720" y="6546960"/>
            <a:ext cx="253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29A-5F10-49E7-9A19-15F06D821D3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0581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d9d9d9"/>
            </a:solidFill>
            <a:miter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a4f76"/>
                </a:solidFill>
                <a:latin typeface="Tahoma"/>
              </a:rPr>
              <a:t>Правильное решение может быть простым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971640" y="1631880"/>
            <a:ext cx="71262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5905800" cy="7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ЛЕЧЕБНОЕ ПИТ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154764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54764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979640" y="2349360"/>
            <a:ext cx="640872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556000" y="2997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916360" y="3284640"/>
            <a:ext cx="57974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туральные продукты пит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55600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2916360" y="3860640"/>
            <a:ext cx="5797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ециализированные продукты пит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55600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124000" y="522936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АРЕ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547640" y="558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1332000" y="69228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692360" y="1989000"/>
            <a:ext cx="57974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туральные продукты пит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Object 8"/>
          <p:cNvGraphicFramePr/>
          <p:nvPr/>
        </p:nvGraphicFramePr>
        <p:xfrm>
          <a:off x="1403280" y="2565360"/>
          <a:ext cx="244800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244800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"/>
          <p:cNvGraphicFramePr/>
          <p:nvPr/>
        </p:nvGraphicFramePr>
        <p:xfrm>
          <a:off x="4643280" y="2565360"/>
          <a:ext cx="356256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565360"/>
                    <a:ext cx="35625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3"/>
          <p:cNvSpPr/>
          <p:nvPr/>
        </p:nvSpPr>
        <p:spPr>
          <a:xfrm>
            <a:off x="684360" y="5661000"/>
            <a:ext cx="91440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1619280" y="5589720"/>
            <a:ext cx="73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Белки, жиры и углеводы в виде макромолекул, что требует их ферментации перед всасыванием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332000" y="69228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19280" y="1916280"/>
            <a:ext cx="6408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ециализированные продукты пит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619280" y="5589720"/>
            <a:ext cx="73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Белки, жиры и углеводы в частично ферментированном виде, всасывается быстро и в полном объеме. А также витамины и минералы в среднесуточной потреб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2411280" y="3068640"/>
            <a:ext cx="798480" cy="1798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2"/>
          <a:stretch/>
        </p:blipFill>
        <p:spPr>
          <a:xfrm>
            <a:off x="3274920" y="3068640"/>
            <a:ext cx="792360" cy="179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3"/>
          <a:stretch/>
        </p:blipFill>
        <p:spPr>
          <a:xfrm>
            <a:off x="4127400" y="3068640"/>
            <a:ext cx="743040" cy="179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768240" cy="179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5"/>
          <a:stretch/>
        </p:blipFill>
        <p:spPr>
          <a:xfrm>
            <a:off x="5722920" y="3068640"/>
            <a:ext cx="773280" cy="17985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5"/>
          <p:cNvSpPr/>
          <p:nvPr/>
        </p:nvSpPr>
        <p:spPr>
          <a:xfrm>
            <a:off x="539640" y="5300640"/>
            <a:ext cx="914400" cy="914400"/>
          </a:xfrm>
          <a:prstGeom prst="plus">
            <a:avLst>
              <a:gd name="adj" fmla="val 364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971640" y="26028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619280" y="981000"/>
            <a:ext cx="712944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ециализированные продукты питания: примен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116000" y="2276640"/>
            <a:ext cx="316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2987280" y="1916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4"/>
          <p:cNvSpPr/>
          <p:nvPr/>
        </p:nvSpPr>
        <p:spPr>
          <a:xfrm flipH="1">
            <a:off x="2050920" y="2708280"/>
            <a:ext cx="433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4932360" y="2276640"/>
            <a:ext cx="3168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через зон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5219640" y="1916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6300720" y="270828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18"/>
          <p:cNvGraphicFramePr/>
          <p:nvPr/>
        </p:nvGraphicFramePr>
        <p:xfrm>
          <a:off x="0" y="2997360"/>
          <a:ext cx="23400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97360"/>
                    <a:ext cx="23400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0"/>
          <p:cNvGraphicFramePr/>
          <p:nvPr/>
        </p:nvGraphicFramePr>
        <p:xfrm>
          <a:off x="2843280" y="2997360"/>
          <a:ext cx="1658880" cy="24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997360"/>
                    <a:ext cx="165888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23"/>
          <p:cNvSpPr/>
          <p:nvPr/>
        </p:nvSpPr>
        <p:spPr>
          <a:xfrm>
            <a:off x="2700360" y="2708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24"/>
          <p:cNvGraphicFramePr/>
          <p:nvPr/>
        </p:nvGraphicFramePr>
        <p:xfrm>
          <a:off x="5724360" y="2997360"/>
          <a:ext cx="216864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997360"/>
                    <a:ext cx="2168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11280" y="18900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42920" y="981000"/>
            <a:ext cx="8101080" cy="50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пециализированные продукты питания: виды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00000" y="1989000"/>
            <a:ext cx="41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УТРИКОМП Стандар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69840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692360" y="5300640"/>
            <a:ext cx="720720" cy="1557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3276720" y="2708280"/>
            <a:ext cx="525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еспециализированная смесь без пищевых волок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41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673200" cy="158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4"/>
          <p:cNvSpPr/>
          <p:nvPr/>
        </p:nvSpPr>
        <p:spPr>
          <a:xfrm>
            <a:off x="1403280" y="3500280"/>
            <a:ext cx="403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УТРИКОМП Файб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2340000" y="5373720"/>
            <a:ext cx="388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УТРИКОМП Диаб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2700360" y="4437000"/>
            <a:ext cx="644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 пищевыми волокнами: при АБ-терапии, парезах кишечника, длительном энт. пит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9"/>
          <p:cNvSpPr/>
          <p:nvPr/>
        </p:nvSpPr>
        <p:spPr>
          <a:xfrm>
            <a:off x="3814920" y="6165720"/>
            <a:ext cx="532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 СД; поражении ГМ: инсульт, ЧМТ, эклампсия; длительная ИВ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11280" y="18900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042920" y="981000"/>
            <a:ext cx="7921800" cy="50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пециализированные продукты питания: виды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03280" y="220500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УТРИКОМП Ге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57924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1763640" y="4292640"/>
            <a:ext cx="46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УТРИКОМП Иммун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17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663480" cy="1710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9"/>
          <p:cNvSpPr/>
          <p:nvPr/>
        </p:nvSpPr>
        <p:spPr>
          <a:xfrm>
            <a:off x="3022560" y="3213000"/>
            <a:ext cx="6121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 печеночной недостаточности любого ген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3022560" y="5589720"/>
            <a:ext cx="6121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 сепсисе, политравмах, тяж. панкреатите, обширных хирургических  вмешательст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11280" y="189000"/>
            <a:ext cx="6408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НТЕРА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907920"/>
            <a:ext cx="81010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пециализированные продукты питания: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хнология приме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475000" cy="1314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2"/>
          <a:stretch/>
        </p:blipFill>
        <p:spPr>
          <a:xfrm>
            <a:off x="6227640" y="2394000"/>
            <a:ext cx="1270080" cy="44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"/>
          <p:cNvPicPr/>
          <p:nvPr/>
        </p:nvPicPr>
        <p:blipFill>
          <a:blip r:embed="rId3"/>
          <a:stretch/>
        </p:blipFill>
        <p:spPr>
          <a:xfrm rot="10800000">
            <a:off x="4067280" y="2133360"/>
            <a:ext cx="76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114200" y="196920"/>
            <a:ext cx="780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корость  энтеральной смес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 проведении зондового вариант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нтерального пи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03160" y="1473120"/>
            <a:ext cx="914400" cy="20890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0 мл в час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4"/>
          <p:cNvSpPr/>
          <p:nvPr/>
        </p:nvSpPr>
        <p:spPr>
          <a:xfrm rot="5400000">
            <a:off x="4042800" y="2014560"/>
            <a:ext cx="914400" cy="316836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5 мл в час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15"/>
          <p:cNvSpPr/>
          <p:nvPr/>
        </p:nvSpPr>
        <p:spPr>
          <a:xfrm rot="5400000">
            <a:off x="4583160" y="2625480"/>
            <a:ext cx="914400" cy="424800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0 мл в час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16"/>
          <p:cNvSpPr/>
          <p:nvPr/>
        </p:nvSpPr>
        <p:spPr>
          <a:xfrm rot="5400000">
            <a:off x="5374800" y="2985840"/>
            <a:ext cx="914400" cy="583236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5 мл в час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539640" y="2133720"/>
            <a:ext cx="19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-е су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539640" y="3213000"/>
            <a:ext cx="19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-е су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539640" y="4221000"/>
            <a:ext cx="194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-е су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684360" y="5516640"/>
            <a:ext cx="194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-е сутк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последующ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7:32:32Z</dcterms:created>
  <dc:creator>Mayorov</dc:creator>
  <dc:description/>
  <dc:language>en-US</dc:language>
  <cp:lastModifiedBy>ОПСА</cp:lastModifiedBy>
  <dcterms:modified xsi:type="dcterms:W3CDTF">2011-11-03T04:39:59Z</dcterms:modified>
  <cp:revision>58</cp:revision>
  <dc:subject/>
  <dc:title>Современные аспекты лечебного питания</dc:title>
</cp:coreProperties>
</file>