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43c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9E78-12A0-43D4-8FF7-01D8EC3E7B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0281-4BD9-40FE-87E0-0FDFB32EF6E9}" type="slidenum">
              <a:rPr b="0" lang="ru-RU" sz="1200" spc="-1" strike="noStrike">
                <a:solidFill>
                  <a:srgbClr val="0084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843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F7BF-19A8-4CBE-BBCC-BC5523424027}" type="slidenum">
              <a:rPr b="0" lang="ru-RU" sz="1200" spc="-1" strike="noStrike">
                <a:solidFill>
                  <a:srgbClr val="00843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843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706-35F7-4C93-A37D-FA124657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157-6C88-497B-B69A-F68850CA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4E1-8D18-443A-B937-18559F78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567-7EE1-450B-812A-068A09C3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82D7-125B-4226-8610-79F20E10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50C6-815E-4E0F-A381-A25BEDF6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0A30-C6D3-4F4F-8CF2-FFCD73AD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7A79-698E-48A9-B703-3E33D2DD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01EB-3F4D-4814-AFCE-F2B71CD7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E26B-4E56-4AE3-BBFD-9DA0C7FF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AD3A-1270-4F2E-8EE7-8AFF9308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E32-DA1C-4987-8C37-FB959965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5C57-21DE-445A-9E95-3C32096E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EC07-8AAD-4A5F-B094-ED018BE6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BED3-AAF4-4313-AA1A-9A1D4827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81FC-F5EE-4D4E-86A9-E894DE40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CADE-0FF3-4C0B-BA74-76BA17B7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37AD-61EB-4C9E-BA91-6164498B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CFAB-7AAA-496C-B10F-6B6E399A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3654-FD8B-49DE-AA42-E9C6160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4D1A-B17D-4057-8DFB-C595C19E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71E13-B798-41F3-8C7C-9AE7F94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CAA-4CE4-4903-8D6B-46747E91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43D2A-A04E-47C0-AA55-25F8144B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E031-B525-4720-B5DB-D08B11C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9545-46BE-4D29-8727-2FCB1F04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9083-4DC3-46B1-84F2-A56E296F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DF54-5420-4E1E-866B-4919B114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5C233-762B-4750-842F-062CA73E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F2ED-C401-48EB-BE1B-8A829E50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2099-0C57-4E4A-823D-2B2D2DEE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C958-B690-4E05-9980-FBF0705E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5D16F-51E0-4A0B-AA1D-9C444727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B0B-31E5-4791-B315-99666C91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3C0D-5147-489C-9DBF-19949A53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57B5-89F9-4C4B-821D-65CF476F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D36C-2958-4E0D-8E91-6246CAD8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282B-7834-4A5B-8ED7-7808D0A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685B-AA63-4D18-9FEA-A0A6E37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9FFDF-3B51-49E8-9828-A999059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8D2E9-AE21-4317-9CE9-30992DC6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B83A2-9ED4-4725-ADD3-DD689C19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D10C-C9CA-4DD0-B21C-535CE69E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9C9C-F024-44BB-A5F9-7EE0FEC6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585-4CC6-4CD3-85B3-4C148479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E6FE-C3AB-46FD-B523-CC37A7A7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D504-A152-4542-BA5A-587E12DE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B8C86-8725-4475-BF6E-0F88A955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A10DF-D392-4341-AF1F-C1CE5865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AF34-4FA9-4F84-B33B-3E1E5099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305F5-B884-4E97-B136-0B8EB982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490C-B199-4344-9D3E-2DA52F0E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B17F-AD80-4A41-9832-E509160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DBC1-2FA9-4BD2-AA3F-AC62720C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6F8B8-60C4-4801-80A2-A5FDCA56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EE7-F02B-4FF9-8340-A22399EF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7FCA4-D150-4C77-A371-0E95FC8D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1A2-19F6-4C51-8E95-44D7348C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17E-07D5-4BE1-B948-C5D2B93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B94-8856-4548-A900-60E3089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43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1446-0F50-4FD6-963F-2CBBCB106B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43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0A7C-B803-44BF-A863-FBBA15DF423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43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0A26-FB64-4AEE-9D34-3AD83AD894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43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7E6A-5E45-4CF6-84F0-77DDB11599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43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843c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43c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88A4-DC36-45B0-A058-4DDA124FA59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360" y="115920"/>
            <a:ext cx="896472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32d"/>
                </a:solidFill>
                <a:latin typeface="Calibri"/>
                <a:ea typeface="Times New Roman"/>
              </a:rPr>
              <a:t>Проект ОПСА «Исследования в  сестринском деле» 2011 – 2012 гг. </a:t>
            </a:r>
            <a:endParaRPr b="0" lang="en-US" sz="22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764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22560" indent="-294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1" lang="ru-RU" sz="4200" spc="-1" strike="noStrike">
                <a:solidFill>
                  <a:srgbClr val="002060"/>
                </a:solidFill>
                <a:latin typeface="Calibri"/>
                <a:ea typeface="Verdana"/>
              </a:rPr>
              <a:t>Обучение пациентов                            с заболеваниями пояснично-крестцового отдела позвоночника самоуходу в послеоперационном периоде»</a:t>
            </a:r>
            <a:endParaRPr b="0" lang="en-US" sz="42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556000" y="4437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2d"/>
                </a:solidFill>
                <a:latin typeface="Calibri"/>
                <a:ea typeface="Calibri"/>
              </a:rPr>
              <a:t>Данилова А.А., </a:t>
            </a:r>
            <a:endParaRPr b="0" lang="en-US" sz="1800" spc="-1" strike="noStrike">
              <a:solidFill>
                <a:srgbClr val="00843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2d"/>
                </a:solidFill>
                <a:latin typeface="Calibri"/>
                <a:ea typeface="Calibri"/>
              </a:rPr>
              <a:t>старшая медицинская сестра оперблока </a:t>
            </a:r>
            <a:endParaRPr b="0" lang="en-US" sz="1800" spc="-1" strike="noStrike">
              <a:solidFill>
                <a:srgbClr val="00843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2d"/>
                </a:solidFill>
                <a:latin typeface="Calibri"/>
                <a:ea typeface="Calibri"/>
              </a:rPr>
              <a:t>БУЗОО «КХМЦ МЗОО»</a:t>
            </a:r>
            <a:endParaRPr b="0" lang="en-US" sz="1800" spc="-1" strike="noStrike">
              <a:solidFill>
                <a:srgbClr val="00843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43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2d"/>
                </a:solidFill>
                <a:latin typeface="Calibri"/>
                <a:ea typeface="Calibri"/>
              </a:rPr>
              <a:t>Научный руководитель: Л.Б. Резник, </a:t>
            </a:r>
            <a:endParaRPr b="0" lang="en-US" sz="1800" spc="-1" strike="noStrike">
              <a:solidFill>
                <a:srgbClr val="00843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2d"/>
                </a:solidFill>
                <a:latin typeface="Calibri"/>
                <a:ea typeface="Calibri"/>
              </a:rPr>
              <a:t>заведующий кафедрой травматологии и ортопедии </a:t>
            </a:r>
            <a:endParaRPr b="0" lang="en-US" sz="1800" spc="-1" strike="noStrike">
              <a:solidFill>
                <a:srgbClr val="00843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2d"/>
                </a:solidFill>
                <a:latin typeface="Calibri"/>
                <a:ea typeface="Calibri"/>
              </a:rPr>
              <a:t>ГБОУ ВПО ОмГМА Минздравсоцразвития России, </a:t>
            </a:r>
            <a:endParaRPr b="0" lang="en-US" sz="1800" spc="-1" strike="noStrike">
              <a:solidFill>
                <a:srgbClr val="00843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32d"/>
                </a:solidFill>
                <a:latin typeface="Calibri"/>
                <a:ea typeface="Calibri"/>
              </a:rPr>
              <a:t>главный внештатный травматолог-ортопед МЗОО, д.м.н.</a:t>
            </a:r>
            <a:r>
              <a:rPr b="1" lang="ru-RU" sz="1800" spc="-1" strike="noStrike">
                <a:solidFill>
                  <a:srgbClr val="00632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843c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000" y="71280"/>
            <a:ext cx="8686800" cy="98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32d"/>
                </a:solidFill>
                <a:latin typeface="Calibri"/>
                <a:ea typeface="Verdana"/>
              </a:rPr>
              <a:t>Потребности  в самоуходе </a:t>
            </a:r>
            <a:endParaRPr b="0" lang="en-US" sz="4700" spc="-1" strike="noStrike">
              <a:solidFill>
                <a:srgbClr val="00843c"/>
              </a:solidFill>
              <a:latin typeface="Calibri"/>
            </a:endParaRPr>
          </a:p>
        </p:txBody>
      </p:sp>
      <p:pic>
        <p:nvPicPr>
          <p:cNvPr id="296" name="Диаграмма 5" descr=""/>
          <p:cNvPicPr/>
          <p:nvPr/>
        </p:nvPicPr>
        <p:blipFill>
          <a:blip r:embed="rId1"/>
          <a:stretch/>
        </p:blipFill>
        <p:spPr>
          <a:xfrm>
            <a:off x="463680" y="1335240"/>
            <a:ext cx="8076960" cy="512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360" y="333000"/>
            <a:ext cx="9145440" cy="64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32d"/>
                </a:solidFill>
                <a:latin typeface="Calibri"/>
                <a:ea typeface="Verdana"/>
              </a:rPr>
              <a:t>Разработка программы обучения</a:t>
            </a:r>
            <a:endParaRPr b="0" lang="en-US" sz="4700" spc="-1" strike="noStrike">
              <a:solidFill>
                <a:srgbClr val="00843c"/>
              </a:solidFill>
              <a:latin typeface="Calibri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9280" y="1052640"/>
          <a:ext cx="8785440" cy="5473440"/>
        </p:xfrm>
        <a:graphic>
          <a:graphicData uri="http://schemas.openxmlformats.org/drawingml/2006/table">
            <a:tbl>
              <a:tblPr/>
              <a:tblGrid>
                <a:gridCol w="2305080"/>
                <a:gridCol w="2087640"/>
                <a:gridCol w="2521080"/>
                <a:gridCol w="1871640"/>
              </a:tblGrid>
              <a:tr h="619560"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e9f6dc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Цель</a:t>
                      </a:r>
                      <a:endParaRPr b="0" lang="en-US" sz="20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e9f6dc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Объем вмешательства</a:t>
                      </a:r>
                      <a:endParaRPr b="0" lang="en-US" sz="20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e9f6dc"/>
                    </a:solidFill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Реализация программы</a:t>
                      </a:r>
                      <a:endParaRPr b="0" lang="en-US" sz="20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e9f6dc"/>
                    </a:solidFill>
                  </a:tcPr>
                </a:tc>
              </a:tr>
              <a:tr h="2097360">
                <a:tc rowSpan="4"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Ограничение самообслуживания           (в связи с вынужденным постельным режимом) после операции на пояснично-крестцовом отделе позвоночника. 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  <a:tc rowSpan="4"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Пациент будет частично обслуживать себя самостоятельно или с помощью родственника. 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1. Оценить способности пациента выполнять самостоятельно: гигиенические  процедуры, одеваться, двигаться в пределах своих возможностей.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Создание условий, обеспечивающих физиологический и гигиенический комфорт.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3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2. Побуждать пациента быть как можно более независимым в пределах своих возможностей.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Облегчение послеоперационного периода у пациентов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3.Адаптировать пациента к своему состоянию. 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Оценка состояния и функциональных возможностей пациента 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9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360" bIns="0" anchor="t">
                      <a:noAutofit/>
                    </a:bodyPr>
                    <a:p>
                      <a:pPr marL="93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4.Обучить родственников методам ухода</a:t>
                      </a:r>
                      <a:endParaRPr b="0" lang="en-US" sz="1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32d"/>
                </a:solidFill>
                <a:latin typeface="Calibri"/>
                <a:ea typeface="Verdana"/>
              </a:rPr>
              <a:t>Структура программы обучения самоуходу пациентов с заболеваниями пояснично-крестцового отдела позвоночника  </a:t>
            </a:r>
            <a:endParaRPr b="0" lang="en-US" sz="32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920" y="1844640"/>
            <a:ext cx="86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Verdana"/>
              </a:rPr>
              <a:t>Определение целей ухода.</a:t>
            </a:r>
            <a:endParaRPr b="0" lang="en-US" sz="2900" spc="-1" strike="noStrike">
              <a:solidFill>
                <a:srgbClr val="00843c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Verdana"/>
              </a:rPr>
              <a:t>Постановка основных задач медицинским персоналом для пациентов.</a:t>
            </a:r>
            <a:endParaRPr b="0" lang="en-US" sz="2900" spc="-1" strike="noStrike">
              <a:solidFill>
                <a:srgbClr val="00843c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Verdana"/>
              </a:rPr>
              <a:t>Описание послеоперационного периода.</a:t>
            </a:r>
            <a:endParaRPr b="0" lang="en-US" sz="2900" spc="-1" strike="noStrike">
              <a:solidFill>
                <a:srgbClr val="00843c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Verdana"/>
              </a:rPr>
              <a:t>План восстановления пациентов. </a:t>
            </a:r>
            <a:endParaRPr b="0" lang="en-US" sz="2900" spc="-1" strike="noStrike">
              <a:solidFill>
                <a:srgbClr val="00843c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Verdana"/>
              </a:rPr>
              <a:t>Описание болевого синдрома.</a:t>
            </a:r>
            <a:endParaRPr b="0" lang="en-US" sz="2900" spc="-1" strike="noStrike">
              <a:solidFill>
                <a:srgbClr val="00843c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2060"/>
                </a:solidFill>
                <a:latin typeface="Calibri"/>
                <a:ea typeface="Verdana"/>
              </a:rPr>
              <a:t>Противопоказания.</a:t>
            </a:r>
            <a:endParaRPr b="0" lang="en-US" sz="2900" spc="-1" strike="noStrike">
              <a:solidFill>
                <a:srgbClr val="00843c"/>
              </a:solidFill>
              <a:latin typeface="Cambria"/>
            </a:endParaRPr>
          </a:p>
          <a:p>
            <a:pPr marL="514440" indent="-514440" algn="ctr">
              <a:lnSpc>
                <a:spcPct val="100000"/>
              </a:lnSpc>
              <a:spcBef>
                <a:spcPts val="575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43c"/>
              </a:solidFill>
              <a:latin typeface="Cambria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280" y="431280"/>
            <a:ext cx="8893440" cy="1125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32d"/>
                </a:solidFill>
                <a:latin typeface="Calibri"/>
                <a:ea typeface="Verdana"/>
              </a:rPr>
              <a:t>Потребности в  самоуходе с применением               и без применения программы обучения самоуходу пациентов</a:t>
            </a:r>
            <a:endParaRPr b="0" lang="en-US" sz="3200" spc="-1" strike="noStrike">
              <a:solidFill>
                <a:srgbClr val="00843c"/>
              </a:solidFill>
              <a:latin typeface="Calibri"/>
            </a:endParaRPr>
          </a:p>
        </p:txBody>
      </p:sp>
      <p:pic>
        <p:nvPicPr>
          <p:cNvPr id="302" name="Диаграмма 6" descr=""/>
          <p:cNvPicPr/>
          <p:nvPr/>
        </p:nvPicPr>
        <p:blipFill>
          <a:blip r:embed="rId1"/>
          <a:stretch/>
        </p:blipFill>
        <p:spPr>
          <a:xfrm>
            <a:off x="-6480" y="1620720"/>
            <a:ext cx="9156960" cy="5054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351640" cy="72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632d"/>
                </a:solidFill>
                <a:latin typeface="Calibri"/>
                <a:ea typeface="Verdana"/>
              </a:rPr>
              <a:t>Вывод:</a:t>
            </a:r>
            <a:endParaRPr b="0" lang="en-US" sz="7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250920" y="1620720"/>
            <a:ext cx="871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Verdana"/>
              </a:rPr>
              <a:t>установлена необходимость обучения пациентов                                с заболеваниями пояснично-крестцового отдела позвоночника самоуходу в послеоперационном периоде и доказана эффективность предлагаемых мероприятий.  </a:t>
            </a:r>
            <a:endParaRPr b="0" lang="en-US" sz="4000" spc="-1" strike="noStrike">
              <a:solidFill>
                <a:srgbClr val="00843c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360" y="2708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632d"/>
                </a:solidFill>
                <a:latin typeface="Calibri"/>
                <a:ea typeface="Verdana"/>
              </a:rPr>
              <a:t>Благодарю за внимание!</a:t>
            </a:r>
            <a:endParaRPr b="0" lang="en-US" sz="5500" spc="-1" strike="noStrike">
              <a:solidFill>
                <a:srgbClr val="00843c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32d"/>
                </a:solidFill>
                <a:latin typeface="Calibri"/>
                <a:ea typeface="Verdana"/>
              </a:rPr>
              <a:t>Актуальность темы</a:t>
            </a:r>
            <a:endParaRPr b="0" lang="en-US" sz="52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1320" y="1557360"/>
            <a:ext cx="85042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отдела позвоночника.</a:t>
            </a:r>
            <a:endParaRPr b="0" lang="en-US" sz="1400" spc="-1" strike="noStrike">
              <a:solidFill>
                <a:srgbClr val="00843c"/>
              </a:solidFill>
              <a:latin typeface="Cambria"/>
            </a:endParaRPr>
          </a:p>
        </p:txBody>
      </p:sp>
      <p:pic>
        <p:nvPicPr>
          <p:cNvPr id="244" name="Схема 4" descr=""/>
          <p:cNvPicPr/>
          <p:nvPr/>
        </p:nvPicPr>
        <p:blipFill>
          <a:blip r:embed="rId1"/>
          <a:stretch/>
        </p:blipFill>
        <p:spPr>
          <a:xfrm>
            <a:off x="128520" y="878040"/>
            <a:ext cx="8771040" cy="5986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32d"/>
                </a:solidFill>
                <a:latin typeface="Calibri"/>
                <a:ea typeface="Verdana"/>
              </a:rPr>
              <a:t>Актуальность темы</a:t>
            </a:r>
            <a:endParaRPr b="0" lang="en-US" sz="52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8920" y="1125360"/>
            <a:ext cx="87138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щее число травм опорно-двигательного аппарата в КМХЦ МЗОО</a:t>
            </a:r>
            <a:endParaRPr b="0" lang="en-US" sz="3200" spc="-1" strike="noStrike">
              <a:solidFill>
                <a:srgbClr val="00843c"/>
              </a:solidFill>
              <a:latin typeface="Cambria"/>
            </a:endParaRPr>
          </a:p>
        </p:txBody>
      </p:sp>
      <p:pic>
        <p:nvPicPr>
          <p:cNvPr id="247" name="Диаграмма 7" descr=""/>
          <p:cNvPicPr/>
          <p:nvPr/>
        </p:nvPicPr>
        <p:blipFill>
          <a:blip r:embed="rId1"/>
          <a:stretch/>
        </p:blipFill>
        <p:spPr>
          <a:xfrm>
            <a:off x="171360" y="1981080"/>
            <a:ext cx="8979120" cy="4767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35120" y="620280"/>
            <a:ext cx="77976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32d"/>
                </a:solidFill>
                <a:latin typeface="Calibri"/>
                <a:ea typeface="Verdana"/>
              </a:rPr>
              <a:t>Цель исследования:</a:t>
            </a:r>
            <a:endParaRPr b="0" lang="en-US" sz="6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10800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Calibri"/>
                <a:ea typeface="Verdana"/>
              </a:rPr>
              <a:t>обучение пациентов                      с заболеваниями пояснично-крестцового отдела позвоночника самоуходу               в послеоперационном периоде</a:t>
            </a:r>
            <a:endParaRPr b="0" lang="en-US" sz="52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24000" y="907920"/>
            <a:ext cx="863280" cy="2016360"/>
          </a:xfrm>
          <a:custGeom>
            <a:avLst/>
            <a:gdLst>
              <a:gd name="textAreaLeft" fmla="*/ 115560 w 863280"/>
              <a:gd name="textAreaRight" fmla="*/ 747720 w 863280"/>
              <a:gd name="textAreaTop" fmla="*/ 400320 h 2016360"/>
              <a:gd name="textAreaBottom" fmla="*/ 148788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82" stAng="-5400000" swAng="-5400000"/>
                <a:lnTo>
                  <a:pt x="0" y="11648"/>
                </a:lnTo>
                <a:arcTo wR="21600" hR="8582" stAng="10800000" swAng="-2900030"/>
                <a:lnTo>
                  <a:pt x="14400" y="21109"/>
                </a:lnTo>
                <a:lnTo>
                  <a:pt x="21600" y="18696"/>
                </a:lnTo>
                <a:lnTo>
                  <a:pt x="14400" y="15301"/>
                </a:lnTo>
                <a:lnTo>
                  <a:pt x="14400" y="16672"/>
                </a:lnTo>
                <a:arcTo wR="21600" hR="8582" stAng="7899970" swAng="2652485"/>
                <a:lnTo>
                  <a:pt x="347" y="10115"/>
                </a:lnTo>
                <a:arcTo wR="21600" hR="8582" stAng="-10552455" swAng="5152455"/>
                <a:close/>
              </a:path>
              <a:path fill="darkenLess" w="21600" h="21600">
                <a:moveTo>
                  <a:pt x="21600" y="0"/>
                </a:moveTo>
                <a:arcTo wR="21600" hR="8582" stAng="-5400000" swAng="-5400000"/>
                <a:lnTo>
                  <a:pt x="0" y="8582"/>
                </a:lnTo>
                <a:arcTo wR="21600" hR="8582" stAng="10800000" swAng="-247545"/>
                <a:lnTo>
                  <a:pt x="347" y="10115"/>
                </a:lnTo>
                <a:arcTo wR="21600" hR="8582" stAng="-10552455" swAng="5152455"/>
                <a:close/>
              </a:path>
            </a:pathLst>
          </a:custGeom>
          <a:solidFill>
            <a:srgbClr val="0070c0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32d"/>
                </a:solidFill>
                <a:latin typeface="Calibri"/>
                <a:ea typeface="Verdana"/>
              </a:rPr>
              <a:t>Задачи исследования:</a:t>
            </a:r>
            <a:endParaRPr b="0" lang="en-US" sz="50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1320" y="1341360"/>
            <a:ext cx="8504280" cy="47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43c"/>
              </a:solidFill>
              <a:latin typeface="Cambria"/>
            </a:endParaRPr>
          </a:p>
        </p:txBody>
      </p:sp>
      <p:sp>
        <p:nvSpPr>
          <p:cNvPr id="253" name="Прямоугольник 20"/>
          <p:cNvSpPr/>
          <p:nvPr/>
        </p:nvSpPr>
        <p:spPr>
          <a:xfrm>
            <a:off x="1116000" y="177336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755640" y="1484280"/>
            <a:ext cx="1860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2060"/>
                </a:solidFill>
                <a:latin typeface="Calibri"/>
                <a:ea typeface="Calibri"/>
              </a:rPr>
              <a:t>I </a:t>
            </a:r>
            <a:r>
              <a:rPr b="1" lang="ru-RU" sz="4500" spc="-1" strike="noStrike">
                <a:solidFill>
                  <a:srgbClr val="002060"/>
                </a:solidFill>
                <a:latin typeface="Calibri"/>
                <a:ea typeface="Calibri"/>
              </a:rPr>
              <a:t>этап</a:t>
            </a:r>
            <a:endParaRPr b="0" lang="en-US" sz="45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55" name="Прямоугольник 20"/>
          <p:cNvSpPr/>
          <p:nvPr/>
        </p:nvSpPr>
        <p:spPr>
          <a:xfrm>
            <a:off x="695160" y="2494080"/>
            <a:ext cx="18608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2060"/>
                </a:solidFill>
                <a:latin typeface="Calibri"/>
                <a:ea typeface="Calibri"/>
              </a:rPr>
              <a:t>II </a:t>
            </a:r>
            <a:r>
              <a:rPr b="1" lang="ru-RU" sz="4500" spc="-1" strike="noStrike">
                <a:solidFill>
                  <a:srgbClr val="002060"/>
                </a:solidFill>
                <a:latin typeface="Calibri"/>
                <a:ea typeface="Calibri"/>
              </a:rPr>
              <a:t>этап</a:t>
            </a:r>
            <a:endParaRPr b="0" lang="en-US" sz="45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395280" y="3573360"/>
            <a:ext cx="223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Calibri"/>
                <a:ea typeface="Calibri"/>
              </a:rPr>
              <a:t>  </a:t>
            </a:r>
            <a:r>
              <a:rPr b="1" lang="en-US" sz="4500" spc="-1" strike="noStrike">
                <a:solidFill>
                  <a:srgbClr val="002060"/>
                </a:solidFill>
                <a:latin typeface="Calibri"/>
                <a:ea typeface="Calibri"/>
              </a:rPr>
              <a:t>III </a:t>
            </a:r>
            <a:r>
              <a:rPr b="1" lang="ru-RU" sz="4500" spc="-1" strike="noStrike">
                <a:solidFill>
                  <a:srgbClr val="002060"/>
                </a:solidFill>
                <a:latin typeface="Calibri"/>
                <a:ea typeface="Calibri"/>
              </a:rPr>
              <a:t>этап</a:t>
            </a:r>
            <a:endParaRPr b="0" lang="en-US" sz="4500" spc="-1" strike="noStrike">
              <a:solidFill>
                <a:srgbClr val="00843c"/>
              </a:solidFill>
              <a:latin typeface="Times New Roman"/>
            </a:endParaRPr>
          </a:p>
        </p:txBody>
      </p:sp>
      <p:grpSp>
        <p:nvGrpSpPr>
          <p:cNvPr id="257" name="Rounded Rectangle 7"/>
          <p:cNvGrpSpPr/>
          <p:nvPr/>
        </p:nvGrpSpPr>
        <p:grpSpPr>
          <a:xfrm>
            <a:off x="3292560" y="993600"/>
            <a:ext cx="5790960" cy="1451160"/>
            <a:chOff x="3292560" y="993600"/>
            <a:chExt cx="5790960" cy="1451160"/>
          </a:xfrm>
        </p:grpSpPr>
        <p:pic>
          <p:nvPicPr>
            <p:cNvPr id="258" name="Rounded Rectangle 7" descr=""/>
            <p:cNvPicPr/>
            <p:nvPr/>
          </p:nvPicPr>
          <p:blipFill>
            <a:blip r:embed="rId1"/>
            <a:stretch/>
          </p:blipFill>
          <p:spPr>
            <a:xfrm>
              <a:off x="3292560" y="993600"/>
              <a:ext cx="579096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397320" y="1103400"/>
              <a:ext cx="522900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  <a:ea typeface="Verdana"/>
                </a:rPr>
                <a:t>Выявить и изучить физические проблемы пациента</a:t>
              </a:r>
              <a:endParaRPr b="0" lang="en-US" sz="28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</p:grpSp>
      <p:grpSp>
        <p:nvGrpSpPr>
          <p:cNvPr id="260" name="Rounded Rectangle 8"/>
          <p:cNvGrpSpPr/>
          <p:nvPr/>
        </p:nvGrpSpPr>
        <p:grpSpPr>
          <a:xfrm>
            <a:off x="3292560" y="2286000"/>
            <a:ext cx="5754600" cy="1457280"/>
            <a:chOff x="3292560" y="2286000"/>
            <a:chExt cx="5754600" cy="1457280"/>
          </a:xfrm>
        </p:grpSpPr>
        <p:pic>
          <p:nvPicPr>
            <p:cNvPr id="26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3292560" y="2286000"/>
              <a:ext cx="57546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397320" y="2398680"/>
              <a:ext cx="522900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  <a:ea typeface="Verdana"/>
                </a:rPr>
                <a:t>Разработать программу обучения самоуходу пациентов</a:t>
              </a:r>
              <a:endParaRPr b="0" lang="en-US" sz="28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</p:grpSp>
      <p:grpSp>
        <p:nvGrpSpPr>
          <p:cNvPr id="263" name="Rounded Rectangle 9"/>
          <p:cNvGrpSpPr/>
          <p:nvPr/>
        </p:nvGrpSpPr>
        <p:grpSpPr>
          <a:xfrm>
            <a:off x="3292560" y="3505320"/>
            <a:ext cx="6222960" cy="1377720"/>
            <a:chOff x="3292560" y="3505320"/>
            <a:chExt cx="6222960" cy="1377720"/>
          </a:xfrm>
        </p:grpSpPr>
        <p:pic>
          <p:nvPicPr>
            <p:cNvPr id="264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3292560" y="3505320"/>
              <a:ext cx="622296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389400" y="3687840"/>
              <a:ext cx="52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  <a:ea typeface="Verdana"/>
                </a:rPr>
                <a:t>Проанализировать  влияние         на раннюю активацию</a:t>
              </a:r>
              <a:endParaRPr b="0" lang="en-US" sz="28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</p:grpSp>
      <p:sp>
        <p:nvSpPr>
          <p:cNvPr id="266" name="Rounded Rectangle 10"/>
          <p:cNvSpPr/>
          <p:nvPr/>
        </p:nvSpPr>
        <p:spPr>
          <a:xfrm>
            <a:off x="324000" y="4724280"/>
            <a:ext cx="8569080" cy="1873440"/>
          </a:xfrm>
          <a:prstGeom prst="roundRect">
            <a:avLst>
              <a:gd name="adj" fmla="val 16667"/>
            </a:avLst>
          </a:prstGeom>
          <a:solidFill>
            <a:srgbClr val="00632d"/>
          </a:solidFill>
          <a:ln w="9360">
            <a:solidFill>
              <a:srgbClr val="af340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  <a:ea typeface="Verdana"/>
              </a:rPr>
              <a:t>Результатом будет программа, которая приведет                        к увеличению знаний у пациентов по особенностям самоухода в послеоперационном периоде и повышению профессиональной компетентности медицинских сестер.</a:t>
            </a:r>
            <a:endParaRPr b="0" lang="en-US" sz="2500" spc="-1" strike="noStrike">
              <a:solidFill>
                <a:srgbClr val="00843c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36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32d"/>
                </a:solidFill>
                <a:latin typeface="Calibri"/>
                <a:ea typeface="Verdana"/>
              </a:rPr>
              <a:t>Материалы и методы исследования</a:t>
            </a:r>
            <a:endParaRPr b="0" lang="en-US" sz="5000" spc="-1" strike="noStrike">
              <a:solidFill>
                <a:srgbClr val="00843c"/>
              </a:solidFill>
              <a:latin typeface="Calibri"/>
            </a:endParaRPr>
          </a:p>
        </p:txBody>
      </p:sp>
      <p:grpSp>
        <p:nvGrpSpPr>
          <p:cNvPr id="268" name="Группа 20"/>
          <p:cNvGrpSpPr/>
          <p:nvPr/>
        </p:nvGrpSpPr>
        <p:grpSpPr>
          <a:xfrm>
            <a:off x="468360" y="1700280"/>
            <a:ext cx="8280360" cy="5322240"/>
            <a:chOff x="468360" y="1700280"/>
            <a:chExt cx="8280360" cy="5322240"/>
          </a:xfrm>
        </p:grpSpPr>
        <p:sp>
          <p:nvSpPr>
            <p:cNvPr id="269" name="Прямоугольник 21"/>
            <p:cNvSpPr/>
            <p:nvPr/>
          </p:nvSpPr>
          <p:spPr>
            <a:xfrm>
              <a:off x="468360" y="1700280"/>
              <a:ext cx="828036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  <p:sp>
          <p:nvSpPr>
            <p:cNvPr id="270" name="Полилиния 22"/>
            <p:cNvSpPr/>
            <p:nvPr/>
          </p:nvSpPr>
          <p:spPr>
            <a:xfrm>
              <a:off x="469800" y="2708280"/>
              <a:ext cx="2517840" cy="223344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704880" anchor="t">
              <a:noAutofit/>
            </a:bodyPr>
            <a:p>
              <a:pPr lvl="1" algn="ctr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400" spc="-1" strike="noStrike">
                  <a:solidFill>
                    <a:srgbClr val="00843c"/>
                  </a:solidFill>
                  <a:latin typeface="Calibri"/>
                  <a:ea typeface="Calibri"/>
                </a:rPr>
                <a:t>КХМЦ МЗОО, отделение травматологии №2,  11.06.11 – 31.01.12 г.</a:t>
              </a:r>
              <a:endParaRPr b="0" lang="en-US" sz="24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  <p:sp>
          <p:nvSpPr>
            <p:cNvPr id="271" name="Shape 23"/>
            <p:cNvSpPr/>
            <p:nvPr/>
          </p:nvSpPr>
          <p:spPr>
            <a:xfrm rot="1716000">
              <a:off x="1807560" y="3976920"/>
              <a:ext cx="2584440" cy="2584440"/>
            </a:xfrm>
            <a:custGeom>
              <a:avLst/>
              <a:gdLst>
                <a:gd name="textAreaLeft" fmla="*/ 404280 w 2584440"/>
                <a:gd name="textAreaRight" fmla="*/ 2180160 w 2584440"/>
                <a:gd name="textAreaTop" fmla="*/ 404280 h 2584440"/>
                <a:gd name="textAreaBottom" fmla="*/ 2180160 h 2584440"/>
              </a:gdLst>
              <a:ahLst/>
              <a:rect l="textAreaLeft" t="textAreaTop" r="textAreaRight" b="textAreaBottom"/>
              <a:pathLst>
                <a:path w="2584612" h="2583979">
                  <a:moveTo>
                    <a:pt x="305486" y="2068290"/>
                  </a:moveTo>
                  <a:lnTo>
                    <a:pt x="348662" y="2034324"/>
                  </a:lnTo>
                  <a:lnTo>
                    <a:pt x="348662" y="2034324"/>
                  </a:lnTo>
                  <a:arcTo wR="1200756" hR="1200439" stAng="8508541" swAng="-6987731"/>
                  <a:lnTo>
                    <a:pt x="2343304" y="1792916"/>
                  </a:lnTo>
                  <a:lnTo>
                    <a:pt x="2438970" y="1731984"/>
                  </a:lnTo>
                  <a:lnTo>
                    <a:pt x="2462962" y="1838831"/>
                  </a:lnTo>
                  <a:lnTo>
                    <a:pt x="2428847" y="1825740"/>
                  </a:lnTo>
                  <a:lnTo>
                    <a:pt x="2428846" y="1825740"/>
                  </a:lnTo>
                  <a:arcTo wR="1255691" hR="1255375" stAng="1509362" swAng="6999176"/>
                  <a:close/>
                </a:path>
              </a:pathLst>
            </a:custGeom>
            <a:solidFill>
              <a:srgbClr val="006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  <p:sp>
          <p:nvSpPr>
            <p:cNvPr id="272" name="Полилиния 24"/>
            <p:cNvSpPr/>
            <p:nvPr/>
          </p:nvSpPr>
          <p:spPr>
            <a:xfrm>
              <a:off x="900000" y="4653000"/>
              <a:ext cx="2160360" cy="649080"/>
            </a:xfrm>
            <a:prstGeom prst="pie">
              <a:avLst/>
            </a:prstGeom>
            <a:solidFill>
              <a:srgbClr val="00632d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65880" bIns="6588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r>
                <a:rPr b="0" lang="ru-RU" sz="37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База</a:t>
              </a:r>
              <a:endParaRPr b="0" lang="en-US" sz="37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  <p:sp>
          <p:nvSpPr>
            <p:cNvPr id="273" name="Полилиния 25"/>
            <p:cNvSpPr/>
            <p:nvPr/>
          </p:nvSpPr>
          <p:spPr>
            <a:xfrm>
              <a:off x="3348000" y="3068640"/>
              <a:ext cx="2520720" cy="2881440"/>
            </a:xfrm>
            <a:prstGeom prst="pie">
              <a:avLst/>
            </a:prstGeom>
            <a:solidFill>
              <a:srgbClr val="ffff00">
                <a:alpha val="90000"/>
              </a:srgbClr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180000" bIns="180000" anchor="ctr">
              <a:noAutofit/>
            </a:bodyPr>
            <a:p>
              <a:pPr lvl="1" algn="ctr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400" spc="-1" strike="noStrike">
                  <a:solidFill>
                    <a:srgbClr val="00843c"/>
                  </a:solidFill>
                  <a:latin typeface="Calibri"/>
                  <a:ea typeface="Calibri"/>
                </a:rPr>
                <a:t>Пациенты, перенесшие операцию на пояснично-крестцовом  отделе позвоночника </a:t>
              </a:r>
              <a:endParaRPr b="0" lang="en-US" sz="24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  <p:sp>
          <p:nvSpPr>
            <p:cNvPr id="274" name="Круговая стрелка 26"/>
            <p:cNvSpPr/>
            <p:nvPr/>
          </p:nvSpPr>
          <p:spPr>
            <a:xfrm rot="21322200">
              <a:off x="4758840" y="1859040"/>
              <a:ext cx="2316240" cy="2446200"/>
            </a:xfrm>
            <a:custGeom>
              <a:avLst/>
              <a:gdLst>
                <a:gd name="textAreaLeft" fmla="*/ 363600 w 2316240"/>
                <a:gd name="textAreaRight" fmla="*/ 1952640 w 2316240"/>
                <a:gd name="textAreaTop" fmla="*/ 382680 h 2446200"/>
                <a:gd name="textAreaBottom" fmla="*/ 2063520 h 2446200"/>
              </a:gdLst>
              <a:ahLst/>
              <a:rect l="textAreaLeft" t="textAreaTop" r="textAreaRight" b="textAreaBottom"/>
              <a:pathLst>
                <a:path w="2316308" h="2445891">
                  <a:moveTo>
                    <a:pt x="236773" y="543080"/>
                  </a:moveTo>
                  <a:lnTo>
                    <a:pt x="236773" y="543080"/>
                  </a:lnTo>
                  <a:arcTo wR="1123444" hR="1188236" stAng="-8614636" swAng="6984418"/>
                  <a:lnTo>
                    <a:pt x="2200869" y="690742"/>
                  </a:lnTo>
                  <a:lnTo>
                    <a:pt x="2178426" y="794883"/>
                  </a:lnTo>
                  <a:lnTo>
                    <a:pt x="2088861" y="737736"/>
                  </a:lnTo>
                  <a:lnTo>
                    <a:pt x="2120860" y="724310"/>
                  </a:lnTo>
                  <a:lnTo>
                    <a:pt x="2120860" y="724310"/>
                  </a:lnTo>
                  <a:arcTo wR="1071397" hR="1136188" stAng="-1642911" swAng="-6971725"/>
                  <a:close/>
                </a:path>
              </a:pathLst>
            </a:custGeom>
            <a:solidFill>
              <a:srgbClr val="006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  <p:sp>
          <p:nvSpPr>
            <p:cNvPr id="275" name="Полилиния 27"/>
            <p:cNvSpPr/>
            <p:nvPr/>
          </p:nvSpPr>
          <p:spPr>
            <a:xfrm>
              <a:off x="3875040" y="2635200"/>
              <a:ext cx="2065320" cy="649080"/>
            </a:xfrm>
            <a:prstGeom prst="pie">
              <a:avLst/>
            </a:prstGeom>
            <a:solidFill>
              <a:srgbClr val="00632d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65880" bIns="65880" anchor="ctr">
              <a:noAutofit/>
            </a:bodyPr>
            <a:p>
              <a:pPr algn="ctr">
                <a:lnSpc>
                  <a:spcPct val="90000"/>
                </a:lnSpc>
                <a:spcAft>
                  <a:spcPts val="1613"/>
                </a:spcAft>
                <a:tabLst>
                  <a:tab algn="l" pos="0"/>
                  <a:tab algn="l" pos="1644480"/>
                  <a:tab algn="l" pos="3289320"/>
                  <a:tab algn="l" pos="4933800"/>
                  <a:tab algn="l" pos="6578640"/>
                  <a:tab algn="l" pos="8223120"/>
                  <a:tab algn="l" pos="9867960"/>
                </a:tabLst>
              </a:pPr>
              <a:r>
                <a:rPr b="0" lang="ru-RU" sz="37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Объект</a:t>
              </a:r>
              <a:endParaRPr b="0" lang="en-US" sz="37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  <p:sp>
          <p:nvSpPr>
            <p:cNvPr id="276" name="Полилиния 28"/>
            <p:cNvSpPr/>
            <p:nvPr/>
          </p:nvSpPr>
          <p:spPr>
            <a:xfrm>
              <a:off x="6176880" y="2781360"/>
              <a:ext cx="2500200" cy="2232000"/>
            </a:xfrm>
            <a:prstGeom prst="pie">
              <a:avLst/>
            </a:prstGeom>
            <a:solidFill>
              <a:srgbClr val="ffff00">
                <a:alpha val="90000"/>
              </a:srgbClr>
            </a:solidFill>
            <a:ln w="1260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180000" bIns="704880" anchor="t">
              <a:noAutofit/>
            </a:bodyPr>
            <a:p>
              <a:pPr lvl="1">
                <a:lnSpc>
                  <a:spcPct val="90000"/>
                </a:lnSpc>
                <a:spcAft>
                  <a:spcPts val="451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ru-RU" sz="2400" spc="-1" strike="noStrike">
                  <a:solidFill>
                    <a:srgbClr val="00843c"/>
                  </a:solidFill>
                  <a:latin typeface="Calibri"/>
                  <a:ea typeface="Calibri"/>
                </a:rPr>
                <a:t>Ограничение двигательной активности</a:t>
              </a:r>
              <a:endParaRPr b="0" lang="en-US" sz="24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  <p:sp>
          <p:nvSpPr>
            <p:cNvPr id="277" name="Полилиния 29"/>
            <p:cNvSpPr/>
            <p:nvPr/>
          </p:nvSpPr>
          <p:spPr>
            <a:xfrm>
              <a:off x="6407280" y="4581720"/>
              <a:ext cx="2341440" cy="649080"/>
            </a:xfrm>
            <a:prstGeom prst="pie">
              <a:avLst/>
            </a:prstGeom>
            <a:solidFill>
              <a:srgbClr val="00632d"/>
            </a:solidFill>
            <a:ln w="1260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74880" bIns="7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  <a:tabLst>
                  <a:tab algn="l" pos="0"/>
                  <a:tab algn="l" pos="1955880"/>
                  <a:tab algn="l" pos="3911760"/>
                  <a:tab algn="l" pos="5867280"/>
                  <a:tab algn="l" pos="7823160"/>
                  <a:tab algn="l" pos="977904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едмет</a:t>
              </a:r>
              <a:endParaRPr b="0" lang="en-US" sz="4400" spc="-1" strike="noStrike">
                <a:solidFill>
                  <a:srgbClr val="00843c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632d"/>
                </a:solidFill>
                <a:latin typeface="Calibri"/>
                <a:ea typeface="Verdana"/>
              </a:rPr>
              <a:t>Методы исследования:</a:t>
            </a:r>
            <a:endParaRPr b="0" lang="en-US" sz="58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79" name="Подзаголовок 2"/>
          <p:cNvSpPr/>
          <p:nvPr/>
        </p:nvSpPr>
        <p:spPr>
          <a:xfrm>
            <a:off x="324000" y="1700280"/>
            <a:ext cx="7772400" cy="396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54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Calibri"/>
                <a:ea typeface="Verdana"/>
              </a:rPr>
              <a:t>наблюдение;</a:t>
            </a:r>
            <a:endParaRPr b="0" lang="en-US" sz="5200" spc="-1" strike="noStrike">
              <a:solidFill>
                <a:srgbClr val="00843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54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Calibri"/>
                <a:ea typeface="Verdana"/>
              </a:rPr>
              <a:t>анкетирование пациентов;</a:t>
            </a:r>
            <a:endParaRPr b="0" lang="en-US" sz="5200" spc="-1" strike="noStrike">
              <a:solidFill>
                <a:srgbClr val="00843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5400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2060"/>
                </a:solidFill>
                <a:latin typeface="Calibri"/>
                <a:ea typeface="Verdana"/>
              </a:rPr>
              <a:t>интервьюирование.</a:t>
            </a:r>
            <a:endParaRPr b="0" lang="en-US" sz="5200" spc="-1" strike="noStrike">
              <a:solidFill>
                <a:srgbClr val="00843c"/>
              </a:solidFill>
              <a:latin typeface="Times New Roman"/>
            </a:endParaRPr>
          </a:p>
        </p:txBody>
      </p:sp>
      <p:pic>
        <p:nvPicPr>
          <p:cNvPr id="280" name="Picture 4" descr="D:\Рисунки\человечки\Untitled-666.gif"/>
          <p:cNvPicPr/>
          <p:nvPr/>
        </p:nvPicPr>
        <p:blipFill>
          <a:blip r:embed="rId1"/>
          <a:stretch/>
        </p:blipFill>
        <p:spPr>
          <a:xfrm>
            <a:off x="4932360" y="2273400"/>
            <a:ext cx="42973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632d"/>
                </a:solidFill>
                <a:latin typeface="Calibri"/>
                <a:ea typeface="Verdana"/>
              </a:rPr>
              <a:t>Исследуемая группа пациентов</a:t>
            </a:r>
            <a:endParaRPr b="0" lang="en-US" sz="4700" spc="-1" strike="noStrike">
              <a:solidFill>
                <a:srgbClr val="00843c"/>
              </a:solidFill>
              <a:latin typeface="Calibri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324000" y="4170240"/>
            <a:ext cx="41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32d"/>
                </a:solidFill>
                <a:uFillTx/>
                <a:latin typeface="Calibri"/>
                <a:ea typeface="Verdana"/>
              </a:rPr>
              <a:t>Критерии включения</a:t>
            </a:r>
            <a:endParaRPr b="0" lang="en-US" sz="30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4788000" y="4149720"/>
            <a:ext cx="41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32d"/>
                </a:solidFill>
                <a:uFillTx/>
                <a:latin typeface="Calibri"/>
                <a:ea typeface="Verdana"/>
              </a:rPr>
              <a:t>Критерии исключения </a:t>
            </a:r>
            <a:endParaRPr b="0" lang="en-US" sz="30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1979640" y="1268280"/>
            <a:ext cx="647640" cy="1297080"/>
          </a:xfrm>
          <a:custGeom>
            <a:avLst/>
            <a:gdLst>
              <a:gd name="textAreaLeft" fmla="*/ 86760 w 647640"/>
              <a:gd name="textAreaRight" fmla="*/ 560880 w 647640"/>
              <a:gd name="textAreaTop" fmla="*/ 246600 h 1297080"/>
              <a:gd name="textAreaBottom" fmla="*/ 9547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12" stAng="-5400000" swAng="-5400000"/>
                <a:lnTo>
                  <a:pt x="0" y="11790"/>
                </a:lnTo>
                <a:arcTo wR="21600" hR="8212" stAng="10800000" swAng="-2824617"/>
                <a:lnTo>
                  <a:pt x="14400" y="21130"/>
                </a:lnTo>
                <a:lnTo>
                  <a:pt x="21600" y="18212"/>
                </a:lnTo>
                <a:lnTo>
                  <a:pt x="14400" y="14354"/>
                </a:lnTo>
                <a:lnTo>
                  <a:pt x="14400" y="15953"/>
                </a:lnTo>
                <a:arcTo wR="21600" hR="8212" stAng="7975383" swAng="2533579"/>
                <a:lnTo>
                  <a:pt x="519" y="10001"/>
                </a:lnTo>
                <a:arcTo wR="21600" hR="8212" stAng="-10508961" swAng="5108961"/>
                <a:close/>
              </a:path>
              <a:path fill="darkenLess" w="21600" h="21600">
                <a:moveTo>
                  <a:pt x="21600" y="0"/>
                </a:moveTo>
                <a:arcTo wR="21600" hR="8212" stAng="-5400000" swAng="-5400000"/>
                <a:lnTo>
                  <a:pt x="0" y="8212"/>
                </a:lnTo>
                <a:arcTo wR="21600" hR="8212" stAng="10800000" swAng="-291039"/>
                <a:lnTo>
                  <a:pt x="519" y="10001"/>
                </a:lnTo>
                <a:arcTo wR="21600" hR="8212" stAng="-10508961" swAng="5108961"/>
                <a:close/>
              </a:path>
            </a:pathLst>
          </a:custGeom>
          <a:solidFill>
            <a:srgbClr val="0070c0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85" name="Полилиния 9"/>
          <p:cNvSpPr/>
          <p:nvPr/>
        </p:nvSpPr>
        <p:spPr>
          <a:xfrm>
            <a:off x="2916360" y="1197000"/>
            <a:ext cx="3095640" cy="792000"/>
          </a:xfrm>
          <a:prstGeom prst="pie">
            <a:avLst/>
          </a:prstGeom>
          <a:solidFill>
            <a:srgbClr val="00632d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89640" tIns="65880" bIns="65880" anchor="ctr">
            <a:noAutofit/>
          </a:bodyPr>
          <a:p>
            <a:pPr algn="ctr"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20 человек</a:t>
            </a:r>
            <a:endParaRPr b="0" lang="en-US" sz="40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86" name="Полилиния 11"/>
          <p:cNvSpPr/>
          <p:nvPr/>
        </p:nvSpPr>
        <p:spPr>
          <a:xfrm>
            <a:off x="755640" y="2565360"/>
            <a:ext cx="7920000" cy="1150920"/>
          </a:xfrm>
          <a:custGeom>
            <a:avLst/>
            <a:gdLst/>
            <a:ahLst/>
            <a:rect l="l" t="t" r="r" b="b"/>
            <a:pathLst>
              <a:path w="1921031" h="649700">
                <a:moveTo>
                  <a:pt x="0" y="64970"/>
                </a:moveTo>
                <a:cubicBezTo>
                  <a:pt x="0" y="47739"/>
                  <a:pt x="6845" y="31214"/>
                  <a:pt x="19029" y="19029"/>
                </a:cubicBezTo>
                <a:cubicBezTo>
                  <a:pt x="31213" y="6845"/>
                  <a:pt x="47739" y="0"/>
                  <a:pt x="64970" y="0"/>
                </a:cubicBezTo>
                <a:lnTo>
                  <a:pt x="1856061" y="0"/>
                </a:lnTo>
                <a:cubicBezTo>
                  <a:pt x="1873292" y="0"/>
                  <a:pt x="1889817" y="6845"/>
                  <a:pt x="1902002" y="19029"/>
                </a:cubicBezTo>
                <a:cubicBezTo>
                  <a:pt x="1914186" y="31213"/>
                  <a:pt x="1921031" y="47739"/>
                  <a:pt x="1921031" y="64970"/>
                </a:cubicBezTo>
                <a:lnTo>
                  <a:pt x="1921031" y="584730"/>
                </a:lnTo>
                <a:cubicBezTo>
                  <a:pt x="1921031" y="601961"/>
                  <a:pt x="1914186" y="618487"/>
                  <a:pt x="1902002" y="630671"/>
                </a:cubicBezTo>
                <a:cubicBezTo>
                  <a:pt x="1889818" y="642855"/>
                  <a:pt x="1873292" y="649700"/>
                  <a:pt x="1856061" y="649700"/>
                </a:cubicBezTo>
                <a:lnTo>
                  <a:pt x="64970" y="649700"/>
                </a:lnTo>
                <a:cubicBezTo>
                  <a:pt x="47739" y="649700"/>
                  <a:pt x="31214" y="642855"/>
                  <a:pt x="19029" y="630671"/>
                </a:cubicBezTo>
                <a:cubicBezTo>
                  <a:pt x="6845" y="618487"/>
                  <a:pt x="0" y="601961"/>
                  <a:pt x="0" y="584730"/>
                </a:cubicBezTo>
                <a:lnTo>
                  <a:pt x="0" y="64970"/>
                </a:lnTo>
                <a:close/>
              </a:path>
            </a:pathLst>
          </a:custGeom>
          <a:solidFill>
            <a:srgbClr val="00632d"/>
          </a:solidFill>
          <a:ln w="1260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9280" rIns="89280" tIns="65880" bIns="65880" anchor="ctr">
            <a:noAutofit/>
          </a:bodyPr>
          <a:p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826920" y="2600280"/>
            <a:ext cx="7921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  <a:ea typeface="Calibri"/>
              </a:rPr>
              <a:t>10 мужчин и 10 женщин, перенесших операцию на пояснично-крестцовом отделе позвоночника. </a:t>
            </a:r>
            <a:endParaRPr b="0" lang="en-US" sz="29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88" name="Прямоугольник 12"/>
          <p:cNvSpPr/>
          <p:nvPr/>
        </p:nvSpPr>
        <p:spPr>
          <a:xfrm>
            <a:off x="324000" y="4941720"/>
            <a:ext cx="37432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Verdana"/>
              </a:rPr>
              <a:t>пациенты,             перенесшие операцию                        на поясничном отделе позвоночника</a:t>
            </a:r>
            <a:endParaRPr b="0" lang="en-US" sz="26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89" name="Прямоугольник 13"/>
          <p:cNvSpPr/>
          <p:nvPr/>
        </p:nvSpPr>
        <p:spPr>
          <a:xfrm>
            <a:off x="4500720" y="4869000"/>
            <a:ext cx="4679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Verdana"/>
              </a:rPr>
              <a:t>пациенты с заболеваниями шейного и грудного отдела позвоночника, с нарушением функции тазовых органов.</a:t>
            </a:r>
            <a:endParaRPr b="0" lang="en-US" sz="26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50920" y="4437000"/>
            <a:ext cx="288720" cy="647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27440 h 647640"/>
              <a:gd name="textAreaBottom" fmla="*/ 4777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0" stAng="-5400000" swAng="-5400000"/>
                <a:lnTo>
                  <a:pt x="0" y="11679"/>
                </a:lnTo>
                <a:arcTo wR="21600" hR="8500" stAng="10800000" swAng="-2883629"/>
                <a:lnTo>
                  <a:pt x="14400" y="21114"/>
                </a:lnTo>
                <a:lnTo>
                  <a:pt x="21600" y="18589"/>
                </a:lnTo>
                <a:lnTo>
                  <a:pt x="14400" y="15091"/>
                </a:lnTo>
                <a:lnTo>
                  <a:pt x="14400" y="16513"/>
                </a:lnTo>
                <a:arcTo wR="21600" hR="8500" stAng="7916371" swAng="2626589"/>
                <a:lnTo>
                  <a:pt x="381" y="10089"/>
                </a:lnTo>
                <a:arcTo wR="21600" hR="8500" stAng="-10542960" swAng="5142960"/>
                <a:close/>
              </a:path>
              <a:path fill="darkenLess" w="21600" h="21600">
                <a:moveTo>
                  <a:pt x="21600" y="0"/>
                </a:moveTo>
                <a:arcTo wR="21600" hR="8500" stAng="-5400000" swAng="-5400000"/>
                <a:lnTo>
                  <a:pt x="0" y="8500"/>
                </a:lnTo>
                <a:arcTo wR="21600" hR="8500" stAng="10800000" swAng="-257040"/>
                <a:lnTo>
                  <a:pt x="381" y="10089"/>
                </a:lnTo>
                <a:arcTo wR="21600" hR="8500" stAng="-10542960" swAng="5142960"/>
                <a:close/>
              </a:path>
            </a:pathLst>
          </a:custGeom>
          <a:solidFill>
            <a:srgbClr val="0070c0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572000" y="4437000"/>
            <a:ext cx="287280" cy="647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27440 h 647640"/>
              <a:gd name="textAreaBottom" fmla="*/ 4777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00" stAng="-5400000" swAng="-5400000"/>
                <a:lnTo>
                  <a:pt x="0" y="11679"/>
                </a:lnTo>
                <a:arcTo wR="21600" hR="8500" stAng="10800000" swAng="-2883629"/>
                <a:lnTo>
                  <a:pt x="14400" y="21114"/>
                </a:lnTo>
                <a:lnTo>
                  <a:pt x="21600" y="18589"/>
                </a:lnTo>
                <a:lnTo>
                  <a:pt x="14400" y="15091"/>
                </a:lnTo>
                <a:lnTo>
                  <a:pt x="14400" y="16513"/>
                </a:lnTo>
                <a:arcTo wR="21600" hR="8500" stAng="7916371" swAng="2626589"/>
                <a:lnTo>
                  <a:pt x="381" y="10089"/>
                </a:lnTo>
                <a:arcTo wR="21600" hR="8500" stAng="-10542960" swAng="5142960"/>
                <a:close/>
              </a:path>
              <a:path fill="darkenLess" w="21600" h="21600">
                <a:moveTo>
                  <a:pt x="21600" y="0"/>
                </a:moveTo>
                <a:arcTo wR="21600" hR="8500" stAng="-5400000" swAng="-5400000"/>
                <a:lnTo>
                  <a:pt x="0" y="8500"/>
                </a:lnTo>
                <a:arcTo wR="21600" hR="8500" stAng="10800000" swAng="-257040"/>
                <a:lnTo>
                  <a:pt x="381" y="10089"/>
                </a:lnTo>
                <a:arcTo wR="21600" hR="8500" stAng="-10542960" swAng="5142960"/>
                <a:close/>
              </a:path>
            </a:pathLst>
          </a:custGeom>
          <a:solidFill>
            <a:srgbClr val="0070c0"/>
          </a:solidFill>
          <a:ln w="9360">
            <a:solidFill>
              <a:srgbClr val="0084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3c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0320" y="414360"/>
            <a:ext cx="8815320" cy="56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tIns="900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32d"/>
                </a:solidFill>
                <a:latin typeface="Calibri"/>
                <a:ea typeface="Verdana"/>
              </a:rPr>
              <a:t>Выявление проблем пациента</a:t>
            </a:r>
            <a:endParaRPr b="0" lang="en-US" sz="4800" spc="-1" strike="noStrike">
              <a:solidFill>
                <a:srgbClr val="00843c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4000" y="1413000"/>
          <a:ext cx="3887640" cy="4606920"/>
        </p:xfrm>
        <a:graphic>
          <a:graphicData uri="http://schemas.openxmlformats.org/drawingml/2006/table">
            <a:tbl>
              <a:tblPr/>
              <a:tblGrid>
                <a:gridCol w="3887640"/>
              </a:tblGrid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Физические</a:t>
                      </a:r>
                      <a:endParaRPr b="0" lang="en-US" sz="40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e2f3d0"/>
                    </a:solidFill>
                  </a:tcPr>
                </a:tc>
              </a:tr>
              <a:tr h="132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Сильная, резкая невыносимая боль (4 чел.)</a:t>
                      </a:r>
                      <a:endParaRPr b="0" lang="en-US" sz="25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Ограничение двигательной активности (13 чел.)</a:t>
                      </a:r>
                      <a:endParaRPr b="0" lang="en-US" sz="25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11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Физиологические отправления (6 чел.)</a:t>
                      </a:r>
                      <a:endParaRPr b="0" lang="en-US" sz="25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500720" y="1432080"/>
          <a:ext cx="4319280" cy="4611600"/>
        </p:xfrm>
        <a:graphic>
          <a:graphicData uri="http://schemas.openxmlformats.org/drawingml/2006/table">
            <a:tbl>
              <a:tblPr/>
              <a:tblGrid>
                <a:gridCol w="43192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Психологические</a:t>
                      </a:r>
                      <a:endParaRPr b="0" lang="en-US" sz="40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e2f3d0"/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Сможет ли вернуться                  к работе и привычным занятиям (11 чел.)</a:t>
                      </a:r>
                      <a:endParaRPr b="0" lang="en-US" sz="25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Ощущение изолированности и отчужденности от общества (5 чел.)</a:t>
                      </a:r>
                      <a:endParaRPr b="0" lang="en-US" sz="25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632d"/>
                          </a:solidFill>
                          <a:latin typeface="Calibri"/>
                          <a:ea typeface="Verdana"/>
                        </a:rPr>
                        <a:t>Сильная зависимость                     от других людей (17 чел.)</a:t>
                      </a:r>
                      <a:endParaRPr b="0" lang="en-US" sz="2500" spc="-1" strike="noStrike">
                        <a:solidFill>
                          <a:srgbClr val="00843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843c"/>
                      </a:solidFill>
                    </a:lnL>
                    <a:lnR w="5760">
                      <a:solidFill>
                        <a:srgbClr val="00843c"/>
                      </a:solidFill>
                    </a:lnR>
                    <a:lnT w="5760">
                      <a:solidFill>
                        <a:srgbClr val="00843c"/>
                      </a:solidFill>
                    </a:lnT>
                    <a:lnB w="5760">
                      <a:solidFill>
                        <a:srgbClr val="00843c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6:03:12Z</dcterms:created>
  <dc:creator>1</dc:creator>
  <dc:description/>
  <dc:language>en-US</dc:language>
  <cp:lastModifiedBy>ОПСА</cp:lastModifiedBy>
  <dcterms:modified xsi:type="dcterms:W3CDTF">2012-06-27T05:49:15Z</dcterms:modified>
  <cp:revision>444</cp:revision>
  <dc:subject/>
  <dc:title>Фомина Наталья Александровна</dc:title>
</cp:coreProperties>
</file>