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E2C-94AC-4DB0-BFBB-C6ADA9BE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4B2-030E-4ACB-9D66-3E5D52FE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604-E8CD-4F30-B8B1-77BE295F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BD1-60BB-47F3-A77B-539BC84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5A3-85D0-413A-AB2F-B0D3DB9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CDF-2F86-4BDB-8C23-F887F20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BAD-7780-4AF8-A60C-EA7C4E13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BE4-CAAA-47E7-A03C-743B0246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E4B-7D9B-4BA8-A8EC-6D611176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60E-EDCC-46EF-BB87-1BCC4CBE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3CF-6062-4232-946C-96C0C06C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238-8382-46A7-84C3-2B7E54D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956-6C49-431E-A740-4529C82E63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08000" y="524160"/>
            <a:ext cx="903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Arial"/>
              </a:rPr>
              <a:t>ПРОЕКТ ОПСА «ИССЛЕДОВАНИЯ В СЕСТРИНСКОМ ДЕЛЕ» 2011-2012 г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-36360" y="1256040"/>
            <a:ext cx="925164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7375e"/>
                </a:solidFill>
                <a:latin typeface="Arial"/>
              </a:rPr>
              <a:t>«Предвидение и выявление признаков суицидальных состояний  у пациентов, страдающих психическими расстройствами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755640" y="4494240"/>
            <a:ext cx="82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И.С. Зиновье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старшая медицинская сестра 18-го психиатрического от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БУЗОО «КПБ им. Солодникова Н.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Научный руководитель: С.С. Одарчен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зам. гл. врача по организационно-метод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консультативной работе БУЗОО «КПБ им. Н.Н. Солодникова», д.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407880" y="757080"/>
            <a:ext cx="84981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7375e"/>
                </a:solidFill>
                <a:latin typeface="Arial"/>
              </a:rPr>
              <a:t>Результаты интервьюирования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7375e"/>
                </a:solidFill>
                <a:latin typeface="Arial"/>
              </a:rPr>
              <a:t>по авторской системе скрининг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Диаграмма 4" descr=""/>
          <p:cNvPicPr/>
          <p:nvPr/>
        </p:nvPicPr>
        <p:blipFill>
          <a:blip r:embed="rId1"/>
          <a:stretch/>
        </p:blipFill>
        <p:spPr>
          <a:xfrm>
            <a:off x="212760" y="2133720"/>
            <a:ext cx="869328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250920" y="603360"/>
            <a:ext cx="8642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7375e"/>
                </a:solidFill>
                <a:latin typeface="Arial"/>
              </a:rPr>
              <a:t>Результаты  тестирования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17375e"/>
                </a:solidFill>
                <a:latin typeface="Arial"/>
              </a:rPr>
              <a:t>по Шкале безнадёжност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</a:rPr>
              <a:t>(Hopelessness Scale, Beck et al. 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128520" y="2212920"/>
            <a:ext cx="88869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611280" y="5936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Спектральный анализ психических расстройст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Диаграмма 3" descr=""/>
          <p:cNvPicPr/>
          <p:nvPr/>
        </p:nvPicPr>
        <p:blipFill>
          <a:blip r:embed="rId1"/>
          <a:stretch/>
        </p:blipFill>
        <p:spPr>
          <a:xfrm>
            <a:off x="212760" y="1957320"/>
            <a:ext cx="871848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900000" y="189000"/>
            <a:ext cx="7231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7375e"/>
                </a:solidFill>
                <a:latin typeface="Arial"/>
              </a:rPr>
              <a:t>Выводы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1557360"/>
            <a:ext cx="867564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Arial"/>
              </a:rPr>
              <a:t>Исследование  подтвердило необходимость и возможность использования системы скрининга для выявления суицидальных тенденций для объективизированной оценки выраженности суицидального  рис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Arial"/>
              </a:rPr>
              <a:t>Использование интервью позволило скорректировать наблюдение за выявленной группой  и уменьшить  остроту «душевной боли» за счет общения, проводимого в эмпатичной недирективной манер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Блок-схема: решение 4"/>
          <p:cNvGrpSpPr/>
          <p:nvPr/>
        </p:nvGrpSpPr>
        <p:grpSpPr>
          <a:xfrm>
            <a:off x="92160" y="1596960"/>
            <a:ext cx="504720" cy="469800"/>
            <a:chOff x="92160" y="1596960"/>
            <a:chExt cx="504720" cy="469800"/>
          </a:xfrm>
        </p:grpSpPr>
        <p:pic>
          <p:nvPicPr>
            <p:cNvPr id="128" name="Блок-схема: решение 4" descr=""/>
            <p:cNvPicPr/>
            <p:nvPr/>
          </p:nvPicPr>
          <p:blipFill>
            <a:blip r:embed="rId1"/>
            <a:stretch/>
          </p:blipFill>
          <p:spPr>
            <a:xfrm>
              <a:off x="92160" y="1596960"/>
              <a:ext cx="504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43000" y="1719360"/>
              <a:ext cx="198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Блок-схема: решение 5"/>
          <p:cNvGrpSpPr/>
          <p:nvPr/>
        </p:nvGrpSpPr>
        <p:grpSpPr>
          <a:xfrm>
            <a:off x="92160" y="4260960"/>
            <a:ext cx="504720" cy="469800"/>
            <a:chOff x="92160" y="4260960"/>
            <a:chExt cx="504720" cy="469800"/>
          </a:xfrm>
        </p:grpSpPr>
        <p:pic>
          <p:nvPicPr>
            <p:cNvPr id="131" name="Блок-схема: решение 5" descr=""/>
            <p:cNvPicPr/>
            <p:nvPr/>
          </p:nvPicPr>
          <p:blipFill>
            <a:blip r:embed="rId2"/>
            <a:stretch/>
          </p:blipFill>
          <p:spPr>
            <a:xfrm>
              <a:off x="92160" y="4260960"/>
              <a:ext cx="504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43000" y="4383000"/>
              <a:ext cx="19836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51" descr="suicide"/>
          <p:cNvPicPr/>
          <p:nvPr/>
        </p:nvPicPr>
        <p:blipFill>
          <a:blip r:embed="rId1"/>
          <a:stretch/>
        </p:blipFill>
        <p:spPr>
          <a:xfrm>
            <a:off x="1619280" y="2077920"/>
            <a:ext cx="5832360" cy="43754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-108000" y="476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15968"/>
                </a:solidFill>
                <a:latin typeface="Arial"/>
              </a:rPr>
              <a:t>«Существует только один серьезный философский вопрос</a:t>
            </a:r>
            <a:r>
              <a:rPr b="1" lang="en-US" sz="2900" spc="-1" strike="noStrike">
                <a:solidFill>
                  <a:srgbClr val="215968"/>
                </a:solidFill>
                <a:latin typeface="Arial"/>
              </a:rPr>
              <a:t>: </a:t>
            </a:r>
            <a:r>
              <a:rPr b="1" lang="ru-RU" sz="2900" spc="-1" strike="noStrike">
                <a:solidFill>
                  <a:srgbClr val="215968"/>
                </a:solidFill>
                <a:latin typeface="Arial"/>
              </a:rPr>
              <a:t>суицид»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215968"/>
                </a:solidFill>
                <a:latin typeface="Arial"/>
              </a:rPr>
              <a:t>(Альбер</a:t>
            </a:r>
            <a:r>
              <a:rPr b="1" i="1" lang="en-US" sz="2900" spc="-1" strike="noStrike">
                <a:solidFill>
                  <a:srgbClr val="215968"/>
                </a:solidFill>
                <a:latin typeface="Arial"/>
              </a:rPr>
              <a:t> </a:t>
            </a:r>
            <a:r>
              <a:rPr b="1" i="1" lang="ru-RU" sz="2900" spc="-1" strike="noStrike">
                <a:solidFill>
                  <a:srgbClr val="215968"/>
                </a:solidFill>
                <a:latin typeface="Arial"/>
              </a:rPr>
              <a:t>Камю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324000" y="2421000"/>
            <a:ext cx="86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17375e"/>
                </a:solidFill>
                <a:latin typeface="Arial"/>
              </a:rPr>
              <a:t>Благодарю за внимание!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2"/>
          <p:cNvSpPr/>
          <p:nvPr/>
        </p:nvSpPr>
        <p:spPr>
          <a:xfrm>
            <a:off x="108000" y="692280"/>
            <a:ext cx="885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7375e"/>
                </a:solidFill>
                <a:latin typeface="Arial"/>
              </a:rPr>
              <a:t>Актуальность  темы исследова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68360" y="15177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Arial"/>
              </a:rPr>
              <a:t>Самоубийство является одной из основных причин смертности психически б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44360" y="532440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сокие показатели смертности психически больных  от самоубийств сохраняются, несмотря на постоянное совершенствование методов лечения в психиат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Depressed Teenage Girl Sitting In Bedroom With Pills [MON227031]"/>
          <p:cNvPicPr/>
          <p:nvPr/>
        </p:nvPicPr>
        <p:blipFill>
          <a:blip r:embed="rId1"/>
          <a:srcRect l="9154" t="0" r="0" b="4324"/>
          <a:stretch/>
        </p:blipFill>
        <p:spPr>
          <a:xfrm>
            <a:off x="250920" y="2581200"/>
            <a:ext cx="3595680" cy="268596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" name="Picture 8" descr="Businessman jumping out of window [18bsp0042rf]"/>
          <p:cNvPicPr/>
          <p:nvPr/>
        </p:nvPicPr>
        <p:blipFill>
          <a:blip r:embed="rId2"/>
          <a:srcRect l="6296" t="12566" r="0" b="31689"/>
          <a:stretch/>
        </p:blipFill>
        <p:spPr>
          <a:xfrm>
            <a:off x="4067280" y="2581200"/>
            <a:ext cx="2835000" cy="27194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Picture 10" descr="03827576 / 8175183 [03827576]"/>
          <p:cNvPicPr/>
          <p:nvPr/>
        </p:nvPicPr>
        <p:blipFill>
          <a:blip r:embed="rId3"/>
          <a:srcRect l="15234" t="0" r="0" b="11709"/>
          <a:stretch/>
        </p:blipFill>
        <p:spPr>
          <a:xfrm>
            <a:off x="7164360" y="2581200"/>
            <a:ext cx="1730520" cy="27194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08000" y="928800"/>
            <a:ext cx="896472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Arial"/>
              </a:rPr>
              <a:t>Новизна исследования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Arial"/>
              </a:rPr>
              <a:t>впервые была разработана авторская скрининг-система (интервью), которая позволила скорректировать наблюдение за выявленной группой риска и снизить остроту «душевной боли» за счет общения, проводимого                         в эмпатичной недирективной манер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08000" y="4724280"/>
            <a:ext cx="89647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00000"/>
                </a:solidFill>
                <a:uFillTx/>
                <a:latin typeface="Arial"/>
              </a:rPr>
              <a:t>Цель исследовани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15968"/>
                </a:solidFill>
                <a:latin typeface="Arial"/>
              </a:rPr>
              <a:t>повышение качества выявления пациентов              с суицидальным риск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06200" y="692280"/>
            <a:ext cx="8858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7375e"/>
                </a:solidFill>
                <a:latin typeface="Arial"/>
              </a:rPr>
              <a:t>Задачи исследования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646200" y="1846440"/>
            <a:ext cx="853416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Разработать систему скрининга для выявления суицидальных тенд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Определить спектр психических расстройств, для которых характерно проявление суицидальных тенд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Выявить ранние прогностические признаки суицидального р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Блок-схема: решение 4"/>
          <p:cNvGrpSpPr/>
          <p:nvPr/>
        </p:nvGrpSpPr>
        <p:grpSpPr>
          <a:xfrm>
            <a:off x="92160" y="1884240"/>
            <a:ext cx="504720" cy="614520"/>
            <a:chOff x="92160" y="1884240"/>
            <a:chExt cx="504720" cy="614520"/>
          </a:xfrm>
        </p:grpSpPr>
        <p:pic>
          <p:nvPicPr>
            <p:cNvPr id="55" name="Блок-схема: решение 4" descr=""/>
            <p:cNvPicPr/>
            <p:nvPr/>
          </p:nvPicPr>
          <p:blipFill>
            <a:blip r:embed="rId1"/>
            <a:stretch/>
          </p:blipFill>
          <p:spPr>
            <a:xfrm>
              <a:off x="92160" y="1884240"/>
              <a:ext cx="5047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43000" y="2043000"/>
              <a:ext cx="198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Блок-схема: решение 6"/>
          <p:cNvGrpSpPr/>
          <p:nvPr/>
        </p:nvGrpSpPr>
        <p:grpSpPr>
          <a:xfrm>
            <a:off x="92160" y="3255840"/>
            <a:ext cx="504720" cy="614520"/>
            <a:chOff x="92160" y="3255840"/>
            <a:chExt cx="504720" cy="614520"/>
          </a:xfrm>
        </p:grpSpPr>
        <p:pic>
          <p:nvPicPr>
            <p:cNvPr id="58" name="Блок-схема: решение 6" descr=""/>
            <p:cNvPicPr/>
            <p:nvPr/>
          </p:nvPicPr>
          <p:blipFill>
            <a:blip r:embed="rId2"/>
            <a:stretch/>
          </p:blipFill>
          <p:spPr>
            <a:xfrm>
              <a:off x="92160" y="3255840"/>
              <a:ext cx="50472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3000" y="3411360"/>
              <a:ext cx="1983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Блок-схема: решение 7"/>
          <p:cNvGrpSpPr/>
          <p:nvPr/>
        </p:nvGrpSpPr>
        <p:grpSpPr>
          <a:xfrm>
            <a:off x="122400" y="5200560"/>
            <a:ext cx="506160" cy="609840"/>
            <a:chOff x="122400" y="5200560"/>
            <a:chExt cx="506160" cy="609840"/>
          </a:xfrm>
        </p:grpSpPr>
        <p:pic>
          <p:nvPicPr>
            <p:cNvPr id="61" name="Блок-схема: решение 7" descr=""/>
            <p:cNvPicPr/>
            <p:nvPr/>
          </p:nvPicPr>
          <p:blipFill>
            <a:blip r:embed="rId3"/>
            <a:stretch/>
          </p:blipFill>
          <p:spPr>
            <a:xfrm>
              <a:off x="122400" y="5200560"/>
              <a:ext cx="5061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4680" y="5354640"/>
              <a:ext cx="198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604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7375e"/>
                </a:solidFill>
                <a:latin typeface="Arial"/>
                <a:ea typeface="Arial"/>
              </a:rPr>
              <a:t>Дизайн исследования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1280" y="1844280"/>
            <a:ext cx="882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Критерии включения: </a:t>
            </a:r>
            <a:r>
              <a:rPr b="1" lang="ru-RU" sz="2600" spc="-1" strike="noStrike">
                <a:solidFill>
                  <a:srgbClr val="215968"/>
                </a:solidFill>
                <a:latin typeface="Arial"/>
                <a:ea typeface="Arial"/>
              </a:rPr>
              <a:t>женщины 30 - 50 лет, не имеющие в анамнезе суицидальных попыток и без демонстрации предупредительных признаков суици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Критерии исключения: </a:t>
            </a:r>
            <a:r>
              <a:rPr b="1" lang="ru-RU" sz="2600" spc="-1" strike="noStrike">
                <a:solidFill>
                  <a:srgbClr val="215968"/>
                </a:solidFill>
                <a:latin typeface="Arial"/>
                <a:ea typeface="Arial"/>
              </a:rPr>
              <a:t>женщины, не попадающие   в критерий включения по возрасту, имеющие суицидальные попытки в анамнезе и активно проявляющие суицидальные интенции (намерения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Размер выборки: </a:t>
            </a:r>
            <a:r>
              <a:rPr b="1" lang="ru-RU" sz="2600" spc="-1" strike="noStrike">
                <a:solidFill>
                  <a:srgbClr val="215968"/>
                </a:solidFill>
                <a:latin typeface="Arial"/>
                <a:ea typeface="Arial"/>
              </a:rPr>
              <a:t>90 пациент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6" descr=""/>
          <p:cNvPicPr/>
          <p:nvPr/>
        </p:nvPicPr>
        <p:blipFill>
          <a:blip r:embed="rId1"/>
          <a:stretch/>
        </p:blipFill>
        <p:spPr>
          <a:xfrm>
            <a:off x="7524720" y="822240"/>
            <a:ext cx="129528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Блок-схема: решение 4"/>
          <p:cNvGrpSpPr/>
          <p:nvPr/>
        </p:nvGrpSpPr>
        <p:grpSpPr>
          <a:xfrm>
            <a:off x="-19080" y="1884240"/>
            <a:ext cx="506520" cy="474840"/>
            <a:chOff x="-19080" y="1884240"/>
            <a:chExt cx="506520" cy="474840"/>
          </a:xfrm>
        </p:grpSpPr>
        <p:pic>
          <p:nvPicPr>
            <p:cNvPr id="67" name="Блок-схема: решение 4" descr=""/>
            <p:cNvPicPr/>
            <p:nvPr/>
          </p:nvPicPr>
          <p:blipFill>
            <a:blip r:embed="rId2"/>
            <a:stretch/>
          </p:blipFill>
          <p:spPr>
            <a:xfrm>
              <a:off x="-19080" y="1884240"/>
              <a:ext cx="5065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38240" y="2006640"/>
              <a:ext cx="198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Блок-схема: решение 5"/>
          <p:cNvGrpSpPr/>
          <p:nvPr/>
        </p:nvGrpSpPr>
        <p:grpSpPr>
          <a:xfrm>
            <a:off x="-19080" y="3760920"/>
            <a:ext cx="506520" cy="469800"/>
            <a:chOff x="-19080" y="3760920"/>
            <a:chExt cx="506520" cy="469800"/>
          </a:xfrm>
        </p:grpSpPr>
        <p:pic>
          <p:nvPicPr>
            <p:cNvPr id="70" name="Блок-схема: решение 5" descr=""/>
            <p:cNvPicPr/>
            <p:nvPr/>
          </p:nvPicPr>
          <p:blipFill>
            <a:blip r:embed="rId3"/>
            <a:stretch/>
          </p:blipFill>
          <p:spPr>
            <a:xfrm>
              <a:off x="-19080" y="3760920"/>
              <a:ext cx="5065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38240" y="3878280"/>
              <a:ext cx="198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Блок-схема: решение 6"/>
          <p:cNvGrpSpPr/>
          <p:nvPr/>
        </p:nvGrpSpPr>
        <p:grpSpPr>
          <a:xfrm>
            <a:off x="19080" y="6066000"/>
            <a:ext cx="504720" cy="468000"/>
            <a:chOff x="19080" y="6066000"/>
            <a:chExt cx="504720" cy="468000"/>
          </a:xfrm>
        </p:grpSpPr>
        <p:pic>
          <p:nvPicPr>
            <p:cNvPr id="73" name="Блок-схема: решение 6" descr=""/>
            <p:cNvPicPr/>
            <p:nvPr/>
          </p:nvPicPr>
          <p:blipFill>
            <a:blip r:embed="rId4"/>
            <a:stretch/>
          </p:blipFill>
          <p:spPr>
            <a:xfrm>
              <a:off x="19080" y="6066000"/>
              <a:ext cx="50472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69920" y="6183360"/>
              <a:ext cx="1983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921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7375e"/>
                </a:solidFill>
                <a:latin typeface="Arial"/>
                <a:ea typeface="Arial"/>
              </a:rPr>
              <a:t>Методы исследования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684360" y="2082960"/>
            <a:ext cx="712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интервью (авторская скрининг-система)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валидизированная  Шкала безнадежности Бэк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5968"/>
                </a:solidFill>
                <a:latin typeface="Arial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Блок-схема: решение 5"/>
          <p:cNvGrpSpPr/>
          <p:nvPr/>
        </p:nvGrpSpPr>
        <p:grpSpPr>
          <a:xfrm>
            <a:off x="128520" y="2176560"/>
            <a:ext cx="504720" cy="469800"/>
            <a:chOff x="128520" y="2176560"/>
            <a:chExt cx="504720" cy="469800"/>
          </a:xfrm>
        </p:grpSpPr>
        <p:pic>
          <p:nvPicPr>
            <p:cNvPr id="78" name="Блок-схема: решение 5" descr=""/>
            <p:cNvPicPr/>
            <p:nvPr/>
          </p:nvPicPr>
          <p:blipFill>
            <a:blip r:embed="rId1"/>
            <a:stretch/>
          </p:blipFill>
          <p:spPr>
            <a:xfrm>
              <a:off x="128520" y="2176560"/>
              <a:ext cx="504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2600" y="2295360"/>
              <a:ext cx="19692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Блок-схема: решение 6"/>
          <p:cNvGrpSpPr/>
          <p:nvPr/>
        </p:nvGrpSpPr>
        <p:grpSpPr>
          <a:xfrm>
            <a:off x="128520" y="3760920"/>
            <a:ext cx="504720" cy="469800"/>
            <a:chOff x="128520" y="3760920"/>
            <a:chExt cx="504720" cy="469800"/>
          </a:xfrm>
        </p:grpSpPr>
        <p:pic>
          <p:nvPicPr>
            <p:cNvPr id="81" name="Блок-схема: решение 6" descr=""/>
            <p:cNvPicPr/>
            <p:nvPr/>
          </p:nvPicPr>
          <p:blipFill>
            <a:blip r:embed="rId2"/>
            <a:stretch/>
          </p:blipFill>
          <p:spPr>
            <a:xfrm>
              <a:off x="128520" y="3760920"/>
              <a:ext cx="504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82600" y="3878280"/>
              <a:ext cx="1969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Блок-схема: решение 7"/>
          <p:cNvGrpSpPr/>
          <p:nvPr/>
        </p:nvGrpSpPr>
        <p:grpSpPr>
          <a:xfrm>
            <a:off x="158760" y="5340240"/>
            <a:ext cx="506520" cy="470160"/>
            <a:chOff x="158760" y="5340240"/>
            <a:chExt cx="506520" cy="470160"/>
          </a:xfrm>
        </p:grpSpPr>
        <p:pic>
          <p:nvPicPr>
            <p:cNvPr id="84" name="Блок-схема: решение 7" descr=""/>
            <p:cNvPicPr/>
            <p:nvPr/>
          </p:nvPicPr>
          <p:blipFill>
            <a:blip r:embed="rId3"/>
            <a:stretch/>
          </p:blipFill>
          <p:spPr>
            <a:xfrm>
              <a:off x="158760" y="5340240"/>
              <a:ext cx="50652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5462640"/>
              <a:ext cx="198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"/>
          <p:cNvPicPr/>
          <p:nvPr/>
        </p:nvPicPr>
        <p:blipFill>
          <a:blip r:embed="rId4"/>
          <a:srcRect l="33894" t="32470" r="19066" b="15655"/>
          <a:stretch/>
        </p:blipFill>
        <p:spPr>
          <a:xfrm>
            <a:off x="6902280" y="2060640"/>
            <a:ext cx="1900440" cy="152856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7" name="Picture 3" descr=""/>
          <p:cNvPicPr/>
          <p:nvPr/>
        </p:nvPicPr>
        <p:blipFill>
          <a:blip r:embed="rId5"/>
          <a:srcRect l="33451" t="15910" r="17921" b="9405"/>
          <a:stretch/>
        </p:blipFill>
        <p:spPr>
          <a:xfrm>
            <a:off x="7093080" y="3556080"/>
            <a:ext cx="1925640" cy="15350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  <a:ea typeface="Arial"/>
              </a:rPr>
              <a:t>Исследовательская коман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Зиновьева И"/>
          <p:cNvPicPr/>
          <p:nvPr/>
        </p:nvPicPr>
        <p:blipFill>
          <a:blip r:embed="rId1"/>
          <a:stretch/>
        </p:blipFill>
        <p:spPr>
          <a:xfrm>
            <a:off x="468360" y="1557360"/>
            <a:ext cx="1233360" cy="17762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 Box 5"/>
          <p:cNvSpPr/>
          <p:nvPr/>
        </p:nvSpPr>
        <p:spPr>
          <a:xfrm>
            <a:off x="1619280" y="105264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98100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832040" y="1852560"/>
            <a:ext cx="27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Медицинская сестра-исследов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И.С. Зин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ШПОР 22.jpg"/>
          <p:cNvPicPr/>
          <p:nvPr/>
        </p:nvPicPr>
        <p:blipFill>
          <a:blip r:embed="rId2"/>
          <a:srcRect l="8822" t="0" r="14291" b="0"/>
          <a:stretch/>
        </p:blipFill>
        <p:spPr>
          <a:xfrm>
            <a:off x="4702320" y="1555920"/>
            <a:ext cx="1234800" cy="177768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4" name="Text Box 9"/>
          <p:cNvSpPr/>
          <p:nvPr/>
        </p:nvSpPr>
        <p:spPr>
          <a:xfrm>
            <a:off x="6110280" y="1778040"/>
            <a:ext cx="27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Специа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по вводу данных</a:t>
            </a:r>
            <a:r>
              <a:rPr b="1" lang="en-US" sz="1800" spc="-1" strike="noStrike">
                <a:solidFill>
                  <a:srgbClr val="21596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О.М. Ш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ЛУДЫН Т"/>
          <p:cNvPicPr/>
          <p:nvPr/>
        </p:nvPicPr>
        <p:blipFill>
          <a:blip r:embed="rId3"/>
          <a:stretch/>
        </p:blipFill>
        <p:spPr>
          <a:xfrm>
            <a:off x="1101600" y="3738600"/>
            <a:ext cx="1233720" cy="17780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6" name="Text Box 11"/>
          <p:cNvSpPr/>
          <p:nvPr/>
        </p:nvSpPr>
        <p:spPr>
          <a:xfrm>
            <a:off x="388800" y="5673600"/>
            <a:ext cx="26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Специа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по анализу данных</a:t>
            </a:r>
            <a:r>
              <a:rPr b="1" lang="en-US" sz="1800" spc="-1" strike="noStrike">
                <a:solidFill>
                  <a:srgbClr val="21596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Т.Н. Луд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Описание: DSC_2047"/>
          <p:cNvPicPr/>
          <p:nvPr/>
        </p:nvPicPr>
        <p:blipFill>
          <a:blip r:embed="rId4"/>
          <a:srcRect l="0" t="0" r="10616" b="0"/>
          <a:stretch/>
        </p:blipFill>
        <p:spPr>
          <a:xfrm>
            <a:off x="4200480" y="3738600"/>
            <a:ext cx="1235160" cy="17780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8" name="Рисунок 2" descr="Сапасаева.jpg"/>
          <p:cNvPicPr/>
          <p:nvPr/>
        </p:nvPicPr>
        <p:blipFill>
          <a:blip r:embed="rId5"/>
          <a:srcRect l="25771" t="0" r="16730" b="24211"/>
          <a:stretch/>
        </p:blipFill>
        <p:spPr>
          <a:xfrm>
            <a:off x="7157880" y="3738600"/>
            <a:ext cx="1235160" cy="177804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9" name="Text Box 14"/>
          <p:cNvSpPr/>
          <p:nvPr/>
        </p:nvSpPr>
        <p:spPr>
          <a:xfrm>
            <a:off x="3635280" y="5602320"/>
            <a:ext cx="239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Специа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по сбору данных</a:t>
            </a:r>
            <a:r>
              <a:rPr b="1" lang="en-US" sz="1800" spc="-1" strike="noStrike">
                <a:solidFill>
                  <a:srgbClr val="21596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Н.П. Мил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515280" y="558972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Специали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по сбору данных</a:t>
            </a:r>
            <a:r>
              <a:rPr b="1" lang="en-US" sz="1800" spc="-1" strike="noStrike">
                <a:solidFill>
                  <a:srgbClr val="215968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Arial"/>
              </a:rPr>
              <a:t>Л.И. Сапса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576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  <a:ea typeface="Arial"/>
              </a:rPr>
              <a:t>Ход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216000" y="1557360"/>
            <a:ext cx="8677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Arial"/>
              </a:rPr>
              <a:t>База проведения: БУЗОО «КПБ им. Н.Н. Солодн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5968"/>
                </a:solidFill>
                <a:latin typeface="Arial"/>
              </a:rPr>
              <a:t>Период исследования: с 11.06.2011 г. по 31.01.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33894" t="32470" r="19066" b="15655"/>
          <a:stretch/>
        </p:blipFill>
        <p:spPr>
          <a:xfrm>
            <a:off x="366840" y="2781360"/>
            <a:ext cx="4151160" cy="297648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2"/>
          <a:srcRect l="33451" t="15910" r="17921" b="9405"/>
          <a:stretch/>
        </p:blipFill>
        <p:spPr>
          <a:xfrm>
            <a:off x="4859280" y="2781360"/>
            <a:ext cx="3997440" cy="2976480"/>
          </a:xfrm>
          <a:prstGeom prst="rect">
            <a:avLst/>
          </a:prstGeom>
          <a:ln w="22320">
            <a:solidFill>
              <a:srgbClr val="0066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5" name="Прямоугольник 7"/>
          <p:cNvSpPr/>
          <p:nvPr/>
        </p:nvSpPr>
        <p:spPr>
          <a:xfrm>
            <a:off x="369720" y="5805360"/>
            <a:ext cx="41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ист-опросник интер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4608360" y="5765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Валидизированная Шкала безнадежности Бэ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AutoShape 2"/>
          <p:cNvGrpSpPr/>
          <p:nvPr/>
        </p:nvGrpSpPr>
        <p:grpSpPr>
          <a:xfrm>
            <a:off x="2305080" y="1646280"/>
            <a:ext cx="4156200" cy="4065480"/>
            <a:chOff x="2305080" y="1646280"/>
            <a:chExt cx="4156200" cy="4065480"/>
          </a:xfrm>
        </p:grpSpPr>
        <p:pic>
          <p:nvPicPr>
            <p:cNvPr id="108" name="AutoShape 2" descr=""/>
            <p:cNvPicPr/>
            <p:nvPr/>
          </p:nvPicPr>
          <p:blipFill>
            <a:blip r:embed="rId1"/>
            <a:stretch/>
          </p:blipFill>
          <p:spPr>
            <a:xfrm>
              <a:off x="2305080" y="1646280"/>
              <a:ext cx="4156200" cy="40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5400000">
              <a:off x="3339720" y="2612880"/>
              <a:ext cx="208620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Данные </a:t>
              </a:r>
              <a:br>
                <a:rPr sz="2400"/>
              </a:b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наблюд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за пациент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92000" y="2205000"/>
            <a:ext cx="208764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516720" y="2637000"/>
            <a:ext cx="26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амятка для родственников «Признаки  суицидального  пове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2714760"/>
            <a:ext cx="255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амятка для медсестры «Правила проведения интерв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Text Box 7"/>
          <p:cNvGrpSpPr/>
          <p:nvPr/>
        </p:nvGrpSpPr>
        <p:grpSpPr>
          <a:xfrm>
            <a:off x="414360" y="5815080"/>
            <a:ext cx="8418600" cy="525240"/>
            <a:chOff x="414360" y="5815080"/>
            <a:chExt cx="8418600" cy="525240"/>
          </a:xfrm>
        </p:grpSpPr>
        <p:pic>
          <p:nvPicPr>
            <p:cNvPr id="114" name="Text Box 7" descr=""/>
            <p:cNvPicPr/>
            <p:nvPr/>
          </p:nvPicPr>
          <p:blipFill>
            <a:blip r:embed="rId2"/>
            <a:stretch/>
          </p:blipFill>
          <p:spPr>
            <a:xfrm>
              <a:off x="414360" y="5815080"/>
              <a:ext cx="84186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0200" y="5832360"/>
              <a:ext cx="8389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215968"/>
                  </a:solidFill>
                  <a:latin typeface="Arial"/>
                </a:rPr>
                <a:t>Активное выявление суицидальных тенденций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1116000" y="476280"/>
            <a:ext cx="7313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26920" y="26028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79848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амятка для медсестры «Состояния высокого суицидального рис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5:28:31Z</dcterms:created>
  <dc:creator>Тосик</dc:creator>
  <dc:description/>
  <dc:language>en-US</dc:language>
  <cp:lastModifiedBy>Sveta</cp:lastModifiedBy>
  <dcterms:modified xsi:type="dcterms:W3CDTF">2012-06-25T18:21:30Z</dcterms:modified>
  <cp:revision>93</cp:revision>
  <dc:subject/>
  <dc:title>Слайд 1</dc:title>
</cp:coreProperties>
</file>