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11.jpeg" ContentType="image/jpeg"/>
  <Override PartName="/ppt/media/image36.jpeg" ContentType="image/jpeg"/>
  <Override PartName="/ppt/media/image9.jpeg" ContentType="image/jpeg"/>
  <Override PartName="/ppt/media/image29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5.jpeg" ContentType="image/jpeg"/>
  <Override PartName="/ppt/media/image10.png" ContentType="image/pn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564CE-FB2F-4E31-8C2D-919E9AAC7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8436-8574-406E-B648-B78148C41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BB51-6A79-4819-B852-813F10225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ECE39-F042-4567-B782-BB3CF29B7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4F10-1915-4E43-9B77-AA5A3A8C2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7B98-FD93-4AE2-9BE9-3D2B348CC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E19AC-DAE7-4A65-A59F-960B261DB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58CDD-C74C-4AF4-A636-55CBA529A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40BDC-495D-47E7-A9C5-772DCAC72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A97D7-FD47-4651-B612-42F28DE3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EA22-3EC3-4602-BD90-59FC9AFF1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2C728-3720-4374-91EF-A5D8D084E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1411E1-5077-4E6C-A9CD-1933B8D2CE2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63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Calibri"/>
                <a:ea typeface="Times New Roman"/>
              </a:rPr>
              <a:t>Бюджетное учреждение здравоохранения Омской области «Специализированная детская туберкулезная клиническая больница»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28600" y="1752120"/>
            <a:ext cx="876312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менение внутрикожной пробы       с аллергеном туберкулезным рекомбинантным в стандартном разведении (ДИАСКИНТЕСТ)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Прямоугольник 3"/>
          <p:cNvSpPr/>
          <p:nvPr/>
        </p:nvSpPr>
        <p:spPr>
          <a:xfrm>
            <a:off x="304920" y="5622840"/>
            <a:ext cx="8762760" cy="116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Calibri"/>
                <a:ea typeface="Times New Roman"/>
              </a:rPr>
              <a:t>Е.П.  Мунько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Calibri"/>
                <a:ea typeface="Times New Roman"/>
              </a:rPr>
              <a:t>старшая медицинская сестр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3333cc"/>
                </a:solidFill>
                <a:latin typeface="Calibri"/>
                <a:ea typeface="Times New Roman"/>
              </a:rPr>
              <a:t>отделения легочного туберкулеза  № 2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Заголовок 1"/>
          <p:cNvSpPr/>
          <p:nvPr/>
        </p:nvSpPr>
        <p:spPr>
          <a:xfrm>
            <a:off x="83808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дготовка к процедур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10" descr="IMG_1818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06520" y="932040"/>
            <a:ext cx="3836880" cy="28778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94" name="Picture 11" descr="IMG_1824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770360" y="930240"/>
            <a:ext cx="3840120" cy="28796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95" name="Picture 12" descr="IMG_1826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637000" y="3990960"/>
            <a:ext cx="3840120" cy="27907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Заголовок 1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дготовка к процедур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7" descr="IMG_1730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818240" y="1143000"/>
            <a:ext cx="3335040" cy="29066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98" name="Rectangle 9"/>
          <p:cNvSpPr/>
          <p:nvPr/>
        </p:nvSpPr>
        <p:spPr>
          <a:xfrm>
            <a:off x="228600" y="1684080"/>
            <a:ext cx="52578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готовить туберкулиновый шприц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9"/>
          <p:cNvSpPr/>
          <p:nvPr/>
        </p:nvSpPr>
        <p:spPr>
          <a:xfrm>
            <a:off x="228600" y="4277880"/>
            <a:ext cx="5334120" cy="216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верить срок годности и герметичность упаковки.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9" descr="IMG_1839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638680" y="4191120"/>
            <a:ext cx="3200400" cy="25905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Заголовок 1"/>
          <p:cNvSpPr/>
          <p:nvPr/>
        </p:nvSpPr>
        <p:spPr>
          <a:xfrm>
            <a:off x="15228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бор препарата в шприц из флакон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4"/>
          <p:cNvSpPr/>
          <p:nvPr/>
        </p:nvSpPr>
        <p:spPr>
          <a:xfrm>
            <a:off x="76320" y="1066680"/>
            <a:ext cx="8915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читать на флаконе название препарата, дозировку, срок годност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76320" y="2286000"/>
            <a:ext cx="8991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5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Убедиться визуально, что препарат пригоден, нет осадка. Надеть перч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7" descr="IMG_1756"/>
          <p:cNvPicPr/>
          <p:nvPr/>
        </p:nvPicPr>
        <p:blipFill>
          <a:blip r:embed="rId1">
            <a:lum contrast="16000"/>
          </a:blip>
          <a:stretch/>
        </p:blipFill>
        <p:spPr>
          <a:xfrm>
            <a:off x="4648320" y="3429000"/>
            <a:ext cx="4317840" cy="32400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IMG_1797"/>
          <p:cNvPicPr/>
          <p:nvPr/>
        </p:nvPicPr>
        <p:blipFill>
          <a:blip r:embed="rId2">
            <a:lum contrast="32000"/>
          </a:blip>
          <a:stretch/>
        </p:blipFill>
        <p:spPr>
          <a:xfrm>
            <a:off x="152280" y="3429000"/>
            <a:ext cx="431820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Заголовок 1"/>
          <p:cNvSpPr/>
          <p:nvPr/>
        </p:nvSpPr>
        <p:spPr>
          <a:xfrm>
            <a:off x="15228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бор препарата в шприц из флакон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8" descr="IMG_1702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019920" y="3962520"/>
            <a:ext cx="2971800" cy="26733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108" name="Rectangle 1"/>
          <p:cNvSpPr/>
          <p:nvPr/>
        </p:nvSpPr>
        <p:spPr>
          <a:xfrm>
            <a:off x="228600" y="1621800"/>
            <a:ext cx="5867280" cy="451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96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Снять пластиковый колпачок, прикрывающий резиновую пробку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96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Протереть резиновую пробку ватным шариком, смоченным антисептическим средством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7" descr="IMG_1701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992920" y="914400"/>
            <a:ext cx="2998800" cy="251460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Заголовок 1"/>
          <p:cNvSpPr/>
          <p:nvPr/>
        </p:nvSpPr>
        <p:spPr>
          <a:xfrm>
            <a:off x="15228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бор препарата в шприц из флакон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"/>
          <p:cNvSpPr/>
          <p:nvPr/>
        </p:nvSpPr>
        <p:spPr>
          <a:xfrm>
            <a:off x="0" y="1006920"/>
            <a:ext cx="5943600" cy="329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7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Флакон с Диаскинтестом проколоть отдельной стерильной иглой, которую после каждого забора препарата в шприц оставлять в пробке флакона, накрыв стерильной салфеткой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"/>
          <p:cNvSpPr/>
          <p:nvPr/>
        </p:nvSpPr>
        <p:spPr>
          <a:xfrm>
            <a:off x="0" y="4883400"/>
            <a:ext cx="60199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78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Times New Roman"/>
              </a:rPr>
              <a:t>Туберкулиновый шприц присоединить к игле                   во флакон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IMG_1715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257800" y="4419720"/>
            <a:ext cx="2514600" cy="22795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14" name="Picture 9" descr="IMG_1835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7075440" y="2514600"/>
            <a:ext cx="1992240" cy="175248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15" name="Picture 9" descr="IMG_1706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5746680" y="1066680"/>
            <a:ext cx="2330640" cy="182880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Заголовок 1"/>
          <p:cNvSpPr/>
          <p:nvPr/>
        </p:nvSpPr>
        <p:spPr>
          <a:xfrm>
            <a:off x="152280" y="152280"/>
            <a:ext cx="8915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100" spc="-1" strike="noStrike">
                <a:solidFill>
                  <a:srgbClr val="3333cc"/>
                </a:solidFill>
                <a:latin typeface="Calibri"/>
                <a:ea typeface="Times New Roman"/>
              </a:rPr>
              <a:t>Набор препарата в шприц из флакона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Скругленный прямоугольник 4"/>
          <p:cNvSpPr/>
          <p:nvPr/>
        </p:nvSpPr>
        <p:spPr>
          <a:xfrm>
            <a:off x="533520" y="5715000"/>
            <a:ext cx="8153280" cy="10666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Прямоугольник 5"/>
          <p:cNvSpPr/>
          <p:nvPr/>
        </p:nvSpPr>
        <p:spPr>
          <a:xfrm>
            <a:off x="457200" y="5721480"/>
            <a:ext cx="8305920" cy="9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900" spc="-1" strike="noStrike">
                <a:solidFill>
                  <a:srgbClr val="000000"/>
                </a:solidFill>
                <a:latin typeface="Calibri"/>
                <a:ea typeface="Times New Roman"/>
              </a:rPr>
              <a:t>Вскрытый флакон с Диаскинтестом хранится не более 2 часов в защищенном от света месте</a:t>
            </a:r>
            <a:endParaRPr b="0" lang="en-US" sz="2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1"/>
          <p:cNvSpPr/>
          <p:nvPr/>
        </p:nvSpPr>
        <p:spPr>
          <a:xfrm>
            <a:off x="152280" y="1006920"/>
            <a:ext cx="6705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Набрать 0,2 мл (2 дозы) Диаскинтеста, и насадить иглу туберкулинового шприца, расположив срез иглы и шкалу делений на цилиндре в одной плоскости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"/>
          <p:cNvSpPr/>
          <p:nvPr/>
        </p:nvSpPr>
        <p:spPr>
          <a:xfrm>
            <a:off x="152280" y="4053600"/>
            <a:ext cx="594360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ыпустить из шприца воздух и раствор до метки 0,1 мл в стерильный ватный шарик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8" descr="IMG_1715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6161040" y="914400"/>
            <a:ext cx="2754360" cy="228600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22" name="Picture 2" descr="K:\диаскинтест\IMG_1657.jpg"/>
          <p:cNvPicPr/>
          <p:nvPr/>
        </p:nvPicPr>
        <p:blipFill>
          <a:blip r:embed="rId2"/>
          <a:stretch/>
        </p:blipFill>
        <p:spPr>
          <a:xfrm>
            <a:off x="6172200" y="3505320"/>
            <a:ext cx="2743200" cy="21333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Заголовок 1"/>
          <p:cNvSpPr/>
          <p:nvPr/>
        </p:nvSpPr>
        <p:spPr>
          <a:xfrm>
            <a:off x="83808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Выполне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152280" y="809640"/>
            <a:ext cx="5867640" cy="57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6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Обработать участок кожи на внутренней поверхности средней трети предплечья пациента двумя салфетками, смоченными антисептиком, затем просушить этот участок сухим стерильным ватным шариком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6001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Слегка натянуть кожу в области инъекционного поля левой рукой, обхватив предплечье с тыльной стороны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8" descr="IMG_1786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791320" y="914400"/>
            <a:ext cx="3047760" cy="243828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26" name="Picture 9" descr="IMG_1790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791320" y="3962520"/>
            <a:ext cx="3128760" cy="251748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Заголовок 1"/>
          <p:cNvSpPr/>
          <p:nvPr/>
        </p:nvSpPr>
        <p:spPr>
          <a:xfrm>
            <a:off x="83808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Выполне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Прямоугольник 4"/>
          <p:cNvSpPr/>
          <p:nvPr/>
        </p:nvSpPr>
        <p:spPr>
          <a:xfrm>
            <a:off x="0" y="1219320"/>
            <a:ext cx="5257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Взять шприц правой рукой, придерживая канюлю иглы указательным пальцем, держа иглу срезом вверх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5"/>
          <p:cNvSpPr/>
          <p:nvPr/>
        </p:nvSpPr>
        <p:spPr>
          <a:xfrm>
            <a:off x="76320" y="3733920"/>
            <a:ext cx="541008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Под углом 5</a:t>
            </a:r>
            <a:r>
              <a:rPr b="1" lang="ru-RU" sz="27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о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  <a:ea typeface="Times New Roman"/>
              </a:rPr>
              <a:t> почти параллельно коже ввести иглу внутрикожно в верхние слои натянутой кожи так, чтобы скрылся ее просвет и медленно ввести 0,1 мл препарата, т.е. 1 дозу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9" descr="IMG_1789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557680" y="1066680"/>
            <a:ext cx="3357720" cy="25178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31" name="Picture 10" descr="IMG_1794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5562720" y="3886200"/>
            <a:ext cx="3357360" cy="25178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Заголовок 1"/>
          <p:cNvSpPr/>
          <p:nvPr/>
        </p:nvSpPr>
        <p:spPr>
          <a:xfrm>
            <a:off x="838080" y="763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Выполне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Rectangle 1"/>
          <p:cNvSpPr/>
          <p:nvPr/>
        </p:nvSpPr>
        <p:spPr>
          <a:xfrm>
            <a:off x="76320" y="939600"/>
            <a:ext cx="79246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Извлечь иглу, место инъекции антисептиком не обрабатывать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Рисунок 9" descr="C:\Documents and Settings\Admin\Рабочий стол\101MSDCF\DSC01815.jpg"/>
          <p:cNvPicPr/>
          <p:nvPr/>
        </p:nvPicPr>
        <p:blipFill>
          <a:blip r:embed="rId1"/>
          <a:stretch/>
        </p:blipFill>
        <p:spPr>
          <a:xfrm>
            <a:off x="2030400" y="3352680"/>
            <a:ext cx="4675320" cy="342900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135" name="Rectangle 1"/>
          <p:cNvSpPr/>
          <p:nvPr/>
        </p:nvSpPr>
        <p:spPr>
          <a:xfrm>
            <a:off x="76320" y="1986120"/>
            <a:ext cx="8991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При правильной технике на коже образуется папула в виде «лимонной корочки» беловатого цвета размером 7-10 мм в диаметр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151920" y="1066320"/>
            <a:ext cx="495324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Утилизировать шприц и использованный материал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Рисунок 6" descr="C:\Documents and Settings\Admin\Рабочий стол\101MSDCF\DSC01818.jpg"/>
          <p:cNvPicPr/>
          <p:nvPr/>
        </p:nvPicPr>
        <p:blipFill>
          <a:blip r:embed="rId1"/>
          <a:stretch/>
        </p:blipFill>
        <p:spPr>
          <a:xfrm>
            <a:off x="5410080" y="1066680"/>
            <a:ext cx="3591000" cy="23623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38" name="Рисунок 10" descr="C:\Documents and Settings\Admin\Рабочий стол\101MSDCF\DSC01819.jpg"/>
          <p:cNvPicPr/>
          <p:nvPr/>
        </p:nvPicPr>
        <p:blipFill>
          <a:blip r:embed="rId2"/>
          <a:stretch/>
        </p:blipFill>
        <p:spPr>
          <a:xfrm>
            <a:off x="2514600" y="2230560"/>
            <a:ext cx="3495600" cy="26463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39" name="Рисунок 12" descr="C:\Documents and Settings\Admin\Рабочий стол\101MSDCF\DSC01821.jpg"/>
          <p:cNvPicPr/>
          <p:nvPr/>
        </p:nvPicPr>
        <p:blipFill>
          <a:blip r:embed="rId3"/>
          <a:stretch/>
        </p:blipFill>
        <p:spPr>
          <a:xfrm>
            <a:off x="6400800" y="4419720"/>
            <a:ext cx="1981080" cy="23619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140" name="Заголовок 1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конча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8"/>
          <p:cNvSpPr/>
          <p:nvPr/>
        </p:nvSpPr>
        <p:spPr>
          <a:xfrm>
            <a:off x="0" y="524664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нять перчатки, поместить их в емкость для дезинфекц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Прямоугольник 3"/>
          <p:cNvSpPr/>
          <p:nvPr/>
        </p:nvSpPr>
        <p:spPr>
          <a:xfrm>
            <a:off x="0" y="5334120"/>
            <a:ext cx="914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3333cc"/>
                </a:solidFill>
                <a:latin typeface="Calibri"/>
                <a:ea typeface="Times New Roman"/>
              </a:rPr>
              <a:t>(приказ МЗ и СР РФ № 855 от 25.10.09 г. «О внесении изменения в приложение № 4 к приказу от 21.03.03 г. № 109 «О совершенствовании противотуберкулезных мероприятий РФ»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Прямоугольник 4"/>
          <p:cNvSpPr/>
          <p:nvPr/>
        </p:nvSpPr>
        <p:spPr>
          <a:xfrm>
            <a:off x="0" y="228600"/>
            <a:ext cx="914400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Calibri"/>
                <a:ea typeface="Times New Roman"/>
              </a:rPr>
              <a:t>Интерпретация туберкулиновой пробы из-за перекрестной сенсибилизации организма вакцинным штаммом БЦЖ и МБТ при инфицировании в обоих случаях сопровождается положительной реакцией на туберкулин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Прямоугольник 5"/>
          <p:cNvSpPr/>
          <p:nvPr/>
        </p:nvSpPr>
        <p:spPr>
          <a:xfrm>
            <a:off x="457200" y="3962520"/>
            <a:ext cx="8305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libri"/>
                <a:ea typeface="Times New Roman"/>
              </a:rPr>
              <a:t>разработан препарат «Диаскинтест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Стрелка вниз 7"/>
          <p:cNvGrpSpPr/>
          <p:nvPr/>
        </p:nvGrpSpPr>
        <p:grpSpPr>
          <a:xfrm>
            <a:off x="3943440" y="2798640"/>
            <a:ext cx="561960" cy="1096920"/>
            <a:chOff x="3943440" y="2798640"/>
            <a:chExt cx="561960" cy="1096920"/>
          </a:xfrm>
        </p:grpSpPr>
        <p:pic>
          <p:nvPicPr>
            <p:cNvPr id="48" name="Стрелка вниз 7" descr=""/>
            <p:cNvPicPr/>
            <p:nvPr/>
          </p:nvPicPr>
          <p:blipFill>
            <a:blip r:embed="rId1"/>
            <a:stretch/>
          </p:blipFill>
          <p:spPr>
            <a:xfrm>
              <a:off x="3943440" y="2798640"/>
              <a:ext cx="56196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095720" y="2819520"/>
              <a:ext cx="266760" cy="93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Заголовок 1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конча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10" descr="IMG_1818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506520" y="932040"/>
            <a:ext cx="3836880" cy="28778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44" name="Picture 11" descr="IMG_1824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4770360" y="930240"/>
            <a:ext cx="3840120" cy="28796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145" name="Picture 12" descr="IMG_1826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2637000" y="3990960"/>
            <a:ext cx="3840120" cy="27907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152280" y="1066320"/>
            <a:ext cx="86868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Сделать соответствующую запись о результатах выполнения в медицинскую документацию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Заголовок 1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кончание процедуры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7" descr="IMG_1750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1828800" y="2209680"/>
            <a:ext cx="5867280" cy="440208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Прямоугольник 1"/>
          <p:cNvSpPr/>
          <p:nvPr/>
        </p:nvSpPr>
        <p:spPr>
          <a:xfrm>
            <a:off x="152280" y="19080"/>
            <a:ext cx="883944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3333cc"/>
                </a:solidFill>
                <a:latin typeface="Calibri"/>
                <a:ea typeface="Times New Roman"/>
              </a:rPr>
              <a:t>Дополнительные сведения об особенностях выполнения процедур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Rectangle 1"/>
          <p:cNvSpPr/>
          <p:nvPr/>
        </p:nvSpPr>
        <p:spPr>
          <a:xfrm>
            <a:off x="609480" y="1482120"/>
            <a:ext cx="8534520" cy="527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Aft>
                <a:spcPts val="3600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Предупредить пациента или его родственников, чтобы место укола не мочили и не расчесывал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Рекомендовать пациенту в течение 3-х суток соблюдать гипоаллергенную дие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3600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Через 15-30 мин. после процедуры обязательно узнать у пациента о его самочувствии и о реакции на введенный препарат (выявление осложнений и аллергических реакций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Скругленный прямоугольник 3"/>
          <p:cNvSpPr/>
          <p:nvPr/>
        </p:nvSpPr>
        <p:spPr>
          <a:xfrm>
            <a:off x="228600" y="1676520"/>
            <a:ext cx="30492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Скругленный прямоугольник 4"/>
          <p:cNvSpPr/>
          <p:nvPr/>
        </p:nvSpPr>
        <p:spPr>
          <a:xfrm>
            <a:off x="228600" y="3352680"/>
            <a:ext cx="304920" cy="304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Скругленный прямоугольник 5"/>
          <p:cNvSpPr/>
          <p:nvPr/>
        </p:nvSpPr>
        <p:spPr>
          <a:xfrm>
            <a:off x="228600" y="4648320"/>
            <a:ext cx="30492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ubTitle"/>
          </p:nvPr>
        </p:nvSpPr>
        <p:spPr>
          <a:xfrm>
            <a:off x="151920" y="1371600"/>
            <a:ext cx="8991720" cy="41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зультат пробы оценивает врач через 72 часа с момента ее проведения путем измерения поперечного (по отношению к оси предплечья) размера гиперемии и инфильтрата (папулы) в миллиметрах прозрачной линейкой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Гиперемию учитывают только в случае отсутствия инфильтрата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Заголовок 1"/>
          <p:cNvSpPr/>
          <p:nvPr/>
        </p:nvSpPr>
        <p:spPr>
          <a:xfrm>
            <a:off x="838080" y="30492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3333cc"/>
                </a:solidFill>
                <a:latin typeface="Calibri"/>
                <a:ea typeface="Times New Roman"/>
              </a:rPr>
              <a:t>Учет результатов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280" y="15228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тветная реакция на пробу считается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рицательной – при полном отсутствии инфильтрата и гиперемии или при наличии «уколочной реакции»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8" name="Picture 2" descr="C:\Documents and Settings\Admin\Рабочий стол\Фотики\DSC01262.jpg"/>
          <p:cNvPicPr/>
          <p:nvPr/>
        </p:nvPicPr>
        <p:blipFill>
          <a:blip r:embed="rId1"/>
          <a:stretch/>
        </p:blipFill>
        <p:spPr>
          <a:xfrm>
            <a:off x="2209680" y="3352680"/>
            <a:ext cx="4496040" cy="33721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0" y="1599840"/>
            <a:ext cx="9144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мнительной – при наличии гиперемии (любого размера без инфильтрата) или инфильтрата размером 2-4 мм.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8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0" name="Picture 2" descr="C:\Documents and Settings\Admin\Рабочий стол\Фотики\DSC01268.jpg"/>
          <p:cNvPicPr/>
          <p:nvPr/>
        </p:nvPicPr>
        <p:blipFill>
          <a:blip r:embed="rId1"/>
          <a:stretch/>
        </p:blipFill>
        <p:spPr>
          <a:xfrm>
            <a:off x="2438280" y="3276720"/>
            <a:ext cx="4673880" cy="35049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тветная реакция на пробу считается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151920" y="1600200"/>
            <a:ext cx="89917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  <a:ea typeface="Times New Roman"/>
              </a:rPr>
              <a:t>Положительной – при наличии инфильтрата размером 5 мм и более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3" name="Picture 2" descr="C:\Documents and Settings\Admin\Рабочий стол\Фотики\DSC01269.jpg"/>
          <p:cNvPicPr/>
          <p:nvPr/>
        </p:nvPicPr>
        <p:blipFill>
          <a:blip r:embed="rId1"/>
          <a:stretch/>
        </p:blipFill>
        <p:spPr>
          <a:xfrm>
            <a:off x="1905120" y="2971800"/>
            <a:ext cx="5029200" cy="377208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тветная реакция на пробу считается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76320" y="1599840"/>
            <a:ext cx="899136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2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и размере инфильтрата 15 мм и более, при везикуло-некротических изменениях и (или) лимфангоите, лифадените независимо от размера инфильтрата реакция на препарат считается гиперергической.</a:t>
            </a:r>
            <a:endParaRPr b="0" lang="en-US" sz="3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52280" y="76320"/>
            <a:ext cx="86868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Ответная реакция на пробу считается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Скругленный прямоугольник 6"/>
          <p:cNvSpPr/>
          <p:nvPr/>
        </p:nvSpPr>
        <p:spPr>
          <a:xfrm>
            <a:off x="609480" y="4876920"/>
            <a:ext cx="8229600" cy="1828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3"/>
          <p:cNvSpPr/>
          <p:nvPr/>
        </p:nvSpPr>
        <p:spPr>
          <a:xfrm>
            <a:off x="609480" y="4952880"/>
            <a:ext cx="8229600" cy="16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000000"/>
                </a:solidFill>
                <a:latin typeface="Calibri"/>
                <a:ea typeface="Times New Roman"/>
              </a:rPr>
              <a:t>Лица с сомнительной и положительной реакцией на ДИАСКИНТЕСТ обследуются на туберкулез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ubTitle"/>
          </p:nvPr>
        </p:nvSpPr>
        <p:spPr>
          <a:xfrm>
            <a:off x="228240" y="2590920"/>
            <a:ext cx="891540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14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700" spc="-1" strike="noStrike">
                <a:solidFill>
                  <a:srgbClr val="000000"/>
                </a:solidFill>
                <a:latin typeface="Calibri"/>
                <a:ea typeface="Times New Roman"/>
              </a:rPr>
              <a:t>Благодарю за внимание!</a:t>
            </a:r>
            <a:endParaRPr b="0" lang="en-US" sz="5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380520" y="1904760"/>
            <a:ext cx="8915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рекомбинантный белок, продуцируемый генетически модифицированной культурой, разведенный в стерильном изотоническом фосфатном буферном растворе,                        с консервантом (фенол)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содержит 2 антигена, присутствующие в вирулентных штаммах микобактерий туберкулеза и отсутствующие            в вакцинном штамме БЦЖ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бесцветная прозрачная жидкость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выпускается во флаконах по 3 мл (30 доз)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3" descr="C:\Documents and Settings\Admin\Рабочий стол\STP83360.jpg"/>
          <p:cNvPicPr/>
          <p:nvPr/>
        </p:nvPicPr>
        <p:blipFill>
          <a:blip r:embed="rId1"/>
          <a:stretch/>
        </p:blipFill>
        <p:spPr>
          <a:xfrm>
            <a:off x="6700680" y="4800600"/>
            <a:ext cx="2291040" cy="188604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52" name="Прямоугольник 3"/>
          <p:cNvSpPr/>
          <p:nvPr/>
        </p:nvSpPr>
        <p:spPr>
          <a:xfrm>
            <a:off x="533520" y="-22320"/>
            <a:ext cx="8305560" cy="77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cc"/>
                </a:solidFill>
                <a:latin typeface="Calibri"/>
                <a:ea typeface="Times New Roman"/>
              </a:rPr>
              <a:t>Диаскинтест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5"/>
          <p:cNvSpPr/>
          <p:nvPr/>
        </p:nvSpPr>
        <p:spPr>
          <a:xfrm>
            <a:off x="762120" y="892080"/>
            <a:ext cx="8076960" cy="7621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4"/>
          <p:cNvSpPr/>
          <p:nvPr/>
        </p:nvSpPr>
        <p:spPr>
          <a:xfrm>
            <a:off x="380880" y="911160"/>
            <a:ext cx="86108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000000"/>
                </a:solidFill>
                <a:latin typeface="Calibri"/>
                <a:ea typeface="Times New Roman"/>
              </a:rPr>
              <a:t>аллерген туберкулезный рекомбинантный                            в стандартном разведении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кругленный прямоугольник 6"/>
          <p:cNvSpPr/>
          <p:nvPr/>
        </p:nvSpPr>
        <p:spPr>
          <a:xfrm>
            <a:off x="76320" y="20574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Скругленный прямоугольник 7"/>
          <p:cNvSpPr/>
          <p:nvPr/>
        </p:nvSpPr>
        <p:spPr>
          <a:xfrm>
            <a:off x="76320" y="4038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Скругленный прямоугольник 8"/>
          <p:cNvSpPr/>
          <p:nvPr/>
        </p:nvSpPr>
        <p:spPr>
          <a:xfrm>
            <a:off x="76320" y="54864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Скругленный прямоугольник 9"/>
          <p:cNvSpPr/>
          <p:nvPr/>
        </p:nvSpPr>
        <p:spPr>
          <a:xfrm>
            <a:off x="76320" y="6324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228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3333cc"/>
                </a:solidFill>
                <a:latin typeface="Calibri"/>
                <a:ea typeface="Times New Roman"/>
              </a:rPr>
              <a:t>Диаскинтест предназначен для постановки внутрикожной пробы с целью: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6840" y="1447920"/>
            <a:ext cx="8381880" cy="350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агностики туберкулеза и оценки активности процесс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фференциальной диагностики туберкулеза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фференциальной диагностики поствакцинальной и инфекционной аллергии (гиперчувствительности замедленного типа);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Aft>
                <a:spcPts val="36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наблюдения за эффективностью лечения                     в комплексе с другими методами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Скругленный прямоугольник 3"/>
          <p:cNvSpPr/>
          <p:nvPr/>
        </p:nvSpPr>
        <p:spPr>
          <a:xfrm>
            <a:off x="76320" y="160020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4"/>
          <p:cNvSpPr/>
          <p:nvPr/>
        </p:nvSpPr>
        <p:spPr>
          <a:xfrm>
            <a:off x="76320" y="2895480"/>
            <a:ext cx="304560" cy="304920"/>
          </a:xfrm>
          <a:custGeom>
            <a:avLst/>
            <a:gdLst>
              <a:gd name="textAreaLeft" fmla="*/ 14760 w 304560"/>
              <a:gd name="textAreaRight" fmla="*/ 289800 w 304560"/>
              <a:gd name="textAreaTop" fmla="*/ 14760 h 304920"/>
              <a:gd name="textAreaBottom" fmla="*/ 290160 h 304920"/>
            </a:gdLst>
            <a:ahLst/>
            <a:rect l="textAreaLeft" t="textAreaTop" r="textAreaRight" b="textAreaBottom"/>
            <a:pathLst>
              <a:path w="21600" h="21626">
                <a:moveTo>
                  <a:pt x="3600" y="0"/>
                </a:moveTo>
                <a:arcTo wR="3600" hR="3600" stAng="16200000" swAng="-5400000"/>
                <a:lnTo>
                  <a:pt x="0" y="18026"/>
                </a:lnTo>
                <a:arcTo wR="3600" hR="3600" stAng="10800000" swAng="-5400000"/>
                <a:lnTo>
                  <a:pt x="18000" y="2162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5"/>
          <p:cNvSpPr/>
          <p:nvPr/>
        </p:nvSpPr>
        <p:spPr>
          <a:xfrm>
            <a:off x="76320" y="3733920"/>
            <a:ext cx="30456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6"/>
          <p:cNvSpPr/>
          <p:nvPr/>
        </p:nvSpPr>
        <p:spPr>
          <a:xfrm>
            <a:off x="76320" y="5562720"/>
            <a:ext cx="304560" cy="304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Скругленный прямоугольник 26"/>
          <p:cNvSpPr/>
          <p:nvPr/>
        </p:nvSpPr>
        <p:spPr>
          <a:xfrm>
            <a:off x="3124080" y="4114800"/>
            <a:ext cx="2895840" cy="25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27"/>
          <p:cNvSpPr/>
          <p:nvPr/>
        </p:nvSpPr>
        <p:spPr>
          <a:xfrm>
            <a:off x="6172200" y="4114800"/>
            <a:ext cx="2895480" cy="25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9"/>
          <p:cNvSpPr/>
          <p:nvPr/>
        </p:nvSpPr>
        <p:spPr>
          <a:xfrm>
            <a:off x="762120" y="2133720"/>
            <a:ext cx="34290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Прямоугольник 10"/>
          <p:cNvSpPr/>
          <p:nvPr/>
        </p:nvSpPr>
        <p:spPr>
          <a:xfrm>
            <a:off x="0" y="196920"/>
            <a:ext cx="91440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cc"/>
                </a:solidFill>
                <a:latin typeface="Calibri"/>
                <a:ea typeface="Times New Roman"/>
              </a:rPr>
              <a:t>Применение внутрикожного теста с туберкулезным аллергеном для выявления гиперчувствительности замедленного типа может считаться эталонным методом при соблюдении следующих требова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Прямоугольник 16"/>
          <p:cNvSpPr/>
          <p:nvPr/>
        </p:nvSpPr>
        <p:spPr>
          <a:xfrm>
            <a:off x="609480" y="2073240"/>
            <a:ext cx="365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о высокая чувствительнос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Скругленный прямоугольник 22"/>
          <p:cNvSpPr/>
          <p:nvPr/>
        </p:nvSpPr>
        <p:spPr>
          <a:xfrm>
            <a:off x="4952880" y="2133720"/>
            <a:ext cx="34290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18"/>
          <p:cNvSpPr/>
          <p:nvPr/>
        </p:nvSpPr>
        <p:spPr>
          <a:xfrm>
            <a:off x="4952880" y="2073240"/>
            <a:ext cx="33530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аксимально высокая специфичность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Скругленный прямоугольник 23"/>
          <p:cNvSpPr/>
          <p:nvPr/>
        </p:nvSpPr>
        <p:spPr>
          <a:xfrm>
            <a:off x="76320" y="4038480"/>
            <a:ext cx="2895480" cy="2514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20"/>
          <p:cNvSpPr/>
          <p:nvPr/>
        </p:nvSpPr>
        <p:spPr>
          <a:xfrm>
            <a:off x="-76320" y="4343400"/>
            <a:ext cx="320040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отсутствие положительной реакции у лиц, вакцинированных БЦ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Прямоугольник 24"/>
          <p:cNvSpPr/>
          <p:nvPr/>
        </p:nvSpPr>
        <p:spPr>
          <a:xfrm>
            <a:off x="3124080" y="4343400"/>
            <a:ext cx="3048120" cy="201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имальная частота проявлений неспецифической аллерг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25"/>
          <p:cNvSpPr/>
          <p:nvPr/>
        </p:nvSpPr>
        <p:spPr>
          <a:xfrm>
            <a:off x="6172200" y="4572000"/>
            <a:ext cx="2971800" cy="16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минимальная частота избыточно сильных реак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52280" y="228240"/>
            <a:ext cx="86868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3333cc"/>
                </a:solidFill>
                <a:latin typeface="Calibri"/>
                <a:ea typeface="Times New Roman"/>
              </a:rPr>
              <a:t>Способ применения и дозировки</a:t>
            </a:r>
            <a:endParaRPr b="0" lang="en-US" sz="4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5" descr="111"/>
          <p:cNvPicPr/>
          <p:nvPr/>
        </p:nvPicPr>
        <p:blipFill>
          <a:blip r:embed="rId1"/>
          <a:stretch/>
        </p:blipFill>
        <p:spPr>
          <a:xfrm>
            <a:off x="6019920" y="4419720"/>
            <a:ext cx="3011400" cy="228600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78" name="Подзаголовок 2"/>
          <p:cNvSpPr/>
          <p:nvPr/>
        </p:nvSpPr>
        <p:spPr>
          <a:xfrm>
            <a:off x="228600" y="2590920"/>
            <a:ext cx="8305920" cy="19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1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alibri"/>
                <a:ea typeface="Times New Roman"/>
              </a:rPr>
              <a:t>Кожную пробу проводит медицинская сестра, имеющая допуск к проведению              внутрикожных тестов,                                          по назначению врача.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Скругленный прямоугольник 7"/>
          <p:cNvSpPr/>
          <p:nvPr/>
        </p:nvSpPr>
        <p:spPr>
          <a:xfrm>
            <a:off x="304920" y="1295280"/>
            <a:ext cx="8458200" cy="685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cap="rnd"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304920" y="1295280"/>
            <a:ext cx="8534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  <a:ea typeface="Times New Roman"/>
              </a:rPr>
              <a:t>Диаскинтест вводится внутрикож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"/>
          <p:cNvSpPr/>
          <p:nvPr/>
        </p:nvSpPr>
        <p:spPr>
          <a:xfrm>
            <a:off x="228600" y="1010880"/>
            <a:ext cx="8610480" cy="187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000000"/>
                </a:solidFill>
                <a:latin typeface="Calibri"/>
                <a:ea typeface="Times New Roman"/>
              </a:rPr>
              <a:t>Врач получает информированное письменное согласие родителей               на обследование ребенка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Заголовок 1"/>
          <p:cNvSpPr/>
          <p:nvPr/>
        </p:nvSpPr>
        <p:spPr>
          <a:xfrm>
            <a:off x="838080" y="152280"/>
            <a:ext cx="777240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дготовка к процедур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C:\Users\User\Downloads\получает письменное согласие.jpg"/>
          <p:cNvPicPr/>
          <p:nvPr/>
        </p:nvPicPr>
        <p:blipFill>
          <a:blip r:embed="rId1"/>
          <a:stretch/>
        </p:blipFill>
        <p:spPr>
          <a:xfrm>
            <a:off x="1879560" y="2971800"/>
            <a:ext cx="4978440" cy="37339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дготовка к процедуре</a:t>
            </a: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5" name="Picture 6" descr="IMG_1779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4724280" y="3543480"/>
            <a:ext cx="4113360" cy="30859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sp>
        <p:nvSpPr>
          <p:cNvPr id="86" name="Rectangle 5"/>
          <p:cNvSpPr/>
          <p:nvPr/>
        </p:nvSpPr>
        <p:spPr>
          <a:xfrm>
            <a:off x="76320" y="1076760"/>
            <a:ext cx="9144000" cy="22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Медицинской сестре убедиться в наличии письменного согласия на обследование ребен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1800"/>
              </a:spcAft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  <a:ea typeface="Times New Roman"/>
              </a:rPr>
              <a:t>Представиться пациенту, объяснить ход и цель процедуры проведения диаскинтес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6" descr="C:\Users\User\Downloads\убедиться в письменном согласии.jpg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304920" y="3543480"/>
            <a:ext cx="4114800" cy="30859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Заголовок 1"/>
          <p:cNvSpPr/>
          <p:nvPr/>
        </p:nvSpPr>
        <p:spPr>
          <a:xfrm>
            <a:off x="838080" y="22860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900" spc="-1" strike="noStrike">
                <a:solidFill>
                  <a:srgbClr val="3333cc"/>
                </a:solidFill>
                <a:latin typeface="Calibri"/>
                <a:ea typeface="Times New Roman"/>
              </a:rPr>
              <a:t>Подготовка к процедуре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IMG_1780"/>
          <p:cNvPicPr/>
          <p:nvPr/>
        </p:nvPicPr>
        <p:blipFill>
          <a:blip r:embed="rId2">
            <a:lum bright="20000"/>
          </a:blip>
          <a:stretch/>
        </p:blipFill>
        <p:spPr>
          <a:xfrm>
            <a:off x="228600" y="3083040"/>
            <a:ext cx="4267080" cy="347796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90" name="Picture 7" descr="IMG_1782"/>
          <p:cNvPicPr/>
          <p:nvPr/>
        </p:nvPicPr>
        <p:blipFill>
          <a:blip r:embed="rId3">
            <a:lum bright="20000"/>
          </a:blip>
          <a:stretch/>
        </p:blipFill>
        <p:spPr>
          <a:xfrm>
            <a:off x="4724280" y="3086280"/>
            <a:ext cx="4267440" cy="3474720"/>
          </a:xfrm>
          <a:prstGeom prst="rect">
            <a:avLst/>
          </a:prstGeom>
          <a:ln w="31680">
            <a:solidFill>
              <a:srgbClr val="3333cc"/>
            </a:solidFill>
            <a:miter/>
          </a:ln>
        </p:spPr>
      </p:pic>
      <p:pic>
        <p:nvPicPr>
          <p:cNvPr id="91" name="Rectangle 6" descr=""/>
          <p:cNvPicPr/>
          <p:nvPr/>
        </p:nvPicPr>
        <p:blipFill>
          <a:blip r:embed="rId4"/>
          <a:stretch/>
        </p:blipFill>
        <p:spPr>
          <a:xfrm>
            <a:off x="-165240" y="1090440"/>
            <a:ext cx="9468000" cy="16592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ОПСА</cp:lastModifiedBy>
  <dcterms:modified xsi:type="dcterms:W3CDTF">2011-04-01T08:32:50Z</dcterms:modified>
  <cp:revision>150</cp:revision>
  <dc:subject/>
  <dc:title>Бюджетное учреждение здравоохранения Омской области «Специализированная детская туберкулезная клиническая больница»</dc:title>
</cp:coreProperties>
</file>