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68C2-FB0E-48C1-9C8E-B1D638876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F417-E07E-431B-860B-DDB54D2EAE2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29CD-4DBF-4283-AB53-67A9877877E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B1CA8-4439-4E58-B726-8E32AF3D46E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F9D7C-7064-42FA-9F2F-9B22D23C017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F6412-2832-490A-9FBC-3167B4CA348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71A4D-6AE7-4909-817E-AA8CABD7DB5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FC8E6-B124-4556-B3B0-B90BD6E58DC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C5F51-2F82-4099-9624-FD698B49605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3E23F-1807-4C45-B64C-30E2F395016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0E406-9AD7-469D-8E42-1B2811E0514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097DD1-6103-4519-9B65-2F79E0A82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CF76-4593-4DA0-A5E2-0654B62B8BB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149A64-3887-46C0-A7EA-A3322A1E427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5D2727-CD95-4AEC-9939-9ACCA9F9106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E231B-7383-4E61-AB88-DBD91F8261B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8BB422-FF2F-4099-8FB5-E02F863518E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2ECF41-92A9-4D7E-BC38-878AA563CE6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63E340-718F-424F-86CF-58051252DD2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965218-962D-49D8-9A72-B63EB347B44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E94EB5-0B78-43F7-A0A8-7B90A71F9F7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4D0C2-95D2-415A-B1B0-EACB968D29C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ACC7B2-A060-4EB3-AE0C-599C0101C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EEB3-A484-4DF8-B622-23A32DD400D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BBB6D8-BF9B-458E-A8F4-674F263468A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D4249-B2CF-4AD4-87B8-8F92BA2A39C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213012-FA0B-48CA-87E7-34875F9AC79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50DD49-1653-4F29-B11B-4046F33E932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07EA4F-0F86-44B1-BC26-E7A1A2738FC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03B768-E5EC-43B1-BFD5-9F8C4640E1D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B9487-0F36-4750-A76D-B640E798B1A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E4FDA8-655D-4320-9154-0B76094FDC2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3C64D6-A657-4032-9C1B-8F1B3ED31FD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7EE0B-37B7-44E6-98B4-72ADE8482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1C79B-38D3-461D-888C-76CE5359579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FA1490-488E-4398-B06C-E3E96F371A9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0660C4-0B4A-4768-89EE-36BFB26F505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CA5DA-7E50-48BF-B872-6CB1F8BE3FD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C7C5C-BC3C-4F0A-9B92-A8DD06C0C4B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72375-19CC-42FE-BAA0-D62A5C17604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F17B4-58ED-4137-A407-343680864A0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69D4A-1416-4C91-AD8B-B7FBB1CAF20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AD29-895F-4BFA-835E-3B6D4D0EE9F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F41A4-A58B-432F-95AD-1648C6A5647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6C871-E5D7-4EEF-9AF7-07A767CA9A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E416C-CA1D-49FE-B66C-26D2271FF57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197A4-D973-49AF-BF2D-E8F7F6FEC20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D6659-F567-4B52-A9B0-F8508655534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06482-0DC2-4D50-A021-9C1399E13C8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07B4B-38C6-4F53-88CB-3509C666737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181B8-926A-47B1-914B-946EE844D31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D5D39B-E767-43E1-AF64-5DF62DFADBB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96FC2F-9DE3-4DAE-BF39-5F2C594C446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69FECC-8499-4DB8-A2B6-E53583EA125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5852F0-5A58-42D6-9DB8-08885611AD1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3F19C2-5D66-4867-BA5C-0F03E18AD8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AD07-0492-4125-B787-2B0E9DF8E20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169DD7-F3C4-4633-9384-0D31B360FA7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88D37B-8473-44A5-9B78-5F2749F5BCC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20BC94-324F-403F-B495-DC3066A253C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77454B-C54B-46F4-B032-FE474F0FC87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EEBCBB-1CB1-45DF-9A79-6AA197619BD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3C1CCF-0276-4DC3-A37F-BF5B5369380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887AD4-F954-4F1C-952E-3B4C3C9489A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E1114-3F95-4112-A01A-7AA1AA76C01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73677-16AB-4C4C-B3A0-EEBB81D2D9A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B97EB-8570-4F8F-B91A-2332E9FF92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0527-FB0B-48BC-82AD-E0A1E053004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48125-52BC-48BE-9BA1-D0123733994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D646F8-AC7A-4879-B632-750DE9824BC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91A07-E233-4662-BC71-916BA879653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08D5F2-6821-4DB7-A397-E99205200F4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F64D9-F84E-48A8-ADD2-61BE3214643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AB4267-2F47-4FBE-B78E-58351744CE5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33C2C-3FD5-4CED-A359-3D585AA8BED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42005-A542-45BB-A1F5-37A5CD31406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DCE912-9D68-4515-9465-9E47388241B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B7791-F7E9-407E-8F6C-3504A7734E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B747-30A1-44AB-96E0-920DB82C970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56B5A-E67F-470D-AE6C-02D34D7505E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E8C18-3C8D-4F45-B6DB-39203918FBC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87687-75BC-4475-8CE4-6FFBFE4833E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E508C-9F85-4F8E-AFBD-E8FE753BE9C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312D0-F8CA-4D1E-AB53-55A425D2F73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AF617-2842-498D-A496-F017EE8BBD1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8FFB2-F4FC-4663-8A7E-5637C9660F5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B3E6F-8F5C-4226-9E8E-AE82326D4F6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73391-E348-4643-BCC6-DF4AFDFB609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5BC83-6A07-462F-BF10-1836B84CA4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476D1-DA7A-491A-A016-A4F1A2CF245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697D8-8F25-44E2-83DC-F9B4BE2C76F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1D5BE1-3C7A-4DCF-8DAE-81F5528A39C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F95BCE-E331-457E-8A25-452A30E3B0B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706E1D-FA9F-42CC-BA27-9CC693AA3D1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8DCE71-F533-4C50-BCCE-8D45EEE145D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7372A7-0A59-4A6F-8B4D-D460977F7CE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2EC5A4-C55D-4F82-8211-2BE723BEB14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7B58CA-913D-47D8-BD7E-B6F7B18E331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6AEFFE-6A01-41FE-AB1E-3332045A0BD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2477FF-574B-4D0F-B95F-B6D8B01619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80CD-D1A6-428F-962C-2BD04987E19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2B5C66-CD28-4198-8C6F-22901207B06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F899FA-A29E-4510-B57C-C7C2A69A5DA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CAABF2-AAD6-47A4-9352-5E394E49CFF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FA327F-9E2A-4599-BCD4-E71B9D0D537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1E0017-E712-41CE-9441-669BCF8A404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582CB-C4DC-401F-885D-8EF45DE98E3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1CC265-CB55-48A8-99EB-47A5686CDF0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02692A-B7F5-48C4-BA8C-905B86B635F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179B5-B300-4D61-886B-8F03792EE2A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EA3C4-92F0-413D-B990-3C29E03819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B3FF-D469-42AC-83EA-C800C117B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2B70B-A258-407A-859D-261B7B2271B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4ADEB-BDD7-44E5-9235-248777E44C8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711602-B3E7-40AD-9D22-7E5DB538A49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334A53-4DC2-4089-B45D-68DE17CC839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A33E3-2EBE-4570-B729-8E23EFEF242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24FC5-9F99-40D4-B416-63F5FC5FC42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70DEB-9182-4D9D-8894-960F94EA85F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D9D8C-08CA-4646-9D0F-354A3FAE46B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E9E49-973A-4F6D-826E-2D2B423C831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56392-40CE-45DF-8EBB-D4E76BF08D0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89A52-5929-4010-96BE-8FB5473C1B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5407-5F23-4D6D-A29E-ACA25175436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66488-1C9F-4F31-8163-D4F9BB81132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C4A54-A5F0-4ABA-9DF9-6CAEAB740F8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B6A53-6683-4F0E-8094-A240165E727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EDEA3-E267-424B-AFCB-D9C4E597046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F6149-0672-4297-A6BE-BF8F4A40494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0CD81-8603-439D-BAAD-1AF373774E0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936C0-AD17-4961-A928-AD64011D84A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2C76B4-338E-4DEE-BF64-EFC6AF37624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26D51B-D1D5-4226-85E6-8C6189D5DB9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D99846-785E-41E4-9CCB-F36C85727A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F23C-EEE2-4780-829A-8817EA7DC34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3087D3-FEF1-47E6-BE1B-CBB74195662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BE50BB-312C-463C-B248-DCA8E515291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AA2F4B-C4F4-4AB7-9927-088E01F0EE4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E8BD0B-CEE1-48BA-897E-7D71BA37AD4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C663C6-67A1-4331-AA8D-3B5CE6A699D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AA0018-693E-40B4-9571-82DB0D0B2E8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CC9E39-6979-417E-8856-5B3BA18A1FE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E55DE6-A0D4-4269-AFDB-4ADA7B2A5C6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B599F2-65C8-4322-87FC-0F2F683C75B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8155CC-A837-4037-9673-0D15CDD4CC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5BE2E-DC79-47A4-90F1-0975071590D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EC7146-9311-44E7-923D-F8F9EB652B2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1AC63B-8E07-459D-B297-764F361EF38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B1FA1A-03B4-44B3-93B5-CADBC73236A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1F9E5B-CA36-482A-994A-B1776F9269C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D78B71-1E15-4A29-ADC4-13024B04515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E39B3-2E3E-4DED-802F-8718B91B9EA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47CDF7-07BC-4A55-B35A-C4EC292C7A0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9A6BF6-7BA7-46F9-8891-F623F93E473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9E100-DF7F-4E39-B832-5166888C1FC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A4C9B4-8FF0-4782-90C7-7A33845F3D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E219-801B-404A-B054-AE6F23397A3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CB485E-EF0C-443E-BDF0-EE60D478234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1924B-6774-490E-9DAF-8CEE0E67655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1C2D5-EB97-474D-A8BC-D721822F1E7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3CCD5-ED8F-4B92-B9AD-909679D44E2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5C500-0F4E-40EE-AAB2-170E7A2A911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3A950-572B-4645-9B58-29550730DB6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4465B-756E-4DEB-B16B-4B1FD1D431D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807CE-4A40-40D5-8A65-357E61C21CE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84769-B9C6-4715-95DE-1E72D856010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DAFCF-2C26-4221-89B6-4FEC1A739E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CA7-33C6-423D-A583-F22FD94F5B7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2D083-A8EF-4474-8830-7A26DF57E69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B3859-E1F5-4742-9420-BA71FD973EF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32B15-549E-462C-950E-AC0D79E060D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8DF7A6-736B-48BA-AAAA-FFA26B58F62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2EF8B6-0C1F-4F11-9F61-4D47D85D6F2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ABD582-EAE2-4D5A-8848-C5FF3A5CC23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648BE7-D297-4C5C-A057-DDEBE070BB9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9E2B5B-5DE2-4859-9CD0-1A7D1CE40DA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CD2123-7293-432D-85AB-20E2D1361A7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A6AC07-D0B6-4BA4-BE63-F5FAEC5385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3EE-C110-4B6C-90DA-73922343FC9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66AB38-A6F3-4A01-9CEA-91ADF01B87F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F7CD3A-E720-4820-A807-718621A4BFA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4AD6B8-9C1B-472F-AEA6-4BE0B4B8F49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E791A5-E7D0-41EC-906C-795FB6AC7D9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0A0CDB-A0BD-4430-8926-39787975311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160A60-8ADA-4749-8803-71B01F62C76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8C997A-D26A-41BF-A371-020CBB48038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980284-4C36-49DF-A29C-AF4A426D9AC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7C3D42-7B00-4B63-8F56-64669C78546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8F53D3-C92A-40E0-B576-B110410095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E2B-4663-4067-AE4D-CBD7E4A96FC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4E700D-2C3A-4CE3-8DBF-B83F352AEF8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0DA97F-FD96-43FE-AFA8-87A0DBECF3A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3CB9F0-BEA7-4B20-9211-D2788513C4E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50C02D-F9F7-46F7-B3EC-DC69EADD251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925B1C-61CF-4E6F-8BB1-4284D8A604D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E7BA7D-08FB-4945-A743-C458AE3DF38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A357C4-B8AD-46E6-B66F-470A30DF389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5F55B-1097-4BCD-AFB3-AFEAEA41BD6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F0EA1-2D82-4285-AAD4-0F28A1E80E6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B8D65-8A74-4034-BA57-E35883FD36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73F-F632-4992-A411-270CE827F17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60D4D-014B-489C-BC6C-B1A11F1F173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90605-6A67-46C3-A6B9-4B5D7961F07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DAB56-5653-41A7-9AEC-0902EC99F13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3DB0E-85F3-4114-932D-320F2EA6792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BEFE2-349C-4164-8A82-203AC920CCD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5987E-D636-4F08-B226-40E01D57EC4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1BAA1-A1E5-417D-898A-ADEA221EEB1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3F000-03F8-4BE7-B806-8DC7DE3D5A8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2390E-8EC9-4302-8542-4FBCE30B4F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1810-5271-4D1C-AF51-40DC19095B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9CAA-99D8-42F8-A7D9-F24255CCAD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503-11C5-40DD-8017-9E7111E340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848-0371-43F4-A82E-27149A40E6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71A-DD90-4777-870E-0EF24B2556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E07-0CBF-4246-A6F8-0A7F01B87D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F03-4A22-48C9-A1E7-FDA437D46F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A5CE-952D-4466-9C14-520899763D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CA4-0520-407B-9410-85327A09A0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04301-3A04-41D2-BB6C-2B4B839CE2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D5474-14DA-43F6-A9A8-F1765FBAC3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52D06-5A49-4CF9-A76E-AD29D4F5E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8274-8F35-4F4A-8C4B-3B002BCBC6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0DC0C-F7A2-4942-9460-A4D7A07D01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C8879-9D8A-4360-A64E-C224533620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42B7F-9EAF-4E78-A424-13AAB61E3C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F586D-0255-4575-89FE-E86E44A86C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AEC8F-139F-4E01-95D4-C59C7DF455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99A94-D1F1-4CE8-9EA8-3F67FE0D25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44AB3-1E11-4B4A-8C0F-9A61408B91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0B461-F2D7-4A8C-9583-94A89D368E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A3314-8076-467B-A018-9CD5549968D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54FE8-1F2A-4278-BDCE-EFEFBFBAD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5F6F-D62B-4B39-AF95-2506B5C8970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438C9-AF4E-491E-8C40-FE81414E6EF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0716D-080A-464E-BE58-BCAC369E24D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1066A-3DDB-4491-8783-ABB61BC70C6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4E245-A936-4F0D-AE9A-4B03A62BF37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8F2EF-CCAE-4A19-9D0D-52C54C92520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FDBC8-9AD3-4C5E-8254-918DC771284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77063-6C3B-4767-85C2-B17EB1EC60E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53C25-D47E-4FB0-9874-41BCC0ACF9D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D60B3-D352-4470-8964-5E66E8FEDD7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4CC7D-7DFC-4F1B-B3ED-35D8D4E8A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93D5-E961-4CDE-85C0-57DE346DDDC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B7A4A-62BD-4292-B5BD-6CD6928735C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CB98-044A-499F-A8FC-A4CB74806A1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6253-2F24-43E7-8E1B-D72F501539A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3653-DD7F-4596-835E-FB71938B164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983C-B11B-4D68-8214-1109566F9F0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2A83-FF46-4E2D-A82E-320C09F5524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8A13-1411-47F9-89B3-8C1F074D48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3953-E1E2-451E-85B5-875560AEE12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2DA0-964D-4F9C-8258-2BC6F9CE43B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707F-62F5-45BE-A7A5-50A87F3B6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6487-12DE-4884-AA50-8F79E8E41C5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B160-B22B-40CF-BEF6-05ECA8CBDCD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89AC-1298-49E7-9467-ACDE449E363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98CB-279A-4A30-9DF6-384BCFFAC8A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82B2F2-91FE-4E7E-AD9F-DC2AB2A3555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5E3C5F-3061-4E15-B2EB-22B371553B9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5B4911-B55D-4E76-99D5-3299AC085AF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244C32-4DC6-4FE4-93FD-5ED87486F61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A49CD-268D-4613-ADF2-AE9AC5DE17D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64E78B-E734-43F2-A42D-3930ED1FFA4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4DBA84-EE6A-4DF9-BBBD-4999FCBF8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D392-D237-49B5-A9E1-95A8136DDDA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3DFC23-0B0F-4CE9-AD3E-B2A6DDCDBCE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71194-0364-4A15-8708-ABCB72DAB9D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0D12C1-F4DF-433A-805E-198F8C777E8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24E7C0-0A52-40D3-AC62-06B490098B0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0167B9-AD6F-433A-B831-30C1BB9473A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F053D-63B7-4191-9E3F-FD1F811DC83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5DCCE-7097-40F2-8B2E-E391FFB3F44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44B20-77BB-4E0F-A51B-8475F7E203E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E75F1-5942-4855-BDF8-5F36A13F52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0425D-C3CF-4D2E-9C65-491435A79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DB37-87C6-4588-BCDC-7CF7D2830AD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46476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AE28D-8A4E-419D-8A73-DF53051AF34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22F8D-A130-4B11-959D-DF55DA9A047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A798A-E94A-4A47-8A68-9A97F1FBDEC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3DC58-A537-43D8-B551-F3A578839C9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6838C-0201-45CA-B669-F3748214874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1EC54-C239-4F64-ABEF-371109AAF65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E9ADD-28B9-4C3D-8C51-131750131F3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EE7EA-348B-41EC-B66D-3B49DEB87C9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8483-E899-4E4D-9A35-4FACB80C194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F92C3-7971-41FD-951B-76C0091C2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AA67EF-DB49-454C-A763-9C9CAD5D59F4}" type="slidenum"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4495F79-A7FA-43BF-979A-A15F513ADC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140C6F-BE81-4679-92E2-AE88C806B9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AF83EBF-E342-4F9F-83DC-B74B862DE4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1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D51966-B2AB-4F39-BDF8-9A54CD8FEE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14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2CDF218-C111-4B7F-9D66-3B91A152A4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C8E761B-73E5-4E06-AC92-C2D7275AD4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07FE59-BC4F-4924-A264-50028742DE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Num" idx="17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65CF0B-0C9E-4E68-90D4-D951DC998D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11D0608-C879-46E1-82F3-BAD7A21D87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19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3EA0914-87BE-4AB3-8D3F-9E639B58E5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84B46B6-F1F6-42B6-995D-0BB4106D1C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47C9646-1089-478C-BA15-8C9C411889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DC6E95-4DDD-46DB-975A-D9A1C77F27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6E103B-E2B9-47BF-996E-965BD02D1D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Num" idx="2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C7ECB6-5267-4122-954E-448CBD9795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E326D7-5462-44E0-9579-0BD7254A0A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6B82499-ED30-4C07-8115-312E0DEC5D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9B0DEF-F98A-4F8D-82EE-5E27C9FA74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AA1636B-AEFB-463B-A99E-1648C653F9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93191BE-BC6F-4092-B1AE-E2C87EDAA9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7F3D8F-53CE-4658-A292-BFEB8C7323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A7DB52-6814-4B24-8E4F-E5E5EB4EEA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C87138-9EF0-42EA-AFE3-7EFE218778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722160" y="4869000"/>
            <a:ext cx="7772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ММАУ « ГОРОДСКАЯ ПОЛИКЛИНИКА № 17»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СТАРШАЯ МЕДИЦИНСКАЯ СЕСТРА  ОТДЕЛЕНИЯ ДШО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ПОБЕРЕЖНАЯ ЕЛЕНА ЮРЬЕВНА</a:t>
            </a:r>
            <a:r>
              <a:rPr b="1" i="1" lang="ru-RU" sz="1600" spc="-1" strike="noStrike">
                <a:solidFill>
                  <a:srgbClr val="002060"/>
                </a:solidFill>
                <a:latin typeface="Bodoni MT"/>
              </a:rPr>
              <a:t> 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Bodoni MT"/>
              </a:rPr>
              <a:t>СПЕЦИАЛИЗИРОВАННАЯ СЕКЦИЯ  « ПЕДИАТРИЯ»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22160" y="-93600"/>
            <a:ext cx="777240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rebuchet MS"/>
              </a:rPr>
              <a:t>ТЮМЕНСКАЯ РЕГИОНАЛЬНАЯ ОБЩЕСТВЕННАЯ ОРГАНИЗАЦИЯ «Тюменская областная профессиональная сестринская ассоциация»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8b1dee"/>
                </a:solidFill>
                <a:latin typeface="Times New Roman"/>
                <a:ea typeface="Trebuchet MS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rebuchet MS"/>
              </a:rPr>
              <a:t>ОПЫТ РАБОТЫ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rebuchet MS"/>
              </a:rPr>
              <a:t>С НЕСОВЕРШЕННОЛЕТНИМИ ДЕТЬМИ ИЗ ГРУППЫ «ОСОБОГО РИСКА»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250920" y="2205000"/>
            <a:ext cx="86421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60596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22228b"/>
                </a:solidFill>
                <a:latin typeface="Times New Roman"/>
              </a:rPr>
              <a:t>РАННЕЕ ВЫЯВЛЕНИЕ НЕСОВЕРШЕННОЛЕТНИХ ПОПАВШИХ В ТРУДНУЮ ЖИЗНЕННУЮ СИТУАЦИЮ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2228b"/>
                </a:solidFill>
                <a:latin typeface="Times New Roman"/>
              </a:rPr>
              <a:t>ПРОВЕДЕНИЕ ПАТРОНАЖЕЙ В СЕМЬИ, СОСТОЯЩИХ НА УЧЕТЕ В БАНКЕ ДАННЫХ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2228b"/>
                </a:solidFill>
                <a:latin typeface="Times New Roman"/>
              </a:rPr>
              <a:t>ОСУЩЕСТВЛЕНИЕ ДИНАМИЧЕСКОГО НАБЛЮДЕНИЯ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2228b"/>
                </a:solidFill>
                <a:latin typeface="Times New Roman"/>
              </a:rPr>
              <a:t>ПРОВЕДЕНИЕ САНИТАРНО-ГИГИЕНИЧЕСКОГО ОБУЧЕНИЯ И ПРОПАГАНДА ЗДОРОВОГО  ОБРАЗА  ЖИЗНИ</a:t>
            </a:r>
            <a:br>
              <a:rPr sz="2000"/>
            </a:b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5280" y="189000"/>
            <a:ext cx="8497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Работа  участковой медицинской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сестры с несовершеннолетними из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 «группы особого внимания» 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250920" y="1628640"/>
            <a:ext cx="824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 algn="ctr"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605960"/>
                <a:tab algn="l" pos="1078236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В ПРОЦЕССЕ ПАТРОНАЖА НОВОРОЖДЕННОГО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ВО ВРЕМЯ ТЕКУЩИХ ЛЕЧЕБНО-ПРОФИЛАКТИЧЕСКИХ МЕРОПРИЯТИЙ ПРИ ОБРАЩЕНИИ В ПОЛИКЛИНИКУ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2216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Раннее выявление несовершеннолетних попавших в трудную жизненную ситуацию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757080" y="2914560"/>
            <a:ext cx="7270920" cy="3683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75564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 algn="ctr"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605960"/>
                <a:tab algn="l" pos="1078236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</a:rPr>
              <a:t>ЕЖЕКВАРТАЛЬНО УЧАСТКОВАЯ МЕДИЦИНСКАЯ СЕСТРА ПРОВОДИТ ПАТРОНАЖИ В СЕМЬИ, СОСТОЯЩИЕ НА УЧЕТЕ.</a:t>
            </a:r>
            <a:br>
              <a:rPr sz="4000"/>
            </a:br>
            <a:r>
              <a:rPr b="1" lang="ru-RU" sz="4000" spc="-1" strike="noStrike">
                <a:solidFill>
                  <a:srgbClr val="22228b"/>
                </a:solidFill>
                <a:latin typeface="Times New Roman"/>
              </a:rPr>
              <a:t>     </a:t>
            </a:r>
            <a:br>
              <a:rPr sz="4000"/>
            </a:b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22160" y="14616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Проведение патронажей в семьи, состоящих на учете в банке данных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1692360" y="3141720"/>
            <a:ext cx="532764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108000" y="1413000"/>
            <a:ext cx="83152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ЗА СОСТОЯНИЕМ ЗДОРОВЬЯ ДЕТЕЙ ИЗ ПРОБЛЕМНЫХ СЕМЕЙ ВЕДЁТСЯ ТЩАТЕЛЬНЫЙ КОНТРОЛЬ: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КОМПЛЕКСНАЯ ОЦЕНКА СОСТОЯНИЯ РЕБЁНКА ПРОВОДИТСЯ ОДИН РАЗ В ГОД, А ЕСЛИ РЕБЁНОК СОСТОИТ НА  « Д»  УЧЁТЕ, ТО ДВА РАЗА В ГОД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ПРОВОДИТСЯ    ИММУНОПРОФИЛАКТИКА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2160" y="189000"/>
            <a:ext cx="7772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Осуществление динамического наблюдения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1"/>
          <a:stretch/>
        </p:blipFill>
        <p:spPr>
          <a:xfrm>
            <a:off x="3276720" y="3789360"/>
            <a:ext cx="49672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324000" y="1557360"/>
            <a:ext cx="8496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ЧАСТКОВЫЕ СЕСТРЫ ПРОВОДЯТ БЕСЕДЫ : 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22228b"/>
                </a:solidFill>
                <a:latin typeface="Times New Roman"/>
              </a:rPr>
              <a:t> ПРОФИЛАКТИКА КИШЕЧНЫХ ЗАБОЛЕВАНИЙ.</a:t>
            </a:r>
            <a:br>
              <a:rPr sz="2000"/>
            </a:br>
            <a:r>
              <a:rPr b="1" lang="ru-RU" sz="2000" spc="-1" strike="noStrike">
                <a:solidFill>
                  <a:srgbClr val="22228b"/>
                </a:solidFill>
                <a:latin typeface="Times New Roman"/>
              </a:rPr>
              <a:t> СОБЛЮДЕНИЕ ГИГИЕНЫ И РЕЖИМА ДНЯ.</a:t>
            </a:r>
            <a:br>
              <a:rPr sz="2000"/>
            </a:br>
            <a:r>
              <a:rPr b="1" lang="ru-RU" sz="2000" spc="-1" strike="noStrike">
                <a:solidFill>
                  <a:srgbClr val="22228b"/>
                </a:solidFill>
                <a:latin typeface="Times New Roman"/>
              </a:rPr>
              <a:t>ПО ПРОПАГАНДЕ ЗДОРОВОГО ОБРАЗА ЖИЗНИ.</a:t>
            </a:r>
            <a:br>
              <a:rPr sz="2000"/>
            </a:br>
            <a:r>
              <a:rPr b="1" lang="ru-RU" sz="2000" spc="-1" strike="noStrike">
                <a:solidFill>
                  <a:srgbClr val="22228b"/>
                </a:solidFill>
                <a:latin typeface="Times New Roman"/>
              </a:rPr>
              <a:t>ПО  ПИТАНИЮ КОРМЯЩИХ МАМ ( РАЗДАЧЕЙ БУКЛЕТОВ)</a:t>
            </a:r>
            <a:br>
              <a:rPr sz="2000"/>
            </a:br>
            <a:r>
              <a:rPr b="1" lang="ru-RU" sz="2000" spc="-1" strike="noStrike">
                <a:solidFill>
                  <a:srgbClr val="22228b"/>
                </a:solidFill>
                <a:latin typeface="Times New Roman"/>
              </a:rPr>
              <a:t>ПО ВАКЦИНОПРОФИЛАКТИКЕ  ( С ПОКАЗОМ СЛАДОВ)</a:t>
            </a:r>
            <a:br>
              <a:rPr sz="2000"/>
            </a:b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22160" y="0"/>
            <a:ext cx="77724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Санитарно-просветительная работа: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1908000" y="4005360"/>
            <a:ext cx="547236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722160" y="1413000"/>
            <a:ext cx="77724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228b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ГИГИЕНА ПОЛОСТИ РТА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2216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rebuchet MS"/>
              </a:rPr>
              <a:t>Участковые сестры проводят мастер-классы  на тему :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1"/>
          <a:stretch/>
        </p:blipFill>
        <p:spPr>
          <a:xfrm>
            <a:off x="250920" y="3213000"/>
            <a:ext cx="4392360" cy="331164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424980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722160" y="1413000"/>
            <a:ext cx="77724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5760" algn="ctr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4000" spc="-1" strike="noStrike">
                <a:solidFill>
                  <a:srgbClr val="22228b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2400" spc="-1" strike="noStrike">
                <a:solidFill>
                  <a:srgbClr val="16165d"/>
                </a:solidFill>
                <a:latin typeface="Times New Roman"/>
              </a:rPr>
              <a:t>ВЫСТАВКА ДЕТСКИХ РИСУНКОВ НА ТЕМУ :</a:t>
            </a:r>
            <a:br>
              <a:rPr sz="2400"/>
            </a:br>
            <a:r>
              <a:rPr b="1" lang="ru-RU" sz="2400" spc="-1" strike="noStrike">
                <a:solidFill>
                  <a:srgbClr val="16165d"/>
                </a:solidFill>
                <a:latin typeface="Times New Roman"/>
              </a:rPr>
              <a:t> « МОЙ ЛЮБИМЫЙ ДЕТСКИЙ ДОКТОР»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95280" y="189000"/>
            <a:ext cx="8099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rebuchet MS"/>
              </a:rPr>
              <a:t>Участковые сестры проводят конкурсы :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3598920" cy="302436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2"/>
          <a:stretch/>
        </p:blipFill>
        <p:spPr>
          <a:xfrm>
            <a:off x="4284720" y="3573360"/>
            <a:ext cx="468000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722160" y="1413000"/>
            <a:ext cx="77724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5760" algn="ctr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4000" spc="-1" strike="noStrike">
                <a:solidFill>
                  <a:srgbClr val="22228b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БОРЬБА С ТУБЕРКУЛЕЗОМ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« БЕЛАЯ РОМАШКА»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5280" y="189000"/>
            <a:ext cx="8099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rebuchet MS"/>
              </a:rPr>
              <a:t>Совместно со школьными фельдшерами участковые сестры проводят акции :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31" name="" descr=""/>
          <p:cNvPicPr/>
          <p:nvPr/>
        </p:nvPicPr>
        <p:blipFill>
          <a:blip r:embed="rId1"/>
          <a:stretch/>
        </p:blipFill>
        <p:spPr>
          <a:xfrm>
            <a:off x="0" y="3112920"/>
            <a:ext cx="4554360" cy="374508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2"/>
          <a:stretch/>
        </p:blipFill>
        <p:spPr>
          <a:xfrm>
            <a:off x="4572000" y="3068640"/>
            <a:ext cx="4572000" cy="378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179280" y="162864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50920" y="0"/>
            <a:ext cx="87138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  <a:ea typeface="Trebuchet MS"/>
              </a:rPr>
              <a:t>Спасибо за внимание! </a:t>
            </a:r>
            <a:endParaRPr b="1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685800" y="-84240"/>
            <a:ext cx="77724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Возможно ,придет день, когда мы убедимся,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что самое большое преступление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-это искалеченная детская душа.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Э. Эриксон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1403280" y="2852640"/>
            <a:ext cx="6120000" cy="3598920"/>
            <a:chOff x="1403280" y="2852640"/>
            <a:chExt cx="6120000" cy="3598920"/>
          </a:xfrm>
        </p:grpSpPr>
        <p:pic>
          <p:nvPicPr>
            <p:cNvPr id="988" name="" descr=""/>
            <p:cNvPicPr/>
            <p:nvPr/>
          </p:nvPicPr>
          <p:blipFill>
            <a:blip r:embed="rId1"/>
            <a:stretch/>
          </p:blipFill>
          <p:spPr>
            <a:xfrm>
              <a:off x="1403280" y="2852640"/>
              <a:ext cx="6120000" cy="35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1403280" y="2852640"/>
              <a:ext cx="612000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395280" y="147600"/>
            <a:ext cx="849780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Ситуация развития общества на современном этапе приносит в жизнь ребенка ряд угроз и рисков, которые молодой формирующейся личности трудно самостоятельно преодолеть без серьезных потерь и срывов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Дети находящиеся в группе риска испытывают воздействие нежелательных факторов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Достаточно длительное воздействие неблагоприятных условий вызывает негативные психические и физические изменения в организме ребенка, которые приводят к значительным  отклонениям, как в поведении, так и  в личностном развитии.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722160" y="2492280"/>
            <a:ext cx="77724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22160" y="189000"/>
            <a:ext cx="77724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Для выполнения столь ответственной задачи- воспитание человека- родители нуждаются в помощи специалистов, обладающих для этого необходимыми знаниями. Это обязанность падает  и на работников поликлиники.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84836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0" y="0"/>
            <a:ext cx="91440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12600" algn="ctr"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12600">
              <a:spcBef>
                <a:spcPts val="901"/>
              </a:spcBef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68360" y="333360"/>
            <a:ext cx="820728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Одна  из основных задач работников поликлиники, в том числе и участковой медицинской сестры, состоит в том, чтобы познакомить родителей с особенностями физического и нервно- психического развития ребенка и методам его воспитания. Участковая медицинская сестра является основным помощником участкового врача, она непосредственно связана с семьей каждого ребенка на участке. </a:t>
            </a:r>
            <a:br>
              <a:rPr sz="2800"/>
            </a:b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684360" y="2349360"/>
            <a:ext cx="77724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d2db9"/>
                </a:solidFill>
                <a:latin typeface="Times New Roman"/>
              </a:rPr>
              <a:t>НЕОРГАНИЗОВАННЫЕ( НОВОРОЖДЕННЫЕ)-10 ЧЕЛОВЕК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d2db9"/>
                </a:solidFill>
                <a:latin typeface="Times New Roman"/>
              </a:rPr>
              <a:t>ДЕТИ ПОСЕЩАЮЩИЕ ДОШКОЛЬНЫЕ УЧРЕЖДЕНИЯ- </a:t>
            </a:r>
            <a:br>
              <a:rPr sz="2000"/>
            </a:br>
            <a:r>
              <a:rPr b="1" lang="ru-RU" sz="2000" spc="-1" strike="noStrike">
                <a:solidFill>
                  <a:srgbClr val="2d2db9"/>
                </a:solidFill>
                <a:latin typeface="Times New Roman"/>
              </a:rPr>
              <a:t>25 ЧЕЛОВЕК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d2db9"/>
                </a:solidFill>
                <a:latin typeface="Times New Roman"/>
              </a:rPr>
              <a:t>ДЕТИ ПОСЕЩАЮЩИЕ ШКОЛЫ- 14 ЧЕЛОВЕК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4000"/>
            </a:br>
            <a:r>
              <a:rPr b="1" lang="ru-RU" sz="2400" spc="-1" strike="noStrike">
                <a:solidFill>
                  <a:srgbClr val="16165d"/>
                </a:solidFill>
                <a:latin typeface="Times New Roman"/>
              </a:rPr>
              <a:t>НА КАЖДОГО РЕБЕНКА ЗАВОДИТСЯ ИНДИВИДУАЛЬНЫЙ ПЛАН РАЗВИТИЯ- ИПР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22160" y="189000"/>
            <a:ext cx="7772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нашей поликлинике наблюдаются- 49 детей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из группы « особого риска»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685800" y="160200"/>
            <a:ext cx="77724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rebuchet MS"/>
              </a:rPr>
              <a:t>Заболевания преобладающие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rebuchet MS"/>
              </a:rPr>
              <a:t>у детей « группы риска»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431640" y="1484280"/>
            <a:ext cx="8352000" cy="4610160"/>
            <a:chOff x="431640" y="1484280"/>
            <a:chExt cx="8352000" cy="4610160"/>
          </a:xfrm>
        </p:grpSpPr>
        <p:graphicFrame>
          <p:nvGraphicFramePr>
            <p:cNvPr id="1000" name=""/>
            <p:cNvGraphicFramePr/>
            <p:nvPr/>
          </p:nvGraphicFramePr>
          <p:xfrm>
            <a:off x="431640" y="1484280"/>
            <a:ext cx="8352000" cy="4610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1640" y="1484280"/>
                      <a:ext cx="8352000" cy="461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2" name=""/>
            <p:cNvSpPr/>
            <p:nvPr/>
          </p:nvSpPr>
          <p:spPr>
            <a:xfrm>
              <a:off x="431640" y="1484280"/>
              <a:ext cx="8352000" cy="46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9280" y="2205000"/>
            <a:ext cx="8785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КА КОНТАКТА. ВКЛЮЧАЕТ В СЕБЯ ЗНАКОМСТВО С ЧЛЕНАМИ СЕМЬИ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ЯВЛЕНИЕ МЕДИКО-СОЦИАЛЬНЫХ ПРОБЛЕМ РЕБЕНКА И ЕГО СЕМЬИ, ФАКТОРОВ РИСКА В ЖИЗНЕННОМ ПРОСТРАНСТВЕ, ОБРАЗ ЖИЗНИ И ПСИХОЛОГИЧЕСКИЙ КЛИМАТ СЕМЬИ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БОР ИНФОРМАЦИИ О СЕМЬЕ И СЛОЖИВШИХСЯ ТРУДНОСТЯХ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ДЕРЖКА СЕМЬИ. НА ЭТОМ ЭТАПЕ СЕМЬЯ ВО ВЗАИМОДЕЙСТВИИ С РАЗЛИЧНЫМИ СПЕЦИАЛИСТАМИ ПОСТЕПЕННО РЕШАЕТ СВОИ ТРУДНОСТИ И ПРОБЛЕМЫ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22160" y="250920"/>
            <a:ext cx="777240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Патронаж-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 это одна из наиболее эффективных форм влияния на семью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755640" y="3357720"/>
            <a:ext cx="7772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ЯВЛЯЕТСЯ ОДИН ИЗ ДОПОЛНИТЕЛЬНЫХ ИНСТРУМЕНТОВ ПО УСИЛЕНИЮ ЭФФЕКТИВНОСТИ ПРОФИЛАКТИКИ БЕСПРИЗОРНОСТИ И БЕЗНАДЗОРНОСТИ НЕСОВЕРШЕННОЛЕТНИХ</a:t>
            </a:r>
            <a:br>
              <a:rPr sz="4000"/>
            </a:b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4360" y="33336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Все данные о ребенке заносятся   в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Программный комплекс 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Банк данных несовершеннолетних 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rebuchet MS"/>
              </a:rPr>
              <a:t>«Группы особого внимания»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06:24:43Z</dcterms:created>
  <dc:creator>Каплунов Юрий Владимирович</dc:creator>
  <dc:description/>
  <dc:language>en-US</dc:language>
  <cp:lastModifiedBy>Shirotnaya102/1</cp:lastModifiedBy>
  <dcterms:modified xsi:type="dcterms:W3CDTF">2014-10-28T10:54:26Z</dcterms:modified>
  <cp:revision>321</cp:revision>
  <dc:subject/>
  <dc:title>Продукция НПФ "ВИНАР"</dc:title>
</cp:coreProperties>
</file>