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F1F-CEE8-47C6-BA49-7E81D8F0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98E-ADE2-46CD-8FD4-088A62A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782-B98E-4727-B54F-63D2ED16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400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508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292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1400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508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9B2-FACD-4D7B-BA95-4275CCBB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D7C8-4E99-4170-8F19-4F3101DA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0C6E-6914-4E61-8EEF-D9F883DA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FE6D-1773-48A7-A18A-03913DF3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8054-1CB6-499D-9FFF-14B101E6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3399-E45C-470D-B44E-9E0A3E01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71360" y="0"/>
            <a:ext cx="77151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0C4-0630-423F-A901-C104AC48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A5B7-892D-4063-81A8-5350496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451-223F-4296-9145-A62F81AD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FBAF-76E1-49B4-919E-E0570616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0D15-2707-4075-88E4-A67B95C5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53CD-F7AB-4965-A0FB-A3E8760A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C34A-A55E-4AE2-A070-38634841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1400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8508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4292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1400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8508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0CB3-8B07-4A4B-A623-1DFFBA8D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FF3B-47DB-41BF-9523-AE5F1E0E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98E3-A043-462E-BB33-0FB9D346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0DAA-ECAF-4CD5-9D03-9E582FF7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DCE3-6010-4C41-81AA-948ED486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82AD-4203-445C-9230-AA7CE209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F3C-B25B-4FF7-9616-878F39E5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71360" y="0"/>
            <a:ext cx="77151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CAA7-A220-409A-98D0-2D433B0D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273B-8EDE-4BF2-88A8-5F85A28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0974-8039-45D4-AC41-F2E0CC21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9445-B281-4E47-B05A-9D5D4BDD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E1ED-909D-4AF1-8934-6300742B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DE8E-58BB-4923-A088-DF830727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11400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8508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4292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11400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8508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641B-6A2A-4E25-9A30-9FBD8D5F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246E9-140B-4EC4-9B5F-D7ED752A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BDD8-C257-44CD-BCDF-A4585CF0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249E-62F2-41EC-AB4B-1FF10E11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82E-3C48-4373-B8FF-9075E707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73EB-8ADB-4573-B429-28548AAD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7E6C2-52F6-417E-AAC1-FAB9D487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71360" y="0"/>
            <a:ext cx="77151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E372-D75F-4F88-AC96-0A9ABE78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0C1C9-2BEB-4F62-BFEC-BE9CB776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3868-4337-4C69-9242-21F88595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7E26-5747-4904-8CFD-624F5928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20EDB-3BC6-4ECF-AF27-46605DCD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F574-E597-4062-AF36-5236A013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400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8508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4292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1400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8508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F5BD-B40C-4B45-938B-1BCF4048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75CC-8021-4DE9-87E9-B9A06A72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2F0-81B0-4979-9624-2F2C7B04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5E34-D95F-414E-8446-EAE0114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0219D-97FC-4F8D-B54A-CBE81E7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BC4B-163F-44AF-9CEB-4E4A964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5A690-8A69-40B6-A0D1-1FE42E5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071360" y="0"/>
            <a:ext cx="77151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5BA1-9B5B-4287-82EB-A3059CD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82948-8F27-4843-B7EE-757F9669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1CBC8-8577-4D42-9352-4A8873EE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698D3-5A73-41CE-AB7F-65CC1C1E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AB76A-9C16-41A5-838B-DDEB004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8F1AA-9C34-4E4B-9F58-AF48EEB9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71360" y="0"/>
            <a:ext cx="77151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9DE-F6BE-4391-AEA7-037AC036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1400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85080" y="11430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292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1400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85080" y="3904200"/>
            <a:ext cx="282924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DF13A-D5EE-4A04-B8A4-CF94FEDB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95C-3224-480B-AA3F-CFE0C172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45800" y="39042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EAC-8FF6-425D-A5DA-5F5D68EE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28796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2920" y="3904200"/>
            <a:ext cx="878688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610-9533-44E4-AB18-ED1CF76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1" name="Овал 18"/>
          <p:cNvSpPr/>
          <p:nvPr/>
        </p:nvSpPr>
        <p:spPr>
          <a:xfrm>
            <a:off x="142920" y="71280"/>
            <a:ext cx="1214280" cy="128592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9"/>
          <p:cNvSpPr/>
          <p:nvPr/>
        </p:nvSpPr>
        <p:spPr>
          <a:xfrm>
            <a:off x="0" y="785880"/>
            <a:ext cx="2214720" cy="1143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22"/>
          <p:cNvSpPr/>
          <p:nvPr/>
        </p:nvSpPr>
        <p:spPr>
          <a:xfrm>
            <a:off x="1357200" y="785880"/>
            <a:ext cx="7775640" cy="144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1e190d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60A4-FD39-4C54-BB1F-0E7D4C0CE4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4"/>
          <a:stretch/>
        </p:blipFill>
        <p:spPr>
          <a:xfrm>
            <a:off x="212760" y="13968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C:\Users\Виктория\Desktop\Профилактика конфликтов\логотип.gif"/>
          <p:cNvPicPr/>
          <p:nvPr/>
        </p:nvPicPr>
        <p:blipFill>
          <a:blip r:embed="rId5"/>
          <a:stretch/>
        </p:blipFill>
        <p:spPr>
          <a:xfrm>
            <a:off x="214200" y="214200"/>
            <a:ext cx="1089000" cy="928800"/>
          </a:xfrm>
          <a:prstGeom prst="rect">
            <a:avLst/>
          </a:prstGeom>
          <a:ln w="0">
            <a:noFill/>
          </a:ln>
        </p:spPr>
      </p:pic>
      <p:sp>
        <p:nvSpPr>
          <p:cNvPr id="12" name="Прямая соединительная линия 25"/>
          <p:cNvSpPr/>
          <p:nvPr/>
        </p:nvSpPr>
        <p:spPr>
          <a:xfrm>
            <a:off x="-36360" y="785880"/>
            <a:ext cx="179280" cy="1116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Прямая соединительная линия 29"/>
          <p:cNvSpPr/>
          <p:nvPr/>
        </p:nvSpPr>
        <p:spPr>
          <a:xfrm>
            <a:off x="0" y="6429240"/>
            <a:ext cx="9144000" cy="180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51" name="Овал 18"/>
          <p:cNvSpPr/>
          <p:nvPr/>
        </p:nvSpPr>
        <p:spPr>
          <a:xfrm>
            <a:off x="142920" y="71280"/>
            <a:ext cx="1214280" cy="128592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0" y="785880"/>
            <a:ext cx="2214720" cy="1143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2"/>
          <p:cNvSpPr/>
          <p:nvPr/>
        </p:nvSpPr>
        <p:spPr>
          <a:xfrm>
            <a:off x="1357200" y="785880"/>
            <a:ext cx="7775640" cy="144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4"/>
          <a:stretch/>
        </p:blipFill>
        <p:spPr>
          <a:xfrm>
            <a:off x="212760" y="13968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C:\Users\Виктория\Desktop\Профилактика конфликтов\логотип.gif"/>
          <p:cNvPicPr/>
          <p:nvPr/>
        </p:nvPicPr>
        <p:blipFill>
          <a:blip r:embed="rId5"/>
          <a:stretch/>
        </p:blipFill>
        <p:spPr>
          <a:xfrm>
            <a:off x="214200" y="214200"/>
            <a:ext cx="1089000" cy="9288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25"/>
          <p:cNvSpPr/>
          <p:nvPr/>
        </p:nvSpPr>
        <p:spPr>
          <a:xfrm>
            <a:off x="-36360" y="785880"/>
            <a:ext cx="179280" cy="1116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9"/>
          <p:cNvSpPr/>
          <p:nvPr/>
        </p:nvSpPr>
        <p:spPr>
          <a:xfrm>
            <a:off x="0" y="6429240"/>
            <a:ext cx="9144000" cy="180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7"/>
          <p:cNvSpPr/>
          <p:nvPr/>
        </p:nvSpPr>
        <p:spPr>
          <a:xfrm>
            <a:off x="0" y="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Бюджетное образовательное учреждение 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«Центр повышения квалификации работников здравоохран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1e190d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851C-1283-4C02-9757-DE08189904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18"/>
          <p:cNvSpPr/>
          <p:nvPr/>
        </p:nvSpPr>
        <p:spPr>
          <a:xfrm>
            <a:off x="142920" y="71280"/>
            <a:ext cx="1214280" cy="128592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9"/>
          <p:cNvSpPr/>
          <p:nvPr/>
        </p:nvSpPr>
        <p:spPr>
          <a:xfrm>
            <a:off x="0" y="785880"/>
            <a:ext cx="2214720" cy="1143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2"/>
          <p:cNvSpPr/>
          <p:nvPr/>
        </p:nvSpPr>
        <p:spPr>
          <a:xfrm>
            <a:off x="1357200" y="785880"/>
            <a:ext cx="7775640" cy="144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4"/>
          <a:stretch/>
        </p:blipFill>
        <p:spPr>
          <a:xfrm>
            <a:off x="212760" y="13968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C:\Users\Виктория\Desktop\Профилактика конфликтов\логотип.gif"/>
          <p:cNvPicPr/>
          <p:nvPr/>
        </p:nvPicPr>
        <p:blipFill>
          <a:blip r:embed="rId5"/>
          <a:stretch/>
        </p:blipFill>
        <p:spPr>
          <a:xfrm>
            <a:off x="214200" y="214200"/>
            <a:ext cx="1089000" cy="9288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ая соединительная линия 25"/>
          <p:cNvSpPr/>
          <p:nvPr/>
        </p:nvSpPr>
        <p:spPr>
          <a:xfrm>
            <a:off x="-36360" y="785880"/>
            <a:ext cx="179280" cy="1116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9"/>
          <p:cNvSpPr/>
          <p:nvPr/>
        </p:nvSpPr>
        <p:spPr>
          <a:xfrm>
            <a:off x="0" y="6429240"/>
            <a:ext cx="9144000" cy="180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Овал 20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4" name="Овал 20" descr=""/>
            <p:cNvPicPr/>
            <p:nvPr/>
          </p:nvPicPr>
          <p:blipFill>
            <a:blip r:embed="rId6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Овал 24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1e190d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AF8B-6AAC-4C7C-8357-1F6142C7AB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159" name="Овал 18"/>
          <p:cNvSpPr/>
          <p:nvPr/>
        </p:nvSpPr>
        <p:spPr>
          <a:xfrm>
            <a:off x="142920" y="71280"/>
            <a:ext cx="1214280" cy="128592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/>
          <p:cNvSpPr/>
          <p:nvPr/>
        </p:nvSpPr>
        <p:spPr>
          <a:xfrm>
            <a:off x="0" y="785880"/>
            <a:ext cx="2214720" cy="1143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2"/>
          <p:cNvSpPr/>
          <p:nvPr/>
        </p:nvSpPr>
        <p:spPr>
          <a:xfrm>
            <a:off x="1357200" y="785880"/>
            <a:ext cx="7775640" cy="144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4"/>
          <a:stretch/>
        </p:blipFill>
        <p:spPr>
          <a:xfrm>
            <a:off x="212760" y="13968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C:\Users\Виктория\Desktop\Профилактика конфликтов\логотип.gif"/>
          <p:cNvPicPr/>
          <p:nvPr/>
        </p:nvPicPr>
        <p:blipFill>
          <a:blip r:embed="rId5"/>
          <a:stretch/>
        </p:blipFill>
        <p:spPr>
          <a:xfrm>
            <a:off x="214200" y="214200"/>
            <a:ext cx="1089000" cy="9288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25"/>
          <p:cNvSpPr/>
          <p:nvPr/>
        </p:nvSpPr>
        <p:spPr>
          <a:xfrm>
            <a:off x="-36360" y="785880"/>
            <a:ext cx="179280" cy="1116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9"/>
          <p:cNvSpPr/>
          <p:nvPr/>
        </p:nvSpPr>
        <p:spPr>
          <a:xfrm>
            <a:off x="0" y="6429240"/>
            <a:ext cx="9144000" cy="180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6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1e190d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9B90-C6F1-4642-A48E-04218F82F8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211" name="Овал 18"/>
          <p:cNvSpPr/>
          <p:nvPr/>
        </p:nvSpPr>
        <p:spPr>
          <a:xfrm>
            <a:off x="142920" y="71280"/>
            <a:ext cx="1214280" cy="128592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9"/>
          <p:cNvSpPr/>
          <p:nvPr/>
        </p:nvSpPr>
        <p:spPr>
          <a:xfrm>
            <a:off x="0" y="785880"/>
            <a:ext cx="2214720" cy="1143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22"/>
          <p:cNvSpPr/>
          <p:nvPr/>
        </p:nvSpPr>
        <p:spPr>
          <a:xfrm>
            <a:off x="1357200" y="785880"/>
            <a:ext cx="7775640" cy="144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3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D:\Нагель\мои рисунки\обои\WallpaperS_Majorno.Ru_2\Новые обои для рабочего стола от Majorno.Ru  (12).jpg"/>
          <p:cNvPicPr/>
          <p:nvPr/>
        </p:nvPicPr>
        <p:blipFill>
          <a:blip r:embed="rId4"/>
          <a:stretch/>
        </p:blipFill>
        <p:spPr>
          <a:xfrm>
            <a:off x="212760" y="13968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C:\Users\Виктория\Desktop\Профилактика конфликтов\логотип.gif"/>
          <p:cNvPicPr/>
          <p:nvPr/>
        </p:nvPicPr>
        <p:blipFill>
          <a:blip r:embed="rId5"/>
          <a:stretch/>
        </p:blipFill>
        <p:spPr>
          <a:xfrm>
            <a:off x="214200" y="214200"/>
            <a:ext cx="1089000" cy="9288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ая соединительная линия 25"/>
          <p:cNvSpPr/>
          <p:nvPr/>
        </p:nvSpPr>
        <p:spPr>
          <a:xfrm>
            <a:off x="-36360" y="785880"/>
            <a:ext cx="179280" cy="1116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29"/>
          <p:cNvSpPr/>
          <p:nvPr/>
        </p:nvSpPr>
        <p:spPr>
          <a:xfrm>
            <a:off x="0" y="6429240"/>
            <a:ext cx="9144000" cy="180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Прямоугольник 16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20" name="Прямоугольник 16" descr=""/>
            <p:cNvPicPr/>
            <p:nvPr/>
          </p:nvPicPr>
          <p:blipFill>
            <a:blip r:embed="rId6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Блок-схема: процесс 20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1e190d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A6BF-5367-4895-906A-076432B8BE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28440" y="1000080"/>
            <a:ext cx="7407000" cy="22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Bookman Old Style"/>
              </a:rPr>
              <a:t>Колесо Фортуны, или Жизненного баланса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572080" y="5000760"/>
            <a:ext cx="285768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Arial"/>
              </a:rPr>
              <a:t>Плехова Е.В.</a:t>
            </a:r>
            <a:endParaRPr b="0" lang="en-US" sz="2600" spc="-1" strike="noStrike">
              <a:solidFill>
                <a:srgbClr val="00005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Шаг№6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Представьте результаты работы  вашей группы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pic>
        <p:nvPicPr>
          <p:cNvPr id="286" name="Picture 2" descr="C:\Users\Катерина\Downloads\job2.png"/>
          <p:cNvPicPr/>
          <p:nvPr/>
        </p:nvPicPr>
        <p:blipFill>
          <a:blip r:embed="rId1"/>
          <a:stretch/>
        </p:blipFill>
        <p:spPr>
          <a:xfrm>
            <a:off x="2050920" y="1916280"/>
            <a:ext cx="4969080" cy="434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Быть в гармонии с собой = Быть в гармонии с природой = Быть в гармонии с окружающим миром = Целостность 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Мы все - гармоничное целое. Все связанное со всем остальным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Нельзя сделать одну часть богатой, а другую бедной 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Если целое будет нарушено, оно станет или богатым, или бедным 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2920" y="907560"/>
            <a:ext cx="878688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Стремитесь к Жизненному балансу, к Целостности, 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и Вы обретете Гармонию!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pic>
        <p:nvPicPr>
          <p:cNvPr id="291" name="Picture 6" descr="C:\Users\Катерина\Downloads\koleso-balansa-itog.jpg"/>
          <p:cNvPicPr/>
          <p:nvPr/>
        </p:nvPicPr>
        <p:blipFill>
          <a:blip r:embed="rId1"/>
          <a:stretch/>
        </p:blipFill>
        <p:spPr>
          <a:xfrm>
            <a:off x="2916360" y="2565360"/>
            <a:ext cx="3778200" cy="3816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Желаю Вам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pic>
        <p:nvPicPr>
          <p:cNvPr id="294" name="Picture 4" descr="счастья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2308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71360" y="1928520"/>
            <a:ext cx="74070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Arial"/>
              </a:rPr>
              <a:t>Благодарю </a:t>
            </a:r>
            <a:br>
              <a:rPr sz="4800"/>
            </a:br>
            <a:r>
              <a:rPr b="1" i="1" lang="ru-RU" sz="4800" spc="-1" strike="noStrike">
                <a:solidFill>
                  <a:srgbClr val="800000"/>
                </a:solidFill>
                <a:latin typeface="Arial"/>
              </a:rPr>
              <a:t>за внимание!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огиня Удачи - Фортуна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C:\Users\Катерина\Downloads\Fortuna.jpg"/>
          <p:cNvPicPr/>
          <p:nvPr/>
        </p:nvPicPr>
        <p:blipFill>
          <a:blip r:embed="rId1"/>
          <a:stretch/>
        </p:blipFill>
        <p:spPr>
          <a:xfrm>
            <a:off x="2843280" y="836640"/>
            <a:ext cx="354816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олесо Жизненного баланса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C:\Users\Катерина\Desktop\Колесо\Колесо-жизненного-баланса1.jpg"/>
          <p:cNvPicPr/>
          <p:nvPr/>
        </p:nvPicPr>
        <p:blipFill>
          <a:blip r:embed="rId1"/>
          <a:stretch/>
        </p:blipFill>
        <p:spPr>
          <a:xfrm>
            <a:off x="1692360" y="836640"/>
            <a:ext cx="5616360" cy="5616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Шаг №1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2920" y="83628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Arial"/>
              </a:rPr>
              <a:t>Оцените Вашу эффективность в каждой сфере.</a:t>
            </a:r>
            <a:r>
              <a:rPr b="0" lang="ru-RU" sz="2800" spc="-1" strike="noStrike">
                <a:solidFill>
                  <a:srgbClr val="000050"/>
                </a:solidFill>
                <a:latin typeface="Arial"/>
              </a:rPr>
              <a:t> По шкале от  0 до 10 баллов. </a:t>
            </a:r>
            <a:endParaRPr b="0" lang="en-US" sz="28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Arial"/>
              </a:rPr>
              <a:t>0, 1, 2, 3 — это полное отсутствие или Ваша минимальная эффективность в жизненной сфере</a:t>
            </a:r>
            <a:endParaRPr b="0" lang="en-US" sz="28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Arial"/>
              </a:rPr>
              <a:t>4, 5, 6, 7 — это удовлетворительная эффективность — что-то уже сделано, но до идеала еще далеко</a:t>
            </a:r>
            <a:endParaRPr b="0" lang="en-US" sz="28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Arial"/>
              </a:rPr>
              <a:t>8, 9 — это максимальная эффективность данной сферы в Вашей жизни</a:t>
            </a:r>
            <a:endParaRPr b="0" lang="en-US" sz="28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Arial"/>
              </a:rPr>
              <a:t>10 — полное счастье, Вы довольны собой в этой сфере</a:t>
            </a:r>
            <a:endParaRPr b="0" lang="en-US" sz="2800" spc="-1" strike="noStrike">
              <a:solidFill>
                <a:srgbClr val="00005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Шаг №2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2920" y="83628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0"/>
                </a:solidFill>
                <a:latin typeface="Arial"/>
              </a:rPr>
              <a:t>Заштрихуйте каждый сектор в соответствии с его оценкой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Шаг №3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42920" y="907560"/>
            <a:ext cx="878688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Оцените, как «катится» Ваше Колесо Жизни?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  <p:pic>
        <p:nvPicPr>
          <p:cNvPr id="277" name="Picture 2" descr="C:\Users\Катерина\Desktop\Колесо\Колесо-баланса-жизни.jpg"/>
          <p:cNvPicPr/>
          <p:nvPr/>
        </p:nvPicPr>
        <p:blipFill>
          <a:blip r:embed="rId1"/>
          <a:stretch/>
        </p:blipFill>
        <p:spPr>
          <a:xfrm>
            <a:off x="2484360" y="1628640"/>
            <a:ext cx="4608720" cy="4608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Шаг №4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Оцените полученные результаты, ответив на вопросы: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Какие сферы являются ведущими? 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Какие сферы Вам необходимо «подтянуть»?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С какой области Вам хочется начать изменения в ближайшее время?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Шаг №5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2920" y="1143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61161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Объединитесь на группы по 6-8 человек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1161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Познакомьтесь в группах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1161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Поделитесь индивидуальными результатами по работе с «Колесом Жизненного баланса»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1161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Найдите 1-2 сферы, которые необходимо сбалансировать всем участникам группы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1161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0"/>
                </a:solidFill>
                <a:latin typeface="Arial"/>
              </a:rPr>
              <a:t>Напишите по 3 мероприятия по улучшению баланса этих сфер</a:t>
            </a: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1161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бота в группах (10 мин.)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4" descr="4135-original"/>
          <p:cNvPicPr/>
          <p:nvPr/>
        </p:nvPicPr>
        <p:blipFill>
          <a:blip r:embed="rId1"/>
          <a:stretch/>
        </p:blipFill>
        <p:spPr>
          <a:xfrm>
            <a:off x="1285920" y="1000080"/>
            <a:ext cx="7048440" cy="52866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3:03Z</dcterms:created>
  <dc:creator>Виктория</dc:creator>
  <dc:description/>
  <dc:language>en-US</dc:language>
  <cp:lastModifiedBy>Doomer</cp:lastModifiedBy>
  <dcterms:modified xsi:type="dcterms:W3CDTF">2014-11-12T17:30:57Z</dcterms:modified>
  <cp:revision>245</cp:revision>
  <dc:subject/>
  <dc:title>Слайд 1</dc:title>
</cp:coreProperties>
</file>