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54C-AA46-4DB6-A0C4-9AE82E65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C7F-8075-4310-9269-20BF6771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32B-4A06-4DA7-A0F6-518A4E3F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54C-505F-48A2-BBB9-4044172E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700-7A39-4919-AED1-1ABBFC0B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20D-2701-4C46-AFA5-36FF008D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4B4-7797-4C6C-99E2-A03092B8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156-C953-454A-811D-A2A151FD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0F1-B1B8-4A1C-8406-F8D74F1F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1F5-5842-495F-8AC4-2D599BF9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04B-C6E1-4975-92C2-A848F3D5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FC2-187D-4299-A93C-247D770E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6271-C0B2-4DC5-BACC-5FE979C02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168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162160"/>
            <a:ext cx="739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Verdana"/>
              </a:rPr>
              <a:t>Ролевая игра «Интервью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7:36:0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