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753-0F8A-4876-8BFC-EAB6D281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1A85-16D3-4BA3-8FFC-01309BCD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095-1150-44F8-8944-347B7E78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347-E83F-4D79-9888-DC441D01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5C3-8078-46E8-8E79-32C72E88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DB58-12A7-4A13-9C45-FD0EB782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08A-1118-4705-AFBF-4BC7E3E6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F11-AF22-4848-94D6-BA4086CB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A58-BE91-4ADD-A8FA-2123C827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231-A9DF-4CC8-8023-59ABE232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982B-C86B-44F2-88E7-F46A723B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0AE-C8B4-44F0-BA03-33B0E6BA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C047-EF75-4B08-887C-C8CB3B9D9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5.gif"/><Relationship Id="rId14" Type="http://schemas.openxmlformats.org/officeDocument/2006/relationships/image" Target="../media/image4.gif"/><Relationship Id="rId15" Type="http://schemas.openxmlformats.org/officeDocument/2006/relationships/image" Target="../media/image5.gif"/><Relationship Id="rId16" Type="http://schemas.openxmlformats.org/officeDocument/2006/relationships/image" Target="../media/image4.gif"/><Relationship Id="rId17" Type="http://schemas.openxmlformats.org/officeDocument/2006/relationships/image" Target="../media/image5.gif"/><Relationship Id="rId1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87631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оздравляем с Днем рождения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3375000" cy="4876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76920" y="3962520"/>
            <a:ext cx="3047760" cy="2814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91120" y="1828800"/>
            <a:ext cx="4647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5800"/>
                </a:solidFill>
                <a:latin typeface="Arial"/>
              </a:rPr>
              <a:t>Лейба Ольгу Ивановн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495680" y="3733920"/>
            <a:ext cx="530280" cy="530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42670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 rot="20416800">
            <a:off x="6324480" y="3200040"/>
            <a:ext cx="1619280" cy="1333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 rot="18853200">
            <a:off x="3151440" y="1039320"/>
            <a:ext cx="1238040" cy="1139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53280" y="5715000"/>
            <a:ext cx="5302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4267080" y="571500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5715000" y="144792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6248520" y="2286000"/>
            <a:ext cx="530280" cy="530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8001000" y="3124080"/>
            <a:ext cx="53028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914400" y="182880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685800" y="5943600"/>
            <a:ext cx="530280" cy="53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8610480" y="114300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3581280" y="4724280"/>
            <a:ext cx="530280" cy="53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8305920" y="4191120"/>
            <a:ext cx="30960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1T13:17:5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