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F6E-F738-41CE-8B9A-C6E95C7C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D0E-3726-4E48-A6C4-3D01C7B2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7AD-43FF-40B7-A0E0-CD2B76AC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63F-F21F-45F8-A432-E744E225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371-DA45-4271-BD4D-17C5D944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1591-F4B9-4D42-812E-1EEAC860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1A2-19E9-477D-82BD-45DE61E4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DA1-8ABE-40DF-8EDB-5EB8E9C0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CB5-D687-43AE-B0E1-249C3D7C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971D-CE5C-4D2B-AB5A-98335386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B71-28AC-4AA7-AEE3-7B05EB9A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ECF-D1A7-4017-9AF4-5A3F3AD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D860-2ECF-4162-93BA-CCCB900A6E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80880" y="19810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1f3f5f"/>
                </a:solidFill>
                <a:latin typeface="Arial"/>
              </a:rPr>
              <a:t>Круг закрытия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2224080" y="4227480"/>
            <a:ext cx="436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3f5f"/>
                </a:solidFill>
                <a:latin typeface="Tahoma"/>
              </a:rPr>
              <a:t>Ольга Александр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3f5f"/>
                </a:solidFill>
                <a:latin typeface="Tahoma"/>
              </a:rPr>
              <a:t>Буч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1170000" y="127080"/>
            <a:ext cx="8082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Региональный семинар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для медицинских сестер онкологической службы «Научно  обоснованные методы поддержки онкобольных  и ухаживающих за ними лиц»,  27 – 29 мая 2015 г., г. Омс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D:\Документы\ОПСА\18. Конкурсы\2014 г\Всероссийский конкурс 2014г\Номинация Лучшая старшая медицинская сестра\Фото\Бучко О.А\4х6.jpg"/>
          <p:cNvPicPr/>
          <p:nvPr/>
        </p:nvPicPr>
        <p:blipFill>
          <a:blip r:embed="rId1"/>
          <a:stretch/>
        </p:blipFill>
        <p:spPr>
          <a:xfrm>
            <a:off x="304920" y="3733920"/>
            <a:ext cx="1752480" cy="2628720"/>
          </a:xfrm>
          <a:prstGeom prst="rect">
            <a:avLst/>
          </a:prstGeom>
          <a:ln w="19080">
            <a:solidFill>
              <a:srgbClr val="00326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219320" y="0"/>
            <a:ext cx="7924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Открытое пространств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602360" y="1203480"/>
            <a:ext cx="564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Arial"/>
              </a:rPr>
              <a:t>Круг закрыт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28600" y="2438280"/>
            <a:ext cx="792468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0280" indent="-800280">
              <a:lnSpc>
                <a:spcPct val="110000"/>
              </a:lnSpc>
              <a:spcBef>
                <a:spcPts val="12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f3f5f"/>
                </a:solidFill>
                <a:latin typeface="Arial"/>
              </a:rPr>
              <a:t>1. Чему Вы научились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800280" indent="-800280">
              <a:lnSpc>
                <a:spcPct val="110000"/>
              </a:lnSpc>
              <a:spcBef>
                <a:spcPts val="12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f3f5f"/>
                </a:solidFill>
                <a:latin typeface="Arial"/>
              </a:rPr>
              <a:t>2. Что Вы будете с этим делать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1230288932_3D-Character-(33)"/>
          <p:cNvPicPr/>
          <p:nvPr/>
        </p:nvPicPr>
        <p:blipFill>
          <a:blip r:embed="rId1"/>
          <a:stretch/>
        </p:blipFill>
        <p:spPr>
          <a:xfrm>
            <a:off x="6778800" y="4737240"/>
            <a:ext cx="22190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371600" y="-7632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Открытое пространств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Рисунки\Анимация\Свечи\Новая папка\616188854.gif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5-05-25T12:51:2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