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998-7FE0-4CB5-AF3E-FFC6A9C1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0EE-76D9-4D85-82B8-8C97CC14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00E-22DC-4120-83F8-5665AF13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8E0-36A2-4516-B680-FF0EABB6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A53-0765-4F53-A6F0-B5C91A1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A9B-1A52-4469-9499-4B2B39D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75B-BEB0-414B-B60F-5D2BFB0C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AB3-E08C-4FF9-A59F-F161957C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51F-8B31-48F8-B4F6-6C3CFB26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9B6-D10F-4B2A-914D-5038FA9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2E3-2F6C-402B-8389-FF4C688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7EF-0141-462B-8D7E-D6E68B91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EA04-76F1-40AD-AAA8-DEC0FA41D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1"/>
          <p:cNvSpPr/>
          <p:nvPr/>
        </p:nvSpPr>
        <p:spPr>
          <a:xfrm>
            <a:off x="378720" y="674640"/>
            <a:ext cx="84560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Есть древняя профессия на свет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И она прошла через 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Знает каждый житель на планет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Это медицинская сес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Под белыми халатами незр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Бьётся сердце жарко, как ко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В борьбе за жизнь стоит неутоми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Армия российских медсестё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6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43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46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09080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53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6600" y="606240"/>
            <a:ext cx="8958960" cy="58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Они пришли работать по призванью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Забыв подчас про собственный недуг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В любое время суток, днём и ночью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С собою ласку и покой несут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А если завтра позовет Отчизна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Невзгоды мы поделим вместе с н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И преданных защитников Росси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a00"/>
                </a:solidFill>
                <a:latin typeface="Arial"/>
              </a:rPr>
              <a:t>Готовы грудью заслонить своей.</a:t>
            </a:r>
            <a:r>
              <a:rPr b="1" lang="ru-RU" sz="36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57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8"/>
          <p:cNvSpPr/>
          <p:nvPr/>
        </p:nvSpPr>
        <p:spPr>
          <a:xfrm>
            <a:off x="0" y="109116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5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67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49840" y="1405440"/>
            <a:ext cx="881568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И пока живут на свете люди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Было, есть и будет так всегда: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Скромная почётная профессия,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a00"/>
                </a:solidFill>
                <a:latin typeface="Arial"/>
              </a:rPr>
              <a:t>Знаем, не исчезнет никогда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1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74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0" y="708120"/>
            <a:ext cx="914400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медицинские сёстры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ного не ищут пу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И вместе с врачами по первому зов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3a00"/>
                </a:solidFill>
                <a:latin typeface="Arial"/>
              </a:rPr>
              <a:t>На помощь готовы прийт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2"/>
          <p:cNvGrpSpPr/>
          <p:nvPr/>
        </p:nvGrpSpPr>
        <p:grpSpPr>
          <a:xfrm>
            <a:off x="-31680" y="0"/>
            <a:ext cx="9175680" cy="466200"/>
            <a:chOff x="-31680" y="0"/>
            <a:chExt cx="9175680" cy="46620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tretch/>
          </p:blipFill>
          <p:spPr>
            <a:xfrm>
              <a:off x="-1080" y="0"/>
              <a:ext cx="91450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Заголовок 1"/>
            <p:cNvSpPr/>
            <p:nvPr/>
          </p:nvSpPr>
          <p:spPr>
            <a:xfrm>
              <a:off x="227160" y="76320"/>
              <a:ext cx="86785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Verdana"/>
                </a:rPr>
                <a:t>Гимн Омской профессиональной сестринской ассоциа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Прямоугольник 4"/>
            <p:cNvGrpSpPr/>
            <p:nvPr/>
          </p:nvGrpSpPr>
          <p:grpSpPr>
            <a:xfrm>
              <a:off x="-31680" y="365040"/>
              <a:ext cx="9175320" cy="101160"/>
              <a:chOff x="-31680" y="365040"/>
              <a:chExt cx="9175320" cy="101160"/>
            </a:xfrm>
          </p:grpSpPr>
          <p:pic>
            <p:nvPicPr>
              <p:cNvPr id="81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-31680" y="365040"/>
                <a:ext cx="917532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-13680" y="383040"/>
                <a:ext cx="91450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0-11-26T04:54:17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