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2AB-C5FE-4591-A112-4F961412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941-F099-4D20-ACC0-292B0D7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D52-F171-499E-A0B8-3C1EC1D9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924-29E4-42D9-B10D-A22A27B4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FAA-8190-4531-A727-01659FC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39C-6CDE-4738-AA22-5F4CA0C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5AB-868F-4330-9E93-9567785E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67B-9691-4A3C-A017-A028FCA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991-46F3-44D4-8B93-AD1E809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3CA-543D-4232-978D-00E4804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7F1-3356-4899-B433-EEF202F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4ED-5001-42A6-90B6-02F75F3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C47-FD18-4133-9D43-84799C63D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Медицинская сестра-</a:t>
            </a:r>
            <a:br>
              <a:rPr sz="4800"/>
            </a:b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предпринимат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1000346"/>
          <p:cNvPicPr/>
          <p:nvPr/>
        </p:nvPicPr>
        <p:blipFill>
          <a:blip r:embed="rId1"/>
          <a:stretch/>
        </p:blipFill>
        <p:spPr>
          <a:xfrm>
            <a:off x="755640" y="3789360"/>
            <a:ext cx="1428840" cy="19447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43" name="Rectangle 8"/>
          <p:cNvSpPr/>
          <p:nvPr/>
        </p:nvSpPr>
        <p:spPr>
          <a:xfrm>
            <a:off x="108000" y="58467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Спикер                    И.К. Жив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0" y="1080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II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региональный семинар в рамках международного проекта «Лидерство в пере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66ff"/>
                </a:solidFill>
                <a:latin typeface="Arial"/>
                <a:ea typeface="Arial"/>
              </a:rPr>
              <a:t>С чего нача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50012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дея +информационн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знес-план + маркетингов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ор формы предприятия +юридическое сопрово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(регистр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Регистрация в качестве индивидуального предпринимателя или юридического лица в Омс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785960"/>
            <a:ext cx="87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Межрайонная ИФНС России № 12 по Омской обла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с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мск, ул. Маршала Жукова, 72/1 (остановка «Казачий рынок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: с 8:30 до 17:30 без перерыва на обед, пятница - с 8:30 до 16: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ефон справочной службы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(381-2) 35-94-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-92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Документы для государственной регистрации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920" y="952560"/>
            <a:ext cx="9036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ное учредителем заявление о государственной регистрац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о создании юридического лица в виде протокола, договора или иного документа в соответствии с законодательством Р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линники или засвидетельствованные в нотариальном порядке копии учредительных документов юридического лица (учредительный договор и (или) устав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ыписка из реестра иностранных юридических лиц соответствующей страны происхождения или иное равное по юридической силе доказательство юридического статуса иностранного юридического лица-учред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spcAft>
                <a:spcPts val="425"/>
              </a:spcAft>
              <a:buClr>
                <a:srgbClr val="3366ff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об уплате государственной пошлины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401400"/>
            <a:ext cx="878688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66ff"/>
                </a:solidFill>
                <a:latin typeface="Arial"/>
                <a:ea typeface="Arial"/>
              </a:rPr>
              <a:t>Направление документов для государственной регистрации при создании юридического лиц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2187720"/>
            <a:ext cx="8229600" cy="32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76"/>
              </a:spcBef>
              <a:spcAft>
                <a:spcPts val="2188"/>
              </a:spcAft>
              <a:buClr>
                <a:srgbClr val="33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почтовое отправление с объявленной ценностью при его пересылке и описью влож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spcAft>
                <a:spcPts val="2188"/>
              </a:spcAft>
              <a:buClr>
                <a:srgbClr val="33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тель юридического лица (в лице руководителя либо иного лица по доверенности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Документы для государственной регистрации физического лица в качестве индивидуального предпринимател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дписанное физическим лицом заявление о государственной регистр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пия документа, удостоверяющего лич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пия свидетельства о рождении или копия иного документа, подтверждающего дату и место рождения лица в соответствии с законодательством Российской Федерации или международным договором Российской Федер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об уплате государственной пошлины в виде соответствующей банковской квитан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4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Предоставление субсидии </a:t>
            </a:r>
            <a:br>
              <a:rPr sz="4000"/>
            </a:b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на конкурсной осн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0526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суммы процентов по кредитам, привлеченным субъектами малого и среднего предпринимательства города Омска в кредитных орган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ещение расходов субъектам малого и среднего предпринимательства города Омска, осуществляющим инновационную деятельность на территории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субъектам малого и среднего предпринимательства города Омска, участвующим в выставочной и внешнеэкономической деятельности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на подготовку, переподготовку и повышение квалификации кадров для субъектов малого и среднего предпринимательства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10000"/>
              </a:lnSpc>
              <a:spcBef>
                <a:spcPts val="451"/>
              </a:spcBef>
              <a:spcAft>
                <a:spcPts val="337"/>
              </a:spcAft>
              <a:buClr>
                <a:srgbClr val="3366ff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ю части затрат на оформление патентования изобретений, полезных моделей, промышленных образцов и селекционных достижений, а также государственной регистрации иных результатов интеллектуальной деятельности, созданных субъектами малого и среднего предпринимательства города О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Предоставление субсидии </a:t>
            </a:r>
            <a:br>
              <a:rPr sz="4000"/>
            </a:b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на конкурсной осн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128592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spcAft>
                <a:spcPts val="1463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я части затрат на подготовку, переподготовку и повышение квалификации кадров для субъектов малого и среднего предпринимательства города Омс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spcAft>
                <a:spcPts val="1463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мпенсацию части затрат на оформление патентования изобретений, полезных моделей, промышленных образцов и селекционных достижений, а также государственной регистрации иных результатов интеллектуальной деятельности, созданных субъектами малого и среднего предпринимательства города Омс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760" y="115920"/>
            <a:ext cx="88678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66ff"/>
                </a:solidFill>
                <a:latin typeface="Arial"/>
                <a:ea typeface="Arial"/>
              </a:rPr>
              <a:t>Субсидии для предпринимателе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1144080"/>
            <a:ext cx="871560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уть субсидий – в возмещении затрат субъектам малого и среднего предпринимательства в виде компенсации час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179280" y="3327480"/>
            <a:ext cx="8715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ыплаченных процентов по креди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оформление пат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по участию в выстав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обучение персо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трат на реализацию инновационного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360" y="69228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участия в конкурсе участникам необходимо предоставить в Администрацию города Омс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ул. Гагарина, 34, каб. 3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 документы, определенные постановлением Мэра города Омска от 30 июня 2008 года      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№ 502-п. </a:t>
            </a:r>
            <a:br>
              <a:rPr sz="2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подробную информацию можно получить по телефонам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4-19-03, 24-29-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3080" y="4392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66ff"/>
                </a:solidFill>
                <a:latin typeface="Arial"/>
                <a:ea typeface="Arial"/>
              </a:rPr>
              <a:t>Поддержка малого и среднего предпринимательства города Омск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560" y="1566360"/>
            <a:ext cx="903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закон № 209-ФЗ «О развитии малого и среднего предпринимательства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мущественная поддержка (статья 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онная поддержка (статья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6600" indent="-2743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ая поддержка (статья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  <a:ea typeface="Arial"/>
              </a:rPr>
              <a:t>Предпринимательская деяте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этом качестве в установленном законом поряд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т. 2 ГК РФ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3"/>
          <p:cNvSpPr/>
          <p:nvPr/>
        </p:nvSpPr>
        <p:spPr>
          <a:xfrm>
            <a:off x="2604960" y="1986120"/>
            <a:ext cx="4038840" cy="39621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4" descr=""/>
          <p:cNvPicPr/>
          <p:nvPr/>
        </p:nvPicPr>
        <p:blipFill>
          <a:blip r:embed="rId1"/>
          <a:stretch/>
        </p:blipFill>
        <p:spPr>
          <a:xfrm>
            <a:off x="3571920" y="2944800"/>
            <a:ext cx="208584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492360" y="378936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e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5e"/>
                </a:solidFill>
                <a:latin typeface="Calibri"/>
              </a:rPr>
              <a:t>Малый и средни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4"/>
          <p:cNvSpPr/>
          <p:nvPr/>
        </p:nvSpPr>
        <p:spPr>
          <a:xfrm rot="18226800">
            <a:off x="3170880" y="4595040"/>
            <a:ext cx="130320" cy="1382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8888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5"/>
          <p:cNvSpPr/>
          <p:nvPr/>
        </p:nvSpPr>
        <p:spPr>
          <a:xfrm rot="18226800">
            <a:off x="3423240" y="4433040"/>
            <a:ext cx="130320" cy="13788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8888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5643720" y="2143080"/>
            <a:ext cx="682560" cy="693720"/>
            <a:chOff x="5643720" y="2143080"/>
            <a:chExt cx="682560" cy="693720"/>
          </a:xfrm>
        </p:grpSpPr>
        <p:sp>
          <p:nvSpPr>
            <p:cNvPr id="90" name="Oval 23"/>
            <p:cNvSpPr/>
            <p:nvPr/>
          </p:nvSpPr>
          <p:spPr>
            <a:xfrm>
              <a:off x="5643720" y="2143080"/>
              <a:ext cx="682560" cy="6937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5721480" y="2154600"/>
              <a:ext cx="526680" cy="26172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39"/>
          <p:cNvSpPr/>
          <p:nvPr/>
        </p:nvSpPr>
        <p:spPr>
          <a:xfrm rot="18226800">
            <a:off x="3075480" y="3639240"/>
            <a:ext cx="130320" cy="1378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0"/>
          <p:cNvSpPr/>
          <p:nvPr/>
        </p:nvSpPr>
        <p:spPr>
          <a:xfrm rot="18226800">
            <a:off x="3313800" y="3737160"/>
            <a:ext cx="129960" cy="1382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1"/>
          <p:cNvSpPr/>
          <p:nvPr/>
        </p:nvSpPr>
        <p:spPr>
          <a:xfrm rot="18226800">
            <a:off x="4556880" y="2451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724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2"/>
          <p:cNvSpPr/>
          <p:nvPr/>
        </p:nvSpPr>
        <p:spPr>
          <a:xfrm rot="18226800">
            <a:off x="4556880" y="268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d27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3"/>
          <p:cNvSpPr/>
          <p:nvPr/>
        </p:nvSpPr>
        <p:spPr>
          <a:xfrm rot="18226800">
            <a:off x="5528160" y="2809080"/>
            <a:ext cx="130320" cy="13788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4"/>
          <p:cNvSpPr/>
          <p:nvPr/>
        </p:nvSpPr>
        <p:spPr>
          <a:xfrm rot="18226800">
            <a:off x="5385600" y="2952000"/>
            <a:ext cx="13032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928800" y="1785960"/>
            <a:ext cx="26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мущественн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108000" y="57340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 инновац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мышленного производства 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9"/>
          <p:cNvSpPr/>
          <p:nvPr/>
        </p:nvSpPr>
        <p:spPr>
          <a:xfrm>
            <a:off x="54000" y="4076640"/>
            <a:ext cx="271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ельскохозяй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4"/>
          <p:cNvGrpSpPr/>
          <p:nvPr/>
        </p:nvGrpSpPr>
        <p:grpSpPr>
          <a:xfrm>
            <a:off x="6215760" y="3217320"/>
            <a:ext cx="732240" cy="745920"/>
            <a:chOff x="6215760" y="3217320"/>
            <a:chExt cx="732240" cy="745920"/>
          </a:xfrm>
        </p:grpSpPr>
        <p:sp>
          <p:nvSpPr>
            <p:cNvPr id="102" name="Oval 55"/>
            <p:cNvSpPr/>
            <p:nvPr/>
          </p:nvSpPr>
          <p:spPr>
            <a:xfrm rot="21345000">
              <a:off x="6240600" y="324180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 rot="21345000">
              <a:off x="6296400" y="323928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Oval 58"/>
          <p:cNvSpPr/>
          <p:nvPr/>
        </p:nvSpPr>
        <p:spPr>
          <a:xfrm rot="17972400">
            <a:off x="5728320" y="3640320"/>
            <a:ext cx="129960" cy="138240"/>
          </a:xfrm>
          <a:prstGeom prst="ellipse">
            <a:avLst/>
          </a:prstGeom>
          <a:gradFill rotWithShape="0">
            <a:gsLst>
              <a:gs pos="0">
                <a:srgbClr val="8b8bb2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9"/>
          <p:cNvSpPr/>
          <p:nvPr/>
        </p:nvSpPr>
        <p:spPr>
          <a:xfrm rot="17972400">
            <a:off x="6032880" y="3589920"/>
            <a:ext cx="131760" cy="1526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6"/>
          <p:cNvSpPr/>
          <p:nvPr/>
        </p:nvSpPr>
        <p:spPr>
          <a:xfrm rot="18226800">
            <a:off x="3599640" y="2737080"/>
            <a:ext cx="12996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724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7"/>
          <p:cNvSpPr/>
          <p:nvPr/>
        </p:nvSpPr>
        <p:spPr>
          <a:xfrm rot="18226800">
            <a:off x="3813840" y="2899440"/>
            <a:ext cx="130320" cy="13824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5d27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4"/>
          <p:cNvGrpSpPr/>
          <p:nvPr/>
        </p:nvGrpSpPr>
        <p:grpSpPr>
          <a:xfrm>
            <a:off x="6144120" y="4503240"/>
            <a:ext cx="732240" cy="745560"/>
            <a:chOff x="6144120" y="4503240"/>
            <a:chExt cx="732240" cy="745560"/>
          </a:xfrm>
        </p:grpSpPr>
        <p:sp>
          <p:nvSpPr>
            <p:cNvPr id="109" name="Oval 55"/>
            <p:cNvSpPr/>
            <p:nvPr/>
          </p:nvSpPr>
          <p:spPr>
            <a:xfrm rot="21345000">
              <a:off x="6168960" y="4527720"/>
              <a:ext cx="682560" cy="696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 rot="21345000">
              <a:off x="6224760" y="452520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58"/>
          <p:cNvSpPr/>
          <p:nvPr/>
        </p:nvSpPr>
        <p:spPr>
          <a:xfrm rot="17972400">
            <a:off x="5742720" y="444996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9"/>
          <p:cNvSpPr/>
          <p:nvPr/>
        </p:nvSpPr>
        <p:spPr>
          <a:xfrm rot="17972400">
            <a:off x="5961600" y="4518720"/>
            <a:ext cx="131760" cy="15228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4"/>
          <p:cNvGrpSpPr/>
          <p:nvPr/>
        </p:nvGrpSpPr>
        <p:grpSpPr>
          <a:xfrm>
            <a:off x="5072760" y="5503320"/>
            <a:ext cx="732240" cy="745920"/>
            <a:chOff x="5072760" y="5503320"/>
            <a:chExt cx="732240" cy="745920"/>
          </a:xfrm>
        </p:grpSpPr>
        <p:sp>
          <p:nvSpPr>
            <p:cNvPr id="114" name="Oval 55"/>
            <p:cNvSpPr/>
            <p:nvPr/>
          </p:nvSpPr>
          <p:spPr>
            <a:xfrm rot="21345000">
              <a:off x="5097600" y="552780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 rot="21345000">
              <a:off x="5153400" y="552528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58"/>
          <p:cNvSpPr/>
          <p:nvPr/>
        </p:nvSpPr>
        <p:spPr>
          <a:xfrm rot="17972400">
            <a:off x="5099760" y="509292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9"/>
          <p:cNvSpPr/>
          <p:nvPr/>
        </p:nvSpPr>
        <p:spPr>
          <a:xfrm rot="17972400">
            <a:off x="5175000" y="5304960"/>
            <a:ext cx="133200" cy="1526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4"/>
          <p:cNvSpPr/>
          <p:nvPr/>
        </p:nvSpPr>
        <p:spPr>
          <a:xfrm>
            <a:off x="884160" y="292896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6"/>
          <p:cNvSpPr/>
          <p:nvPr/>
        </p:nvSpPr>
        <p:spPr>
          <a:xfrm>
            <a:off x="5585400" y="573552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шнеэконом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7"/>
          <p:cNvSpPr/>
          <p:nvPr/>
        </p:nvSpPr>
        <p:spPr>
          <a:xfrm>
            <a:off x="142920" y="-79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Виды государственной поддержки малого и среднего предпринимательства в Омском муниципальном центре поддержки предпринимательства (в соответствии с 209-ФЗ от 24.07.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8"/>
          <p:cNvSpPr/>
          <p:nvPr/>
        </p:nvSpPr>
        <p:spPr>
          <a:xfrm>
            <a:off x="3634200" y="1052640"/>
            <a:ext cx="224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нформационная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1"/>
          <p:cNvSpPr/>
          <p:nvPr/>
        </p:nvSpPr>
        <p:spPr>
          <a:xfrm>
            <a:off x="5845320" y="185724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ультаци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2"/>
          <p:cNvSpPr/>
          <p:nvPr/>
        </p:nvSpPr>
        <p:spPr>
          <a:xfrm>
            <a:off x="7037280" y="2857680"/>
            <a:ext cx="199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3"/>
          <p:cNvSpPr/>
          <p:nvPr/>
        </p:nvSpPr>
        <p:spPr>
          <a:xfrm>
            <a:off x="6565680" y="4786200"/>
            <a:ext cx="22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меслен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4"/>
          <p:cNvGrpSpPr/>
          <p:nvPr/>
        </p:nvGrpSpPr>
        <p:grpSpPr>
          <a:xfrm>
            <a:off x="4286880" y="1645560"/>
            <a:ext cx="732240" cy="745920"/>
            <a:chOff x="4286880" y="1645560"/>
            <a:chExt cx="732240" cy="745920"/>
          </a:xfrm>
        </p:grpSpPr>
        <p:sp>
          <p:nvSpPr>
            <p:cNvPr id="126" name="Oval 55"/>
            <p:cNvSpPr/>
            <p:nvPr/>
          </p:nvSpPr>
          <p:spPr>
            <a:xfrm rot="21345000">
              <a:off x="4311720" y="16700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 rot="21345000">
              <a:off x="4367520" y="16675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54"/>
          <p:cNvGrpSpPr/>
          <p:nvPr/>
        </p:nvGrpSpPr>
        <p:grpSpPr>
          <a:xfrm>
            <a:off x="3624840" y="5541480"/>
            <a:ext cx="732240" cy="745560"/>
            <a:chOff x="3624840" y="5541480"/>
            <a:chExt cx="732240" cy="745560"/>
          </a:xfrm>
        </p:grpSpPr>
        <p:sp>
          <p:nvSpPr>
            <p:cNvPr id="129" name="Oval 55"/>
            <p:cNvSpPr/>
            <p:nvPr/>
          </p:nvSpPr>
          <p:spPr>
            <a:xfrm rot="21345000">
              <a:off x="3649680" y="5565960"/>
              <a:ext cx="682560" cy="696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 rot="21345000">
              <a:off x="3705480" y="556344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Oval 58"/>
          <p:cNvSpPr/>
          <p:nvPr/>
        </p:nvSpPr>
        <p:spPr>
          <a:xfrm rot="17972400">
            <a:off x="4099680" y="509292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8"/>
          <p:cNvSpPr/>
          <p:nvPr/>
        </p:nvSpPr>
        <p:spPr>
          <a:xfrm rot="17972400">
            <a:off x="4056840" y="5340600"/>
            <a:ext cx="129960" cy="138240"/>
          </a:xfrm>
          <a:prstGeom prst="ellipse">
            <a:avLst/>
          </a:prstGeom>
          <a:gradFill rotWithShape="0">
            <a:gsLst>
              <a:gs pos="0">
                <a:srgbClr val="3e3e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4"/>
          <p:cNvGrpSpPr/>
          <p:nvPr/>
        </p:nvGrpSpPr>
        <p:grpSpPr>
          <a:xfrm>
            <a:off x="2953440" y="2083680"/>
            <a:ext cx="732240" cy="745920"/>
            <a:chOff x="2953440" y="2083680"/>
            <a:chExt cx="732240" cy="745920"/>
          </a:xfrm>
        </p:grpSpPr>
        <p:sp>
          <p:nvSpPr>
            <p:cNvPr id="134" name="Oval 55"/>
            <p:cNvSpPr/>
            <p:nvPr/>
          </p:nvSpPr>
          <p:spPr>
            <a:xfrm rot="21345000">
              <a:off x="2978280" y="210816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rot="21345000">
              <a:off x="3034080" y="210564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4"/>
          <p:cNvGrpSpPr/>
          <p:nvPr/>
        </p:nvGrpSpPr>
        <p:grpSpPr>
          <a:xfrm>
            <a:off x="2315160" y="3191760"/>
            <a:ext cx="732240" cy="745920"/>
            <a:chOff x="2315160" y="3191760"/>
            <a:chExt cx="732240" cy="745920"/>
          </a:xfrm>
        </p:grpSpPr>
        <p:sp>
          <p:nvSpPr>
            <p:cNvPr id="137" name="Oval 55"/>
            <p:cNvSpPr/>
            <p:nvPr/>
          </p:nvSpPr>
          <p:spPr>
            <a:xfrm rot="21345000">
              <a:off x="2340000" y="32162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6"/>
            <p:cNvSpPr/>
            <p:nvPr/>
          </p:nvSpPr>
          <p:spPr>
            <a:xfrm rot="21345000">
              <a:off x="2395800" y="32137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4"/>
          <p:cNvGrpSpPr/>
          <p:nvPr/>
        </p:nvGrpSpPr>
        <p:grpSpPr>
          <a:xfrm>
            <a:off x="2459520" y="4631760"/>
            <a:ext cx="732240" cy="745920"/>
            <a:chOff x="2459520" y="4631760"/>
            <a:chExt cx="732240" cy="745920"/>
          </a:xfrm>
        </p:grpSpPr>
        <p:sp>
          <p:nvSpPr>
            <p:cNvPr id="140" name="Oval 55"/>
            <p:cNvSpPr/>
            <p:nvPr/>
          </p:nvSpPr>
          <p:spPr>
            <a:xfrm rot="21345000">
              <a:off x="2484360" y="4656240"/>
              <a:ext cx="682560" cy="69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6c6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6"/>
            <p:cNvSpPr/>
            <p:nvPr/>
          </p:nvSpPr>
          <p:spPr>
            <a:xfrm rot="21345000">
              <a:off x="2540160" y="4653720"/>
              <a:ext cx="526680" cy="26280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0"/>
          <p:cNvSpPr/>
          <p:nvPr/>
        </p:nvSpPr>
        <p:spPr>
          <a:xfrm>
            <a:off x="155520" y="218124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6"/>
          <p:cNvSpPr/>
          <p:nvPr/>
        </p:nvSpPr>
        <p:spPr>
          <a:xfrm>
            <a:off x="3679920" y="1195560"/>
            <a:ext cx="1850760" cy="5476680"/>
          </a:xfrm>
          <a:prstGeom prst="upDownArrow">
            <a:avLst>
              <a:gd name="adj1" fmla="val 72731"/>
              <a:gd name="adj2" fmla="val 11672"/>
            </a:avLst>
          </a:prstGeom>
          <a:solidFill>
            <a:srgbClr val="b5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войная стрелка влево/вправо 99"/>
          <p:cNvSpPr/>
          <p:nvPr/>
        </p:nvSpPr>
        <p:spPr>
          <a:xfrm rot="5400000">
            <a:off x="3393360" y="3564720"/>
            <a:ext cx="2428560" cy="2928960"/>
          </a:xfrm>
          <a:prstGeom prst="leftRightArrow">
            <a:avLst>
              <a:gd name="adj1" fmla="val 78213"/>
              <a:gd name="adj2" fmla="val 22306"/>
            </a:avLst>
          </a:prstGeom>
          <a:solidFill>
            <a:srgbClr val="ffcc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250920" y="1371600"/>
            <a:ext cx="2448000" cy="647640"/>
          </a:xfrm>
          <a:prstGeom prst="flowChartAlternateProcess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редставительной ор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214800" y="2190600"/>
            <a:ext cx="2786040" cy="638280"/>
          </a:xfrm>
          <a:prstGeom prst="flowChartAlternateProcess">
            <a:avLst/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труктурное подразделение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(должностное  лицо) п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развитию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6877080" y="1595520"/>
            <a:ext cx="2232000" cy="51912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Экономический сов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3780000" y="1725480"/>
            <a:ext cx="1641240" cy="459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879840" y="44280"/>
            <a:ext cx="70617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Calibri"/>
              </a:rPr>
              <a:t>Схема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Calibri"/>
              </a:rPr>
              <a:t>Омского Муниципального центра поддержки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818400" y="2416320"/>
            <a:ext cx="2219400" cy="51912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овет предпринимателе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Группа 13" descr=""/>
          <p:cNvPicPr/>
          <p:nvPr/>
        </p:nvPicPr>
        <p:blipFill>
          <a:blip r:embed="rId1"/>
          <a:stretch/>
        </p:blipFill>
        <p:spPr>
          <a:xfrm>
            <a:off x="6632640" y="3144960"/>
            <a:ext cx="245592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3"/>
          <p:cNvSpPr/>
          <p:nvPr/>
        </p:nvSpPr>
        <p:spPr>
          <a:xfrm>
            <a:off x="0" y="6176880"/>
            <a:ext cx="9144000" cy="219240"/>
          </a:xfrm>
          <a:prstGeom prst="flowChartAlternate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убъекты малого и средне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ручной ввод 19"/>
          <p:cNvSpPr/>
          <p:nvPr/>
        </p:nvSpPr>
        <p:spPr>
          <a:xfrm flipV="1" rot="5400000">
            <a:off x="857160" y="3886200"/>
            <a:ext cx="1643040" cy="2500200"/>
          </a:xfrm>
          <a:prstGeom prst="flowChartManualInpu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ручной ввод 20"/>
          <p:cNvSpPr/>
          <p:nvPr/>
        </p:nvSpPr>
        <p:spPr>
          <a:xfrm rot="5400000">
            <a:off x="6679440" y="3922200"/>
            <a:ext cx="1643040" cy="2428560"/>
          </a:xfrm>
          <a:prstGeom prst="flowChartManualInpu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1"/>
          <p:cNvSpPr/>
          <p:nvPr/>
        </p:nvSpPr>
        <p:spPr>
          <a:xfrm rot="17221200">
            <a:off x="-82440" y="487728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2"/>
          <p:cNvSpPr/>
          <p:nvPr/>
        </p:nvSpPr>
        <p:spPr>
          <a:xfrm rot="4332600">
            <a:off x="7821720" y="497196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857160" y="4314960"/>
            <a:ext cx="20718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ультационные пун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даленные рабочие места МЦП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ультационные пункты Аграрного цент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нд микрофинанс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крофинансовые организ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салтинговые компа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6267600" y="4314960"/>
            <a:ext cx="233496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оопера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йный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овый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инговые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 микрофинанс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и субсидии из бюдж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40"/>
          <p:cNvCxnSpPr/>
          <p:nvPr/>
        </p:nvCxnSpPr>
        <p:spPr>
          <a:xfrm flipH="1">
            <a:off x="71244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0" name="Прямая со стрелкой 41"/>
          <p:cNvCxnSpPr/>
          <p:nvPr/>
        </p:nvCxnSpPr>
        <p:spPr>
          <a:xfrm flipH="1">
            <a:off x="135540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1" name="Прямая со стрелкой 42"/>
          <p:cNvCxnSpPr/>
          <p:nvPr/>
        </p:nvCxnSpPr>
        <p:spPr>
          <a:xfrm flipH="1">
            <a:off x="278568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2" name="Прямая со стрелкой 43"/>
          <p:cNvCxnSpPr/>
          <p:nvPr/>
        </p:nvCxnSpPr>
        <p:spPr>
          <a:xfrm flipH="1">
            <a:off x="206928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3" name="Прямая со стрелкой 44"/>
          <p:cNvCxnSpPr/>
          <p:nvPr/>
        </p:nvCxnSpPr>
        <p:spPr>
          <a:xfrm flipH="1">
            <a:off x="628776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4" name="Прямая со стрелкой 45"/>
          <p:cNvCxnSpPr/>
          <p:nvPr/>
        </p:nvCxnSpPr>
        <p:spPr>
          <a:xfrm flipH="1">
            <a:off x="693072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5" name="Прямая со стрелкой 46"/>
          <p:cNvCxnSpPr/>
          <p:nvPr/>
        </p:nvCxnSpPr>
        <p:spPr>
          <a:xfrm flipH="1">
            <a:off x="757152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66" name="Прямая со стрелкой 47"/>
          <p:cNvCxnSpPr/>
          <p:nvPr/>
        </p:nvCxnSpPr>
        <p:spPr>
          <a:xfrm flipH="1">
            <a:off x="821664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sp>
        <p:nvSpPr>
          <p:cNvPr id="167" name="TextBox 50"/>
          <p:cNvSpPr/>
          <p:nvPr/>
        </p:nvSpPr>
        <p:spPr>
          <a:xfrm>
            <a:off x="196920" y="224784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"/>
          <p:cNvSpPr/>
          <p:nvPr/>
        </p:nvSpPr>
        <p:spPr>
          <a:xfrm>
            <a:off x="247680" y="2300400"/>
            <a:ext cx="1874880" cy="5961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Территориальные орг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федеральных органов исполнительной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74"/>
          <p:cNvSpPr/>
          <p:nvPr/>
        </p:nvSpPr>
        <p:spPr>
          <a:xfrm>
            <a:off x="2786040" y="3019320"/>
            <a:ext cx="3571920" cy="857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ницип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центр поддержки  предпринимательства – «многофункциональное окн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101"/>
          <p:cNvCxnSpPr>
            <a:stCxn id="146" idx="3"/>
          </p:cNvCxnSpPr>
          <p:nvPr/>
        </p:nvCxnSpPr>
        <p:spPr>
          <a:xfrm>
            <a:off x="6000480" y="2509560"/>
            <a:ext cx="632520" cy="97236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1" name="Прямая со стрелкой 103"/>
          <p:cNvCxnSpPr/>
          <p:nvPr/>
        </p:nvCxnSpPr>
        <p:spPr>
          <a:xfrm flipH="1" flipV="1">
            <a:off x="5958720" y="1760040"/>
            <a:ext cx="903960" cy="6026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2" name="Прямая со стрелкой 105"/>
          <p:cNvCxnSpPr>
            <a:stCxn id="147" idx="1"/>
            <a:endCxn id="173" idx="3"/>
          </p:cNvCxnSpPr>
          <p:nvPr/>
        </p:nvCxnSpPr>
        <p:spPr>
          <a:xfrm flipH="1" flipV="1">
            <a:off x="6000480" y="1685520"/>
            <a:ext cx="876960" cy="1706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Прямая со стрелкой 107"/>
          <p:cNvCxnSpPr>
            <a:stCxn id="145" idx="3"/>
            <a:endCxn id="173" idx="1"/>
          </p:cNvCxnSpPr>
          <p:nvPr/>
        </p:nvCxnSpPr>
        <p:spPr>
          <a:xfrm flipV="1">
            <a:off x="2698560" y="1685160"/>
            <a:ext cx="516600" cy="10440"/>
          </a:xfrm>
          <a:prstGeom prst="straightConnector1">
            <a:avLst/>
          </a:prstGeom>
          <a:ln w="31680">
            <a:solidFill>
              <a:srgbClr val="939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Прямая со стрелкой 109"/>
          <p:cNvCxnSpPr>
            <a:stCxn id="168" idx="3"/>
          </p:cNvCxnSpPr>
          <p:nvPr/>
        </p:nvCxnSpPr>
        <p:spPr>
          <a:xfrm flipV="1">
            <a:off x="2122560" y="1936080"/>
            <a:ext cx="1054800" cy="835560"/>
          </a:xfrm>
          <a:prstGeom prst="straightConnector1">
            <a:avLst/>
          </a:prstGeom>
          <a:ln w="31680">
            <a:solidFill>
              <a:srgbClr val="ff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Прямая со стрелкой 111"/>
          <p:cNvCxnSpPr>
            <a:stCxn id="168" idx="3"/>
            <a:endCxn id="146" idx="1"/>
          </p:cNvCxnSpPr>
          <p:nvPr/>
        </p:nvCxnSpPr>
        <p:spPr>
          <a:xfrm flipV="1">
            <a:off x="2122560" y="2509560"/>
            <a:ext cx="1092960" cy="262080"/>
          </a:xfrm>
          <a:prstGeom prst="straightConnector1">
            <a:avLst/>
          </a:prstGeom>
          <a:ln w="31680">
            <a:solidFill>
              <a:srgbClr val="ff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7" name="Прямая со стрелкой 113"/>
          <p:cNvCxnSpPr>
            <a:stCxn id="168" idx="3"/>
            <a:endCxn id="169" idx="2"/>
          </p:cNvCxnSpPr>
          <p:nvPr/>
        </p:nvCxnSpPr>
        <p:spPr>
          <a:xfrm>
            <a:off x="2122200" y="2771280"/>
            <a:ext cx="664200" cy="67716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Прямая со стрелкой 115"/>
          <p:cNvCxnSpPr>
            <a:stCxn id="169" idx="6"/>
          </p:cNvCxnSpPr>
          <p:nvPr/>
        </p:nvCxnSpPr>
        <p:spPr>
          <a:xfrm>
            <a:off x="6357600" y="3447720"/>
            <a:ext cx="275400" cy="342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sp>
        <p:nvSpPr>
          <p:cNvPr id="179" name="Двойная стрелка влево/вправо 116"/>
          <p:cNvSpPr/>
          <p:nvPr/>
        </p:nvSpPr>
        <p:spPr>
          <a:xfrm rot="7377000">
            <a:off x="2701800" y="3830400"/>
            <a:ext cx="709560" cy="35712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войная стрелка влево/вправо 117"/>
          <p:cNvSpPr/>
          <p:nvPr/>
        </p:nvSpPr>
        <p:spPr>
          <a:xfrm rot="3231600">
            <a:off x="5757840" y="3833640"/>
            <a:ext cx="728640" cy="357120"/>
          </a:xfrm>
          <a:prstGeom prst="leftRightArrow">
            <a:avLst>
              <a:gd name="adj1" fmla="val 50000"/>
              <a:gd name="adj2" fmla="val 5315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3795840" y="2828880"/>
            <a:ext cx="162864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20"/>
          <p:cNvCxnSpPr>
            <a:stCxn id="150" idx="2"/>
          </p:cNvCxnSpPr>
          <p:nvPr/>
        </p:nvCxnSpPr>
        <p:spPr>
          <a:xfrm flipH="1">
            <a:off x="7926120" y="2935080"/>
            <a:ext cx="2160" cy="3229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3" name="Прямая со стрелкой 121"/>
          <p:cNvCxnSpPr/>
          <p:nvPr/>
        </p:nvCxnSpPr>
        <p:spPr>
          <a:xfrm flipH="1">
            <a:off x="3928680" y="5957640"/>
            <a:ext cx="216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cxnSp>
        <p:nvCxnSpPr>
          <p:cNvPr id="184" name="Прямая со стрелкой 122"/>
          <p:cNvCxnSpPr/>
          <p:nvPr/>
        </p:nvCxnSpPr>
        <p:spPr>
          <a:xfrm flipH="1">
            <a:off x="5571360" y="5957640"/>
            <a:ext cx="2520" cy="216360"/>
          </a:xfrm>
          <a:prstGeom prst="straightConnector1">
            <a:avLst/>
          </a:prstGeom>
          <a:ln w="25560">
            <a:solidFill>
              <a:srgbClr val="9393fc"/>
            </a:solidFill>
            <a:miter/>
            <a:headEnd len="sm" type="arrow" w="sm"/>
            <a:tailEnd len="sm" type="arrow" w="sm"/>
          </a:ln>
        </p:spPr>
      </p:cxnSp>
      <p:sp>
        <p:nvSpPr>
          <p:cNvPr id="185" name="Прямоугольник 125"/>
          <p:cNvSpPr/>
          <p:nvPr/>
        </p:nvSpPr>
        <p:spPr>
          <a:xfrm>
            <a:off x="334800" y="3600360"/>
            <a:ext cx="1500480" cy="506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Центры занятости насе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127"/>
          <p:cNvCxnSpPr>
            <a:stCxn id="185" idx="3"/>
            <a:endCxn id="169" idx="2"/>
          </p:cNvCxnSpPr>
          <p:nvPr/>
        </p:nvCxnSpPr>
        <p:spPr>
          <a:xfrm flipV="1">
            <a:off x="1834920" y="3447360"/>
            <a:ext cx="951480" cy="40716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sp>
        <p:nvSpPr>
          <p:cNvPr id="187" name="Двойная стрелка влево/вправо 129"/>
          <p:cNvSpPr/>
          <p:nvPr/>
        </p:nvSpPr>
        <p:spPr>
          <a:xfrm>
            <a:off x="2944800" y="4886280"/>
            <a:ext cx="519120" cy="428760"/>
          </a:xfrm>
          <a:prstGeom prst="leftRightArrow">
            <a:avLst>
              <a:gd name="adj1" fmla="val 50000"/>
              <a:gd name="adj2" fmla="val 324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войная стрелка влево/вправо 130"/>
          <p:cNvSpPr/>
          <p:nvPr/>
        </p:nvSpPr>
        <p:spPr>
          <a:xfrm>
            <a:off x="5776920" y="4867200"/>
            <a:ext cx="500040" cy="428760"/>
          </a:xfrm>
          <a:prstGeom prst="leftRightArrow">
            <a:avLst>
              <a:gd name="adj1" fmla="val 50000"/>
              <a:gd name="adj2" fmla="val 324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134"/>
          <p:cNvCxnSpPr>
            <a:stCxn id="146" idx="3"/>
            <a:endCxn id="150" idx="1"/>
          </p:cNvCxnSpPr>
          <p:nvPr/>
        </p:nvCxnSpPr>
        <p:spPr>
          <a:xfrm>
            <a:off x="6000480" y="2509560"/>
            <a:ext cx="818280" cy="16704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0" name="Прямая со стрелкой 120"/>
          <p:cNvCxnSpPr/>
          <p:nvPr/>
        </p:nvCxnSpPr>
        <p:spPr>
          <a:xfrm flipH="1">
            <a:off x="7935120" y="2099880"/>
            <a:ext cx="2520" cy="3229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AutoShape 4"/>
          <p:cNvSpPr/>
          <p:nvPr/>
        </p:nvSpPr>
        <p:spPr>
          <a:xfrm>
            <a:off x="3214800" y="1433520"/>
            <a:ext cx="2786040" cy="503280"/>
          </a:xfrm>
          <a:prstGeom prst="flowChartAlternateProcess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рган местног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самоуправл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32"/>
          <p:cNvSpPr/>
          <p:nvPr/>
        </p:nvSpPr>
        <p:spPr>
          <a:xfrm>
            <a:off x="2916360" y="814320"/>
            <a:ext cx="3311280" cy="407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иональный цент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ддержки предпринима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Group 74" descr=""/>
          <p:cNvPicPr/>
          <p:nvPr/>
        </p:nvPicPr>
        <p:blipFill>
          <a:blip r:embed="rId2"/>
          <a:stretch/>
        </p:blipFill>
        <p:spPr>
          <a:xfrm>
            <a:off x="3524400" y="4091040"/>
            <a:ext cx="2236680" cy="18889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77"/>
          <p:cNvGrpSpPr/>
          <p:nvPr/>
        </p:nvGrpSpPr>
        <p:grpSpPr>
          <a:xfrm>
            <a:off x="6765840" y="712800"/>
            <a:ext cx="2244960" cy="864720"/>
            <a:chOff x="6765840" y="712800"/>
            <a:chExt cx="2244960" cy="864720"/>
          </a:xfrm>
        </p:grpSpPr>
        <p:sp>
          <p:nvSpPr>
            <p:cNvPr id="194" name="Овал 74"/>
            <p:cNvSpPr/>
            <p:nvPr/>
          </p:nvSpPr>
          <p:spPr>
            <a:xfrm>
              <a:off x="6765840" y="712800"/>
              <a:ext cx="2244960" cy="698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6"/>
            <p:cNvSpPr/>
            <p:nvPr/>
          </p:nvSpPr>
          <p:spPr>
            <a:xfrm>
              <a:off x="7125480" y="722160"/>
              <a:ext cx="14731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ы поддержк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предпринимательства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ругих муниципа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бразован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Прямая со стрелкой 88"/>
          <p:cNvCxnSpPr/>
          <p:nvPr/>
        </p:nvCxnSpPr>
        <p:spPr>
          <a:xfrm flipV="1">
            <a:off x="6012000" y="1172880"/>
            <a:ext cx="923040" cy="201024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88"/>
          <p:cNvCxnSpPr/>
          <p:nvPr/>
        </p:nvCxnSpPr>
        <p:spPr>
          <a:xfrm>
            <a:off x="6217920" y="1031400"/>
            <a:ext cx="579960" cy="514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headEnd len="med" type="arrow" w="med"/>
            <a:tailEnd len="med" type="arrow" w="med"/>
          </a:ln>
        </p:spPr>
      </p:cxn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7320" y="171360"/>
            <a:ext cx="8829360" cy="6515280"/>
          </a:xfrm>
          <a:prstGeom prst="rect">
            <a:avLst/>
          </a:prstGeom>
          <a:ln w="0">
            <a:noFill/>
          </a:ln>
        </p:spPr>
      </p:pic>
      <p:grpSp>
        <p:nvGrpSpPr>
          <p:cNvPr id="199" name="32-конечная звезда 16"/>
          <p:cNvGrpSpPr/>
          <p:nvPr/>
        </p:nvGrpSpPr>
        <p:grpSpPr>
          <a:xfrm>
            <a:off x="3260880" y="828720"/>
            <a:ext cx="2908080" cy="3133800"/>
            <a:chOff x="3260880" y="828720"/>
            <a:chExt cx="2908080" cy="3133800"/>
          </a:xfrm>
        </p:grpSpPr>
        <p:pic>
          <p:nvPicPr>
            <p:cNvPr id="200" name="32-конечная звезда 16" descr=""/>
            <p:cNvPicPr/>
            <p:nvPr/>
          </p:nvPicPr>
          <p:blipFill>
            <a:blip r:embed="rId2"/>
            <a:stretch/>
          </p:blipFill>
          <p:spPr>
            <a:xfrm>
              <a:off x="3260880" y="828720"/>
              <a:ext cx="290808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957480" y="1577880"/>
              <a:ext cx="151452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4143240" y="1571760"/>
            <a:ext cx="925560" cy="15858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5"/>
          <p:cNvSpPr/>
          <p:nvPr/>
        </p:nvSpPr>
        <p:spPr>
          <a:xfrm>
            <a:off x="0" y="857160"/>
            <a:ext cx="32148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SFO2009-2"/>
          <p:cNvPicPr/>
          <p:nvPr/>
        </p:nvPicPr>
        <p:blipFill>
          <a:blip r:embed="rId4"/>
          <a:stretch/>
        </p:blipFill>
        <p:spPr>
          <a:xfrm>
            <a:off x="177840" y="1500120"/>
            <a:ext cx="2952720" cy="133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14200" y="214200"/>
            <a:ext cx="8715600" cy="42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нформационно-консультационная система поддержки малого и среднего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 Омском муниципальном Центре поддержки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 rot="20775600">
            <a:off x="3081240" y="2427120"/>
            <a:ext cx="1295640" cy="8416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210240 h 841680"/>
              <a:gd name="textAreaBottom" fmla="*/ 631440 h 841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rot="10800000">
            <a:off x="5143320" y="1999800"/>
            <a:ext cx="1136520" cy="78588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 rot="13379400">
            <a:off x="4809960" y="3207600"/>
            <a:ext cx="1603440" cy="625320"/>
          </a:xfrm>
          <a:custGeom>
            <a:avLst/>
            <a:gdLst>
              <a:gd name="textAreaLeft" fmla="*/ 250560 w 1603440"/>
              <a:gd name="textAreaRight" fmla="*/ 1403280 w 1603440"/>
              <a:gd name="textAreaTop" fmla="*/ 156240 h 625320"/>
              <a:gd name="textAreaBottom" fmla="*/ 469080 h 62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d2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6264360" y="3571920"/>
            <a:ext cx="24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ект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6487200" y="5616720"/>
            <a:ext cx="249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едоставление информаци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из ба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рганизация стажиро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разователь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кспертиза качества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108000" y="4932360"/>
            <a:ext cx="24796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едовой мировой опыт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71280" y="287280"/>
            <a:ext cx="9001440" cy="6262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Открыти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 учреждения </a:t>
            </a:r>
            <a:br>
              <a:rPr sz="3200"/>
            </a:br>
            <a:r>
              <a:rPr b="0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Омский городской центр поддержки предпринимательства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ржественная церемония состоится </a:t>
            </a:r>
            <a:br>
              <a:rPr sz="3200"/>
            </a:b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28 мая в 10</a:t>
            </a:r>
            <a:r>
              <a:rPr b="1" lang="ru-RU" sz="3200" spc="-1" strike="noStrike" u="sng" baseline="30000">
                <a:solidFill>
                  <a:srgbClr val="3366ff"/>
                </a:solidFill>
                <a:uFillTx/>
                <a:latin typeface="Arial"/>
                <a:ea typeface="Arial"/>
              </a:rPr>
              <a:t>00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с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адресу </a:t>
            </a:r>
            <a:r>
              <a:rPr b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ул. Степная, 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712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Структура организ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640" y="714240"/>
            <a:ext cx="871524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тдел поддержки субъектов малого и среднего предпринимательства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информационных и консультационных услуг малому и среднему бизнесу по вопросам права, налогообложения, бухгалтерского учета, кредитования, бизнес-планирования, предоставления имущественной и финансовой поддержки, доступа к информационным базам д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онно-аналитический отде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бизнесу помощь в обучении, переобучении и повышении квалификации работников; организация участия в выставках, ярмарках, презентациях, форумах в Омске, других регионах России и за рубежом; проведении семинаров, конференций, тренингов и других образовательных мероприятий, в том числе семинаров для начинающих предпринима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10000"/>
              </a:lnSpc>
              <a:spcBef>
                <a:spcPts val="55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6280" y="188640"/>
            <a:ext cx="8686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Взаимодействие Центр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16820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ственные организации предпринимателей О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мерческие и общественные организации, реализующие проекты в сфере развития малого и среднего бизн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ы власти города и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рриториальные подразделения федеральных органов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560" y="340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ff"/>
                </a:solidFill>
                <a:latin typeface="Arial"/>
                <a:ea typeface="Arial"/>
              </a:rPr>
              <a:t>Режим работы учрежден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814400"/>
            <a:ext cx="87868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понедельника по четверг – с 8:30 до 17:4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ятницу – с 8:30 до 16:3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лефоны: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72-97-2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72-97-2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4-19-0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дрес в Интернете: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www.omskcpp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3366ff"/>
                </a:solidFill>
                <a:latin typeface="Arial"/>
              </a:rPr>
              <a:t>Благодарю за внимание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00960" y="1758960"/>
            <a:ext cx="1357200" cy="454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Arial"/>
                <a:ea typeface="Arial"/>
              </a:rPr>
              <a:t>Субъекты малого предпринима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709640"/>
            <a:ext cx="720108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алые предприятия и индивидуальные предприниматели (предприниматели, действующие без образования юридического лиц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18036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  <a:ea typeface="Arial"/>
              </a:rPr>
              <a:t>Основные полномочия гражданина, осуществляющего свою деятельность без образования юридического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1928520"/>
            <a:ext cx="8400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от своего имени заключать гражданско-правовые сделки, в том числе хозяйственные догов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в уплате нал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использовать труд наемны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защищать свои права в с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Индивидуальный предпринима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380960"/>
            <a:ext cx="7615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(физические лица) Российской Федерации, не ограниченные в установленном федеральным законом порядке в своей дееспособ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66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(физические лица) иностранных государств и лица без гражданства в пределах полномочий, установленных Федеральным зако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7715160" y="4714920"/>
            <a:ext cx="92556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имущества</a:t>
            </a:r>
            <a:r>
              <a:rPr b="1" lang="ru-RU" sz="30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дпринимательской деятельности без образования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920" y="1384200"/>
            <a:ext cx="9036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регистрации в качестве индивидуального предпринимателя несложна и не занимает много времени и сред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предприниматель применяет упрощенный (по сравнению с предприятиями) порядок ведения учета и отчетности, который не требует специального бухгалтерского образов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spcAft>
                <a:spcPts val="10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сфере потребительского рынка и услуг с правовой точки зрения индивидуальный предприниматель выступает на равных с юридическими лицами (п. 3 ст. 23 ГК РФ). Индивидуальный предприниматель имеет право, в частности, иметь свой расчетный счет в банке, личную печать, заключать сделки и подписывать договоры, получать банковский креди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66ff"/>
                </a:solidFill>
                <a:latin typeface="Arial"/>
                <a:ea typeface="Arial"/>
              </a:rPr>
              <a:t>Преимущества предпринимательской деятельности без образования юридического л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42848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ки налогообложения для индивидуального предпринимателя значительно ниже, чем у юридическ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предприниматель уплачивает минимальное (по сравнению с предприятиями) количество нал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 как физическое лицо имеет ряд налоговых льгот, предусмотренных Налоговым кодексом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ыскание имущества и денежных средств предпринимателя производится только в судебном поря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8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Arial"/>
                <a:ea typeface="Arial"/>
              </a:rPr>
              <a:t>Использование предпринимателем наемного тр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900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трудового договор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говор о полной материальной ответствен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говоры гражданско-правового характер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929280" y="4452840"/>
            <a:ext cx="181008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Arial"/>
                <a:ea typeface="Arial"/>
              </a:rPr>
              <a:t>Денежные расчеты предпринимателя с населени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Денежные расчеты с населением без применения ККМ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Денежные расчеты с населением с применением ККМ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выбор ККМ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а на техническое обслуживание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Arial"/>
              </a:rPr>
              <a:t>регистрация ККМ в налоговых органах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12:42Z</dcterms:created>
  <dc:creator>ok</dc:creator>
  <dc:description/>
  <dc:language>en-US</dc:language>
  <cp:lastModifiedBy>ОПСА</cp:lastModifiedBy>
  <dcterms:modified xsi:type="dcterms:W3CDTF">2012-07-25T08:11:42Z</dcterms:modified>
  <cp:revision>52</cp:revision>
  <dc:subject/>
  <dc:title>Слайд 1</dc:title>
</cp:coreProperties>
</file>