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D53-FFC1-4829-BF6A-5685CA74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9E7-0B1A-4EBA-83FF-7F7A97AF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254-0247-4E88-AF9A-1827709E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A1C-75FE-46D5-992C-324A6050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383-DFFE-48F7-A6A2-1B9DD48D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5AA-74A3-4F89-8A85-2AB5674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64C-07DD-430F-A8B0-328ECB54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60D-D0DE-4607-8299-1DEA9C54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C47-BFC9-43B4-8319-03FC89EC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1B2-8339-45CB-B5F0-E516F20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9811-0D30-4FCF-B7EB-242F8CD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16B-47BA-4322-BF25-05EDFFB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17E-6AA7-4EAD-8065-A540B68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39D-436C-4598-9E54-385923E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45A3-8A3E-4BF6-82D5-2DEA7B9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6583-F0E7-4935-9BCB-D0115B89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813-B4F4-4F26-B9C3-461C9011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A6-92AF-45A4-9E95-9BB0874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706-B2D1-499B-AD7E-B855FBAC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88C-2F16-4EB3-9CA7-2C97E4D8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192-57D9-4FE5-B167-5BBB5A8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597-0892-48A4-BB6A-D37171A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1F0-6FF4-49F3-9309-5B2702E9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1D8-729A-4063-90F4-4C145AE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1C2E-62E5-4819-BA5B-EBB42A74D3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BBD8-621A-4365-8559-781068EE54D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752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Arial"/>
              </a:rPr>
              <a:t>Публичное выступление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50920" y="5987880"/>
            <a:ext cx="21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С.Ф. Дацюк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335240" cy="198108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Что такое публичное выступ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Подготовка и 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Навыки выступ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четверт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Навыки ведения презен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асть пятая: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Подготовьте и сделайте вы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пяти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15228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1522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1522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15228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feed-icon-1"/>
          <p:cNvPicPr/>
          <p:nvPr/>
        </p:nvPicPr>
        <p:blipFill>
          <a:blip r:embed="rId5"/>
          <a:stretch/>
        </p:blipFill>
        <p:spPr>
          <a:xfrm>
            <a:off x="1522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18440" y="3581280"/>
            <a:ext cx="16732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это процесс презентации и открытого выражения вашего мнения, мыслей, идей и чувств в интересах общественности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адресовано публике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является вызовом, требующим демонстрации лидерских способност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860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Публичное выступление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feed-icon-1"/>
          <p:cNvPicPr/>
          <p:nvPr/>
        </p:nvPicPr>
        <p:blipFill>
          <a:blip r:embed="rId2"/>
          <a:stretch/>
        </p:blipFill>
        <p:spPr>
          <a:xfrm>
            <a:off x="763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eed-icon-1"/>
          <p:cNvPicPr/>
          <p:nvPr/>
        </p:nvPicPr>
        <p:blipFill>
          <a:blip r:embed="rId3"/>
          <a:stretch/>
        </p:blipFill>
        <p:spPr>
          <a:xfrm>
            <a:off x="7632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eed-icon-1"/>
          <p:cNvPicPr/>
          <p:nvPr/>
        </p:nvPicPr>
        <p:blipFill>
          <a:blip r:embed="rId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Подготовка и содержание</a:t>
            </a:r>
            <a:endParaRPr b="1" lang="en-US" sz="5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Узнайте аудиторию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Будьте аккуратны и точ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мните о логической последовательност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росчитайте врем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смотрите на то, что собираетесь сказа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Скажите это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Arial"/>
              </a:rPr>
              <a:t>Повторите сказан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feed-icon-1"/>
          <p:cNvPicPr/>
          <p:nvPr/>
        </p:nvPicPr>
        <p:blipFill>
          <a:blip r:embed="rId1"/>
          <a:stretch/>
        </p:blipFill>
        <p:spPr>
          <a:xfrm>
            <a:off x="76320" y="1219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eed-icon-1"/>
          <p:cNvPicPr/>
          <p:nvPr/>
        </p:nvPicPr>
        <p:blipFill>
          <a:blip r:embed="rId3"/>
          <a:stretch/>
        </p:blipFill>
        <p:spPr>
          <a:xfrm>
            <a:off x="763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eed-icon-1"/>
          <p:cNvPicPr/>
          <p:nvPr/>
        </p:nvPicPr>
        <p:blipFill>
          <a:blip r:embed="rId4"/>
          <a:stretch/>
        </p:blipFill>
        <p:spPr>
          <a:xfrm>
            <a:off x="7632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eed-icon-1"/>
          <p:cNvPicPr/>
          <p:nvPr/>
        </p:nvPicPr>
        <p:blipFill>
          <a:blip r:embed="rId5"/>
          <a:stretch/>
        </p:blipFill>
        <p:spPr>
          <a:xfrm>
            <a:off x="7632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feed-icon-1"/>
          <p:cNvPicPr/>
          <p:nvPr/>
        </p:nvPicPr>
        <p:blipFill>
          <a:blip r:embed="rId6"/>
          <a:stretch/>
        </p:blipFill>
        <p:spPr>
          <a:xfrm>
            <a:off x="7632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feed-icon-1"/>
          <p:cNvPicPr/>
          <p:nvPr/>
        </p:nvPicPr>
        <p:blipFill>
          <a:blip r:embed="rId7"/>
          <a:stretch/>
        </p:blipFill>
        <p:spPr>
          <a:xfrm>
            <a:off x="7632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Навыки выступления</a:t>
            </a:r>
            <a:endParaRPr b="1" lang="en-US" sz="6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соответствовать аудитории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просто и понятно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структура предложений;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51"/>
              </a:spcBef>
              <a:spcAft>
                <a:spcPts val="20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5800"/>
                </a:solidFill>
                <a:latin typeface="Arial"/>
              </a:rPr>
              <a:t>визуальная поддержка.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feed-icon-1"/>
          <p:cNvPicPr/>
          <p:nvPr/>
        </p:nvPicPr>
        <p:blipFill>
          <a:blip r:embed="rId2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feed-icon-1"/>
          <p:cNvPicPr/>
          <p:nvPr/>
        </p:nvPicPr>
        <p:blipFill>
          <a:blip r:embed="rId3"/>
          <a:stretch/>
        </p:blipFill>
        <p:spPr>
          <a:xfrm>
            <a:off x="763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feed-icon-1"/>
          <p:cNvPicPr/>
          <p:nvPr/>
        </p:nvPicPr>
        <p:blipFill>
          <a:blip r:embed="rId4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feed-icon-1"/>
          <p:cNvPicPr/>
          <p:nvPr/>
        </p:nvPicPr>
        <p:blipFill>
          <a:blip r:embed="rId5"/>
          <a:stretch/>
        </p:blipFill>
        <p:spPr>
          <a:xfrm>
            <a:off x="7632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42560"/>
            <a:ext cx="861084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Навыки презентации</a:t>
            </a:r>
            <a:endParaRPr b="1" lang="en-US" sz="6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четкое произношен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темп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лечение вниман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спокойств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взгляд на аудиторию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следите за окончани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238880" y="3524400"/>
            <a:ext cx="1600200" cy="28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feed-icon-1"/>
          <p:cNvPicPr/>
          <p:nvPr/>
        </p:nvPicPr>
        <p:blipFill>
          <a:blip r:embed="rId2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feed-icon-1"/>
          <p:cNvPicPr/>
          <p:nvPr/>
        </p:nvPicPr>
        <p:blipFill>
          <a:blip r:embed="rId3"/>
          <a:stretch/>
        </p:blipFill>
        <p:spPr>
          <a:xfrm>
            <a:off x="763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feed-icon-1"/>
          <p:cNvPicPr/>
          <p:nvPr/>
        </p:nvPicPr>
        <p:blipFill>
          <a:blip r:embed="rId4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feed-icon-1"/>
          <p:cNvPicPr/>
          <p:nvPr/>
        </p:nvPicPr>
        <p:blipFill>
          <a:blip r:embed="rId5"/>
          <a:stretch/>
        </p:blipFill>
        <p:spPr>
          <a:xfrm>
            <a:off x="763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feed-icon-1"/>
          <p:cNvPicPr/>
          <p:nvPr/>
        </p:nvPicPr>
        <p:blipFill>
          <a:blip r:embed="rId6"/>
          <a:stretch/>
        </p:blipFill>
        <p:spPr>
          <a:xfrm>
            <a:off x="76320" y="5181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feed-icon-1"/>
          <p:cNvPicPr/>
          <p:nvPr/>
        </p:nvPicPr>
        <p:blipFill>
          <a:blip r:embed="rId7"/>
          <a:stretch/>
        </p:blipFill>
        <p:spPr>
          <a:xfrm>
            <a:off x="763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80880" y="1447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Arial"/>
              </a:rPr>
              <a:t>Ролевая игра «Публичное выступление»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152280" y="142920"/>
            <a:ext cx="86108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ff"/>
                </a:solidFill>
                <a:latin typeface="Arial"/>
              </a:rPr>
              <a:t>Задания участникам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33520" y="1123920"/>
            <a:ext cx="84582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Почему нам нужно праздновать Международный день медицинской сест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Важность непрерывного сестринского образовани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Выступление в защиту нулевой толерантности по отношению к насилию на рабочем мест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Обращение по вопросу обслуживания потребителе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Улучшение качества оказываемой помощи и повышение уровня удовлетворенности пациент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800"/>
                </a:solidFill>
                <a:latin typeface="Arial"/>
              </a:rPr>
              <a:t>Речь представителя РАМС о постоянном стремлении к совершенствованию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eed-icon-1"/>
          <p:cNvPicPr/>
          <p:nvPr/>
        </p:nvPicPr>
        <p:blipFill>
          <a:blip r:embed="rId1"/>
          <a:stretch/>
        </p:blipFill>
        <p:spPr>
          <a:xfrm>
            <a:off x="7632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feed-icon-1"/>
          <p:cNvPicPr/>
          <p:nvPr/>
        </p:nvPicPr>
        <p:blipFill>
          <a:blip r:embed="rId2"/>
          <a:stretch/>
        </p:blipFill>
        <p:spPr>
          <a:xfrm>
            <a:off x="763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feed-icon-1"/>
          <p:cNvPicPr/>
          <p:nvPr/>
        </p:nvPicPr>
        <p:blipFill>
          <a:blip r:embed="rId3"/>
          <a:stretch/>
        </p:blipFill>
        <p:spPr>
          <a:xfrm>
            <a:off x="763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ed-icon-1"/>
          <p:cNvPicPr/>
          <p:nvPr/>
        </p:nvPicPr>
        <p:blipFill>
          <a:blip r:embed="rId4"/>
          <a:stretch/>
        </p:blipFill>
        <p:spPr>
          <a:xfrm>
            <a:off x="763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feed-icon-1"/>
          <p:cNvPicPr/>
          <p:nvPr/>
        </p:nvPicPr>
        <p:blipFill>
          <a:blip r:embed="rId5"/>
          <a:stretch/>
        </p:blipFill>
        <p:spPr>
          <a:xfrm>
            <a:off x="7632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feed-icon-1"/>
          <p:cNvPicPr/>
          <p:nvPr/>
        </p:nvPicPr>
        <p:blipFill>
          <a:blip r:embed="rId6"/>
          <a:stretch/>
        </p:blipFill>
        <p:spPr>
          <a:xfrm>
            <a:off x="7632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1:5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