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10B-AE74-41F1-9F63-D6D9C229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243-6451-46E9-968B-40478432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25B-68D4-4829-B9C3-A10C56A8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C9C-6632-4C6F-A2E4-14D57426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BBE-0AC0-4D14-A77D-2DF5589C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308-A2C1-42AF-91B7-441A86F4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ACB-57C2-49D8-B56D-42369107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71D-6BF1-4141-922E-F191AEA1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196-EA37-48FE-AA63-663FFB1B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C96-6FA1-4BBD-80F4-6FAD4457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E2F-75E4-4D2D-B274-71FB910F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077-EA2D-4CD2-9750-2ED17FCE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24E9-8A65-45EE-865D-54CC60B1D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133720"/>
            <a:ext cx="1524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33720" y="2382840"/>
            <a:ext cx="4863960" cy="4094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104760"/>
            <a:ext cx="8991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00476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5800"/>
                </a:solidFill>
                <a:latin typeface="Verdana"/>
              </a:rPr>
              <a:t>Кофе-пауз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7:38:1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