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5868-55D3-4E25-A128-765C86E4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D9D4-2433-4288-94C5-52F03C5C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FE7-0717-458B-B849-0F7196DA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75D-03CA-4131-9087-4C005272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A52-D43B-4BA3-A57F-5C670ECB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263-6B6E-4FC6-B78F-A2C449D8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5FBE-741E-47D2-BE17-ED1E4A1C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46AD-5B68-4230-8279-5D2F3790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6AAE-7F33-4B9E-A9BB-557E4010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0934-DA3B-4770-94A7-890B0143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9142-51AE-4698-897C-A54219CC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837D-F7F8-437A-BF56-4A7C70E1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7E14-D305-4657-807B-F5DB309C6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200" y="324000"/>
            <a:ext cx="2521080" cy="352728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ffffff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2666880" y="3200400"/>
            <a:ext cx="62024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5 - 28 мая 201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г. Ом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Прямоугольник 4"/>
          <p:cNvGrpSpPr/>
          <p:nvPr/>
        </p:nvGrpSpPr>
        <p:grpSpPr>
          <a:xfrm>
            <a:off x="-19080" y="4127400"/>
            <a:ext cx="9175680" cy="169920"/>
            <a:chOff x="-19080" y="4127400"/>
            <a:chExt cx="9175680" cy="169920"/>
          </a:xfrm>
        </p:grpSpPr>
        <p:pic>
          <p:nvPicPr>
            <p:cNvPr id="45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-19080" y="4127400"/>
              <a:ext cx="91756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414324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51000" y="407880"/>
            <a:ext cx="2131920" cy="3156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71520" y="2338560"/>
            <a:ext cx="514440" cy="51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00200" y="4648320"/>
            <a:ext cx="5943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006600"/>
                </a:solidFill>
                <a:latin typeface="Verdana"/>
              </a:rPr>
              <a:t>4 день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307800"/>
            <a:ext cx="66294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региональный семинар    в рамках международного проекта «Лидерство в переговор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1200240" y="1260360"/>
            <a:ext cx="210960" cy="2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05-20T17:01:11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