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E94F-09BC-43F6-A9E3-D6392343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340-594C-4A18-8452-C1ECF01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F6B4-D84E-4930-8ACF-B39E0A2F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F3BC-C2ED-4392-AAE3-001AC560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345-6387-4BBC-9767-52235451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FBE-9633-4360-9538-CA57148D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B23F-B328-4F8C-9DAB-FB675068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F5E-2E11-4987-962F-A2A5E33F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B5D-148F-4492-8BC8-D7308D2D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E1A-AB2F-4DB3-BCC6-35D57F5F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26AF-7606-464E-95DB-898FA75E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2C6-7A5A-4010-97BF-19534A59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BEF7-8A65-44A6-BB63-EAE98F8A86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8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2"/>
          <p:cNvSpPr/>
          <p:nvPr/>
        </p:nvSpPr>
        <p:spPr>
          <a:xfrm>
            <a:off x="2438280" y="1828800"/>
            <a:ext cx="6400800" cy="4800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1"/>
          <p:cNvSpPr/>
          <p:nvPr/>
        </p:nvSpPr>
        <p:spPr>
          <a:xfrm>
            <a:off x="304920" y="1295280"/>
            <a:ext cx="1936800" cy="2828880"/>
          </a:xfrm>
          <a:custGeom>
            <a:avLst/>
            <a:gdLst>
              <a:gd name="textAreaLeft" fmla="*/ 94320 w 1936800"/>
              <a:gd name="textAreaRight" fmla="*/ 1842480 w 1936800"/>
              <a:gd name="textAreaTop" fmla="*/ 94320 h 2828880"/>
              <a:gd name="textAreaBottom" fmla="*/ 2734560 h 2828880"/>
            </a:gdLst>
            <a:ahLst/>
            <a:rect l="textAreaLeft" t="textAreaTop" r="textAreaRight" b="textAreaBottom"/>
            <a:pathLst>
              <a:path w="21600" h="31547">
                <a:moveTo>
                  <a:pt x="3600" y="0"/>
                </a:moveTo>
                <a:arcTo wR="3600" hR="3600" stAng="16200000" swAng="-5400000"/>
                <a:lnTo>
                  <a:pt x="0" y="27947"/>
                </a:lnTo>
                <a:arcTo wR="3600" hR="3600" stAng="10800000" swAng="-5400000"/>
                <a:lnTo>
                  <a:pt x="18000" y="315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514600" y="1828800"/>
            <a:ext cx="6248520" cy="4876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52280" y="1295280"/>
            <a:ext cx="2179800" cy="2873520"/>
          </a:xfrm>
          <a:custGeom>
            <a:avLst/>
            <a:gdLst>
              <a:gd name="textAreaLeft" fmla="*/ 106200 w 2179800"/>
              <a:gd name="textAreaRight" fmla="*/ 2073600 w 2179800"/>
              <a:gd name="textAreaTop" fmla="*/ 106200 h 2873520"/>
              <a:gd name="textAreaBottom" fmla="*/ 2767320 h 2873520"/>
            </a:gdLst>
            <a:ahLst/>
            <a:rect l="textAreaLeft" t="textAreaTop" r="textAreaRight" b="textAreaBottom"/>
            <a:pathLst>
              <a:path w="21600" h="28473">
                <a:moveTo>
                  <a:pt x="3600" y="0"/>
                </a:moveTo>
                <a:arcTo wR="3600" hR="3600" stAng="16200000" swAng="-5400000"/>
                <a:lnTo>
                  <a:pt x="0" y="24873"/>
                </a:lnTo>
                <a:arcTo wR="3600" hR="3600" stAng="10800000" swAng="-5400000"/>
                <a:lnTo>
                  <a:pt x="18000" y="284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2286000" y="1828800"/>
            <a:ext cx="6400800" cy="4724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80880" y="1371600"/>
            <a:ext cx="1941480" cy="2687760"/>
          </a:xfrm>
          <a:custGeom>
            <a:avLst/>
            <a:gdLst>
              <a:gd name="textAreaLeft" fmla="*/ 94680 w 1941480"/>
              <a:gd name="textAreaRight" fmla="*/ 1846800 w 1941480"/>
              <a:gd name="textAreaTop" fmla="*/ 94680 h 2687760"/>
              <a:gd name="textAreaBottom" fmla="*/ 2593080 h 2687760"/>
            </a:gdLst>
            <a:ahLst/>
            <a:rect l="textAreaLeft" t="textAreaTop" r="textAreaRight" b="textAreaBottom"/>
            <a:pathLst>
              <a:path w="21600" h="29901">
                <a:moveTo>
                  <a:pt x="3600" y="0"/>
                </a:moveTo>
                <a:arcTo wR="3600" hR="3600" stAng="16200000" swAng="-5400000"/>
                <a:lnTo>
                  <a:pt x="0" y="26301"/>
                </a:lnTo>
                <a:arcTo wR="3600" hR="3600" stAng="10800000" swAng="-5400000"/>
                <a:lnTo>
                  <a:pt x="18000" y="299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2438280" y="1828800"/>
            <a:ext cx="6096240" cy="4572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304920" y="1295280"/>
            <a:ext cx="2127240" cy="2694240"/>
          </a:xfrm>
          <a:custGeom>
            <a:avLst/>
            <a:gdLst>
              <a:gd name="textAreaLeft" fmla="*/ 103680 w 2127240"/>
              <a:gd name="textAreaRight" fmla="*/ 2023560 w 2127240"/>
              <a:gd name="textAreaTop" fmla="*/ 103680 h 2694240"/>
              <a:gd name="textAreaBottom" fmla="*/ 2590560 h 2694240"/>
            </a:gdLst>
            <a:ahLst/>
            <a:rect l="textAreaLeft" t="textAreaTop" r="textAreaRight" b="textAreaBottom"/>
            <a:pathLst>
              <a:path w="21600" h="27356">
                <a:moveTo>
                  <a:pt x="3600" y="0"/>
                </a:moveTo>
                <a:arcTo wR="3600" hR="3600" stAng="16200000" swAng="-5400000"/>
                <a:lnTo>
                  <a:pt x="0" y="23756"/>
                </a:lnTo>
                <a:arcTo wR="3600" hR="3600" stAng="10800000" swAng="-5400000"/>
                <a:lnTo>
                  <a:pt x="18000" y="273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2438280" y="1828800"/>
            <a:ext cx="6172200" cy="47242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304920" y="1295280"/>
            <a:ext cx="2152440" cy="2784600"/>
          </a:xfrm>
          <a:custGeom>
            <a:avLst/>
            <a:gdLst>
              <a:gd name="textAreaLeft" fmla="*/ 104760 w 2152440"/>
              <a:gd name="textAreaRight" fmla="*/ 2047680 w 2152440"/>
              <a:gd name="textAreaTop" fmla="*/ 104760 h 2784600"/>
              <a:gd name="textAreaBottom" fmla="*/ 2679840 h 2784600"/>
            </a:gdLst>
            <a:ahLst/>
            <a:rect l="textAreaLeft" t="textAreaTop" r="textAreaRight" b="textAreaBottom"/>
            <a:pathLst>
              <a:path w="21600" h="27943">
                <a:moveTo>
                  <a:pt x="3600" y="0"/>
                </a:moveTo>
                <a:arcTo wR="3600" hR="3600" stAng="16200000" swAng="-5400000"/>
                <a:lnTo>
                  <a:pt x="0" y="24343"/>
                </a:lnTo>
                <a:arcTo wR="3600" hR="3600" stAng="10800000" swAng="-5400000"/>
                <a:lnTo>
                  <a:pt x="18000" y="27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371600" y="160200"/>
            <a:ext cx="64771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Закрытие семинара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2438280" y="1752480"/>
            <a:ext cx="6248520" cy="46483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04920" y="1295280"/>
            <a:ext cx="2179440" cy="2873520"/>
          </a:xfrm>
          <a:custGeom>
            <a:avLst/>
            <a:gdLst>
              <a:gd name="textAreaLeft" fmla="*/ 106200 w 2179440"/>
              <a:gd name="textAreaRight" fmla="*/ 2073240 w 2179440"/>
              <a:gd name="textAreaTop" fmla="*/ 106200 h 2873520"/>
              <a:gd name="textAreaBottom" fmla="*/ 2767320 h 2873520"/>
            </a:gdLst>
            <a:ahLst/>
            <a:rect l="textAreaLeft" t="textAreaTop" r="textAreaRight" b="textAreaBottom"/>
            <a:pathLst>
              <a:path w="21600" h="28478">
                <a:moveTo>
                  <a:pt x="3600" y="0"/>
                </a:moveTo>
                <a:arcTo wR="3600" hR="3600" stAng="16200000" swAng="-5400000"/>
                <a:lnTo>
                  <a:pt x="0" y="24878"/>
                </a:lnTo>
                <a:arcTo wR="3600" hR="3600" stAng="10800000" swAng="-5400000"/>
                <a:lnTo>
                  <a:pt x="18000" y="284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5:3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