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F734-1B87-4D1F-ACAB-7F0916AA3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6EE3-1986-4F7F-AD49-ECC28B43D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E715-0E0B-4C84-B473-EA1E5A66D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09DC-8106-4032-8A5C-93370D8EA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C1FD-0FF2-4EE3-B6A1-C0B43165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4ADC-0DBE-4D69-A35D-C01323C0A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6FF5-4E12-49D4-8756-04E8F4171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9399-A577-4452-B21D-D73AD9E57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88F6-56CE-41E9-801E-4BD144748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47EB-3554-4EEE-B832-658A1745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D59D-5429-492A-AAAA-9B254197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0DF3-695A-4DDE-9356-1EA481A2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29EC4-C766-4799-A82C-EC537DF8F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214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06200" y="324000"/>
            <a:ext cx="2521080" cy="3527280"/>
          </a:xfrm>
          <a:prstGeom prst="rect">
            <a:avLst/>
          </a:prstGeom>
          <a:gradFill rotWithShape="0">
            <a:gsLst>
              <a:gs pos="0">
                <a:srgbClr val="7b7b7b"/>
              </a:gs>
              <a:gs pos="50000">
                <a:srgbClr val="ffffff"/>
              </a:gs>
              <a:gs pos="100000">
                <a:srgbClr val="7b7b7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одзаголовок 2"/>
          <p:cNvSpPr/>
          <p:nvPr/>
        </p:nvSpPr>
        <p:spPr>
          <a:xfrm>
            <a:off x="2666880" y="3200400"/>
            <a:ext cx="620244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25 - 28 мая 2010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3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г. Ом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Прямоугольник 4"/>
          <p:cNvGrpSpPr/>
          <p:nvPr/>
        </p:nvGrpSpPr>
        <p:grpSpPr>
          <a:xfrm>
            <a:off x="-19080" y="4127400"/>
            <a:ext cx="9175680" cy="169920"/>
            <a:chOff x="-19080" y="4127400"/>
            <a:chExt cx="9175680" cy="169920"/>
          </a:xfrm>
        </p:grpSpPr>
        <p:pic>
          <p:nvPicPr>
            <p:cNvPr id="45" name="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-19080" y="4127400"/>
              <a:ext cx="917568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4143240"/>
              <a:ext cx="914400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351000" y="407880"/>
            <a:ext cx="2131920" cy="3156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371520" y="2338560"/>
            <a:ext cx="514440" cy="514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8600" y="4876920"/>
            <a:ext cx="86104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700" spc="-1" strike="noStrike">
                <a:solidFill>
                  <a:srgbClr val="006600"/>
                </a:solidFill>
                <a:latin typeface="Verdana"/>
              </a:rPr>
              <a:t>Закрытие семинара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307800"/>
            <a:ext cx="662940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региональный семинар    в рамках международного проекта «Лидерство в переговорах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1200240" y="1260360"/>
            <a:ext cx="210960" cy="2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5-21T12:58:47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