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BBDC-60F5-472B-BD85-E4154448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E912-F41C-41C0-B922-970D4776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6F77-F818-4E7E-B9C3-C1AA57C2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5B3-2EB6-46B9-A66A-55E6791E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CC0F-9C4A-408F-B989-707C4552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1D15-4C22-452B-B522-CB10C7A9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6D31-534B-4102-AE4F-BFB1A7B1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C686-796B-4C7A-9570-3D9707359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9E47-7BBC-4D08-AA33-4FADF199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B177-841F-4891-B8A6-AA967C42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B074-0FB8-40CA-A2F6-A6470BAB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45C7-56CB-4C5F-AF93-3469521F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BB44-6F6A-4FC2-A5A8-DFED222F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F565-F9C1-41CC-ABA6-33FEB14F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CD2B-75D6-4D26-B71D-A20DC161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6BA6-45F1-481C-8B00-35B75E97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BA7D-488A-4E44-8A8C-4D2B4C1E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3B7-1196-449A-A502-0755B897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4FE-E463-4BDB-BFD1-565E889B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8266-9560-4D16-B9D1-673DFCF6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075D-8B33-4F5B-A8B3-A9E31720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5D22-42EC-466E-A9CE-2D5AEA5C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EEA-ABD3-499E-B851-24AB35CD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B64-3053-4120-A8DB-84CBB9B2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0D0F-D6C9-4FAE-9EF9-E7E7BA9D9A4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8E07-1B78-4409-BE5F-0D8FBAC57E1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108000"/>
            <a:ext cx="90676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0" y="1905120"/>
            <a:ext cx="8991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5800"/>
                </a:solidFill>
                <a:latin typeface="Arial"/>
              </a:rPr>
              <a:t>Ассоциация и социально-экономические вопросы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546120" y="4006800"/>
            <a:ext cx="1284120" cy="190512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sp>
        <p:nvSpPr>
          <p:cNvPr id="112" name="Rectangle 7"/>
          <p:cNvSpPr/>
          <p:nvPr/>
        </p:nvSpPr>
        <p:spPr>
          <a:xfrm>
            <a:off x="174600" y="5987880"/>
            <a:ext cx="21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ahoma"/>
              </a:rPr>
              <a:t>С.Ф. Дацюк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оциально-экономическое благополучие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20000"/>
              </a:lnSpc>
              <a:spcBef>
                <a:spcPts val="1001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Ответ ОПС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Ответ ОПСА должен определить структуру и стратегии, которые наиболее эффективно ответят на потребности член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7" descr="feed-icon-1"/>
          <p:cNvPicPr/>
          <p:nvPr/>
        </p:nvPicPr>
        <p:blipFill>
          <a:blip r:embed="rId1"/>
          <a:stretch/>
        </p:blipFill>
        <p:spPr>
          <a:xfrm>
            <a:off x="152280" y="175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feed-icon-1"/>
          <p:cNvPicPr/>
          <p:nvPr/>
        </p:nvPicPr>
        <p:blipFill>
          <a:blip r:embed="rId2"/>
          <a:stretch/>
        </p:blipFill>
        <p:spPr>
          <a:xfrm>
            <a:off x="152280" y="43434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твет ОПСА будет зависеть       от четырех основных факторов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10000"/>
              </a:lnSpc>
              <a:spcBef>
                <a:spcPts val="876"/>
              </a:spcBef>
              <a:spcAft>
                <a:spcPts val="2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5800"/>
                </a:solidFill>
                <a:latin typeface="Arial"/>
              </a:rPr>
              <a:t>Конституции и законодательства РФ;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876"/>
              </a:spcBef>
              <a:spcAft>
                <a:spcPts val="2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5800"/>
                </a:solidFill>
                <a:latin typeface="Arial"/>
              </a:rPr>
              <a:t>экономических, политических, культурных и религиозных традиций;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876"/>
              </a:spcBef>
              <a:spcAft>
                <a:spcPts val="2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5800"/>
                </a:solidFill>
                <a:latin typeface="Arial"/>
              </a:rPr>
              <a:t>имеющегося опыта;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876"/>
              </a:spcBef>
              <a:spcAft>
                <a:spcPts val="21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5800"/>
                </a:solidFill>
                <a:latin typeface="Arial"/>
              </a:rPr>
              <a:t>финансовых ресурсов.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7" descr="feed-icon-1"/>
          <p:cNvPicPr/>
          <p:nvPr/>
        </p:nvPicPr>
        <p:blipFill>
          <a:blip r:embed="rId1"/>
          <a:stretch/>
        </p:blipFill>
        <p:spPr>
          <a:xfrm>
            <a:off x="152280" y="1676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feed-icon-1"/>
          <p:cNvPicPr/>
          <p:nvPr/>
        </p:nvPicPr>
        <p:blipFill>
          <a:blip r:embed="rId2"/>
          <a:stretch/>
        </p:blipFill>
        <p:spPr>
          <a:xfrm>
            <a:off x="152280" y="35812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feed-icon-1"/>
          <p:cNvPicPr/>
          <p:nvPr/>
        </p:nvPicPr>
        <p:blipFill>
          <a:blip r:embed="rId3"/>
          <a:stretch/>
        </p:blipFill>
        <p:spPr>
          <a:xfrm>
            <a:off x="152280" y="5181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feed-icon-1"/>
          <p:cNvPicPr/>
          <p:nvPr/>
        </p:nvPicPr>
        <p:blipFill>
          <a:blip r:embed="rId4"/>
          <a:stretch/>
        </p:blipFill>
        <p:spPr>
          <a:xfrm>
            <a:off x="152280" y="6095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Рисунок10"/>
          <p:cNvPicPr/>
          <p:nvPr/>
        </p:nvPicPr>
        <p:blipFill>
          <a:blip r:embed="rId5"/>
          <a:stretch/>
        </p:blipFill>
        <p:spPr>
          <a:xfrm>
            <a:off x="7315200" y="51055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63000"/>
            <a:ext cx="9144000" cy="9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смотрите приведенные ниже проблемы на предмет того, какие улучшения можно провести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уход за пациентом</a:t>
            </a: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, обеспечение достаточного числа сотрудников с должным уровнем подготовки для оказания ухода в сложных случая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офессия</a:t>
            </a: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, например, введение системы вхождения в профессию, регистрации и оценки компетент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управление,</a:t>
            </a: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 например, учреждение отдела по сестринскому делу в Минздрав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амоопределение медсестер</a:t>
            </a: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, например, обучение и защита ценности сестринских услу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7" descr="feed-icon-1"/>
          <p:cNvPicPr/>
          <p:nvPr/>
        </p:nvPicPr>
        <p:blipFill>
          <a:blip r:embed="rId1"/>
          <a:stretch/>
        </p:blipFill>
        <p:spPr>
          <a:xfrm>
            <a:off x="0" y="1828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feed-icon-1"/>
          <p:cNvPicPr/>
          <p:nvPr/>
        </p:nvPicPr>
        <p:blipFill>
          <a:blip r:embed="rId2"/>
          <a:stretch/>
        </p:blipFill>
        <p:spPr>
          <a:xfrm>
            <a:off x="0" y="3657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feed-icon-1"/>
          <p:cNvPicPr/>
          <p:nvPr/>
        </p:nvPicPr>
        <p:blipFill>
          <a:blip r:embed="rId3"/>
          <a:stretch/>
        </p:blipFill>
        <p:spPr>
          <a:xfrm>
            <a:off x="0" y="5029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feed-icon-1"/>
          <p:cNvPicPr/>
          <p:nvPr/>
        </p:nvPicPr>
        <p:blipFill>
          <a:blip r:embed="rId4"/>
          <a:stretch/>
        </p:blipFill>
        <p:spPr>
          <a:xfrm>
            <a:off x="0" y="60958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10000"/>
              </a:lnSpc>
              <a:spcBef>
                <a:spcPts val="726"/>
              </a:spcBef>
              <a:spcAft>
                <a:spcPts val="21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0000"/>
                </a:solidFill>
                <a:latin typeface="Arial"/>
              </a:rPr>
              <a:t>организационная эффективность</a:t>
            </a: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, развитие системы информации, исследований, базы данных, опросов и т.п.;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26"/>
              </a:spcBef>
              <a:spcAft>
                <a:spcPts val="21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0000"/>
                </a:solidFill>
                <a:latin typeface="Arial"/>
              </a:rPr>
              <a:t>условия работы</a:t>
            </a: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, например, снижение и контроль профессиональных рисков;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26"/>
              </a:spcBef>
              <a:spcAft>
                <a:spcPts val="21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0000"/>
                </a:solidFill>
                <a:latin typeface="Arial"/>
              </a:rPr>
              <a:t>условия труда</a:t>
            </a: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, например, тарификация зарплаты, карьерный рост, образовательные возможности, защита на рабочем месте, пенсионные преимущества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6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смотрите приведенные ниже проблемы на предмет того, какие улучшения можно прове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7" descr="feed-icon-1"/>
          <p:cNvPicPr/>
          <p:nvPr/>
        </p:nvPicPr>
        <p:blipFill>
          <a:blip r:embed="rId1"/>
          <a:stretch/>
        </p:blipFill>
        <p:spPr>
          <a:xfrm>
            <a:off x="7632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feed-icon-1"/>
          <p:cNvPicPr/>
          <p:nvPr/>
        </p:nvPicPr>
        <p:blipFill>
          <a:blip r:embed="rId2"/>
          <a:stretch/>
        </p:blipFill>
        <p:spPr>
          <a:xfrm>
            <a:off x="76320" y="3505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feed-icon-1"/>
          <p:cNvPicPr/>
          <p:nvPr/>
        </p:nvPicPr>
        <p:blipFill>
          <a:blip r:embed="rId3"/>
          <a:stretch/>
        </p:blipFill>
        <p:spPr>
          <a:xfrm>
            <a:off x="76320" y="5257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-76320"/>
            <a:ext cx="754380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Итоги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10000"/>
              </a:lnSpc>
              <a:spcBef>
                <a:spcPts val="901"/>
              </a:spcBef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00"/>
                </a:solidFill>
                <a:latin typeface="Arial"/>
              </a:rPr>
              <a:t>улучшение социально-экономического положения медсестер является ключевой задачей Ассоциаци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00"/>
                </a:solidFill>
                <a:latin typeface="Arial"/>
              </a:rPr>
              <a:t>социально-экономические вопросы тесно связаны с вопросами профессиональной практики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7" descr="feed-icon-1"/>
          <p:cNvPicPr/>
          <p:nvPr/>
        </p:nvPicPr>
        <p:blipFill>
          <a:blip r:embed="rId1"/>
          <a:stretch/>
        </p:blipFill>
        <p:spPr>
          <a:xfrm>
            <a:off x="76320" y="2362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feed-icon-1"/>
          <p:cNvPicPr/>
          <p:nvPr/>
        </p:nvPicPr>
        <p:blipFill>
          <a:blip r:embed="rId2"/>
          <a:stretch/>
        </p:blipFill>
        <p:spPr>
          <a:xfrm>
            <a:off x="76320" y="52578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-15840"/>
            <a:ext cx="754380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Итоги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ваш ответ на социально-экономические вопросы будет зависеть от нескольких факторов, включающих законодательство, традиции, опыт и ресурс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социально-экономические вопросы оказывают влияние на все аспекты работы, в которые всегда можно ввести улучшен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4" descr="feed-icon-1"/>
          <p:cNvPicPr/>
          <p:nvPr/>
        </p:nvPicPr>
        <p:blipFill>
          <a:blip r:embed="rId1"/>
          <a:stretch/>
        </p:blipFill>
        <p:spPr>
          <a:xfrm>
            <a:off x="76320" y="2438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feed-icon-1"/>
          <p:cNvPicPr/>
          <p:nvPr/>
        </p:nvPicPr>
        <p:blipFill>
          <a:blip r:embed="rId2"/>
          <a:stretch/>
        </p:blipFill>
        <p:spPr>
          <a:xfrm>
            <a:off x="76320" y="53341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61760" y="1676160"/>
            <a:ext cx="83055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indent="0">
              <a:lnSpc>
                <a:spcPct val="130000"/>
              </a:lnSpc>
              <a:spcBef>
                <a:spcPts val="950"/>
              </a:spcBef>
              <a:spcAft>
                <a:spcPts val="18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К концу этой сессии вы сможете разбираться в вопросах социально-экономического благополучия и их взаимосвязи с профессиональной практикой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0" y="147600"/>
            <a:ext cx="9067680" cy="8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ОПСА и СЭБ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1" descr="feed-icon-1"/>
          <p:cNvPicPr/>
          <p:nvPr/>
        </p:nvPicPr>
        <p:blipFill>
          <a:blip r:embed="rId1"/>
          <a:stretch/>
        </p:blipFill>
        <p:spPr>
          <a:xfrm>
            <a:off x="76320" y="1981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Часть первая:</a:t>
            </a: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 Социально-экономическое благополучие и профессиональные вопрос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Часть вторая:</a:t>
            </a: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 Ответ ОПС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0" y="-76320"/>
            <a:ext cx="91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Эта сессия состоит                              из двух частей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10" descr="feed-icon-1"/>
          <p:cNvPicPr/>
          <p:nvPr/>
        </p:nvPicPr>
        <p:blipFill>
          <a:blip r:embed="rId1"/>
          <a:stretch/>
        </p:blipFill>
        <p:spPr>
          <a:xfrm>
            <a:off x="76320" y="1752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feed-icon-1"/>
          <p:cNvPicPr/>
          <p:nvPr/>
        </p:nvPicPr>
        <p:blipFill>
          <a:blip r:embed="rId2"/>
          <a:stretch/>
        </p:blipFill>
        <p:spPr>
          <a:xfrm>
            <a:off x="76320" y="44956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20040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любой вопрос, оказывающий влияние на социально-экономическое благополучие медицинских сестер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0" y="147600"/>
            <a:ext cx="9067680" cy="8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ОПСА и СЭБ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228600" y="1355760"/>
            <a:ext cx="84582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Социально-экономическое благополучие -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320" y="1066680"/>
            <a:ext cx="89913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800"/>
                </a:solidFill>
                <a:latin typeface="Arial"/>
              </a:rPr>
              <a:t>Сара проработала в качестве медсестры-студентки 6 недель. В ее отделении все более заметной становилась нехватка кадров. Однажды вечером палатную медсестру вызвали на помощь одному больному, а Сару попросили завершить внутривенное введение лекарства. Она неправильно просчитала объем жидкости, поэтому пациенту был введен неправильный объем лекарства. Пациент выздоровел, но этот случай стали расследова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0" y="147600"/>
            <a:ext cx="9067680" cy="8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ОПСА и СЭБ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85800" y="4038480"/>
            <a:ext cx="8153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800"/>
                </a:solidFill>
                <a:latin typeface="Arial"/>
              </a:rPr>
              <a:t>Должна ли Ассоциация представлять интересы Сары в разбирательств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800"/>
                </a:solidFill>
                <a:latin typeface="Arial"/>
              </a:rPr>
              <a:t>Должна ли Ассоциация выступить в поддержку стандартов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800"/>
                </a:solidFill>
                <a:latin typeface="Arial"/>
              </a:rPr>
              <a:t>Есть ли конфликт между выполнением Ассоциацией обеих задач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5800"/>
                </a:solidFill>
                <a:latin typeface="Arial"/>
              </a:rPr>
              <a:t>Это профессиональный или социально-экономический вопрос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8" descr="feed-icon-1"/>
          <p:cNvPicPr/>
          <p:nvPr/>
        </p:nvPicPr>
        <p:blipFill>
          <a:blip r:embed="rId1"/>
          <a:stretch/>
        </p:blipFill>
        <p:spPr>
          <a:xfrm>
            <a:off x="228600" y="4267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feed-icon-1"/>
          <p:cNvPicPr/>
          <p:nvPr/>
        </p:nvPicPr>
        <p:blipFill>
          <a:blip r:embed="rId2"/>
          <a:stretch/>
        </p:blipFill>
        <p:spPr>
          <a:xfrm>
            <a:off x="22860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feed-icon-1"/>
          <p:cNvPicPr/>
          <p:nvPr/>
        </p:nvPicPr>
        <p:blipFill>
          <a:blip r:embed="rId3"/>
          <a:stretch/>
        </p:blipFill>
        <p:spPr>
          <a:xfrm>
            <a:off x="228600" y="5562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feed-icon-1"/>
          <p:cNvPicPr/>
          <p:nvPr/>
        </p:nvPicPr>
        <p:blipFill>
          <a:blip r:embed="rId4"/>
          <a:stretch/>
        </p:blipFill>
        <p:spPr>
          <a:xfrm>
            <a:off x="22860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Рисунок11"/>
          <p:cNvPicPr/>
          <p:nvPr/>
        </p:nvPicPr>
        <p:blipFill>
          <a:blip r:embed="rId5"/>
          <a:stretch/>
        </p:blipFill>
        <p:spPr>
          <a:xfrm>
            <a:off x="8077320" y="5803920"/>
            <a:ext cx="1066680" cy="1054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80880" y="1143000"/>
          <a:ext cx="8610840" cy="5562720"/>
        </p:xfrm>
        <a:graphic>
          <a:graphicData uri="http://schemas.openxmlformats.org/drawingml/2006/table">
            <a:tbl>
              <a:tblPr/>
              <a:tblGrid>
                <a:gridCol w="3200400"/>
                <a:gridCol w="5410440"/>
              </a:tblGrid>
              <a:tr h="396720"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опрос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8520" marR="3852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38520" rIns="38520" tIns="0" bIns="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Влияни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38520" marR="3852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ecf1fa"/>
                    </a:solidFill>
                  </a:tcPr>
                </a:tc>
              </a:tr>
              <a:tr h="369000"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Рабочие час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Работники / качество уход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737640"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Регистрация и лиценз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Право на трудоустройство / минимальный стандарт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ecf1fa"/>
                    </a:solidFill>
                  </a:tcPr>
                </a:tc>
              </a:tr>
              <a:tr h="737640"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Право на практику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Право трудоустройства / компетент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1106280"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Политика здравоохранения и СД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Право на представительство / профессионализ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ecf1fa"/>
                    </a:solidFill>
                  </a:tcPr>
                </a:tc>
              </a:tr>
              <a:tr h="369000"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Карьерный рос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Работники / профессиональный рос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737640"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Дисциплин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Право на представительство / качеств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ecf1fa"/>
                    </a:solidFill>
                  </a:tcPr>
                </a:tc>
              </a:tr>
              <a:tr h="369000"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Оплата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Работники / мотивация / качество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369000"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Отпуска, выходны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Работники / качество / мотивац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ecf1fa"/>
                    </a:solidFill>
                  </a:tcPr>
                </a:tc>
              </a:tr>
              <a:tr h="737640"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Непрерывное образовани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108000" rIns="39600" tIns="0" bIns="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80808"/>
                          </a:solidFill>
                          <a:latin typeface="Tahoma"/>
                        </a:rPr>
                        <a:t>Право на учебные отпуска / профессиональный рос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108000" marR="39600">
                    <a:lnL w="13680">
                      <a:solidFill>
                        <a:srgbClr val="000086"/>
                      </a:solidFill>
                    </a:lnL>
                    <a:lnR w="13680">
                      <a:solidFill>
                        <a:srgbClr val="000086"/>
                      </a:solidFill>
                    </a:lnR>
                    <a:lnT w="13680">
                      <a:solidFill>
                        <a:srgbClr val="000086"/>
                      </a:solidFill>
                    </a:lnT>
                    <a:lnB w="13680">
                      <a:solidFill>
                        <a:srgbClr val="000086"/>
                      </a:solidFill>
                    </a:lnB>
                    <a:solidFill>
                      <a:srgbClr val="ffefef"/>
                    </a:solidFill>
                  </a:tcPr>
                </a:tc>
              </a:tr>
            </a:tbl>
          </a:graphicData>
        </a:graphic>
      </p:graphicFrame>
      <p:sp>
        <p:nvSpPr>
          <p:cNvPr id="132" name="Text Box 43"/>
          <p:cNvSpPr/>
          <p:nvPr/>
        </p:nvSpPr>
        <p:spPr>
          <a:xfrm>
            <a:off x="0" y="147600"/>
            <a:ext cx="9067680" cy="8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ОПСА и СЭБ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«Мы должны предотвращать распространение в нашей среде элементов трейд-юниоизма.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едсестра должна быть женщиной работающей</a:t>
            </a: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, но не ради зарабатывания денег, а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ради блага людей для снижения страданий и оказания помощи здоровью</a:t>
            </a: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тех, кто в этом нуждается</a:t>
            </a: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0" y="147600"/>
            <a:ext cx="9067680" cy="8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ОПСА и СЭБ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744280" y="5911920"/>
            <a:ext cx="6244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5800"/>
                </a:solidFill>
                <a:latin typeface="Tahoma"/>
              </a:rPr>
              <a:t>июль 1909 г., редакционная статья</a:t>
            </a:r>
            <a:r>
              <a:rPr b="0" i="1" lang="ru-RU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2"/>
          <p:cNvSpPr/>
          <p:nvPr/>
        </p:nvSpPr>
        <p:spPr>
          <a:xfrm>
            <a:off x="1266840" y="3809880"/>
            <a:ext cx="4038480" cy="1371600"/>
          </a:xfrm>
          <a:prstGeom prst="rect">
            <a:avLst/>
          </a:prstGeom>
          <a:solidFill>
            <a:srgbClr val="ffebeb"/>
          </a:solidFill>
          <a:ln w="2844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1266840" y="3200400"/>
            <a:ext cx="4038480" cy="609480"/>
          </a:xfrm>
          <a:prstGeom prst="rect">
            <a:avLst/>
          </a:prstGeom>
          <a:solidFill>
            <a:srgbClr val="ffebeb"/>
          </a:solidFill>
          <a:ln w="2844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0" y="147600"/>
            <a:ext cx="9067680" cy="8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ОПСА и СЭБ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4114800" y="1538280"/>
            <a:ext cx="2666880" cy="457200"/>
          </a:xfrm>
          <a:prstGeom prst="rect">
            <a:avLst/>
          </a:prstGeom>
          <a:solidFill>
            <a:srgbClr val="ffebeb"/>
          </a:solidFill>
          <a:ln w="2844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990720" y="3260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Tahoma"/>
              </a:rPr>
              <a:t>Сестринская практ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1143000" y="38862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Tahoma"/>
              </a:rPr>
              <a:t>Профессиональные и социально-экономические вопро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3886200" y="1523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Tahoma"/>
              </a:rPr>
              <a:t>Условия тру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24"/>
          <p:cNvSpPr/>
          <p:nvPr/>
        </p:nvSpPr>
        <p:spPr>
          <a:xfrm>
            <a:off x="4114800" y="1995480"/>
            <a:ext cx="2666880" cy="457200"/>
          </a:xfrm>
          <a:prstGeom prst="rect">
            <a:avLst/>
          </a:prstGeom>
          <a:solidFill>
            <a:srgbClr val="ffebeb"/>
          </a:solidFill>
          <a:ln w="2844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3886200" y="1981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Tahoma"/>
              </a:rPr>
              <a:t>Пробл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26"/>
          <p:cNvSpPr/>
          <p:nvPr/>
        </p:nvSpPr>
        <p:spPr>
          <a:xfrm>
            <a:off x="4191120" y="5881680"/>
            <a:ext cx="2666880" cy="457200"/>
          </a:xfrm>
          <a:prstGeom prst="rect">
            <a:avLst/>
          </a:prstGeom>
          <a:solidFill>
            <a:srgbClr val="ffebeb"/>
          </a:solidFill>
          <a:ln w="2844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27"/>
          <p:cNvSpPr/>
          <p:nvPr/>
        </p:nvSpPr>
        <p:spPr>
          <a:xfrm>
            <a:off x="3962520" y="5867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5800"/>
                </a:solidFill>
                <a:latin typeface="Tahoma"/>
              </a:rPr>
              <a:t>Пробл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28"/>
          <p:cNvSpPr/>
          <p:nvPr/>
        </p:nvSpPr>
        <p:spPr>
          <a:xfrm flipH="1" flipV="1">
            <a:off x="3457080" y="5181120"/>
            <a:ext cx="1676520" cy="685800"/>
          </a:xfrm>
          <a:prstGeom prst="line">
            <a:avLst/>
          </a:prstGeom>
          <a:ln w="38160">
            <a:solidFill>
              <a:srgbClr val="005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Line 29"/>
          <p:cNvSpPr/>
          <p:nvPr/>
        </p:nvSpPr>
        <p:spPr>
          <a:xfrm flipH="1">
            <a:off x="4343400" y="2590920"/>
            <a:ext cx="990720" cy="533160"/>
          </a:xfrm>
          <a:prstGeom prst="line">
            <a:avLst/>
          </a:prstGeom>
          <a:ln w="38160">
            <a:solidFill>
              <a:srgbClr val="005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val 30"/>
          <p:cNvSpPr/>
          <p:nvPr/>
        </p:nvSpPr>
        <p:spPr>
          <a:xfrm>
            <a:off x="533520" y="2666880"/>
            <a:ext cx="5486400" cy="3048120"/>
          </a:xfrm>
          <a:prstGeom prst="ellipse">
            <a:avLst/>
          </a:prstGeom>
          <a:noFill/>
          <a:ln w="3816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Oval 31"/>
          <p:cNvSpPr/>
          <p:nvPr/>
        </p:nvSpPr>
        <p:spPr>
          <a:xfrm>
            <a:off x="304920" y="1143000"/>
            <a:ext cx="8610480" cy="5715000"/>
          </a:xfrm>
          <a:prstGeom prst="ellipse">
            <a:avLst/>
          </a:prstGeom>
          <a:noFill/>
          <a:ln w="3816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Сестринские услуги</a:t>
            </a:r>
            <a:endParaRPr b="1" lang="en-US" sz="55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110000"/>
              </a:lnSpc>
              <a:spcBef>
                <a:spcPts val="850"/>
              </a:spcBef>
              <a:spcAft>
                <a:spcPts val="21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Любые усилия, направленные на изменение сестринской практики, сталкиваются и относятся к условиям труда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850"/>
              </a:spcBef>
              <a:spcAft>
                <a:spcPts val="21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Невнимание к той среде и контексту, в котором разворачивается сестринская практика, является угрозой внедрению и поддержанию позитивных новшеств.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7" descr="feed-icon-1"/>
          <p:cNvPicPr/>
          <p:nvPr/>
        </p:nvPicPr>
        <p:blipFill>
          <a:blip r:embed="rId1"/>
          <a:stretch/>
        </p:blipFill>
        <p:spPr>
          <a:xfrm>
            <a:off x="76320" y="2209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feed-icon-1"/>
          <p:cNvPicPr/>
          <p:nvPr/>
        </p:nvPicPr>
        <p:blipFill>
          <a:blip r:embed="rId2"/>
          <a:stretch/>
        </p:blipFill>
        <p:spPr>
          <a:xfrm>
            <a:off x="76320" y="50292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2-07-25T08:13:49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