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D401-CDD2-4380-8599-1948716A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352-7C50-4E1D-A9B8-A54A617F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D44-7DAE-4F7C-8ACA-7AC4C0A0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DA9A-C7BF-474E-9A94-CF79CCE4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31A-29F8-4D98-8CCD-A0C0BEF0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8AA-E391-4808-9480-34D6BBEC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A70-FE45-4B40-8664-ED8C8080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967-E2F1-4AD5-A435-0731409A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09E-6052-4D40-93FB-A28FEF92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38D-878A-4F88-AC90-55AF8F50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810-22FB-4EF8-A403-B31F5D66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D4F-A041-4914-A663-3E157A0F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9CBB-8053-4DB9-B837-F8B9832E7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80880" y="19810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5800"/>
                </a:solidFill>
                <a:latin typeface="Arial"/>
              </a:rPr>
              <a:t>Оценка и будущее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1385640" cy="19051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sp>
        <p:nvSpPr>
          <p:cNvPr id="44" name="Rectangle 9"/>
          <p:cNvSpPr/>
          <p:nvPr/>
        </p:nvSpPr>
        <p:spPr>
          <a:xfrm>
            <a:off x="237960" y="5835600"/>
            <a:ext cx="196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ahoma"/>
              </a:rPr>
              <a:t>О.А. Буч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76320" y="174600"/>
            <a:ext cx="906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я «Открытое пространств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602360" y="1203480"/>
            <a:ext cx="564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Arial"/>
              </a:rPr>
              <a:t>Круг закрыт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304920" y="278748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0280" indent="-800280">
              <a:lnSpc>
                <a:spcPct val="110000"/>
              </a:lnSpc>
              <a:spcBef>
                <a:spcPts val="12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Arial"/>
              </a:rPr>
              <a:t>1. Чему Вы научились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800280" indent="-800280">
              <a:lnSpc>
                <a:spcPct val="110000"/>
              </a:lnSpc>
              <a:spcBef>
                <a:spcPts val="1250"/>
              </a:spcBef>
              <a:spcAft>
                <a:spcPts val="3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Arial"/>
              </a:rPr>
              <a:t>2. Что Вы будете с этим делать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1230288932_3D-Character-(33)"/>
          <p:cNvPicPr/>
          <p:nvPr/>
        </p:nvPicPr>
        <p:blipFill>
          <a:blip r:embed="rId1"/>
          <a:stretch/>
        </p:blipFill>
        <p:spPr>
          <a:xfrm>
            <a:off x="6934320" y="520056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76320" y="174600"/>
            <a:ext cx="906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я «Открытое пространств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04007060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6320" y="174600"/>
            <a:ext cx="906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я «Открытое пространств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399c9434f5fe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320" y="174600"/>
            <a:ext cx="9067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я «Открытое пространств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5ad67d1ac6fe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14:00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