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033-9810-45A2-BBC3-C1C6F7DF3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D392-B465-4530-ADEE-859B2503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850-71DC-4DB1-9EFC-7D3DAD07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2DE0-C741-406A-B5B8-FB090B9A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CB4B-48CA-492C-9AB5-FD50A42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E4BE-ACA5-49A3-8DDA-E37DC406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206-0A3A-457F-814F-B1D11B49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0EEA-7650-4F62-9DBE-0535EEDF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304-EFCC-4707-B9A6-58A972D5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F36-4E43-453F-AC9D-3D959939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2C7-B9CE-4E0F-AAA6-22FB0D4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791E-CC40-4670-B49A-4A0D223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0FC5-0EE3-477C-985D-6D5233789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0476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004760"/>
            <a:ext cx="73152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5800"/>
                </a:solidFill>
                <a:latin typeface="Verdana"/>
              </a:rPr>
              <a:t>Кофе-пауза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40752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0T05:45:30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