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DD2F-D01D-4008-B3F7-4206F455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A4B-4501-4E1C-89B8-29C154ED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74B-91F9-4022-9FD6-906EE5D6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27A-E90B-410C-8ADE-C6D44D0F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D4B-80F9-4354-909D-CA6C3F7E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0E2-8967-4CC3-A537-03636BDB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419-131C-4F37-A918-00A58494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3BC2-8DD4-4166-8157-2BF6321C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D06B-4D7B-43D6-A8CA-542DAB37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82CB-FBB7-4956-BE09-C203DDEA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E3F-7A2D-4DDA-BB9E-15B51AFC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7AD-D7B6-4BFF-8CD7-01E8CFC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815C-2244-4432-836A-87CE8D2F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44792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5800"/>
                </a:solidFill>
                <a:latin typeface="Verdana"/>
              </a:rPr>
              <a:t>Переры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4760"/>
            <a:ext cx="8915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124080" y="3886200"/>
            <a:ext cx="254340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52280" y="5297400"/>
            <a:ext cx="1905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1T10:10:1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